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ED9-BD0F-45C9-9686-A033DE5A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D39-6DC6-4133-81E6-B17BC96D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740-3D99-4FFF-B7F4-C31C221E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2BF-FE44-4DED-AF37-1B841D48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F41B-0974-42EC-965B-EB269DF2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CD18-D7D6-498F-B766-D89E1FAF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9F27-D6B2-4E69-B56E-85FE07CE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5356-FAEB-46A1-A396-747A9256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9ABB-E959-4B8E-A664-229DABBD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49ED-D8FC-41EC-9D66-D8B94509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AE50-4969-4C7A-978C-BD251A7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CED-7857-40BD-A50C-F6BED589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4CF9-4E42-46C8-BBF9-41867804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7B40-1892-45BB-B9A0-4B54D39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AC3A-CB4E-42C7-A381-0EE61EE6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845E-4319-48B9-BCF2-6CA0DDB5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5FA2-1CCB-40E8-B246-950B0A36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0AE-D014-47D3-A2F4-3508B8E9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B78-B142-4C3A-A412-BADC139B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E44-5EFA-4B80-8B29-22D1BF14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971-49ED-456A-9DD8-40F97481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B70-B2DD-4784-BA2C-28C4C103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BA0-7016-467D-92F5-6D695ED6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342-8A09-423C-941B-3E00A000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0A68-B27D-4759-BF95-7C77D5B0DF1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7424-57C0-40BB-87CD-31E39051685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blasti.cinnosti.obci.CR.pdf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vcr.cz/sprava/index.html" TargetMode="External"/><Relationship Id="rId2" Type="http://schemas.openxmlformats.org/officeDocument/2006/relationships/hyperlink" Target="http://www.mvcr.cz/sprava/index.html" TargetMode="External"/><Relationship Id="rId3" Type="http://schemas.openxmlformats.org/officeDocument/2006/relationships/hyperlink" Target="http://www.mvcr.cz/sprava/index.html" TargetMode="External"/><Relationship Id="rId4" Type="http://schemas.openxmlformats.org/officeDocument/2006/relationships/hyperlink" Target="http://www.mvcr.cz/sprava/index.html" TargetMode="External"/><Relationship Id="rId5" Type="http://schemas.openxmlformats.org/officeDocument/2006/relationships/hyperlink" Target="http://www.mvcr.cz/sprava/index.html" TargetMode="External"/><Relationship Id="rId6" Type="http://schemas.openxmlformats.org/officeDocument/2006/relationships/hyperlink" Target="http://www.mvcr.cz/sprava/index.html" TargetMode="External"/><Relationship Id="rId7" Type="http://schemas.openxmlformats.org/officeDocument/2006/relationships/hyperlink" Target="http://www.mvcr.cz/sprava/index.html" TargetMode="External"/><Relationship Id="rId8" Type="http://schemas.openxmlformats.org/officeDocument/2006/relationships/hyperlink" Target="http://www.mvcr.cz/sprava/index.html" TargetMode="External"/><Relationship Id="rId9" Type="http://schemas.openxmlformats.org/officeDocument/2006/relationships/hyperlink" Target="http://www.vlada.cz/cs/urad/default.html" TargetMode="External"/><Relationship Id="rId10" Type="http://schemas.openxmlformats.org/officeDocument/2006/relationships/hyperlink" Target="http://www.vlada.cz/cs/urad/default.html" TargetMode="External"/><Relationship Id="rId11" Type="http://schemas.openxmlformats.org/officeDocument/2006/relationships/hyperlink" Target="http://www.vlada.cz/cs/urad/default.html" TargetMode="External"/><Relationship Id="rId12" Type="http://schemas.openxmlformats.org/officeDocument/2006/relationships/hyperlink" Target="http://www.vlada.cz/cs/urad/default.html" TargetMode="External"/><Relationship Id="rId13" Type="http://schemas.openxmlformats.org/officeDocument/2006/relationships/hyperlink" Target="http://www.vlada.cz/cs/urad/default.html" TargetMode="External"/><Relationship Id="rId14" Type="http://schemas.openxmlformats.org/officeDocument/2006/relationships/hyperlink" Target="http://www.vlada.cz/cs/urad/default.html" TargetMode="External"/><Relationship Id="rId15" Type="http://schemas.openxmlformats.org/officeDocument/2006/relationships/hyperlink" Target="http://www.vlada.cz/cs/urad/default.html" TargetMode="External"/><Relationship Id="rId16" Type="http://schemas.openxmlformats.org/officeDocument/2006/relationships/hyperlink" Target="http://www.vlada.cz/cs/urad/default.html" TargetMode="External"/><Relationship Id="rId17" Type="http://schemas.openxmlformats.org/officeDocument/2006/relationships/hyperlink" Target="http://www.vlada.cz/cs/urad/default.html" TargetMode="External"/><Relationship Id="rId18" Type="http://schemas.openxmlformats.org/officeDocument/2006/relationships/hyperlink" Target="http://www.vlada.cz/cs/urad/default.html" TargetMode="External"/><Relationship Id="rId19" Type="http://schemas.openxmlformats.org/officeDocument/2006/relationships/hyperlink" Target="http://www.psp.cz/sqw/hp.sqw?k=30" TargetMode="External"/><Relationship Id="rId20" Type="http://schemas.openxmlformats.org/officeDocument/2006/relationships/hyperlink" Target="http://www.psp.cz/sqw/hp.sqw?k=30" TargetMode="External"/><Relationship Id="rId21" Type="http://schemas.openxmlformats.org/officeDocument/2006/relationships/hyperlink" Target="http://www.psp.cz/sqw/hp.sqw?k=30" TargetMode="External"/><Relationship Id="rId22" Type="http://schemas.openxmlformats.org/officeDocument/2006/relationships/hyperlink" Target="http://www.psp.cz/sqw/hp.sqw?k=30" TargetMode="External"/><Relationship Id="rId23" Type="http://schemas.openxmlformats.org/officeDocument/2006/relationships/hyperlink" Target="http://www.psp.cz/sqw/hp.sqw?k=30" TargetMode="External"/><Relationship Id="rId24" Type="http://schemas.openxmlformats.org/officeDocument/2006/relationships/hyperlink" Target="http://www.psp.cz/sqw/hp.sqw?k=30" TargetMode="External"/><Relationship Id="rId25" Type="http://schemas.openxmlformats.org/officeDocument/2006/relationships/hyperlink" Target="http://www.psp.cz/sqw/hp.sqw?k=30" TargetMode="External"/><Relationship Id="rId26" Type="http://schemas.openxmlformats.org/officeDocument/2006/relationships/hyperlink" Target="http://www.psp.cz/sqw/hp.sqw?k=30" TargetMode="External"/><Relationship Id="rId27" Type="http://schemas.openxmlformats.org/officeDocument/2006/relationships/hyperlink" Target="http://www.psp.cz/sqw/hp.sqw?k=30" TargetMode="External"/><Relationship Id="rId28" Type="http://schemas.openxmlformats.org/officeDocument/2006/relationships/hyperlink" Target="http://www.psp.cz/sqw/hp.sqw?k=30" TargetMode="External"/><Relationship Id="rId29" Type="http://schemas.openxmlformats.org/officeDocument/2006/relationships/hyperlink" Target="http://www.psp.cz/sqw/hp.sqw?k=30" TargetMode="External"/><Relationship Id="rId30" Type="http://schemas.openxmlformats.org/officeDocument/2006/relationships/hyperlink" Target="http://www.micr.cz/" TargetMode="External"/><Relationship Id="rId31" Type="http://schemas.openxmlformats.org/officeDocument/2006/relationships/hyperlink" Target="http://www.micr.cz/" TargetMode="External"/><Relationship Id="rId32" Type="http://schemas.openxmlformats.org/officeDocument/2006/relationships/hyperlink" Target="http://www.micr.cz/" TargetMode="External"/><Relationship Id="rId33" Type="http://schemas.openxmlformats.org/officeDocument/2006/relationships/hyperlink" Target="http://www.micr.cz/" TargetMode="External"/><Relationship Id="rId34" Type="http://schemas.openxmlformats.org/officeDocument/2006/relationships/hyperlink" Target="http://www.micr.cz/" TargetMode="External"/><Relationship Id="rId3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ucasny.system.VS.CR.2006.pdf/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hyperlink" Target="http://www.mvcr.cz/odbor/reforma/seznam.html" TargetMode="External"/><Relationship Id="rId3" Type="http://schemas.openxmlformats.org/officeDocument/2006/relationships/hyperlink" Target="http://www.mvcr.cz/odbor/reforma/seznam.html" TargetMode="External"/><Relationship Id="rId4" Type="http://schemas.openxmlformats.org/officeDocument/2006/relationships/hyperlink" Target="http://www.mvcr.cz/odbor/reforma/seznam.html" TargetMode="External"/><Relationship Id="rId5" Type="http://schemas.openxmlformats.org/officeDocument/2006/relationships/hyperlink" Target="http://www.mvcr.cz/odbor/reforma/seznam.html" TargetMode="External"/><Relationship Id="rId6" Type="http://schemas.openxmlformats.org/officeDocument/2006/relationships/hyperlink" Target="http://www.mvcr.cz/odbor/reforma/seznam.html" TargetMode="Externa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Problemy.ustredni.SS.doc/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řejná správa a její reforma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858920" y="4508640"/>
            <a:ext cx="3065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g. David Špač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KVE ESF MU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S - září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*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ředníci mají manažerské rol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          (včetně řízení vztahů byrokracie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olitika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mohou se objevit vážné otázky, které se týkají etiky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povědnosti, avšak přínosy PM jso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vděpodobně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nohem větší než náklad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měny se dosud odehrály především v teorii než v prax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znalosti?, neochota?, legislativa?, funguje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soukromém sektoru?...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ublic management NEZNAMENÁ nekritické převzet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ktik soukromého sektor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výrazný nedostatek prax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manažerské změ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podníceny z centra, aniž by byla následně věnován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ostatečná pozornost procesu jejich implement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OECD 2005: pozornost a) specifikům vlastní veřejné správy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b) nedostatkům nástroj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(good) governan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= diskuze o způsobu uplatnění moci v situaci demokratickéh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eficitu, která staví na kritice NP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kromý sektor vs. veřejný sektor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anažerismus vs. myšlenky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demokraci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proces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Citizens and the new governance - </a:t>
            </a:r>
            <a:r>
              <a:rPr b="0" i="1" lang="en-GB" sz="1800" spc="-1" strike="noStrike" u="sng">
                <a:solidFill>
                  <a:srgbClr val="292929"/>
                </a:solidFill>
                <a:uFillTx/>
                <a:latin typeface="Arial"/>
              </a:rPr>
              <a:t>Beyond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 New Public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Managemen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azník/spotřebitel služeb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luralita a formální rovnost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občan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articip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 komunitních záležitost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jiné pojetí efektivnosti? - Dahl: „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Efektivnost zde chápu tak, že orgány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státní moci se zabývají problematikou, kterou občané považují za důležitou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a aktuální a o níž jsou přesvědčeni, že si žádá řešen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 zde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alita není často v souladu s rétoriko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znalosti?, neochota?, legislativa?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železný zákon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ligarchie?, aktivní občanství?)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a b) = SPOR O RELEVANCI PRAKTICKÉ APLIKACE RŮZNÝCH TEORIÍ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východiska nové defini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N(PM) a (G)G se navzájem spíše doplňují, než vylučuj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veřejná správa specifickým nástrojem společenského řízení, který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však musí podléhat určitým řídicím procesům ("vnitřní" řízení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řídícího subjektu)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praxi řízení ovlivňuje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kde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o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jakým způsobem (jaká volnost řízení a odpovědnost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s jakým cílem (v čí prospěch?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e) s jakými zdroji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- významnými prvky/funkcemi řízení je plánování a kontrol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(vyhodnocování účinnosti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legitim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důraz na využití existujících znalostí a vytváření nových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poznatků (učení se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racional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v rámci systému veřejné moci / institucionálně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eden z institucionálních nástrojů pro dosahová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í státu nebo nižšího územně-správního celk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materiálně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x činností tradiční správy a řízení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ý vyplýv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 úlohy veřejné správy ve veřejném sektoru (čás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eřejného sektoru garantující – vlastní činností či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nak - zabezpečování jeho funkcí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ízení společnosti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prvek institucionalizované kontroly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regulace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zdrojů k dosahování cílů vlády (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Wald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é by v moderním státě mělo stavě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racionalitě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NPM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také odrážet potřeby občan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GG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tillman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1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exekutivní složkou státní moci (která nicméně souvis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důležitých směrech se složkou státní moci legislativ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ustiční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2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formulujícím a implementujícím veřejné politi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3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který ve své činnosti zahrnuje významný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zsah problémů týkajících se lidského chová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operačních snah lidí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4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jehož činnost může být v několika směr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lišována od soukromé správy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5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produkujícím veřejné statky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6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zakotveným v právu a současně subjekte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konávajícím práv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2) Reforma VS v ČR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literatura a jiné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8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CHELLE, K.</a:t>
            </a:r>
            <a:r>
              <a:rPr b="0" i="1" lang="fr-FR" sz="2000" spc="-1" strike="noStrike">
                <a:solidFill>
                  <a:srgbClr val="292929"/>
                </a:solidFill>
                <a:latin typeface="Arial"/>
              </a:rPr>
              <a:t>Vývoj veřejné správy v letech 1848 - 1948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aha: EUROLEX BOHEMIA 2002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CHÁK, V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voj veřejné správy v Československu a České republice (1945 - 2004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Praha: EUPRESS 200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www stránk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inisterstva vnitra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sprav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Úřadu vlády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vlad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s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urad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/default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oslanecké sněmovn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ps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7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8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9"/>
              </a:rPr>
              <a:t>?k=30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Ministerstva informatik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0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1"/>
              </a:rPr>
              <a:t>mi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2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3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4"/>
              </a:rPr>
              <a:t>/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 Reforma a současný model veřejné správy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oučasný model -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87480" y="2133720"/>
            <a:ext cx="696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b) Vymezen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ěco zlepšit, zdokonalit nebo odstranit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roblémy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noho aspektů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oli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právní, institucionální, technický, finančn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ociální, psychologický ...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entralizace vs. dekoncentrac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ecentraliz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fáze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teoretická vs. praktická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řípravy vs. realiz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o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 rozsahu a zaměření rozhoduje veřejnou 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volbou přijatá </a:t>
            </a:r>
            <a:r>
              <a:rPr b="0" lang="pl-PL" sz="2600" spc="-1" strike="noStrike" u="sng">
                <a:solidFill>
                  <a:srgbClr val="292929"/>
                </a:solidFill>
                <a:uFillTx/>
                <a:latin typeface="Arial"/>
              </a:rPr>
              <a:t>strategi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existuje?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PM a GG </a:t>
            </a: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PRINCIPY VS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incipy </a:t>
            </a:r>
            <a:r>
              <a:rPr b="0" lang="pt-BR" sz="2600" spc="-1" strike="noStrike">
                <a:solidFill>
                  <a:srgbClr val="292929"/>
                </a:solidFill>
                <a:latin typeface="Arial"/>
              </a:rPr>
              <a:t>ideální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ladní zásady (čím legitimované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deový rámec reformátorů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hodnotový základ vzorců chování úřední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ormativní charakte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dynamikou VS (sebereformování)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polečnosti (tlaky k reformě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backoffice a frontoff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rincipy reálné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blíže později - byrokracie, korupce ..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ideální principy VS činností</a:t>
            </a:r>
            <a:br>
              <a:rPr sz="32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ýsledke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rávně-právní globalizace ("EAS"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prvníma dvěm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ázemi aproximace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prá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Pomahač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harmonizační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důraz na sbližování a sladění různorodých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ávních postupů a kritérií</a:t>
            </a:r>
            <a:br>
              <a:rPr sz="1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standardiz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výběr a doporučení adekvátních vzorů a princi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unifik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opoj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 cílem vytváření vyšších ty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ovací nejen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 právním řádu jako takovém, ale i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e způsobech jeh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mplementace v rozdílném socioekonomickém, politickém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stitucionálním prostřed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esej na téma: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292929"/>
                </a:solidFill>
                <a:latin typeface="Arial"/>
              </a:rPr>
              <a:t>Proč být či nebýt úředník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) náležitosti: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ádkování 1, min. 3 str., max 2,5 cm okraje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písmo 12, VLASTNÍ NÁZOR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ázev: Esej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_VS_Prijmeni.do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do pátku 20. 10. do odevzdavárn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) Možné nedostatky ref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idláková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Špatný start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evším nedostatek informací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č. historického kontextu = neracionál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Imitace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(institucionální xerox)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nikoli inov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právná diagnóza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a nesplnitelnost cílů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rozhodný přístup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reformátor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5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Chyby v plán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6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dostatek zpětné vazby a monitorování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7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chopnost disponovat zdroji a inter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odpor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) Historické pozad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0) Vybrané prvky reforem 1848 - 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1. Československá republika a VS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918 -193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2. ČSR, okupace a období protektorá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1945 - 194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1948 - 196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) 1960 - 1968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?SAMOSPRÁVA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1968 - 198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NÉ CHARAKTERIS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tální strukturální přestavba dřívější centralizované státní správy v decentralizovanou veřejnou správu (princip subsidiarit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měna totalitního státu ve stát demokratický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renesance samo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lká rychlost změny a s tím způsobené problém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 kvalitou přípravných fází reformy - následné legislativní smrš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recková - příčiny reformy v Č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še VS je silně etatistická (silný vliv stát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správy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elmi centralistická (státní správa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resortismus, nízká koordin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labá veřejná kontrol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úroveň používání moderních meto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management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profesionální úroveň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úředníků 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zastupi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/ ČSFR (1989 - 199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vše řešeno jednotlivými ústavními zákon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135/1989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- zrušil čl. 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94/1990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ze dne 18. července, kterým se mění a doplňuje ústavní zákon č. 100/1960 Sb., Ústava ČSSR, a ústavní zákon č. 143/1968 Sb., o čs. federaci a kterým se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zkracuje volební období národních výbor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zvolený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r. 1986, do dne voleb do zastupitelstev obcí - 23. - 24. 11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3/1991, Listina základních práv a svob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91/1991, o Ústavním sou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327/1991, o referen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FEDERÁLNÍ A REPUBLIKOVÁ ÚROVEŇ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od počátku tendence zvyšovat úlohu republik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tomto trendu pokračoval i úst. z. č. 556/1990 Sb. z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prosinc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ávo ČR a SR zřizovat vlastní ozbrojené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bezpečnostní sbory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rozlišuje výlučnou působnost federace a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výlučnou působnost republik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5. - 6. června 1992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olb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do FS, ČNR a SNR - výsledky předznamenaly rozpad federace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1. září schválila SNR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avu S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úst. z. 493/1992 (tzv.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druhý kompetenční zákon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)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z 8. října - přesun kompetencí na republi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708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základní územní správní jednotkou se stala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ČR postavení obcí upraveno zákonem ČNR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č. 367/1990 Sb. ze 4. září 1990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dlišil státní správu a samosprávu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hovořil o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bcích, městech a statutárních městech, 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 Praz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vůči zák. o obcích speciálním zákonem č. 418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legislativou ustaven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JEDNOSTUPŇOVÝ SYSTÉM SAMO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obecní zastupitelstv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íšený / spojený model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státní správa na prvním stupni vykonávána rovněž orgány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rgány ob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obecní zastupitelstvo, obecní rada, starost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primátor) a zástupce starosty, komise, odbory, obecní úřad, tajemník (podle počtu pracovníků OÚ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řízeny zákonem ČNR č. 425/1990 Sb. ve městech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e kterých byly O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zemní členění zůstalo v podstatě nezměněné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od r. 196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velké kraje“ a „velké okresy“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e dni zřízení OkÚ v ČR 76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decentralizovaný orgán SS se všeobecnou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ůsobností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kÚ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nosta, okresní shromáždě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referá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lzni, Brně a Ostravě vykonávaly činnost OkÚ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agistráty, v Praze Magistrát města Prahy a úřad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ěstských část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řízení v kompetenc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lády republik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řídíc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ontrolní činnost především MV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CEPČ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 účinností od 31. 12. 1992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NR zákon č. 4/1993 Sb. o opatřeních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visejících se zánikem ČSF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raznou změnu pr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namenal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 z roku 1999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jejím základě přij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28/200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i jednotlivých druhů obcí zde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odbor/reforma/seznam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425/199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platil až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 12. 11. 200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6. 5. 2000 byl schvál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47/200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 okresních úřadech - pozbyl účinnosti k 31.12.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arakterizoval OkÚ jako „správní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ykonávající státní správu ve správních obvodech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é se nazývají okres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konávaly státní správu ve věcech, které stanovil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zvláštní zákony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ezkoumávaly rozhodnutí orgánů obcí a rozhodnu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pověřených obecních úřadů vydaná ve správním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dozor nad činností obcí + odborná pomoc ob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přezkoumával jejich hospodař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1) Vymezení veřejné s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OVINA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ávní (ústavní a správ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ekonomická (veřejná ekonomi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ouvisející disciplíny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interdisciplinární (současný?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správně vědní?, manažerující?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VŽDY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snaha specifikovat roli veřejné správy v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   veřejném sektor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vztah k legitimitě (potvrzení/vyvráce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jejích činnost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kresní úřady byly zrušeny na základě zákon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č. 320/2002 Sb. s účinností od 1. 1. 2003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"Dnem nabytí účinnosti tohoto zákona se zrušují okresní úřady.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Čl. CXIX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 Pokud zvláštní zákon stanoví působnost okresního úřadu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kresního národního výboru a tato působnost nebyla tímto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zvláštním zákonem převedena na územní samosprávné celky,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vykonává tuto působnost obecní úřad obce s rozšířenou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í jako výkon přenesené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Pokud okresní úřad vykonával činnosti, které mu nebyly stanoveny  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ě závazným právním předpisem, přechází tyto činnosti na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í úřad obce s rozšířenou působností jako výkon přenesené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20/2002 Sb.,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CXIX*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3. Pokud zvláštní zákon stanoví působnost orgánu, který zanikl, a nejedná se o případy uvedené v bodě 1, a tato působnost nebyla přenesena na jiný orgán, je věcně příslušný ústřední správní úřad, do jehož působnosti rozhodovaná věc náleží, popřípadě ústřední správní úřad, jehož obor působnosti je rozhodované vě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bližš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) Problematika malých obcí -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věten 2005 - Návrh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ečenství ob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na principu dobrovolného vstup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dohodnut rozsah nepřenositelných činn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) Příspěvek na výkon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a MV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yplynulo, že u obcí s rozšířenou působností jsou výdaje na výkon státní správy kryty z 84 % a u obc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 pověřeným obecním úřadem z 51 %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 - OBECNÉ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tegr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zorová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rad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idělování finančních prostředků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právní pomoc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92929"/>
                </a:solidFill>
                <a:latin typeface="Arial"/>
              </a:rPr>
              <a:t>funkce regionálního plánování a územního plánová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rostředkujíc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krizového říz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ce ochrany a péče o životní prostředí v region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(Grospič, J. Úloha krajů v územní reformě veřejné správy. In Grospič, J., Vostrá, L.: Reforma veřejné správy v teorii a praxi (Sborník z mezinárodní konference). Aleš Čeněk, s. r. o., 2004, s. 29 - 30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době vzniku ČR ani na základě převzatého právního řádu fakticky neexistovaly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již v období federace navržen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4 alternativy uspořádání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emská, regionální, kombinovaná a federativní - nebyly zákonodárným sborem projedn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. zákon č. 1/1993, Ústava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„kraje či země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r. 1994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měry vlády ČR v oblasti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do soustavy VS měly přibýt VÚSC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počítaly se zachováním okresních úřadů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uvedla, že se jí nepodařilo rozhodnout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o institucionálním uspořádání SS a S na úrovni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měn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až ústav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kon č. 347/1997 Sb.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14 krajů - právní postavení upraveno ALE pozdější §§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z. č. 129/2000 s účinností ode dne voleb do ZK, ustanovení o státní správě od 1. 1. 2001, 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činnosti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blémy související s přípravou realizace krajského zřízení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po přijetí zákona č. 347/1997 Sb. existovalo dvojí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latné územní vymezení krajů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VÚSC menší než NUTSII -  „regionů soudržnosti“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otázky stanovení hranic krajů z hlediska historické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vývoje, mínění občanů, infrastruktury ..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levant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Koncepce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9)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„vzala na vědomí“ usnesením č. 258/199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ávrh zákona o územně správním členění státu a návrh zákona, kterým se mění některé zákony v souvislosti s přijetím zákona o územně správním členění státu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ateriál postoupený k projednání vládě 1. června 2005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rozpracována varianta s tzv.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„oblastí“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odifikovaná  podoba krajů stanovených zák. č. 36/1960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Sb. - navrženo 8, 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louhou dobu malá pozorno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uze strukturální změny - zrušení či nahrazení ministerstev a ústředních správní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egativní charakteristiky ústřední státní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materiálech teze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entra pro sociální a ekonomické strate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znamnou změnou až usnesení vlády č. 619 ze dne 20. června 2001 - projednala návr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modernizace ústřední státní správy se zvláštním přihlédnutím k systemizaci a organizačnímu uspořádání správních úřad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(2001) - priori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átkodob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červen 2001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armonizace vnitřní organizace ministerstev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řednědob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červenec 2002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efektivnosti a zlepšení koordinace při výkon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horizontálních funkcí a proc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solidace systému ústřední státní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sílení koncepční, koordinační a kontrolní úloh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inisterste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úrovně řízení v ministerstvech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i projekt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har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Cíle nové vlády ustavené v roce 2002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jednou programovou prioritou „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zahájení modernizace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jejímž cílem je zefektivnit,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racionalizovat a zvýšit horizontální koordinaci činností veřejn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správy za širšího využití moderních technologií (elektronick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veřejné správy) a manažerských metod řízení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formu a modernizaci ústřední státní správy zastřešuje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d 1. 4. 2004 na základě rozhodnutí vlády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snesení vlády ze dne 17. března 2004 č. 237 „Postup a hlavní směry reformy a modernizace ústřední státní správy obsahující vyřešení gesce a organizačního zabezpečení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“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elze pominout Fosthoffův výrok, že veřejná správa může být jen popsána, nikoli však definována“ (Hendrych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ÁVA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ažák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sledující záměrně nějaký cíl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nebo ..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nesoucí se za trvalým účelem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dit ty kter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áležit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mahač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jde o řídící činnosti, a to činnosti záměrné,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účelové, kontinutální a organizovan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institucionalizované kontrolní a regulativní čin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ůcha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právou se v podstatě chápe společensk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zení, které však má určité specifické rysy a realizuje s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e specifických formá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ostup a hlavní směry reformy a modernizace ústřední státní správy obsahující vyřešení gesce a organizačního zabezpečení (2004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koncepce rozlišuje změny dvojího druhu: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lepšování současného systému;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k tomu pět hlavních směrů s celkem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atnácti konkrétními projekt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navázáno na cíle předchozích dokument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rcholným pracovním orgánem reformy je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Řídící tým reformy ústřední státní správy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mají mu být předkládány všechny výstupy schválené usnesením vlády k reformě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jektového řízení využito pro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„“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výšení meziresortní spolupráce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ajištění provázanosti jednotlivých projektů reformy a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yužití obecných principů projektového řízení, kterými jsou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flexibilita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uvědomění si nákladů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rientace na cíl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angažovanost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průhlednost 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dpovědnost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: Racionalizace procesů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1 Identifikace poslání (cílů) ústředních správních úřadů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2 Popis a analýza procesů v ústředních správních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3 Vypracování pravidel pro fungování tzv. agentur pro ústřed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státní správu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4 Reorganizace ústředn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: Zlepšení řízení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1 Efektivní horizontální komunikace a podpora tvorb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celostátních strategi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2 Moderní manažerské techniky v ústředních správní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3 Lepší koordinace ústřední státní správy směrem k územ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veřejné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4 Řízení znal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: Zvýšení kvality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1 Zavádění a rozvoj řízení kvality v ústřední státní správě</a:t>
            </a:r>
            <a:br>
              <a:rPr sz="2000"/>
            </a:b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.2 Reforma regulace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3 E-govern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. Implementace a zlepšování státní služby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.1 Implementace služebního zák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. Racionalizace financování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1 Rozvoj finančního a výkonového management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2 Využití soukromých zdrojů pro veřejné invest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3 Sjednocení a prohloubení kontroly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!Současný stav projektů  - webové stránky Úřadu vlády! </a:t>
            </a: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(UŽ N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FORMA VEŘEJNÉ SPRÁVY A ZVYŠOVÁNÍ KVALIFIKACE ÚŘEDNÍK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louho dobu reformě VS vytýkána absence 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pravy postavení zaměstnanců ve VS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existoval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systém řízení lidských zdroj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usnesení vlády č. 601/1999 Sb. –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ncepce přípra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EK 2001: „politováníhodné“, že v ČR stále chyb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legislativa určující status úředníků veřejn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edpokladem pro úspěšné převzetí požadavk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yplývajících z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acquis communautair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áva a povinnosti zaměstnanců dány zejmé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ákoníkem práce + zákon o platu a odměně (143/1992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dex etiky zaměstnanců ve veřejné správě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lád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chválila 2001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mplexní legislativ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r. 2002 - 312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218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(2009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VÝZNAMNÉ SOUČÁSTI REFORMY KONTROLY VEŘEJNÉ SPRÁV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SAMOSTUDIUM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jvyšší správní soud v Ústavě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3), je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ostavení upravil až zákon č. 150/2002 Sb. s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účinností od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1. 1. 2003 - kompete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eřejný ochránce práv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349/1999 Sb.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vobodný přístup k informacím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106/1999 Sb., zák. č. 123/199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8120" y="1844640"/>
            <a:ext cx="7661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ČNOST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řejnoprávní charakter subjektu veřejné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avování (tj. nositel veřejné moci),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jekt správy - „veřejné záležitosti“ legitimova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veřejným zájmem“,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odvozenost cílů od funkcí státu či územní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samosprávného celk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onné založením subjektu i objektu tohot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ruh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olečenského řízení (v různé míř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krétnosti), = rule of la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pozitivní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negativ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materiální (funkční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formální (organizační / institucionální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tátní správa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KONOMICKÉ ASPEKTY VEŘEJNÉ SPRÁV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oblasti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amospráv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větší prostor pro konkretizaci cílů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žádoucích stavů) a kroků k jejich dosažení (a tím i pro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ovaci – a tím i pro řízení)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předpokládá znalosti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u reformátorů VS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u úředníků / politik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u hodnotitelů VS činnost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 a jiné kapac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hraniční literatura - např. Stiglitz, Musgrave a Musgravová či Jackson a Brown - termín „vláda“ (= stát = regulace = intervence... = systém veřejné moc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ská literatura se někdy snaží specifikovat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užívá tezí správního práva, neb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mezuje obsahově odlišně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rávní odvětví jako podskupiny veřejno-správ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ompetence vs.  postavení veřejné správy v národn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hospodářstv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hly pohledu na veřejnou správu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ubjekt s kompetencí zakládat, řídit / spravovat subjekt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řejného sektoru (ovlivňuje tak i jeho selhávání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oducent veřejných stat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ecifický prostor pro uplatnění osobních či jiných zájm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byrokra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mohou se překrývat, vždy důraz na aspekt EFEKTIV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chrana, F. Veřejný sektor a efektivní rozhod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způsob přijetí rozhodnutí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veřejná volb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67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současnosti ohraničovány dvě základní koncepce / filozofie / přístup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ekonomie a managementu soukromé sfér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tzv. tradiční správa (Weber, Wilson)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manažerismu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(byrokracie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tr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do sebe zahleděné řízení vs. zaměření se n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klient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inputově dominující struktura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efektivní výstup a výsled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krátkodobé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strategic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uvaž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prostorem, který je věnován řízení a předevš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ntrole výkonů a výsledků a (osobní) odpovědnos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 výsled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funkce správy užší a limitovanější, než funkc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managementu – spravování jeho součástí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Základní rozdíl je ve významové odlišnosti mezi „sloužit“ a 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„kontrolovat výsledky nebo dosahovat výsledků“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0:30:58Z</dcterms:created>
  <dc:creator>Eman</dc:creator>
  <dc:description/>
  <dc:language>en-US</dc:language>
  <cp:lastModifiedBy>77120</cp:lastModifiedBy>
  <dcterms:modified xsi:type="dcterms:W3CDTF">2006-10-13T08:16:06Z</dcterms:modified>
  <cp:revision>54</cp:revision>
  <dc:subject/>
  <dc:title>Vymezení správní vědy a veřejné správy</dc:title>
</cp:coreProperties>
</file>