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9833-3985-4625-B8BF-E27E0E8ED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983B-8A80-48AD-B82C-48300EBCB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15FE-2986-4749-8DBB-377AFA86F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2704-EB19-4BEF-ACB1-B95A17574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3BAA-A45C-41D9-A12F-41CBC012D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FB1A-2C0C-43C4-A98F-093ECEE2C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FC92-C24C-48EB-9A59-C43B27A20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4068-6F5E-4685-8B53-CD3532A3B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B368-97B0-47C7-9059-B5FFBC7AC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D53B-E3B1-4F65-AC50-322FF4ACF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3E07-6C37-4667-B484-B376DF94F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1E97-309D-4E1E-8C01-CC0A43B27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E5F7F-32AC-4646-ABCE-5C0C85984C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87240" y="887400"/>
          <a:ext cx="7769520" cy="5083200"/>
        </p:xfrm>
        <a:graphic>
          <a:graphicData uri="http://schemas.openxmlformats.org/drawingml/2006/table">
            <a:tbl>
              <a:tblPr/>
              <a:tblGrid>
                <a:gridCol w="3884760"/>
                <a:gridCol w="388476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gnitivní, poznávací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třeby v dané kategorii produkt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vědomí o znač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nalost znač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fektivní, emocionální a smyslov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city vyvolané reklamo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toj k reklamě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liba znač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toj ke znač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zor na značk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okojenost se značko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nativní, behavioráln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kupní zámě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k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pakovaný nák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ajalita ke znač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12:10:50Z</dcterms:created>
  <dc:creator>kozakova</dc:creator>
  <dc:description/>
  <dc:language>en-US</dc:language>
  <cp:lastModifiedBy>kozakova</cp:lastModifiedBy>
  <dcterms:modified xsi:type="dcterms:W3CDTF">2005-12-05T12:11:04Z</dcterms:modified>
  <cp:revision>1</cp:revision>
  <dc:subject/>
  <dc:title>Prezentace aplikace PowerPoint</dc:title>
</cp:coreProperties>
</file>