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E4AC-002D-4669-A05D-88EB5BF53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F2CE-471D-4DD8-B172-52043C0A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53FD-8EEE-41E6-A92F-420B4655B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C4B1-C1A0-4D05-BE20-FC0816EB6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9064-7527-45E9-97EA-72B7A3F6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41AC-8682-4042-8F66-577D9005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2B9E-74F4-4F97-A1B0-7891622E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3BFB-0AE4-4729-A53F-6B8EEB676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3233-D5F1-4336-B0B2-348FDD87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4C39-1AA4-48D3-9308-DEF5E286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0FD2-4ED2-45F5-89D4-E393EBA3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0D4A-DC64-49D9-B5C9-F7C8156B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9A4F-62A2-4AE5-828C-CC138A8BA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2590920"/>
            <a:ext cx="2438280" cy="2666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33526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m se chceme dos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124080"/>
            <a:ext cx="2514600" cy="14479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429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k se tam dostan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666880"/>
            <a:ext cx="236196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e js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676520"/>
            <a:ext cx="914400" cy="533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48:50Z</dcterms:created>
  <dc:creator>kozakova</dc:creator>
  <dc:description/>
  <dc:language>en-US</dc:language>
  <cp:lastModifiedBy>kozakova</cp:lastModifiedBy>
  <dcterms:modified xsi:type="dcterms:W3CDTF">2005-12-02T13:49:30Z</dcterms:modified>
  <cp:revision>1</cp:revision>
  <dc:subject/>
  <dc:title>Prezentace aplikace PowerPoint</dc:title>
</cp:coreProperties>
</file>