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B0C81-96DA-4B79-9121-F871EB7DA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FD43F-549F-4103-B943-D4CA895F2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90D5E-62A0-4A01-8E4B-63AFA44A8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61568-060E-4E8B-9C5C-ADB229A4A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F0734-D971-4E83-8459-FEE6E887D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63612-8864-40B8-8B33-A08C9973F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660C3-53A4-4EB1-905E-8E4AB4467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4F368-61A4-4B2C-8250-FD31EBB0B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90C47-C24A-4AE4-8D51-25316AF81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30E2D-82E7-4277-BCEF-88FF9047F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D77CA-CA28-4793-B363-DA617AB20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06E81-E53F-4364-9341-38A1C3364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A749A-B00F-4158-AD9B-D8CEBC6CD4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3880" y="1407960"/>
          <a:ext cx="6096240" cy="40420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3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lné stránk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labé stránk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říležitost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 strategi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O strategi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rozb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 strategi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T strategi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2T13:51:44Z</dcterms:created>
  <dc:creator>kozakova</dc:creator>
  <dc:description/>
  <dc:language>en-US</dc:language>
  <cp:lastModifiedBy>kozakova</cp:lastModifiedBy>
  <dcterms:modified xsi:type="dcterms:W3CDTF">2005-12-02T13:51:56Z</dcterms:modified>
  <cp:revision>1</cp:revision>
  <dc:subject/>
  <dc:title>Prezentace aplikace PowerPoint</dc:title>
</cp:coreProperties>
</file>