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017A-BA38-45EB-8F87-3B4F9A2D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988A-B18E-4C3F-BC54-8B87DA63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F3A-9940-4638-9D16-BE84A475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BD87-3961-47BA-B898-2AD32BF6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20D-AF58-471B-9A24-B1775EE8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ADCF-4BF5-4D6A-B4C9-F87A8FAB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F1F-B595-4DD3-83C4-571E9487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E354-5ABB-4FD0-81FB-E22DE40F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9EA-5F04-40D5-9F21-9762D316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920-C773-4B1A-9538-23CC5EA6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347-C597-41D0-BA53-F9516214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C20B-8A46-4FB1-96C2-8582EAC0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899F-BA1E-41DA-8114-67551D88C3B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ční šumy v marketingové komunika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zpor mezi očekáváním klienta a vnímáním poskytovatele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3124080"/>
            <a:ext cx="281916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čekávaná služ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286000"/>
            <a:ext cx="1752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ázory jiný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ob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00800" y="228600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kuše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11480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poskytnuté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4724280"/>
            <a:ext cx="38862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kytnutí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5334120"/>
            <a:ext cx="38862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kace slu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5943600"/>
            <a:ext cx="6553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nímání tohoto očekávání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8108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14640" y="27432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3505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35053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8148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8148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449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9120" y="3622680"/>
            <a:ext cx="107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R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53200" y="55278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4600" y="49179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53200" y="43084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4:36:12Z</dcterms:created>
  <dc:creator>simona</dc:creator>
  <dc:description/>
  <dc:language>en-US</dc:language>
  <cp:lastModifiedBy>simona</cp:lastModifiedBy>
  <dcterms:modified xsi:type="dcterms:W3CDTF">2005-11-28T14:36:30Z</dcterms:modified>
  <cp:revision>1</cp:revision>
  <dc:subject/>
  <dc:title>Informační šumy v marketingové komunikaci</dc:title>
</cp:coreProperties>
</file>