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2CCF-A675-4FAC-BF1D-3A64CB720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3A35-CCB6-4B87-8129-91551A14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F8E0-BD39-4CBB-9B86-7AEC76B11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1E74-CCE2-4A26-8504-E706376A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7F5-B20B-4E56-A0C0-BEC487DE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6919-7791-41B5-A60A-C3DA0BD9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26E-BCCB-4E9E-9D14-725C2755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065E-643C-46C1-835F-47EE0911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F63-4F69-409E-A2BF-F6D3B38D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0F04-13F8-483C-90E9-3604AEEA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5CF-D497-4BE2-BE61-2789C567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2509-15A4-4505-A776-0038DEC0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AC342-167B-4084-AADB-B7B2E7FAB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440" y="990720"/>
          <a:ext cx="8763120" cy="487656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301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čekávané příno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k překonat obavy a omez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, jakým chcete postupova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ahájit proces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kat se strategickým plánováním a začít s ním za příhodnějších podmín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808080"/>
                        </a:buClr>
                        <a:buSzPct val="110000"/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toupit od myšlenky strategického plánová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2T13:50:42Z</dcterms:created>
  <dc:creator>kozakova</dc:creator>
  <dc:description/>
  <dc:language>en-US</dc:language>
  <cp:lastModifiedBy>kozakova</cp:lastModifiedBy>
  <dcterms:modified xsi:type="dcterms:W3CDTF">2005-12-02T13:51:14Z</dcterms:modified>
  <cp:revision>1</cp:revision>
  <dc:subject/>
  <dc:title>Prezentace aplikace PowerPoint</dc:title>
</cp:coreProperties>
</file>