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23D-A723-4C45-9275-B3A0A891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AC42-2158-4AE0-9845-8A3341E9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287-236C-47C7-B20B-8D37B166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D99-3C61-4BB6-8DFE-3912B111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0E00-F8B8-49C4-BD5A-F5F09097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105-906D-4B6B-8CC6-4D77B74F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147-4719-44D9-9A22-1890898B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B9C2-A67A-478A-A6AC-7168BF63E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CC6-75B4-4121-9133-0F88B917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2039-871E-4652-9E68-F8F8E61B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059C-834F-41E3-8205-9D36D68C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7F2F-F714-4AC1-80C6-E74ED725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9CEE-2DCF-4314-9977-BCA31DF7E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5800" y="876240"/>
          <a:ext cx="7772400" cy="5105520"/>
        </p:xfrm>
        <a:graphic>
          <a:graphicData uri="http://schemas.openxmlformats.org/drawingml/2006/table">
            <a:tbl>
              <a:tblPr/>
              <a:tblGrid>
                <a:gridCol w="2475000"/>
                <a:gridCol w="5297400"/>
              </a:tblGrid>
              <a:tr h="31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ysílatel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rob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upina výrobc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chod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užst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pad – hlavně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dě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vní – pouze informu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nsformační – mění posto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itucionální, vládní kampa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lektivní nebo obecně použitelné = podpora konkrétní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atické nebo zaměřené na druh, kategorii produktů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andský sýr,belgické pralinky, jihoamerické hověz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kazní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zipodnikové     prostřed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d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diovizuální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k                 (na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místa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ímá               (podlinková rekla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09:06Z</dcterms:created>
  <dc:creator>kozakova</dc:creator>
  <dc:description/>
  <dc:language>en-US</dc:language>
  <cp:lastModifiedBy>kozakova</cp:lastModifiedBy>
  <dcterms:modified xsi:type="dcterms:W3CDTF">2005-12-05T12:09:38Z</dcterms:modified>
  <cp:revision>1</cp:revision>
  <dc:subject/>
  <dc:title>Prezentace aplikace PowerPoint</dc:title>
</cp:coreProperties>
</file>