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926A-2ADF-4E99-89F7-1F985FEA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86C-74D2-46E1-9BC8-8075E143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4BA-CEAE-4FA9-9D00-451BB560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B22A-9B21-484E-BA50-23A8E1A2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7F09-21CD-45EB-B080-B316DB78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69F-7BE6-4060-A1A9-07C78345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3A4-78C6-4803-B867-604DDBB3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653D-E973-49E0-A73F-0DFE049B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7C06-1075-4D99-ADD6-E647AF87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E23A-CA99-47DB-9B20-9CB34A37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5D8-06C4-418E-B5E7-1C8FECCC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A002-C4DD-400D-9D1A-2D2C69C4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A8E0-F064-4C20-A6A1-BF9D4C5CC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412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95480" y="4114800"/>
            <a:ext cx="495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004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po růstu t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6248520"/>
            <a:ext cx="88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ivní podíl organizace na trhu potř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860560"/>
            <a:ext cx="12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537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66880" y="2514600"/>
            <a:ext cx="243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věz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 Rostouc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2438280"/>
            <a:ext cx="327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azníky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émové dě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negativní tok peněz. Nízký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4191120"/>
            <a:ext cx="23623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ojné) k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ýrazně pozitivní tok peněz. Nejvyš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6400" y="4191120"/>
            <a:ext cx="33526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írně pozitivní nebo negativní tok peněz.Nejnižší z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575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yso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575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íz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41760" y="5519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057040" y="579132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590076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2438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8160" y="376704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56:43Z</dcterms:created>
  <dc:creator>simona</dc:creator>
  <dc:description/>
  <dc:language>en-US</dc:language>
  <cp:lastModifiedBy>simona</cp:lastModifiedBy>
  <dcterms:modified xsi:type="dcterms:W3CDTF">2005-11-28T12:57:08Z</dcterms:modified>
  <cp:revision>1</cp:revision>
  <dc:subject/>
  <dc:title>.</dc:title>
</cp:coreProperties>
</file>