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1DA1-C4AC-46A0-A7A3-A4543DDA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8EFB-D6F4-4B4C-A576-5F854F67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ADCA-A255-4928-B1F3-4FF9F484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03BD-2983-420A-BA1B-EEFE9643A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49E4-4DDF-4AB2-AC66-2792010E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D388-D8C7-41BD-BCF1-564C2A44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89F8-2BFD-4DFC-9032-DB4FB2ED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59AD-0297-40F7-996B-3BFE4711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0712-C157-4331-BF49-910BBAC9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B0E0-871A-4C98-9D85-53F2A3EB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638-C2DF-4C3B-A5DA-F27E799A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2CAC-B621-4ECC-AB52-CA67D280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3FC1-ADF5-4AD4-803C-CDFDEF534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407960"/>
          <a:ext cx="6096240" cy="40420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n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abé strá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ležit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oz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T strateg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1:44Z</dcterms:created>
  <dc:creator>kozakova</dc:creator>
  <dc:description/>
  <dc:language>en-US</dc:language>
  <cp:lastModifiedBy>kozakova</cp:lastModifiedBy>
  <dcterms:modified xsi:type="dcterms:W3CDTF">2005-12-02T13:51:56Z</dcterms:modified>
  <cp:revision>1</cp:revision>
  <dc:subject/>
  <dc:title>Prezentace aplikace PowerPoint</dc:title>
</cp:coreProperties>
</file>