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00AA-3A17-4644-AF40-A5632822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7CC-30A1-4B93-B7BD-FB3071E7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64CD-94A0-4B2F-A4D3-81E7B8FE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E7B5-38A1-49A7-BCBA-63BA6C08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802-BDC1-400E-B50A-14F4DA05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BCD2-6500-4322-B42F-B6A110EBE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D40E-82E3-4DE5-AF34-FE3643F6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7ABD-A67C-4FDA-927E-55E98A5B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0373-7C74-4E3B-BAAC-C424D8E3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0B46-D96F-4204-A670-70FDA8D4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05B4-BBBB-469C-9A97-C3CBF2A5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A1F8-8D47-4D46-8EB6-632FA40C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65CC-44E2-438B-93BA-F6EF5E4B4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87240" y="887400"/>
          <a:ext cx="7769520" cy="5083200"/>
        </p:xfrm>
        <a:graphic>
          <a:graphicData uri="http://schemas.openxmlformats.org/drawingml/2006/table">
            <a:tbl>
              <a:tblPr/>
              <a:tblGrid>
                <a:gridCol w="3884760"/>
                <a:gridCol w="38847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gnitivní, poznávací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řeby v dané kategorii produkt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vědomí o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alost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ektivní, emocionální a smyslov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city vyvolané reklam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 reklam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ba zna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toj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zor na značk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okojenost se značk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nativní, behaviorál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ní zámě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akovaný nák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ajalita ke znač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2:10:50Z</dcterms:created>
  <dc:creator>kozakova</dc:creator>
  <dc:description/>
  <dc:language>en-US</dc:language>
  <cp:lastModifiedBy>kozakova</cp:lastModifiedBy>
  <dcterms:modified xsi:type="dcterms:W3CDTF">2005-12-05T12:11:04Z</dcterms:modified>
  <cp:revision>1</cp:revision>
  <dc:subject/>
  <dc:title>Prezentace aplikace PowerPoint</dc:title>
</cp:coreProperties>
</file>