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4CF9-6BF4-483E-B829-F6DD8F019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C5C4-3F28-4ED3-A897-3FDFA8C34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5CB6-DD1F-4E86-A24C-86864EB26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4FB5-C55E-4043-BB3B-82877B998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6AEA-1FAB-49AE-8ECE-1F0B269DE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E20D-ACEA-4020-8145-95851D72F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1489-05CC-4DAF-AD2B-BD4EF184E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69EA-D68F-4580-BC29-24DFC7ABA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2702-292B-4B89-B39B-7B27E9F1C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BA56-9E51-49F0-A73A-143473FAC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CDEE-700C-4DBB-8069-44DB8EC81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FF9E-6191-47F7-A30E-9C4D164F0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6D9F7-50B5-4E8F-85B5-430D9EEA42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066680" y="1295280"/>
          <a:ext cx="6934320" cy="4043520"/>
        </p:xfrm>
        <a:graphic>
          <a:graphicData uri="http://schemas.openxmlformats.org/drawingml/2006/table">
            <a:tbl>
              <a:tblPr/>
              <a:tblGrid>
                <a:gridCol w="3467160"/>
                <a:gridCol w="3467160"/>
              </a:tblGrid>
              <a:tr h="206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voj produkt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řazení baletních představení do nabídky divadl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zšiřování, rozvoj trh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voření nových představení pro nový tr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erzifika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bídka nových typů zájezdových představen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367200" y="2556000"/>
            <a:ext cx="40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295280"/>
            <a:ext cx="143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ist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7242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57600" y="5715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ÝROB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571500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istují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248520" y="57150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88160" y="727200"/>
            <a:ext cx="3216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nikání na tr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sažení většího tržní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dílu mezi divá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 řad student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32000" y="62064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plikace Ansoffovy matice pro regionální divad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1:42:18Z</dcterms:created>
  <dc:creator>simona</dc:creator>
  <dc:description/>
  <dc:language>en-US</dc:language>
  <cp:lastModifiedBy>simona</cp:lastModifiedBy>
  <dcterms:modified xsi:type="dcterms:W3CDTF">2005-11-28T11:42:59Z</dcterms:modified>
  <cp:revision>1</cp:revision>
  <dc:subject/>
  <dc:title>.</dc:title>
</cp:coreProperties>
</file>