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EA3D-3E5E-48DC-9D91-F21A89E0C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07D-E6B4-4B8B-93D6-39050C30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72A-F3D3-4D97-B35E-EBB740C8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B679-949E-4305-98B8-D528538B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0B5-A0E8-4F21-ADD5-BE5EBAD4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2BF-DDCC-4829-9955-698C361B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9FB2-5DCA-4B73-930D-36D82497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457A-1CF9-4B60-98D1-FB5637ED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98F-B5CA-4D76-B1F1-187317B8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B63-517B-4D33-90C5-B10E6A45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D47-D8A6-4292-952E-E68CE957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47A-1371-4B63-8F02-06FD84A3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5C79-BF0C-4457-9A6A-4289418D2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ř. Poziční mapa hotelových služ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2514600"/>
            <a:ext cx="6019920" cy="289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2670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581280"/>
            <a:ext cx="1295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2971800"/>
            <a:ext cx="129528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6320" y="3614760"/>
            <a:ext cx="201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roveň c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2280" y="247176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19280" y="47577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6840" y="54435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íz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18480" y="5410080"/>
            <a:ext cx="16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yso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80720" y="5748480"/>
            <a:ext cx="50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nímaná kvalita hotelových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376704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zion Sla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31575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Berá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2471760"/>
            <a:ext cx="33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tel Intercontin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3:07:55Z</dcterms:created>
  <dc:creator>simona</dc:creator>
  <dc:description/>
  <dc:language>en-US</dc:language>
  <cp:lastModifiedBy>simona</cp:lastModifiedBy>
  <dcterms:modified xsi:type="dcterms:W3CDTF">2005-11-28T13:08:10Z</dcterms:modified>
  <cp:revision>1</cp:revision>
  <dc:subject/>
  <dc:title>Př. Poziční mapa hotelových služeb</dc:title>
</cp:coreProperties>
</file>