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7DF3-5D60-4E82-876F-30522482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50A8-6760-4727-9A93-0F988BCD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DB53-C124-4312-B620-8E222371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2B1B-063E-45AF-8002-772450C6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3E2-3A4C-4F2C-A498-0B738A7F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5432-B7A7-470A-8688-B86FD88F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AEB4-25CA-4F8A-934A-7E4B2A3A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B133-6366-4F63-98CB-3CC1D766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63A5-09A6-4BC4-98E2-B2A6A7B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E49-A5FE-44A5-A1D9-D64034ED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825B-CFF8-47CD-83CD-E69B028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6DA5-5EB0-4D05-898E-359D1588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52AE-E6FF-4FB0-B93F-55B21E3A4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68320"/>
          <a:ext cx="7769520" cy="5122800"/>
        </p:xfrm>
        <a:graphic>
          <a:graphicData uri="http://schemas.openxmlformats.org/drawingml/2006/table">
            <a:tbl>
              <a:tblPr/>
              <a:tblGrid>
                <a:gridCol w="1295640"/>
                <a:gridCol w="1293840"/>
                <a:gridCol w="1295280"/>
                <a:gridCol w="1295280"/>
                <a:gridCol w="1293840"/>
                <a:gridCol w="129564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ální zákazní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anční instit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sta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elé komuni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měst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n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ne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tivní účastní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 na ak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ác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V, rozhlas, čtenář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2:25Z</dcterms:created>
  <dc:creator>kozakova</dc:creator>
  <dc:description/>
  <dc:language>en-US</dc:language>
  <cp:lastModifiedBy>kozakova</cp:lastModifiedBy>
  <dcterms:modified xsi:type="dcterms:W3CDTF">2005-12-05T12:12:49Z</dcterms:modified>
  <cp:revision>1</cp:revision>
  <dc:subject/>
  <dc:title>Prezentace aplikace PowerPoint</dc:title>
</cp:coreProperties>
</file>