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232-05EF-48BF-AF4D-0B62C6AE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67B7-CFC2-4EA1-AB0C-21511537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3F6B-358F-4D44-84E5-98FDEB3E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B0C-6669-4576-81BD-C305E55E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364E-9DD5-43CD-A878-56F4E7F2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CEF-31DC-4849-A6EF-80F41B65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B7B-5FD3-4003-905A-350C99F0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FD5E-A796-4542-AB8C-981CD08E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89D-1D0B-4076-8C9B-5D3EA663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0917-DC92-4AA0-B3AB-1AC5B6FC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D9C8-F0C5-4FFF-AA6B-93F1552C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D8A-1802-4519-BE19-389A656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BD8B-052D-4CC0-8D2A-A32E2F1E0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2590920"/>
            <a:ext cx="2438280" cy="2666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324480" y="33526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m se chceme dost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124080"/>
            <a:ext cx="2514600" cy="144792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34290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k se tam dostane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666880"/>
            <a:ext cx="236196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3581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de js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676520"/>
            <a:ext cx="914400" cy="533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0572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1752480"/>
            <a:ext cx="914400" cy="533520"/>
          </a:xfrm>
          <a:prstGeom prst="ellipse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752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934320" y="1828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828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48:50Z</dcterms:created>
  <dc:creator>kozakova</dc:creator>
  <dc:description/>
  <dc:language>en-US</dc:language>
  <cp:lastModifiedBy>kozakova</cp:lastModifiedBy>
  <dcterms:modified xsi:type="dcterms:W3CDTF">2005-12-02T13:49:30Z</dcterms:modified>
  <cp:revision>1</cp:revision>
  <dc:subject/>
  <dc:title>Prezentace aplikace PowerPoint</dc:title>
</cp:coreProperties>
</file>