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65BE-C405-4A4E-878C-303BA9ADB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A186-D1E2-4A9C-AEB3-02CC8F2A3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865D-2769-476F-BA29-1B2688B66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7D14-28FC-4970-8417-8FC07A381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C743-E491-43C0-90BB-C58CBBA71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D81A-814D-42F4-879C-BDA7959D9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5F2C-2B1E-4BD5-951A-3D0B28401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14FC-6B9C-4524-80F0-A70D02DB3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749F-E69F-4E01-A399-B333A6632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A892-C139-45A3-A79D-36CBF3F7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1DFC-95F9-417A-83F6-EEDC70C2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42DC-882F-4EA0-A8D6-34AADA3C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2B3ED-FAC6-45BC-86E0-742F3C1DE0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440" y="990720"/>
          <a:ext cx="8763120" cy="4876560"/>
        </p:xfrm>
        <a:graphic>
          <a:graphicData uri="http://schemas.openxmlformats.org/drawingml/2006/table">
            <a:tbl>
              <a:tblPr/>
              <a:tblGrid>
                <a:gridCol w="2921040"/>
                <a:gridCol w="2921040"/>
                <a:gridCol w="2921040"/>
              </a:tblGrid>
              <a:tr h="301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čekávané pří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k překonat 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0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působ, jakým chcete postupova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hájit proces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kat se strategickým plánováním a začít s ním za příhodnějších podmín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toupit od myšlenky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0:42Z</dcterms:created>
  <dc:creator>kozakova</dc:creator>
  <dc:description/>
  <dc:language>en-US</dc:language>
  <cp:lastModifiedBy>kozakova</cp:lastModifiedBy>
  <dcterms:modified xsi:type="dcterms:W3CDTF">2005-12-02T13:51:14Z</dcterms:modified>
  <cp:revision>1</cp:revision>
  <dc:subject/>
  <dc:title>Prezentace aplikace PowerPoint</dc:title>
</cp:coreProperties>
</file>