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AAAE9-6C90-44DC-A6C3-05FA9EC45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CFB55-CE66-47FF-A5A5-3B4277DEC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FD408-F338-4FC9-B3F8-D7865CCB7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832DC-61EE-4476-A389-1437E40BA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466EF-1747-443C-A749-E4689C384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31FF7-BDFA-414E-8155-E20AB039B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7F842-6335-4ECD-B984-4FC9F64F9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2F680-1207-4F65-A8BF-529BCA602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8FC57-5FF9-4879-8D54-115941075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B9606-7D4D-4D91-9B7C-D231335A2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0B187-11ED-495F-A5E9-09D00C651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664BF-91DD-4538-9A9F-4FE90CACD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947C9-C551-4A7C-A783-4116038C7D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066680" y="1295280"/>
          <a:ext cx="6934320" cy="4043520"/>
        </p:xfrm>
        <a:graphic>
          <a:graphicData uri="http://schemas.openxmlformats.org/drawingml/2006/table">
            <a:tbl>
              <a:tblPr/>
              <a:tblGrid>
                <a:gridCol w="3467160"/>
                <a:gridCol w="3467160"/>
              </a:tblGrid>
              <a:tr h="206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ývoj produkt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ařazení baletních představení do nabídky divadl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1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zšiřování, rozvoj trh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ytvoření nových představení pro nový tr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verzifika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bídka nových typů zájezdových představení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367200" y="2556000"/>
            <a:ext cx="400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295280"/>
            <a:ext cx="143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istujíc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472428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v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657600" y="57150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ÝROB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76520" y="5715000"/>
            <a:ext cx="144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istujíc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248520" y="571500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v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388160" y="727200"/>
            <a:ext cx="3216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nikání na tr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sažení většího tržníh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dílu mezi divá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 řad studentů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32000" y="620640"/>
            <a:ext cx="67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plikace Ansoffovy matice pro regionální divad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8T11:42:18Z</dcterms:created>
  <dc:creator>simona</dc:creator>
  <dc:description/>
  <dc:language>en-US</dc:language>
  <cp:lastModifiedBy>simona</cp:lastModifiedBy>
  <dcterms:modified xsi:type="dcterms:W3CDTF">2005-11-28T11:42:59Z</dcterms:modified>
  <cp:revision>1</cp:revision>
  <dc:subject/>
  <dc:title>.</dc:title>
</cp:coreProperties>
</file>