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265C-43C9-4629-B810-912BC2E3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A22C-A56F-4443-A3F2-92B52407B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75C7-B27E-4779-B7C4-A2765898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2213-2618-4DF4-BCD5-6633531A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1F8C5-B370-4953-AC5D-A0FAF442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3D843-7DA5-4DE9-8B68-201D248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F3982-49F0-4A6C-938E-A8B5BAC5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297D-FDCB-4E28-A877-C53E820EF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FABEF-525E-403A-B76F-B32B91BE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64AB-3B00-4522-BD13-D9D2C796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7BE1-9381-48AF-84DF-C211ACF1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F3C9-6E68-4633-8ED1-B616A2BE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2CF68-B1A9-48EA-BFBD-29E6F2A68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8872-EC67-4E2F-A9E0-AE91938B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75FD5-1F97-4525-940E-53FF643D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3BCD-4989-4A58-BA56-B8133B992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DF72-0D68-43F8-B4F3-BEAB640E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87D1-B23A-4392-AC82-0026BF96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5B7A-4A4D-4333-B80E-AF9D05058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FECA-2B32-4708-97ED-A43844A5E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31680" y="96480"/>
            <a:ext cx="7157880" cy="65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8DB-19FC-4B9F-AD8F-C0965212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A8A2-8A17-4F23-B513-D9EE8BF5F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A94D-CF59-4D2B-A253-4F0785525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29D4-AF3D-483B-9663-42D6C9B0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378080"/>
            <a:ext cx="2133720" cy="10152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447920" y="1378080"/>
            <a:ext cx="7238880" cy="101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999933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D5B18-138F-4CBF-82A6-1D2A21EC0D2B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561960"/>
            <a:ext cx="152640" cy="10666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1000" y="1000"/>
                </a:moveTo>
                <a:lnTo>
                  <a:pt x="0" y="1000"/>
                </a:ln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263080" y="270000"/>
            <a:ext cx="152280" cy="107316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0"/>
                </a:moveTo>
                <a:lnTo>
                  <a:pt x="1000" y="0"/>
                </a:lnTo>
                <a:lnTo>
                  <a:pt x="1000" y="1000"/>
                </a:lnTo>
                <a:lnTo>
                  <a:pt x="0" y="1000"/>
                </a:lnTo>
              </a:path>
            </a:pathLst>
          </a:custGeom>
          <a:noFill/>
          <a:ln w="7632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CE81-C4BB-4EB9-A13C-1E0034239D48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0" y="914400"/>
            <a:ext cx="8686800" cy="2514600"/>
            <a:chOff x="0" y="914400"/>
            <a:chExt cx="8686800" cy="2514600"/>
          </a:xfrm>
        </p:grpSpPr>
        <p:sp>
          <p:nvSpPr>
            <p:cNvPr id="49" name=""/>
            <p:cNvSpPr/>
            <p:nvPr/>
          </p:nvSpPr>
          <p:spPr>
            <a:xfrm>
              <a:off x="228600" y="914400"/>
              <a:ext cx="2514600" cy="2514600"/>
            </a:xfrm>
            <a:prstGeom prst="ellipse">
              <a:avLst/>
            </a:prstGeom>
            <a:noFill/>
            <a:ln w="1260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1676520"/>
              <a:ext cx="4724280" cy="11430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962520" y="1676520"/>
              <a:ext cx="4724280" cy="1143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09480" y="1523880"/>
              <a:ext cx="228600" cy="144936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1000" y="1000"/>
                  </a:moveTo>
                  <a:lnTo>
                    <a:pt x="0" y="1000"/>
                  </a:lnTo>
                  <a:lnTo>
                    <a:pt x="0" y="0"/>
                  </a:lnTo>
                  <a:lnTo>
                    <a:pt x="1000" y="0"/>
                  </a:lnTo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48720" y="1209600"/>
              <a:ext cx="261720" cy="1371600"/>
            </a:xfrm>
            <a:custGeom>
              <a:avLst/>
              <a:gdLst/>
              <a:ahLst/>
              <a:rect l="l" t="t" r="r" b="b"/>
              <a:pathLst>
                <a:path w="1000" h="1000">
                  <a:moveTo>
                    <a:pt x="0" y="0"/>
                  </a:moveTo>
                  <a:lnTo>
                    <a:pt x="1000" y="0"/>
                  </a:lnTo>
                  <a:lnTo>
                    <a:pt x="1000" y="1000"/>
                  </a:lnTo>
                  <a:lnTo>
                    <a:pt x="0" y="1000"/>
                  </a:lnTo>
                </a:path>
              </a:pathLst>
            </a:custGeom>
            <a:noFill/>
            <a:ln w="7632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4" name="PlaceHolder 4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999933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im.dk/publikationer/government_reform_in_brief/index.htm" TargetMode="External"/><Relationship Id="rId2" Type="http://schemas.openxmlformats.org/officeDocument/2006/relationships/hyperlink" Target="http://www.im.dk/publikationer/government_reform_in_brief/index.htm" TargetMode="External"/><Relationship Id="rId3" Type="http://schemas.openxmlformats.org/officeDocument/2006/relationships/hyperlink" Target="http://www.im.dk/publikationer/government_reform_in_brief/index.htm" TargetMode="External"/><Relationship Id="rId4" Type="http://schemas.openxmlformats.org/officeDocument/2006/relationships/hyperlink" Target="http://www.im.dk/publikationer/government_reform_in_brief/index.htm" TargetMode="External"/><Relationship Id="rId5" Type="http://schemas.openxmlformats.org/officeDocument/2006/relationships/hyperlink" Target="http://www.im.dk/publikationer/government_reform_in_brief/index.htm" TargetMode="External"/><Relationship Id="rId6" Type="http://schemas.openxmlformats.org/officeDocument/2006/relationships/hyperlink" Target="http://www.im.dk/publikationer/government_reform_in_brief/index.htm" TargetMode="External"/><Relationship Id="rId7" Type="http://schemas.openxmlformats.org/officeDocument/2006/relationships/hyperlink" Target="http://www.im.dk/publikationer/government_reform_in_brief/index.htm" TargetMode="External"/><Relationship Id="rId8" Type="http://schemas.openxmlformats.org/officeDocument/2006/relationships/hyperlink" Target="http://www.im.dk/publikationer/government_reform_in_brief/index.htm" TargetMode="External"/><Relationship Id="rId9" Type="http://schemas.openxmlformats.org/officeDocument/2006/relationships/hyperlink" Target="http://www.im.dk/publikationer/government_reform_in_brief/index.htm" TargetMode="External"/><Relationship Id="rId10" Type="http://schemas.openxmlformats.org/officeDocument/2006/relationships/hyperlink" Target="http://www.im.dk/publikationer/government_reform_in_brief/index.htm" TargetMode="External"/><Relationship Id="rId11" Type="http://schemas.openxmlformats.org/officeDocument/2006/relationships/hyperlink" Target="http://www.im.dk/publikationer/government_reform_in_brief/index.htm" TargetMode="External"/><Relationship Id="rId12" Type="http://schemas.openxmlformats.org/officeDocument/2006/relationships/hyperlink" Target="http://www.im.dk/publikationer/government_reform_in_brief/index.htm" TargetMode="External"/><Relationship Id="rId13" Type="http://schemas.openxmlformats.org/officeDocument/2006/relationships/hyperlink" Target="http://www.im.dk/publikationer/government_reform_in_brief/index.htm" TargetMode="External"/><Relationship Id="rId14" Type="http://schemas.openxmlformats.org/officeDocument/2006/relationships/hyperlink" Target="http://www.im.dk/publikationer/government_reform_in_brief/index.htm" TargetMode="External"/><Relationship Id="rId1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1442520"/>
            <a:ext cx="7086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Arial"/>
              </a:rPr>
              <a:t>Reformy veřejné správy a jejich cí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3995640" y="3789000"/>
            <a:ext cx="392904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Ing. David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Špaček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VVSU - Přednáška č. 2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371520" indent="-371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Charta základních práv Evropské unie (2000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rávo na dobrou správu (čl. 41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rávo každé osoby na to, aby bylo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o jeho záležitostech rozhodováno institucemi a orgán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Unie: - nestranně, - spravedlivě a - v přiměřené lhůtě.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- právo každého být slyšen před přijetím konkrétníh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opatření, které by se ho mohlo nepříznivě dotknout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- právo každého na přístup k dokumentům o něm, a to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při respektování oprávněných zájmů důvěrnosti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 profesního a obchodního tajemství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- povinnost správních orgánů odůvodňovat svá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rozhodnutí.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rávo na náhradu škody způsobenou institucemi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ES nebo jejich zaměstnanc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European Governance - a white pap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EK 2001)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cíle reforem institucí 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s důrazem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na participaci a posílení důvěry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5 principů dobrého vládnutí -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"každý je důležitý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  pro vytváření demokratičtějšího vládnutí“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"každý lze 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000" spc="-1" strike="noStrike">
                <a:solidFill>
                  <a:srgbClr val="292929"/>
                </a:solidFill>
                <a:latin typeface="Arial"/>
              </a:rPr>
              <a:t>      aplikovat na veřejnou správu obecně"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o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tevře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komunikace o úkolech srozumitelným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jazyke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articipace - 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od koncepce až po implementaci 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 politiky, národní vlády mají zajistit "inkluzivní" přístup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kultura dialogu a konzultací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29840" indent="-429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European Governance - a white paper*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odpovědnost 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řetelnější objasnění rolí institucí ES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členských států a všech zúčastněných v procesu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D-M a P-M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,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účinnost </a:t>
            </a:r>
            <a:r>
              <a:rPr b="0" lang="cs-CZ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"Politiky mají být účinně a včasné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směřující k dosažení potřebného na základě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jasných cílů, vyhodnocování budoucích dopadů,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tam kde je to možné, i na základě dosavadních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 zkušeností",</a:t>
            </a:r>
            <a:br>
              <a:rPr sz="20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44520" indent="-344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Smlouva o ústavě pro Evropu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čl. I-46 - "princip zastupitelské demokracie":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každý občan právo podílet se na demokratickém životě Unie,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přičemž rozhodnutí jsou přijímána co nejotevřeněji a co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nejblíže občanům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b) čl. I-47 - "princip participativní demokracie":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orgány dávají vhodnými způsoby občanům a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reprezentativním sdružením možnost projevovat a veřejně si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vyměňovat své názory na všechny oblasti života Unie, a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udržují otevřený, transparentní a pravidelný dialog </a:t>
            </a:r>
            <a:br>
              <a:rPr sz="1800"/>
            </a:b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1800" spc="-1" strike="noStrike">
                <a:solidFill>
                  <a:srgbClr val="292929"/>
                </a:solidFill>
                <a:latin typeface="Arial"/>
              </a:rPr>
              <a:t>     s reprezentativními sdruženími a s občanskou společností</a:t>
            </a:r>
            <a:br>
              <a:rPr sz="18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c) čl. I-50 - "transparentnost jednání orgánů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  institucí a jiných subjektů Unie" - FOI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3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Smlouva o ústavě pro Evropu*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část II - Charta základních práv </a:t>
            </a:r>
            <a:br>
              <a:rPr sz="2400"/>
            </a:b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    - článek II-101 - právo na dobrou správu</a:t>
            </a:r>
            <a:r>
              <a:rPr b="0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e) článek III-398: "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při plnění svých úkolů se orgány,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   instituce a jiné subjekty Unie opírají o otevřenou,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pl-PL" sz="2000" spc="-1" strike="noStrike">
                <a:solidFill>
                  <a:srgbClr val="292929"/>
                </a:solidFill>
                <a:latin typeface="Arial"/>
              </a:rPr>
              <a:t>     efektivní a nezávislou evropskou správu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48960" y="1557000"/>
            <a:ext cx="766116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13200" indent="-31320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4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ECD 2005: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Modernising government </a:t>
            </a:r>
            <a:br>
              <a:rPr sz="2400"/>
            </a:b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292929"/>
                </a:solidFill>
                <a:latin typeface="Arial"/>
              </a:rPr>
              <a:t>- the way forward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opět principy good governanc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růhlednost a odpovědnost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b) spravedlnost a rovnost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c) efektivnost a účinnost,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d) respektování zásady rule of law a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e) vysoký standard etického chování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důraz na otevřenost </a:t>
            </a:r>
            <a:r>
              <a:rPr b="0" lang="pl-PL" sz="24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"open government =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cleaner government": 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- DIMENZE OTEVŘENOSTI: průhlednost,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přistupitelnost + schopnost reagovat na potřeby 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český výraz efektivnost souvisí s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effectivenes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a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efficiency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FFICIENCY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chopnost produkovat požadované výsledky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ři minimálním vynaložení zdrojů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schopnost dobře pracovat a produkova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obré výsledky s co možná nejúčinnějším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the most effective wa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) využitím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ostupného času, peněz, dodávek atd.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KOMBINACE „ECONOMY“ A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  „EFFECTIVENESS“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EFEKTIVNOST ALOK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(PARETO EFEKTIVNOST)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dané ekonomické uspořádání je efektivn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okud nemůže nastat změna, při níž by někdo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ískal, aniž by přitom někdo nebo někteří ji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tratili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unger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nalyzing Polic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„efficient“ pokud a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jenom pokud neexistuje jiná lepší alternativní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   alokace stejných zdrojů</a:t>
            </a:r>
            <a:br>
              <a:rPr sz="20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TECHNICKÁ EFEKTIVNOST (efektivnost X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ztahuje se k nabídce veřejného sektoru: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„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Bez ohledu na to, zda veřejný sektor produkuje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optimální úroveň a kombinaci veřejných služeb,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ptáme se: Jsou tyto služby produkovány s 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400" spc="-1" strike="noStrike">
                <a:solidFill>
                  <a:srgbClr val="292929"/>
                </a:solidFill>
                <a:latin typeface="Arial"/>
              </a:rPr>
              <a:t>minimálními náklady? Je úroveň veřejné zaměstnanosti příliš vysoká? Jsou používány ty nejlepší postupy a nejefektivnější technologie?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aby proces produkce neplýtval zdroji a aby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ámci tohoto procesu byla využita nejlepší dostupná technologi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e VEŘEJNÉ EKONOMII 2 POJETÍ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TECHNICKÁ EFEKTIVNOST (efektivnost X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200" spc="-1" strike="noStrike">
                <a:solidFill>
                  <a:srgbClr val="292929"/>
                </a:solidFill>
                <a:latin typeface="Arial"/>
              </a:rPr>
              <a:t>Leibensteinovská X-neefektivnost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v organizacích spravovaných státem často ztráta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na efektivnosti v důsledku toho, že management nemá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motivaci efektivně řídit v oblasti nákladů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produkční náklady nejsou závislé jen na použité  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technologii, ale rovněž i na úsilí organizace snižova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náklady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- dojde k snížení nákladů o jednotku v organizaci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veřejného sektoru, pak se sníží celkový rozpočet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o jednotku, což může ale být byrokraty považováno 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  za snížení významu dané organizace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Obsah přednáš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1. Předmět reformy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2. Vymezení reformy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3. Hodnotový rámec současných reforem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4. Efektivno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5. Možné nedostatky reforem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292929"/>
                </a:solidFill>
                <a:latin typeface="Arial"/>
              </a:rPr>
              <a:t>6. Rozsah a meze dosavadních reforem V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4. Efektiv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48960" y="1700280"/>
            <a:ext cx="766116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Máša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„Jakoukoliv činnost lze považovat za efektivní, jestliže zajišťuje maximální plnění úkolů při minimálním využití prostředků (nákladů v širokém smyslu).“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Strecková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„Efektivnost každého jevu či procesu je vždy výsledkem vztahu mezi velikostí výstupů, vkládaných do realizace tohoto jevu či procesu, a velikostí výstupů, které z realizace tohoto jevu vychází.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ovlivněna racionalitou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</a:t>
            </a:r>
            <a:br>
              <a:rPr sz="2200"/>
            </a:br>
            <a:r>
              <a:rPr b="0" i="1" lang="cs-CZ" sz="2200" spc="-1" strike="noStrike">
                <a:solidFill>
                  <a:srgbClr val="292929"/>
                </a:solidFill>
                <a:latin typeface="Arial"/>
              </a:rPr>
              <a:t>Hendrych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: efektivnost jako míra racionálního chování při uskutečňování zamýšlených cílů v daných podmínkách a čase: „Míra racionality se vztahuje především k výběru prostředků a zdrojů zabezpečujících dosahování konkrétních cílů.“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-402840">
              <a:spcBef>
                <a:spcPts val="550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racionalita ovlivněna </a:t>
            </a:r>
            <a:r>
              <a:rPr b="0" lang="cs-CZ" sz="2200" spc="-1" strike="noStrike" u="sng">
                <a:solidFill>
                  <a:srgbClr val="292929"/>
                </a:solidFill>
                <a:uFillTx/>
                <a:latin typeface="Arial"/>
              </a:rPr>
              <a:t>analýzou poptávky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5. Možné nedostatky ref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Vidláková: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Špatný start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především nedostatek informací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č. historického kontextu = neracionál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Imitace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(institucionální xerox)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, nikoli inovace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právná diagnóza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a nesplnitelnost cílů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4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rozhodný přístup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reformátor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5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Chyby v plánová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6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dostatek zpětné vazby a monitorování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7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Neschopnost disponovat zdroji a inter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podpor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dle teorie tři skupiny států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vyspělé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evropské a zámořské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země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2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země středo- a východoevropské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3)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rozvojové země afrického, jihoamerického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asijského kontinent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ozdíly v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) charakter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postupu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... xyz) reforem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= dílčí zdokonalování vs. kompletní transformac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402840" indent="-402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1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nižování nákladů na veřejnou správu, nebo některo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její část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dokonalování struktury rozhodování cestou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entralizace nebo naopak decentralizace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dekoncentrace rozhodovacích pravomocí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posilování služebnosti správy a jejího sbližování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 občany (demokratizace)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vádění nových metod, technik a pracovních postupů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za účelem 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a) lepšího chodu veřejné správy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b) dokonalejší interakce jejich organizačních složek,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c) přípravy a odborné úrovně zaměstnanců veřejné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  správa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02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367200" indent="-36720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Hesse: 4 fáze reformního procesu v CEEC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728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Transform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starého právního, politického 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ekonomického řádu ve formování nových institucí a struktur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(př. pluralitní politický systém, svobodné volby, revize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obsahu veřejného sektoru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Konsolid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= růst politické stability umožňující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systematický přístup k deetatizaci, privatizaci a tržnímu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hospodářstv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Moderniz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= nalezení odpovídajícího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institucionálního uspořádání a nejlepší možné praxe veřejné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moci ve všech úrovních a ve všech odvětvích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d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daptace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= přizpůsobení se pojetí výkonného státu a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tlaku v souvislosti s přípravou na členství v Evropské unii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367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49320" y="1773000"/>
            <a:ext cx="74390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ořádání se s negativy předchozího období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rychlost reforem </a:t>
            </a:r>
            <a:r>
              <a:rPr b="0" lang="cs-CZ" sz="20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problémy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ústřední s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koordinace a soudržnosti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stability a kontinuity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v kapacitách v oblasti tvorby politiky,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edostatek v řídících kapacitách,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labý mechanismus zodpovědnosti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-42516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vypořádání se s negativy předchozího období*</a:t>
            </a:r>
            <a:br>
              <a:rPr sz="20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ve vztahu mezi centrem a místní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amosprávo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 definovat ideální velikost základních územní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samosprávných celků?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Rozdělení funkcí mezi ústřední státní správu a míst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samospráv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Oddělení krajského/obecního majetku od majetku státu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 dosáhnout rovnováhy mezi finanční nezávislost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místních samosprávných orgánů na jedné straně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kontrolou veřejných deficitů na straně druhé?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Jak definovat vztahy mezi místní státní správou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místními samosprávnými orgány.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Hledání nové všeobecné rovnováhy mezi ústřední stát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správou a místní samosprávou.</a:t>
            </a:r>
            <a:br>
              <a:rPr sz="20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6. Rozsah a meze dosavadní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49320" y="1628280"/>
            <a:ext cx="74390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tendence v 2)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3200"/>
            </a:b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ŘÍŠTĚ: ČESKÁ REPUBLIKA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Ú na příští seminá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ole mezinárodních a nadnárodních organizací 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 reformě VS (včetně ECHMS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které a jak</a:t>
            </a:r>
            <a:br>
              <a:rPr sz="24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droj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: www různých organizac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I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Výzvy reformy s ohledem na územní veřejnou správu</a:t>
            </a:r>
            <a:br>
              <a:rPr sz="24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droj: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Effective democratic governance at local and regional level  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(především str. 119 - 131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Mastering Decentralization and PA reform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Decentralization in CEE Countries: Obstacles and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Opportunities (Davey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- Removing Obstacles to Effective Decentralization (Verheije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389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DÚ na příští seminá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48960" y="1628280"/>
            <a:ext cx="76611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25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II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Reforma veřejné správy a její plány v Maďarsku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1" lang="cs-CZ" sz="1800" spc="-1" strike="noStrike">
                <a:solidFill>
                  <a:srgbClr val="292929"/>
                </a:solidFill>
                <a:latin typeface="Arial"/>
              </a:rPr>
              <a:t>zdroj: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Public administration reform plans in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ungary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292929"/>
                </a:solidFill>
                <a:latin typeface="Arial"/>
              </a:rPr>
              <a:t>2003-2006)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 Public administration reform in Hungary (Attila Ágh)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c) Politicians, Bureaucrats and Administration Reform in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Hungary: Who stops Whom? (László Vás)</a:t>
            </a:r>
            <a:br>
              <a:rPr sz="1800"/>
            </a:b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IV) Cíle reformy municipální veřejné správy v Dánsk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droj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Administrative reform in EU countries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b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2"/>
              </a:rPr>
              <a:t>im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4"/>
              </a:rPr>
              <a:t>dk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6"/>
              </a:rPr>
              <a:t>publikationer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8"/>
              </a:rPr>
              <a:t>government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9"/>
              </a:rPr>
              <a:t>_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0"/>
              </a:rPr>
              <a:t>reform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1"/>
              </a:rPr>
              <a:t>_in_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2"/>
              </a:rPr>
              <a:t>brief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3"/>
              </a:rPr>
              <a:t>/index.</a:t>
            </a:r>
            <a:r>
              <a:rPr b="0" lang="cs-CZ" sz="1600" spc="-1" strike="noStrike" u="sng">
                <a:solidFill>
                  <a:srgbClr val="999933"/>
                </a:solidFill>
                <a:uFillTx/>
                <a:latin typeface="Arial"/>
                <a:hlinkClick r:id="rId14"/>
              </a:rPr>
              <a:t>htm</a:t>
            </a:r>
            <a:r>
              <a:rPr b="0" lang="cs-CZ" sz="1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 marL="425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1. Předmět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87480" y="2133720"/>
            <a:ext cx="696924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.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5840" indent="-375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REFORM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ěco zlepšit, zdokonalit nebo odstranit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problémy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mnoho aspektů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cs-CZ" sz="2000" spc="-1" strike="noStrike" u="sng">
                <a:solidFill>
                  <a:srgbClr val="292929"/>
                </a:solidFill>
                <a:uFillTx/>
                <a:latin typeface="Arial"/>
              </a:rPr>
              <a:t>politický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, právní, institucionální, technický, finanční,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sociální, psychologický ...)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centralizace vs. dekoncentrace a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decentralizac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fáze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teoretická vs. praktická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řípravy vs. realizace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o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 rozsahu a zaměření rozhoduje veřejnou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volbou přijatá </a:t>
            </a:r>
            <a:r>
              <a:rPr b="0" lang="pl-PL" sz="2600" spc="-1" strike="noStrike" u="sng">
                <a:solidFill>
                  <a:srgbClr val="292929"/>
                </a:solidFill>
                <a:uFillTx/>
                <a:latin typeface="Arial"/>
              </a:rPr>
              <a:t>strategie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(existuje?)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2. Vymezení reformy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93840" indent="-393840">
              <a:spcBef>
                <a:spcPts val="64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92929"/>
                </a:solidFill>
                <a:latin typeface="Arial"/>
              </a:rPr>
              <a:t>Doporučení Caidena</a:t>
            </a: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 - </a:t>
            </a:r>
            <a:r>
              <a:rPr b="0" lang="pl-PL" sz="2600" spc="-1" strike="noStrike">
                <a:solidFill>
                  <a:srgbClr val="292929"/>
                </a:solidFill>
                <a:latin typeface="Arial"/>
              </a:rPr>
              <a:t>neopomenout</a:t>
            </a:r>
            <a:br>
              <a:rPr sz="2600"/>
            </a:br>
            <a:r>
              <a:rPr b="1" lang="pl-PL" sz="26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1" lang="fr-FR" sz="2600" spc="-1" strike="noStrike">
                <a:solidFill>
                  <a:srgbClr val="292929"/>
                </a:solidFill>
                <a:latin typeface="Arial"/>
              </a:rPr>
              <a:t>správní reforma se týká správní stránk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toho 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jak vykonat věci, které byly rozhodnuty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politik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- "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I když může zlepšit politické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rozhodování, nemůže zvrátit politická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rozhodnut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  <a:p>
            <a:pPr marL="3938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2) správní reforma prostředkem k dalším 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600" spc="-1" strike="noStrike">
                <a:solidFill>
                  <a:srgbClr val="292929"/>
                </a:solidFill>
                <a:latin typeface="Arial"/>
              </a:rPr>
              <a:t>změnám 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=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r>
              <a:rPr b="0" i="1" lang="fr-FR" sz="2600" spc="-1" strike="noStrike">
                <a:solidFill>
                  <a:srgbClr val="292929"/>
                </a:solidFill>
                <a:latin typeface="Arial"/>
              </a:rPr>
              <a:t>politické, ekonomické a institucionální </a:t>
            </a: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292929"/>
                </a:solidFill>
                <a:latin typeface="Arial"/>
              </a:rPr>
              <a:t>reformy mohou být jen zřídka úspěšné </a:t>
            </a:r>
            <a:br>
              <a:rPr sz="2600"/>
            </a:br>
            <a:r>
              <a:rPr b="0" i="1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i="1" lang="fr-FR" sz="2600" spc="-1" strike="noStrike">
                <a:solidFill>
                  <a:srgbClr val="292929"/>
                </a:solidFill>
                <a:latin typeface="Arial"/>
              </a:rPr>
              <a:t>bez správní reformy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"</a:t>
            </a:r>
            <a:endParaRPr b="0" lang="en-US" sz="26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499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NPM a GG </a:t>
            </a:r>
            <a:r>
              <a:rPr b="0" lang="cs-CZ" sz="2600" spc="-1" strike="noStrike">
                <a:solidFill>
                  <a:srgbClr val="292929"/>
                </a:solidFill>
                <a:latin typeface="Symbol"/>
                <a:ea typeface="Symbol"/>
              </a:rPr>
              <a:t>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cs-CZ" sz="2600" spc="-1" strike="noStrike" u="sng">
                <a:solidFill>
                  <a:srgbClr val="292929"/>
                </a:solidFill>
                <a:uFillTx/>
                <a:latin typeface="Arial"/>
              </a:rPr>
              <a:t>PRINCIPY VS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: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a) principy </a:t>
            </a:r>
            <a:r>
              <a:rPr b="0" lang="pt-BR" sz="2600" spc="-1" strike="noStrike">
                <a:solidFill>
                  <a:srgbClr val="292929"/>
                </a:solidFill>
                <a:latin typeface="Arial"/>
              </a:rPr>
              <a:t>ideální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základní zásady (čím legitimované?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ideový rámec reformátorům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hodnotový základ vzorců chování úředníků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normativní charakter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souvisí s dynamikou VS (sebereformování) a 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  společnosti (tlaky k reformě)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- backoffice a frontoffice</a:t>
            </a:r>
            <a:br>
              <a:rPr sz="2000"/>
            </a:br>
            <a:r>
              <a:rPr b="0" lang="cs-CZ" sz="20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b) principy reálného fungování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200"/>
            </a:b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292929"/>
                </a:solidFill>
                <a:latin typeface="Arial"/>
              </a:rPr>
              <a:t>(blíže později - byrokracie, korupce ...)</a:t>
            </a:r>
            <a:endParaRPr b="0" lang="en-US" sz="2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98520" indent="-398520">
              <a:spcBef>
                <a:spcPts val="45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92929"/>
                </a:solidFill>
                <a:latin typeface="Arial"/>
              </a:rPr>
              <a:t>ideální principy VS činností</a:t>
            </a:r>
            <a:br>
              <a:rPr sz="32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výsledkem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správně-právní globalizace ("EAS"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- souvisí s prvníma dvěma 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fázemi aproximace </a:t>
            </a:r>
            <a:br>
              <a:rPr sz="2400"/>
            </a:b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  práva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Pomahače: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harmonizační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důraz na sbližování a sladění různorodých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ávních postupů a kritérií</a:t>
            </a:r>
            <a:br>
              <a:rPr sz="18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292929"/>
                </a:solidFill>
                <a:latin typeface="Arial"/>
              </a:rPr>
              <a:t>b) </a:t>
            </a:r>
            <a:r>
              <a:rPr b="1" lang="fr-FR" sz="2400" spc="-1" strike="noStrike">
                <a:solidFill>
                  <a:srgbClr val="292929"/>
                </a:solidFill>
                <a:latin typeface="Arial"/>
              </a:rPr>
              <a:t>standardiz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výběr a doporučení adekvátních vzorů a princi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) unifikační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=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propojení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a)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 cílem vytváření vyšších typů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ovací nejen </a:t>
            </a:r>
            <a:br>
              <a:rPr sz="1800"/>
            </a:b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 právním řádu jako takovém, ale i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ve způsobech jeho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mplementace v rozdílném socioekonomickém, politickém a 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institucionálním prostředí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OECD: SIGMA 1999 - 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European principles for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Public Administration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principy: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) spolehlivost a předpověditelnost (právní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jistota) činností veřejné správ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(vč. nediskriminace, včasnosti,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profesionálnost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b) otevřenost a průhlednost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O - zpřístupnění (ne)činnosti vnější kontrole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P - možnost "see through" v rámci otevřenosti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000000"/>
                </a:solidFill>
                <a:latin typeface="Arial"/>
              </a:rPr>
              <a:t>3. Hodnotový rámec současných reforem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48960" y="1773000"/>
            <a:ext cx="7661160" cy="432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89520" indent="-389520">
              <a:spcBef>
                <a:spcPts val="601"/>
              </a:spcBef>
              <a:buClr>
                <a:srgbClr val="cc99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EVROPSKÉ SEZNAMY PRINCIPŮ VEŘEJNÉ SPRÁVY</a:t>
            </a:r>
            <a:r>
              <a:rPr b="0" lang="fr-FR" sz="26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6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6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OECD: 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European principles for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Public 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1" i="1" lang="fr-FR" sz="2400" spc="-1" strike="noStrike">
                <a:solidFill>
                  <a:srgbClr val="292929"/>
                </a:solidFill>
                <a:latin typeface="Arial"/>
              </a:rPr>
              <a:t>Administration</a:t>
            </a:r>
            <a:r>
              <a:rPr b="1" i="1" lang="cs-CZ" sz="2400" spc="-1" strike="noStrike">
                <a:solidFill>
                  <a:srgbClr val="292929"/>
                </a:solidFill>
                <a:latin typeface="Arial"/>
              </a:rPr>
              <a:t> (SIGMA 1999)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základní principy:*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c</a:t>
            </a: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)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dpovědnost = povinnost vysvětlit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ospravedlnit svou činnost subjektu jinému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) efektivnost a účinnost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E = „specifická dimenze odpovědnosti“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   = "good ratio" mezi zapojenými zdroji a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dosaženými výsledky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br>
              <a:rPr sz="2400"/>
            </a:b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   Ú = úspěšné dosahování stanovených cílů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7:17:08Z</dcterms:created>
  <dc:creator>77120</dc:creator>
  <dc:description/>
  <dc:language>en-US</dc:language>
  <cp:lastModifiedBy>77120</cp:lastModifiedBy>
  <dcterms:modified xsi:type="dcterms:W3CDTF">2006-09-27T07:55:46Z</dcterms:modified>
  <cp:revision>94</cp:revision>
  <dc:subject/>
  <dc:title>Snímek 1</dc:title>
</cp:coreProperties>
</file>