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362-4B33-47B5-852F-C3B26AEE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7E5-E73E-42A9-9F67-CD47FBB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739-AD85-4045-B3F7-6CFBA2E7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47A-0EF6-4197-BDEF-F74819E8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BEB8-7640-4F8E-9072-43EE3BB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9E22-13E5-495E-84B0-0C2E106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94BD-68E4-4914-B090-3618F65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4F81-806F-409C-8129-0F6575D2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27F-2AD3-4D37-9551-D9568961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5D5-6DD3-416B-8E95-F2991081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0382-C2BF-40ED-9A8D-00E058B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BC0-E606-4343-8579-9575BE3C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ADD1-4039-4F0E-8521-A4F8D50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F524-6454-4C0C-B732-A28C548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E771-A945-4520-A1B3-AFC427F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562-C4D9-492F-A099-C9525F38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B63-1328-407A-B544-569C4BD5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333-27D6-49E9-B35D-673B15D6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564-DE2F-49D3-9444-ECA5536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28E-996B-4021-B51F-52A9F82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CDA-635A-4F50-91E8-1F872E4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B48-29D1-4D4A-97F7-84995B9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0DB-9244-4ABC-8A65-696E389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FF4-214C-42A9-89D7-B4A5876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104-5ADF-49A5-9968-E44C7E2DBB99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438-EBF3-48EB-AEA3-11FFED95A808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m.dk/publikationer/government_reform_in_brief/index.htm" TargetMode="External"/><Relationship Id="rId2" Type="http://schemas.openxmlformats.org/officeDocument/2006/relationships/hyperlink" Target="http://www.im.dk/publikationer/government_reform_in_brief/index.htm" TargetMode="External"/><Relationship Id="rId3" Type="http://schemas.openxmlformats.org/officeDocument/2006/relationships/hyperlink" Target="http://www.im.dk/publikationer/government_reform_in_brief/index.htm" TargetMode="External"/><Relationship Id="rId4" Type="http://schemas.openxmlformats.org/officeDocument/2006/relationships/hyperlink" Target="http://www.im.dk/publikationer/government_reform_in_brief/index.htm" TargetMode="External"/><Relationship Id="rId5" Type="http://schemas.openxmlformats.org/officeDocument/2006/relationships/hyperlink" Target="http://www.im.dk/publikationer/government_reform_in_brief/index.htm" TargetMode="External"/><Relationship Id="rId6" Type="http://schemas.openxmlformats.org/officeDocument/2006/relationships/hyperlink" Target="http://www.im.dk/publikationer/government_reform_in_brief/index.htm" TargetMode="External"/><Relationship Id="rId7" Type="http://schemas.openxmlformats.org/officeDocument/2006/relationships/hyperlink" Target="http://www.im.dk/publikationer/government_reform_in_brief/index.htm" TargetMode="External"/><Relationship Id="rId8" Type="http://schemas.openxmlformats.org/officeDocument/2006/relationships/hyperlink" Target="http://www.im.dk/publikationer/government_reform_in_brief/index.htm" TargetMode="External"/><Relationship Id="rId9" Type="http://schemas.openxmlformats.org/officeDocument/2006/relationships/hyperlink" Target="http://www.im.dk/publikationer/government_reform_in_brief/index.htm" TargetMode="External"/><Relationship Id="rId10" Type="http://schemas.openxmlformats.org/officeDocument/2006/relationships/hyperlink" Target="http://www.im.dk/publikationer/government_reform_in_brief/index.htm" TargetMode="External"/><Relationship Id="rId11" Type="http://schemas.openxmlformats.org/officeDocument/2006/relationships/hyperlink" Target="http://www.im.dk/publikationer/government_reform_in_brief/index.htm" TargetMode="External"/><Relationship Id="rId12" Type="http://schemas.openxmlformats.org/officeDocument/2006/relationships/hyperlink" Target="http://www.im.dk/publikationer/government_reform_in_brief/index.htm" TargetMode="External"/><Relationship Id="rId13" Type="http://schemas.openxmlformats.org/officeDocument/2006/relationships/hyperlink" Target="http://www.im.dk/publikationer/government_reform_in_brief/index.htm" TargetMode="External"/><Relationship Id="rId14" Type="http://schemas.openxmlformats.org/officeDocument/2006/relationships/hyperlink" Target="http://www.im.dk/publikationer/government_reform_in_brief/index.htm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formy veřejné správy a jejich cí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5640" y="3789000"/>
            <a:ext cx="3929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VVSU - Přednáška č. 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1520" indent="-371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Charta základních práv Evropské unie (2000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rávo na dobrou správu (čl. 41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ávo každé osoby na to, aby byl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o jeho záležitostech rozhodováno institucemi a orgá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Unie: - nestranně, - spravedlivě a - v přiměřené lhůtě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- právo každého být slyšen před přijetím konkrétníh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opatření, které by se ho mohlo nepříznivě dotknout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právo každého na přístup k dokumentům o něm, a t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při respektování oprávněných zájmů důvěrnosti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profesního a obchodního tajemství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povinnost správních orgánů odůvodňovat svá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rozhodnut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rávo na náhradu škody způsobenou institucem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ES nebo jejich zaměstnanc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uropean Governance - a white pap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EK 2001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cíle reforem institucí 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důraz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na participaci a posílení důvěr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5 principů dobrého vládnutí -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"každý je důležitý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  pro vytváření demokratičtějšího vládnutí“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"každý lz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  aplikovat na veřejnou správu obecně"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o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tevře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ace o úkolech srozumitelný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jazyk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articipace -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od koncepce až po implementaci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 politiky, národní vlády mají zajistit "inkluzivní" přístup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kultura dialogu a konzult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uropean Governance - a white paper*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odpovědnost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řetelnější objasnění rolí institucí ES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členských států a všech zúčastněných v proces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D-M a P-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účinnost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Politiky mají být účinně a včasné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směřující k dosažení potřebného na základě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jasných cílů, vyhodnocování budoucích dopadů,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tam kde je to možné, i na základě dosavadn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zkušeností",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-344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Smlouva o ústavě pro Evrop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čl. I-46 - "princip zastupitelské demokracie":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každý občan právo podílet se na demokratickém životě Unie,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přičemž rozhodnutí jsou přijímána co nejotevřeněji a co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nejblíže občanům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b) čl. I-47 - "princip participativní demokracie":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orgány dávají vhodnými způsoby občanům a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reprezentativním sdružením možnost projevovat a veřejně si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vyměňovat své názory na všechny oblasti života Unie, a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udržují otevřený, transparentní a pravidelný dialog </a:t>
            </a:r>
            <a:br>
              <a:rPr sz="18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s reprezentativními sdruženími a s občanskou společností</a:t>
            </a:r>
            <a:br>
              <a:rPr sz="18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c) čl. I-50 - "transparentnost jednání orgánů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institucí a jiných subjektů Unie" - FOI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Smlouva o ústavě pro Evropu*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část II - Charta základních práv </a:t>
            </a:r>
            <a:br>
              <a:rPr sz="24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- článek II-101 - právo na dobrou správu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e) článek III-398: "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při plnění svých úkolů se orgány,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   instituce a jiné subjekty Unie opírají o otevřenou,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   efektivní a nezávislou evropskou správu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13200" indent="-31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ECD 2005: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Modernising government </a:t>
            </a:r>
            <a:br>
              <a:rPr sz="2400"/>
            </a:b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- the way forward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opět principy good governanc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růhlednost a odpověd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b) spravedlnost a rov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c) efektivnost a účinnost,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d) respektování zásady rule of law a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e) vysoký standard etického chování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důraz na otevřenost </a:t>
            </a:r>
            <a:r>
              <a:rPr b="0" lang="pl-PL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"open government =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cleaner government":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DIMENZE OTEVŘENOSTI: průhled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řistupitelnost + schopnost reagovat na potřeby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český výraz efektivnost souvisí s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effectivenes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efficienc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FFICIENCY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chopnost produkovat požadované výsledky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ři minimálním vynaložení zdrojů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chopnost dobře pracovat a produkova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obré výsledky s co možná nejúčinnějším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the most effective wa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) využitím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ostupného času, peněz, dodávek atd.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KOMBINACE „ECONOMY“ A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„EFFECTIVENESS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EFEKTIVNOST ALOK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PARETO EFEKTIVNOST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dané ekonomické uspořádání je efektivn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kud nemůže nastat změna, při níž by někd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ískal, aniž by přitom někdo nebo někteří ji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trati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ung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alyzing Polic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„efficient“ pokud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jenom pokud neexistuje jiná lepší alternativn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alokace stejných zdrojů</a:t>
            </a:r>
            <a:br>
              <a:rPr sz="20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TECHNICKÁ EFEKTIVNOST (efektivnost X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uje se k nabídce veřejného sektoru: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Bez ohledu na to, zda veřejný sektor produkuje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optimální úroveň a kombinaci veřejných služeb,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táme se: Jsou tyto služby produkovány s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minimálními náklady? Je úroveň veřejné zaměstnanosti příliš vysoká? Jsou používány ty nejlepší postupy a nejefektivnější technologie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aby proces produkce neplýtval zdroji a ab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tohoto procesu byla využita nejlepší dostupná technologi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TECHNICKÁ EFEKTIVNOST (efektivnost X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Leibensteinovská X-neefektiv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organizacích spravovaných státem často ztrá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na efektivnosti v důsledku toho, že management nemá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tivaci efektivně řídit v oblasti nákl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dukční náklady nejsou závislé jen na použité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technologii, ale rovněž i na úsilí organizace snižova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nákla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jde k snížení nákladů o jednotku v organiza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řejného sektoru, pak se sníží celkový rozpoče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 jednotku, což může ale být byrokraty považován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a snížení významu dané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sah předná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1. Předmět reformy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2. Vymezení reformy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3. Hodnotový rámec současných reforem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4. Efektivno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5. Možné nedostatky refor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6. Rozsah a meze dosavadních reforem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Máš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„Jakoukoliv činnost lze považovat za efektivní, jestliže zajišťuje maximální plnění úkolů při minimálním využití prostředků (nákladů v širokém smyslu).“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Strecková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„Efektivnost každého jevu či procesu je vždy výsledkem vztahu mezi velikostí výstupů, vkládaných do realizace tohoto jevu či procesu, a velikostí výstupů, které z realizace tohoto jevu vychází.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ovlivněna racionalito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endrych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efektivnost jako míra racionálního chování při uskutečňování zamýšlených cílů v daných podmínkách a čase: „Míra racionality se vztahuje především k výběru prostředků a zdrojů zabezpečujících dosahování konkrétních cílů.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acionalita ovlivněna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nalýzou poptáv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5.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le teorie tři skupiny států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yspěl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vropské a zámořské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emě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emě středo- a východoevropské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ozvojové země afrického, jihoamerického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sijského kontinen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ozdíly v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charakter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ostupu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 xyz) reforem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dílčí zdokonalování vs. kompletní transform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1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nižování nákladů na veřejnou správu, nebo některo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jí část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dokonalování struktury rozhodování cesto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entralizace nebo naopak decentralizace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koncentrace rozhodovacích pravomocí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silování služebnosti správy a jejího sbližo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občany (demokratizace)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vádění nových metod, technik a pracovních postup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účel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lepšího chodu veřejné správ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dokonalejší interakce jejich organizačních složek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řípravy a odborné úrovně zaměstnanců veřej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prá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-367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esse: 4 fáze reformního procesu v CEEC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2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ransform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starého právního, politického 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ekonomického řádu ve formování nových institucí a struktur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(př. pluralitní politický systém, svobodné volby, revize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sahu veřejného sektoru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onsolid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růst politické stability umožňujíc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systematický přístup k deetatizaci, privatizaci a tržním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hospodářstv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nalezení odpovídajícího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institucionálního uspořádání a nejlepší možné praxe veřejné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moci ve všech úrovních a ve všech odvětvích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dapt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přizpůsobení se pojetí výkonného státu 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tlaku v souvislosti s přípravou na členství v Evropské uni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ořádání se s negativy předchozího obdob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ychlost reforem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roblém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ústřední s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koordinace a soudržnosti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stability a kontinuity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v kapacitách v oblasti tvorby politiky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v řídících kapacitách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labý mechanismus zodpověd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ořádání se s negativy předchozího období*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 vztahu mezi centrem a míst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amospráv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efinovat ideální velikost základních územní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amosprávných celků?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Rozdělení funkcí mezi ústřední státní správu a míst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amospráv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Oddělení krajského/obecního majetku od majetku stát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osáhnout rovnováhy mezi finanční nezávislost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místních samosprávných orgánů na jedné straně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kontrolou veřejných deficitů na straně druhé?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efinovat vztahy mezi místní státní správou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místními samosprávnými orgány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Hledání nové všeobecné rovnováhy mezi ústřední stát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právou a místní samosprávou.</a:t>
            </a:r>
            <a:br>
              <a:rPr sz="20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ÍŠTĚ: ČESKÁ REPUBLIK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Ú na příští seminá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ole mezinárodních a nadnárodních organiza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eformě VS (včetně ECHMS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které a jak</a:t>
            </a:r>
            <a:br>
              <a:rPr sz="24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: www různých organizac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ýzvy reformy s ohledem na územní veřejnou správu</a:t>
            </a:r>
            <a:br>
              <a:rPr sz="24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Effective democratic governance at local and regional level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(především str. 119 - 131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Mastering Decentralization and PA reform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ecentralization in CEE Countries: Obstacles and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Opportunities (Dave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Removing Obstacles to Effective Decentralization (Verheij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Ú na příští seminá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I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forma veřejné správy a její plány v Maďarsku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blic administration reform plans in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gary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003-2006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Public administration reform in Hungary (Attila Ágh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Politicians, Bureaucrats and Administration Reform in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Hungary: Who stops Whom? (László Vás)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V) Cíle reformy municipální veřejné správy v Dánsk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droj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Administrative reform in EU countri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im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dk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ublikationer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government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_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eform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_in_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brief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index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htm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1. Předmět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87480" y="2133720"/>
            <a:ext cx="6969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.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.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oporučení Caiden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neopomenout</a:t>
            </a:r>
            <a:br>
              <a:rPr sz="2600"/>
            </a:br>
            <a:r>
              <a:rPr b="1" lang="pl-PL" sz="2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správní reforma se týká správní stránk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toho 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jak vykonat věci, které byly rozhodnuty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politik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- "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I když může zlepšit politické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rozhodování, nemůže zvrátit politická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rozhodnut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2) správní reforma prostředkem k dalším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změnám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politické, ekonomické a institucionální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reformy mohou být jen zřídka úspěšné </a:t>
            </a:r>
            <a:br>
              <a:rPr sz="2600"/>
            </a:b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bez správní reform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OECD: SIGMA 1999 - 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European principles for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Public Administratio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principy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) spolehlivost a předpověditelnost (práv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jistota) činností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č. nediskriminace, včasnosti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fesionálnost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otevřenost a průhled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O - zpřístupnění (ne)činnosti vnější kontrol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P - možnost "see through" v rámci otevřenost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OECD: 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European principles for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Public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Administration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(SIGMA 1999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principy:*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 = povinnost vysvětlit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spravedlnit svou činnost subjektu jiném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efektivnost a účin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E = „specifická dimenze odpovědnosti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= "good ratio" mezi zapojenými zdroji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saženými výsledk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Ú = úspěšné dosahování stanovených cíl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17:08Z</dcterms:created>
  <dc:creator>77120</dc:creator>
  <dc:description/>
  <dc:language>en-US</dc:language>
  <cp:lastModifiedBy>77120</cp:lastModifiedBy>
  <dcterms:modified xsi:type="dcterms:W3CDTF">2006-09-27T07:55:46Z</dcterms:modified>
  <cp:revision>94</cp:revision>
  <dc:subject/>
  <dc:title>Snímek 1</dc:title>
</cp:coreProperties>
</file>