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3EC-E25E-4567-BC72-B7B9B5C8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BF2-EF8D-48A9-B8D9-7DCDB852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695-5629-4883-BEBA-21D3F9FB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695-EC84-4BCE-8953-492A315C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E97B-10CA-492F-893A-B34D5E97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D37E-E4BB-4EDB-AEF3-E72C90F3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8670-6940-4D4A-92A7-2FC8BE98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F7C1-994A-44ED-910D-C10876AC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E71D-22EE-46BA-A0E6-0C824AAF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3406-72F8-4C36-99F8-9F458305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0FE0-5B1A-4E3C-9717-17BFC480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8BE-3000-4755-BD75-344E29FF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4786-BED5-452D-939E-3A316C8B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1801-2693-4772-896B-B3A7DDD7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1282-9CA5-4F91-BD77-454166D4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8CC6-50FF-4827-9901-1740EA1C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D66E-D485-42A6-9544-A025DB8F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E7C-110C-4F3E-93EC-3A75D56D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E14-34AC-4474-A27C-B3AEC13B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28F-29BC-44D3-8C59-D49B7F64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37C-C04A-449E-B4EA-B061FB51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D45-4E4A-4D9C-BA93-AD25B400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B57-F10C-42B3-95B4-2032ED0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1F9-EB1C-4B74-B56D-830F20ED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98CC-235D-4C82-B2B6-4A64E9165D25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96F4-84BE-4983-95A4-2CCE06A6CA87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vcr.cz/sprava/index.html" TargetMode="External"/><Relationship Id="rId2" Type="http://schemas.openxmlformats.org/officeDocument/2006/relationships/hyperlink" Target="http://www.mvcr.cz/sprava/index.html" TargetMode="External"/><Relationship Id="rId3" Type="http://schemas.openxmlformats.org/officeDocument/2006/relationships/hyperlink" Target="http://www.mvcr.cz/sprava/index.html" TargetMode="External"/><Relationship Id="rId4" Type="http://schemas.openxmlformats.org/officeDocument/2006/relationships/hyperlink" Target="http://www.mvcr.cz/sprava/index.html" TargetMode="External"/><Relationship Id="rId5" Type="http://schemas.openxmlformats.org/officeDocument/2006/relationships/hyperlink" Target="http://www.mvcr.cz/sprava/index.html" TargetMode="External"/><Relationship Id="rId6" Type="http://schemas.openxmlformats.org/officeDocument/2006/relationships/hyperlink" Target="http://www.mvcr.cz/sprava/index.html" TargetMode="External"/><Relationship Id="rId7" Type="http://schemas.openxmlformats.org/officeDocument/2006/relationships/hyperlink" Target="http://www.mvcr.cz/sprava/index.html" TargetMode="External"/><Relationship Id="rId8" Type="http://schemas.openxmlformats.org/officeDocument/2006/relationships/hyperlink" Target="http://www.mvcr.cz/sprava/index.html" TargetMode="External"/><Relationship Id="rId9" Type="http://schemas.openxmlformats.org/officeDocument/2006/relationships/hyperlink" Target="http://www.vlada.cz/cs/urad/default.html" TargetMode="External"/><Relationship Id="rId10" Type="http://schemas.openxmlformats.org/officeDocument/2006/relationships/hyperlink" Target="http://www.vlada.cz/cs/urad/default.html" TargetMode="External"/><Relationship Id="rId11" Type="http://schemas.openxmlformats.org/officeDocument/2006/relationships/hyperlink" Target="http://www.vlada.cz/cs/urad/default.html" TargetMode="External"/><Relationship Id="rId12" Type="http://schemas.openxmlformats.org/officeDocument/2006/relationships/hyperlink" Target="http://www.vlada.cz/cs/urad/default.html" TargetMode="External"/><Relationship Id="rId13" Type="http://schemas.openxmlformats.org/officeDocument/2006/relationships/hyperlink" Target="http://www.vlada.cz/cs/urad/default.html" TargetMode="External"/><Relationship Id="rId14" Type="http://schemas.openxmlformats.org/officeDocument/2006/relationships/hyperlink" Target="http://www.vlada.cz/cs/urad/default.html" TargetMode="External"/><Relationship Id="rId15" Type="http://schemas.openxmlformats.org/officeDocument/2006/relationships/hyperlink" Target="http://www.vlada.cz/cs/urad/default.html" TargetMode="External"/><Relationship Id="rId16" Type="http://schemas.openxmlformats.org/officeDocument/2006/relationships/hyperlink" Target="http://www.vlada.cz/cs/urad/default.html" TargetMode="External"/><Relationship Id="rId17" Type="http://schemas.openxmlformats.org/officeDocument/2006/relationships/hyperlink" Target="http://www.vlada.cz/cs/urad/default.html" TargetMode="External"/><Relationship Id="rId18" Type="http://schemas.openxmlformats.org/officeDocument/2006/relationships/hyperlink" Target="http://www.vlada.cz/cs/urad/default.html" TargetMode="External"/><Relationship Id="rId19" Type="http://schemas.openxmlformats.org/officeDocument/2006/relationships/hyperlink" Target="http://www.psp.cz/sqw/hp.sqw?k=30" TargetMode="External"/><Relationship Id="rId20" Type="http://schemas.openxmlformats.org/officeDocument/2006/relationships/hyperlink" Target="http://www.psp.cz/sqw/hp.sqw?k=30" TargetMode="External"/><Relationship Id="rId21" Type="http://schemas.openxmlformats.org/officeDocument/2006/relationships/hyperlink" Target="http://www.psp.cz/sqw/hp.sqw?k=30" TargetMode="External"/><Relationship Id="rId22" Type="http://schemas.openxmlformats.org/officeDocument/2006/relationships/hyperlink" Target="http://www.psp.cz/sqw/hp.sqw?k=30" TargetMode="External"/><Relationship Id="rId23" Type="http://schemas.openxmlformats.org/officeDocument/2006/relationships/hyperlink" Target="http://www.psp.cz/sqw/hp.sqw?k=30" TargetMode="External"/><Relationship Id="rId24" Type="http://schemas.openxmlformats.org/officeDocument/2006/relationships/hyperlink" Target="http://www.psp.cz/sqw/hp.sqw?k=30" TargetMode="External"/><Relationship Id="rId25" Type="http://schemas.openxmlformats.org/officeDocument/2006/relationships/hyperlink" Target="http://www.psp.cz/sqw/hp.sqw?k=30" TargetMode="External"/><Relationship Id="rId26" Type="http://schemas.openxmlformats.org/officeDocument/2006/relationships/hyperlink" Target="http://www.psp.cz/sqw/hp.sqw?k=30" TargetMode="External"/><Relationship Id="rId27" Type="http://schemas.openxmlformats.org/officeDocument/2006/relationships/hyperlink" Target="http://www.psp.cz/sqw/hp.sqw?k=30" TargetMode="External"/><Relationship Id="rId28" Type="http://schemas.openxmlformats.org/officeDocument/2006/relationships/hyperlink" Target="http://www.psp.cz/sqw/hp.sqw?k=30" TargetMode="External"/><Relationship Id="rId29" Type="http://schemas.openxmlformats.org/officeDocument/2006/relationships/hyperlink" Target="http://www.psp.cz/sqw/hp.sqw?k=30" TargetMode="External"/><Relationship Id="rId30" Type="http://schemas.openxmlformats.org/officeDocument/2006/relationships/hyperlink" Target="http://www.micr.cz/" TargetMode="External"/><Relationship Id="rId31" Type="http://schemas.openxmlformats.org/officeDocument/2006/relationships/hyperlink" Target="http://www.micr.cz/" TargetMode="External"/><Relationship Id="rId32" Type="http://schemas.openxmlformats.org/officeDocument/2006/relationships/hyperlink" Target="http://www.micr.cz/" TargetMode="External"/><Relationship Id="rId33" Type="http://schemas.openxmlformats.org/officeDocument/2006/relationships/hyperlink" Target="http://www.micr.cz/" TargetMode="External"/><Relationship Id="rId34" Type="http://schemas.openxmlformats.org/officeDocument/2006/relationships/hyperlink" Target="http://www.micr.cz/" TargetMode="External"/><Relationship Id="rId3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oucasny.model.VS.CR.2006.doc/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hyperlink" Target="http://www.mvcr.cz/odbor/reforma/seznam.html" TargetMode="External"/><Relationship Id="rId3" Type="http://schemas.openxmlformats.org/officeDocument/2006/relationships/hyperlink" Target="http://www.mvcr.cz/odbor/reforma/seznam.html" TargetMode="External"/><Relationship Id="rId4" Type="http://schemas.openxmlformats.org/officeDocument/2006/relationships/hyperlink" Target="http://www.mvcr.cz/odbor/reforma/seznam.html" TargetMode="External"/><Relationship Id="rId5" Type="http://schemas.openxmlformats.org/officeDocument/2006/relationships/hyperlink" Target="http://www.mvcr.cz/odbor/reforma/seznam.html" TargetMode="External"/><Relationship Id="rId6" Type="http://schemas.openxmlformats.org/officeDocument/2006/relationships/hyperlink" Target="http://www.mvcr.cz/odbor/reforma/seznam.html" TargetMode="External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Podklady/Organizacni.struktura.OkU_Blansko.doc" TargetMode="External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mvcr.cz/odbor/reforma/seznam.html" TargetMode="External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Problemy.ustredni.SS.doc/" TargetMode="External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inisterstva_1918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6808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Reforma veřejné správy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779640" y="3581280"/>
            <a:ext cx="414468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David Špače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PVVSU - Přednáška č. 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78483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stv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jmenována n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SPRÁVY POLITIC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l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ístodržitelstv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jmenována n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EMSKÉ SPRÁVY POLITICKÉ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 čele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ezid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 </a:t>
            </a:r>
            <a:r>
              <a:rPr b="1" i="1" lang="cs-CZ" sz="1800" spc="-1" strike="noStrike">
                <a:solidFill>
                  <a:srgbClr val="292929"/>
                </a:solidFill>
                <a:latin typeface="Arial"/>
              </a:rPr>
              <a:t>(zákon č. 126/1920 o zřízení župních a okresních úřadů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ýsledkem snah po sjednocení veřejné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odstranit provizorium po recepci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platit pro celé území republiky s výjimkou Prah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ěl být aktivován do 3 let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"vnitřní správu" měly vykonáv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 čele župan) a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jim podřízené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y okres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okresní náčelník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odřízený županovi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župní úřady měly být podřízen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o politické neshody vstoupil v omezené podobě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platnost jen na Slovensku od ledna 192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7848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40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0200" indent="-3402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*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ŽUP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ené župní zastupitelstv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ůsobnost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a s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§ 31 "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ejména jest župní zastupitelstvo povoláno pečovati o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humanitní, zdravotní, sociální, hospodářské, dopravní a kulturn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ájmy župy a jejího obyvatelstva, pokud nejde o úkoly čistě místní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povahy, na něž stačí prostředek okresu nebo obcí. K tomu konci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může se župní zastupitelstvo usnášeti zejména na tom, aby byly 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řízeny nebo podporovány ústavy, podniky nebo zařízení..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ormotvorná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na základě zmocnění vlády, zákonů a nařízení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 - župní senát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 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"poradním sborem župana a ústředních úřadů 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ěcech veřejné župní správy se týkajících"</a:t>
            </a:r>
            <a:br>
              <a:rPr sz="22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40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0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ŽUPNÍ ZÁKON* 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ŽUP: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 výbo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sedou župan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župní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OKRESNÍ VÝBORY"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imo vybraných skupin měst (§ 69) při každé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kresním úřadě a pro jeho obvod - působ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šeliké záležitosti vnitřní, jež se dotýkají společného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ospěchu okresu a jeho obyvatelů, nebo jež přesahují zájem jednotlivých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bcí, nebo jejich silami nemohou býti obstarány", pokud nepojalo ŽZ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pomocná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"při provádění usnesení" ŽZ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(okresní senát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- poradní sbor okresního náčelního, župana a ŽZ ve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ěcech veřejné okresní správ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alizací župního zřízení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a území ČSR tři různé systémy politick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 unifikaci nedošlo do r. 1927 - ZÁKON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 ORGANISACI POLITICKÉ 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„organizační zákon“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. č. 125/1927 - v českých zemích vstupoval v platnost 1. 12. 1928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rušení žup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avedení druhé instance všeobecné politick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el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prezident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raze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 zemi Českou, v Brně pro zemi Moravskoslezskou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Bratislavě pro Slovenskou krajinu, v Užhorodě pr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emi Podkarpatorusko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O ORGANISACI POLITICKÉ SPRÁV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vní instanc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át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 čele okresní hejtman (náčelník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zde i statutární mě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Liberec a Opava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munál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jejich funkci obstarávala statutární mě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raha, Brno a Olomouc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echách bylo 103 okresních úřadů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zemi Moravskoslezské 45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Slovensku 79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Podkarpatské Rusi 12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iz územní samosprávy - "okresní úřady"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ový volební řád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dpadl majetkový cenzus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ákon č. 75/1919 Sb.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řiznáva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šeobecné, rovné, tajné a přímé hlasovací právo všem mužům i žená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teré měly v obci aspoň 3 měsíce trvalé bydliště, nebyly určitým způsobem diskvalifikovány a dosáhly 21 let věku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olební období 4 roky, v r. 1933 prodlouženo na 6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ovela k obecním zřízením - z. č. 76/19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ádné orgány ob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ecní zastupitelstvo, obecní rada, starosta, náměstci starosty,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ecní rada i nyní fungovala jak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trestní senát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e starosty a dvou radní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ůstala zachována instituc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atutárních mě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919 sloučení obcí v hlavní zemská města, 19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9320" y="1700280"/>
            <a:ext cx="79437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ýznamnější změnu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o organizaci politick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1927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292929"/>
                </a:solidFill>
                <a:latin typeface="Arial"/>
              </a:rPr>
              <a:t>zrušeny dosavadní prvky okresní samosprávy </a:t>
            </a:r>
            <a:br>
              <a:rPr sz="22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(zastupitelské okresy, silniční okresy na Moravě a ve Slezsku, i okresy na Slovensku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ved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orgány součástí OkÚ,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území se shodovalo s územními obvody OkÚ,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členěny do organizace státních politických úřad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úřední agendu okresů obstarávali státní úředníci při Ok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* -orgány nových okresů: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zastupitelstv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dvě třetiny voleny přím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(aktivní volební právo 24 let), třetina jmenován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ministrem vnitra z řad odborníků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přihlížeje k poměrům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hospodářským, kulturním, národnostním a sociálním"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ůsobnost: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hospodářská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šeliké záležitosti vnitřní, jež se dotýka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společného prospěchu okresu a jeho obyvatelů, nebo jež přesahu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jem jednotlivých obcí, nebo jejich silami nemohou býti obstarány,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okud záležitostí těch nepojalo ZZ"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mocná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- účast "při provádění usnesení ZZ"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e správním soudnictv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radní a iniciativní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ve věcech veřejné okresní správy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oradním sborem okresního hejtmana (náčelníka) i zemského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presidenta a zemského zastupitelstva"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35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SAMO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nových okresů:*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výbor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olilo ze svých řad okr. zastupitelstvo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hejtman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(náčelník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ředsedou a) i b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dpovědný zemskému prezidentovi a ministrovi vnitra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kresnímu zastupitelstvu se zodpovídat nemus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Literatura a jiné zdro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8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SCHELLE, K.</a:t>
            </a:r>
            <a:r>
              <a:rPr b="0" i="1" lang="fr-FR" sz="2000" spc="-1" strike="noStrike">
                <a:solidFill>
                  <a:srgbClr val="292929"/>
                </a:solidFill>
                <a:latin typeface="Arial"/>
              </a:rPr>
              <a:t>Vývoj veřejné správy v letech 1848 - 1948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. </a:t>
            </a:r>
            <a:br>
              <a:rPr sz="2000"/>
            </a:b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Praha: EUROLEX BOHEMIA 2002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ECHÁK, V.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voj veřejné správy v Československu a České republice (1945 - 2004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 Praha: EUPRESS 200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www stránk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inisterstva vnitra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sprav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index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Úřadu vlády -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vlada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s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urad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7"/>
              </a:rPr>
              <a:t>/default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8"/>
              </a:rPr>
              <a:t>html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oslanecké sněmovn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9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0"/>
              </a:rPr>
              <a:t>ps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1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2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3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4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5"/>
              </a:rPr>
              <a:t>/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6"/>
              </a:rPr>
              <a:t>hp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7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8"/>
              </a:rPr>
              <a:t>sqw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9"/>
              </a:rPr>
              <a:t>?k=30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Ministerstva informatiky: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0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1"/>
              </a:rPr>
              <a:t>mi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2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3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4"/>
              </a:rPr>
              <a:t>/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Á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vyšším článkem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členěny do organizace státních politický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chách do r. 1928 provizorium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o organizaci politick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avedl 4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celky (viz výše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každé vytvoř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zemské samosprávy: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zastupitelstvo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1/3 volena, 2/3 jmenovala vláda z řad odborníků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výbor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ý prezident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é komis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fakultativní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C) ÚZEMNÍ SAMO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SKÁ SAMO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0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ůsobnost zemského zastupitelstva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hospodářská a správní -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"pečovati o správní a hospodářské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áležitosti země a jejího obyvatelstva" "zejména ... pečovati o humanitní,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dravotní, sociální, hospodářské, dopravní a kulturní zájmy země a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jejího obyvatelstva, pokud jde o úkoly, které svým významem přesahují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rozsah a potřeby jednotlivých obcí a okresů, dotýkají se zájmů větší části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země a nemají důležitosti celostátní"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ormotvorná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ve správním soudnictv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(zemské senáty)</a:t>
            </a:r>
            <a:br>
              <a:rPr sz="16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) poradní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 - "poradním sborem zemského presidenta a ústředních úřadů 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o věcech veřejné zemské správy"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období 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druhé republik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ezident zmocněn vydávat dekret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s moc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ústavního zákona s jednomyslným souhlasem vlády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(zákon č. 330/1938)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měna unitárního stát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řijet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zákona č. 299/1938 Sb. z. a n. o autonomii Slovenské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země (i s možností přijetí vlastní ústavy), a úst. z. č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328/1938 Sb. z. a n. o autonomii Podkarpatské Rus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znik Protektorátu Čechy a Mora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ava S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č. 185/1939 z července 193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ahraniční odboj a KONCEPCE PRÁVNÍ KONTINUITY předmnichovské republiky: ústavní dekret prezidenta republiky č. 2/1940 Úř. věst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15. října 1940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onodárná činnost bude po dobu platnosti prozatímníh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tátního zřízení vykonávána v nezbytných případe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ezidentem republiky na návrh vlády ve formě dekretu, kter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upodepíše předseda vlády, resp. členové vlády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pověření jejich výkone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699920"/>
            <a:ext cx="7661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iskuze ohledně kontinuity či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diskontinuit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yšlenka vytvoře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ÁRODNÍCH VÝB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kupina kolem Beneše „mají být dočasné“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období bezprostředně po ukončení okupač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moci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komunisté  - aby trvalou součástí systému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řejné správy a v podstatě jedinými realizátor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územní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) Okupace a období Protektorátu Čechy a Mo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sledkem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ní dekret o národních výborech a prozatímním národním shromáždění  č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18/1944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e 4. 12. 1944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a osvobozeném území měly být ustav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ístní,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okresní a zemské NV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jak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ozatímní orgány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 obcích a okresech s převážnou většinou „státně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nespolehlivého obyvatelstva“ místo N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právní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  komisař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neb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-438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tázka Zakarpatské Ukraji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smlouvy, v nichž se Československo zavázalo odstoupit ZU Sovětskému svazu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duben až červen 1945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) Veřejná správa v období  1945 - 19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559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průběhu osvobozování vznikal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činnost upravena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pozděj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vládním nařízen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č. 4/1945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třístupňová struktura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íst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kresn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zemsk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+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národní výbor hlavního města Prah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taly se jedinými místními orgány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a mnoha místech ještě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, okres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a v český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emích zemské úřa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faktick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ýkonnými orgány příslušných národních výbor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 Únoru 1948 patrné „usměrňující“ aktivity Komunistické strany i v oblasti veřejné 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ČNÍ 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ačaly vznikat (po 21. únoru) na nejrůznějších úro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 celé republice „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v okresech, městech, obcích, závodech, školách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úřadech, ale také v politických stranách a společenských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organizacích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oncipovány jako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rgány trvale působíc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ákladním úkole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„organizovat a představovat jednot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racujícího lidu měst a venkova“ a „odstranit všechn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rozvratné živly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jich politickému vlivu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dřízeny národní výbor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dalš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ložky státního aparát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počátku nebyla upravena pravidla jejich činnosti an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jejich kompetence, řešily vyhlášky MV, až zákon č. 213/1948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z července 1948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A 9. KVĚTNA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Svrchovaný lid vykonává státní moc zastupitelskými sbory, které jsou lidem voleny, lidem kontrolovány a lidu odpověd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apitola 6, §§ 123 - 133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nositelé a vykonavatelé státní moci v obcích, okresech a krajích a strážci práv a svobod lid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ístní, okresní a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krajsk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árodní výbory, </a:t>
            </a:r>
            <a:br>
              <a:rPr sz="2000"/>
            </a:b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24: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„(I) Národní výbory  vykonávají na území, pro které jsou zvoleny, veřejnou správu ve všech jejích oborech, zejména obecnou správu vnitřní, správu kulturní a osvětovou, ochranu práce a správu zdravotní a sociální; správu finanční pak podle zvláštních ustanoven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A 9. KVĚTN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*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§ 126: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(I) NV jsou při plnění svých úkolů povinny opírat se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o přímou účast a iniciativu lidu a podléhají jeho kontrole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Jejich členové a členové jejich orgánů jsou lidu ze sv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činnosti odpovědni. Způsob, jakým lid provádí kontrolu 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uplatňuje tuto odpovědnost, stanoví zákon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25 - práva a povinnosti v oblasti bezpečnostn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hospodářské - NV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chrání a posilují lidově demokratick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zřízení... pečují o národní bezpečnost ... účastní se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vypracovávání a provádění jednotného hospodářského 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plánu..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PŘEVZALA INSTITUT ÚSTAVNÍHO SOUDU - „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tala se jen formálním textem bez skutečné ochran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forma a současný model veřejné správy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Současný model - </a:t>
            </a:r>
            <a:r>
              <a:rPr b="0" lang="cs-CZ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87480" y="2133720"/>
            <a:ext cx="69692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červnu 1948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jezd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OMĚŘÍŽSKÝ PROGRA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tělen d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a č. 289/1948 o krajském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rajské zřízení zakotveno Ústavou 9. května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L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raje a krajské NV zřízeny až tímto zákone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 21. 12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zemí ČSR rozděleno na 19 kraj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českých zemích - 13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na Slovensku 6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zemí dosavadních okresů nebo obcí měla být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izpůsobena krajským hranicím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 českých zemíc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oupl počet okres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e 154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na 180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dpovědnost KNV lidu, řízeny vládou a jí odpovědné, 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jejich referenti příslušným resortním ministrů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ní zákon č. 47/1950 Sb. o úpravách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organizaci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umožňoval vládě, aby svými nařízeními mohla upravovat, zřizovat a rušit působnost ministerstev, pověřenectev a jiných orgánů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Ministerstvo národní bezpečnost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ládním nařízením zdůrazněn požadavek, ab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aždý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měl vypracovaný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lán své činnost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který by byl kontrolovatelný volenými orgány i vyššími 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lánovací komis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s. ODBORNOST ÚŘEDNÍK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itika činnosti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soustřeďují agendy, které na ně byly přesunuty s tím, aby byly delegovány dál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dex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tři ústavní zákony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12/1954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ově definoval postavení národních výborů v systému orgánů státní mo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NV jsou místními orgány státní moci pracujícího lidu Československa. Jako nejširší organizace pracujících opírají se ve své činnosti v krajích, okresech a obcích a svazek dělníků, rolníků a pracující inteligence. NV řídí ve svých obvodech hospodářskou a kulturní výstavbu socialismu podle směrnice vlády a zákonů republiky. Soustavně se starají, aby byly stále lépe a plněji uspokojovány rostoucí hmotné a kulturní potřeby pracujících. Veškerou svou činností pečují o člověka a jeho blaho a upevňují důvěru pracujících k orgánům lidově demokratického stát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) Veřejná správa v období 1948 - 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79261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4520" indent="-344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kodex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: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12/1954 Sb.*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„NV jsou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krajské, okresní,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městské, obvodní a místní, Ústřední národní výbor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hlavního města Prahy a Ústřední národní výbor </a:t>
            </a:r>
            <a:br>
              <a:rPr sz="2000"/>
            </a:br>
            <a:r>
              <a:rPr b="1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hlavního města Bratisla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.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NV podřízeny vládě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t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ato struktura NV zůstala v platnosti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  <a:ea typeface="Arial"/>
              </a:rPr>
              <a:t>až do roku 1960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13/1954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- upravoval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organizaci, působnost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a formy činnosti národních vý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všech stupňů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c)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řetí zákon upravi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olby do NV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podobný způsob jak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v př. voleb do NS v roce 1948 - pouze jedna jednotná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kandidátka NF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4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rvenci 1960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ní zákon č. 100/1960 Sb., ústava Československé socialistické republiky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zorem sovětská ústava z r. 19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základy socialismu byly v Československé republice již vybudovány... Vedoucí silou ve společnosti i ve státě je předvoj dělnické třídy, Komunistická strana Československa, dobrovolný bojový svazek nejaktivnějších a nejuvědomělějších občanů z řad dělníků, rolníků a inteligence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čl. 4. zakotvil vedoucí úlohu KSČ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V součástí „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astupitelských sborů pracujícího lidu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ava Československé socialistické republiky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stavení a úkoly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charakterizují články 86 - 96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V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nejširší organizace pracujících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rgány státní moci a správy v krajích, okresech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obcích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loženi z poslanců - lidem voleni, lidu odpovědni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hli být lidem odvoláni - funkční obdob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↑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4 rok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NV změněn n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 hlavního města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Prah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NVP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ústavě rovně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rada, komise a dalš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rgány“ - část komise volena, část z občan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ed přijetím ústavy přijat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č. 65/1960 Sb.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 národních výborech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přesněna charakteristika soustavy národních výborů: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krajské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kresn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v obcích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ěstsk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místní NV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městské NV působily ve městech, která byla sídle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krajů a okresů, a v ostatních velkých obc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městského charakteru, které určil KNV.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městské NV v Bratislavě, v Brně, v Ostravě a v Plzni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    postavení okresního NV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 obvodech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vodní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árodní výbor hlavního města Prah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vodní N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ákon č. 65/1960 Sb. o národních výborech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§ 1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árodní výbory dbaj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by byly plněny zákony, chrání socialistické vymoženosti pracujícího lidu, socialistické vlastnictví, práva a oprávněné zájmy občanů a socialistických organizací, zabezpečují veřejný pořádek a dodržování pravidel socialistického soužití. K tomu vedou ve spolupráci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dobrovolnými společenskými organizacemi všechny občan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2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Národní výbory podle ustanovení zvláštních zákon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í a odvolávají soudce a soudce z lid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Hodnot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ak soudy v jejich obvodu plní své úkoly, a pomáhají ji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799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ákon č.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36/1960 Sb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. -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ové územní členění státu (!)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nížen počet krajů i počet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kraje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tředočeský, Jihočeský, Západoče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everočeský, Východočeský, Jihomorav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everomoravský, Západoslovenský, Středoslovenský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Východoslovenský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očet okresů v českých zemích ze 180 na 76, </a:t>
            </a:r>
            <a:br>
              <a:rPr sz="20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na Slovensku ze 111 na 32</a:t>
            </a:r>
            <a:br>
              <a:rPr sz="20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ovém systému územního členění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se staly hlavními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    článk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kres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ezoluce XIII. sjezdu KSČ o postavení národních výborů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 socialistické společnosti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odmíněna zejména špatným ekonomickým vývoje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     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69/1967 Sb. o národních výbor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) Veřejná správa v období 1960 -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 č. 69/1967 Sb. o národních výborech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zvýšena odpovědnost KNV za rozvoj kraje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  <a:ea typeface="Arial"/>
              </a:rPr>
              <a:t>+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zdůrazněna metodická a koordinační funkce k ONV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V „nejvyšším orgánem státním moci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ve svém územ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měly je pravidelně informovat soudy, prokuratura i SNB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řízení v kompetenci NS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rgány NV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plenární zasedání NV (základním a nejvyšším)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rada NV, předseda, tajemník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 komis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) odbo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) městské NV a obvodní NV, někdy i místní NV měl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zřizovat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občanské výbor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0) Vybrané prvky reforem 1848 - 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1. Československá republika a VS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918 -193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2. ČSR, okupace a období protektorá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1945 - 194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1948 - 196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292929"/>
                </a:solidFill>
                <a:latin typeface="Arial"/>
              </a:rPr>
              <a:t>e) 1960 - 1968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?SAMOSPRÁVA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f) 1968 - 198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292929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783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očátku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emokratizační tenden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akční program KSČ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přijat ÚV KSČ 5. dubna 196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= instituce, „kde je demokraticky vytvářena lini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státní politiky v místech, zejména v okresech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krajích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- považovány za instituce, které „mus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pokračovat v pokrokových tradicích míst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     samosprávy a lidové správy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náznaku i obnovení „samosprávné funkce“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ožadavek zabránit tomu, „aby v celém státní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echanismu nedocházelo k přílišném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střeďování moci v jednom článku, v jednom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aparátu nebo u jednotlivce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federace zřízena ústavním zákonem č. 143/1968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ze dne 27. října 1968 o československé federaci, který vstupoval v platnost od 1. 1. 1969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předpokládal vypracování Ústavy ČSSR, Ústavy ČSR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a Ústavy SSR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nebyly za celou dobu existence  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federace rozpracov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avazoval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av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(č.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171/196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)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o zřízení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federálních ministerstev a federál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ýraznější změny ve federální a republikové správě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zákonem č. 193/1988 Sb. a zákonem č. 194/1988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Sb.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„vytvářet podmínky pro rozvoj podnikatelské činnosti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hospodářské soutěže“, ale také zdůrazňuje nutnos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většího zhodnocení „vědeckých poznatků“ v činnost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 vlády i jednotlivých ministerstev      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8706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ÁRODNÍ VÝBOR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úst. zákonem o federaci byl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řízení národních výborů  svěřeno republikovým orgánů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v SSR došlo r. 1969 ke zrušení a r. 1970 k opětnému zavedení krajského zřízení,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 právní úpravě NV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tendence k posílení centralism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a naplňování článku 4 ústavy z r. 1960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nahy vlád obu republik o jednotný výkon působnosti zejména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těžištěm koncipování (ve spoluprá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 vládami republik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lány rozvoje krajů byly schvalovány vládou a po své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schválení se staly závaznými pro všechny orgány a instituc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působící v rámci kraje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) Veřejná správa v období 1968 -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870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NÁRODNÍ VÝBORY A STŘEDISKA „PERSPEKTIVNÍCH OSÍDLENÍ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-407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vládní nařízení ke sjednocení struktury národních výbor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NV všech stupňů zřizuj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odbor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, nejmenší městské NV a místní NV s větším počtem než 2500 ob. zřizovaly pouze jeden odbor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roblémy v obcích s méně než 2500 o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- v ČR 75%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V r. 1972 V ČR 420 městských NV, 13 obvodních NV (10 v Praze a 3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  <a:ea typeface="Arial"/>
              </a:rPr>
              <a:t>v Brně), 6823 místních NV (z toho 1239 v obcích s méně než 300 ob., 3355 výborů v obcích do 600 obyvatel, 1 770 místních NV v obcích s ne více než 1500 ob., jen 413 místních NV v obcích do 3000 ob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vlády obou republik schválily na základě návrhů, které zpracovaly KN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 „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střediska perspektivního osídl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“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- v ČR 17O obcí jako středisek obvodního významu,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1029 středisek místního významu (v nich MNV s alespoň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  <a:ea typeface="Arial"/>
              </a:rPr>
              <a:t>  1 odborem a tajemníkem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385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NÉ CHARAKTERISTI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oučást transformace společnost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otální strukturální přestavba dřívější centralizované státní správy v decentralizovanou veřejnou správu (princip subsidiarity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měna totalitního státu ve stát demokratický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  <a:ea typeface="Arial"/>
              </a:rPr>
              <a:t>→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renesance samo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-5360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lká rychlost změny a s tím způsobené problém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kvalitou přípravných fází reformy - následné legislativní smrště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53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f. Strecková - příčiny reformy v Č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aše VS je silně etatistická (silný vliv stát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správy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elmi centralistická (státní správa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resortismus, nízká koordinac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labá veřejná kontrola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úroveň používání moderních meto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management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nízká profesionální úroveň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úředníků 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 u="sng">
                <a:solidFill>
                  <a:srgbClr val="292929"/>
                </a:solidFill>
                <a:uFillTx/>
                <a:latin typeface="Arial"/>
              </a:rPr>
              <a:t>zastupitelů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ČSFR (1989 - 199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byla přijata ústava ve formě jednoho ústavního dokument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vše řešeno jednotlivými ústavními zákony: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135/1989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zrušil čl. 4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294/1990 Sb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ze dne 18. července, kterým se mění a doplňuje ústavní zákon č. 100/1960 Sb., Ústava ČSSR, a ústavní zákon č. 143/1968 Sb., o čs. federaci a kterým se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zkracuje volební období národních výbor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zvolený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r. 1986, do dne voleb do zastupitelstev obcí - 23. - 24. 11.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23/1991, Listina základních práv a svobo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91/1991, o Ústavním sou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úst. z. č. 327/1991, o referendu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341000"/>
            <a:ext cx="766116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FEDERÁLNÍ A REPUBLIKOVÁ ÚROVEŇ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od počátku tendence zvyšovat úlohu republik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tomto trendu pokračoval i úst. z. č. 556/1990 Sb. z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sinc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ávo ČR a SR zřizovat vlastní ozbrojené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bezpečnostní sbor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rozlišuje výlučnou působnost federace a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ýlučnou působnost republik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5. - 6. června 1992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olb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do FS, ČNR a SNR - výsledky předznamenaly rozpad federac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. září schválila SNR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avu S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úst. z. 493/1992 (tzv.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druhý kompetenční zákon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 8. října - přesun kompetencí na republi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708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územní správní jednotkou se stal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BE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ČR postavení obcí upraveno zákonem ČNR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č. 367/1990 Sb. ze 4. září 199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dlišil státní správu a samosprávu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ovořil 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cích, městech a statutárních městech, a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 Praze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vůči zák. o obcích speciálním zákonem č. 418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legislativou ustav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JEDNOSTUPŇOVÝ SYSTÉM SAMO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obecní zastupitelstvo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íšený / spojený model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státní správa na prvním stupni vykonávána rovněž orgány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9520" indent="-389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b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obecní zastupitelstvo, obecní rada, staros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primátor) a zástupce starosty, komise, odbory, obecní úřad, tajemník (podle počtu pracovníků OÚ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řízeny zákonem ČNR č. 425/1990 Sb. ze dne 9. říj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1990 ve městech, ve kterých byly ONV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(územní členění zůstalo v podstatě nezměněné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d r.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196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velké kraje“ a „velké okresy“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e dni zřízení OkÚ v ČR 76 okr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„decentralizovaný orgán SS se všeobecnou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ůsobností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rgány OkÚ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přednosta, okresní shromáždění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referá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Plzni, Brně a Ostravě vykonávaly činnost OkÚ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agistráty, v Praze Magistrát města Prahy a úřad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ěstských část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řízení v kompetenci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lády republik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řídící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kontrolní činnost především MV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ybrané prvky reforem 1848 - 191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tadionovo prozatímní obecní zříze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březen 1849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rvní moderní zákonná úprava pro obce (v širším smyslu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základem svobodného státu je svobodná obec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obce: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míst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okres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krajsk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latnosti nabyly jen předpisy o obcích míst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ozeznávalo dvojí působnost obc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tzv. přirozenou působnost ob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působnost přenesenou 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CEPČNÍ ZÁKON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s účinností od 31. 12. 1992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NR zákon č. 4/1993 Sb. o opatřeních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ouvisejících se zánikem ČSFR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raznou změnu pro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BECNÍ ZŘÍZE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znamenal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 z roku 1999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na jejím základě přijat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28/2000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i jednotlivých druhů obcí zde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mvcr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cz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odbor/reforma/seznam.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htm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V SAMOSTATNÉ ČESKÉ REPUBLI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ZEMNÍ VEŘEJN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425/199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platil až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 12. 11. 2000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16. 5. 2000 byl schválen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147/2000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 okresních úřadech - pozbyl účinnosti k 31.12.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arakterizoval OkÚ jako „správní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vykonávající státní správu ve správních obvodech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které se nazývají okresy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ykonávaly státní správu ve věcech, které stanovil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zvláštní zákony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přezkoumávaly rozhodnutí orgánů obcí a rozhodnut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pověřených obecních úřadů vydaná ve správním říze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dozor nad činností obcí + odborná pomoc ob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  + přezkoumával jejich hospodařen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Okresní úřady byly zrušeny na základě zákona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č. 320/2002 Sb. s účinností od 1. 1. 2003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"Dnem nabytí účinnosti tohoto zákona se zrušují okresní úřady."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 CXIX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1. Pokud zvláštní zákon stanoví působnost okresního úřadu nebo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kresního národního výboru a tato působnost nebyla tímto nebo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zvláštním zákonem převedena na územní samosprávné celky,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vykonává tuto působnost obecní úřad obce s rozšířeno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působností jako výkon přenesené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2. Pokud okresní úřad vykonával činnosti, které mu nebyly stanoveny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ecně závazným právním předpisem, přechází tyto činnosti n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ecní úřad obce s rozšířenou působností jako výkon přenesené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působnosti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OKRESNÍ ÚŘADY*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20/2002 Sb.,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Čl.CXIX* 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3. Pokud zvláštní zákon stanoví působnost orgánu, který zanikl, a nejedná se o případy uvedené v bodě 1, a tato působnost nebyla přenesena na jiný orgán, je věcně příslušný ústřední správní úřad, do jehož působnosti rozhodovaná věc náleží, popřípadě ústřední správní úřad, jehož obor působnosti je rozhodované věc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nejbližš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říklad organizační str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 - OBECNÉ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integr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č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ozorová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radn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řidělování finančních prostředků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právní pomoci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292929"/>
                </a:solidFill>
                <a:latin typeface="Arial"/>
              </a:rPr>
              <a:t>funkce regionálního plánování a územního plánová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zprostředkující funk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funkce krizového řízení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ordinace ochrany a péče o životní prostředí v region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292929"/>
                </a:solidFill>
                <a:latin typeface="Arial"/>
              </a:rPr>
              <a:t>(Grospič, J. Úloha krajů v územní reformě veřejné správy. In Grospič, J., Vostrá, L.: Reforma veřejné správy v teorii a praxi (Sborník z mezinárodní konference). Aleš Čeněk, s. r. o., 2004, s. 29 - 30)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době vzniku ČR ani na základě převzatého právního řádu fakticky neexistovaly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již v období federace navržen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4 alternativy uspořádán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emská, regionální, kombinovaná a federativní - nebyly zákonodárným sborem projednán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. zákon č. 1/1993, Ústava Č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„kraje či země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r. 1994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měry vlády ČR v oblasti reformy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o soustavy VS měly přibýt VÚSC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počítaly se zachováním okresních úřadů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láda uvedla, že se jí nepodařilo rozhodnou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 institucionálním uspořádání SS a S na úrovni VÚSC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YŠŠÍ ÚZEMNÍ SPRÁVNÍ CELKY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měn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až ústavn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zákon č. 347/1997 Sb.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14 krajů - právní postavení upraveno ALE pozdější §§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z. č. 129/2000 s účinností ode dne voleb do ZK, ustanovení o státní správě od 1. 1. 2001,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činnosti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y související s přípravou realizace krajského zřízení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po přijetí zákona č. 347/1997 Sb. existovalo dvoj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latné územní vymezení kraj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VÚSC menší než NUTSII -  „regionů soudržnosti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otázky stanovení hranic krajů z hlediska historickéh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vývoje, mínění občanů, infrastruktury ..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levantní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reformy veřejné správ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1999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láda „vzala na vědomí“ usnesením č. 258/1999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a separována od územní samosprá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dlouhou dobu malá pozor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pouze strukturální změny - zrušení či nahrazení ministerstev a ústředních správních úřad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negativní charakteristiky ústřední státní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 materiálech teze </a:t>
            </a:r>
            <a:r>
              <a:rPr b="0" lang="cs-CZ" sz="2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Centra pro sociální a ekonomické strategi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ýznamnou změnou až usnesení vlády č. 619 ze dne 20. června 2001 - projednala návrh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modernizace ústřední státní správy se zvláštním přihlédnutím k systemizaci a organizačnímu uspořádání správních úřad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*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ncepce (2001) - priorit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rátkodobé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červen 2001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harmonizace vnitřní organizace ministerstev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třednědobé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červenec 2002 - prosinec 2003)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efektivnosti a zlepšení koordinace při výkonu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horizontálních funkcí a proces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solidace systému ústřední státní správ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sílení koncepční, koordinační a kontrolní úlohy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inisterstev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úrovně řízení v ministerstvech a jiných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středních správních úřadech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→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i projekt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  <a:ea typeface="Arial"/>
              </a:rPr>
              <a:t>Phar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000" y="1841040"/>
            <a:ext cx="792612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Cíle nové vlády ustavené v roce 2002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dnou programovou prioritou „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zahájení modernizace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292929"/>
                </a:solidFill>
                <a:latin typeface="Arial"/>
              </a:rPr>
              <a:t>ústřední státní sprá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, jejímž cílem je zefektivnit,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racionalizovat a zvýšit horizontální koordinaci činností veřejn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správy za širšího využití moderních technologií (elektronick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veřejné správy) a manažerských metod řízení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eformu a modernizaci ústřední státní správy zastřešuje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od 1. 4. 2004 na základě rozhodnutí vlády 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řad vlád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usnesení vlády ze dne 17. března 2004 č. 237 „Postup a hlavní směry reformy a modernizace ústřední státní správy obsahující vyřešení gesce a organizačního zabezpečen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“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1. Historické pozadí reformy 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Vybrané prvky reforem 1848 - 1918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rámcový říšský obecní zákoník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březen 1862)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obce: místní, okresní a župní (krajské), zemské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řízení vyšších obcí jen fakultativní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vojí působnost obcí - „samostatná“ a „přenesená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instituce statutárních měst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ystém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cké správ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zákonem z 19. května 1868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č. 44 ř. z., vybudován aparát politické správy první a druhé stol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„pod vedením zemských šéfů budou záležitosti politick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právy vyřizovány zemskými politickými úřady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zeměpanskými okresními politickými úřady (okresní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hejtmanství) a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komunálními úřady obcí“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9261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ostup a hlavní směry reformy a modernizace ústřední státní správy obsahující vyřešení gesce a organizačního zabezpečení (2004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ncepce rozlišuje změny dvojího druhu: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lepšování současného systému;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hlubší jednorázový proces měnící neb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zásadním způsobem upravující vlastní systém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 tomu pět hlavních směrů s celkem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atnácti konkrétními projekty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navázáno na cíle předchozích dokumentů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Vrcholným pracovním orgánem reformy je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Řídící tým reformy ústřední státní správy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mají mu být předkládány všechny výstupy schválené usnesením vlády k reformě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jektového řízení využito pro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„“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výšení meziresortní spolupráce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zajištění provázanosti jednotlivých projektů reformy a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yužití obecných principů projektového řízení, kterými jso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flexibilita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uvědomění si nákladů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orientace na cíl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angažovanost,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průhlednost 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ětší odpovědnost.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jektového řízení - nedostatky mechanismu pro koordinaci prací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- z dokumentu Úřadu vlád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1) 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 některých úřadech stále dobře nefunguje horizontáln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informovanost všech sekcí úřadu o připravovaných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jektech. Objevily se případy, že věcně příslušné odbory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se nedozvěděly o možnosti účastnit se na řešení dané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blematiky v rámci prací.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2)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ýběr členů projektových týmů, kteří mnohdy nesplňují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určené charakteristiky a jejichž očekávání se liší od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ožadavků a zadání vedoucího příslušného projektu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Konkrétním příkladem je Projekt C.3 E-government.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Projektový tým C.3 byl oficiálně sestaven, ale úkoly tohoto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týmu řeší existující pracovní skupina Ministerstva </a:t>
            </a:r>
            <a:br>
              <a:rPr sz="2000"/>
            </a:b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informatiky.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A: Racionalizace procesů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1 Identifikace poslání (cílů) ústředních správních úřad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2 Popis a analýza procesů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3 Vypracování pravidel pro fungování tzv. agentur pro ústřed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státní správ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.4 Reorganizace ústřední státní správ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: Zlepšení řízení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1 Efektivní horizontální komunikace a podpora tvorby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celostátních strategií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2 Moderní manažerské techniky v ústředních sprá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3 Lepší koordinace ústřední státní správy směrem k územ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 veřejné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.4 Řízení znal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79261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ÚSTŘEDNÍ STÁTNÍ SPRÁV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měry a projekty reformy a moder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: Zvýšení kvality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1 Zavádění a rozvoj řízení kvality v ústřední státní správě</a:t>
            </a:r>
            <a:br>
              <a:rPr sz="2000"/>
            </a:br>
            <a:r>
              <a:rPr b="0" lang="pt-BR" sz="2000" spc="-1" strike="noStrike">
                <a:solidFill>
                  <a:srgbClr val="292929"/>
                </a:solidFill>
                <a:latin typeface="Arial"/>
              </a:rPr>
              <a:t>C.2 Reforma regulace v ústřední státní správě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.3 E-governmen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D. Implementace a zlepšování státní služby v ústředních správních úřadech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.1 Implementace služebního zák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E. Racionalizace financování ústřední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1 Rozvoj finančního a výkonového managementu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2 Využití soukromých zdrojů pro veřejné invest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E.3 Sjednocení a prohloubení kontroly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8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!Současný stav projektů  - webové stránky Úřadu vlády!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0520" indent="-38052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FORMA VEŘEJNÉ SPRÁVY A ZVYŠOVÁNÍ KVALIFIKACE ÚŘEDNÍK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louho dobu reformě VS vytýkána absence právn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úpravy postavení zaměstnanců ve VS 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existoval 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  systém řízení lidských zdrojů</a:t>
            </a:r>
            <a:br>
              <a:rPr sz="2200"/>
            </a:b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- usnesení vlády č. 601/1999 Sb. – 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koncepce příprav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80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EK 2001: „politováníhodné“, že v ČR stále chybí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legislativa určující status úředníků veřejné správy -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ředpokladem pro úspěšné převzetí požadavků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yplývajících z </a:t>
            </a: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acquis communautaire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áva a povinnosti zaměstnanců dány zejmén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ákoníkem práce + zákon o platu a odměně (143/1992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Kodex etiky zaměstnanců ve veřejné správě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vlád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schválila 2001)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komplexní legislativa až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 r. 2002 - 312, </a:t>
            </a:r>
            <a:r>
              <a:rPr b="1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218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(2009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ÝZNAMNÉ SOUČÁSTI REFORMY KONTROLY VEŘEJNÉ SPRÁVY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(SAMOSTUDIUM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ejvyšší správní soud v Ústavě ČR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(1993), jeh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postavení upravil až zákon č. 150/2002 Sb. s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účinností od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1. 1. 2003 - kompeten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Veřejný ochránce práv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- zákon č. 349/1999 Sb.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Svobodný přístup k informacím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  - zákon č. 106/1999 Sb., zák. č. 123/199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Obecným cílem je zajistit, aby ústřední správní úřady lépe prosazovaly realizaci zákonů a efektivněji poskytovaly své služby vládě a společnosti. Zlepšit se má realizace vládní politiky a kvalita materiálů pro rozhodování vlády. Reforma má podpořit širší využití moderních technologií a manažerských metod řízení a zvýšit horizontální koordinaci a komunikaci ústředních správních úřadů.“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rioritní oblasti dalšího postupu zlepšování ústřední státní správy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aplikace metod řízení a řízení kvality v ústřední státní správě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zlepšování horizontální a vertikální komunikace a koordinace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nižování dopadů regulace,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snižování administrativní zátěže podnikatelů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vzdělávání top managementu ústředních správních úřadů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další posilování využití ICT (informačních a komunikačních technologií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84840" indent="-384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Problémy související s realizací projektů</a:t>
            </a:r>
            <a:br>
              <a:rPr sz="2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„Nejzávažnější komplikací se staly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časté změny vlády </a:t>
            </a:r>
            <a:br>
              <a:rPr sz="2000"/>
            </a:b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  v souvislosti s politickými změnami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.“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Všeobecně přetrvává velmi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ízké povědom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(veřejnosti, ale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i úředníků) o zahájení realizace reformy a jejích hlavních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cílech. („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K této situaci paradoxně přispěl i fakt, že materiál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k postupu a hlavním směrům reformy byl v březnu 2004 při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projednání vládou schválen bez širší politické debaty a publicity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)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chybné vnímání reformy jako jednorázového procesu, který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lze implementovat jednorázovým politickým rozhodnut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nebo legislativním opatřením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4840" indent="-384840"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 některých případech byly totiž materiály rozeslány d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připomínkového řízení bez předchozího projednání Řídící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týme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2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DALŠÍ POSTUP ZLEPŠOVÁNÍ ÚSTŘEDNÍ STÁTNÍ SPRÁV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Úřad vlády, 27. 7. 2005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Rizika dalšího postupu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litická podpor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Volební obdob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realizace výstupů reformy přesahuj současn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Podpora státních úředníků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„pasivní rezistence“ vůči reformním snahám v ústřední státní správě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pl-PL" sz="2000" spc="-1" strike="noStrike">
                <a:solidFill>
                  <a:srgbClr val="292929"/>
                </a:solidFill>
                <a:latin typeface="Arial"/>
              </a:rPr>
              <a:t>Zlepšování je zaměňováno za reorganizaci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- nedostatečná informovanost o aplikaci jiných nástrojů -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„například moderní metody řízení a změna přístupu k řešení problémů ve veřejné správě, a to jak v přípravě rozhodnutí, tak ve způsobech sledování dosahovaných výsledků”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i vzniku ČSR pro systém VS určujíc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tzv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RECEPČNÍ ZÁKON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(zákon č. 11/1918,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 zřízení samostatného státu československého)</a:t>
            </a:r>
            <a:br>
              <a:rPr sz="2400"/>
            </a:b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veškeré dosavadní zemské a říšské zákony a nařízení zůstávají prozatím v platnosti“</a:t>
            </a:r>
            <a:br>
              <a:rPr sz="1800"/>
            </a:br>
            <a:r>
              <a:rPr b="0" i="1" lang="cs-CZ" sz="1800" spc="-1" strike="noStrike">
                <a:solidFill>
                  <a:srgbClr val="292929"/>
                </a:solidFill>
                <a:latin typeface="Arial"/>
              </a:rPr>
              <a:t>„všechny úřady samosprávné, státní a župní, ústavy státní, zemské, okresní, župní a obecní jsou podřízeny Národnímu výboru a prozatím úřadují a jednají podle dosud platných zákonů a nařízení“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mj.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pro zabezpečení kontinuity v činnostech veřejné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převzat celý právní řád a správní systé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Rakouska pro české země,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Uher pro Slovensko a Podkarpatskou Ru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48960" y="1989000"/>
            <a:ext cx="766116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Návrh zákona o územně správním členění státu a návrh zákona, kterým se mění některé zákony v souvislosti s přijetím zákona o územně správním členění stát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ateriál postoupený k projednání vládě 1. června 2005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rozpracována varianta s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„oblastí“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modifikovaná  podoba krajů stanovených zák. č. 36/1960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b. - navrženo 8, </a:t>
            </a: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Reforma veřejné správy od roku 1989 do souč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Zpráva o postupu prací na reformě veřejné správy za II. čtvrtletí roku 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b) Problematika malých obcí -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květen 2005 - Návrh nové formy meziobecní spoluprá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tzv. </a:t>
            </a: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Společenství obc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- na principu dobrovolného vstup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dohodnut rozsah nepřenositelných činnost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292929"/>
                </a:solidFill>
                <a:latin typeface="Arial"/>
              </a:rPr>
              <a:t>c) Příspěvek na výkon státní správy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analýza MV - „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vyplynulo, že u obcí s rozšířenou působností jsou výdaje na výkon státní správy kryty z 84 % a u obcí s pověřeným obecním úřadem z 51 %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“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844280"/>
            <a:ext cx="76611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/ CENTRÁLNÍ INSTANCE VEŘEJNÉ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Nejvyšší správní úřad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zřízeny zákone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č. 2/1918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12 „úřadů pro správu“ (</a:t>
            </a:r>
            <a:r>
              <a:rPr b="0" lang="cs-CZ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zd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1919 - </a:t>
            </a: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Ministerstvo pro sjednocení </a:t>
            </a:r>
            <a:br>
              <a:rPr sz="2400"/>
            </a:b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              zákonodárství a organizace správ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Nejvyšší správní soud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upraven zákonem č. 3/1918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) Československá republika a VS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                                   (1918 -19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841400"/>
            <a:ext cx="7870680" cy="42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/ ÚZEMNÍ POLITICKÁ SPRÁV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92929"/>
                </a:solidFill>
                <a:latin typeface="Arial"/>
              </a:rPr>
              <a:t>převzata tak, jak existovala na konci válk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Čechách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íť místních, okresních a zemských NÁRODNÍCH VÝBORŮ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olitickou organizací plnící od vzniku ČSR funk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cenského aparátu k řešení místních nejaktuálnějších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problém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jejich činnost značně nejednotná, většinou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bezkoncepční - sjednotit se snažil </a:t>
            </a:r>
            <a:r>
              <a:rPr b="1" lang="cs-CZ" sz="2200" spc="-1" strike="noStrike">
                <a:solidFill>
                  <a:srgbClr val="292929"/>
                </a:solidFill>
                <a:latin typeface="Arial"/>
              </a:rPr>
              <a:t>NV v Praze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činnost ukončena usnesením vlády v prosinci 1918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8:37:28Z</dcterms:created>
  <dc:creator>77120</dc:creator>
  <dc:description/>
  <dc:language>en-US</dc:language>
  <cp:lastModifiedBy>77120</cp:lastModifiedBy>
  <dcterms:modified xsi:type="dcterms:W3CDTF">2006-10-09T07:51:29Z</dcterms:modified>
  <cp:revision>501</cp:revision>
  <dc:subject/>
  <dc:title>VEŘEJNÁ SPRÁVA ČR</dc:title>
</cp:coreProperties>
</file>