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2E0-A3A9-439F-96EA-30F25418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542-0B0F-45B4-8285-F10B7AF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2C9-9B86-42CB-AD34-F5796977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689-318F-4921-A2FD-05FB1923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417-C47C-4945-B160-B04E67AC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F3A1-774A-4BB2-AE81-3A1FABC8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F7EC-B9EE-47C4-9C16-09703311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10D7-E1C1-4F07-8243-A64797D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50EA-DD23-4CD8-900C-5952BA03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3A47-FBF9-498D-B260-87230561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EF17-DAE8-4992-96D5-07B1371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495-D060-46E1-8C69-85550751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4517-589C-4CD5-8AA6-B2BA043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6E6B-AD4E-4ECA-ABA2-9D0F2DB3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821-F6A7-4C75-B2D2-25C58307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5B2B-8D6A-4C04-A09D-1E529C36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18F8-A9D7-4132-84B9-E27B2176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92D-DD6B-4981-A4AB-03359BA1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C97-0C6A-49B4-93E6-8EC0395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652-A306-4EEB-9D65-3214561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A0C-568D-4E81-B532-9DD44006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38F-6488-4FCD-AAEB-8106EA7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101-BDC2-4467-B3C8-2A48200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4BC-DB78-4385-BDC3-69C54C6A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1D3-AF89-46CC-8D68-4F6E1B356718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65DB-D0D1-41A9-84A7-9485FECA4B4C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oucasny.model.VS.CR.2006.doc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Podklady/Organizacni.struktura.OkU_Blansko.doc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inisterstva_1918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680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forma veřejné správy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79640" y="3581280"/>
            <a:ext cx="414468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VVSU - Přednáška č. 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848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stv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jmenována n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SPRÁVY POLITIC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l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stodržitelstv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jmenována n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EMSKÉ SPRÁVY POLITIC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čel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ezi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(zákon č. 126/1920 o zřízení župních a okresních úřadů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ýsledkem snah po sjednocení veřejné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odstranit provizorium po recepci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platit pro celé území republiky s výjimkou Prah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být aktivován do 3 let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"vnitřní správu" měly vykonáv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 čele župan) a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jim podřízen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y okres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okresní náčelník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odřízený županovi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župní úřady měly být podřízen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o politické neshody vstoupil v omezené podobě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platnost jen na Slovensku od ledna 192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848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4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0200" indent="-3402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*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ŽUP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ené župní zastupitelstv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ůsobnost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a s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§ 31 "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ejména jest župní zastupitelstvo povoláno pečovati 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humanitní, zdravotní, sociální, hospodářské, dopravní a kulturn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ájmy župy a jejího obyvatelstva, pokud nejde o úkoly čistě místn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ovahy, na něž stačí prostředek okresu nebo obcí. K tomu konci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může se župní zastupitelstvo usnášeti zejména na tom, aby byly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řízeny nebo podporovány ústavy, podniky nebo zařízení..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ormotvorn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a základě zmocnění vlády, zákonů a nařízení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 - župní senát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 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"poradním sborem župana a ústředních úřadů 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ěcech veřejné župní správy se týkajících"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0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*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ŽUP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 výbo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sedou župan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OKRESNÍ VÝBORY"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imo vybraných skupin měst (§ 69) při každé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kresním úřadě a pro jeho obvod - působ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šeliké záležitosti vnitřní, jež se dotýkají společného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spěchu okresu a jeho obyvatelů, nebo jež přesahují zájem jednotlivých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bcí, nebo jejich silami nemohou býti obstarány", pokud nepojalo ŽZ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pomocná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"při provádění usnesení" ŽZ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(okresní sená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poradní sbor okresního náčelního, župana a ŽZ ve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ěcech veřejné okresní správ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alizací župního zřízení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a území ČSR tři různé systémy politick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unifikaci nedošlo do r. 1927 - ZÁKON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 ORGANISACI POLITICKÉ 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„organizační zákon“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. č. 125/1927 - v českých zemích vstupoval v platnost 1. 12. 1928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rušení žup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avedení druhé instance všeobecné politick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el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preziden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raze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 zemi Českou, v Brně pro zemi Moravskoslezskou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Bratislavě pro Slovenskou krajinu, v Užhorodě pr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emi Podkarpatorusko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O ORGANISACI POLITICKÉ SPRÁV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vní instanc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át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 čele okresní hejtman (náčelník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zde i statutární mě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Liberec a Opava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munál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jejich funkci obstarávala statutární mě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raha, Brno a Olomouc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echách bylo 103 okresních úřadů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zemi Moravskoslezské 45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Slovensku 79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Podkarpatské Rusi 12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iz územní samosprávy - "okresní úřady"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ový volební řád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dpadl majetkový cenzu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ákon č. 75/1919 Sb.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řiznáva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šeobecné, rovné, tajné a přímé hlasovací právo všem mužům i žená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teré měly v obci aspoň 3 měsíce trvalé bydliště, nebyly určitým způsobem diskvalifikovány a dosáhly 21 let věku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olební období 4 roky, v r. 1933 prodlouženo na 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vela k obecním zřízením - z. č. 76/19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ádné orgány ob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ecní zastupitelstvo, obecní rada, starosta, náměstci starosty,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ecní rada i nyní fungovala jak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trestní sená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e starosty a dvou radní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ůstala zachována instituc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atutárních mě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919 sloučení obcí v hlavní zemská města, 19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9320" y="1700280"/>
            <a:ext cx="794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znamnější změnu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o organizaci politick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1927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292929"/>
                </a:solidFill>
                <a:latin typeface="Arial"/>
              </a:rPr>
              <a:t>zrušeny dosavadní prvky okresní samosprávy </a:t>
            </a:r>
            <a:br>
              <a:rPr sz="22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(zastupitelské okresy, silniční okresy na Moravě a ve Slezsku, i okresy na Slovensk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ved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orgány součástí OkÚ,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území se shodovalo s územními obvody OkÚ,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členěny do organizace státních politických úřad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řední agendu okresů obstarávali státní úředníci při Ok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* -orgány nových okresů: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zastupitelstv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dvě třetiny voleny přím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(aktivní volební právo 24 let), třetina jmenován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nistrem vnitra z řad odborníků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přihlížeje k poměrům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ospodářským, kulturním, národnostním a sociálním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ůsobnost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hospodářská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šeliké záležitosti vnitřní, jež se dotýka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společného prospěchu okresu a jeho obyvatelů, nebo jež přesahu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jem jednotlivých obcí, nebo jejich silami nemohou býti obstarány,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okud záležitostí těch nepojalo ZZ"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mocná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- účast "při provádění usnesení ZZ"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e správním soudnictv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radní a iniciativní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e věcech veřejné okresní správy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oradním sborem okresního hejtmana (náčelníka) i zemského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esidenta a zemského zastupitelstva"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nových okresů:*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výbor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olilo ze svých řad okr. zastupitelstvo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(náčelník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sedou a) i b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dpovědný zemskému prezidentovi a ministrovi vnitra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kresnímu zastupitelstvu se zodpovídat nemus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iteratura a jiné zdro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Á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vyšším článkem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členěny do organizace státních politický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chách do r. 1928 provizorium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o organizaci politick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avedl 4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celky (viz výše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každé vytvoř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zemské samosprávy: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zastupitelstvo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/3 volena, 2/3 jmenovala vláda z řad odborníků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výbor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prezident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komis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fakultativní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Á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ůsobnost zemského zastupitelstva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a správní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pečovati o správní a hospodářské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ležitosti země a jejího obyvatelstva" "zejména ... pečovati o humanitní,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dravotní, sociální, hospodářské, dopravní a kulturní zájmy země a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jejího obyvatelstva, pokud jde o úkoly, které svým významem přesahu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rozsah a potřeby jednotlivých obcí a okresů, dotýkají se zájmů větší části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emě a nemají důležitosti celostátní"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ormotvorná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(zemské senáty)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- "poradním sborem zemského presidenta a ústředních úřadů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 věcech veřejné zemské správy"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období 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druhé republik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ezident zmocněn vydávat dekret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s moc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ústavního zákona s jednomyslným souhlasem vlády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(zákon č. 330/1938)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měna unitárního stát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řijet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zákona č. 299/1938 Sb. z. a n. o autonomii Slovenské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země (i s možností přijetí vlastní ústavy), a úst. z. č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328/1938 Sb. z. a n. o autonomii Podkarpatské Rus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znik Protektorátu Čechy a Mora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ava S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č. 185/1939 z července 193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ahraniční odboj a KONCEPCE PRÁVNÍ KONTINUITY předmnichovské republiky: ústavní dekret prezidenta republiky č. 2/1940 Úř. věst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15. října 1940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onodárná činnost bude po dobu platnosti prozatímní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tátního zřízení vykonávána v nezbytných případe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ezidentem republiky na návrh vlády ve formě dekretu, kter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upodepíše předseda vlády, resp. členové vlády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pověření jejich výkon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iskuze ohledně kontinuity či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diskontinuit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yšlenka vytvoře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ÁRODNÍCH VÝB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kupina kolem Beneše „mají být dočasné“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období bezprostředně po ukončení okupač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oci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sté  - aby trvalou součástí systém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é správy a v podstatě jedinými realizátor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územní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sledkem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ní dekret o národních výborech a prozatímním národním shromáždění  č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18/1944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e 4. 12. 1944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a osvobozeném území měly být ustav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ístní,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okresní a zemské NV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jak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ozatímní orgány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 obcích a okresech s převážnou většinou „státně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nespolehlivého obyvatelstva“ místo N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právní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komisař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neb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ázka Zakarpatské Ukraji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smlouvy, v nichž se Československo zavázalo odstoupit ZU Sovětskému svazu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duben až červen 1945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) Veřejná správa v období  1945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559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průběhu osvobozování vznikal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činnost upravena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pozděj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vládním nařízen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. 4/1945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třístupňová struktura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íst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kresn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zemsk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národní výbor hlavního města Prah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taly se jedinými místními orgány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mnoha místech ještě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, okres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v český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ích zemské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faktick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ýkonnými orgány příslušných národních výbor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 Únoru 1948 patrné „usměrňující“ aktivity Komunistické strany i v oblasti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ČNÍ 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čaly vznikat (po 21. únoru) na nejrůznějších úro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 celé republice „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 okresech, městech, obcích, závodech, školách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úřadech, ale také v politických stranách a společensk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organizací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ncipovány jak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rgány trvale působíc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ladním úkole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„organizovat a představovat jednot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acujícího lidu měst a venkova“ a „odstranit všechn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rozvratné živly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jich politickému vliv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dřízeny národní výbor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dalš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ložky státního aparát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očátku nebyla upravena pravidla jejich činnosti an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jejich kompetence, řešily vyhlášky MV, až zákon č. 213/1948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z července 1948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A 9. KVĚTNA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vrchovaný lid vykonává státní moc zastupitelskými sbory, které jsou lidem voleny, lidem kontrolovány a lidu odpověd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apitola 6, §§ 123 - 133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nositelé a vykonavatelé státní moci v obcích, okresech a krajích a strážci práv a svobod lid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ístní, okresní a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krajsk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árodní výbory, </a:t>
            </a:r>
            <a:br>
              <a:rPr sz="20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24: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(I) Národní výbory  vykonávají na území, pro které jsou zvoleny, veřejnou správu ve všech jejích oborech, zejména obecnou správu vnitřní, správu kulturní a osvětovou, ochranu práce a správu zdravotní a sociální; správu finanční pak podle zvláštních ustanoven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A 9. KVĚT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§ 126: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(I) NV jsou při plnění svých úkolů povinny opírat se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o přímou účast a iniciativu lidu a podléhají jeho kontrole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Jejich členové a členové jejich orgánů jsou lidu ze sv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činnosti odpovědni. Způsob, jakým lid provádí kontrolu 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uplatňuje tuto odpovědnost, stanoví zákon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25 - práva a povinnosti v oblasti bezpečnostn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hospodářské - NV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chrání a posilují lidově demokratick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zřízení... pečují o národní bezpečnost ... účastní se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vypracovávání a provádění jednotného hospodářského 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plánu..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PŘEVZALA INSTITUT ÚSTAVNÍHO SOUDU - „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tala se jen formálním textem bez skutečné ochra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rvnu 1948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jezd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OMĚŘÍŽSKÝ PROGRA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tělen d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a č. 289/1948 o krajském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rajské zřízení zakotveno Ústavou 9. května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L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raje a krajské NV zřízeny až tímto zákone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 21. 12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zemí ČSR rozděleno na 19 kraj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českých zemích - 13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a Slovensku 6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zemí dosavadních okresů nebo obcí měla být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izpůsobena krajským hranic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českých zemí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oupl počet okres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e 154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na 180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dpovědnost KNV lidu, řízeny vládou a jí odpovědné,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jejich referenti příslušným resortním ministrů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ní zákon č. 47/1950 Sb. o úpravách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organizaci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umožňoval vládě, aby svými nařízeními mohla upravovat, zřizovat a rušit působnost ministerstev, pověřenectev a jiných orgánů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inisterstvo národní bezpečnost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ládním nařízením zdůrazněn požadavek, ab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aždý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měl vypracovaný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lán své činnost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který by byl kontrolovatelný volenými orgány i vyššími 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lánovací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s. ODBORNOST ÚŘEDNÍK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itika činnosti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soustřeďují agendy, které na ně byly přesunuty s tím, aby byly delegovány dál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dex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tři ústavní zákony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12/1954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ově definoval postavení národních výborů v systému orgánů státní mo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NV jsou místními orgány státní moci pracujícího lidu Československa. Jako nejširší organizace pracujících opírají se ve své činnosti v krajích, okresech a obcích a svazek dělníků, rolníků a pracující inteligence. NV řídí ve svých obvodech hospodářskou a kulturní výstavbu socialismu podle směrnice vlády a zákonů republiky. Soustavně se starají, aby byly stále lépe a plněji uspokojovány rostoucí hmotné a kulturní potřeby pracujících. Veškerou svou činností pečují o člověka a jeho blaho a upevňují důvěru pracujících k orgánům lidově demokratického stát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9261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4520" indent="-344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dex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: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12/1954 Sb.*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NV jsou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rajské, okresní,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městské, obvodní a místní, Ústřední národní výbor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hlavního města Prahy a Ústřední národní výbor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hlavního města Bratisla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V podřízeny vládě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t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ato struktura NV zůstala v platnosti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až do roku 1960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13/1954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upravoval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aci, působnost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a formy činnosti národních vý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všech stupňů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c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řetí zákon upravi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olby do NV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dobný způsob jak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v př. voleb do NS v roce 1948 - pouze jedna jednotná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kandidátka N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rvenci 1960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í zákon č. 100/1960 Sb., ústava Československé socialistické republiky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zorem sovětská ústava z r. 19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klady socialismu byly v Československé republice již vybudovány... Vedoucí silou ve společnosti i ve státě je předvoj dělnické třídy, Komunistická strana Československa, dobrovolný bojový svazek nejaktivnějších a nejuvědomělějších občanů z řad dělníků, rolníků a inteligence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čl. 4. zakotvil vedoucí úlohu KSČ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V součástí „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astupitelských sborů pracujícího lid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a Československé socialistické republiky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stavení a úkoly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charakterizují články 86 - 96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V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nejširší organizace pracujících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státní moci a správy v krajích, okresech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obcích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loženi z poslanců - lidem voleni, lidu odpovědni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hli být lidem odvoláni - funkční obdob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↑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4 rok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NV změněn n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 hlavního měst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Prah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NVP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ústavě rovně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rada, komise a dalš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rgány“ - část komise volena, část z občan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d přijetím ústavy přijat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č. 65/1960 Sb.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 národních výborech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přesněna charakteristika soustavy národních výborů: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rajs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kres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 obcích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ěstsk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ístní NV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městské NV působily ve městech, která byla sídl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krajů a okresů, a v ostatních velkých obc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městského charakteru, které určil KNV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městské NV v Bratislavě, v Brně, v Ostravě a v Plzni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postavení okresního NV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 obvodech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vodní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árodní výbor hlavního města Prah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vodní N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č. 65/1960 Sb. o národních výborech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 dbaj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by byly plněny zákony, chrání socialistické vymoženosti pracujícího lidu, socialistické vlastnictví, práva a oprávněné zájmy občanů a socialistických organizací, zabezpečují veřejný pořádek a dodržování pravidel socialistického soužití. K tomu vedou ve spoluprác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dobrovolnými společenskými organizacemi všechny občan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árodní výbory podle ustanovení zvláštních zákon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í a odvolávají soudce a soudce z lid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Hodnot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ak soudy v jejich obvodu plní své úkoly, a pomáhají ji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ákon č.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36/1960 Sb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ové územní členění státu (!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nížen počet krajů i počet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kra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ředočeský, Jihočeský, Západoče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everočeský, Východočeský, Jihomorav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everomoravský, Západoslovenský, Středosloven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Východoslovenský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očet okresů v českých zemích ze 180 na 76, </a:t>
            </a:r>
            <a:br>
              <a:rPr sz="20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na Slovensku ze 111 na 32</a:t>
            </a:r>
            <a:br>
              <a:rPr sz="20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ovém systému územního členění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se staly hlavními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    článk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kres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zoluce XIII. sjezdu KSČ o postavení národních výborů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 socialistické společnosti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dmíněna zejména špatným ekonomickým vývoje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69/1967 Sb. o národních výbor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69/1967 Sb. o národních výborech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zvýšena odpovědnost KNV za rozvoj kraj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+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zdůrazněna metodická a koordinační funkce k ON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 „nejvyšším orgánem státním moci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e svém územ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měly je pravidelně informovat soudy, prokuratura i SNB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řízení v kompetenci NS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rgány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plenární zasedání NV (základním a nejvyšším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rada NV, předseda, tajemník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 komis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odbo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městské NV a obvodní NV, někdy i místní NV měl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zřizovat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čanské výbo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783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očátku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mokratizační tenden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ční program KSČ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ijat ÚV KSČ 5. dubna 196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= instituce, „kde je demokraticky vytvářena lini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státní politiky v místech, zejména v okresech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krajích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- považovány za instituce, které „mus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pokračovat v pokrokových tradicích míst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samosprávy a lidové správy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náznaku i obnovení „samosprávné funkce“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ožadavek zabránit tomu, „aby v celém státní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echanismu nedocházelo k přílišném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střeďování moci v jednom článku, v jedno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aparátu nebo u jednotlivce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federace zřízena ústavním zákonem č. 143/1968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ze dne 27. října 1968 o československé federaci, který vstupoval v platnost od 1. 1. 1969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ředpokládal vypracování Ústavy ČSSR, Ústavy ČSR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a Ústavy SSR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nebyly za celou dobu existence  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federace rozpracov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avazoval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av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(č.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171/196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o zřízení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federálních ministerstev a federál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ýraznější změny ve federální a republikové správě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em č. 193/1988 Sb. a zákonem č. 194/198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Sb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„vytvářet podmínky pro rozvoj podnikatelské činnosti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hospodářské soutěže“, ale také zdůrazňuje nut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většího zhodnocení „vědeckých poznatků“ v činnost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vlády i jednotlivých ministerstev  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870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ÁRODNÍ VÝBOR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. zákonem o federaci byl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řízení národních výborů  svěřeno republikovým orgánů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v SSR došlo r. 1969 ke zrušení a r. 1970 k opětnému zavedení krajského zřízení,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 právní úpravě N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endence k posílení centralism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a naplňování článku 4 ústavy z r. 1960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nahy vlád obu republik o jednotný výkon působnosti zejména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těžištěm koncipování (ve spoluprá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 vládami republik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lány rozvoje krajů byly schvalovány vládou a po své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chválení se staly závaznými pro všechny orgány a instituc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ůsobící v rámci kraj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870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ÁRODNÍ VÝBORY A STŘEDISKA „PERSPEKTIVNÍCH OSÍDLENÍ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ládní nařízení ke sjednocení struktury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NV všech stupňů zřizuj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od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, nejmenší městské NV a místní NV s větším počtem než 2500 ob. zřizovaly pouze jeden odbor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oblémy v obcích s méně než 2500 o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v ČR 75%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V r. 1972 V ČR 420 městských NV, 13 obvodních NV (10 v Praze a 3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v Brně), 6823 místních NV (z toho 1239 v obcích s méně než 300 ob., 3355 výborů v obcích do 600 obyvatel, 1 770 místních NV v obcích s ne více než 1500 ob., jen 413 místních NV v obcích do 3000 ob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lády obou republik schválily na základě návrhů, které zpracovaly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„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třediska perspektivního osídl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“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 ČR 17O obcí jako středisek obvodního významu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1029 středisek místního významu (v nich MNV s alespoň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1 odborem a tajemníke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f. 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ze dne 9. říj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1990 ve městech,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územní členění zůstalo v podstatě nezměněné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d r.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ybrané prvky reforem 1848 - 191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adionovo prozatímní obecní zříz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březen 1849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vní moderní zákonná úprava pro obce (v širším smyslu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základem svobodného státu je svobodná obec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bce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íst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kres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krajsk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atnosti nabyly jen předpisy o obcích míst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ozeznávalo dvojí působnost obc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tzv. přirozenou působnost ob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ůsobnost přenesenou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říklad organizační str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ybrané prvky reforem 1848 - 191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ámcový říšský obecní zákoní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březen 1862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ce: místní, okresní a župní (krajské), zemsk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řízení vyšších obcí jen fakultativn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vojí působnost obcí - „samostatná“ a „přenesená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stituce statutárních měs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ystém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ck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zákonem z 19. května 1868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. 44 ř. z., vybudován aparát politické správy první a druhé stol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„pod vedením zemských šéfů budou záležitosti politick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právy vyřizovány zemskými politickými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zeměpanskými okresními politickými úřady (okres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hejtmanství) 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komunálními úřady obc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jektového řízení - nedostatky mechanismu pro koordinaci pra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 dokumentu Úřadu vlád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 některých úřadech stále dobře nefunguje horizontáln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informovanost všech sekcí úřadu o připravovaných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jektech. Objevily se případy, že věcně příslušné odbory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se nedozvěděly o možnosti účastnit se na řešení dan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blematiky v rámci prací.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běr členů projektových týmů, kteří mnohdy nesplňuj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určené charakteristiky a jejichž očekávání se liší od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ožadavků a zadání vedoucího příslušného projektu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Konkrétním příkladem je Projekt C.3 E-government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jektový tým C.3 byl oficiálně sestaven, ale úkoly tohoto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týmu řeší existující pracovní skupina Ministerstv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informatiky.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Obecným cílem je zajistit, aby ústřední správní úřady lépe prosazovaly realizaci zákonů a efektivněji poskytovaly své služby vládě a společnosti. Zlepšit se má realizace vládní politiky a kvalita materiálů pro rozhodování vlády. Reforma má podpořit širší využití moderních technologií a manažerských metod řízení a zvýšit horizontální koordinaci a komunikaci ústředních správních úřadů.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rioritní oblasti dalšího postupu zlepšování ústřední státní sprá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aplikace metod řízení a řízení kvality v ústřední státní správě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lepšování horizontální a vertikální komunikace a koordinace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nižování dopadů regulace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nižování administrativní zátěže podnikatelů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zdělávání top managementu ústředních správních úřadů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další posilování využití ICT (informačních a komunikačních technologií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y související s realizací projektů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Nejzávažnější komplikací se stal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časté změny vlády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v souvislosti s politickými změnam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šeobecně přetrvává velm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ízké povědom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veřejnosti, a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i úředníků) o zahájení realizace reformy a jejích hla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cílech. („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 této situaci paradoxně přispěl i fakt, že materiál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k postupu a hlavním směrům reformy byl v březnu 2004 při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rojednání vládou schválen bez širší politické debaty a publicity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ybné vnímání reformy jako jednorázového procesu, který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lze implementovat jednorázovým politickým rozhodnut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nebo legislativním opatření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ěkterých případech byly totiž materiály rozeslány d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řipomínkového řízení bez předchozího projednání Řídí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ýme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izika dalšího postup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cká podpo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olební obdob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realizace výstupů reformy přesahuj současn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dpora státních úřední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„pasivní rezistence“ vůči reformním snahám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Zlepšování je zaměňováno za reorganizaci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- nedostatečná informovanost o aplikaci jiných nástrojů -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„například moderní metody řízení a změna přístupu k řešení problémů ve veřejné správě, a to jak v přípravě rozhodnutí, tak ve způsobech sledování dosahovaných výsledků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i vzniku ČSR pro systém VS určujíc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zv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CEPČNÍ ZÁKON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zákon č. 11/1918,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 zřízení samostatného státu československého)</a:t>
            </a:r>
            <a:br>
              <a:rPr sz="2400"/>
            </a:b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veškeré dosavadní zemské a říšské zákony a nařízení zůstávají prozatím v platnosti“</a:t>
            </a:r>
            <a:br>
              <a:rPr sz="1800"/>
            </a:b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všechny úřady samosprávné, státní a župní, ústavy státní, zemské, okresní, župní a obecní jsou podřízeny Národnímu výboru a prozatím úřadují a jednají podle dosud platných zákonů a nařízení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mj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 zabezpečení kontinuity v činnostech veřejné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převzat celý právní řád a správní systé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Rakouska pro české země,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Uher pro Slovensko a Podkarpatskou Ru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CENTRÁLNÍ INSTANCE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jvyšší správ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zřízeny zákone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. 2/1918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12 „úřadů pro správu“ (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1919 -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Ministerstvo pro sjednocení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              zákonodárství a organizace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Nejvyšší správní soud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upraven zákonem č. 3/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841400"/>
            <a:ext cx="787068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převzata tak, jak existovala na konci vál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chách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íť místních, okresních a zemských NÁRODNÍCH VÝBOR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litickou organizací plnící od vzniku ČSR funk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cenského aparátu k řešení místních nejaktuálnějších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blém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činnost značně nejednotná, většino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bezkoncepční - sjednotit se snaži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V v Praz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 ukončena usnesením vlády v prosinci 191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8:37:28Z</dcterms:created>
  <dc:creator>77120</dc:creator>
  <dc:description/>
  <dc:language>en-US</dc:language>
  <cp:lastModifiedBy>77120</cp:lastModifiedBy>
  <dcterms:modified xsi:type="dcterms:W3CDTF">2006-10-09T07:51:29Z</dcterms:modified>
  <cp:revision>501</cp:revision>
  <dc:subject/>
  <dc:title>VEŘEJNÁ SPRÁVA ČR</dc:title>
</cp:coreProperties>
</file>