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6F3F-F2EC-45B1-ACBC-ACFC5E54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C39-9D94-4FBE-B55F-4E3F5A12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25B-16B1-4C4D-8D1A-DD3DFB7D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7053-A393-4D4A-B2E0-085E9E1A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C624-51A7-4BCA-8CDA-77357EB9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41F4-A21E-4E83-BA82-FE795447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E817-4575-4642-AF09-C53200B8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AA84-8459-4DBE-A9C5-22985235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A15D-F9C9-4730-8E49-41585FC6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B977-4CF0-462A-AF5F-5648312B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8F54-5532-4A30-BEBA-2475FB6A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737-0C26-4D22-8437-06BC8E3F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AFB1-64D6-4142-A62F-D3F51681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06CD-F315-46B3-8F72-1F5C38BC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F18E-84FA-4403-A52D-D8676737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B63F-70C2-4C84-9D66-FCB3CD31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5D09-E9D5-4118-B780-D45CD84E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E3C1-27FC-4122-8E04-D1BA5D23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285-195A-4961-80EC-87177186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12D-2052-4B03-8DCF-7B61A0D5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336F-B8A6-41CB-A6A4-8D5B8189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2311-A1BD-4EEB-B601-484EDAF7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F5A-7ED0-442A-8376-693EE188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A76-6BAC-492B-A9F5-EF11D981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4DF4-5A84-4DF9-BCC5-F94BFE67B16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C643-BCD7-4CD2-A878-F7233C07FC8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abulka.doc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Oblasti.rizeni.pdf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EFQM_schema.doc" TargetMode="External"/><Relationship Id="rId2" Type="http://schemas.openxmlformats.org/officeDocument/2006/relationships/hyperlink" Target="file:///CAF_struktura_2006_2002.pdf" TargetMode="Externa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SWOT/BSC_Vsetin.doc" TargetMode="External"/><Relationship Id="rId2" Type="http://schemas.openxmlformats.org/officeDocument/2006/relationships/hyperlink" Target="file:///SWOT/SWOT_CR.pdf" TargetMode="External"/><Relationship Id="rId3" Type="http://schemas.openxmlformats.org/officeDocument/2006/relationships/hyperlink" Target="file:///SWOT/swot_problemova_analyza_JMK.pdf" TargetMode="External"/><Relationship Id="rId4" Type="http://schemas.openxmlformats.org/officeDocument/2006/relationships/hyperlink" Target="file:///SWOT/swot_Olomouc.doc" TargetMode="External"/><Relationship Id="rId5" Type="http://schemas.openxmlformats.org/officeDocument/2006/relationships/hyperlink" Target="file:///SWOT/krajskavize.doc" TargetMode="External"/><Relationship Id="rId6" Type="http://schemas.openxmlformats.org/officeDocument/2006/relationships/hyperlink" Target="file:///SWOT/strategicka_vize_globalni_cile.doc" TargetMode="External"/><Relationship Id="rId7" Type="http://schemas.openxmlformats.org/officeDocument/2006/relationships/hyperlink" Target="file:///SWOT/strednedoby_vyhled_Jihocesky_kraj.pdf" TargetMode="External"/><Relationship Id="rId8" Type="http://schemas.openxmlformats.org/officeDocument/2006/relationships/hyperlink" Target="http://www.mepco.cz/index.php?pg=sluzby4.htm" TargetMode="External"/><Relationship Id="rId9" Type="http://schemas.openxmlformats.org/officeDocument/2006/relationships/hyperlink" Target="http://www.mepco.cz/index.php?pg=sluzby4.htm" TargetMode="External"/><Relationship Id="rId10" Type="http://schemas.openxmlformats.org/officeDocument/2006/relationships/hyperlink" Target="http://www.mepco.cz/index.php?pg=sluzby4.htm" TargetMode="External"/><Relationship Id="rId11" Type="http://schemas.openxmlformats.org/officeDocument/2006/relationships/hyperlink" Target="http://www.mepco.cz/index.php?pg=sluzby4.htm" TargetMode="External"/><Relationship Id="rId12" Type="http://schemas.openxmlformats.org/officeDocument/2006/relationships/hyperlink" Target="http://www.mepco.cz/index.php?pg=sluzby4.htm" TargetMode="External"/><Relationship Id="rId13" Type="http://schemas.openxmlformats.org/officeDocument/2006/relationships/hyperlink" Target="http://www.mepco.cz/index.php?pg=sluzby4.htm" TargetMode="External"/><Relationship Id="rId14" Type="http://schemas.openxmlformats.org/officeDocument/2006/relationships/hyperlink" Target="http://www.mepco.cz/index.php?pg=sluzby4.htm" TargetMode="External"/><Relationship Id="rId15" Type="http://schemas.openxmlformats.org/officeDocument/2006/relationships/hyperlink" Target="http://www.mepco.cz/index.php?pg=sluzby4.htm" TargetMode="External"/><Relationship Id="rId16" Type="http://schemas.openxmlformats.org/officeDocument/2006/relationships/hyperlink" Target="http://www.mepco.cz/index.php?pg=sluzby4.htm" TargetMode="External"/><Relationship Id="rId17" Type="http://schemas.openxmlformats.org/officeDocument/2006/relationships/hyperlink" Target="http://www.mepco.cz/index.php?pg=sluzby4.htm" TargetMode="External"/><Relationship Id="rId1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Personalni.cinnosti.doc/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Meyers.doc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zlin.estranky.cz/clanky/batismus_-batovy-zavody/batovske-formy-organisace-prace-a-odmenovani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Řízení ve veřejné správ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355640" y="4508640"/>
            <a:ext cx="35686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avid Špaček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VVSU - přednáška č. 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říjen 2006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Elton Mayo a kol. - Human Relations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změny osvětlení, změny doby odpočinku, zkracování pracovní doby a různé stimulační mzdové systémy nejsou vysvětlením změn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v produktivitě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→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ůsobí morálka, uspokojující vzájemný vztah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mezi členy skupiny (pocit sounáležitosti) a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efektivní management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→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manažeři operují v sociálním systému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způsob řízení, který by měl chápat lidské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chování, zejména pak skupinové, a podporovat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mezilidské vztahy pomocí motivování, udělován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rad a vedení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Luther Gulick - manažerské funkce POSDCORB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lanning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organizing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staff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directing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coordinating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report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budgeting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odáčka a Vodáčkové: ani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koncept "manažerských funkcí" se nevyhnul diskusi o své oprávněn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Henri Mintzberg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realita činnosti vedoucích pracovníků se dá shrnout do deseti "rolí"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3 skupiny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1) interpersonál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- interní i externí: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představitel organiz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vůdce organiz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spojovací článe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2) informační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role: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monitorujícího příjemce informac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šiřitele informac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mluvčí organizace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Henri Mintzberg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realita činnosti vedoucích pracovníků se dá shrnout do deseti "rolí"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3 skupiny:*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3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) rozhodovac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- projevem jeho cílevědomé činnosti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k dosažení cílů organizace - rol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podnikatelská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řešitele problém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alokace zdrojů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vyjednavač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Umění vedoucího pracovníka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= sladěná integrace rolí podle potřeb organizace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Koonst a Weihrich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management = proces tvorby a udržování prostředí, ve kterém jednotlivci pracují společně ve skupinách a účinně dosahují vybraných cílů + znalosti o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1.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Jak manažeři uskutečňují funkce řízení a to plánování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organizování, personalistiku, vedení a kontrolování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2.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Jak je management aplikován v různých druzí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organizací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3.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Jak je management aplikován manažery na různý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řídících úrovních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4.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Že cíl všech manažerů je stejný: vytvářet přebytek (zisk)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5.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Že řízení je spojeno s produktivitou. To zahrnuje též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efektivnost a účinnost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Drucker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hlavní činnosti manažera: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1) stanovení cílů a způsob jejich dosažení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2) organizová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3) motivace a komunikac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4) měření (vyhodnocení dosažených výsledků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5) profesní a kvalifikační rozvoj kolektivu i sebe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Vodáčková, Vodáček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manažerské funkc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1) sekvenč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6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a) plánová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b) organizová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c) výběr a rozmístění spolupracovník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d) kontrola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2) průběžné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a) analyzování řešených problémů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b) rozhodová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c) realizace / implementa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484280"/>
            <a:ext cx="76611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-389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systém řízení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úkolem je výběr mezi variantam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výkonný systém</a:t>
            </a:r>
            <a:br>
              <a:rPr sz="26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  <a:ea typeface="Arial"/>
              </a:rPr>
              <a:t>přejímá úkoly a provádí j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požadavek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a) srozumitelnos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b) shodnost základních zájm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kontrolní systém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získání informací o stavu výkonného systému + náprav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odchylek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požadavek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a) nezávislost kontrolního systému na systému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výkonné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b) znalost vlastního výkonného systému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c) minimální zpoždění při získávání informac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- Systém řízení a objekt řídících procesů 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(Wright a Noe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a) makro-aspekty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0" lang="pl-PL" sz="2200" spc="-1" strike="noStrike">
                <a:solidFill>
                  <a:srgbClr val="292929"/>
                </a:solidFill>
                <a:latin typeface="Arial"/>
                <a:ea typeface="Arial"/>
              </a:rPr>
              <a:t>strategie, struktura, kultura či změn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b) mikro-aspekty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aspekty jednotlivc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postoje, vnímání, dovednosti či motiv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c) interacting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expertiza komunikace, skupinových procesů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konfliktů či stres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d) pracovní procesy organizac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pracovní místa, operace a technologi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management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= „direktování“zdrojů organizace takovým způsobem, který efektivně (efficiently) vede k dosažení cílů organiz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Bedrnová, Nový: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 Psychologie a sociologie říze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jednání pracovníka je vždy vázáno na sociální strukturu organizace, v níž působ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sociální struktura organizace a její dynamika je nemyslitelná bez aktivní účasti konkrétních jednajících osob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konkrétní koncepce řídicí prá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jde o otázky integrace individuálních a podnikových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potřeb a cílů, volby a uplatňování určitého modelu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mocenských vztahů a kontroly v organizaci, o problém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koordinace činnosti jednotlivých oddělení a skupin a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v neposlední řadě o zajišťování a zvyšování adaptability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všech pracovníků na potenciální, vývojem trhu podmíněné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změn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Obsah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Teorie řízení - definice a výběr </a:t>
            </a:r>
            <a:br>
              <a:rPr sz="2800"/>
            </a:b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     z konceptů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Řízení a veřejná správa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- systém</a:t>
            </a:r>
            <a:br>
              <a:rPr sz="2400"/>
            </a:b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- specifika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- prvky</a:t>
            </a:r>
            <a:br>
              <a:rPr sz="2400"/>
            </a:b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- nástroje / metody </a:t>
            </a:r>
            <a:br>
              <a:rPr sz="2400"/>
            </a:b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(výsledky empirického šetření)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STYLY MANAGEMENTU - Liker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(použitelné uvnitř organizace i uvnitř systému V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exploatačně autoritativní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moc i řízení působí jednosměrně odshora dolů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používání trestů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chudá komunika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neexistence týmové prá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styl benevolentně autoritativ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příležitostné konzultace problémů podřízených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kromě pokut i odměn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konzultativní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diskuze s podřízenými = oboustranná komunika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participativ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0) Vymezení správní vě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pro účely tohoto předmětu 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 u="sng">
                <a:solidFill>
                  <a:srgbClr val="292929"/>
                </a:solidFill>
                <a:uFillTx/>
                <a:latin typeface="Arial"/>
              </a:rPr>
              <a:t>účelově</a:t>
            </a:r>
            <a:r>
              <a:rPr b="1" lang="fr-FR" sz="2100" spc="-1" strike="noStrike">
                <a:solidFill>
                  <a:srgbClr val="292929"/>
                </a:solidFill>
                <a:latin typeface="Arial"/>
              </a:rPr>
              <a:t> zaměřen</a:t>
            </a:r>
            <a:r>
              <a:rPr b="1" lang="cs-CZ" sz="2100" spc="-1" strike="noStrike">
                <a:solidFill>
                  <a:srgbClr val="292929"/>
                </a:solidFill>
                <a:latin typeface="Arial"/>
              </a:rPr>
              <a:t>á společenská věda, která je základem pro neprávní studium svého předmětu: veřejné správy</a:t>
            </a:r>
            <a:br>
              <a:rPr sz="2100"/>
            </a:br>
            <a:r>
              <a:rPr b="1" lang="cs-CZ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„studium správy se odděluje od správního práva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5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nutný </a:t>
            </a:r>
            <a:r>
              <a:rPr b="1" lang="cs-CZ" sz="2100" spc="-1" strike="noStrike">
                <a:solidFill>
                  <a:srgbClr val="292929"/>
                </a:solidFill>
                <a:latin typeface="Arial"/>
              </a:rPr>
              <a:t>interdisciplinární přístup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 k předmětu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5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292929"/>
                </a:solidFill>
                <a:latin typeface="Arial"/>
              </a:rPr>
              <a:t>zaměření na nevrchnostenské aspekty veřejnosprávních činností 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(souvisí především </a:t>
            </a:r>
            <a:br>
              <a:rPr sz="2100"/>
            </a:b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s tzv. alokační a technickou efektivnost veřejné správy)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5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 u="sng">
                <a:solidFill>
                  <a:srgbClr val="292929"/>
                </a:solidFill>
                <a:uFillTx/>
                <a:latin typeface="Arial"/>
              </a:rPr>
              <a:t>cíle</a:t>
            </a:r>
            <a:r>
              <a:rPr b="1" lang="cs-CZ" sz="2100" spc="-1" strike="noStrike">
                <a:solidFill>
                  <a:srgbClr val="292929"/>
                </a:solidFill>
                <a:latin typeface="Arial"/>
              </a:rPr>
              <a:t>: </a:t>
            </a:r>
            <a:br>
              <a:rPr sz="2100"/>
            </a:b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a) integrovat materii především pro neprávní studium </a:t>
            </a:r>
            <a:br>
              <a:rPr sz="2100"/>
            </a:b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    veřejné správy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b) zvýšit </a:t>
            </a:r>
            <a:r>
              <a:rPr b="1" i="1" lang="cs-CZ" sz="2100" spc="-1" strike="noStrike">
                <a:solidFill>
                  <a:srgbClr val="292929"/>
                </a:solidFill>
                <a:latin typeface="Arial"/>
              </a:rPr>
              <a:t>kvalitu</a:t>
            </a:r>
            <a:r>
              <a:rPr b="1" lang="cs-CZ" sz="21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veřejnosprávních činností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5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je vědou </a:t>
            </a:r>
            <a:r>
              <a:rPr b="1" lang="cs-CZ" sz="2100" spc="-1" strike="noStrike">
                <a:solidFill>
                  <a:srgbClr val="292929"/>
                </a:solidFill>
                <a:latin typeface="Arial"/>
              </a:rPr>
              <a:t>deskriptivní, 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zahrnuje v sobě i složku </a:t>
            </a:r>
            <a:r>
              <a:rPr b="1" lang="cs-CZ" sz="2100" spc="-1" strike="noStrike">
                <a:solidFill>
                  <a:srgbClr val="292929"/>
                </a:solidFill>
                <a:latin typeface="Arial"/>
              </a:rPr>
              <a:t>normativní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0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483920"/>
            <a:ext cx="8015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Ve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řejná správ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v rámci systému veřejné moci / institucionálně </a:t>
            </a:r>
            <a:br>
              <a:rPr sz="2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jeden z institucionálních nástrojů pro dosahován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í státu nebo nižšího územně-správního celk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materiálně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mix činností tradiční správy a řízení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terý vyplývá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 úlohy veřejné správy ve veřejném sektoru (část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eřejného sektoru garantující – vlastní činností či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jinak - zabezpečování jeho funkcí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řízení společnosti 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(prvek institucionalizované kontroly a 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regulace)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a zdrojů k dosahování cílů vlád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Waldo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)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teré by v moderním státě mělo stavět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a racionalitě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NPM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a také odrážet potřeby občanů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GG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0) Interdisciplinár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eřejná správa specifickým nástrojem společenského řízení,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který však musí podléhat určitým řídicím procesům ("vnitřní"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řízení řídícího subjektu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raxi řízení VŽDY ovlivňuje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kde se řídí - </a:t>
            </a:r>
            <a:r>
              <a:rPr b="1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9 úrov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veřejné správy ČR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co se řídí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jakým způsobem (jaká volnost řízen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odpovědnost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s jakým cílem (v čí prospěch?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) s jakými zdroji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↑ legitimit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plánování a kontrola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= vyhodnocování účinnosti)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↑ racionalit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důraz na využití existujících znalost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vytváření nových poznatků (učení se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) Řízení a veřejná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nutné rozlišovat řízení na </a:t>
            </a:r>
            <a:br>
              <a:rPr sz="28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makroúrovni (především SS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mikroúrovn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a současně řízení</a:t>
            </a:r>
            <a:br>
              <a:rPr sz="2800"/>
            </a:b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a) interních procesů</a:t>
            </a:r>
            <a:br>
              <a:rPr sz="28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mezi subjekty VS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uvnitř subjektů veřejné správy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řízení vztahů politických a správních</a:t>
            </a:r>
            <a:br>
              <a:rPr sz="2800"/>
            </a:b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b) externích procesů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8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ztahů subjekt VS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↔ adresát VS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● vrchnostenské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● nevrchnostenské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) Oblasti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Arial"/>
                <a:ea typeface="Arial"/>
                <a:hlinkClick r:id="rId1"/>
              </a:rPr>
              <a:t>schéma systemizace pro současnou praxi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 (????)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	</a:t>
            </a:r>
            <a:br>
              <a:rPr sz="2400"/>
            </a:b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) Systém mikrořízení ve veřejné správě a model C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-389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šeobecný nástroj sebehodnocení který odráží specifika institucí veřejného sektoru"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oslední novelizace ze září 2006 – specifika: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emokratická citlivost na potřeby a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dpovědnost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fungování v rámci právního rámc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omunikace s politickou úrov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apojení tzv. stakeholders a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e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alancování potřeb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f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ekcelenci při poskytování služeb vč. tzv. value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for money a řízení inovac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grafické znázorněn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podobné jako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EFQM_x000b_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+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systém managementu a CAF 2002/2006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1) PLÁN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informační proces stanovení cílů a postupů jejich dosažení - </a:t>
            </a:r>
            <a:r>
              <a:rPr b="1" lang="pl-PL" sz="2400" spc="-1" strike="noStrike">
                <a:solidFill>
                  <a:srgbClr val="292929"/>
                </a:solidFill>
                <a:latin typeface="Arial"/>
              </a:rPr>
              <a:t>co, kdo, jak, kdy a s jakými náklad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rvky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ředvídání očekávané budoucnosti na základě znalosti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fakt o stavu řízené jednotky, vnějšího prostřed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tendenci vývoj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tanovení cílů a prostředků, které předurčují činnost vše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rganizačních jednotek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pracování konkrétně specifikovaných postupů činností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teré zajišťují plnění stanovených cílů na jednotlivý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acovních úsecí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+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pracování časového postupu pro provedení jednotlivý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otřebných dílčích prací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ogramy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”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1) PLÁN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odle časového horizontu: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louhodobé - více než 5 let,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řednědobé - 1 až 5 let,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krátkodobé - zhruba 1 rok, i kratší obdob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odle úrovně rozhodovacího procesu: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rategické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komplexní plánování prováděné na úrovni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celé organizace či strategických jednotek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aktické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specifikace a konkretizace cílů strategického rozhodnutí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včetně prostředků k jejich dosažení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plány na úrovni jednotlivých funkčních oblastí a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organizačních článků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1) PLÁN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odle úrovně rozhodovacího procesu:*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operativní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 vychází z taktického rozhodování z konkrétních,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známých podmínek a zdrojů, krátkodobý charakter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 hlavním významem je dotváření rozhodnutí pro procesy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provozní a procesy s nimi bezprostředně související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íl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- hierarchická struktura podle hierarchie plánů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ožadavky: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jednoznačná formulac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jednoznačně vymezená oblast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určený časový horizont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specifikace vazeb na návazné cíl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měřitelnost / vyjádřitelnos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Mot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Většina literatury se vztahuje k deskripci mechanismů, nástrojů atd., které mohou být uplatněny v soukromém sektoru. S ohledem na moderní přístupy k řízení ve veřejné správě musejí být dány do souvislostí se specifickými charakteristikami tohoto sociálního fenoménu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6615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1) PLÁNOVÁNÍ A TRADIČNÍ MODEL V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negativní prvk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krátkodobý pohled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dichotomie politiky a správ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aměření na externí prostřed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esystematičnos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estrategičnost vs. resortismu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vky dlouhodobějšího plánování v současnosti - příklady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metoda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BSC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analýza SWOT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a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b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c)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strategie regionálního rozvoje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a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b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střednědobé finanční výhled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§ 3 Zákona č. 250/2000 Sb., o rozpočtových pravidle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zemních rozpočtů)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a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např. zde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mepco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/index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php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?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pg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=sluzby4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7"/>
              </a:rPr>
              <a:t>ht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6615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2) ORGANIZ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ílem uspořádat prvky v systému, jejich aktivity, koordinaci, kontrolu tak, aby přispěly maximální měrou k dosažení stanovených cílů systém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oces přiřazení činností a zdrojů v prostoru a čase se záměrem zajistit plánované úkol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zásahy do nového celku / vytvoření nového celk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ude věnována samostatná přednáška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2840" y="1696680"/>
            <a:ext cx="766152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3) PŘIKAZOVÁNÍ A MOTIVOVÁNÍ / STIMUL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EORIE ŘÍZENÍ ORGANIZACÍ SOUKROMÉHO SEKTORU: 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lidské zdroje a jejich úspěšné řízení v podstatné míře rozhodují o tom, jak podnik v boji s konkurencí uspěje nebo naopak neuspěje. Řízení lidských zdrojů je rozhodujícím nástrojem zvyšování výkonnosti, konkurenceschopnosti a tedy ekonomické úspěšnosti podniku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získávání, udržování, propouštění, rozvoj a optimální využívání pracovníků podnik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OTÁZKOU CO JE KRITÉRIEM ÚSPĚŠNOSTI VEŘEJNÉ SPRÁ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6615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3) PŘIKAZOVÁNÍ A MOTIVOVÁNÍ / STIMUL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TÁZKOU PRVKY FUNKCE MOTIVACE ZAMĚSTNANC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základní personální činnost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současnosti diskuze na téma výkonem determinované platů (PRP) zaměstnanců veřejné správ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ECD 2005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Performance-related Pay Policies for 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Government Employees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RP vycházejí z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rganizace je schopna přesně měřit výsledky činnosti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dnotlivce / týmu / pracovní jednotky / organiz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ýsledky činnosti jednotlivce nebo týmu / pracov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dnotky přispívají k výkonnosti organiz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lat může být upravován způsobem, který kapitalizuje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čekávané vnímání hodnoty jeho potenciálního recipient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6615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3) PŘIKAZOVÁNÍ A MOTIVOVÁNÍ / STIMUL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ECD 2005: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Performance-related Pay Policies for Government Employees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e většině zemí se plat úředníků skládá v současné době ze 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třech základních komponent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 základní pla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odměna spojená s charakterem či povinnostmi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zastávaného míst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výkonová složka platu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ávěr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dopad PRP na výkon je omezený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- většina zaměstnanců nepovažuje PRP za motivující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- náplň práce a potencionální rozvoj kariéry jsou pokládány   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úředníky za motivy silnější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manažerský nástroj sekundární významnost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6615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4) KOORDIN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laďování jednotlivých činností a odstraňování různosti postupu jednotlivých pracovníků a útvarů = napříč systéme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ude věnována samostatná přednášk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5) KONTROL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zjišťování určitého stavu a jeho hodnocení, tj. srovnávání se stavem, který měl být dosažen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AMOSTATNÝ PŘEDMĚT - PVKVS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6615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0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6) ROZHOD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kritickým článkem řídících proces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roces volby mezi dvěma nebo více alternativami v konkrétní situaci, přičemž zvažované alternativy nemusí být současně proveditelné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áze rozhodovacího procesu (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Ochrana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: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Identifikace možností - příležitostí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Stanovení cílů - očekávaných stavů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Vymezení podmínek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Stanovení alternativ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Stanovení kritérií a hodnocení alternativ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Třídění alternativ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Výběr alternativy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Realizace vybrané alternati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 současnosti důraz na zpětnou vazb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6615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6) ROZHOD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racionalita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hommo economicus vs. administrative behaviour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H. A. Simon: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„v sociálním rozhodování nejde - a ani nemůže jíž -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o úplnou racionalitu, ale pouze o racionalitu omezenou...</a:t>
            </a:r>
            <a:br>
              <a:rPr sz="2000"/>
            </a:b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lidé v praktickém životě nehledají optimální řešení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problémů, s nimiž jsou konfrontování, nýbrž  spokojují se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zcela běžně s prvním řešením, které se jim jeví jako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uspokojivé, přičemž kritéria uspokojivosti závisí na jejich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momentální percepci skutečnosti “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→ racionální vs. uspokojivé řeše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garbage can model (viz studijní materiál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) Vybrané další nástroje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6615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349200" indent="-349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eyers, F. et al. Performance of public sector organizations: do management instruments matter? (june 2006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- vybrané závěry: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not much is known about the influence of specific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management instruments on performance of public sector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rganizations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tudies focus on governments as a whole, rather than on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individual public sector organizations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ůvody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ebulous management terminolog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absence of knowledge about relevant covariates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elusive concept of performan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lack of theoretical underpinnings</a:t>
            </a:r>
            <a:br>
              <a:rPr sz="2000"/>
            </a:b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předmět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9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9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)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  <a:ea typeface="Arial"/>
              </a:rPr>
              <a:t>manus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(ruka)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  <a:ea typeface="Arial"/>
              </a:rPr>
              <a:t>, managgio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(ovládání, správa, veden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  <a:ea typeface="Arial"/>
              </a:rPr>
              <a:t>Drucker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„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Výklad pojmu ´management´ je zvláště nesnadný. Především jde o pojem specificky americký a je obtížné ho výstižně přeložit do ostatních jazyků, dokonce i do britské angličtiny. Označuje nejen funkci, ale také lidi, kteří ji vykonávají. Označuje nejen sociální postavení a jeho stupeň, ale také odbornou disciplínu a obor studia.“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) Řízení - defi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84104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cílově orientované zvládnutí celku (systému)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i jednotlivých funkcionálních činností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(Vodáček, Vodáčková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účelná lidská činnost, která směřuje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k ovlivňování činnosti řízeného systému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v souladu s vytyčeným cílem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br>
              <a:rPr sz="2600"/>
            </a:br>
            <a:r>
              <a:rPr b="0" i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složitost řízení roste přímo úměrně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specializaci práce a počtu řízených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(Máša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řízení vs. vedení (leadership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Vědecký management a Frederick Taylor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v díle Principles of Scientific Management (1911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technický směr sociologie organizace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člověk mechanickým nástroje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použitím vědeckých metod řízení, místo používání tradičních metod nebo řízení od oka, lze dosáhnout zvýšení produktivity, aniž by bylo nutné zvýšit pracovní úsilí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rincipy vědeckého managementu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1. Nahradit empirii vědou (organizovanými znalostmi)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2. Místo nesouladu dosáhnout harmonie ve skupinové činnosti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3. Místo chaotického individualismu dosáhnout spolupráce lidí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4. Místo omezování výstupů pracovat pro jejich maximalizaci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5. Zabezpečit rozvoj všech pracujících pro dosažení plného využití 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    jejich schopností a pro dosažení maximální prosperity společnos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Henry Fayol - </a:t>
            </a:r>
            <a:r>
              <a:rPr b="1" lang="fr-FR" sz="2600" spc="-1" strike="noStrike">
                <a:solidFill>
                  <a:srgbClr val="292929"/>
                </a:solidFill>
                <a:latin typeface="Arial"/>
                <a:ea typeface="Arial"/>
              </a:rPr>
              <a:t>Administration Industrielle et Générale (1916)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 -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rincipy správ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 (možnosti)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dělba prá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ravomoc a odpovědnost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míra odpovědnosti závisí na pravomoc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disciplína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jednota přikaz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jednota řízení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odřízenost individuálních zájmů zájmům společný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odměňování </a:t>
            </a:r>
            <a:r>
              <a:rPr b="0" lang="cs-CZ" sz="24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 poctivé, uspokojování zaměstnanců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         i zaměstnavatel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Henry Fayol - </a:t>
            </a:r>
            <a:r>
              <a:rPr b="1" lang="fr-FR" sz="2600" spc="-1" strike="noStrike">
                <a:solidFill>
                  <a:srgbClr val="292929"/>
                </a:solidFill>
                <a:latin typeface="Arial"/>
                <a:ea typeface="Arial"/>
              </a:rPr>
              <a:t>Administration Industrielle et Générale (1916)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 -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rincipy správ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 (možnosti):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centralizace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koncentrace musí odpovídat daným podmínkám tak, ab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přinášela co největší užite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řetěz nadřízenosti od nejvyšší k nejnižší úrovni říze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ořádek (organizování):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„Každé místo je určeno pro něco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(pro někoho) a každá věc (každá osoba) má své místo.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spravedlnost 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„U zaměstnanců by měla být pěstován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věrnost a úcta, která by v kombinaci s laskavost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spravedlností ze strany manažerů měla zakládat vztah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nadřízenosti a podřízenosti.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Henry Fayol - </a:t>
            </a:r>
            <a:r>
              <a:rPr b="1" lang="fr-FR" sz="2600" spc="-1" strike="noStrike">
                <a:solidFill>
                  <a:srgbClr val="292929"/>
                </a:solidFill>
                <a:latin typeface="Arial"/>
                <a:ea typeface="Arial"/>
              </a:rPr>
              <a:t>Administration Industrielle et Générale (1916)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 -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rincipy správ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 (možnosti):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stabilita majetk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iniciativa - vypracování a realizace plán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jednotný duch - týmová práce a komunik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+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ět prvků správy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1) plánová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2) organizování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3) přikazování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4) koordinování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5) kontrolování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ro zajimavost srovnejte s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Batismem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 -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ea typeface="Arial"/>
                <a:hlinkClick r:id="rId1"/>
              </a:rPr>
              <a:t>zd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0:30:58Z</dcterms:created>
  <dc:creator>Eman</dc:creator>
  <dc:description/>
  <dc:language>en-US</dc:language>
  <cp:lastModifiedBy>77120</cp:lastModifiedBy>
  <dcterms:modified xsi:type="dcterms:W3CDTF">2006-10-31T06:20:34Z</dcterms:modified>
  <cp:revision>161</cp:revision>
  <dc:subject/>
  <dc:title>Vymezení správní vědy a veřejné správy</dc:title>
</cp:coreProperties>
</file>