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800-66E5-40FE-ADB3-97F445EC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99C-EA1C-4E16-B301-256AD59B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C53-F6D7-4790-A0E7-1971F497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4A4-C263-4F2E-8A93-86B1C4DF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5A72-D417-4293-A12A-5551BA7F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36EA-3569-412F-968C-A0A8D5D6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D238-AA66-4D36-B807-E0FCCC50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4AE8-4D31-470E-B494-77F93AF9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EF4B-C458-44DE-BDE2-6B40C61B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17A-172A-46D6-AFDD-CFD07498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DF88-0557-40F5-A589-0C5155D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87A-DEAF-4C81-85B3-0814F6B8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E69D-2A5C-4516-AB15-6B8F4811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4354-DB99-49B6-B60B-1E8BEEB3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B236-1413-4517-B6D2-9870C19E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0D9B-A9F0-4517-88A6-5BCE80B3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5523-6AF5-4C15-B9C4-303B5FC3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85E-4247-411C-8B31-691B262A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AFC-998C-4A95-895B-AA096E39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0A4-E2EB-42CB-B646-2D5C0F83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EC0-6D8B-4CAD-8CF6-343E8FA3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A21-21AF-4EFC-868C-F311D84A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6AD-2692-496E-B901-0E59936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97E-C27F-4874-B615-60A2E32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BB74-B2C5-4120-AC90-8319991BF3D5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B777-AD03-4637-9BEC-479E0F4A1EE4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acionalni.rozhodovani.doc/" TargetMode="External"/><Relationship Id="rId2" Type="http://schemas.openxmlformats.org/officeDocument/2006/relationships/hyperlink" Target="http://Racionalni.rozhodovani.doc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vcr.cz/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mvcr.cz/sprava/reforma/moznosti.html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znam komunikace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 systému veřejné s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92360" y="4436640"/>
            <a:ext cx="44323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Ing. David Špaček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KVE ESF M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rvky komunikac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kátor (vysílatel informace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nímání - interpret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akód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děle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ateriální nosič nebo komunikační kanál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 přenos sděle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kódování příjemce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pětná vazb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š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rvky komunikace </a:t>
            </a:r>
            <a:br>
              <a:rPr sz="26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(the Shannon-Weaver Communication Model)</a:t>
            </a:r>
            <a:br>
              <a:rPr sz="2000"/>
            </a:b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* Zdroj Level, A. D., Galle, W. P.: Managerial Communication</a:t>
            </a: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zpě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734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rvky komunikac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(model Wilbura Schramma)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* Zdroj Level, A. D., Galle, W. P.: Managerial Communic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72738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Účel komunik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Mlez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9320" y="1916280"/>
            <a:ext cx="79437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ioritní - sdělování a výměna informac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ale také dezinformací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hledávání společenských styk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ožnos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uplatnit v komunikaci určitý záměr,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vlivnit ostat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není tak snadné, jsou-li mezi účastníky také ti, kteří mají stejné tendence, ale opačné názory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účel, který má původ vně komunikace a je dán splněním určitého úkolu - „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řipravené i vyprovokované komunik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“, při kterých subjekt sám chce nějaké informace získat (výzva k rozhovoru, dotazník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Účel komun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9320" y="1700280"/>
            <a:ext cx="794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Habermas a jeho koncept diskursivní e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myslem komunikace je konsensuální porozumě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ástroj pro řešení konfliktů - „silou argumentů“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ámci systému veřejné správy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musí v praxi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latit některé předpoklad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Habermasov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ceptu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„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účastníci nejen sdělují informace a poznatky,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    ale mají i dobrou vůli porozumět si a dohodnout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    s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„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účastníci komunikaci přesvědčeni </a:t>
            </a:r>
            <a:br>
              <a:rPr sz="2400"/>
            </a:b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    o možnosti vzniku účinné zpětné vazb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Účinnost komun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 proces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činné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komunikace je důležité odpovědět na následující základní otázky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do je příjemcem mých informac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akou informaci tento příjemce vyžaduje (pokud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 ví) ? Jakou informaci mu můžu / musím poskytnou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aký způsob přenosu příjemce informace upřednostňuje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Čeho chci poskytnutím informace dosáhnout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determinuje vnímanou kvalitu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valita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valita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chopnost produktu nebo služby vyhovět potřebám určitého uživatele nebo skupiny uživatelů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valita informac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inherent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ána správností, přesností da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bo mírou přesnosti, jak data odrážejí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objekty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reálného svět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, jež mají reprezentovat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agmatická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hodnota, kterou získává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uživatel při jejich užit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valita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90723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valita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"definici kvality je nutno hledat někde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v interakci mezi tím, co zamýšlel původce zdroje, a tím, jak zdroj vyhovuje uživatelům" </a:t>
            </a:r>
            <a:r>
              <a:rPr b="0" i="1" lang="cs-CZ" sz="2500" spc="-1" strike="noStrike">
                <a:solidFill>
                  <a:srgbClr val="292929"/>
                </a:solidFill>
                <a:latin typeface="Arial"/>
              </a:rPr>
              <a:t>(Sklenák, V.)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TZN. ovlivněna kvalitou komunikace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- jaké determinanty - ZAMYSLETE 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NÁVRAT K MODELU KOMUNIK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valita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utné! znaky kvality informací jso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Mleziva)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alidit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íra, v jaké informace postihuje skutečnost, ke které se vztahuj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dělnos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jednoznačnost, jasnost vyjadřování, přehledné uspořádání, logika podání a srozumitelnost s ohledem na potenciálního příjemce inform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ozsah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řiměřený jejímu účel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ktuálnos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aktuálnost není splněna, je-li informace prezentována předčasně a její předpověď se pak nenapl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avdivost, správnost, objektivnost, shoda se skutečnost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věřitelnost pravdivosti, platnost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ah p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řednáš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OKRUHY / CÍLE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ymezení základních pojmů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Účel komunik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Kvalita informací a důležitost komunikace ve 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eřejné správ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Komunikace ve veřejné správě ČR a její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ybrané nedostatk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valita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ritické jevy ve sféře informac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se považují (Mleziva)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tále rostoucí množství informací, které neumožňuje je zvládnout a orientovat se v nich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blematická kvalita informací bez možnosti jejího ověření, rostoucí počet klamných informací (dezinformací). ZDE I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KTUÁLNOST? („Neznalost zákona neomlouvá.“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bídka až vnucování informací, které mají manipulovat s člověkem a působit na jeho chování a rozhodování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Účelové informace, kterými původce sleduje vlastní záměry a využívá jich vlivu pro svoje cí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valita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a kritické jevy ve sféře informací se považují (Mleziva):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kritičnost a důvěřivost lidí k informací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formace zaplavují náš denní život, naše činnosti i volný čas (pohlcují až 20 - 40 % disponibilního času podle druhu činnosti), a tím zužují prostor pro seberealizaci a pro spontánní volbu aktivi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Člověk se musí denně prodírat džunglí informací nejrůznějšího druhu a vyrovnávat se s nimi.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Paradoxně vyznívá seriózně míněný návrh, že by občan měl mít právo nebýt informován.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Důležitost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aždý potřebuje k rozhodování inform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kace považována za významný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aktor efektivnosti a účinnosti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kace j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zbytnou součástí komplexnější formy kooperačního chování - koordinac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Herbert A. Simo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Základní problém, který existuje u složitějších organizac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 všechny informace relevantní </a:t>
            </a:r>
            <a:br>
              <a:rPr sz="2400"/>
            </a:b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ro konkrétní rozhodnutí má v rukou právě rozhodovací subjek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Důležitost komunikace ve veřejné 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92929"/>
                </a:solidFill>
                <a:latin typeface="Arial"/>
              </a:rPr>
              <a:t>Kvalita informačních vztahů mezi jednotlivými subjekty veřejné správy ovlivňuje souhrnnou systémovost celé veřejnosprávní organizac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Informace a dva koncepty rozhod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Není nic tak ošidného, bědného a obecně známého, jako snaha po přesném rozhodnutí na základě hrubých a nekompletních informací. Manažeři však nebudou nikdy schopni získat všechna potřebná fakta, protože by je to stálo příliš mnoho času nebo peněz.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Peter Drucker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= koncept </a:t>
            </a:r>
            <a:r>
              <a:rPr b="0" lang="cs-CZ" sz="2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racionalního</a:t>
            </a:r>
            <a:r>
              <a:rPr b="0" lang="cs-CZ" sz="26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rozhodování </a:t>
            </a:r>
            <a:br>
              <a:rPr sz="26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vs. koncept omezené racionality </a:t>
            </a:r>
            <a:br>
              <a:rPr sz="26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                                  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bounded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rationalit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Informační systém (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- jeden z alternativních nástrojů komunik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- nástroj pro posílení racionality rozhodování a účinnost komunik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= množina dat, interpretovaných jako informace, které spolu souvisí přesně vymezeným způsobem a vytvářejí jednotnou soustav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- různé názvy - vedle IS i </a:t>
            </a:r>
            <a:r>
              <a:rPr b="0" i="1" lang="cs-CZ" sz="2800" spc="-1" strike="noStrike">
                <a:solidFill>
                  <a:srgbClr val="292929"/>
                </a:solidFill>
                <a:latin typeface="Arial"/>
              </a:rPr>
              <a:t>evidence, rejstřík, seznam, registr , statistika, kniha, deník, záznam, bilance, přehled, soupis, matrika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důležitá funkce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IS - základní ope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běr a ukládání da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kapacitně nejnáročnějš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uchovávání a údržba da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, jejich průběžná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ktualiz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oplňování d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acování d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istribude a využívání d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9900"/>
                </a:solidFill>
                <a:latin typeface="Symbol"/>
                <a:ea typeface="Symbol"/>
              </a:rPr>
              <a:t>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vozování 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roces, který existuje vertikálně, horizontálně 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i napříč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elou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rganizac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S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a to vždy v určité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formální a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neformální podobě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tzv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intergovernmentalisme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Účinná komunikace ve VS (Herbert A. SIMON)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Účinná (effective) komunikace musí vždy zabezpečit, ab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e sdělení určitým způsobem promítlo v následné aktivitě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vého příjemce.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hyby v komunikaci jsou vždy výsledkem situace, kdy j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pomenuta skutečnost, že chování jednotlivců j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ástrojem, díky němuž organizace naplňuje svůj účel.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Jakýkoliv administrativní proces si musí nejdřív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zodpovědět na otázku, jak ovlivňuje rozhodnutí těcht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jednotlivců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KOMUNIKACE A KOORDINAC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UTNOST KOORDINOVAT PROTOŽ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správní činnost vždy činností skupinovou a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skupinové chování nevyžaduje pouze přijetí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správných rozhodnutí, ale rovněž přijetí stejného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rozhodnutí všemi členy skupiny, což je právě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předmětem koordin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 (Simon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LEVANTNÍ PŘEDEVŠÍM V OBLASTI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ÁTNÍ SPRÁVY - PROČ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KOMUNIKACE A KOORDINAC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ORDINACE = jedna z metod řízení spočívajíc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nutnosti slaďování jednotlivých částí celku tak, aby maximálně přispívaly společnému cí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UTNOST KOORDINOVAT PROTOŽ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správní činnost vždy činností skupinovou a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skupinové chování nevyžaduje pouze přijetí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správných rozhodnutí, ale rovněž přijetí stejného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rozhodnutí všemi členy skupiny, což je právě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předmětem koordin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 (Simon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LEVANTNÍ PŘEDEVŠÍM V OBLASTI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ÁTNÍ SPRÁVY - PROČ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1) Vymezení pojm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a) Informace</a:t>
            </a:r>
            <a:br>
              <a:rPr sz="3200"/>
            </a:b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- informatio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= představa, obrys, pouče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informar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= formovat, tvořit, upravov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Informace jsou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zdrojem našeho poznávání světa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odmínkou našeho rozvoj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Kdo má informace, má i moc, a kdo má moc, má i inform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OMUNIK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ástroj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mět koordin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ROKY PROCESU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ozvoj plánu chování pro všechny členy skupin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nikoliv skupina jednotlivých plánů pro jednotliv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člen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dělení (communication) relevantní porce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lánu každému jednotlivci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ajištění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cho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části těchto jednotlivců chova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řízeně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podle tohoto plán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edpokladem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ajištění zpětné vazb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 celém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cesu - PRVEK KONTROL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ariéry komunikace ve V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) vícestupňovost systému a rozdílnost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referenčního rámce příjemce sděle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rozdílnost v postavení příjemce sděle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geografické vzdálenosti příjemců sděle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pracovní zatížení příjemce sdělení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mítnou se do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řetížení komunikačního systému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zkreslení obsahu inform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...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VALITY INFORMACÍ OBÍHAJÍCÍCH VE 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doba komunikace v celém systém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é správy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determinována významným způsobem legislativ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harakteristická vícestupňovost obou základních oblastí veřejné správy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státní správy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oblasti státní správy vymezena vertiká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inisterská úroveň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krajská úroveň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obecní úroveň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- více druhů O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rtikála v oblasti samosprávy věcí disku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blémem, že legislativa </a:t>
            </a:r>
            <a:r>
              <a:rPr b="1" lang="fr-FR" sz="2200" spc="-1" strike="noStrike">
                <a:solidFill>
                  <a:srgbClr val="292929"/>
                </a:solidFill>
                <a:latin typeface="Arial"/>
              </a:rPr>
              <a:t>zakotvuje více center, která jsou důležitá pro výkon činnosti v oblasti státní správy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92929"/>
                </a:solidFill>
                <a:latin typeface="Arial"/>
              </a:rPr>
              <a:t>na nižších úrovních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ovlivňuje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složitost a srozumitelnost komunikačního procesu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formační zkreslen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uplicitnost informac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.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ižší články soustavy nemusejí vždy mít do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ravomocí  ke komplexnímu rozhodnu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entrum nemusí mít povědomí o praxi na nižší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úrovních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účinnosti, hospodárnost ... efektivnost V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omunikace a kompetence centrální úrovn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důležitý především zákon č. 2/1969 Sb.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MINISTERSTVO VNITR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blast „všeobecné“ koordinace veřejné správy je předevš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kompetenci MV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dle odst. 2 § 12 zajišťuje rovněž  komunikační  sítě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o územní orgány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peciální postavení přiznáno i zákonem o krají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MINISTERSTVO VNITRA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kon o krají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M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a) koordinuje vydávání směrnic ministerstev a jiných ústředních správních úřadů, jež se dotýkají přenesené působnosti kraje nebo přenesené působnosti obce; k tomu vydává Věstník vlády pro orgány krajů a orgány obcí; podmínkou platnosti směrnic ústředních správních úřadů je jejich vyhlášení ve Věstníku vlády pro orgány krajů a orgány obcí,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b) kontroluje dodržování usnesení a opatření vlády v činnosti příslušných orgánů kraje a poskytování odborné pomoci krajským úřadem obcím,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c) organizuje porady ředitelů krajských úřadů,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d) ve spolupráci s příslušnými ústředními správními úřady organizuje provádění kontrol na vybraných úsecích činnosti orgánů kraje, vyhodnocuje jejich výsledky a předkládá vládě návrhy na potřebná opatření,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e) řídí a ve spolupráci s příslušnými ministerstvy koordinuje výstavbu a realizaci informačních systémů krajů a zabezpečuje řešení a realizaci projektů.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MINISTERSTVO VNITRA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odle webových stránek tohoto ministerstva (</a:t>
            </a:r>
            <a:r>
              <a:rPr b="0" lang="fr-FR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mvcr.cz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) se jeví pro oblast koordinace a komunikace jako nejdůležitější zejména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odbor modernizace veřejné správy,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odbor rozvoje územní veřejné správy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a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odbor informatizace veřejné správy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omunikace a kompetence centrální úrovn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důležitý především zákon č. 2/1969 Sb.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MINISTERSTVO INFORMA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středním orgánem  státní správy pro  informační  a  komunikační  technologie,  pro  telekomunikace a poštovní služby (§ 18 kompetenčního zákon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mpetence upravuje dále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ákon č. 365/2000 Sb., o informačních systémech veřejné správy, zákon č. 127/2005 Sb., o elektronických komunikacích, zákon č. 29/2000 Sb., o poštovních službách a zákon č. 227/2000 Sb., o elektronickém podpis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dle svých webových stránek (</a:t>
            </a:r>
            <a:r>
              <a:rPr b="0" lang="cs-CZ" sz="2000" spc="-1" strike="noStrike" u="sng">
                <a:solidFill>
                  <a:srgbClr val="cc9900"/>
                </a:solidFill>
                <a:uFillTx/>
                <a:latin typeface="Arial"/>
              </a:rPr>
              <a:t>www.micr.cz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 koordinátorem rozvoje elektronické veřejné správy, e-Governmentu v České republi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omunikace a kompetence centrální úrovn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důležitý především zákon č. 2/1969 Sb.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/ ÚŘAD VLÁDY Č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středním orgánem státní správy podle zák. č. 219/2002 Sb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lní úkoly spojené s odborným, organizačním a technickým zabezpečením činnosti vlád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o jeho kompetencí přešla z MV oblast reformy a moder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o oblast komunikace a koordinace relevantní především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bor reformy regulace a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omunikace a kompetence krajů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ecné funkce středního článku VS (Grospič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tegračn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koordinačn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zejména služební dohled, odborný dozo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radní funkce spojená zároveň s odbornou a metodicko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mocí základnímu stupn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unkce rozdělování, resp. přidělování finančních prostřed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g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lkých územních cel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h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zprostředkující funkce vůči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unkce krizového řízení v rámci region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1) Inform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a) Informace</a:t>
            </a:r>
            <a:br>
              <a:rPr sz="3200"/>
            </a:b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- informatio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= představa, obrys, pouče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informar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= formovat, tvořit, upravov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 rozhodování potřebuje každý - manažer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i úředník - informac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Jak byste termín definovaly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ELEVANTNÍ KOMPETENCE KRAJSKÉHO ÚŘADU </a:t>
            </a:r>
            <a:br>
              <a:rPr sz="2000"/>
            </a:b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a) přezkoumává rozhodnutí vydaná orgány obce v řízení podle zvláštních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zákonů , pokud není zákonem tato působnost svěřena zvláštnímu orgánu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nebo zákon nestanoví jinak,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b) ukládá sankce podle zákona,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c) poskytuje odbornou a metodickou pomoc obcím,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d) zabezpečuje koordinaci výstavby a provozu informačního systému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kompatibilního s informačními systémy veřejné správy,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e) organizuje kontroly výkonu přenesené působnosti obcí, vyhodnocuje jejich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výsledky a předkládá příslušnému ministerstvu, popřípadě vládě, návrhy na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potřebná opatření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f) zřizuje funkci koordinátora pro romské záležitosti,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g) vykonává další působnosti svěřené mu zákonem,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h) kontroluje v potřebném rozsahu a prostředky, které zákon dává k dispozici,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činnost orgánů obcí při výkonu přenesené působnosti,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i) v přenesené působnosti vykonává dozor nad výkonem samostatné a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přenesené působnosti obcí podle zvláštního zákona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SEZNÁMENÍ S PROJEKT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- účelem - kritická analýza komunikace mezi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krajskými úřady a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b) obecními úřady obcí s rozšířenou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působností, 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 to především v oblasti státní správ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5) Komunikace ve veřejné správě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BRANÉ VÝSLEDKY EMPIRICKÉHO ŠETŘ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Cílem získat odpovědi na následující otázk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Jak obecní a krajští vedoucí úředníci vnímají celkovou kvalitu vzájemné komunikace?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S kým a jakým způsobem nejčastěji komunikují?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Co je v současnosti předmětem vzájemné komunikace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a na co by se měla zaměřit?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Jaké bariéry a nedostatky vnímají  vedoucí úředníci  obcí a krajů v dosavadním procesu komunikace?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Jaké mají vedoucí úředníci konkrétní návrhy na zlepšení komunikace (mezi obecním a krajským úřadem, i v rámci celého systému státní správy)?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Výsledky empirického še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elková spokojenost s kvalitou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obecní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i krajští úředníci s celkovou kvalitou komunikace spokojeni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 velmi dobrou ji označuje téměř pětina respondentů v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bou skupinách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za dobrou třetina obecních úředníků (67 %) a více něž tř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čtvrtiny krajských úředníků (82 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ezi obecními úředníky se spokojenost liší v závislosti na kraji, kde úřad sídl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kojenější v Karlovarském a Plzeňském kraj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málo spokojeni jsou v Ústeckém a Pardubickém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ozdílně kvalitu komunikace vnímají vedoucí různých odbor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doucí odborů školství, sociálních a živnostenských (a také tajemníci) patří mezi nejspokojenějš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;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doucí odborů dopravy a stavebních úřadů nejméně spokojenou skupino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Výsledky empirického še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Zdroje informací, nástroje a způsoby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 hlavní zdroj informací pro svou činnost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obecní úředníci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 drtivé většině považují krajský úřad (s výjimkou vedoucích odborů dopravy a stavebních úřadů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; na druhém místě příslušné ministerstvo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LE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šší spolehlivost informace z ministerstev či jin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středních správních úřad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krajští úředníci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označují v převažující většině příslušné ministerstvo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; na druhém místě "spolupracující krajský úřad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eferovaným nástrojem komunikace e-mail, webové strán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i když často kritizováno jejich nedostatečné využi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Výsledky empirického še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) Předmět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řevažujícím účelem vzájemné komunikace je v obou skupinách operativní pracovní styk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Jakou informaci příjemce informace vyžaduje?“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- dle preferencí obecních úředníků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etodická pomo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borné konzult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formace ohledně platné (především) nové legislativy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formace ohledně připravované legislativy (včetně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ožnosti „připomínkování“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Výsledky empirického še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Úřední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OÚ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 vnímané nedostatky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ednotnost právního výkladu mezi ministerskou a krajskou úrov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dostatečná metodická pomoc krajů obcí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malá frekvence a kvalita porad  a odborných seminářů (neaktuálnost tématiky, její nepodstatnost pro existující problémy, někdy neschopnost reflektovat místní specifika,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 několika málo případech kritizována neodbornos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uplicita informací požadovaných / poskytovaných obcím kraj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Výsledky empirického še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Úřední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OÚ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 vnímané nedostatky komunik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často upozorňováno na opožděnost informací důležitých pro rozh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malá zpětná vazba na připomínky, které obce III. směřují na kraj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dostatečného využití kapacit moderních informačních a komunikačních technologi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dostatečné využití již existujících centrálních instituc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Výsledky empirického še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Úřední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KÚ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 vnímané nedostatky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jen demonstrativně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dostatečná frekvence metodické pomoci a odborných konzultací s důrazem na sjednocení postupů a jednotnost právního výkla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munikace kraje je formální, omezuje se pouze na zákonem vymezené povin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bytečné „papírování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tenciální problémy s nejednotností v organizační struktuře ob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alá iniciativa obecních úřadů obcí s rozšířenou působností komunikovat (není pravděpodobně relevantní s ohledem na odpovědi obecních úředníků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Výsledky empirického še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Úřední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KÚ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 vnímané nedostatky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jen demonstrativně:*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oblémy s vymezením správního obvodu obcí II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dostatečné využití potenciálu nových informačních a komunikačních technologi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esortismus v systému veřejné správy Č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dostatečná odborná úroveň managementu ústřední veřejné správy a jejích komunikačních tok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gativa spojená se systémem vzdělávání úředníků samosprávných celk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dostatečné využití již existujících instituc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) Informace - příklady def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= jakákoli interpretace dat v určitém kontext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= předávaná zpráva, údaj či poznatek 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o veličinách nebo událostech, které se staly nebo nastano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buClr>
                <a:srgbClr val="29292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informace je 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ýsledkem určité intelektuální činnosti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(zpracování, analýzy a prezentace) a jako taková může být využita v 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ozhodovacích procesech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statek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, který má náklady na své pořízení a cen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Velká ekonomická encyklopedi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) Výsledky empirického še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 studijních podkladech najdete: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nalýzu koordinačních mechanismů ústřední státní správy vůči územní veřejné správ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doprovodné informac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Možnosti a limity dělby kompetencí mezi státem _x000b_a územ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ÍKY ZA POZORNOS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292929"/>
                </a:solidFill>
                <a:latin typeface="Arial"/>
              </a:rPr>
              <a:t>- konec - 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) Informace - její základní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84104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AT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sou odrazem jevů, procesů a vlastností, kter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xistují a probíhají v části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reálnéh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věta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louží k vyjádření informace v komunikačním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jazy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urovinou, která se zpracováním mění na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informaci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= realizovaná hodnota dat„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OSIČ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ro sběr, přenos a zpracování da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DĚL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obsah informace pro příjem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) Informace a zna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znalost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= vzájemně provázané (měnitelné, rozšířitelné) struktury souvisejících poznatků, na základě kterých člověk dokáže předvídat, co se může v reálném světě stát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9900"/>
                </a:solidFill>
                <a:latin typeface="Arial"/>
                <a:ea typeface="Arial"/>
              </a:rPr>
              <a:t>∑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Technologie pracují s daty, lidé je interpretují jako informace nesoucí význam, které se stávají podnětem pro další jednání. Proces interpretace je kognitivní záležitost, ve kterém stěžejní roli hrají znalosti.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(Checkland a Schole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druhem interakce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mezi subjekty, při které probíhá výměna informací 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v určitém čase </a:t>
            </a:r>
            <a:br>
              <a:rPr sz="2800"/>
            </a:b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a na určitém míst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ritickou fází v procesu, kdy se informace stávají užitečnými a použitelnými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(BEZ KOMUNIKACE NEJSOU INFORMAC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podle </a:t>
            </a:r>
            <a:r>
              <a:rPr b="0" i="1" lang="pl-PL" sz="2800" spc="-1" strike="noStrike">
                <a:solidFill>
                  <a:srgbClr val="292929"/>
                </a:solidFill>
                <a:latin typeface="Arial"/>
              </a:rPr>
              <a:t>Herberta A. Simona:</a:t>
            </a: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BEZ KOMUNIKACE NENÍ ORGANIZ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definice 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přenos nejrůznějších informačních obsahů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v rámci různých komunikačních systémů </a:t>
            </a:r>
            <a:br>
              <a:rPr sz="2800"/>
            </a:b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za použití různých komunikačních médií, zejména prostřednictvím jazyka, sdělování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7:35:28Z</dcterms:created>
  <dc:creator>77120</dc:creator>
  <dc:description/>
  <dc:language>en-US</dc:language>
  <cp:lastModifiedBy>77120</cp:lastModifiedBy>
  <dcterms:modified xsi:type="dcterms:W3CDTF">2006-11-06T06:49:56Z</dcterms:modified>
  <cp:revision>219</cp:revision>
  <dc:subject/>
  <dc:title>1. Teoretická východiska předmětu </dc:title>
</cp:coreProperties>
</file>