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186-5C4E-444B-A503-20B7B83E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79B-648B-4B12-8461-DB43D11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C95-4E36-44F6-A58A-70B93541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9C1-96BA-411A-92EE-1D91EE85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06D2-DB0F-456C-961E-DE767947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82B-047E-4A73-B797-E9FA48E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1BA-71F1-43CB-854A-577005B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617-C07E-4E06-905E-BABA34C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89A3-E561-4E7C-9609-E539FDD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6B6-5435-4923-8086-51D737CA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6FB7-FB06-42FC-A649-53DDDDC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56C-574D-485E-9A41-50B3C95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6093-46A6-4D0A-8085-2C33408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2BC-0C12-44C9-8DAC-01F4FCF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BBC-8AA1-4E95-96FC-04E9812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5E9-0AF1-4351-8E69-64CDBD9A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AFE4-91FB-4BC9-8AE6-C5071CAF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7ED-D48E-40D9-AB13-00B1E9A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897-225C-4B3F-9049-D662114A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846-36CF-4D39-B3CA-5F653A4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97D-8F32-471E-9CCB-5BCA57A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824-CE5F-4B2B-B626-A67ADE9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308-8242-4EEE-8830-E961691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0CE-FBFD-4A03-B4A2-ACE9060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E534-209D-443C-86CA-97DD95AC2C87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578F-3E56-4CD1-850E-DD96ACB889B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rk.cz/alvin_toffler_necekaji_nas_krvave_revoluce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otato_plant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www.simpsonovi.net/obrazky/sekce/tapety/tapeta1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 společnosti v pojetí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lvina Tofflera</a:t>
            </a:r>
            <a:br>
              <a:rPr sz="4000"/>
            </a:br>
            <a:br>
              <a:rPr sz="4000"/>
            </a:b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Prezentace do předmětu Managment II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utoři: Lucie Hubaczová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Richard Malovič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ukáš Merta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oužitá literatur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The Third Wave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New York: Bantam Books, 1990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OFFLER, A. </a:t>
            </a:r>
            <a:r>
              <a:rPr b="0" i="1" lang="cs-CZ" sz="2800" spc="-1" strike="noStrike">
                <a:solidFill>
                  <a:srgbClr val="284c6a"/>
                </a:solidFill>
                <a:latin typeface="Trebuchet MS"/>
              </a:rPr>
              <a:t>Šok z budoucnosti</a:t>
            </a: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. Praha: Práce, 1992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BLAŽEK, L. Sylaby zveřejněné na www stránkách ESF M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park.cz/alvin_toffler_necekaji_nas_krvave_revolu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Děkujeme za pozor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Obsah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vní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druhá vln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vývojové tendence na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rahu postindustriální é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32720" y="3357720"/>
            <a:ext cx="1118880" cy="1520640"/>
            <a:chOff x="6732720" y="3357720"/>
            <a:chExt cx="1118880" cy="1520640"/>
          </a:xfrm>
        </p:grpSpPr>
        <p:sp>
          <p:nvSpPr>
            <p:cNvPr id="87" name="Puzzle3"/>
            <p:cNvSpPr/>
            <p:nvPr/>
          </p:nvSpPr>
          <p:spPr>
            <a:xfrm>
              <a:off x="6732720" y="3357720"/>
              <a:ext cx="111888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9000" y="3855960"/>
              <a:ext cx="837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43640" y="4508640"/>
            <a:ext cx="1787400" cy="1384200"/>
            <a:chOff x="6443640" y="4508640"/>
            <a:chExt cx="1787400" cy="1384200"/>
          </a:xfrm>
        </p:grpSpPr>
        <p:sp>
          <p:nvSpPr>
            <p:cNvPr id="90" name="Puzzle2"/>
            <p:cNvSpPr/>
            <p:nvPr/>
          </p:nvSpPr>
          <p:spPr>
            <a:xfrm>
              <a:off x="6443640" y="450864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7160" y="493416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Vývoj společ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ři vl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koexistenční působ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srážení vl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- preindustriální, industriální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a postindustriál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4" name="" descr="toffler.gif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První vlna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běr surovin, chov dobyt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Jednoduchá dělba prá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Výjimkou Ří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Zemědělská revolu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057400" cy="244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azenice brambor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284640"/>
            <a:ext cx="201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Druhá vln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Nástup industriální společ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Oddělení výroby a spotřeb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Dělba práce na základě speci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ynchro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Standard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oncentr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Maxim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central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tarý pohled"/>
          <p:cNvPicPr/>
          <p:nvPr/>
        </p:nvPicPr>
        <p:blipFill>
          <a:blip r:embed="rId3"/>
          <a:stretch/>
        </p:blipFill>
        <p:spPr>
          <a:xfrm>
            <a:off x="4932360" y="4076640"/>
            <a:ext cx="32004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ývojové tendence na prahu postindustriální éry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„</a:t>
            </a: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o, co se nyní vynořuje, je nesporně zásadnější, závažnější a hlubší, než byla průmyslová revoluce. Současnost nepředstavuje nic menšího než druhý velký předěl v lidské historii.“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56600" y="5229360"/>
            <a:ext cx="1787400" cy="1384200"/>
            <a:chOff x="7356600" y="5229360"/>
            <a:chExt cx="1787400" cy="1384200"/>
          </a:xfrm>
        </p:grpSpPr>
        <p:sp>
          <p:nvSpPr>
            <p:cNvPr id="106" name="Puzzle2"/>
            <p:cNvSpPr/>
            <p:nvPr/>
          </p:nvSpPr>
          <p:spPr>
            <a:xfrm>
              <a:off x="7356600" y="522936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90120" y="565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Teorie moderniza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Informační společnos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Společnost vědě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ová ekonomik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oncept třetí vlny (revoluční premisa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0" name="" descr="MANHATTAN NIGHT – b&amp;w obrázek | plakát | fotky | poster"/>
          <p:cNvPicPr/>
          <p:nvPr/>
        </p:nvPicPr>
        <p:blipFill>
          <a:blip r:embed="rId2"/>
          <a:stretch/>
        </p:blipFill>
        <p:spPr>
          <a:xfrm>
            <a:off x="5148360" y="1844640"/>
            <a:ext cx="3711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84c6a"/>
                </a:solidFill>
                <a:latin typeface="Trebuchet MS"/>
              </a:rPr>
              <a:t>Šok z budoucnost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Přizpůsobení či nepřizpůsobení se změně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Nemoc ze změn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Kulturní mezer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Míra srovnává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56240" y="4402080"/>
            <a:ext cx="1077840" cy="1769760"/>
            <a:chOff x="5556240" y="4402080"/>
            <a:chExt cx="1077840" cy="1769760"/>
          </a:xfrm>
        </p:grpSpPr>
        <p:sp>
          <p:nvSpPr>
            <p:cNvPr id="114" name="Puzzle4"/>
            <p:cNvSpPr/>
            <p:nvPr/>
          </p:nvSpPr>
          <p:spPr>
            <a:xfrm>
              <a:off x="5556240" y="4402080"/>
              <a:ext cx="1077840" cy="1769760"/>
            </a:xfrm>
            <a:prstGeom prst="pie">
              <a:avLst/>
            </a:prstGeom>
            <a:solidFill>
              <a:srgbClr val="7fa9c3">
                <a:alpha val="57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65760" y="484488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68920" y="3311640"/>
            <a:ext cx="1119240" cy="1520640"/>
            <a:chOff x="6568920" y="3311640"/>
            <a:chExt cx="1119240" cy="1520640"/>
          </a:xfrm>
        </p:grpSpPr>
        <p:sp>
          <p:nvSpPr>
            <p:cNvPr id="117" name="Puzzle3"/>
            <p:cNvSpPr/>
            <p:nvPr/>
          </p:nvSpPr>
          <p:spPr>
            <a:xfrm>
              <a:off x="6568920" y="3311640"/>
              <a:ext cx="1119240" cy="1520640"/>
            </a:xfrm>
            <a:prstGeom prst="pie">
              <a:avLst/>
            </a:prstGeom>
            <a:solidFill>
              <a:srgbClr val="a6d1d0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75560" y="38098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242040" y="4419720"/>
            <a:ext cx="1787400" cy="1384200"/>
            <a:chOff x="6242040" y="4419720"/>
            <a:chExt cx="1787400" cy="1384200"/>
          </a:xfrm>
        </p:grpSpPr>
        <p:sp>
          <p:nvSpPr>
            <p:cNvPr id="120" name="Puzzle2"/>
            <p:cNvSpPr/>
            <p:nvPr/>
          </p:nvSpPr>
          <p:spPr>
            <a:xfrm>
              <a:off x="6242040" y="4419720"/>
              <a:ext cx="1787400" cy="1384200"/>
            </a:xfrm>
            <a:prstGeom prst="pie">
              <a:avLst/>
            </a:prstGeom>
            <a:solidFill>
              <a:srgbClr val="ffcc99">
                <a:alpha val="75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5560" y="4845240"/>
              <a:ext cx="838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Šok z budoucnosti- příklady změn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Urbaniz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Člověk budoucnost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Informac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Lidské vztah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Adhokrac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Technologi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iborgové mezi námi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4" name="" descr="Pavel Houser - karikatura"/>
          <p:cNvPicPr/>
          <p:nvPr/>
        </p:nvPicPr>
        <p:blipFill>
          <a:blip r:embed="rId2"/>
          <a:stretch/>
        </p:blipFill>
        <p:spPr>
          <a:xfrm>
            <a:off x="6877080" y="1700280"/>
            <a:ext cx="16002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1866960" cy="23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dgh"/>
          <p:cNvPicPr/>
          <p:nvPr/>
        </p:nvPicPr>
        <p:blipFill>
          <a:blip r:embed="rId4"/>
          <a:stretch/>
        </p:blipFill>
        <p:spPr>
          <a:xfrm>
            <a:off x="4859280" y="1773360"/>
            <a:ext cx="1703520" cy="22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43700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9:44:28Z</dcterms:created>
  <dc:creator>PC</dc:creator>
  <dc:description/>
  <cp:keywords/>
  <dc:language>en-US</dc:language>
  <cp:lastModifiedBy>PC</cp:lastModifiedBy>
  <dcterms:modified xsi:type="dcterms:W3CDTF">2007-10-14T22:02:42Z</dcterms:modified>
  <cp:revision>17</cp:revision>
  <dc:subject/>
  <dc:title>Školicí prezent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29</vt:lpwstr>
  </property>
</Properties>
</file>