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80BB-1ADC-40D0-BC76-EA963D59F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4191120"/>
            <a:ext cx="883944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280" y="4668840"/>
            <a:ext cx="883944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9FED-FEB4-4521-AA59-6A1D7AC8E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4191120"/>
            <a:ext cx="43135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800" y="4191120"/>
            <a:ext cx="43135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280" y="4668840"/>
            <a:ext cx="43135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800" y="4668840"/>
            <a:ext cx="43135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6411-27F8-4AFE-88D6-7D480FD6A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280" y="4191120"/>
            <a:ext cx="28461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1000" y="4191120"/>
            <a:ext cx="28461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30080" y="4191120"/>
            <a:ext cx="28461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280" y="4668840"/>
            <a:ext cx="28461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1000" y="4668840"/>
            <a:ext cx="28461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30080" y="4668840"/>
            <a:ext cx="28461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F8E6-A968-458F-B76B-2E44F8150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375BE-F70F-4F78-B45E-41889095B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280" y="41911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DED71-2327-47D2-8F97-DCD477597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280" y="41911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9A536-E066-4F18-A78D-F8F068EB1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4191120"/>
            <a:ext cx="43135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800" y="4191120"/>
            <a:ext cx="43135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00B9F-64F8-4D76-88AA-778282F46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86663-2B67-424B-A62B-D262C2F75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280" y="2895120"/>
            <a:ext cx="8839440" cy="60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5ADD4-4FDD-4DD9-9B3B-347C0B0D4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4191120"/>
            <a:ext cx="43135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800" y="4191120"/>
            <a:ext cx="43135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280" y="4668840"/>
            <a:ext cx="43135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11631-0A91-4EE8-8B64-ADA456B8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280" y="41911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3004-D730-4E1E-A21F-907274852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280" y="4191120"/>
            <a:ext cx="43135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800" y="4191120"/>
            <a:ext cx="43135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800" y="4668840"/>
            <a:ext cx="43135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5F494-DA56-46BC-B2C8-F2492D40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280" y="4191120"/>
            <a:ext cx="43135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800" y="4191120"/>
            <a:ext cx="43135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280" y="4668840"/>
            <a:ext cx="883944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79766-05C6-4D6C-8330-94B51DF9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280" y="4191120"/>
            <a:ext cx="883944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280" y="4668840"/>
            <a:ext cx="883944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55326-83C7-470E-884F-0F62E456D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4191120"/>
            <a:ext cx="43135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800" y="4191120"/>
            <a:ext cx="43135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280" y="4668840"/>
            <a:ext cx="43135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800" y="4668840"/>
            <a:ext cx="43135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865B4-E2F2-4B16-BDA0-ADEDAFE67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280" y="4191120"/>
            <a:ext cx="28461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41000" y="4191120"/>
            <a:ext cx="28461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30080" y="4191120"/>
            <a:ext cx="28461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280" y="4668840"/>
            <a:ext cx="28461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41000" y="4668840"/>
            <a:ext cx="28461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30080" y="4668840"/>
            <a:ext cx="28461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5BCB5-3ED1-4DAC-A0A9-B16F0ECC2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280" y="41911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DCC7-0C8C-454B-8B9F-BAB95EA55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4191120"/>
            <a:ext cx="43135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800" y="4191120"/>
            <a:ext cx="43135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C3FE-36B0-4CAB-B116-22097C8D4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C55E-8AEF-4A5F-8310-9790F7369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280" y="2895120"/>
            <a:ext cx="8839440" cy="60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6B4C-B0A9-49E0-8696-8CB4CF071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80" y="4191120"/>
            <a:ext cx="43135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800" y="4191120"/>
            <a:ext cx="43135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280" y="4668840"/>
            <a:ext cx="43135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8B4C-E5DB-432B-AF0B-C0E40FAA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4191120"/>
            <a:ext cx="43135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4191120"/>
            <a:ext cx="43135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800" y="4668840"/>
            <a:ext cx="43135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9B50-F859-4037-B982-71AADE98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4191120"/>
            <a:ext cx="43135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4191120"/>
            <a:ext cx="43135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280" y="4668840"/>
            <a:ext cx="883944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3C0C-BB7D-4B7E-AB24-8E0F1A09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2DBEE-B797-41A7-94FF-62D8AC8541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6CC34-8527-41AC-B4B5-07B590C7BC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3068640"/>
            <a:ext cx="91440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cs-CZ" sz="5000" spc="-1" strike="noStrike">
                <a:solidFill>
                  <a:srgbClr val="000000"/>
                </a:solidFill>
                <a:latin typeface="Arial"/>
              </a:rPr>
              <a:t>Přirozený a umělý řád</a:t>
            </a:r>
            <a:r>
              <a:rPr b="1" lang="en-GB" sz="5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364000" y="5373720"/>
            <a:ext cx="320544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ereza Nečasová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áclav Řezníče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artin Prokeš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484280"/>
            <a:ext cx="91440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Times New Roman"/>
              </a:rPr>
              <a:t>Management I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e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zentace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Hra katallax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možňuje každému hráči uspokojovat potřeby, které nez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římé informace získávány pomocí c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isk vede v tržním řádu k uspokojování potřeb, které sami nevidí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200" spc="-1" strike="noStrike">
                <a:solidFill>
                  <a:srgbClr val="000000"/>
                </a:solidFill>
                <a:latin typeface="Arial"/>
              </a:rPr>
              <a:t>Návaznost na ekonomické teori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orizont katallaktických možností = Hranice výrobních mož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diferenční křivka (komplementy a substitu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ovnováha trh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500"/>
                            </p:stCondLst>
                            <p:childTnLst>
                              <p:par>
                                <p:cTn id="36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Organizace moderních civilizací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lasický příklad umělého řád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LE … zavedením umělého řádu za účelem řízení určité organizace není možné potlačit řád přirozen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jakékoli větší skupině lidí bude spolupráce vždycky spočívat jak na spontánním řádu, tak na uvědomělé organiza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utná koexistence řád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třeba rovnováhy mezi řá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500"/>
                            </p:stCondLst>
                            <p:childTnLst>
                              <p:par>
                                <p:cTn id="39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2500"/>
                            </p:stCondLst>
                            <p:childTnLst>
                              <p:par>
                                <p:cTn id="40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3000"/>
                            </p:stCondLst>
                            <p:childTnLst>
                              <p:par>
                                <p:cTn id="41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Organizace – pravidla a příkaz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 je tvořen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ecifickými příkazy - udávají účel, funkci, smě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avidl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řád) - plní účel, „jak co provést“, tvořen znalostmi lid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avidla mohou být chápána v podřízeném postavení k příkazům … ALE …  platí, že čím složitější organizace je, tím důležitější roli hrají pravidla nad specifickými příkaz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Organizace – zajištění řádu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utnost přihlédnutí k lidskému faktor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dé se řídí spíše pravidly než specifickými příkazy, je proto lepší doplňovat pravidla, než vysílat více specifických příkaz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átor si musí přát, aby jednotlivci, kteří mají spolupracovat, využívali znalostí, jež on sám nem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lenové musejí sledovat stanovená pravidla v určitém rámci (není třeba, aby všichni reagovali na dané situace stejně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500"/>
                            </p:stCondLst>
                            <p:childTnLst>
                              <p:par>
                                <p:cTn id="46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000"/>
                            </p:stCondLst>
                            <p:childTnLst>
                              <p:par>
                                <p:cTn id="47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2500"/>
                            </p:stCondLst>
                            <p:childTnLst>
                              <p:par>
                                <p:cTn id="47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avidla k zajištění „celkového řádu“ organiza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ávní pravidla, forma vymezení bariér, donucení (pracovní smlouv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pel na podnikovou kultu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Organizace – zajištění řádu II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000"/>
                            </p:stCondLst>
                            <p:childTnLst>
                              <p:par>
                                <p:cTn id="49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500"/>
                            </p:stCondLst>
                            <p:childTnLst>
                              <p:par>
                                <p:cTn id="49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2000"/>
                            </p:stCondLst>
                            <p:childTnLst>
                              <p:par>
                                <p:cTn id="50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035000" indent="-5778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át (vláda) jako organizace se specifickým postavením má dvě funk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84520" indent="-41292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sazení pravidel a udržení řádu společnosti ve funkční struktuře (donucovací pravomoci, udává mantine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84520" indent="-41292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ráva zdroj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9280" y="189000"/>
            <a:ext cx="86868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Organizace - stá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0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000"/>
                            </p:stCondLst>
                            <p:childTnLst>
                              <p:par>
                                <p:cTn id="51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500"/>
                            </p:stCondLst>
                            <p:childTnLst>
                              <p:par>
                                <p:cTn id="52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2000"/>
                            </p:stCondLst>
                            <p:childTnLst>
                              <p:par>
                                <p:cTn id="53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. A. Hayek (1991): „Právo, zákonodárství a svoboda“, Academia Pra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ějiny ekonomických teorií“, Ústav ekonomie Provozně ekonomické fakulty MZLU v Brn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Šťastný, M. (1999): „Obhajoba svobody, demokracie, spravedlnosti a spontánního řádu v díle F.A. Hayeka“, Electronic Journal for Phylosoph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000"/>
                            </p:stCondLst>
                            <p:childTnLst>
                              <p:par>
                                <p:cTn id="54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5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5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3428640"/>
            <a:ext cx="837072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Děkujeme za pozornost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Definice řádu I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Struktura, systém, vzorec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hybně interpretováno jako „uvědomělé uspořádání někým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v věcí, ve kterém se velký počet prvků různých druhů má k sobě navzájem tak, že znalost určité časové či prostorové části celku nám umožňuje vytvářet správná očekávání týkající se zbyt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Definice řádu II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ořen procesem evol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vořen pravidly (nemusí být znám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bsah pravidel může být v jednotlivých řádech odlišný, ale druhy pravidel se neměn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lastnosti řád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spořáda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avide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visl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oper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třeba řádu v lidské společ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8680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řirozený vs. umělý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irozený objekt vznikl a existuje nezávisle na lidském jednání (tradiční pojetí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plnění Haykem - … nezávisle na lidském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 vědomém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jedn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mělý objekt vznikl a existuje díky vědomému lidskému jedn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mělé“ vychází z “přirozeného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řirozený řád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Vyrostlý, spontánní, endogenní, sebeorganizující, sebeutvářející, kos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avidla přirozeného řádu jsou na účelu nezávislá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šší stupeň uspořádanos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ayek: kromě „čistě přírodních řádů“ také jazyk, morálka, náboženství, zvyky, obyčeje,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trh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peníze, demokra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hé oblasti přirozených řádů není možné řídit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omezení sil tvořících přirozený řád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35280" y="6165720"/>
            <a:ext cx="504720" cy="287640"/>
          </a:xfrm>
          <a:prstGeom prst="rightArrow">
            <a:avLst>
              <a:gd name="adj1" fmla="val 50000"/>
              <a:gd name="adj2" fmla="val 43867"/>
            </a:avLst>
          </a:prstGeom>
          <a:solidFill>
            <a:srgbClr val="93d59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86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Umělý řád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0920" y="18288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Vytvořený, exogenní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last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dnoduchost (ve smyslu nižší složitos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nkrétno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elnost  (uspokojování lidských potře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hraničeno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Organizac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moderních civilizací, právo (normativní zákony), hospodářství řízené státem, autoritativní systém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9647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žní řád – KATALLAX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920" y="18288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ce katallaxe a její odlišení od ekonomi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ržní řád jako spontánní řá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írový řád přinášející soulad mezi očekáváními různých lid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ináší změ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Tržní řád ve velké společnosti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91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ináší poznatek, že lidé mohou žít pohromadě a přinášet si užitek, aniž se dohodnou na konkrétních záměr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ůzné prostředky mohou být použity k různým účelů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ím více se potřeby lidí ve společnosti liší, tím je větší pravděpodobnost, že změna přinese uži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200" spc="-1" strike="noStrike">
                <a:solidFill>
                  <a:srgbClr val="000000"/>
                </a:solidFill>
                <a:latin typeface="Arial"/>
              </a:rPr>
              <a:t>Ekonomické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cs-CZ" sz="4200" spc="-1" strike="noStrike">
                <a:solidFill>
                  <a:srgbClr val="000000"/>
                </a:solidFill>
                <a:latin typeface="Arial"/>
              </a:rPr>
              <a:t>Katallaktické vztah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ho lidí si je přes jejich význam nepřipouš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ěžko se dá popřít, že to, co drží velkou společnost pohromadě, jsou „pouta peněz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atallaktické vztahy fungují na principu rozdíl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500"/>
                            </p:stCondLst>
                            <p:childTnLst>
                              <p:par>
                                <p:cTn id="31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8T13:31:14Z</dcterms:created>
  <dc:creator>Terka</dc:creator>
  <dc:description/>
  <cp:keywords/>
  <dc:language>en-US</dc:language>
  <cp:lastModifiedBy>99515</cp:lastModifiedBy>
  <dcterms:modified xsi:type="dcterms:W3CDTF">2007-10-06T09:18:59Z</dcterms:modified>
  <cp:revision>52</cp:revision>
  <dc:subject/>
  <dc:title>“Identify some of the general issues that managers need to consider in developing the appropriate organisational structure”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001029</vt:lpwstr>
  </property>
</Properties>
</file>