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D33-14DF-4E72-8D59-60196BB1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2AF-04AD-46E8-84A6-A40443EA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ECB-F815-4B23-A3E9-C77D0399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3FB-2CC9-48A2-847B-AF21F7D7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8825-67D7-49DF-8E15-2E564E60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9647-350D-440A-B451-3589590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D127-7E34-46A0-B449-D25B35D8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9613-90B4-479E-8F94-8353A97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FB61-78EC-406E-806B-42C087AC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327E-D98B-4DD2-9859-22F26E47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DB97-FC7C-4E32-AEA9-6A936B07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62E-9620-493F-92E5-F3772F33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794E-DFA1-455C-A00F-3A8F5577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D6B6-4CD8-4F0A-BE6F-178CA5D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5830-877A-4B8A-8DC9-58E34A5E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4FE5-F061-40CB-9778-92173977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73CA-6677-4410-8D80-3C3F5857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F03-5A25-40FC-B998-F3ACDC13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1A5-B33D-4AB8-8A93-E5B61A0D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B87-8B5C-4FEE-8D82-454B70B1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BD8-E665-43C9-BD3C-850AF9F9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284-C4BC-44A7-812A-F5C55C03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180-2BA5-49E9-98E8-1B862FE8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F60-4080-4624-86CF-38CF58B4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3240" cy="5027760"/>
            <a:chOff x="318960" y="1828800"/>
            <a:chExt cx="8823240" cy="5027760"/>
          </a:xfrm>
        </p:grpSpPr>
        <p:sp>
          <p:nvSpPr>
            <p:cNvPr id="1" name=""/>
            <p:cNvSpPr/>
            <p:nvPr/>
          </p:nvSpPr>
          <p:spPr>
            <a:xfrm>
              <a:off x="837720" y="4617000"/>
              <a:ext cx="8304480" cy="223920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00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7720" y="4653360"/>
              <a:ext cx="8304480" cy="22028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7720" y="1828800"/>
              <a:ext cx="731232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7720" y="1828800"/>
              <a:ext cx="45720" cy="28324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280" y="4609080"/>
              <a:ext cx="45720" cy="224712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09080"/>
              <a:ext cx="45694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09080"/>
              <a:ext cx="47520" cy="224712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E92A0E-FA28-4F09-8A01-5E4A97A953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3240" cy="5127480"/>
            <a:chOff x="318960" y="1752480"/>
            <a:chExt cx="8823240" cy="5127480"/>
          </a:xfrm>
        </p:grpSpPr>
        <p:sp>
          <p:nvSpPr>
            <p:cNvPr id="51" name=""/>
            <p:cNvSpPr/>
            <p:nvPr/>
          </p:nvSpPr>
          <p:spPr>
            <a:xfrm>
              <a:off x="333000" y="1752480"/>
              <a:ext cx="8809200" cy="51040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7720" y="3809160"/>
              <a:ext cx="8304480" cy="30470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2800"/>
              <a:ext cx="54838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7720" y="1752480"/>
              <a:ext cx="77680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2800"/>
              <a:ext cx="47520" cy="31071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7720" y="1752480"/>
              <a:ext cx="45720" cy="51184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E5B9F9-BFBE-4AC6-8EB9-EB4AAF4F67D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93372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dřej Sadí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deněk Str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10.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21300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pracoval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192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ystém kultu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26560" y="2924280"/>
            <a:ext cx="79203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79720" indent="-27972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ytváří své struktu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97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římo – technickou konstrukcí(spotřební předměty, nástroje,dopravní sítě,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97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přímo – informačně nepředepsané, spontánní(jazyk, trh,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Postavení člově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istují 2 systémy – přírodní ekosystém a kulturní systé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 je součástí obou systémů, ale podřazené postavení má pouze vůči přírodní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 Black"/>
              </a:rPr>
              <a:t>Konflikt přírody a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panze kultury jen na úkor již existující přír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nos informace je kvalitativně odlišn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DNA x jazyk,písm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4797360"/>
            <a:ext cx="81010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Pokud kultura překročí určitou mez, pak příroda změní svou strategii: Nebude se bránit silou, ale svou slabostí, zranitelností a nerovnováh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ter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060640"/>
            <a:ext cx="830592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MAJS, J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rama evolu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Praha: Hynek, 2000. ISBN: 80-86202-77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MAJS,J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losofie psaná kurzívou:rozhlasové ekologické esej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no: Doplněk, 2003. ISBN 80-7239-152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ozrazil On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vetrnemlyny.cz/rozrazil/online/clanek.php?clanek_id=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 Black"/>
              </a:rPr>
              <a:t>Děkujeme za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stor pro vaše dot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bsah prezent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avení člověka vůči systému přírody a kul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flikt kultury a přír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éměř nikdo dnes neví, že vedle evoluce biotické existuje také starší evoluce abiotická a že také člověk zažehl evoluci, zvláštní protipřírodní evoluci kulturní.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48164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. Josef Šma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 směřující proti přirozené entrop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tváří struktury, systémy a uspořáda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 nahodilý a konstitu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ce přirozená – biotická X abioti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ce kulturní - lid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sitelem je přír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á se vznikem vesmí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ce a její změny probíhají v dlouhých časových periodá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řídání pomalých fází a evolučních sko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od velkého třesku k biologickému třesk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ikož evoluce vystupuje proti entropii, vyžaduje nutně určitou energetickou podpo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ce se jakoby „naslepo“ snaží o maximální využití prostředk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tšina energetické „výživy“ je spotřebována na udržení fungování a reprodukci biotického systé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3851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800748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srovnatelně mladší a v podřazeném postavení vůči přírod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sitel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j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člověk, resp. společenství li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es namířený proti entropii, ale také proti evolučně starší přírod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ýsledkem cílevědomé i spontánní aktivity člověka je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192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ult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00000" y="2662200"/>
            <a:ext cx="7920000" cy="38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ložitý a rozsáhlý umělý systém, který se v rovnovážné biosféře vyznačuje svou vlastní nebiologickou integritou a sebestrukturac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ystém přírody,který je vůči přírodě v opozici a je na ní závisl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192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ult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0000" y="2662200"/>
            <a:ext cx="792000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ka - předměty z abiotických a biotických systé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ivované organismy – rostliny, zvířata, člově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ivované přirozené systémy – krajina, resp. její čá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ševní a duchovní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dřej Sadílek</dc:creator>
  <dc:description/>
  <dc:language>en-US</dc:language>
  <cp:lastModifiedBy>Ondřej Částek</cp:lastModifiedBy>
  <dcterms:modified xsi:type="dcterms:W3CDTF">2007-10-02T11:40:20Z</dcterms:modified>
  <cp:revision>9</cp:revision>
  <dc:subject/>
  <dc:title>Přirozená a kulturní evoluce</dc:title>
</cp:coreProperties>
</file>