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7B8-6EF9-4B7C-B71D-57623952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FDE-FAC9-428D-963E-982E5572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357-CA25-4A7E-9442-ADAC7BA7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4B6-2722-4259-AA67-42FBF45C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0DC3-34AF-4343-8119-37521A41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5FAF-E3A9-44CC-A0ED-78C9F0C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B15B-BB71-4AAD-8BEE-A3B05978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6799-1DEA-4E6A-8DD9-8E55267D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F070-E04D-4453-8AC3-998F5EE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26AB-68CB-4BB5-85A4-AF2C2CBB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288-A353-4857-8533-BD09ECF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03E-131D-444C-81FD-42837545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98CE-268A-4BA6-B46A-E5343A2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C644-711B-4A07-BDAC-E74F677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D5F0-0B1A-40C4-9680-54136F8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758B-D836-4DD8-B677-BC3A863A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7E5-478A-4864-B9D7-571F43EE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934-D717-441C-92D2-A71DA296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453-111D-4DA1-89CF-D919FB9F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D4E-D627-42C3-8A0B-D9667BB0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C7B-34A1-444B-BFF3-0E34268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B25-28E0-43E5-95B9-0A4A790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0F3-B73B-416F-89A8-A9B30AF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DAE-A007-4483-9F95-DCF897B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8F6-2117-4670-8868-C1A8E46E3B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E0FA-E998-4050-A9D9-EFBCD4DF45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Verdana"/>
              </a:rPr>
              <a:t>Vývoj společnosti podle Alvina Toffl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219640" y="4581000"/>
            <a:ext cx="3167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nka Novák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iří Rou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ichard Savick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řízení e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áklad v integraci ostatních jednotek v sourod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Řídící pracovník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lita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perel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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VÁR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č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toj k přírod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obnovitelné zdro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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etická a surovinová kri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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rize osob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starý vs. nový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iver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eci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rsatil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nchron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lexitime at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starý vs. nový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eštíhl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írání univerzálního měřít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ncip deleg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řetí vlna – vícerozměrné říz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ize korporací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itika stávajících struktur řízení a cí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 popředí zájem společnosti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ciální dovednosti řídícího pracovní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offler optim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ichel Houellebecq a extremní liberal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ichard Sennet a fragmentace spole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ffler a technologický determin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ěkujeme za pozornos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Vývoj společnosti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voj společnosti obec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á vl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etí vl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ibliograf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offler, A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Third Wave.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w York: Bentam Books, 19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offler, A. Šok z budoucnosti. Praha: Práce, 199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v. of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Information Society: Sceptical View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by Christopher May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The Sociological Review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200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Gardels, N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he Third W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’s Third Way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w Perspectives Quarterly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Summer 200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vin Toff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*3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říjen 192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Šok z budoucnost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tí vlna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sun moci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vá civilizace. Třetí vln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álka a antivál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ákladní body Tofflerovy tez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tafora vlny (Elias, Turn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i vlny – motyka, výrobní pás, P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ěk – sběračství, lov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. vlna – zem. revolu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e, sídla vesnice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. vlna – 17.stol, prům. revolu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. vlna – 1955, „informační revoluce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xistuje jednoznačná kauzal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ýrobce vs. Spotřebitel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brácený poměr trhu A a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něžní systém, smluvní etika, materialismus at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ard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i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obky, míry, ceny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hování, rodina, media, sexuality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ecial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covní diverz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nchronizace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covní doba </a:t>
            </a:r>
            <a:r>
              <a:rPr b="0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životní sty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á vlna – vnitřní kó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ntr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várenská výroba, kapitál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imaliz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ěřítko úspěc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izac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ktivita rozhodovacích proces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1:46:06Z</dcterms:created>
  <dc:creator>Richard Savicky</dc:creator>
  <dc:description/>
  <dc:language>en-US</dc:language>
  <cp:lastModifiedBy>Richard Savicky</cp:lastModifiedBy>
  <dcterms:modified xsi:type="dcterms:W3CDTF">2007-10-12T15:42:10Z</dcterms:modified>
  <cp:revision>4</cp:revision>
  <dc:subject/>
  <dc:title>Vývoj společnosti podle Alvina Tofflera</dc:title>
</cp:coreProperties>
</file>