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D125-A5CE-4BB8-9E98-8BC928D1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F993-B7C7-414D-AA00-B9252CB0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05F1-6650-495D-9CA2-E07A21EB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0114-456D-4044-864D-54C7642D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DE51-60C6-4312-919F-577459AA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D621-885F-44FF-8641-9104BB68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41A4-6935-4F11-BC4F-DFE021F1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13D6-47E0-42A5-A648-64240076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A7D1-1591-47ED-922A-901E1353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1871-0B6F-44EC-BEFE-913ACB83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3CC4-577E-44DC-B6C7-6AEEE8E3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22FC-97BB-4F36-9220-BDB22E62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5375-D005-4C17-BEB1-4A473013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8B3C-46FE-4FF5-8E60-AE2AFDBD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7C29-03CB-415C-B2DE-5775F420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2150-9164-479B-BC92-26BABAAF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79CE-84B4-41A2-8B34-77B7C78F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7A3C9-003A-4B40-A1D4-6C9F5278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66CB-BA96-4F3E-B816-F3F73770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D0C9C-6139-4718-9CAA-FD159D3D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C7CE2-2A09-4D4B-A9E5-CB389645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831A-2375-4E3B-B41F-19A33B3E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9C17B-2D7E-4563-863D-A3689239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D131-A18F-4763-8098-A544FC68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760A-FC6D-4924-ADD8-2042DCB303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CA1E-A5DA-458B-BC1A-0B028D5926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Třetí vlna a její důsledk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arel Pospíšil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adislav Šim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def6"/>
                </a:solidFill>
                <a:latin typeface="Arial"/>
              </a:rPr>
              <a:t>Stret socializmu s budúcnosťo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nalógia nástupu kníhtlače a nových komunikačných médií – vplyv na spoločnos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čítače a komunikácia – dôležitý faktor pádu socializ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Tretia vlna a jej vplyv na 3 základné piliere socializmu – kolektívne vlastníctvo, centrálne plánovanie a dôraz na materiálnu výrob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def6"/>
                </a:solidFill>
                <a:latin typeface="Arial"/>
              </a:rPr>
              <a:t>Tretia vlna a socializmu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Rozdiel v toku informácií – kapitalizmus vs. socializ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stoj socializmu k duševnej prá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3313440" cy="29178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5940360" y="3357720"/>
            <a:ext cx="1973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def6"/>
                </a:solidFill>
                <a:latin typeface="Arial"/>
              </a:rPr>
              <a:t>Stret voličstiev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Chaos západnej civilizác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Rozdelenie voličov na dva táb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Boj o minulosť - rigidita a lobby druhej vl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2195640" y="3357720"/>
            <a:ext cx="4744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def6"/>
                </a:solidFill>
                <a:latin typeface="Arial"/>
              </a:rPr>
              <a:t>Voličstvo zajtrajšk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Ústup druhej vl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masifikácia spoločnosti tretej vl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aňový a účtový systém – jednotiace té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>
            <a:off x="1763640" y="3357720"/>
            <a:ext cx="5715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Dolarový kapitál byl nahrazen lidský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kapitálem. Michael Mil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eníze se pohybují rychlostí světl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informace se musí pohybovat rychlej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errill Ly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ummary první a druhé vln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8" name="" descr="Motyka srdcová bez násady&#10;Kliknutím zobrazíte detail obrázku."/>
          <p:cNvPicPr/>
          <p:nvPr/>
        </p:nvPicPr>
        <p:blipFill>
          <a:blip r:embed="rId1"/>
          <a:stretch/>
        </p:blipFill>
        <p:spPr>
          <a:xfrm>
            <a:off x="971640" y="21337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Linka pro testování a laserový potisk"/>
          <p:cNvPicPr/>
          <p:nvPr/>
        </p:nvPicPr>
        <p:blipFill>
          <a:blip r:embed="rId2"/>
          <a:stretch/>
        </p:blipFill>
        <p:spPr>
          <a:xfrm>
            <a:off x="4643280" y="2205000"/>
            <a:ext cx="30481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řetí vl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novitelné zd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é technolo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é instit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měny v podnicí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vše jako kvantový skok vyvolávají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flik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 "/>
          <p:cNvPicPr/>
          <p:nvPr/>
        </p:nvPicPr>
        <p:blipFill>
          <a:blip r:embed="rId5"/>
          <a:stretch/>
        </p:blipFill>
        <p:spPr>
          <a:xfrm>
            <a:off x="5292720" y="1557360"/>
            <a:ext cx="28576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, informace a poznán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en shromažďování, ale také dávání do souvislostí a kontex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likace, data mining, OL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é technologie, substituce materiálů, nový logistický přístup, staronové pojetí zákazní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znání nahrazuje kapitá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eho se třetí vlna týká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ní faktory – pozná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hmotné hodnoty – získávání a aplikace poznatků (management znalost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masifikace – customizace, digitalizace médií, direct maily,C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áce – potřeba kvalifikovaných lidí, rekvalifikace, soukromé VŠ, personální agentu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ovace – nové koncepty, TQM, KAI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ěřítko – autonomní pracovní týmy, spin-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ganizace – nové struktury, nové typy podniků (joint-venture, holdingy), orientace na proce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ystémová integrace a infrastruktura prostřednictvím elektronické komunik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rychlení – ne úspory z rozsahu, ale úspory z rychlosti, assesm. cent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Boli sme hádam poslední, ktorí pochopili, že vo veku informatiky je tým najnákladnejším aktívom poznanie.“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Gorbač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def6"/>
                </a:solidFill>
                <a:latin typeface="Arial"/>
              </a:rPr>
              <a:t>Tretia vlna a nezamestnanosť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ová podoba nezamestnanosti – koniec zameniteľnosti pracovník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emožnosť stimulovať zamestnanosť keynesiánskymi a monetaristickými prostriedk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esun od kvantitatívnej ku kvalitatívnej zamestnanosti – stimulácia cez alokáciu poznan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def6"/>
                </a:solidFill>
                <a:latin typeface="Arial"/>
              </a:rPr>
              <a:t>Spektrum duševnej prá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astaralosť tradičného delenia na sektory a nové prístupy zoskupovania zamestnan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ánik čisto manuálnej práce – vznik „kognitariátu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ysoko intelektuálne vs. neintelektuálne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esun skutočnej hodnoty výrobk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3:47:08Z</dcterms:created>
  <dc:creator>Vrbkovi</dc:creator>
  <dc:description/>
  <dc:language>en-US</dc:language>
  <cp:lastModifiedBy>Vena</cp:lastModifiedBy>
  <dcterms:modified xsi:type="dcterms:W3CDTF">2007-10-13T13:24:19Z</dcterms:modified>
  <cp:revision>5</cp:revision>
  <dc:subject/>
  <dc:title>Třetí vlna a její důsledky</dc:title>
</cp:coreProperties>
</file>