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cs-CZ"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cs-CZ"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cs-CZ"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cs-CZ"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cs-CZ"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cs-CZ"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1D0B27-9DEE-41D8-8A25-E022BDE8572B}" type="slidenum">
              <a:rPr b="0" lang="cs-CZ"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92160" y="768240"/>
            <a:ext cx="5114880" cy="3837240"/>
          </a:xfrm>
          <a:prstGeom prst="rect">
            <a:avLst/>
          </a:prstGeom>
          <a:ln w="0">
            <a:noFill/>
          </a:ln>
        </p:spPr>
      </p:sp>
      <p:sp>
        <p:nvSpPr>
          <p:cNvPr id="8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Dobrý den, jmenuji se ____ a spolu s Janou Majerovou</a:t>
            </a:r>
            <a:r>
              <a:rPr b="0" lang="en-US" sz="1200" spc="-1" strike="noStrike">
                <a:solidFill>
                  <a:srgbClr val="000000"/>
                </a:solidFill>
                <a:latin typeface="Times New Roman"/>
              </a:rPr>
              <a:t>-M</a:t>
            </a:r>
            <a:r>
              <a:rPr b="0" lang="cs-CZ" sz="1200" spc="-1" strike="noStrike">
                <a:solidFill>
                  <a:srgbClr val="000000"/>
                </a:solidFill>
                <a:latin typeface="Times New Roman"/>
              </a:rPr>
              <a:t>íšou Šenkovou-Evou Holoubkovou jsme zpracovali téma přirozený a umělý řá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92160" y="768240"/>
            <a:ext cx="5114880" cy="3837240"/>
          </a:xfrm>
          <a:prstGeom prst="rect">
            <a:avLst/>
          </a:prstGeom>
          <a:ln w="0">
            <a:noFill/>
          </a:ln>
        </p:spPr>
      </p:sp>
      <p:sp>
        <p:nvSpPr>
          <p:cNvPr id="9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čím složitější řád chceme vytvořit, tím méně musíme přikazovat a více spoléhat na přirozená pravid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ětší stupen složitosti, než bychom mohli sami intelektuálně zvládnout či uvědoměle uspořád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éně moci nad detaily, než bychom měli nad detaily řádu uvědoměle uspořádané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případě spontánních řádů můžeme určovat jejich abstraktní rysy tím, že budeme určovat některé z faktorů, jež je utvářejí, avšak jednotlivosti budeme muset přenechat okolnostem, které nezná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92160" y="768240"/>
            <a:ext cx="5114880" cy="3837240"/>
          </a:xfrm>
          <a:prstGeom prst="rect">
            <a:avLst/>
          </a:prstGeom>
          <a:ln w="0">
            <a:noFill/>
          </a:ln>
        </p:spPr>
      </p:sp>
      <p:sp>
        <p:nvSpPr>
          <p:cNvPr id="10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aždá org., ve které její členové nejsou pouhými nástroji organizátora,se  bude pomocí příkazů určovat pouze funkce, kterou má každý člen vykonávat a účel, jehož má být dosaženo. Detaily se ponechají na rozhodování jednotlivců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92160" y="768240"/>
            <a:ext cx="5114880" cy="3837240"/>
          </a:xfrm>
          <a:prstGeom prst="rect">
            <a:avLst/>
          </a:prstGeom>
          <a:ln w="0">
            <a:noFill/>
          </a:ln>
        </p:spPr>
      </p:sp>
      <p:sp>
        <p:nvSpPr>
          <p:cNvPr id="10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této části je ještě třeba dodat, že v jakékoli větší skupině lidí spolupráce vždy spočívá na spontánním řádu i na uvědomělé organizaci. Pro mnoho úkolů je organizace nejmocnější metodou účinné koordinace, protože nám umožňuje přizpůsobit výsledný řád našim přáním mnohem úplněj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2160" y="768240"/>
            <a:ext cx="5114880" cy="3837240"/>
          </a:xfrm>
          <a:prstGeom prst="rect">
            <a:avLst/>
          </a:prstGeom>
          <a:ln w="0">
            <a:noFill/>
          </a:ln>
        </p:spPr>
      </p:sp>
      <p:sp>
        <p:nvSpPr>
          <p:cNvPr id="10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á naše společnost je také řádem a to řádem přirozený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musí mít ostré hranice ----jako má zpravidla organiza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2160" y="768240"/>
            <a:ext cx="5114880" cy="3837240"/>
          </a:xfrm>
          <a:prstGeom prst="rect">
            <a:avLst/>
          </a:prstGeom>
          <a:ln w="0">
            <a:noFill/>
          </a:ln>
        </p:spPr>
      </p:sp>
      <p:sp>
        <p:nvSpPr>
          <p:cNvPr id="10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ímé zasahování do řádu vede k narušení jeho fungování. Zde si můžeme jako příklad uvést zásahy vlády do fungování tržního mechanismu – tržního řád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2160" y="768240"/>
            <a:ext cx="5114880" cy="3837240"/>
          </a:xfrm>
          <a:prstGeom prst="rect">
            <a:avLst/>
          </a:prstGeom>
          <a:ln w="0">
            <a:noFill/>
          </a:ln>
        </p:spPr>
      </p:sp>
      <p:sp>
        <p:nvSpPr>
          <p:cNvPr id="1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cházely jsme z díla Fridricha Augusta von Hayeka – Právo, zákonodárství a svobod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2160" y="768240"/>
            <a:ext cx="5114880" cy="3837240"/>
          </a:xfrm>
          <a:prstGeom prst="rect">
            <a:avLst/>
          </a:prstGeom>
          <a:ln w="0">
            <a:noFill/>
          </a:ln>
        </p:spPr>
      </p:sp>
      <p:sp>
        <p:nvSpPr>
          <p:cNvPr id="1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je od nás k tomuto tématu vše. Děkujeme za vaši pozornost. Máte nějaké dotaz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92160" y="768240"/>
            <a:ext cx="5114880" cy="3837240"/>
          </a:xfrm>
          <a:prstGeom prst="rect">
            <a:avLst/>
          </a:prstGeom>
          <a:ln w="0">
            <a:noFill/>
          </a:ln>
        </p:spPr>
      </p:sp>
      <p:sp>
        <p:nvSpPr>
          <p:cNvPr id="8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Abychom mohli vysvětlit rozdíl mezi přirozeným a umělým řádem, musíme si nejprve říct, co se pod tímto pojmem skrýv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Hayek dává přednost výrazu „řád“ před jinými označeními, ale řádem můžeme rozumět i systém, strukturu nebo vzore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92160" y="768240"/>
            <a:ext cx="5114880" cy="3837240"/>
          </a:xfrm>
          <a:prstGeom prst="rect">
            <a:avLst/>
          </a:prstGeom>
          <a:ln w="0">
            <a:noFill/>
          </a:ln>
        </p:spPr>
      </p:sp>
      <p:sp>
        <p:nvSpPr>
          <p:cNvPr id="8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 fungování řádu je nezbytné, aby všichni jednotlivci sledova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ěkterá pravidla budou následovat spontánně ----protože jsou součástí jejich společné kulturní trad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ěkterým se budou podřizovat dobrovolně</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některým musí být donuceni -----neboť i když by bylo v zájmu každého na ně nedbat, celkový řád, na němž úspěch jejich jednání závisí, vznikne jen tehdy, budou-li tato pravidla obecně dodržován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92160" y="768240"/>
            <a:ext cx="5114880" cy="3837240"/>
          </a:xfrm>
          <a:prstGeom prst="rect">
            <a:avLst/>
          </a:prstGeom>
          <a:ln w="0">
            <a:noFill/>
          </a:ln>
        </p:spPr>
      </p:sp>
      <p:sp>
        <p:nvSpPr>
          <p:cNvPr id="8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ělý řád = organizace. = z řečtiny tax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92160" y="768240"/>
            <a:ext cx="5114880" cy="3837240"/>
          </a:xfrm>
          <a:prstGeom prst="rect">
            <a:avLst/>
          </a:prstGeom>
          <a:ln w="0">
            <a:noFill/>
          </a:ln>
        </p:spPr>
      </p:sp>
      <p:sp>
        <p:nvSpPr>
          <p:cNvPr id="9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irozený řád= řád spontánní = z řečtiny kos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ůže přetrvávat i když se všechny jednotlivé prvky, které obsahují a dokonce i počet těchto prvků m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zachování řádu stačí, aby byla zachována struktura vztahů či aby se prvky jistého druhu měly k sobě vzájemně stejným způsob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92160" y="768240"/>
            <a:ext cx="5114880" cy="3837240"/>
          </a:xfrm>
          <a:prstGeom prst="rect">
            <a:avLst/>
          </a:prstGeom>
          <a:ln w="0">
            <a:noFill/>
          </a:ln>
        </p:spPr>
      </p:sp>
      <p:sp>
        <p:nvSpPr>
          <p:cNvPr id="9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um. ř. – relativně jednoduchý – omezený na takovou úroveň složitosti, o které tvůrce ještě může mít přeh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 ř. – složitý – není omezen tím, co může lidská bytost zvládn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        </a:t>
            </a:r>
            <a:r>
              <a:rPr b="0" lang="cs-CZ" sz="1200" spc="-1" strike="noStrike">
                <a:solidFill>
                  <a:srgbClr val="000000"/>
                </a:solidFill>
                <a:latin typeface="Times New Roman"/>
              </a:rPr>
              <a:t>- nemá konkr. účel – protože nebyl vytvořen, nemá ani úč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92160" y="768240"/>
            <a:ext cx="5114880" cy="3837240"/>
          </a:xfrm>
          <a:prstGeom prst="rect">
            <a:avLst/>
          </a:prstGeom>
          <a:ln w="0">
            <a:noFill/>
          </a:ln>
        </p:spPr>
      </p:sp>
      <p:sp>
        <p:nvSpPr>
          <p:cNvPr id="9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jiném smyslu můžeme říci, že řád spočívá v účelně zaměřeném jednání prvků, kde účel by znamenal zachování nebo obnovování tohoto řá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vky si osvojily pravidelnosti chování vedoucí k zachování řádu – nejspíše proto, že ti, kteří jednali určitými způsoby, měli v rámci řádu, který tak vznikal, větší naději na přežití než ti, kteří tak nejednal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92160" y="768240"/>
            <a:ext cx="5114880" cy="3837240"/>
          </a:xfrm>
          <a:prstGeom prst="rect">
            <a:avLst/>
          </a:prstGeom>
          <a:ln w="0">
            <a:noFill/>
          </a:ln>
        </p:spPr>
      </p:sp>
      <p:sp>
        <p:nvSpPr>
          <p:cNvPr id="9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ovéto řády se našim smyslům samy nenabízejí, musí být vysledovány intelek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EB0AA-537D-4E23-8F35-582F84C13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75F5C-AFE6-4F84-AEB1-53C15E985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3354D-2309-46B9-A939-063C0FB2A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23E08-6CA4-42CE-9B79-258BF75E2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3CD60-4246-4678-A14E-D00219F4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73B76-3652-4C75-A156-D79752EC0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F98F8-AB82-411E-8BCB-795A79094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AB7A4-968A-40C8-93DD-7B4A1D2D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BD7EF-CF40-4C76-9F94-DC2FC933A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A38F-85DC-4BB2-8D54-5D648262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ABD0F-44A4-425A-AB86-70741DD6C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58F73-FAB3-4272-AF8E-8FB785E83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09BC-618B-4BC9-9216-89B0FB193872}" type="slidenum">
              <a:rPr b="0" lang="cs-CZ" sz="2000" spc="-1" strike="noStrike">
                <a:solidFill>
                  <a:srgbClr val="ffffff"/>
                </a:solidFill>
                <a:latin typeface="Times New Roman"/>
              </a:rPr>
              <a:t>&lt;number&gt;</a:t>
            </a:fld>
            <a:r>
              <a:rPr b="0" lang="en-US" sz="2000" spc="-1" strike="noStrike">
                <a:solidFill>
                  <a:srgbClr val="ffffff"/>
                </a:solidFill>
                <a:latin typeface="Times New Roman"/>
              </a:rPr>
              <a:t>/16</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řirozený a umělý řád</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 Holoubková</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a Majerová</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a Šenková</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0EBBF3D-FE52-4D6C-A33B-0C177EFE2E98}" type="slidenum">
              <a:t>1</a:t>
            </a:fld>
          </a:p>
        </p:txBody>
      </p:sp>
    </p:spTree>
  </p:cSld>
  <p:transition>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oléhání na přirozený řád při řízení</a:t>
            </a: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	</a:t>
            </a:r>
            <a:r>
              <a:rPr b="0" lang="en-US" sz="3200" spc="-1" strike="noStrike">
                <a:solidFill>
                  <a:srgbClr val="ffffff"/>
                </a:solidFill>
                <a:latin typeface="Times New Roman"/>
              </a:rPr>
              <a:t>větší stupeň složit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éně moci nad detail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upeň moci řídit složitý přirozený řád bude menší, než bychom mohli mít nad umělým řádem.</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67EF2CE-8E65-43F1-BD8D-E519090D832F}" type="slidenum">
              <a:t>10</a:t>
            </a:fld>
          </a:p>
        </p:txBody>
      </p:sp>
    </p:spTree>
  </p:cSld>
  <p:transition>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avidla organizace</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ace se musí spoléhat i na přirozená pravidla, nejen na specifické příkaz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ž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ím, že jednání jednotlivců je vedeno spíše přirozenými pravidly, je umožněno využít znalosti, které sám organizátor nemá.</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0AE543E-7FDD-4D6D-BCAF-0C08346CAB5F}" type="slidenum">
              <a:t>11</a:t>
            </a:fld>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avidla organizace</a:t>
            </a:r>
            <a:endParaRPr b="0" lang="en-US" sz="4400" spc="-1" strike="noStrike">
              <a:solidFill>
                <a:srgbClr val="ffff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Čím složitější je řád, k němuž se směřuje, tím více bude ovládání záviset spíš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 přirozených pravidlech, než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 specifických příkaz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 nejsložitějších  typech organizací bude příkaz nejvyšší autority sotva víc, než určení jednotlivých funkcí a obecný zámě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54DE155-843F-47F7-94AF-9019FDCE494F}" type="slidenum">
              <a:t>12</a:t>
            </a:fld>
          </a:p>
        </p:txBody>
      </p:sp>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olečnost</a:t>
            </a: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utvořena z jednotlivců a organizací (uměle utvořený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nemusí mít ostré hrani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častá existence jader z těsněji svázaných jednotlivců, zaujímající ústřední postavení ve volněji propojeném, širším řád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5BC444E-12CD-47A6-BA3D-BB8D70773CE4}" type="slidenum">
              <a:t>13</a:t>
            </a:fld>
          </a:p>
        </p:txBody>
      </p:sp>
    </p:spTree>
  </p:cSld>
  <p:transition>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olečnost = přirozený řád</a:t>
            </a: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íky tomu, že struktura moderní společnosti nebyla závislá na organizování, dosáhla současného stupně složitost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Řád o takové složitosti můžeme zachovat nikoli specifickými příkazy jeho členům, ale jen nepřímo prosazováním a zdokonalováním pravidel vedoucích k utváření přirozeného řádu.</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E192F0A-0506-4C16-964F-4874D2B7FDF2}" type="slidenum">
              <a:t>14</a:t>
            </a:fld>
          </a:p>
        </p:txBody>
      </p:sp>
    </p:spTree>
  </p:cSld>
  <p:transition>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užitá literatura</a:t>
            </a:r>
            <a:endParaRPr b="0" lang="en-US" sz="4400" spc="-1" strike="noStrike">
              <a:solidFill>
                <a:srgbClr val="ffff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YEK  F. A. - Právo, zákonodárství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svoboda. Praha: Academia, 1994</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6954DBA-4084-4E6B-9FA7-8BC3D4F6FE4C}" type="slidenum">
              <a:t>15</a:t>
            </a:fld>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ěkujeme za pozornost</a:t>
            </a:r>
            <a:endParaRPr b="0" lang="en-US" sz="4400" spc="-1" strike="noStrike">
              <a:solidFill>
                <a:srgbClr val="ffff00"/>
              </a:solidFill>
              <a:latin typeface="Times New Roman"/>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7B85965-E57F-4F13-8564-C44C54CCA929}" type="slidenum">
              <a:t>16</a:t>
            </a:fld>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jem „Řád“</a:t>
            </a:r>
            <a:endParaRPr b="0" lang="en-US" sz="4400" spc="-1" strike="noStrike">
              <a:solidFill>
                <a:srgbClr val="ffff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boli systém, struktura, vzore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en 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7C7C2A9-61AD-44FD-A1A1-ED27E6D5BAC6}" type="slidenum">
              <a:t>2</a:t>
            </a:fld>
          </a:p>
        </p:txBody>
      </p:sp>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ngování řádu</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šichni jednotlivci musí sledovat stanovená pravidla, či alespoň nevybočovat z určitého rámc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ěkterá pravidla budou následovat spontánně</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ěkterým se budou podřizovat dobrovolně</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 některým musí být donuceni</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AD17CD7-8289-4CA6-8284-86ADF682C4B4}" type="slidenum">
              <a:t>3</a:t>
            </a:fld>
          </a:p>
        </p:txBody>
      </p:sp>
    </p:spTree>
  </p:cSld>
  <p:transition>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mělý řád</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ědomě vytvořen nějakou bytostí,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tzn. exogenně</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mělý řád ve společnosti spočívá na vztahu přikazování a posluš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ůle nadřízených </a:t>
            </a:r>
            <a:r>
              <a:rPr b="0" lang="en-US" sz="3200" spc="-1" strike="noStrike">
                <a:solidFill>
                  <a:srgbClr val="ffffff"/>
                </a:solidFill>
                <a:latin typeface="Times New Roman"/>
              </a:rPr>
              <a:t>(</a:t>
            </a:r>
            <a:r>
              <a:rPr b="0" lang="cs-CZ" sz="3200" spc="-1" strike="noStrike">
                <a:solidFill>
                  <a:srgbClr val="ffffff"/>
                </a:solidFill>
                <a:latin typeface="Times New Roman"/>
              </a:rPr>
              <a:t>jediné nejvyšší autority) určuje, co každý jednotlivec musí děl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4ED489B-319D-4EE5-AFA1-8E1401336B24}" type="slidenum">
              <a:t>4</a:t>
            </a:fld>
          </a:p>
        </p:txBody>
      </p:sp>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řirozený řád</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ontánně sebeutvářen, tzn. endogenně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vnováha ustanovená zevnitř, bez vnějších zásah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BB7360B-6945-4EB4-8CC8-8921F3390F8E}" type="slidenum">
              <a:t>5</a:t>
            </a:fld>
          </a:p>
        </p:txBody>
      </p:sp>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mělý řád       x   Přirozený řád</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ivně jednoduchý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vnímatelná lidskými smys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ytvořen uvědoměl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y sloužil účelu jeho tvůrce</a:t>
            </a:r>
            <a:endParaRPr b="0" lang="en-US" sz="2800" spc="-1" strike="noStrike">
              <a:solidFill>
                <a:srgbClr val="ffffff"/>
              </a:solidFill>
              <a:latin typeface="Times New Roman"/>
            </a:endParaRPr>
          </a:p>
        </p:txBody>
      </p:sp>
      <p:sp>
        <p:nvSpPr>
          <p:cNvPr id="6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ůže být velmi složitý</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se nemusí smyslům projevovat, může spočív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a abstraktních vztazích, které můžeme pouze rekonstruova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má konkrétní účel</a:t>
            </a:r>
            <a:endParaRPr b="0" lang="en-US" sz="2800" spc="-1" strike="noStrike">
              <a:solidFill>
                <a:srgbClr val="ffffff"/>
              </a:solidFill>
              <a:latin typeface="Times New Roman"/>
            </a:endParaRPr>
          </a:p>
        </p:txBody>
      </p:sp>
      <p:sp>
        <p:nvSpPr>
          <p:cNvPr id="5" name="PlaceHolder 4"/>
          <p:cNvSpPr>
            <a:spLocks noGrp="1"/>
          </p:cNvSpPr>
          <p:nvPr>
            <p:ph type="sldNum" idx="3"/>
          </p:nvPr>
        </p:nvSpPr>
        <p:spPr/>
        <p:txBody>
          <a:bodyPr/>
          <a:p>
            <a:fld id="{F0C27F4B-DD6E-4722-88C0-553FB8CBAC94}" type="slidenum">
              <a:t>6</a:t>
            </a:fld>
          </a:p>
        </p:txBody>
      </p:sp>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ztah přirozeného řádu k účelu</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řirozený řád nebyl vytvořen za nějakým účel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xistence řádu může být užitečná  jednotlivcům, kteří se uvnitř něj pohybují.</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8F12B0D-56AA-4667-B7B4-E5F8D592041B}" type="slidenum">
              <a:t>7</a:t>
            </a:fld>
          </a:p>
        </p:txBody>
      </p:sp>
    </p:spTree>
  </p:cSld>
  <p:transition>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edlejší důsledky lidské činnosti</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istence uspořádaných struktur, které jsou produktem jednání mnoha lidí, avšak nejsou výsledkem vědomého lidského vytvářen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ř. jazyk, morálka, „neviditelná ruka trh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částí přirozeného řádu</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2268837-C95E-49A8-B0DD-4777ABA23878}" type="slidenum">
              <a:t>8</a:t>
            </a:fld>
          </a:p>
        </p:txBody>
      </p:sp>
    </p:spTree>
  </p:cSld>
  <p:transition>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edlejší důsledky lidské činnosti</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a:t>
            </a:r>
            <a:r>
              <a:rPr b="0" lang="cs-CZ" sz="3200" spc="-1" strike="noStrike">
                <a:solidFill>
                  <a:srgbClr val="ffffff"/>
                </a:solidFill>
                <a:latin typeface="Times New Roman"/>
              </a:rPr>
              <a:t>Ačkoli člověk nikdy neexistoval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bez zákonů, jimž by se podřizoval, existoval samozřejmě po statisíciletí bez zákonů, které by „znal“ v tom smyslu, že by byl s to je artikulov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F. A. Hayek</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3B5186E-B24B-4DA2-892E-D84B8D762824}" type="slidenum">
              <a:t>9</a:t>
            </a:fld>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1:31:23Z</dcterms:created>
  <dc:creator>Jan Pokorný</dc:creator>
  <dc:description/>
  <dc:language>en-US</dc:language>
  <cp:lastModifiedBy>CIKT</cp:lastModifiedBy>
  <dcterms:modified xsi:type="dcterms:W3CDTF">2007-10-09T06:58:25Z</dcterms:modified>
  <cp:revision>37</cp:revision>
  <dc:subject/>
  <dc:title>Přirozený a umělý řád</dc:title>
</cp:coreProperties>
</file>