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9C11-2A72-468D-AA3D-D97FA3BC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E05B-D477-4B5A-A3EE-A34136AE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59C7-510B-4EDF-A61E-A42401C4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69AC-49F5-4A63-A75E-331E2B95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53B-03E7-422D-883F-E730ACB8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6224-786B-4B71-9BA6-8B47C77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23F-F420-4803-8505-893861C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7720-7547-4AC8-8AFF-0637A4A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C011-CD9B-4F4C-8C48-C50665FF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5A8E-1D96-426D-9EC3-D6CC8CBC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89B-55BB-407B-B670-05EA0DE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0DE8-AFD3-41D2-84C8-FAA24B3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98C-7613-4436-A037-9D0ADE1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6808-5A3F-4CB6-81A8-65CD614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34B5-4F4F-44C7-9B40-DA87B61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912-095B-47D4-9590-5C590231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7CA-C463-43CC-9DAC-9B0002D9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0D53-EE85-4A1B-B11A-DB882A0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F731-21E4-458A-A9D2-9FBEA44F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AD5D-2F45-4DAD-B458-5FF4656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2650-CCCF-4D6F-B12C-33A05E4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940D-E934-421E-9BCA-8EE623B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1AD5-8513-437A-8B6C-3C21897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30C7-724D-499F-9F03-8A3B918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344-06DD-4C58-A69B-A4B6070463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5C2-5CAF-4A6B-9E49-1B3E73A964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Vývoj společnosti        v pojetí A. Tofflera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203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f Jalův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. Petr Houš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ona Vitéz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zmanit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ý soubor možností v život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měrný výběr x standard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míra subkultur – rychlé střídání, vznik a zá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manitost životních sty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ranice adapt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mezené hranice adaptibil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má omezenou kapacitu pro změn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d je kapacita překročena, nastává šok z 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znaky přetížení (bušení srdce, třes, nespavost, podrážděnost, atd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Čelní obr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bránění šoku z budoucnos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omezit přísun informac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regulace množství rozhod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otřeba vytvořit si zóny st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ční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hlcovače šoku z budoucnosti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é se zde scházejí, vyměňují myšlenky a postře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zabývá se minulost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oradenská služba pro krizové situa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 psychologii je „krizí“ každý významný zl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„velká životní změna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adens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zoví poradci – pověření lidé z řad studentů, obchodníků, učitelů, dělníků,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y na půl ces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á se ve věznicích pro tre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zv. přechodná instit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 aplikace i na všední živ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minul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ovaná středi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unity, kde se zastaví č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hou sloužit jako učební pomůc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lávy budouc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onauti absolvují výcvik v uměle vytvořeném prostře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isté mají předběžné zprávy a popis pacha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kce na změ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Škola v industriální společ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nového přístupu k 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ové vzděl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ní systém = okno do budoucn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rdá disciplína, nedostatek individuálního přístup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ení ve školách zaměřeno na minulost a končí u přítomnosti.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udoucnosti škola mlč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ní musí přejít do budoucího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rategie zaměření na budoucnos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získané předem umožňují výraznou změnu ve výk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vyk předvídání“ = schopnost dívat se dopř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jší tempo změ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ál se dívat do budouc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a dívat se na „správnou vzdálenost“ do budouc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chnolog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dnou z účinných strategií v boji proti masovému šoku z budoucnosti je vědomá regulace technologického vý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ká odezva v mnoha zem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pětný dopad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ohledné pokusy zastavit technologii přinesou stejně ničivé důsledky jako bezohledné pokusy technologii zrychlov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do, ani ten nejlepší vědec, doopravdy neví, kam nás věda v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é institu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řeba vytvořit nové politické institu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odpora či zamítnutí nové 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a technologie neznamená omezení svobody výzku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á společnost technické inovace předem vybírá a potom schvaluje použi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pad – základním kritériem ekonomický zis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unismus = zda přispěje k všeobecnému hospodářskému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FFLER, A. Šok z budoucnosti. Praha : Práce, 1992. ISBN 80-208-0160-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evolutionarywealth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ritskelisty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obnost Alvina Tofflera (jeho dílo, názory a poznatk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ózy budoucího vývoj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7640" y="2349360"/>
            <a:ext cx="43876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27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vin Toffler (*3.10.1929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sovatel a futuro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Žena Heidi – také futurolo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bývá se především problémy spojenými s tzv. „třetí vlnou“ hospodářského vývoje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3695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ěžejní díl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ok z budoucnosti (Future Shock, 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ýza vznikajících problémů americk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řetí vlna (The Third Wave,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stup technologické r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7164360" y="1484280"/>
            <a:ext cx="1701720" cy="2376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1701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last zájm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spojené s technologickou revolucí (třetí vl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ady těchto změn na člověka a společnost jako c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859280" y="3433680"/>
            <a:ext cx="3925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ěkteré prognóz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technologie a informační systémy umožní, aby mnoho lidí pracovalo z domova, prostřednictvím počítačů, propojených do centrálních sítí po telefonních linkách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ironické, že lidé budoucnosti nebudou trpět nedostatkem výběru výrobků, ale naopak příliš velkým výběrem, který je bude mást a dezorientovat“ (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onec st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. generace – naprostá většina věcí, které používáme, přišly v poslední gener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se kdysi přihodilo jen někomu, dnes zasahuje všechn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 živí technolog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míji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nímání zrychlování staršími lid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lka trvání vztah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orba skupin pro jednotlivé ú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ika Evropské U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á společnost, ne změna sta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ce v celé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ast vě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robci zážit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tříštěná rodina – „pohlcovač šok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56:52Z</dcterms:created>
  <dc:creator>Simavita</dc:creator>
  <dc:description/>
  <dc:language>en-US</dc:language>
  <cp:lastModifiedBy>Simulka</cp:lastModifiedBy>
  <dcterms:modified xsi:type="dcterms:W3CDTF">2007-10-17T13:20:41Z</dcterms:modified>
  <cp:revision>13</cp:revision>
  <dc:subject/>
  <dc:title>Snímek 1</dc:title>
</cp:coreProperties>
</file>