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FDB2-A0FD-496B-B048-61A30E82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3DD0-3683-48B0-B586-79F0ACB9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A352-E19D-469A-A6D7-53F9D1EE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822-5F66-4570-8BEA-0806DF26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CA25-F967-4482-833C-4AA2C4C2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3181-C775-4360-A47D-86AF6370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19BF-DC45-494D-9879-25DB5EF3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374-BEDE-4933-ADD5-46A64A21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ADC-81FD-4C23-A772-AC7B4081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CA5E-1CD7-4F62-9D01-E5826A9F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3B32-D9E0-4EEB-A2F9-403AF157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F76-5ABE-435A-85A8-8CEAB7F4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B198-F647-4441-9BDE-A574FD6E0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3280" y="1989000"/>
            <a:ext cx="6693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řetí vlna a její důsledk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247968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gmar Švec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chal Laz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n Kauck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24360" y="4941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10.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9E50-1061-4D81-922C-920A558A45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ffler A., Tofflerová H. – Nová civilizace - Třetí vlna a její důsledky, Nakl. Dokořán Praha, 2001, 130 s., ISBN 80-86569-00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6316-1154-4765-89B8-844BFB9A29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636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D4A4-5B74-4499-A63C-2E508BD1AD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lvin Toffle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badatel, profesor, korespondent Bílého domu, nositel čestných doktorá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Heidi Toffler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profesorka, četná vyznamen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stnými spolupředsedy komise UNIF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E7F1-ED97-4E14-AA8A-F7FB51A0C2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vlna - zhruba před 10 000 l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„zemědělská“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vlna - od 18.stol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„průmyslová“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vlna - v USA od 19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„informační“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ém střetu vl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2BF9-4684-4E36-A7AE-B0CDB9C9FA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robní fak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2.vl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půda, práce, kapitál, surov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3.vl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postupné nahrazování poznáním, informace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hmotné hodn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2.vl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hmotná ak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3.vl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schopnost získávat, generovat, distribuovat a aplikova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na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emas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2.vl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masová výroba, masová společ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3.vl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demasifikace, diverzita produktů, rozpad masového tr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2.vl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fyzická/nízké požadavky na schopnosti/zaměnitel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3.vl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růst požadavků na schopnosti/stále těžší a nákladnější nají správného člově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4F7-8DCB-40C1-A53A-0746204EB5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ov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vlna = soutěž vyžaduje neustálé ino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ěřít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2.vl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obrovské množství dělníků vykonávajících stejnou manuální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3.vl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malé diferencované pracovní tý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Úspory z velkovýroby často klesají pod tíhou složitost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dniky druhé vlny ztrácejí konkurenční výho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rgan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2.vl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byrokratické struk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3.vl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nové formy organizace/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Fyzická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oha stále míň důležitá, než flexibilita a jednoduché manévr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1829-B00D-422F-9354-1216B72501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ystémová inte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3.vl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růst systémové složitosti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ové formy organ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ále větší množství informací obíhajících v organiz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frastr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vba informační infrastruktury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ktronické sítě, sate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3.vl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elektronická komunikace představuje základní infrastruktu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rychl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o předcházející stále zvyšuje rychlost operací a transak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2.vl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úspory z velkovýr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3.vl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úspory z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ychlost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J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E8F2-0D44-4393-AA9A-6C1E371CE9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řet socialismu s budouc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znání – důležitý prvek třetí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ří pilíře socialistické ví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alistické vlastnictví x Soukromé vlastnic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trální plánování x Tržní plán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ůraz 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Hardware”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Softwa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28A7-8E7B-4D01-A531-DAE41B3CA4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itéria třetí vl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. Připomíná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várn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. Demasifikace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. Decentralizace organiz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. Vertikální x Virtuální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 Posílení významu rod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0D0-5BB2-4369-B346-6C4A8F498E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kracie pro 21.stole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řet voličst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ličstvo zítř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y vlády třetí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c menš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opřímá demokra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lb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c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B224-A6E9-4460-9645-04C14593A4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1:53:23Z</dcterms:created>
  <dc:creator>CIKT</dc:creator>
  <dc:description/>
  <dc:language>en-US</dc:language>
  <cp:lastModifiedBy>CIKT</cp:lastModifiedBy>
  <dcterms:modified xsi:type="dcterms:W3CDTF">2007-10-17T13:50:55Z</dcterms:modified>
  <cp:revision>4</cp:revision>
  <dc:subject/>
  <dc:title>Vývoj společnosti v pojetí A. Tofflera  </dc:title>
</cp:coreProperties>
</file>