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89D5-7F4B-4E5C-B76A-840ABF43E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4167360"/>
            <a:ext cx="750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2BDB-351B-4ADF-9D25-ACA8BD6A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94520" y="201780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416736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94520" y="416736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373B-38BE-4715-8400-D65591BA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24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85920" y="2017800"/>
            <a:ext cx="24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24280" y="2017800"/>
            <a:ext cx="24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4167360"/>
            <a:ext cx="24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85920" y="4167360"/>
            <a:ext cx="24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24280" y="4167360"/>
            <a:ext cx="24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972A-876D-4379-8E84-39CB2D1ED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1B84-6D08-426A-BBB2-64EE2ABC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8269-7CD7-4B0F-9BFD-4F8D4934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06F7-58C1-4BAD-A424-DEED3F49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366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94520" y="2017800"/>
            <a:ext cx="366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A4CF-8C69-4D43-A863-3BF692F9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2333-FAAF-47C5-A3FD-DB05F5BD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447920" y="617040"/>
            <a:ext cx="749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766C-C75F-4735-9BA4-FD0DC9E6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94520" y="2017800"/>
            <a:ext cx="366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47560" y="416736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2C8A-1169-4A15-ACE8-DF6C7E59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2E50-09FA-48CC-BD5B-CDF2E02D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366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94520" y="201780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294520" y="416736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0570-87A7-48DA-BE06-4E001A90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94520" y="201780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447560" y="4167360"/>
            <a:ext cx="750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481C-A36B-48A3-81F3-D336444B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447560" y="4167360"/>
            <a:ext cx="750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0BC8-03CD-4E1F-8858-A2F61BDE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94520" y="201780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447560" y="416736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294520" y="416736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F934-7BC3-40F3-BF4A-63FF3B7C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24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985920" y="2017800"/>
            <a:ext cx="24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24280" y="2017800"/>
            <a:ext cx="24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447560" y="4167360"/>
            <a:ext cx="24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985920" y="4167360"/>
            <a:ext cx="24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524280" y="4167360"/>
            <a:ext cx="24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5927-6774-478C-B54B-5C611733B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C9ED-8F3D-4882-9C8A-FB330AF9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366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94520" y="2017800"/>
            <a:ext cx="366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9D6C-5CD0-4D89-A409-1E10445D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FFF1-9443-46D0-8CC9-52AD9E8F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47920" y="617040"/>
            <a:ext cx="749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A1AF-4717-4D36-BFB1-04418EF6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94520" y="2017800"/>
            <a:ext cx="366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416736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225D-F9CA-418A-8367-37D084AD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366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94520" y="201780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94520" y="416736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EFD4-0F43-4696-9999-BC240828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94520" y="2017800"/>
            <a:ext cx="366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4167360"/>
            <a:ext cx="750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AFE6-7A41-45AC-BE88-E482369E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0846-D9BC-412A-821E-CFC3D101F1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85B0-2475-4A2C-9332-73B590A05B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198360"/>
            <a:ext cx="77724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oluce jako hra s nenulovým souč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76723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ristína Izraelov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Marie Vachkov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lena Drášilová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manažéri =&gt; riadia a vnášajú do podniku „harmóniu“ (leadership) =&gt; lepšia interakcia (organizácia) =&gt; prosperita („nenulovosť“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oluce organism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ako výsledek tisíce milionů let evoluce si začíná vesmír uvědomovat sám sebe.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            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ulian Huxl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rganismy a kultu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evoluce organismů – uplatňuje se stejná souhra sil s nulovým a nenulovým součtem jako při kulturní evoluci, dochází k narůstání nenulovosti – tím pádem narůstá hloubka a rozsah složit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dle Wrighta bylo velice pravděpodobné, že vývoj dovede organismy až k takové složitosti a inteligenci, že nakonec umožní vývoj kultury, který bude přirozeným pokračováním směřování evoluce k větší složit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tropi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věta termodynamiky: entropie roste, uspořádání se rozpad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smy – udržují a zvyšují svou složitost, entropie v nich neros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 uchování/rozvoj složitosti je potřeba informa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viditelná ruka trhu – závislá na neviditelném mozku, jedním z hlavních trendů kulturní evoluce je postupný nárůst schopnosti zpracovávat, ukládat a hodnotit úda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ulturní informace – vytvořeny k tomu aby chránily genetické inform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Vzestup biologické nenulovost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 hlediska darwinismu jsou živé organismy navrženy tak, aby předaly své geny následujícím pokolením – v jejich zájmu je rozšiřovat svoje ge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va živé organismy, které mohou vzájemně  posílit své vyhlídky na přežití se nacházejí v situaci s nenulovým součtem, když jsou jejich zájmy protichůdné,v situaci s nulovým souč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ologická evoluce – trvalé zdokonalování nenulových vztah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nohobuněčné organism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zájmu jedné buňky je šíření její D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kud má jiná buňka identickou DNA, jejich zájmy jsou shodné. Této buňce potom nevadí spáchat sebevraždu, pokud je to v zájmu první buňky – mají mezi sebou nenulový vzta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ruismus mezi sourozenci – mají podobnou D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nulové vztahy vychází z nulových vztah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íř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átelství mezi lidmi – nenulové vzta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Vývoj složitost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uk prskavec a sku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yž se změní prostředí, musí se přizpůsobit i organismy, jinak zahyno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kud myslíme prostředím krajinu, počasí, nestává se složitějš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tředím organismů jsou ale i jiné organism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yž se tyto organismy stanou složitějšími, musí na to reagovat i jiné organismy, také se stanou složitějšími, na což reagují první organismy atd.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zitivní zpětná vazba – vývoj složitosti posiluje důvody ke vzniku složitosti, která posiluje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ývoj inteligentních bytostí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závody ve zbroje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řizpůsobivé chování je výhodn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růst inteligence = růst přizpůsobivos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ývoj inteligentních bytostí byl pravděpodobný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eskalá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mys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evoluce vytrvale sleduje cíl při různých podmínkách za pomoci zpracování informac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ytváření složitějšího života, mj. růst intelig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hospodářství – růst nenulov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ytrácí se prostorově dané vztahy s nulovým souč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oste celková velikost společnosti – počet lidí, se kterými je jedinec propoj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  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Celý svět se může stát jakoby jediným městem a může se těšit tomu nejlepšímu zřízení, totiž demokracii.“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ilón Alexandrijský (20 př.n.l.-50 n.l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Teória hi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kúma výber optimálnej stratégie, ak náklady a výnosy jednotlivých stratégií závisia na jednaní iných hráčov (interakci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on Neuman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amp;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Morgenstern v 194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centrum vývoja teórie – RAND Corporation (nukleárne stratégi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TH dnes aplikovaná v mnohých oblastiach (vrátane ekonómi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Vztah mezi člověkem a přírodo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 jakém principu v současné době fungují vztahy mezi člověkem a přírodou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hou spolu existovat člověk a příroda na principu nenulového součtu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okud ano, existují pro to ekonomická pravidl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řírodní kapitalism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aul Haw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Amory Lovi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L Hunter Lovinsov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   „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Přírodní kapitalismus v podstatě neoddiskutovatelným způsobem prokazuje, že jsou dnes k dispozici nebo na blízkém obzoru technologie, které nám umožní zbohatnout ne tím, že budeme životní prostředí znečišťovat, ale že ho budeme očišťovat.“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Bill Clint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líčové problém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ňový systé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ušální daně x procesní daně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tační systém – „perverzní dotace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tace „špinavých“ odvětv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ěmecko – Porúř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lharsko – energ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b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pravní výstavb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říklady možných řešení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arovnání“ trhů pokřivených špatně zaměřenými daněm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ykazování skutečné ceny výrobních  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faktorů včetně přírodního kapitál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danění procesů místo paušál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rušení perverzních dotací do neproduktivních a nerentabilních odvětv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esun kapitálu k čistším zdrojů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un k logickému využívání pů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Zavedení nového regulačního systému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ň z odpa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dpora recyklace odpadů, použitých výrobků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urov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užití nových úspornějších výrobních postup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šetření materiá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isní poukáz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řesná kontrola vyprodukovaných emis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žnost obcho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ychlejší zavádění vyspělejších technologi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dpora vědy a výzkumu v oblasti hledání nových alternativních zdroj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do vyhraj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životní prostředí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éně odpad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éně emis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acházení se zdroji podle jejich skutečné vzácn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flexibilní společ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ové technolog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úspory materiál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lidé na čistší planetě jako zaměstnanci úspěšných společnost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do si naopak pohorší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epřizpůsobivé společnos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ysoké náklady materiál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ysoké dan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špatná i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lobbist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ýslede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ředpokládáme-li, že se polovina společností přizpůsobí (ve skutečnosti jich však bude mnohem více) a polovina lidí jsou lobbisté (kterých je ve skutečnosti mnohem méně), vychází jako neoddiskutovatelný přínos zlepšení životního prostředí za jinak zachovaných součtů – jde tedy o pozitivní výsledek hry se životním prostředím o co možná nejlepší výsled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ntinely a omezení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lmi zkostnatělý celosvětový systé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atická domluva mezi velmocemi (Čína, Rusko, US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ce a „ověřené“ postupy zdanění a dotac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ecná lidská neochota k radikálním změná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95280" y="1828800"/>
            <a:ext cx="754380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viacero vymedzení typu hier (Wright pracuje len s rozlíšením na hry s nulovým a hry s nenulovým súčto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hry s nulovým súčtom =&gt; jeden hráč získa, kým druhý stratí (pretože zdroje, ktoré sa „hraním“ hry rozdelia, sú konštantné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Hry s nenulovým súčtom =&gt; zisk jedného hráča nemusí nutne znamenať stratu druhého (súčet ich „výplat“ nie je nutne nulový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Väzňova dilema ako typický príklad hry s nenulovým súč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438280" y="358128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ěkujeme za pozornos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Robert Wrig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účasný americký novinár a akademik (University of Pennsylvania, New America Found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utor kníh o (okrem iného) vede, evolučnej psychológii, histórii, náboženstve a teórii h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Bloggingheads.tv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800" spc="-1" strike="noStrike">
                <a:solidFill>
                  <a:srgbClr val="000000"/>
                </a:solidFill>
                <a:latin typeface="Tahoma"/>
              </a:rPr>
              <a:t>Non-zero: The Logic of Human Desti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Víc než ni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2 časti – kultúrna a biologická evolúc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oba druhy evolúcie možno najlepšie popísať pomocou teórie hier s nenulovým súčtom, konkrétne konceptom „non-zero sumness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Kultúrna evolúc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Lovci a zberači =&gt; industriálna spoločnosť =&gt; postindustriálna (informačná) spoločnos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Rozličné pomenovania vývojových štádií spoločnosti, ale spoločný kon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sk-SK" sz="2800" spc="-1" strike="noStrike">
                <a:solidFill>
                  <a:srgbClr val="000000"/>
                </a:solidFill>
                <a:latin typeface="Tahoma"/>
              </a:rPr>
              <a:t>spoločnosť sa vyvíja od menej komplexných ku komplexnejším štruktúram a v rámci toho existujú vedľa seba kultúry na rôznych stupňoch vývo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Ako to funguj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ríklad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Shosoni v Severnej Amerike – lovci a zberač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základná spoločenská jednotka - rodi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ale - pri love na zajace sa spojilo niekoľko rodín, pretože bolo potrebné pracovať s pascou na zajace (sieť dlhá niekedy až 3km) a spontánne sa ustanovil „vodca“ akc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každá rodina získala viac zajacov, než by ulovila keby lovila sama =&gt; hra s nenulovým súčt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technológia (pasca) umožnila interakciu medzi rodinami, ktorá iniciovala nenulový súčet a takisto komplexnejšiu sociálnu štruktúru než rodi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Kórejské au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kúpa kórejského auta v Česku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zákazník (CZ) profituje =&gt; má kvalitné au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kórejská automobilka profituje =&gt; realizovala preda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transakcia možná vďaka komunikácii a informáciá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be strany získali a z vytvorenej „nenulovosti“ sa môže tvoriť ďalšia „nenulovosť“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Súčasnosť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560" y="201780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informačná spoločnosť, rýchly vývoj nových technológií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ysoká interak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skoro neobmedzená komuniká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dôve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=&gt; skvelé predpoklady pre ďalší rozvoj „nenulovosti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17:46:48Z</dcterms:created>
  <dc:creator>Alenka Drášilová</dc:creator>
  <dc:description/>
  <dc:language>en-US</dc:language>
  <cp:lastModifiedBy>Vachek</cp:lastModifiedBy>
  <dcterms:modified xsi:type="dcterms:W3CDTF">2007-10-05T21:26:32Z</dcterms:modified>
  <cp:revision>2</cp:revision>
  <dc:subject/>
  <dc:title>Evoluce jako hra s nenulovým součtem</dc:title>
</cp:coreProperties>
</file>