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35D-1DF6-474F-9D7D-56185293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D72-CCD8-4575-AD7C-6FDA5C4B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9B0-BCCA-4906-B907-51475871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179-0052-41C5-938E-B842E429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7BD6-ABE5-44B1-A0FD-E0C47C7F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67D8-4036-473A-817E-B158A493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DC06-D310-4975-84C8-BB018067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4686-E45D-42E2-9957-CB53935C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DC2C-2266-42EE-8C38-10E30ACF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D8D6-291D-4914-8D92-16A28D27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4E2B-4EBA-4E0F-BD50-4E113379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BBB-25B4-4D3B-9282-695CDE93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C0DD-3D22-4EEF-8802-54792A25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B4EF-E90A-4A1C-966D-B7B99894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AEF8-9548-42F6-B807-5F0E3EF5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999A-D80F-40EB-A9D2-AB195B34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FEF0-36CD-4C7A-8EF0-C25A3ECD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842-E775-4293-B555-ABD8702E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8FB-6026-461D-A66A-C6008E87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0B2F-2DB8-4E20-83C8-9F4377EB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692-5F7B-4FEE-B47E-2FE0CAF6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371-7DB4-4E3E-91A7-CA83D48A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787D-A9BC-421B-9065-E22654A5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32C-6534-48BC-A2D1-DD97DFD4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1414-10A4-4F87-BD36-7B3A3E11C0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00A1-C094-4FCF-84B5-CBAE5F59EB1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66"/>
                </a:solidFill>
                <a:latin typeface="Comic Sans MS"/>
              </a:rPr>
              <a:t>Přirozená a kulturní evoluce</a:t>
            </a:r>
            <a:endParaRPr b="0" lang="en-US" sz="6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                          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                           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Monika Pokorná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                           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Petra Chrástk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                           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Petra Zajíc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A dn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oškozená a znečištěná planeta, destabilizovaná biosfé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naha o vytváření k přírodě šetrnějších technologií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ničím neohraničená spotřeba, honba za zis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rimárně nezajišťujeme lidské přežití, přednost dostává úspěch, růst politické moci a bohatstv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míra paměti, produkt evolu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ntegruje otevřené nelineární systémy (přirozené i umělé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rozlišuje skutečno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v našem pojetí je tento pojem blízký pojmům paměť, struktura (paměť v užším smyslu), uspořádanost (paměť v širším smyslu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omic Sans MS"/>
              </a:rPr>
              <a:t>Ontická role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Druhy informac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řirozená informace živých i neživých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ystém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Kulturní inform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řirozená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Z hlediska původu,funkce a lokalizace uvnitř systému je informace dvojího druh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Genetická (strukturní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Vznikla ve fylogenezi (=evoluce druhu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Uložena převážně v jádrech buně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pigenetická (sémantická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Vytváří se v ontogenezi (=průběhu individuálního života jedinc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a další jedince se přenáší nepřím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Vázán v různých molekulárních komplexech buněk (mimo jiné v strukturách vazeb nervových buně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posteriorní sémantická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Získáme zkušenostmi, učení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Tzv. behaviorál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Ukládá se v centrální nervové soustavě (například v paměti člověk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Dvojí původ</a:t>
            </a: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99"/>
                </a:solidFill>
                <a:latin typeface="Comic Sans MS"/>
              </a:rPr>
              <a:t> rozdílná míra adekvátnosti vnějšímu světu,rozdílná funkce,způsob replikace i různé ukládání (genom X CN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A) přirozená genetická inform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Apriorní strukturní inform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Míra objektivity vysok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Existuje jen jako bioticky vestavěn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Comic Sans MS"/>
              </a:rPr>
              <a:t>Jako DNA – struktura genotypová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Comic Sans MS"/>
              </a:rPr>
              <a:t>Mnohovrstevná struktura organismu – somatická, fenotypová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) Přirozená epigenetická inform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Fixuje se v centrální nervové soustavě a zaniká s příslušným jedinc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posteriorní epigenetická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Doplněk k apriorní genetické informa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Stává se biologickým základem sémantické i strukturní i souciokultur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Kulturní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Sémantická X struktur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Po vzniku kultury je mozek schopen ukládat 3 druhy informací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Původní přirozenou informaci sémanticko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Sémantickou informaci sociokultur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Parciální i obecnou strukturní informaci sociokultur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pojem – poprvé u M. Kusánského v dí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Comic Sans MS"/>
              </a:rPr>
              <a:t>                </a:t>
            </a:r>
            <a:r>
              <a:rPr b="0" i="1" lang="cs-CZ" sz="2600" spc="-1" strike="noStrike">
                <a:solidFill>
                  <a:srgbClr val="ffffcc"/>
                </a:solidFill>
                <a:latin typeface="Comic Sans MS"/>
              </a:rPr>
              <a:t>De docta ignorantia 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(15.stol.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význam - pozvolný, průběžný vývoj (z lat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                 </a:t>
            </a:r>
            <a:r>
              <a:rPr b="0" i="1" lang="cs-CZ" sz="2600" spc="-1" strike="noStrike">
                <a:solidFill>
                  <a:srgbClr val="ffffcc"/>
                </a:solidFill>
                <a:latin typeface="Comic Sans MS"/>
              </a:rPr>
              <a:t>evolvere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= vyvíjet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               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- proces, který z méně dokonale uspořá-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                 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daných systémů vytvaří systémy uspořá-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                 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dané dokonalej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                </a:t>
            </a: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- nepřetržitý rozvoj od nižšího k vyšším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Comic Sans MS"/>
              </a:rPr>
              <a:t>typy evoluce (z hlediska nositele evoluční aktivity):</a:t>
            </a:r>
            <a:r>
              <a:rPr b="0" lang="cs-CZ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0" lang="cs-CZ" sz="3600" spc="-1" strike="noStrike">
                <a:solidFill>
                  <a:srgbClr val="ffff66"/>
                </a:solidFill>
                <a:latin typeface="Comic Sans MS"/>
              </a:rPr>
              <a:t>PŘIROZENÁ</a:t>
            </a:r>
            <a:r>
              <a:rPr b="0" lang="cs-CZ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cs-CZ" sz="4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cs-CZ" sz="3600" spc="-1" strike="noStrike">
                <a:solidFill>
                  <a:srgbClr val="ffff66"/>
                </a:solidFill>
                <a:latin typeface="Comic Sans MS"/>
              </a:rPr>
              <a:t>KULTURN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ůvody nepostradatelnosti kulturní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Obdobu v přirozených ekosystémech nenacházíme, odlišnost umělých prvků kulturního ekosystému od spontánních výtvorů živé přírod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Všechny kulturní instituce jsou závislé na soudržnosti spolupracujících jedinc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omic Sans MS"/>
              </a:rPr>
              <a:t>Ontická role kulturní inform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Obsah sociokulturní inform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Vyděluje se z přirozené informace epigenetické a strukturuje se na sémantickou a struktur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Nebiotická sociokulturní informace – vznikaly selektivním způsobem (smysly,rozume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řirozená genetická pamě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Druhová, vysoce stabilní, schopná replikace a seberepar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Aby mohla být programem ontogeneze, musí mít informace o organizační struktuře a kompatibilitě jeho těla s prostředí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Obsahuje strukturní konstitutivní informace – do níž se historická zkušenost druhu zapisuje pomocí nukleových kyselin </a:t>
            </a:r>
            <a:r>
              <a:rPr b="0" lang="en-US" sz="32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 nelze do ní vstupov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Uvnitř živých systémů není propojení mezi pamětí uvnitř buňky a v mozkových buňk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řirozená epigenetická pamě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Šedá kůra moz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Podpůrná, krátkodobá, nespojit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Vzniká i zaniká s jedinc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omic Sans MS"/>
              </a:rPr>
              <a:t>Sociokulturní pamě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- vzniká z přirozené epigenetické pamě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Comic Sans MS"/>
              </a:rPr>
              <a:t>- na rozdíl od onticky spolehlivé genetické paměti  není dostatečně objektiv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106668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U většiny živočichů převažuje fylogeneticky starší chemické kódování jako ukládání informa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U člověka epigenetickou informaci přijímá a kóduje pomocí zraku a sluch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ymbolismus – jazykové zápisy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Závě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Duchovní kultu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Propřírodní a protipřírodní kultu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ŠMAJS, J. Drama evoluce. Praha : Hynek, 2000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ŠMAJS, J. Konflikt přirozené a kulturní evoluce. Brno, 199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cs.wikipedia.org/wiki/</a:t>
            </a:r>
            <a:r>
              <a:rPr b="1" lang="cs-CZ" sz="3200" spc="-1" strike="noStrike">
                <a:solidFill>
                  <a:srgbClr val="ffffcc"/>
                </a:solidFill>
                <a:latin typeface="Comic Sans MS"/>
              </a:rPr>
              <a:t>Evoluc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Děkujeme za pozornos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41007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Přirozená 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spontánní konstitutivní pro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zvyšování přirozené uspořádanosti všech struktur svě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počátek před 10 až 15 miliardami let (tzv. velký třes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a) abiotick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b) biotick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Comic Sans MS"/>
              </a:rPr>
              <a:t>Abiotická přirozená 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formování vesmíru (atomy, molekuly, hvězdy, galaxi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vesmír tvořen z ¼ z helia a ze ¾ z vodíku (dnes již nevzniká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abiotická evoluce Země (nerosty, hor-niny, reliéf krajiny…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Biotická přirozená 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ormování života na Zemi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člově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hlavním znakem je nerovnoměrnost (pomalé a rychlé evoluční fáz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voluce určována mnoha nahodilými faktory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výsledek neznámý, těžko předpověditeln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Kulturní 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ladší než přírodní evoluce, navazuje na ni, ale není jejím přímým pokračování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říroda = „hardware“, kultura = „software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ositelem je člově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e třeba respektovat přirozenou evoluci Země (hostitelský systém), ovšem na druhé straně také uznat evoluční tvořivost systému kultury, který je na přírodě závisl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Kul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vše, co bylo vytvořeno, nebo přeměněno člově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e výsledkem kulturní evolu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vzniká z přírody, má charakter „umělého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základem je vědomá i spontánní aktivita lid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echnika, kultivované organismy, kultivované systémy, duševní a duchovní kultu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66"/>
                </a:solidFill>
                <a:latin typeface="Comic Sans MS"/>
              </a:rPr>
              <a:t>Kultura jako samoorganizující se systé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člověk vytváří kulturu i nevědom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spontánní pův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výsledek činnosti lidí, kdy se realizuje i to, co lidé nezamýšlejí, ale vyplývá to z logiky fungování systému jako celku (jazyk, trh, peníz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vznikají jak jednodušší věci (nástroje), tak složité společenské subsystémy (výrobní, dopravní), které jsou závislé na člověku, ale jsou relativně samostatn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Rozmach kulturní evol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42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přelom 18. a 19. století - vznik průmyslové revolu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přechod od instrumentalizace k mechaniza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využití energie fosilních paliv, hromadné čerpání neobnovitelných přírodních zdrojů </a:t>
            </a:r>
            <a:r>
              <a:rPr b="0" lang="cs-CZ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 počátek útoku na biologickou rozmanitost živo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9:08:23Z</dcterms:created>
  <dc:creator>Petra Chrástková</dc:creator>
  <dc:description/>
  <dc:language>en-US</dc:language>
  <cp:lastModifiedBy>Petra Chrástková</cp:lastModifiedBy>
  <dcterms:modified xsi:type="dcterms:W3CDTF">2007-09-30T09:15:25Z</dcterms:modified>
  <cp:revision>15</cp:revision>
  <dc:subject/>
  <dc:title>Přirozená a kulturní evoluce</dc:title>
</cp:coreProperties>
</file>