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AD1-5764-4F54-ACDB-B81B57B4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4B8-E62C-4137-84A8-278B34AD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CE1-0E09-41C3-BC80-EE694E93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DB8-2375-4698-BAEA-AF40C7DB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67A-95C9-42DA-9003-39FBEF00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7AC3-B1DF-407E-A52C-16799E6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92B6-59F0-4A53-9E9D-269ED23F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358E-AD15-4F4A-A2D7-6452BDB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A66B-1FEE-43D8-A2C6-A93AAF4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C5A0-EFE3-4F27-B797-559517F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27F-3B29-45DB-9894-FF31F0A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576-C648-4CD6-8E7F-4A68547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4C8-A982-4A5A-A09B-D0E07AB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CDE-4FB5-42B0-8C11-9D89DD5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BB1-B916-4CD3-8940-F0BD663D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11DA-047C-45A9-A3D8-1A56292D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F09-5206-42EA-BCB9-F41F4260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5AB-A49A-4462-BBAD-45C08EFF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ED8-FA7F-425D-A562-2736F7E0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396-10B4-4EB4-8FF5-E1C29F54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891-21CF-4A59-BA9A-E25EF6B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8C1-59E3-4C83-9B2C-C1FE9913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3EB-289C-49D3-B6E7-F516EEAD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1B9-DA9A-4BC4-B1C5-7A9AA95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754-92AA-4E55-B339-209FE6B803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519-54FF-41B1-8F36-B9E32526CF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Přirozená a kulturní evoluce</a:t>
            </a:r>
            <a:br>
              <a:rPr sz="5800"/>
            </a:b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7772400" cy="268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42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ena Kupčíková, Hana Divišová, Jakub Card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Vztah přirozené a kulturní evoluc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klad podle Šmajse: Dva pekař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atímco první pekař, přirozená evoluce, peče z mouky, z které je vytvořena naše planeta a která vznikala ve hvězdách první generace, tj.peče z chemických prvků periodické soustavy, které jsou obsaženy v půdě,vodě a atmosféře, druhý pekař, kulturní evoluce, přišel do práce pozdě.Bylo už napečeno, a má-li něco vlastního vytvořit, musí mouku pro své těsto získávat lámáním a drcením pečiva prvního pekař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Literatura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ŠMAJS, J. 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Drama evolu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 Praha: Hynek, 200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ttp://www.vetrnemlyny.cz/rozrazil/online/clanek.php?clanek_id=8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Děkujeme za pozornos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Evoluce- defini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voj. Neustálá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dapta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rganismů na podmínky životního prostřed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oluce většinou vede od jednoduché k výše organizované úrovn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oluce je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ntientropická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 směřuje proti rozpa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Hlediska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Časové hledisko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voluční změny lze zachytit až s vytyčením dostatečně velkého časového rozpě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ledisko nositele evoluční aktivity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řirozená a kulturní evolu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11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avděpodobný počátek- prudká expanze zárodečné kosmické hmoty ( velký třesk ) před deseti až patnácti miliardami le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šechny prvky chemické periodické soustavy,které jsou dnes na zemi, vznikly - s výjimkou vodíku a helia - jako důsledek jaderných reakcí v nitru prvních hvězd, nebo při jejich zánik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Přirozená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malé fáze a rychlé evoluční skoky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. J. Gould: "Po tři miliardy let byl nejvyšší formou života povlak prokaryont...pak, zhruba před 600 miliony let, se ve fosilních dokladech náhle objevují prakticky všechny stěžejní formy živočišného života, a to v průběhu několika málo milionů let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, který stále více závisí na lidech a předcházejícím kulturním vývoji a stále méně na přírod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člověk získal předpoklady pro záměrné a rychlé přizpůsobování svého okolí potřebám společenstv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l přirozenou evolucí vybaven tak, že dokázal zažehnout kulturní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olu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Kulturní evoluce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Člověk může produkovat své struktur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přímo- vznikají pomalou postupným začleňováním a změnou stavebních dílů přirozené evolu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ímo- vznikají technickou konstrukcí, umělým spojením relativně jednodušších stavebních dílů evolu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8:30:40Z</dcterms:created>
  <dc:creator>SKupcik</dc:creator>
  <dc:description/>
  <dc:language>en-US</dc:language>
  <cp:lastModifiedBy>CIKT</cp:lastModifiedBy>
  <dcterms:modified xsi:type="dcterms:W3CDTF">2007-10-02T10:15:26Z</dcterms:modified>
  <cp:revision>4</cp:revision>
  <dc:subject/>
  <dc:title>Přirozená a kulturní evoluce </dc:title>
</cp:coreProperties>
</file>