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56A-32E9-4FF6-B305-081DFECA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F36-4D2D-4E5E-819B-84E99A7A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E7A-50A4-4F47-99BB-4F744F0E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066-382A-4571-BF53-A231A462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8FAB-2609-43FF-A9A3-AB0FF4FE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C9E1-EC83-46E9-AB2D-8439F28E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764D-5504-4D26-BE7A-453BA6E0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2602-2790-4478-8327-F008FDC5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013D-06DB-4951-B8D8-531D09CC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77B8-9840-4E2F-B138-10F62F4C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0455-2AAB-45CF-94CF-EE0187F3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0D2-85E0-46AF-894F-B0EC7456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BEE5-7345-4988-AAB4-9B276A7C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F094-F77C-499E-A0E3-5A95180A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0199-B472-4D8B-8AF3-DABF09A2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8785-30E3-4D74-90FD-25B95C09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7910-22E9-4DC0-A0F9-BB6D8CE9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66C-8086-4CEB-BB19-509BF8CB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CA4-A21B-4F38-B422-10CA1008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073-9424-450E-83C4-223C31FD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58A-2C90-49A4-ACFA-E316884B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C35-1179-4259-98A7-893ADF07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30D3-7C93-4E14-A241-52C16B73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4AB-FC0E-45B4-8377-9A5EF113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3C5A-5292-4350-90D1-394997696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6B1F-BB2A-4563-B326-FBBF5D93A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cecff"/>
                </a:solidFill>
                <a:latin typeface="Arial"/>
              </a:rPr>
              <a:t>Zrod a vývoj kapitalismu jako fenoménu industriální společnosti</a:t>
            </a:r>
            <a:endParaRPr b="0" lang="en-US" sz="4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eza Dostá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haela Dvořá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áš Urb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250920" y="244440"/>
          <a:ext cx="8642160" cy="6191280"/>
        </p:xfrm>
        <a:graphic>
          <a:graphicData uri="http://schemas.openxmlformats.org/drawingml/2006/table">
            <a:tbl>
              <a:tblPr/>
              <a:tblGrid>
                <a:gridCol w="4332240"/>
                <a:gridCol w="430992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olictv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stantism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dé rozdělení na kas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kturovaný život až po smrt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ůležité, ve které třídě se člověk narod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ní struktura otevřená a pomíjivá, pohyb dolů i nahoru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átosti jsou prostředky k získání milosti bož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ulování spasitelského působení círk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olík koná dobré skutky příležitostně,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odčinění hříc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 jednotlivé dobré skutky, ale „trvale vysluhovaná svatost“ vystupňovaná v systé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eze mnišsk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eze světsk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větská askeze → systematičnost, metodičnost → povolá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žitečnost povolání se měří měřítkem mravním a měřítkem důležitosti produkovaných statků pro celek + měřítke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kromohospodářské výnosnos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hatství je nepravost svádí-li k hříšným požitkům  x  je-li z povinnosti k povolání je mravně přípustné, ba přikázané →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lkulace obchodníka na zi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há účelnost, proti záměrům estetickým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e k uniformitě životního stylu              →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izace výro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lon k buržoaznímu, hospodářsky racionálnímu pojetí živo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orie o „produktivitě“ nízkých mez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kud je lid v chudobě, zůstane poslušný Bo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rácení → spoření → invest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středění n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izaci ve výrobě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 růst produk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alizace výroby a minimalizace spotře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robě a spotřebě odebrán znak etické nadřazenosti, obchod získává důležité postav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definice vlastnictví (podpora obchod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lvinismus byl významnou příčinou moderního tržního hospodářstv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alvinismus a ekonom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sahování bohatstv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jopravdovější přívrženci puritánského ducha: drobné měšťanstvo a farmáři  x   blažení majetníci ochotni zradit staré ideá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božnost plodí pracovitost i spořivost → růst bohatství → růst pýchy, vášně, světác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náboženství zůstává forma, ale obsah se vytrá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tracení počáteční duchov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ůst konzu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soké pracovní nasazení a sklon k úsporám zůstáv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íření vlivu „kalvinismu“ do zbytku svě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EBER, M. Protestantská etika a duch kapitalis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ITZ, W. G. Protestantská etika a tržní hospodářstv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studentf.jazzport.eu/Filosofie/anglikanska-cirkev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www.blisty.cz/art/20560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referaty-seminarky.cz/protest-a-protestantske-cirkve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Děkujeme za pozornost a přejeme krásný zbytek dne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sno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 a vývoj protestant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olická morál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vinistická morál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vinismus v ekonom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tika dosahování bohat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znik a vývoj protestantism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dělil se od katolicismu v průběhu reformace v 16.století - Hus,Luther, Calv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družuje velké množství samostatných církví, sekt a denominací (luteránství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alvinismu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anglikánská církev, metodisté, baptisté, adventist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sídlování Ameri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uritáni v Nové Angl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čištění anglikánské církve od katolic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ugeno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cházejí z kalvinismu, 200 tisíc uprchlíků z Francie za Ludvíka IV., část odešla do Amer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ol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9246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dé rozdělení na kasty Bohem určené, až v nebi rovnocen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dnotlivé dobré skutky konané příležitostně a úmyslně → původci se připočítávali k věčnému osud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kramentální milosti církve (kněz, pokání, rozhřeše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ol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eze mnišsk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ntrum moci: církev a vlada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mezená vlastnická prá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lvinist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83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ákladní dogma: učení o predestina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zhodující pro věřícího je být v mil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ulace spasitelského působení církve a svát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 jednotlivé dobré skutky, ale „trvale vysluhovaná svatost“ vystupňovaná v syst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lvinistická morál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eze světská (ve světských povoláníc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ividuální svobo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lastnická práva možno směn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7:38:57Z</dcterms:created>
  <dc:creator>-</dc:creator>
  <dc:description/>
  <dc:language>en-US</dc:language>
  <cp:lastModifiedBy>-</cp:lastModifiedBy>
  <dcterms:modified xsi:type="dcterms:W3CDTF">2007-10-15T19:51:12Z</dcterms:modified>
  <cp:revision>20</cp:revision>
  <dc:subject/>
  <dc:title>Zrod a vývoj kapitalismu jako fenoménu industriální společnosti</dc:title>
</cp:coreProperties>
</file>