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F74-3BA9-4032-862C-7120C0CF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C77-7AD4-4F8C-BEC7-00E23E9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9C8-3E80-4748-A266-E0C8F69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130-F3E2-4EFB-B561-3403F270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BDBC-03E3-4121-B676-ABE6941F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1FC5-679A-4E8E-92C3-1F9A4318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3784-F95E-45AB-B170-CC2F757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FB76-241A-41A5-A3DD-5D71AC58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7F40-1956-4504-899B-E33A540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E013-AAC2-40C7-87D2-EAEBF95E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2607-343F-410A-968E-795A0C5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DC4-532F-464E-AEAD-D51DA6E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C300-F7E2-45DC-97FB-FC6476E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0BEF-1683-432F-A98E-8831EB1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273F-F9C4-4C44-AEB2-1303FC5E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98BB-8848-452A-AA25-B94160D9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A7B5-51B1-4D2A-A2E3-833F7D75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571-6972-4830-B812-9B43E43D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DCE-3867-44B3-ABAD-AD459627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3E2-44FA-4A70-8A0D-F635AFC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17B-81AC-4008-A053-1E0F6497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672-0E78-4B5D-B8EE-27C90D5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924-6B3B-4F9A-8B52-41F0242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146-9410-44D3-AC7A-8E45A7A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E76F-2E66-40AA-A4F1-B20DACB28F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F15-F7C5-4B89-9ABA-ABEC5C178F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irozený a umělý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ulie Hrazdi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itka Kubíčk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va Pospě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9.10.20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F.A.Hayek, Právo, zákonodárství a svoboda, I.díl (Pravidla a řá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ylaby-management I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Děkujeme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jem „řá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zory na vývoj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ánní řád (endogen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ý řád (exogen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ganizace a vlá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řádu a organ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rba přirozeného řá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jem „řád“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tav věcí, v němž se velký počet prvků různých druhů má k sobě navzájem tak, že znalost nějaké prostorové nebo časové části celku nám umožňuje vytvářet správná očekávání, která mají dobrou pravděpodobnost, že se ukáží jako správná.“   F.A.Hayek, Právo, zákonodárství a svoboda (I.dí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ázory na vývoj společn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1.- instituce musí být tvořeny za jistým účel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jednání vedeno těmito účel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irozený řád- (ne)závislost na lidském jednání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íroda jako omezení přirozeného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2.- nejen účelové vytvoření, ale rovněž evoluc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ostupy nejprve jiný účel, nebo náhoda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přirozený řád- (ne)závislost na lidském vytváření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- rozšíření jako důsledek neuvědomělé lidské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Člověk jako tvůrce přirozeného řád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ontánní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z vědomého vytvoř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dogenní= síly uvnitř systé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yberne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kýkoli možný stupeň složit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měna jednotlivých prvků nebo jejich počtu, ale zachování strukt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ytvořený řá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vědoměle vznikl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ogenní= síly vně systé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daná x pravidla vytvořená (právn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ganizace a vlá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koordin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láda- zvláštní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ucovací fun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kytování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vidla řádu a organiz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žná koexistence, ale ne různé kombin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nalosti jednotlivců x organ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la x příka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ánní řád – pravidla abstrakt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ý řád – příkazy konkrét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ůžeme doplnit příkazy, ale nikdy ne pravid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vorba přirozeného řád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dé vykazují jisté chování k dosažení cí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akce s druhý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dnání v souladu s pravidly= úspě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sledný rozvoj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prve zvyky, obyčeje, obřady, rituály, až posléze písemná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8:40:44Z</dcterms:created>
  <dc:creator>CIKT</dc:creator>
  <dc:description/>
  <dc:language>en-US</dc:language>
  <cp:lastModifiedBy>CIKT</cp:lastModifiedBy>
  <dcterms:modified xsi:type="dcterms:W3CDTF">2007-10-08T10:28:12Z</dcterms:modified>
  <cp:revision>4</cp:revision>
  <dc:subject/>
  <dc:title>Přirozený a umělý řád</dc:title>
</cp:coreProperties>
</file>