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55B-8111-446C-8E98-BE615F36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6FD-BEF7-4115-9968-998216CF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EAA-E3DF-4D76-B233-0CAE19E4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98B-4D2C-4BDC-BC84-86C37633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984C-41B4-4098-BA1E-569C6C22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10EB-F7A6-446B-BBD7-B6C300D7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11C8-7623-472C-A77A-62923A18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000B-5D94-4856-8AAF-C6B88847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270A-AC4E-4E54-8238-6ABDB4BA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6C18-05B6-4B73-9620-296426E5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603C-CD22-42ED-BE42-4A3C1CEE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F37-628F-4990-AC93-6208162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210F-71F9-4375-9C16-D1D8353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2699-288F-4D79-AAF2-9EEB067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7B9-0737-4196-815C-C109B93C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3115-A99E-4773-95B9-896B09C1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F606-DA1D-4018-A72C-492AD872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A59-D60D-441D-865E-A2973F8A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F69-4D82-495E-A431-2BC009ED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C6E-ABE8-4B58-9938-F7CDFF25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CEC-E7EE-48E7-B203-C2EA92A4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7DC-849D-445F-8554-C0BAD3E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D24-2DDA-4603-A112-7B476324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4A7-53EB-488D-963B-BAFBB0B3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7A50-FCC5-4D0E-85C5-28B4E5482BD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C1F9-A07D-48B3-97D4-A8F585F30BD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apitalistický du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základní pojem Weberových úva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= étos práce jako sebeúčelu- specifický pro protestantské smě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ovinností člověka je zvyšovat svůj kapitá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cílem zvětšování kapitálu je iracionální pocit „naplněné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volání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ydělané peníze nemá člověk vynaložit na uspokojení svý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a jeho formování se výrazně podílela reform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tické dogma o predestinac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Bůh určil kdo je vyvolený ke spáse a kdo není, nik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ví jestli je vyvolen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člověk nemůže boží volbu nijak ovlivnit ani změni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ři snaze věřícího o spasení mu nikdo nepomůže- žádn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zatel, svátost nebo círk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tolické dogma o predestinac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církev člověku může pomoci s jeho snahou o spase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ogma o predestinaci bylo věřícími těžko přijímá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ám Kalvín se považoval za vyvoleného- cítil se být „boží zbrojí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sy o zmírnění dogmat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uložení povinnosti považovat se za vyvolené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oporučení neúnavné práce v povolání- nejlepší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prostředek, jak se ujistit o své spá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tolictv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ahodilé konání dobrých skutků, nemusí spolu souv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obrými skutky může věřící odčinit svoje hří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hodnota skutků závisí na jejich úče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jednotlivé hodnoty se sčítají, celková hodnota určí věčn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sud člově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d věřící udělal něco, čím se zpronevěřil církevnímu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učení, mohl využít svátost pokání a zbavit se tíže svědom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m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chce jednotlivé skutky, ale „trvale vysluhovano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vatost“=&gt; plně racionalizovaný systé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existuje celková suma skutk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existuje svátost pokání- věřící se s tím musel vyrovn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á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Rozdíly mezi kalvinismem a katolictvím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skeze má v západní Evropě dlouhou tradici sahající až do d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tik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stupně se vyvíjela: od poustevnictví k mnišské askez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pracovaná metoda, jak vést život racionálně, učila trval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bekontrole a uvědomování si důsledků svých činů- společné p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tolickou i kalvinistickou askez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skeze byla v katolictví pěstována především v klášterech, pokus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prosazení askeze do světského života skončily neúspěc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té měli povinnost žít asketicky ve svém všedním život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oncepce povolán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ouvisí s řádem a systematičností v každodenním život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volání- oddanost každému úkolu pro úkol sám, je to morál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ávaz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dmítá nestálé povolání- ten, kdo je nemá, tráví více ča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ahálkou než prací a vězí ve věcném zmat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íky pevnému povolání má člověk v životě systematič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člověk může vykonávat více povolání zároveň nebo práci změ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oncepce povolán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ři změně povolání je důležitá užiteč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 zjištění užitečnosti se používají 3 měřítk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mravní měřít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ůležitost produkovaných statků pro společ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výnosnost- v běžném životě nejdůležitějš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d Bůh ukázal kalvinistovi možnost jak zbohatnou, měl určit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ějaký úmysl- věřící se má jeho pokyny řídit a možnosti využí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kud věřící odmítne zbohatnout, zdráhá se být božím správc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Koncepce povolán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člověk má k nabytému majetku závazek- byl mu svěřen bož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los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 růstem majetku roste zodpovědnost při jeho spravová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abyté bohatství se nemá použít k rozmařilému životu, ale má bý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užito pro Boha, až o to požád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Dopad kalvinismu na hospodářské uspořádání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důsledkem kalvinistické askeze a snahy po zisku byla ohromn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kumulace kapitá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pitálu se až do konce 18. století nedostáva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alvinisté se nesnažili dostat mezi šlechtu a neinvestovali peníz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půdy, ale do průmyslu a podíleli se na rozvoji finanční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luž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racionalizace a kvantifikace podnikání- změna zaměře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ematiky- nástroj kvantifik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vlivnil podobu nově vznikajících demokratických států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ředevším USA- oddělení výkonné a zákonodárné mo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sah prezent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form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ztah kapitalismu a protestantství v díle Maxe Web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apitalistický d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ozdíly mezi kalvinismem a protestantstv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oncepce povol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opad kalvinismu na hospodářské uspořád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lternativní pohled na vztah kapitalismu a nábožens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82400"/>
                </a:solidFill>
                <a:latin typeface="Times New Roman"/>
              </a:rPr>
              <a:t>Alternativní pohled na vztah kapitalismu a náboženství</a:t>
            </a:r>
            <a:endParaRPr b="0" lang="en-US" sz="2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ředstavuje ho Werner Somb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součastník Maxe Web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apitalistického ducha neformoval protestantismus, ale židovstv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ozmístění Židů po celé Evropě a zároveň jejich spojení vírou ji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umožnilo vytvořit síť obchodních spojen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ozvoj obchodu jim umožnil nové obchodní a finanční nástro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=&gt;ty zpětně ovlivňovali jejich úspěšnost=&gt; ze Židů se stali úspě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finančníci a podnikatel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židovské náboženství u věřících vyvolává smysl pro dodržov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mluv- Židé ho chápou jako smlouvu s Hospodin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ormace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ýznamné hnutí evropských děj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14.- 16. stole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cíl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ávrat církve k jejímu původnímu posl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zbavení církve politického a ekonomického vli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říčiny vzniku reformace: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sociální problémy=&gt; důsledek odklonění církve od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votního křesťanství=&gt; lidstvo směřu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k Poslednímu sou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úpadek církevních mravů+ neúspěšná snaha církve o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lastní nápra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naha církve o vlastní náprav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řadoví kněží se snažili dodržovat Boží přikázán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hodnostáři se snažili o reformu= koncilní hnut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očátek 15. stole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blémy měly odstranit závěry přijaté na koncile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koncily tvořeny biskupy, hodnostáři, učen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blém: je koncil nadřazený papeži nebo není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vní reform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eformátoři se snažili jen o nápravu církve, ne o vyčlenění a vzn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nové círk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John Wycliff- stát má zbavit církev politického a ekonomickéh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li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Jan Hus, Jeroným Pražský- oslovily široké vrstvy obyvatelst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=&gt; vojenské prosazení =&gt; basilejské kompaktáty- 143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 Čechách a na Moravě mohly existovat dvě víry: katolictv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kališnictv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ěmecká reform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očátek- 15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duchovní otec: Martin Lu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řesťané mají žít v chudobě a odříkání a mají se řídit písm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vatý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stát má převzít majetek círk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přívrženci byli šlechtici i prostý lid=&gt; rozdělení na umírněné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radiká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adikálové vyvolali lidová povstání= německá selská vál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i přes jejich porážku další šíření reform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ěmecká reform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onec 20. let 16. století- říšský sněm ve Špýru- katolíci chtě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lačit reformaci hlasováním o správnosti myšlenek reformac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zastánci reformace byly proti- o teologických myšlenkách se ned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hlasovat=&gt; protestan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onec reformace: augsburkský náboženský mír- 1555=&gt; uznání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testantského náboženstv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ormace ve Švýcarsk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reformace se z Německa šířila do ostatních zemí, nejví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řívrženců našla ve Švýcars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Huldrich Zwingli- větší důraz na etickou stránku křesťana než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Luth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Jan Kalví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ejradikálnější reformační proud- kalvinism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důsledně etická náboženská soust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šíření po Evropě: Francie (hugenoti), Anglie (puritá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největší vliv- Severní Amer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Vztah kapitalismu a protestantství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Max We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otestanti mají větší podíl na vlastnictví kapitálu a na vyšší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pních řízení než jaký je jejich podíl na počtu obyvat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je potřeba kapitál, nákladné vzdělání nebo oboj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bdobná situace v 16. století- většina bohatých měst se přikloni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 protestantství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&gt; proč jsou bohatí lidé potažmo města protestanti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odpověď- vnitřní povaha protestantství- sklon k ekonomické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cionalismu, který chybí u katolicis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4:38:48Z</dcterms:created>
  <dc:creator>I</dc:creator>
  <dc:description/>
  <dc:language>en-US</dc:language>
  <cp:lastModifiedBy>I</cp:lastModifiedBy>
  <dcterms:modified xsi:type="dcterms:W3CDTF">2007-07-04T16:40:30Z</dcterms:modified>
  <cp:revision>19</cp:revision>
  <dc:subject/>
  <dc:title>   </dc:title>
</cp:coreProperties>
</file>