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EA2E-B3B9-41C0-AD3D-F7580F0D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D9E8-DB82-4AC8-8E94-BCF00DDB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8D72-AB66-40D0-A427-0EA776AF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389-660E-4762-AB03-4640F8AE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6226-C42F-4150-866A-73C1BDD5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6B4A-A2E3-499A-8027-A197339D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D53D-9156-4797-9ECB-47D87B6A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8437-890B-4DA3-BFDE-8953C06B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256A-7123-4BDC-922F-844A5868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3990-F7A9-4351-B626-0EF8C241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9BE3-0571-484D-AF15-BFFFB90E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526B-48D5-4AED-A9DC-97DB870E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340F-7526-41EC-BA7C-43B8FE50C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rcRect l="0" t="24383" r="0" b="24383"/>
          <a:stretch/>
        </p:blipFill>
        <p:spPr>
          <a:xfrm>
            <a:off x="0" y="1557360"/>
            <a:ext cx="9144000" cy="3792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560" y="2565360"/>
            <a:ext cx="784548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ezentace do předmětu Management II</a:t>
            </a:r>
            <a:br>
              <a:rPr sz="1800"/>
            </a:br>
            <a:br>
              <a:rPr sz="18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nstinkty, rozum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a rozšířený řád</a:t>
            </a:r>
            <a:br>
              <a:rPr sz="3600"/>
            </a:br>
            <a:br>
              <a:rPr sz="36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c.Soňa Hermanová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c.Lenka Procházková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c.Petra Semons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šířený řád a populační rů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„…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lidská plodnost představuje, pokud jde o nynější i budoucí blaho lidstva, hrozbu číslo jedna.“ (J. Huxley)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„Hrozbou stávajícímu i budoucímu blahu lidstva je socialismus, a to proto, že ani socialismus, ani žádná jiná náhrada tržního řádu nemůže nynější světovou populaci uživit.“ (F. A. Hay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edstava, že populační růst hrozí celosvětovou chudobou, je nesprávná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řílišné zjednodušení Malthusovy teorie populačního růst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výšení produktivity není způsobeno pouze větším počtem lidí, ale větším množstvím různých lidí. Lidé získali svou moc díky své odlišnos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ové možnosti specializace skýtají předpoklad pro úspěšnější využití bohatství země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Regionální povaha problé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 populační problém je třeba nahlížet z regionálního hledis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orální konflikt může nastat, nepřestanou-li materiálně vyspělé země podporovat a subvencovat růst počtu obyvatel v takových oblastech jako je např. Sahel ve střední Afri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ebudeme-li se vměšovat, porostou dále jen populace schopné uživit se sam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lověk není všemohoucí. Více se přiblíží uskutečnění svých přání, uzná-li meze svých schopností, nikoli tím, že se bude řídit přirozenými pohnutkami odstranit vzdálené utrpení, s nímž toho bohužel mnoho nenadělá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íra populačního růstu se dnes blíží nebo se již dostala do svého maxima, více již neporoste a bude naopak kles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ejvětší populační růst se nikdy neodehrával v rozvinutých tržních ekonomikách, ale vždy jen na jejich periferi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yto periferie však už pomalu mizí a navíc nezbývá moc zemí, které by do periferní oblasti mohly vstoup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Život nemá jiný účel než sebe s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Život existuje pouze potud, pokud si zajišťuje vlastní trvá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ětšina lidí v dnešní době žije jedině díky tržnímu řád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ůžeme být početně slabí a primitivní, nebo velmi početní a civilizova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YEK, F.A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sudná domýšlivo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Praha : Sociologické nakladatelství, 1995. ISBN 80-85850-05-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zšířený řá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íše znám pod pojmem kapitalism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ontánní řád – není výsledkem lidského plánu či zámě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pořádání, které slouží nejrůznějším cílům neomezeného počtu lid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ložen na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pravidle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mohou být v rozporu s vrozenými instink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Řád nepoměrně star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Řád malých skupin a prehistorických lidí, kteří se vzájemně z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pořádání, které slouží konkrétním, společně sdíleným cílů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ho vztahy a soudržnost založeny na lidských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instinkte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olidarita a altruism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vymizel – typický pro rodinu, či jiné malé skupi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157720"/>
            <a:ext cx="835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aha aplikovat principy jednoho řádu do řádu druhého může působit destruktivně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řesto je možné a užitečné podpůrné využití principů jednoho řádu v druh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5734080"/>
            <a:ext cx="806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Instin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část genetické informace, vrozené, dědič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způsobeny životu v malých tlupách, k nimž vývoj lidského druhu dospěl za několik miliónů 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máhaly utvářet spolupráci členů tlupy – lidí, kteří se mezi sebou znali a vzájemně na sebe spoléh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mitivní lidé se řídili konkrétními, společně sdílenými cíly, podobným vnímáním nebezpečí a příležitost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působy koordinace závisely na instinktech solidarity a altruis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och není osamělý, jeho instinkty se týkají přežití kolektivu.“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ále důležitým instinktem je schopnost učit 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ff0000"/>
                </a:solidFill>
                <a:latin typeface="Arial"/>
              </a:rPr>
              <a:t>Pravidla lidského cho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íky nim vznikl náš neobyčejný řád a existence lidstva v nynějších dimenzích a struktuře (zejména díky pravidlům vztahujícím se k oddělenému vlastnictv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edávají se tradicí, učením, nápodob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sahem ve značné míře zák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íření nových pravidel díky tomu, že umožňovala skupinám, které se jimi řídily, dosahovat většího úspěchu ---------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výsledkem tohoto selektivního evolučního procesu je morál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učená pravidla nahrazují instinktivní jednání (v rozšířeném řádu zejména uplatňování pravidel odděleného vlastnictví a smlouvy namísto solidarity a altruism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 je mezi instinktem a rozum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oluce rozšířeného řádu (kulturní a morální evoluce) probíhá vně instinktů a nemůže být tvořena ani navržena rozum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opnost učit se nápodobou – dána geneticky, získaná dlouhým vývojem instinkt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sudná domýšlivost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mylná myšlenka, že schopnost nabývat dovedností je dána rozum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: Učení se tomu, jak se chovat, j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zdroje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ozumu (není rozumem vytvořeno, člověk se nerodí moudrý, rozumný a dobrý, musí se učit, aby se takovým stal).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ozum je ale výsledkem evolučního selektivního procesu, stejně jako morálk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ši morálku nevytváří intelekt – spíše lidské interakce ovládané morálními zásadami umožňují rozvoj rozum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4724280"/>
            <a:ext cx="8207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zi instinktem a rozumem je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tradi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kterou se člověk mohl uč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661000"/>
            <a:ext cx="82090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inkt je starší než zvyk a tradice a zvyk a tradice jsou starší než rozum. Zvyk a tradice stojí mezi instinktem a rozumem – logicky, psychologicky i časově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storický poh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ehlížení významu obchodu – Aristoteles, Tomáš Akvinsk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zšíření racionalismu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7. století – René Descartes – důraz na čistý roz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          –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ohn Locke – jiný pohled, morálka je součástí rozu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8. století – Jean-Jacques Rousseau – typ tzv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divoch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osvobozeného od „umělých“ záb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9. a 20. století – inteligentní lidé mají sklon tíhnout k socialis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ohn Maynard Keynes –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„Z dlouhodobého hlediska jsme všichni mrtví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lbert Einstein – výroba pro užitek, ne pro z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acques Monod – nová, na poznání založená eti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sudná domýšliv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or tradicionalistů a racionalistů – tradiční morálka nesplňuje racionální požadav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2565360"/>
            <a:ext cx="3959280" cy="32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cionalistické předpoklady jsou, že není rozumné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žet se toho, co nelze vědecky zdůvodnit či dokázat pozorován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držovat to, co člověk nechá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edovat nějaký konkrétní směr, pokud se předem plně nespecifikuje jeho cí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koli dělat, nejsou-li předem zcela poznány účinky, které jsou ověřitelné a prospěš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27640" y="2565360"/>
            <a:ext cx="3889440" cy="31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radicionalisté tvrdí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radice nelze konstruovat, ospravedlňovat ani demonstrov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edinec není schopen přirozené, spontánní a sebeuspořádávající procesy ani vnímat, natož pojmově uchop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dělené vlastnictví je obecně prospěšné, umožňuje maximálně využít potenci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ach z obchod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jetí obcho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lišný od materiální výroby, chaotický, postradatelný, jde o zavrženíhodnou činno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iž od starověku považován spíše za kouzla a čáry, než činnost zvyšující hodnot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ýrobku, byl mimo vnímání běžných lid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áce je jediným zdrojem bohatství, protože je při ní vynakládána fyzická síla, obchodní aktivity se za skutečnou práci nepovažuj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Užitečnost není objektivní vlastnost věcí, jen jedinec sám (a mnohdy ani on) ví, co je pro něj dobré a co 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ayek vznáší požadavek na ekonomické vzdělání člově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komolený jazy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šichni lidé třídí své vjemy částečně prostřednictvím atributů, které je jazyk naučil spojovat se skupinami smyslových charakteristi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ždé užití jazyka je zatíženo teoriemi o našem prostředí či jeho interpretacem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luvíme-li jazykem založeným na mylné teorii, vytváříme a udržujeme tím omy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munikační obtíže při studiu lidského jednání začínají s definicí a pojmenováním samotných objektů, které chceme analyzov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Hlavní terminologické překá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cs-CZ" sz="1400" spc="-1" strike="noStrike">
                <a:solidFill>
                  <a:srgbClr val="ff0000"/>
                </a:solidFill>
                <a:latin typeface="Arial"/>
              </a:rPr>
              <a:t>společnost“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– nálepka, kterou lze označit téměř každou skupinu lidí, skupinu, o jejíž struktuře a příčině soudržnosti nemusíme nic zná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jde o provizorní frázi, ke které se lidé uchylují, když zcela přesně nevědí, o čem mluv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cs-CZ" sz="1400" spc="-1" strike="noStrike">
                <a:solidFill>
                  <a:srgbClr val="ff0000"/>
                </a:solidFill>
                <a:latin typeface="Arial"/>
              </a:rPr>
              <a:t>sociální“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“lasiččí slovo“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- toto slovo připravuje o obsah jakýkoliv výraz, k němuž se připojí, přičemž se ho zdánlivě ani nedotk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užívání slova “sociální“ nabylo na velké rozmanitosti (160 slovních spojení) a slovo “sociální“ získalo již mnoho různých význam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17:40:28Z</dcterms:created>
  <dc:creator>Go this way</dc:creator>
  <dc:description/>
  <dc:language>en-US</dc:language>
  <cp:lastModifiedBy>Sonia</cp:lastModifiedBy>
  <dcterms:modified xsi:type="dcterms:W3CDTF">2007-10-10T04:44:20Z</dcterms:modified>
  <cp:revision>24</cp:revision>
  <dc:subject/>
  <dc:title>Snímek 1</dc:title>
</cp:coreProperties>
</file>