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A50D-4A6E-43D8-A9CA-764977B7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24D0-0DE9-4F24-94A9-075540E0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3C09-370B-4BB4-BED4-124B7E27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9BF7-659E-4BBA-9DE3-7F193A53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B5AA-4E20-4A00-B383-1EE6B60F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435F-714A-4ACA-8858-4D6430F5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AEE1-CDE1-42E6-A6F9-DA864961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9305-1926-449D-96E6-67C8A884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3638-7BCA-4695-AA0F-FE74A611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671A-E895-4DD5-BA5A-43EA461E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0A40-66DF-4739-B049-0B1E865F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C7FA-CAF6-4334-A26D-A07D1DBE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F076-4190-4C0A-B615-9D18F34A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C055-4C25-4551-8DA6-1E50716A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E9E4-CFC2-4C10-A5FE-D7983EC7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70CE-3C85-42F2-BC11-3E21B07F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90FC-B9B7-4FAF-8C2A-4CB47A41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0410-449D-4A46-A020-2B8359CF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8CE8-1213-44CF-B46C-977D6DB9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BAF64-EAFB-4176-90B0-3DD1B39F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DE37-6D3C-4B28-A0EA-110AAF2F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4034-F0DB-4ADD-9A62-E3F4F268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B118-F932-444B-AD71-177BB1A6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2360-C3A8-4521-AAD4-B495168A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1A12-D584-4D89-9102-569DFC3B2E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7BDB-0E54-4AA8-939C-2C7B6728AD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Zrod a vývoj kapitalismu jako fenoménu industriální společnosti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Iva Bernkopfová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Michal Macu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Petr Dolež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Katolická církev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4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atolík neměl svůj osud v ruko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sud byl v rukou kně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atolictví neodblokovalo tu nejdůležitější morální a etickou brzdu pro  vývoj kapitalism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Vliv protestantismu na ekonomii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vě proměnné: etika a ekonomické chování subjektů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ybný moment produktivity – práce jako posvátný závaz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klon k úsporám – novými ctnostmi jsou střídmost, spořivost a odříkán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ximalizace výroby a minimalizace spotřeby jsou zároveň v jedné etické matici!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7000"/>
              </a:lnSpc>
              <a:spcBef>
                <a:spcPts val="1624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ěcná i morální potřeba invest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77000"/>
              </a:lnSpc>
              <a:spcBef>
                <a:spcPts val="1624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anční riziko se stává imperativ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77000"/>
              </a:lnSpc>
              <a:spcBef>
                <a:spcPts val="1624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ientace na kalkul – kalvínská etika podněcuje racionální uvažován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77000"/>
              </a:lnSpc>
              <a:spcBef>
                <a:spcPts val="1624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vantifikace průmyslu, uplatňování matematických systémů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77000"/>
              </a:lnSpc>
              <a:spcBef>
                <a:spcPts val="1624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lastnictví a zisk je ospravedlněno – člověk jako hospodář na majetku Boží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77000"/>
              </a:lnSpc>
              <a:spcBef>
                <a:spcPts val="1624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ximalizace zisku je výrazem efektivního (=dobrého) hospodařen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7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229600" cy="1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Pozice obchodníků</a:t>
            </a:r>
            <a:br>
              <a:rPr sz="32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76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ění se společenská pozice obchodníků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76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vě se definuje pojem vlastnictví – i obchodník má morální právo na vlastnictv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76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platňuje se maximalizace zisku, ale je zde také podmínka vcítění se do spotřebite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Celospolečenské hledisko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ždý člověk má právo na vzest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yramidová třídní struktura – třídy jsou otevřené, možný je pohyb jak nahoru, tak i dolů. Pohyb směrem dolů je ovšem nežádou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znik střední třídy (např. Amerik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ristokracie jsou nahrazeny tvz. </a:t>
            </a:r>
            <a:r>
              <a:rPr b="0" lang="cs-CZ" sz="2400" spc="-1" strike="noStrike">
                <a:solidFill>
                  <a:srgbClr val="ff9933"/>
                </a:solidFill>
                <a:latin typeface="Arial"/>
              </a:rPr>
              <a:t>meritokraciem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vláda těch, kteří si to zaslouž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eníze se stávají hlavním prostředkem společenské odmě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oderní tržní hospodářství má protiválečné a proti-revoluční t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znik a rozkvět povolání jakými jsou podnikatelé, manažeři, obchodníci, burzovní makléři, bankéř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229600" cy="3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Kalvinismus versus marxismus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dle Marxe je neodstranitelnou vadou kapitalismu jeho neschopnost uspokojit potřeby m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vorba kapitálu vyžaduje podle něho vykořisťování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→ zaškrcování kupní síly m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Tato námitka o nevyhnutelné polarizaci životní úrovně byla vyvrácena (vznik střední třídy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Manipulace spotřebitelem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79311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počátku byl prodej pouhým prodloužením výro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 rostoucí hojností spotřebních statků bylo důležité, aby se z nekupujících staly kupují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dej byl rozšířen o novou manipulativní dimen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jdříve jen průzkum trhu, poté se prosazuje další manipulace v rámci koncepce podpory prode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ájmy kupujících a prodávajících jsou v protikla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rxisté a merkantilisté považují kapitalismus za nemravný a dlouhodobě neefektiv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06436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Trh a americká kultura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jvětší rozmach  trhu nastal po druhé světové vál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ovace trhu spíše než inovace výrobní technik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ultura materialistická a ideová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ytrácí se etika kalvinismu – výroba se má orientovat na zisk. USA jsou nejrychleji se nerozvíjející zemí na světě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ízká produktivita je zapříčiněna i koncentrací a monopolizací výrob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3104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Kalvínská etika v dnešním kapitalismu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Ústup od spoření, od asketismu k hedonism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Spotřeba současných i budoucích statků – život na dlu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Všeobecná neochota podstupovat riziko a investov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Stírá se rozdíl mezi investicemi, spořením a spotřebo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slabení racion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ytrácení posvátnosti vlastnictv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átní zásahy znemožňují vytváření bohatstv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h straní nadprůměrným, stát podprůměrný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átní zásahy narušují suverenitu spotřebite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alvínské rovnostářství spojené s elitářstvím stvořilo efektivní systé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učasný příklon k rovnostářství efektivitu snižuj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Obsah prezentac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276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yšlenky, které stály u zrodu kapitalism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2276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liv protestantismu na ekonomi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2276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Změny ve společnost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2276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alvínská etika v dnešním kapitalism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Použitá literatura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BER, M.: Protestantská etika a duch kapitalismu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TZ, W. G.: Protestantská etika a tržní hospodářství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Vztah mezi protestantismem a kapitalismem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0920" y="2420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 Weber(1864-19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konci 19. století byla empiricky zjištěna vyšší ekonomická úroveň protestantských zem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Protestantismu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Světový křesťanský útv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Vznikl  z reformace Luthera, Kalvína v 16.stolet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9933"/>
                </a:solidFill>
                <a:latin typeface="Arial"/>
              </a:rPr>
              <a:t>Reformace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 (lat. </a:t>
            </a:r>
            <a:r>
              <a:rPr b="0" i="1" lang="cs-CZ" sz="2600" spc="-1" strike="noStrike">
                <a:solidFill>
                  <a:srgbClr val="ffffff"/>
                </a:solidFill>
                <a:latin typeface="Arial"/>
              </a:rPr>
              <a:t>znovuobnovení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) byl proces v křesťanské církvi s těžištěm v 16.století s cílem nápravy poměrů a návratu ke křesťanství, nezatíženému tradicí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Církve: kalvinisté, luteráni, reformovaní, methodisté atd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Anglosaské státy, Švýcarsko, Německo a Skandináv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Myšlenky protestantismu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dpora ekonomického racionalismu ve větší míře než katolíc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ětší pud po zisk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Úspěšnost zemí díky dědictví po předcích(peníze,výchova a vzdělání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3 základní pilíře zrodu kapitalismu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Povolání podle Luthe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Učení o predestinaci podle Kalví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Vnitrosvětská askeze podle Kalví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Povolání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9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lnění této povinnosti = nejvyšší obsah, který může mravní sebekontrola vůbec přijmou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9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áce dostala silný náboženský význ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Predestinac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dstvo je od začátku rozděleno na ty, kteří budou spaseni a na ty, kteří budou zatracen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Člověk toto nemůže sám ovlivni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áznak = úspěch v prác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volnění věcí pozemských a nebeských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znik podnikán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fdef6"/>
                </a:solidFill>
                <a:latin typeface="Arial"/>
              </a:rPr>
              <a:t>Vnitrosvětská askez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Člověk = služebník božích statků na zem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Úspěch = mravní měřítko úspěšnosti ve využívání statků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Požehnaný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být úspěšný 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růst luxusního konzumu a růst výdělečné činnost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08:51:50Z</dcterms:created>
  <dc:creator>Miroslav Bernkopf</dc:creator>
  <dc:description/>
  <dc:language>en-US</dc:language>
  <cp:lastModifiedBy>Miroslav Bernkopf</cp:lastModifiedBy>
  <dcterms:modified xsi:type="dcterms:W3CDTF">2007-10-17T20:27:27Z</dcterms:modified>
  <cp:revision>14</cp:revision>
  <dc:subject/>
  <dc:title>Zrod a vývoj kapitalismu jako fenoménu industriální společnosti </dc:title>
</cp:coreProperties>
</file>