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5353-D1DD-4A0F-A4F2-F053A0DCE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3DF0-203D-4950-8AEB-97148EBB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C7FB-ECC1-47CB-8FEA-D492AAC19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9CEC-EA0E-4844-A328-FBC956DCE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DB3A-F1B0-4332-BD46-6AE7DC743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02F5-1277-4EE4-914B-DF6CA350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7336-74A3-4CBA-BA99-A31039D8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2C42-EED3-4C51-AC9E-11D5BEFD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19D7-06D5-4D34-A27B-9E7F7FF4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C121-8A16-4243-B9E5-FB26CF2E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774D-E001-4A4B-8E95-EDC5677F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5C7B-95BA-4614-A697-1A84C01E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6CDE-E63B-4BCC-A3CF-59A56D77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5EA1-0C42-41FE-BA83-04008A99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99F46-5171-4877-A308-F759D223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EB71-6A17-4CA9-80CB-494CBFED6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F080-7363-4058-B689-5E1E7C190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DB7A-3790-494E-AA13-41E3AC2A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A1C0-3F3C-4259-94D4-2B899161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C747-3015-40C1-97E4-D26B83AC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FC93-02BC-428A-81C6-76EE9149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E8EB-2C48-4223-897F-8EB3AE08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E2CB-7E4D-4086-B503-3FB0F06D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0869-9BA2-4070-9B7E-2EB985A9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F551-0597-4B5A-80BB-EECD70244D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C8B6-483C-4A68-B89B-F4E9744297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cecff"/>
                </a:solidFill>
                <a:latin typeface="Arial"/>
              </a:rPr>
              <a:t>Zrod a vývoj kapitalismu jako fenoménu industriální společnosti</a:t>
            </a:r>
            <a:endParaRPr b="0" lang="en-US" sz="4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03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reza Dostál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haela Dvořák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máš Urb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250920" y="244440"/>
          <a:ext cx="8642160" cy="6191280"/>
        </p:xfrm>
        <a:graphic>
          <a:graphicData uri="http://schemas.openxmlformats.org/drawingml/2006/table">
            <a:tbl>
              <a:tblPr/>
              <a:tblGrid>
                <a:gridCol w="4332240"/>
                <a:gridCol w="4309920"/>
              </a:tblGrid>
              <a:tr h="56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tolictv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testantismu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dé rozdělení na kas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ukturovaný život až po smrt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ůležité, ve které třídě se člověk narod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řídní struktura otevřená a pomíjivá, pohyb dolů i nahoru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vátosti jsou prostředky k získání milosti bož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ulování spasitelského působení círk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tolík koná dobré skutky příležitostně,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 odčinění hříc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 jednotlivé dobré skutky, ale „trvale vysluhovaná svatost“ vystupňovaná v systém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keze mnišsk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keze světsk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Kalvinismus a ekonom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větská askeze → systematičnost, metodičnost → povolá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žitečnost povolání se měří měřítkem mravním a měřítkem důležitosti produkovaných statků pro celek + měřítkem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kromohospodářské výnosnost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hatství je nepravost svádí-li k hříšným požitkům  x  je-li z povinnosti k povolání je mravně přípustné, ba přikázané →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alkulace obchodníka na zis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chá účelnost, proti záměrům estetickým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→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dence k uniformitě životního stylu              →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ardizace výro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lon k buržoaznímu, hospodářsky racionálnímu pojetí život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orie o „produktivitě“ nízkých mez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pokud je lid v chudobě, zůstane poslušný Boh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trácení → spoření → investov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Kalvinismus a ekonom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středění n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alizaci ve výrobě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→ růst produk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ximalizace výroby a minimalizace spotře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ýrobě a spotřebě odebrán znak etické nadřazenosti, obchod získává důležité postav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á definice vlastnictví (podpora obchod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alvinismus byl významnou příčinou moderního tržního hospodářství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Kalvinismus a ekonom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osahování bohatstv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jopravdovější přívrženci puritánského ducha: drobné měšťanstvo a farmáři  x   blažení majetníci ochotni zradit staré ideá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ábožnost plodí pracovitost i spořivost → růst bohatství → růst pýchy, vášně, světáctv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 náboženství zůstává forma, ale obsah se vytrá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Závě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tracení počáteční duchov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ůst konzu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soké pracovní nasazení a sklon k úsporám zůstávaj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Šíření vlivu „kalvinismu“ do zbytku svě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fere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WEBER, M. Protestantská etika a duch kapitalism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ITZ, W. G. Protestantská etika a tržní hospodářství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ttp://studentf.jazzport.eu/Filosofie/anglikanska-cirkev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ttp://www.blisty.cz/art/20560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ttp://referaty-seminarky.cz/protest-a-protestantske-cirkve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Děkujeme za pozornost a přejeme krásný zbytek dne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snov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znik a vývoj protestantis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tolická morál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lvinistická morál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lvinismus v ekonom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atika dosahování bohatstv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ávě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znik a vývoj protestantismu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ddělil se od katolicismu v průběhu reformace v 16.století - Hus,Luther, Calv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družuje velké množství samostatných církví, sekt a denominací (luteránství,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kalvinismus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anglikánská církev, metodisté, baptisté, adventisté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sídlování Amerik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uritáni v Nové Angl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čištění anglikánské církve od katolictv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ugeno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cházejí z kalvinismu, 200 tisíc uprchlíků z Francie za Ludvíka IV., část odešla do Ameri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atolická morálk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792468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dé rozdělení na kasty Bohem určené, až v nebi rovnocen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4499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dnotlivé dobré skutky konané příležitostně a úmyslně → původci se připočítávali k věčnému osud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4499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kramentální milosti církve (kněz, pokání, rozhřešení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atolická morálk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keze mnišsk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entrum moci: církev a vlada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mezená vlastnická prá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alvinistická morálk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283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základní dogma: učení o predestinac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zhodující pro věřícího je být v milos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ulace spasitelského působení církve a svátos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 jednotlivé dobré skutky, ale „trvale vysluhovaná svatost“ vystupňovaná v systé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alvinistická morálk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keze světská (ve světských povoláních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dividuální svobod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lastnická práva možno směn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4T07:38:57Z</dcterms:created>
  <dc:creator>-</dc:creator>
  <dc:description/>
  <dc:language>en-US</dc:language>
  <cp:lastModifiedBy>-</cp:lastModifiedBy>
  <dcterms:modified xsi:type="dcterms:W3CDTF">2007-10-15T19:51:12Z</dcterms:modified>
  <cp:revision>20</cp:revision>
  <dc:subject/>
  <dc:title>Zrod a vývoj kapitalismu jako fenoménu industriální společnosti</dc:title>
</cp:coreProperties>
</file>