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FA9-802F-4864-9305-ACE2ECAE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752-BC6D-43DC-BC45-A7BEA89C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F73-5B15-424E-BF54-410D7EC2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FBA-2FDA-43F3-A720-75901FC6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8EB5-804B-4DC5-A44E-F22C8311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01D4-7CAD-46F2-88E8-8C74E4DD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D659-A927-469C-BAD4-027D0BF1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15E9-5633-4349-8C48-51249FD1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CE10-17B1-41F2-A84E-E0DEB058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4649-BC7F-411F-87AB-7A5B3C97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D3BC-19E9-484C-96D7-488B6BB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B89-C520-4C49-96D7-9EDA2D8D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780A-9D45-4842-860F-BD66CCA9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2539-AB6A-4B2D-807C-0131761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2BA0-CFAE-4928-AE15-99133476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EEA7-D235-4590-BF2F-92570DAF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5163-7684-4279-B5DD-62FF419E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6A2-F594-4B37-A480-A98FDEFB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D42-E3F6-4F25-90FA-B8C056EB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761-DD56-4CC7-A3BE-B57B9EDB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52A-D010-45C1-9E74-C60D812E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2E8-E61E-40F9-B0BC-7D074A33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B05-BC20-4FF4-9CA9-DFC07BCF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E9F-0AE3-4437-8408-7A7A498E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9749-1832-479D-AB91-81E0CABD3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CD88-6560-444C-9634-719314FA9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ecff"/>
                </a:solidFill>
                <a:latin typeface="Arial"/>
              </a:rPr>
              <a:t>Zrod a vývoj kapitalismu jako fenoménu industriální společnosti</a:t>
            </a:r>
            <a:endParaRPr b="0" lang="en-US" sz="4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eza Dostá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a Dvořá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áš Ur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50920" y="244440"/>
          <a:ext cx="8642160" cy="6191280"/>
        </p:xfrm>
        <a:graphic>
          <a:graphicData uri="http://schemas.openxmlformats.org/drawingml/2006/table">
            <a:tbl>
              <a:tblPr/>
              <a:tblGrid>
                <a:gridCol w="4332240"/>
                <a:gridCol w="43099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ictv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antism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dé rozdělení na kas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kturovaný život až po smr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ůležité, ve které třídě se člověk narod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ní struktura otevřená a pomíjivá, pohyb dolů i nahor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átosti jsou prostředky k získání milosti bož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ulování spasitelského působení círk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ík koná dobré skutky příležitostně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odčinění hříc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 jednotlivé dobré skutky, ale „trvale vysluhovaná svatost“ vystupňovaná v systé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mniš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svět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větská askeze → systematičnost, metodičnost → povol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žitečnost povolání se měří měřítkem mravním a měřítkem důležitosti produkovaných statků pro celek + měřítke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kromohospodářské výnosno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hatství je nepravost svádí-li k hříšným požitkům  x  je-li z povinnosti k povolání je mravně přípustné, ba přikázané →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kulace obchodníka na zi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á účelnost, proti záměrům estetický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e k uniformitě životního stylu              →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izace výro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lon k buržoaznímu, hospodářsky racionálnímu pojetí živo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orie o „produktivitě“ nízkých mez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kud je lid v chudobě, zůstane poslušný Bo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rácení → spoření → invest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tředění n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izaci ve výrobě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růst produk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alizace výroby a minimalizace spotře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robě a spotřebě odebrán znak etické nadřazenosti, obchod získává důležité postav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definice vlastnictví (podpora obchod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vinismus byl významnou příčinou moderního tržního hospodářstv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sahování bohatstv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jopravdovější přívrženci puritánského ducha: drobné měšťanstvo a farmáři  x   blažení majetníci ochotni zradit staré ideá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božnost plodí pracovitost i spořivost → růst bohatství → růst pýchy, vášně, světá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náboženství zůstává forma, ale obsah se vytrá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tracení počáteční duchov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ůst konzu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é pracovní nasazení a sklon k úsporám zůstáv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íření vlivu „kalvinismu“ do zbytku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EBER, M. Protestantská etika a duch kapitalis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ITZ, W. G. Protestantská etika a tržní hospodářstv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studentf.jazzport.eu/Filosofie/anglikanska-cirkev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blisty.cz/art/20560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referaty-seminarky.cz/protest-a-protestantske-cirkve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Děkujeme za pozornost a přejeme krásný zbytek dne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no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a vývoj protestant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ol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t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mus v ekonom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tika dosahování bohat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znik a vývoj protestantism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dělil se od katolicismu v průběhu reformace v 16.století - Hus,Luther, Calv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družuje velké množství samostatných církví, sekt a denominací (luteránství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lvinismu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nglikánská církev, metodisté, baptisté, adventist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ídlování Ameri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uritáni v Nové Angl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čištění anglikánské církve od katoli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ugen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cházejí z kalvinismu, 200 tisíc uprchlíků z Francie za Ludvíka IV., část odešla do Amer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9246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dé rozdělení na kasty Bohem určené, až v nebi rovnocen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dnotlivé dobré skutky konané příležitostně a úmyslně → původci se připočítávali k věčnému osu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kramentální milosti církve (kněz, pokání, rozhřeše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mnišsk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um moci: církev a vlada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ezená vlastnická 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83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ákladní dogma: učení o predestin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zhodující pro věřícího je být v mi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ulace spasitelského působení církve a svát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 jednotlivé dobré skutky, ale „trvale vysluhovaná svatost“ vystupňovaná v syst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světská (ve světských povolání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ividuální svobo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astnická práva možno smě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7:38:57Z</dcterms:created>
  <dc:creator>-</dc:creator>
  <dc:description/>
  <dc:language>en-US</dc:language>
  <cp:lastModifiedBy>-</cp:lastModifiedBy>
  <dcterms:modified xsi:type="dcterms:W3CDTF">2007-10-15T19:51:12Z</dcterms:modified>
  <cp:revision>20</cp:revision>
  <dc:subject/>
  <dc:title>Zrod a vývoj kapitalismu jako fenoménu industriální společnosti</dc:title>
</cp:coreProperties>
</file>