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048-0292-441F-8CCB-54B8D223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9FC-EB16-407B-ABA7-B54BEC97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A23-968F-4050-8F90-67ED26A6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DD7-CC24-4F2F-AE13-6297DF82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838-81C0-4454-AF8F-62E0696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4F1-9329-4379-A81F-A550AC91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A9C-481A-49C0-BD83-B7E92CC1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5CB-AAA9-415C-9236-7A2913F4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C54-8190-45F9-879A-879F5018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ADC-FDFB-457F-8D95-9C36EAE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3E5-27C5-4454-812C-7861FED9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E5F-3549-425F-979C-09D54E6A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488C-1B82-4A0C-93ED-6F7A7AE1D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989000"/>
            <a:ext cx="669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247968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gmar Švec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chal La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n Kauc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49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10.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931-AC7B-4B36-AE78-3AAD4C9468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ffler A., Tofflerová H. – Nová civilizace - Třetí vlna a její důsledky, Nakl. Dokořán Praha, 2001, 130 s., ISBN 80-86569-00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391-8C57-4B0A-B52F-A7A97CEB16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148-BC85-4F6F-811D-6D4E88E0B3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vin Toffl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badatel, profesor, korespondent Bílého domu, nositel čestných doktor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eidi Toffler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profesorka, četná vyzname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tnými spolupředsedy komise UNIF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33C-F862-453C-8699-612B2056D7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vlna - zhruba před 10 000 l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„zemědělská“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vlna - od 18.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„průmyslová“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vlna - v USA od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„informační“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ém střetu vl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98B-46EB-416F-9DAD-AB766408B3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robní fak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půda, práce, kapitál, suro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postupné nahrazování poznáním, informac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hmotn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hmotná ak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schopnost získávat, generovat, distribuovat a aplikova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mas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masová výroba, masová spol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emasifikace, diverzita produktů, rozpad masového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fyzická/nízké požadavky na schopnosti/zaměnitel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růst požadavků na schopnosti/stále těžší a nákladnější nají správného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1E1-8C06-48B3-8EFD-BD1AEC7FD3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vlna = soutěž vyžaduje neustálé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ěřít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brovské množství dělníků vykonávajících stejnou manuál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spory z velkovýroby často klesají pod tíhou složit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dniky druhé vlny ztrácejí konkurenční výh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byrokratick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nové formy organizace/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yzická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stále míň důležitá, než flexibilita a jednoduché manévr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C61-7388-4F79-937B-EF3B6C4B68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ystémová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růst systémové složitosti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ové formy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větší množství informací obíhajících v organiz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fra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ba informační infrastruktury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 sítě, sate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elektronická komunikace představuje základní infra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rychl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o předcházející stále zvyšuje rychlost operací a transa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úspory z velko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úspory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ychlost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J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A45-D40B-4AA6-87B7-504A67CDE2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řet socialismu s budouc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nání – důležitý prvek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ří pilíře socialistické ví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raz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Hardware”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Softw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7E3-2B2B-453C-94C5-F6B2EE579F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itéria třetí vl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vár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x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Posílení významu rod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724-2934-4A98-9CE1-3BCBB8FB4E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kracie pro 21.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ičstvo zítř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opřímá demok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lb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c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CC1-2320-461B-8589-F67AE534B5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53:23Z</dcterms:created>
  <dc:creator>CIKT</dc:creator>
  <dc:description/>
  <dc:language>en-US</dc:language>
  <cp:lastModifiedBy>CIKT</cp:lastModifiedBy>
  <dcterms:modified xsi:type="dcterms:W3CDTF">2007-10-17T13:50:55Z</dcterms:modified>
  <cp:revision>4</cp:revision>
  <dc:subject/>
  <dc:title>Vývoj společnosti v pojetí A. Tofflera  </dc:title>
</cp:coreProperties>
</file>