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B11-B97D-47BA-9D13-C8D258CA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E54-FD31-4FB5-895E-51ACD7D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2E0-84CE-485D-84C0-D124EFF6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86F-B1BF-4CFB-BEB7-F079A551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089A-6732-43AB-AD99-759A4116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0E9C-1BC4-4F7B-A45D-9074C5B9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8BEE-650D-4C52-9078-91757188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028-379A-4A40-A8ED-A35F1CED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2000-151B-4D55-B58C-3E4940D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9D28-FDF1-4A05-8872-CE6BDDAA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F786-F983-43C1-8AC2-B06C35A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EDE-18A2-4A27-90FF-F566722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77DC-8E69-4FC1-BC15-4B6FA53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DD39-F9CD-437E-8C00-D413CFBB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663-FBBF-4327-BE53-197DAA5E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D636-1C5D-4877-8470-D60D9F34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7B75-CE44-4C95-88A7-5CCC0F6F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97E-31B5-4878-BCDA-6B232143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75F-8730-4D7B-8D98-EAC13FEC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BCD-267D-4974-A74C-8A03211C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477-20B4-4C92-BC7F-67EC4534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2B5-5EF4-44A2-B3A7-1DE7674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0F1-33F5-45E5-A95C-A520FFE2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D99-3836-4996-8E28-2D299A83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FD6B-2443-44BC-8FB4-B99D8B2FA6E4}" type="slidenum">
              <a:rPr b="1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E9D-CAAE-4A80-B119-EDE79946D1F5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rk.cz/alvin_toffler_necekaji_nas_krvave_revoluce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otato_plant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www.simpsonovi.net/obrazky/sekce/tapety/tapeta1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ývoj společnosti v pojetí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lvina Tofflera</a:t>
            </a:r>
            <a:br>
              <a:rPr sz="4000"/>
            </a:br>
            <a:br>
              <a:rPr sz="4000"/>
            </a:b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Prezentace do předmětu Managment II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Autoři: Lucie Hubaczová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Richard Malovič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Lukáš Merta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Použitá literatura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OFFLER, A. </a:t>
            </a:r>
            <a:r>
              <a:rPr b="0" i="1" lang="cs-CZ" sz="2800" spc="-1" strike="noStrike">
                <a:solidFill>
                  <a:srgbClr val="284c6a"/>
                </a:solidFill>
                <a:latin typeface="Trebuchet MS"/>
              </a:rPr>
              <a:t>The Third Wave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. New York: Bantam Books, 1990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OFFLER, A. </a:t>
            </a:r>
            <a:r>
              <a:rPr b="0" i="1" lang="cs-CZ" sz="2800" spc="-1" strike="noStrike">
                <a:solidFill>
                  <a:srgbClr val="284c6a"/>
                </a:solidFill>
                <a:latin typeface="Trebuchet MS"/>
              </a:rPr>
              <a:t>Šok z budoucnosti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. Praha: Práce, 1992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BLAŽEK, L. Sylaby zveřejněné na www stránkách ESF M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park.cz/alvin_toffler_necekaji_nas_krvave_revolu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Děkujeme za pozor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Obsah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Vývoj společ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první vln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druhá vln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vývojové tendence na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prahu postindustriální é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Šok z budouc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32720" y="3357720"/>
            <a:ext cx="1118880" cy="1520640"/>
            <a:chOff x="6732720" y="3357720"/>
            <a:chExt cx="1118880" cy="1520640"/>
          </a:xfrm>
        </p:grpSpPr>
        <p:sp>
          <p:nvSpPr>
            <p:cNvPr id="87" name="Puzzle3"/>
            <p:cNvSpPr/>
            <p:nvPr/>
          </p:nvSpPr>
          <p:spPr>
            <a:xfrm>
              <a:off x="6732720" y="3357720"/>
              <a:ext cx="1118880" cy="1520640"/>
            </a:xfrm>
            <a:prstGeom prst="pie">
              <a:avLst/>
            </a:prstGeom>
            <a:solidFill>
              <a:srgbClr val="a6d1d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9000" y="3855960"/>
              <a:ext cx="837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43640" y="4508640"/>
            <a:ext cx="1787400" cy="1384200"/>
            <a:chOff x="6443640" y="4508640"/>
            <a:chExt cx="1787400" cy="1384200"/>
          </a:xfrm>
        </p:grpSpPr>
        <p:sp>
          <p:nvSpPr>
            <p:cNvPr id="90" name="Puzzle2"/>
            <p:cNvSpPr/>
            <p:nvPr/>
          </p:nvSpPr>
          <p:spPr>
            <a:xfrm>
              <a:off x="6443640" y="450864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7160" y="493416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Vývoj společnost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ři vln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koexistenční působ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srážení vl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preindustriální, industriální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a postindustriální společ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4" name="" descr="toffler.gif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První vlna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Sběr surovin, chov dobytk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Jednoduchá dělba prá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Výjimkou Ří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Zemědělská revolu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057400" cy="244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azenice brambor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284640"/>
            <a:ext cx="2016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Druhá vln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Nástup industriální společnost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Oddělení výroby a spotřeb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Dělba práce na základě speci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Synchron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Standard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oncentr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Maxim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centr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tarý pohled"/>
          <p:cNvPicPr/>
          <p:nvPr/>
        </p:nvPicPr>
        <p:blipFill>
          <a:blip r:embed="rId3"/>
          <a:stretch/>
        </p:blipFill>
        <p:spPr>
          <a:xfrm>
            <a:off x="4932360" y="4076640"/>
            <a:ext cx="32004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ývojové tendence na prahu postindustriální éry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„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o, co se nyní vynořuje, je nesporně zásadnější, závažnější a hlubší, než byla průmyslová revoluce. Současnost nepředstavuje nic menšího než druhý velký předěl v lidské historii.“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56600" y="5229360"/>
            <a:ext cx="1787400" cy="1384200"/>
            <a:chOff x="7356600" y="5229360"/>
            <a:chExt cx="1787400" cy="1384200"/>
          </a:xfrm>
        </p:grpSpPr>
        <p:sp>
          <p:nvSpPr>
            <p:cNvPr id="106" name="Puzzle2"/>
            <p:cNvSpPr/>
            <p:nvPr/>
          </p:nvSpPr>
          <p:spPr>
            <a:xfrm>
              <a:off x="7356600" y="522936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90120" y="565488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eorie moderniza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Informační společ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Společnost vědě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Nová ekonomik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Koncept třetí vlny (revoluční premisa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0" name="" descr="MANHATTAN NIGHT – b&amp;w obrázek | plakát | fotky | poster"/>
          <p:cNvPicPr/>
          <p:nvPr/>
        </p:nvPicPr>
        <p:blipFill>
          <a:blip r:embed="rId2"/>
          <a:stretch/>
        </p:blipFill>
        <p:spPr>
          <a:xfrm>
            <a:off x="5148360" y="1844640"/>
            <a:ext cx="3711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Šok z budoucnost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Přizpůsobení či nepřizpůsobení se změně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Nemoc ze změn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Kulturní mezer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Míra srovnává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56240" y="4402080"/>
            <a:ext cx="1077840" cy="1769760"/>
            <a:chOff x="5556240" y="4402080"/>
            <a:chExt cx="1077840" cy="1769760"/>
          </a:xfrm>
        </p:grpSpPr>
        <p:sp>
          <p:nvSpPr>
            <p:cNvPr id="114" name="Puzzle4"/>
            <p:cNvSpPr/>
            <p:nvPr/>
          </p:nvSpPr>
          <p:spPr>
            <a:xfrm>
              <a:off x="5556240" y="4402080"/>
              <a:ext cx="1077840" cy="1769760"/>
            </a:xfrm>
            <a:prstGeom prst="pie">
              <a:avLst/>
            </a:prstGeom>
            <a:solidFill>
              <a:srgbClr val="7fa9c3">
                <a:alpha val="57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65760" y="484488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568920" y="3311640"/>
            <a:ext cx="1119240" cy="1520640"/>
            <a:chOff x="6568920" y="3311640"/>
            <a:chExt cx="1119240" cy="1520640"/>
          </a:xfrm>
        </p:grpSpPr>
        <p:sp>
          <p:nvSpPr>
            <p:cNvPr id="117" name="Puzzle3"/>
            <p:cNvSpPr/>
            <p:nvPr/>
          </p:nvSpPr>
          <p:spPr>
            <a:xfrm>
              <a:off x="6568920" y="3311640"/>
              <a:ext cx="1119240" cy="1520640"/>
            </a:xfrm>
            <a:prstGeom prst="pie">
              <a:avLst/>
            </a:prstGeom>
            <a:solidFill>
              <a:srgbClr val="a6d1d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75560" y="38098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242040" y="4419720"/>
            <a:ext cx="1787400" cy="1384200"/>
            <a:chOff x="6242040" y="4419720"/>
            <a:chExt cx="1787400" cy="1384200"/>
          </a:xfrm>
        </p:grpSpPr>
        <p:sp>
          <p:nvSpPr>
            <p:cNvPr id="120" name="Puzzle2"/>
            <p:cNvSpPr/>
            <p:nvPr/>
          </p:nvSpPr>
          <p:spPr>
            <a:xfrm>
              <a:off x="6242040" y="441972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5560" y="484524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Šok z budoucnosti- příklady změn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Urban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Člověk budoucnost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Inform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Lidské vztah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Adhokraci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echnologi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iborgové mezi nám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4" name="" descr="Pavel Houser - karikatura"/>
          <p:cNvPicPr/>
          <p:nvPr/>
        </p:nvPicPr>
        <p:blipFill>
          <a:blip r:embed="rId2"/>
          <a:stretch/>
        </p:blipFill>
        <p:spPr>
          <a:xfrm>
            <a:off x="6877080" y="1700280"/>
            <a:ext cx="160020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1866960" cy="23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dgh"/>
          <p:cNvPicPr/>
          <p:nvPr/>
        </p:nvPicPr>
        <p:blipFill>
          <a:blip r:embed="rId4"/>
          <a:stretch/>
        </p:blipFill>
        <p:spPr>
          <a:xfrm>
            <a:off x="4859280" y="1773360"/>
            <a:ext cx="1703520" cy="22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437000"/>
            <a:ext cx="2016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9:44:28Z</dcterms:created>
  <dc:creator>PC</dc:creator>
  <dc:description/>
  <cp:keywords/>
  <dc:language>en-US</dc:language>
  <cp:lastModifiedBy>PC</cp:lastModifiedBy>
  <dcterms:modified xsi:type="dcterms:W3CDTF">2007-10-14T22:02:42Z</dcterms:modified>
  <cp:revision>17</cp:revision>
  <dc:subject/>
  <dc:title>Školicí prezenta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29</vt:lpwstr>
  </property>
</Properties>
</file>