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FAB-329B-4D70-A48E-CABF2CDE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7CB-CA5F-4DD2-9379-0B8897B5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1533-712E-49C5-9C20-558B5251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010-4CD3-44D7-BA53-653F0324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263E-29E8-4207-9F0A-835E4B4F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0FC8-BF61-411B-96BC-A745E322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4D3D-CA6B-45C7-89FE-EA358373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1D61-656A-414E-B5EB-874247D5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0BB4-F303-4C5C-8C21-A9199C75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26C0-D7CC-4B18-BA5E-480ADE8D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61F5-A705-4C7C-8F76-49436223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C81-6DB0-4426-B218-0116A025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6150-3AD6-43F4-BC0D-014AF5A6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A543-1A16-48FB-A0D3-B5671BBE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BEFE-5043-47D8-A3E5-4F3E0E9E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1D99-0F33-47E0-A3C9-C0E2D9FF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D79E-8C77-426C-8B33-37271595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FE2-7473-4A56-9600-2E79A916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C17-0731-4A2A-9288-7D1BEC75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922-6F75-4F56-840F-DCC7AC95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BCF-F776-49C8-98E1-642DA8B7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0FB-C73E-492B-B8DD-44D70C67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B125-EC37-47E6-BB6C-8EA27C09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55B8-A55E-4C78-916F-0DB37BE0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B51E-340F-4F9A-935C-430C0E517BE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b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b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bf1f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550E-B7BB-40D0-9984-C6EF2E52FBB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bf1f"/>
                </a:solidFill>
                <a:latin typeface="Garamond"/>
              </a:rPr>
              <a:t>Přirozená a kulturní evoluce</a:t>
            </a:r>
            <a:br>
              <a:rPr sz="5800"/>
            </a:b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7772400" cy="2682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2421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Alena Kupčíková, Hana Divišová, Jakub Card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Vztah přirozené a kulturní evoluce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íklad podle Šmajse: Dva pekař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atímco první pekař, přirozená evoluce, peče z mouky, z které je vytvořena naše planeta a která vznikala ve hvězdách první generace, tj.peče z chemických prvků periodické soustavy, které jsou obsaženy v půdě,vodě a atmosféře, druhý pekař, kulturní evoluce, přišel do práce pozdě.Bylo už napečeno, a má-li něco vlastního vytvořit, musí mouku pro své těsto získávat lámáním a drcením pečiva prvního pekař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Literatura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ŠMAJS, J. 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Drama evoluc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 Praha: Hynek, 2000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ttp://www.vetrnemlyny.cz/rozrazil/online/clanek.php?clanek_id=8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bf1f"/>
                </a:solidFill>
                <a:latin typeface="Garamond"/>
              </a:rPr>
              <a:t>Děkujeme za pozornost</a:t>
            </a: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Evoluce- defini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ývoj. Neustálá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adaptac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organismů na podmínky životního prostředí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voluce většinou vede od jednoduché k výše organizované úrovni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voluce je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antientropická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 směřuje proti rozpad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Hlediska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Časové hledisko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voluční změny lze zachytit až s vytyčením dostatečně velkého časového rozpět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ledisko nositele evoluční aktivity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přirozená a kulturní evolu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Přirozená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5112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Přirozená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avděpodobný počátek- prudká expanze zárodečné kosmické hmoty ( velký třesk ) před deseti až patnácti miliardami let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šechny prvky chemické periodické soustavy,které jsou dnes na zemi, vznikly - s výjimkou vodíku a helia - jako důsledek jaderných reakcí v nitru prvních hvězd, nebo při jejich zánik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Přirozená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malé fáze a rychlé evoluční skoky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. J. Gould: "Po tři miliardy let byl nejvyšší formou života povlak prokaryont...pak, zhruba před 600 miliony let, se ve fosilních dokladech náhle objevují prakticky všechny stěžejní formy živočišného života, a to v průběhu několika málo milionů let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Kulturní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Kulturní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, který stále více závisí na lidech a předcházejícím kulturním vývoji a stále méně na přírod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člověk získal předpoklady pro záměrné a rychlé přizpůsobování svého okolí potřebám společenství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l přirozenou evolucí vybaven tak, že dokázal zažehnout kulturní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oluc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Kulturní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Člověk může produkovat své struktury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přímo- vznikají pomalou postupným začleňováním a změnou stavebních dílů přirozené evolu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římo- vznikají technickou konstrukcí, umělým spojením relativně jednodušších stavebních dílů evolu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8:30:40Z</dcterms:created>
  <dc:creator>SKupcik</dc:creator>
  <dc:description/>
  <dc:language>en-US</dc:language>
  <cp:lastModifiedBy>CIKT</cp:lastModifiedBy>
  <dcterms:modified xsi:type="dcterms:W3CDTF">2007-10-02T10:15:26Z</dcterms:modified>
  <cp:revision>4</cp:revision>
  <dc:subject/>
  <dc:title>Přirozená a kulturní evoluce </dc:title>
</cp:coreProperties>
</file>