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78F1-6585-44A7-B9D1-39BDF6E0E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56CC-0E17-49DD-84C8-6009FE6EA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21D1-7117-4D09-9F42-746A05CE4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E781-BDDB-45AD-9A69-C0FB91A4B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ADE1-4C77-4820-970C-2D80C2B9A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04D4-C389-4054-90CB-AE4006461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4E9C-523D-4D7F-AF7E-8CC8F18CC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CCAF-68E4-4BE2-80AD-17F3EEC10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E70C-4A81-4894-A4B9-2955FAE0B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05DD-3310-4345-8771-B1E43677A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15F6-9794-41D8-ADBF-D8414DA6E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3D5E-2D63-47C7-BF16-280D7BD58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80E8A-1AA6-4107-988A-034CF8AAF5B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26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c08d"/>
                </a:solidFill>
                <a:latin typeface="Arial"/>
              </a:rPr>
              <a:t>Evoluce systémů pohledem kybernetiky</a:t>
            </a:r>
            <a:endParaRPr b="0" lang="en-US" sz="5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26920" y="5300280"/>
            <a:ext cx="640080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Kristová Da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Polakovičová Luci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Žítková Barbo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Druhý zákon termodynamiky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rigoginova vědecká práce se snaží o vysvětlení mikroskopických a makroskopických aspektů tohoto záko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Entropie stále ros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Entropie – míra neuspořádanosti systém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Zabývá se uplatněním tohoto zákona v izolovaných a otevřených systéme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Model stroje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 minulosti základní paradigma vě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 pojetí Prigogina je pro společenské vědy stále základním model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Stabilita, řád, rovnováh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Model organismu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zhodující prostředky – informace a inov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matek, nestálost, různorodost, nerovnováha, nelineární vztah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Teorie změny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olečenské systémy jsou systémy otevřeným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 třeba je začít chápat jinak než na základě mechanik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 těchto systémech existující struktury vystavené náhodným fluktuacím 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&gt;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nerovnováha 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&gt;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při působení pozitivních zpětných vazeb jsou odchylky zvětšovány 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&gt;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ůže vzniknout nová uspořádanost a nové struktu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Bifurkační bod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Bod zvratu na vývojové lini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V důsledku nerovnováhy negativních a pozitivních zpětných vazeb dojde k rozdělení trajektorie vývoje původní kvality v několik nových struktur, které se kvalitativně měn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Není možné předvídat, jak se bude systém měn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Může se dostat do vyšší úrovně uspořádán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odle Prigogina může řád vzniknout z chaosu samouspořádávání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Čas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měna v chápání času po formulaci druhé věty termodynamik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Čas je nevratn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vratné děje jsou zdrojem řád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dfc08d"/>
                </a:solidFill>
                <a:latin typeface="Arial"/>
              </a:rPr>
              <a:t>Přínos Prigoginova díla pro management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nímání managementu v širších souvisloste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zby podniku na lidský kapitál, ostatní zdroj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liv techniky na rozvoj řízení – internet, mobilní telefon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Evoluce v managementu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řídají se období stabilního vývoje se zrychlenou evoluc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zdalování systému od rovnováhy vede k růstu fluktuací a k entropi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echod do nové vývojové fáze má charakter skoku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i fázového 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echodu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k němuž dochází bifurkací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dfc08d"/>
                </a:solidFill>
                <a:latin typeface="Arial"/>
              </a:rPr>
              <a:t>Využití těchto poznatků v praxi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V podniku se nachází jak otevřené, tak i uzavřené systémy        je důležité umět řídit ob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Na živé systémy se nedají aplikovat principy jako na neživé systém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284720" y="2421000"/>
            <a:ext cx="647640" cy="0"/>
          </a:xfrm>
          <a:prstGeom prst="line">
            <a:avLst/>
          </a:prstGeom>
          <a:ln w="9360">
            <a:solidFill>
              <a:srgbClr val="523e2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284720" y="2276640"/>
            <a:ext cx="718920" cy="287280"/>
          </a:xfrm>
          <a:prstGeom prst="rightArrow">
            <a:avLst>
              <a:gd name="adj1" fmla="val 50000"/>
              <a:gd name="adj2" fmla="val 62563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dfc08d"/>
                </a:solidFill>
                <a:latin typeface="Arial"/>
              </a:rPr>
              <a:t>Uzavřený systém: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68000" y="1484280"/>
            <a:ext cx="806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 u="sng">
                <a:solidFill>
                  <a:srgbClr val="ffffff"/>
                </a:solidFill>
                <a:uFillTx/>
                <a:latin typeface="Arial"/>
              </a:rPr>
              <a:t>Uzavřený systém</a:t>
            </a:r>
            <a:r>
              <a:rPr b="0" lang="sk-SK" sz="2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(zákony termodynamik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 u="sng">
                <a:solidFill>
                  <a:srgbClr val="ffffff"/>
                </a:solidFill>
                <a:uFillTx/>
                <a:latin typeface="Arial"/>
              </a:rPr>
              <a:t>Energie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 vnitřního prostředí je </a:t>
            </a:r>
            <a:r>
              <a:rPr b="0" lang="sk-SK" sz="2400" spc="-1" strike="noStrike" u="sng">
                <a:solidFill>
                  <a:srgbClr val="ffffff"/>
                </a:solidFill>
                <a:uFillTx/>
                <a:latin typeface="Arial"/>
              </a:rPr>
              <a:t>konstantn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 u="sng">
                <a:solidFill>
                  <a:srgbClr val="ffffff"/>
                </a:solidFill>
                <a:uFillTx/>
                <a:latin typeface="Arial"/>
              </a:rPr>
              <a:t>Entropie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vnitřního prostředí pouze ros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Končí dosáhnutím</a:t>
            </a:r>
            <a:r>
              <a:rPr b="0" lang="sk-SK" sz="2400" spc="-1" strike="noStrike" u="sng">
                <a:solidFill>
                  <a:srgbClr val="ffffff"/>
                </a:solidFill>
                <a:uFillTx/>
                <a:latin typeface="Arial"/>
              </a:rPr>
              <a:t> entropické 1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 = záni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c08d"/>
                </a:solidFill>
                <a:latin typeface="Arial"/>
              </a:rPr>
              <a:t>Kybernetika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zásadní objev 20. století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zakladatel Norbert Wiener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informace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systémový přístup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svět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– řízený systém, cí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v neřízeném systému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– roste informační entropi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dfc08d"/>
                </a:solidFill>
                <a:latin typeface="Arial"/>
              </a:rPr>
              <a:t>Otevřený systém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 u="sng">
                <a:solidFill>
                  <a:srgbClr val="ffffff"/>
                </a:solidFill>
                <a:uFillTx/>
                <a:latin typeface="Arial"/>
              </a:rPr>
              <a:t>Otevřený systém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(poznatky I. Prigogin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Musí </a:t>
            </a:r>
            <a:r>
              <a:rPr b="0" lang="sk-SK" sz="2400" spc="-1" strike="noStrike" u="sng">
                <a:solidFill>
                  <a:srgbClr val="ffffff"/>
                </a:solidFill>
                <a:uFillTx/>
                <a:latin typeface="Arial"/>
              </a:rPr>
              <a:t>získávat energii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 z vnějšího prostřed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Musí </a:t>
            </a:r>
            <a:r>
              <a:rPr b="0" lang="sk-SK" sz="2400" spc="-1" strike="noStrike" u="sng">
                <a:solidFill>
                  <a:srgbClr val="ffffff"/>
                </a:solidFill>
                <a:uFillTx/>
                <a:latin typeface="Arial"/>
              </a:rPr>
              <a:t>vypuzovat entropii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 do vnějšího prostřed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Vize všeho živého je dosáhnout </a:t>
            </a:r>
            <a:r>
              <a:rPr b="0" lang="sk-SK" sz="2400" spc="-1" strike="noStrike" u="sng">
                <a:solidFill>
                  <a:srgbClr val="ffffff"/>
                </a:solidFill>
                <a:uFillTx/>
                <a:latin typeface="Arial"/>
              </a:rPr>
              <a:t>entropickou 0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 = stav dokonalost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284720" y="4724280"/>
            <a:ext cx="1727280" cy="15843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048120" y="334800"/>
            <a:ext cx="274320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152280"/>
            <a:ext cx="9144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3494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fc08d"/>
                </a:solidFill>
                <a:latin typeface="Arial"/>
              </a:rPr>
              <a:t>KMT – KOPČAJOV  MANAŽÉRSKY  TROJUHELNÍK</a:t>
            </a:r>
            <a:r>
              <a:rPr b="0" lang="sk-SK" sz="4400" spc="-1" strike="noStrike">
                <a:solidFill>
                  <a:srgbClr val="dfc08d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908000" y="1341360"/>
            <a:ext cx="2362320" cy="3657600"/>
          </a:xfrm>
          <a:prstGeom prst="triangle">
            <a:avLst>
              <a:gd name="adj" fmla="val 50000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1800" y="4221000"/>
            <a:ext cx="137412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E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ffffff"/>
                </a:solidFill>
                <a:latin typeface="Arial"/>
              </a:rPr>
              <a:t>Ekonomick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ffffff"/>
                </a:solidFill>
                <a:latin typeface="Arial"/>
              </a:rPr>
              <a:t>Úspěšnos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ffffff"/>
                </a:solidFill>
                <a:latin typeface="Arial"/>
              </a:rPr>
              <a:t>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ffffff"/>
                </a:solidFill>
                <a:latin typeface="Arial"/>
              </a:rPr>
              <a:t>Zákazní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719240" y="4221000"/>
            <a:ext cx="1271880" cy="19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PÚ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ffffff"/>
                </a:solidFill>
                <a:latin typeface="Arial"/>
              </a:rPr>
              <a:t>Potenciál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ffffff"/>
                </a:solidFill>
                <a:latin typeface="Arial"/>
              </a:rPr>
              <a:t>Úspěšnost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ffffff"/>
                </a:solidFill>
                <a:latin typeface="Arial"/>
              </a:rPr>
              <a:t>Entrop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ffffff"/>
                </a:solidFill>
                <a:latin typeface="Arial"/>
              </a:rPr>
              <a:t>Já,M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637800" y="765000"/>
            <a:ext cx="1215360" cy="19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Č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ffffff"/>
                </a:solidFill>
                <a:latin typeface="Arial"/>
              </a:rPr>
              <a:t>Časov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ffffff"/>
                </a:solidFill>
                <a:latin typeface="Arial"/>
              </a:rPr>
              <a:t>Úspěšnos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ffffff"/>
                </a:solidFill>
                <a:latin typeface="Arial"/>
              </a:rPr>
              <a:t>Č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ffffff"/>
                </a:solidFill>
                <a:latin typeface="Arial"/>
              </a:rPr>
              <a:t>Konkur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916360" y="1197000"/>
            <a:ext cx="304560" cy="30492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067280" y="4797360"/>
            <a:ext cx="304560" cy="30492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763640" y="4797360"/>
            <a:ext cx="304920" cy="304920"/>
          </a:xfrm>
          <a:prstGeom prst="ellipse">
            <a:avLst/>
          </a:prstGeom>
          <a:solidFill>
            <a:srgbClr val="6666ff"/>
          </a:soli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79640" y="5084640"/>
            <a:ext cx="2089080" cy="1079640"/>
          </a:xfrm>
          <a:prstGeom prst="leftArrow">
            <a:avLst>
              <a:gd name="adj1" fmla="val 50000"/>
              <a:gd name="adj2" fmla="val 48374"/>
            </a:avLst>
          </a:prstGeom>
          <a:solidFill>
            <a:srgbClr val="33cc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 Black"/>
              </a:rPr>
              <a:t>Prá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rot="4375200">
            <a:off x="3485880" y="3002040"/>
            <a:ext cx="1720800" cy="1133280"/>
          </a:xfrm>
          <a:prstGeom prst="leftArrow">
            <a:avLst>
              <a:gd name="adj1" fmla="val 50000"/>
              <a:gd name="adj2" fmla="val 37961"/>
            </a:avLst>
          </a:prstGeom>
          <a:solidFill>
            <a:srgbClr val="33cc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rot="4373400">
            <a:off x="3619080" y="344304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 Black"/>
              </a:rPr>
              <a:t>Změn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207760" y="335772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 Black"/>
              </a:rPr>
              <a:t>Chci - ta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695680" y="6021360"/>
            <a:ext cx="193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 Black"/>
              </a:rPr>
              <a:t>Musím - tla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49880" y="2781360"/>
            <a:ext cx="171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 Black"/>
              </a:rPr>
              <a:t>Regulace 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 Black"/>
              </a:rPr>
              <a:t>harmon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dfc08d"/>
                </a:solidFill>
                <a:latin typeface="Arial"/>
              </a:rPr>
              <a:t>Ing. Andrej Kopčaj CSc.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Vytvořte a využívejte vizi entropické nuly jako jádra podnikové ideologi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3200" spc="-1" strike="noStrike" u="sng">
                <a:solidFill>
                  <a:srgbClr val="ffffff"/>
                </a:solidFill>
                <a:uFillTx/>
                <a:latin typeface="Arial"/>
              </a:rPr>
              <a:t>Vize podniku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Maximalizace energ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Minimalizace entrop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Dlouhodobá prosperita podniku - č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dfc08d"/>
                </a:solidFill>
                <a:latin typeface="Arial"/>
              </a:rPr>
              <a:t>Spirálový management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šichni toužíme být úspěšnými. Je to báječný  stav, v němž by všechny tři cíle naší touhy, tj. jištění, kvalita i délka naší existence rostly v harmonicky se rozvíjející spirále života            využití přírodních zákonitostí, abychom dosáhli to co potřebujeme (chceme) s co nejmenší vynaloženou energi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708360" y="3716280"/>
            <a:ext cx="792360" cy="360360"/>
          </a:xfrm>
          <a:prstGeom prst="rightArrow">
            <a:avLst>
              <a:gd name="adj1" fmla="val 50000"/>
              <a:gd name="adj2" fmla="val 5497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c08d"/>
                </a:solidFill>
                <a:latin typeface="Arial"/>
              </a:rPr>
              <a:t>Kybernetika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chnické věd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 Biologické věd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 Společenské vě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arale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13280" y="36655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c08d"/>
                </a:solidFill>
                <a:latin typeface="Arial"/>
              </a:rPr>
              <a:t>Modelu stroje</a:t>
            </a: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chanism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elek je sumou částí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unguje i pozpátk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existuj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ktor času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vyvíjí 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c08d"/>
                </a:solidFill>
                <a:latin typeface="Arial"/>
              </a:rPr>
              <a:t>Model organismu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živý, nemůžeme ho plně analyzov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může být rozebrán a zase slož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aždá čás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á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zaměnitelnou funkc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 čase se vyvíj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c08d"/>
                </a:solidFill>
                <a:latin typeface="Arial"/>
              </a:rPr>
              <a:t>Systémový přístup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nalogie se stroje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nalogie s živým organisme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c08d"/>
                </a:solidFill>
                <a:latin typeface="Arial"/>
              </a:rPr>
              <a:t>Manažer</a:t>
            </a:r>
            <a:r>
              <a:rPr b="0" lang="en-US" sz="4000" spc="-1" strike="noStrike">
                <a:solidFill>
                  <a:srgbClr val="dfc08d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dfc08d"/>
                </a:solidFill>
                <a:latin typeface="Arial"/>
              </a:rPr>
              <a:t>- pohled na svět v širších souvislostech</a:t>
            </a:r>
            <a:endParaRPr b="0" lang="en-US" sz="40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konomik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→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stém otevřený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roj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stém izolovan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dfc08d"/>
                </a:solidFill>
                <a:latin typeface="Arial"/>
              </a:rPr>
              <a:t>Ilya Prigogine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emik a fyzi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Za své práce v oblasti termodynamiky nerovnovážných systémů dostal Nobelovu cen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Zabýval se i statistickou fyzikou a teorií disipativních struktu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image908" descr=""/>
          <p:cNvPicPr/>
          <p:nvPr/>
        </p:nvPicPr>
        <p:blipFill>
          <a:blip r:embed="rId1"/>
          <a:stretch/>
        </p:blipFill>
        <p:spPr>
          <a:xfrm>
            <a:off x="876240" y="1600200"/>
            <a:ext cx="3198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Řád z chaosu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Spolupracoval s Isabelle Stengersovo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řínos – začal pracovat s otevřenými systémy (klasická termodynamika procovala pouze s izolovanými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Nový přístup k vědě – pohled na vědu v širších souvisloste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9T12:32:31Z</dcterms:created>
  <dc:creator>.</dc:creator>
  <dc:description/>
  <dc:language>en-US</dc:language>
  <cp:lastModifiedBy>Krist</cp:lastModifiedBy>
  <dcterms:modified xsi:type="dcterms:W3CDTF">2007-09-30T13:46:48Z</dcterms:modified>
  <cp:revision>19</cp:revision>
  <dc:subject/>
  <dc:title>Evoluce systémů pohledem kybernetiky</dc:title>
</cp:coreProperties>
</file>