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67B1-F530-4BC9-85B9-8E45292AD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93A3-24A7-4F96-83DA-7C7E8823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9350-A3E2-45F5-8800-EF24E72A1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456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140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456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140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73B3-6E00-49F7-BAED-6E3E0518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78B1-A067-4E58-9AD6-DC4C6AF4A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8FA5-9745-487A-9F50-3869801C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CF40-8990-4B10-AA91-314828AB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DA68-95FB-4A76-AEED-503C844B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11F4D-1A8E-472C-8964-833CC69C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3000"/>
            <a:ext cx="8383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B17E-0300-4DA1-B5FE-5BF1D45E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024B-1F32-43F9-95FB-A1831F9B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A673-2481-43B1-BEDB-1A0EFA2B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C698-EDE0-4E65-8DFA-04900D4C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A4DD-BEF6-4E7B-9FEA-17967AFA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31C8-C854-415F-80D4-DF89B628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5C91-E418-472E-B0ED-10830DAF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456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140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456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140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9EB6-ACC1-4BEF-97FA-296257EFD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D43D-057A-4FCB-A035-485574CF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C0DC-CEF9-458D-AD14-4E090A3F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BD9D-FF51-4510-8B02-7BEE84A8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3000"/>
            <a:ext cx="8383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25E5-C9F5-4076-BBAD-3ED5C822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F0BA-2BFA-40BF-9159-8520E12E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F756-A5BB-4CA6-8AF7-1BAADFE8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8D29-B020-4E92-87F9-5FDFDC8A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3240" cy="5027760"/>
            <a:chOff x="318960" y="1828800"/>
            <a:chExt cx="8823240" cy="5027760"/>
          </a:xfrm>
        </p:grpSpPr>
        <p:sp>
          <p:nvSpPr>
            <p:cNvPr id="1" name=""/>
            <p:cNvSpPr/>
            <p:nvPr/>
          </p:nvSpPr>
          <p:spPr>
            <a:xfrm>
              <a:off x="837720" y="4617000"/>
              <a:ext cx="8304480" cy="223920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000" y="1828800"/>
              <a:ext cx="8809200" cy="502776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7720" y="4653360"/>
              <a:ext cx="8304480" cy="220284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7720" y="1828800"/>
              <a:ext cx="7312320" cy="4572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7720" y="1828800"/>
              <a:ext cx="45720" cy="283248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280" y="4609080"/>
              <a:ext cx="45720" cy="224712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09080"/>
              <a:ext cx="4569480" cy="4572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09080"/>
              <a:ext cx="47520" cy="224712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4875D6-638E-447F-8EA8-A5B77BDDCB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3240" cy="5127480"/>
            <a:chOff x="318960" y="1752480"/>
            <a:chExt cx="8823240" cy="5127480"/>
          </a:xfrm>
        </p:grpSpPr>
        <p:sp>
          <p:nvSpPr>
            <p:cNvPr id="51" name=""/>
            <p:cNvSpPr/>
            <p:nvPr/>
          </p:nvSpPr>
          <p:spPr>
            <a:xfrm>
              <a:off x="333000" y="1752480"/>
              <a:ext cx="8809200" cy="510408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7720" y="3809160"/>
              <a:ext cx="8304480" cy="304704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2800"/>
              <a:ext cx="5483880" cy="4572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7720" y="1752480"/>
              <a:ext cx="7768080" cy="4572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2800"/>
              <a:ext cx="47520" cy="310716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7720" y="1752480"/>
              <a:ext cx="45720" cy="511848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904760"/>
            <a:ext cx="777060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720" y="6245280"/>
            <a:ext cx="19000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24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7CFE1A2-B968-4202-AC04-1B0F7D2B8E28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Přirozená a kulturní evoluc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640" y="3933720"/>
            <a:ext cx="76327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dřej Sadíl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deněk Stra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10.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3213000"/>
            <a:ext cx="369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ypracoval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512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ulturní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8192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8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ystém kultu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826560" y="2924280"/>
            <a:ext cx="792036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79720" indent="-279720">
              <a:lnSpc>
                <a:spcPct val="98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ytváří své struktur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07680" indent="-232560">
              <a:lnSpc>
                <a:spcPct val="97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římo – technickou konstrukcí(spotřební předměty, nástroje,dopravní sítě,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7680" indent="0">
              <a:lnSpc>
                <a:spcPct val="97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7680" indent="-232560">
              <a:lnSpc>
                <a:spcPct val="97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přímo – informačně nepředepsané, spontánní(jazyk, trh,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Postavení člověk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Existují 2 systémy – přírodní ekosystém a kulturní systé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Člověk je součástí obou systémů, ale podřazené postavení má pouze vůči přírodním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ffffb7"/>
                </a:solidFill>
                <a:latin typeface="Arial Black"/>
              </a:rPr>
              <a:t>Konflikt přírody a kultur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Expanze kultury jen na úkor již existující přír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enos informace je kvalitativně odlišn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(DNA x jazyk,písm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42920" y="4797360"/>
            <a:ext cx="810108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Pokud kultura překročí určitou mez, pak příroda změní svou strategii: Nebude se bránit silou, ale svou slabostí, zranitelností a nerovnováho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iteratu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2060640"/>
            <a:ext cx="830592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ŠMAJS, J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rama evolu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Praha: Hynek, 2000. ISBN: 80-86202-77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ŠMAJS,J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ilosofie psaná kurzívou:rozhlasové ekologické eseje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rno: Doplněk, 2003. ISBN 80-7239-152-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ozrazil On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www.vetrnemlyny.cz/rozrazil/online/clanek.php?clanek_id=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ffffb7"/>
                </a:solidFill>
                <a:latin typeface="Arial Black"/>
              </a:rPr>
              <a:t>Děkujeme za pozornos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stor pro vaše dotaz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bsah prezent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vol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řirozená evol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ulturní evol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tavení člověka vůči systému přírody a kul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nflikt kultury a přír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560" y="2276280"/>
            <a:ext cx="80074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„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éměř nikdo dnes neví, že vedle evoluce biotické existuje také starší evoluce abiotická a že také člověk zažehl evoluci, zvláštní protipřírodní evoluci kulturní. 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88000" y="48164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f. Josef Šma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9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 směřující proti přirozené entrop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tváří struktury, systémy a uspořáda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 nahodilý a konstitutiv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oluce přirozená – biotická X abiotick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oluce kulturní - lid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řirozená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8305920" cy="49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ositelem je příro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zniká se vznikem vesmí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voluce a její změny probíhají v dlouhých časových periodá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řídání pomalých fází a evolučních skok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od velkého třesku k biologickému třesk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řirozená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likož evoluce vystupuje proti entropii, vyžaduje nutně určitou energetickou podpor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oluce se jakoby „naslepo“ snaží o maximální využití prostředků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ětšina energetické „výživy“ je spotřebována na udržení fungování a reprodukci biotického systém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38512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ulturní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800748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8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esrovnatelně mladší a v podřazeném postavení vůči přírod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sitelem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j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člověk, resp. společenství lid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ces namířený proti entropii, ale také proti evolučně starší přírod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ýsledkem cílevědomé i spontánní aktivity člověka je kult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512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ulturní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8192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8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Kultu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00000" y="2662200"/>
            <a:ext cx="7920000" cy="389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8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ložitý a rozsáhlý umělý systém, který se v rovnovážné biosféře vyznačuje svou vlastní nebiologickou integritou a sebestrukturac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8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bsystém přírody,který je vůči přírodě v opozici a je na ní závisl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512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ulturní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8192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8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Kultu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00000" y="2662200"/>
            <a:ext cx="792000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7680" indent="-337680">
              <a:lnSpc>
                <a:spcPct val="98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ka - předměty z abiotických a biotických systém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97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ultivované organismy – rostliny, zvířata, člově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97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ultivované přirozené systémy – krajina, resp. její čá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97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ševní a duchovní kult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ndřej Sadílek</dc:creator>
  <dc:description/>
  <dc:language>en-US</dc:language>
  <cp:lastModifiedBy>Ondřej Částek</cp:lastModifiedBy>
  <dcterms:modified xsi:type="dcterms:W3CDTF">2007-10-02T11:40:20Z</dcterms:modified>
  <cp:revision>9</cp:revision>
  <dc:subject/>
  <dc:title>Přirozená a kulturní evoluce</dc:title>
</cp:coreProperties>
</file>