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FCA-1748-40E8-A10D-775949EB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6B1-68C5-42A8-A945-E5D996F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EE4-A386-4AE5-868F-CC031AFC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61E-BA2B-4259-8E50-9FC14144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227-B13B-4966-99DB-6C05FBE9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586-B1B8-4615-B263-F99E1C7E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ECB-F444-43DC-A8A3-977AABC1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FB6D-F348-46BC-BB15-CD3F91F4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7C76-22C9-4D67-973D-1746264A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FFB-CFA0-41FA-A4A4-C059CAB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043-8AA1-4D66-86D9-250C9A1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7D0-A4A5-4204-8C08-C9D1189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6AE2-0164-40CF-8EE7-AFCDDED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F9A-59F9-4421-AF6B-0D7ED03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A4EC-D129-45DD-A8EB-823132F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8FCC-3077-41F0-9354-341B4760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F03C-7B4D-49BB-9C8E-83745649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309-DE62-4440-A368-1BD813B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5FF-D574-4C07-8D70-4739E300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A87-C83C-4500-8859-51F2568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7D8-C1EA-43A0-AF7D-F191E04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43D-2056-414A-954C-B58CD63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BA6-5D97-472C-86F2-0DF0361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B0C-2313-4255-8ADE-B95002D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42C-CD77-421C-B38F-5F9646423A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399-B790-4D19-AFAE-D45BB63D40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Instinkty, rozum a rozšířený řád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aniela Kroup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Opě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Zavadilov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íklady z histor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eck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ální tradice, soukromé vlastnictv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arťan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í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kromé práv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Čín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krok během oslabení vládní kontro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gyp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á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zozemí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g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 další…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413000"/>
            <a:ext cx="2519280" cy="12952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ti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ných vlá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yvozené závě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hrana odděleného vlastnictví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ozvoj směny služe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tváření rozšířené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e není vlastnictví, není spravedlnos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348000" y="1773000"/>
            <a:ext cx="1295280" cy="431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1268280"/>
            <a:ext cx="4176720" cy="1656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neužívání mo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omezování svobo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á spontánní povahu =&gt; ne racionalit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měrné organizace v rámci makrořádu jsou také důležit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odí i vyžaduje oddělené vlastnictví, svobodu a spraved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bch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moc při osídlování nových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solidarity a kolektivismu mal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é praktiky, ale vědomosti i cíle různ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kážka: vláda a vysoce organizovaný st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Útok na 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7. - 18. stol. – rozvoj konstruktiv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znání rozumu, neuznání trad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an-Jacques Rousse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volal po osvobození se od pravi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vlastnictv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talo podezřel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usseauovo myšlení – vliv na civilizaci až do 20. st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rálk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le Hayeka zahrnu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 zvláště instituce vlastnictví, svobody 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avedl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výtvorem rozumu, ale výsledkem kulturní evolu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 intelektuálů 20. stol. však převládal opačný náz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0. stole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3041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ládá vliv racionalismu, konstruktiv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 - morálka výtvorem lidského roz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chopnost akceptovat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dělaní začínají tíhnout k socialism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cques Mon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ohn Maynard Key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bert Einst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ff"/>
                </a:solidFill>
                <a:latin typeface="Tahoma"/>
              </a:rPr>
              <a:t>Základní pojmy myslitelů vzdělaných v duchu konstruktivismu</a:t>
            </a:r>
            <a:endParaRPr b="0" lang="en-US" sz="3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28440"/>
            <a:ext cx="77738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Racional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jatelné pouze víry založené na zkušenosti, deduktivním či induktivním rozumovém zdůvodň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Empi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á je ověřitelná zkuše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zitiv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n vědecké poznání je pravd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Utilita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itérium správnosti jednání je v potěšení a bolesti, jež působí člověku, který je jím ovlivně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chozí definice spojuje víra ve vědu a vyhlášení války morálním tradicí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jdeme tam i tyto předpokl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ržet se toho, co lze vědecky zdůvodni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dodržovat to, co nechápe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sledovat urč. směr, pokud předem plně nespecifikujeme jeho cí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ělat nic, pokud předem neznáme účinky a neověříme, že jsou prospěšn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 a populační rů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kteří myslitelé 20. stol. tvrdí, že hrozbou pro rozšířený řád je populační rů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ayek naopak tvrdí, že je to socialismus. Tato náhrada tržního řádu nemůže lidstvo uživi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ticky dědě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lé skupiny a tlup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lidarita a altruism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lečné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Co chtěl Hayek knihou říci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kázat, že původ naší civilizace i její chování závisí na rozšířeném řádu lidské spolupráce (RŘ), tedy kapital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Ř není výsledkem lidského plánu, ale vznikl spontánně, díky nezamýšlenému přijetí mravních prak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é se mýlili, když tvrdili, že centrálně řízená společnost přinese větší bohat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mus ohrožuje životní úroveň i sám život naší popu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Osudná domýšliv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Právo, zákonodárství 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svoboda (Pravidla a řá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ttp://www.phil.muni.cz/fil/etika/texty/studenti/pacner5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Děkujeme za pozornost!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šířený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(spontánní)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é návyky (učení se tradici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elké množství neznámých li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ecná pravidla chování (morál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ividuální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por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ů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a morál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41000"/>
            <a:ext cx="40384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INK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roze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řád malých skupin (rod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řeba konat dob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širší řád ohrožuj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19280" y="1341000"/>
            <a:ext cx="360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ÁL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če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mezené skupiny (rozšířený řá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tnost dodržovat pravid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 intimní skupiny nevhod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inec nerozumí fungování omezení, kterým se podřizuje a která mu zakazují jednat podle instinktů a zpravidla tato omezení nenáv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780000" y="177336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773360"/>
            <a:ext cx="115236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um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ý stejně jako morál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 výsledkem učení se tradi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stojí nad morálkou a tradicí, naopak morálka a tradice stojí mezi instinktem a rozumem jak logicky, psychologicky tak i časo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ologická a kulturní evolu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248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iologická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kce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ěd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mal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pinová sele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lastnosti získané uče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rovnatelně rychle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irozené x umělé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y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é = vzniklé nezávisle na lidské vů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mělé = vzniklé cílevědomou čin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evoluce je tedy přirozená (produkuje řád jako vedlejší produkt lidského koná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960000" y="2169000"/>
            <a:ext cx="1008000" cy="3527280"/>
          </a:xfrm>
          <a:custGeom>
            <a:avLst/>
            <a:gdLst>
              <a:gd name="textAreaLeft" fmla="*/ 157320 w 1008000"/>
              <a:gd name="textAreaRight" fmla="*/ 736920 w 1008000"/>
              <a:gd name="textAreaTop" fmla="*/ 947520 h 3527280"/>
              <a:gd name="textAreaBottom" fmla="*/ 2579760 h 3527280"/>
            </a:gdLst>
            <a:ahLst/>
            <a:rect l="textAreaLeft" t="textAreaTop" r="textAreaRight" b="textAreaBottom"/>
            <a:pathLst>
              <a:path w="21600" h="21600">
                <a:moveTo>
                  <a:pt x="3375" y="5803"/>
                </a:moveTo>
                <a:lnTo>
                  <a:pt x="9039" y="5803"/>
                </a:lnTo>
                <a:lnTo>
                  <a:pt x="9039" y="0"/>
                </a:lnTo>
                <a:lnTo>
                  <a:pt x="21600" y="10800"/>
                </a:lnTo>
                <a:lnTo>
                  <a:pt x="9039" y="21600"/>
                </a:lnTo>
                <a:lnTo>
                  <a:pt x="9039" y="15797"/>
                </a:lnTo>
                <a:lnTo>
                  <a:pt x="3375" y="15797"/>
                </a:lnTo>
                <a:close/>
              </a:path>
              <a:path w="21600" h="21600">
                <a:moveTo>
                  <a:pt x="0" y="5803"/>
                </a:moveTo>
                <a:lnTo>
                  <a:pt x="675" y="5803"/>
                </a:lnTo>
                <a:lnTo>
                  <a:pt x="675" y="15797"/>
                </a:lnTo>
                <a:lnTo>
                  <a:pt x="0" y="15797"/>
                </a:lnTo>
                <a:close/>
              </a:path>
              <a:path w="21600" h="21600">
                <a:moveTo>
                  <a:pt x="1350" y="5803"/>
                </a:moveTo>
                <a:lnTo>
                  <a:pt x="2700" y="5803"/>
                </a:lnTo>
                <a:lnTo>
                  <a:pt x="2700" y="15797"/>
                </a:lnTo>
                <a:lnTo>
                  <a:pt x="1350" y="15797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voboda, vlastnictví, spravedlnos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álka a tradice                 hlavní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iv inteligence a kalkulující roz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ád               soukromé zámě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ělené vlastnictví                 svob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á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1773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328464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35772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860640"/>
            <a:ext cx="1297080" cy="28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4104360" y="4543560"/>
            <a:ext cx="934920" cy="1873440"/>
          </a:xfrm>
          <a:custGeom>
            <a:avLst/>
            <a:gdLst>
              <a:gd name="textAreaLeft" fmla="*/ 92520 w 934920"/>
              <a:gd name="textAreaRight" fmla="*/ 842400 w 934920"/>
              <a:gd name="textAreaTop" fmla="*/ 609480 h 1873440"/>
              <a:gd name="textAreaBottom" fmla="*/ 126396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7028"/>
                </a:moveTo>
                <a:lnTo>
                  <a:pt x="15475" y="7028"/>
                </a:lnTo>
                <a:lnTo>
                  <a:pt x="15475" y="0"/>
                </a:lnTo>
                <a:lnTo>
                  <a:pt x="21600" y="10800"/>
                </a:lnTo>
                <a:lnTo>
                  <a:pt x="15475" y="21600"/>
                </a:lnTo>
                <a:lnTo>
                  <a:pt x="15475" y="14572"/>
                </a:lnTo>
                <a:lnTo>
                  <a:pt x="0" y="14572"/>
                </a:lnTo>
                <a:lnTo>
                  <a:pt x="2139" y="10800"/>
                </a:lnTo>
                <a:lnTo>
                  <a:pt x="0" y="7028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319640" y="297000"/>
            <a:ext cx="503280" cy="864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ffff"/>
                </a:solidFill>
                <a:latin typeface="Tahoma"/>
              </a:rPr>
              <a:t>Friedrich A. Hayek: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řece se jaksi, byť pomalu a s řadou nezdarů, rozšiřovala uspořádaná kooperace větších společenství a společné konkrétní cíle byly nahrazovány obecnými, na cíli nezávislými abstraktními pravidly jednání.“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5:03:48Z</dcterms:created>
  <dc:creator>Danka</dc:creator>
  <dc:description/>
  <dc:language>en-US</dc:language>
  <cp:lastModifiedBy>Zuzka</cp:lastModifiedBy>
  <dcterms:modified xsi:type="dcterms:W3CDTF">2007-10-08T20:36:50Z</dcterms:modified>
  <cp:revision>13</cp:revision>
  <dc:subject/>
  <dc:title>Instinkty, rozum a rozšířený řád</dc:title>
</cp:coreProperties>
</file>