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C5E-C35C-4B10-9C14-DE4A0340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27F-771C-4186-9602-C445D2A0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FBD-6024-40B5-A10C-694CE66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EAF-5AA4-4106-AE2A-2DCF3C32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37C3-005F-4E4F-A16B-4DE3125B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DE4E-D110-4E08-922E-2DF2F21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A6FE-AF49-4D4E-9157-987DB99F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CF7D-0036-4873-BB37-D154E9D3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B422-BA7B-445B-9726-4EC8474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4C1-3C9D-4EA6-9ADD-0BE6ADA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0AA5-36C5-47F0-B43A-6D66DE8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966-DFE1-4AD1-99E6-26E6988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3E79-471A-44B7-9973-197EA5A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A4EA-6BAB-4D99-8B6E-485B05D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084-9DA6-41A0-8B54-87A15A7F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06AA-38F3-4412-9E4C-1A7A2ED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A6E-1492-4099-B520-0BC60592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08A-29DC-4FC9-A66F-8D04E86D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C81-F8CA-497D-88F4-5D8134F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04A-A9E0-49DA-B838-70BADC04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5E9-09E9-403D-942E-FEDF4F0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9EA-D2EC-4088-A372-AFB65B8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924-EF34-4458-9617-2522D2C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6BB-0C2D-4087-9F69-C0A41836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5A2-E1BB-41BF-BB14-A270B2F2E3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6E0-AEF7-4AB8-BAA4-3565528989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irozený a uměl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ulie Hrazdi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itka Kubíčk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va Pospě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9.10.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F.A.Hayek, Právo, zákonodárství a svoboda, I.díl (Pravidla a řá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laby-management I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jem „řá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zory na vý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(end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(ex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ganizace a vlá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řádu a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rba přirozeného řá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jem „řád“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tav věcí, v němž se velký počet prvků různých druhů má k sobě navzájem tak, že znalost nějaké prostorové nebo časové části celku nám umožňuje vytvářet správná očekávání, která mají dobrou pravděpodobnost, že se ukáží jako správná.“   F.A.Hayek, Právo, zákonodárství a svoboda (I.dí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ázory na vývoj společn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1.- instituce musí být tvořeny za jistým účel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jednání vedeno těmito účel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jedná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íroda jako omezení přirozeného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2.- nejen účelové vytvoření, ale rovněž evoluc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ostupy nejprve jiný účel, nebo náhoda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vytváře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rozšíření jako důsledek neuvědomělé lidské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Člověk jako tvůrce přirozeného řád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ontánní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z vědomého vytvoř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dogenní= síly uvnitř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yberne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kýkoli možný stupeň složit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měna jednotlivých prvků nebo jejich počtu, ale zachování strukt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ytvořen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vědoměle vznikl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ogenní= síly vně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daná x pravidla vytvořená (práv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ganizace a vlá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koord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láda- zvláštní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ucovací fun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kytování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vidla řádu a organiz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žná koexistence, ale ne různé komb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nalosti jednotlivců x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x příka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– pravidla abstrak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– příkazy konkré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ůžeme doplnit příkazy, ale nikdy ne pravid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vorba přirozeného řád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dé vykazují jisté chování k dosažení cí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akce s druhý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nání v souladu s pravidly= úspě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sledný roz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prve zvyky, obyčeje, obřady, rituály, až posléze písemná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8:40:44Z</dcterms:created>
  <dc:creator>CIKT</dc:creator>
  <dc:description/>
  <dc:language>en-US</dc:language>
  <cp:lastModifiedBy>CIKT</cp:lastModifiedBy>
  <dcterms:modified xsi:type="dcterms:W3CDTF">2007-10-08T10:28:12Z</dcterms:modified>
  <cp:revision>4</cp:revision>
  <dc:subject/>
  <dc:title>Přirozený a umělý řád</dc:title>
</cp:coreProperties>
</file>