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CAC-8B1B-410D-9AAC-1DBEBEC3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679-2ABE-40A0-83FD-B62817A0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A3F-D84A-40EC-8966-000D47CD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FF6-5965-41E3-BEBF-CA01CF8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AB25-00FF-4769-ACA2-D27D4718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5E8-CCAC-4057-B598-3B1241E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FD9-6596-4082-B11A-0E9C07C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9495-9FF2-4268-9B75-690A483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C86-7EFC-44BB-B9DB-B4D1F706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53F-C221-4272-92EC-4932A6A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1B4-FD92-4DC1-B0B7-D4D7C80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47E-855F-40C8-B0EC-1915CEF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D166-4E90-49E9-A545-6AABB06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31E6-07F4-409A-977B-F5C5E44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4532-1F22-4C7F-A390-F83B741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119-9AE0-4DB7-A2E6-C857BBCA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466-D6B6-4A46-B1CD-FD220DA5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168-5127-4E26-8393-463BB5D8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942-685D-494C-8196-B7189CB7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635-C54E-4CD1-A287-4D059112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E93-377D-41D3-80A5-68BC6BD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7BD-600A-42C4-A76D-18C4FE1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024-EB48-433A-B3E3-A1EA698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6EF-1596-4CD4-8B60-28B1336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B29E-D5D9-4BB5-8FC8-1545EE4760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E793-5ECA-46C1-A795-F2BA347123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66"/>
                </a:solidFill>
                <a:latin typeface="Comic Sans MS"/>
              </a:rPr>
              <a:t>Přirozená a kulturní evoluce</a:t>
            </a:r>
            <a:endParaRPr b="0" lang="en-US" sz="6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Monika Pokorná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Chrást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Zajíc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A dn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oškozená a znečiště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naha o vytváření k přírodě šetrnějších technologií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ničím neohraničená spotřeba, honba za zis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imárně nezajišťujeme lidské přežití, přednost dostává úspěch, růst politické moci a bohatstv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míra paměti, produkt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gruje otevřené nelineární systémy (přirozené i uměl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ozlišuje skuteč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 našem pojetí je tento pojem blízký pojmům paměť, struktura (paměť v užším smyslu), uspořádanost (paměť v širším smysl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ruhy informac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irozená informace živých i neživých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yst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ul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Z hlediska původu,funkce a lokalizace uvnitř systému je informace dvojího druh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enetická (strukturn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la ve fylogenezi (=evoluce druh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ložena převážně v jádrech bun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pigenetická (sémantic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ytváří se v ontogenezi (=průběhu individuálního života jedin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a další jedince se přenáší nepří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ázán v různých molekulárních komplexech buněk (mimo jiné v strukturách vazeb nervových buně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séman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ískáme zkušenostmi, učen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Tzv. behavior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Ukládá se v centrální nervové soustavě (například v paměti člověk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vojí původ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99"/>
                </a:solidFill>
                <a:latin typeface="Comic Sans MS"/>
              </a:rPr>
              <a:t> rozdílná míra adekvátnosti vnějšímu světu,rozdílná funkce,způsob replikace i různé ukládání (genom X C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přirozená 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Apriorní struk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Míra objektivity vysok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Existuje jen jako bioticky vestavě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Jako DNA – struktura g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Mnohovrstevná struktura organismu – somatická, f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) Přirozená epi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ixuje se v centrální nervové soustavě a zaniká s příslušným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epigene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oplněk k apriorní genetické inform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tává se biologickým základem sémantické i strukturní i souciokul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émantická X struk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 vzniku kultury je mozek schopen ukládat 3 druhy informac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ůvodní přirozenou informaci sémantick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Sémantickou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arciální i obecnou strukturní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pojem – poprvé u M. Kusánského v dí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De docta ignorantia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(15.stol.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význam - pozvolný, průběžný vývoj (z lat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evolvere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= vyvíjet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proces, který z méně dokonale uspořá-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ých systémů vytvaří systémy uspořá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é dokonale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nepřetržitý rozvoj od nižšího k vyšším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typy evoluce (z hlediska nositele evoluční aktivity):</a:t>
            </a: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PŘIROZENÁ</a:t>
            </a:r>
            <a:r>
              <a:rPr b="0" lang="cs-CZ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cs-CZ" sz="4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KULTUR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ůvody nepostradatelnosti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dobu v přirozených ekosystémech nenacházíme, odlišnost umělých prvků kulturního ekosystému od spontánních výtvorů živé přír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šechny kulturní instituce jsou závislé na soudržnosti spolupracujících jedin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Obsah sociokulturní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yděluje se z přirozené informace epigenetické a strukturuje se na sémantickou a struk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Nebiotická sociokulturní informace – vznikaly selektivním způsobem (smysly,rozum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ruhová, vysoce stabilní, schopná replikace a seberepar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y mohla být programem ontogeneze, musí mít informace o organizační struktuře a kompatibilitě jeho těla s prostřed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sahuje strukturní konstitutivní informace – do níž se historická zkušenost druhu zapisuje pomocí nukleových kyselin </a:t>
            </a:r>
            <a:r>
              <a:rPr b="0" lang="en-US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nelze do ní vstupo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Uvnitř živých systémů není propojení mezi pamětí uvnitř buňky a v mozkových buň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epi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Šedá kůra moz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odpůrná, krátkodobá, nespojit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zniká i zaniká s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Sociokulturní pamě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vzniká z přirozené epigenetické pamě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na rozdíl od onticky spolehlivé genetické paměti  není dostatečně objek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0666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většiny živočichů převažuje fylogeneticky starší chemické kódování jako ukládání informa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člověka epigenetickou informaci přijímá a kóduje pomocí zraku a sluc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ymbolismus – jazykové zápis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ropřírodní a protipřírod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Drama evoluce. Praha : Hynek, 200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Konflikt přirozené a kulturní evoluce. Brno, 199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cs.wikipedia.org/wiki/</a:t>
            </a:r>
            <a:r>
              <a:rPr b="1" lang="cs-CZ" sz="3200" spc="-1" strike="noStrike">
                <a:solidFill>
                  <a:srgbClr val="ffffcc"/>
                </a:solidFill>
                <a:latin typeface="Comic Sans MS"/>
              </a:rPr>
              <a:t>Evolu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100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pontánní konstitutivní pro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vyšování přirozené uspořádanosti všech struktur svě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čátek před 10 až 15 miliardami let (tzv. velký třes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a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b) 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Comic Sans MS"/>
              </a:rPr>
              <a:t>A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formování vesmíru (atomy, molekuly, hvězdy, galaxi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esmír tvořen z ¼ z helia a ze ¾ z vodíku (dnes již nevzni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iotická evoluce Země (nerosty, hor-niny, reliéf krajiny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rmování života na Zemi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člov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lavním znakem je nerovnoměrnost (pomalé a rychlé evoluční fáz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voluce určována mnoha nahodilými faktory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výsledek neznámý, těžko předpověditeln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ladší než přírodní evoluce, navazuje na ni, ale není jejím přímým pokračová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íroda = „hardware“, kultura = „softwar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sitelem je člov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třeba respektovat přirozenou evoluci Země (hostitelský systém), ovšem na druhé straně také uznat evoluční tvořivost systému kultury, který je na přírodě závisl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še, co bylo vytvořeno, nebo přeměněno člově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výsledkem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á z přírody, má charakter „umělého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ákladem je vědomá i spontánní aktivita lid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echnika, kultivované organismy, kultivované systémy, duševní a duchovní kul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Comic Sans MS"/>
              </a:rPr>
              <a:t>Kultura jako samoorganizující se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člověk vytváří kulturu i nevědo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pontánní pův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ýsledek činnosti lidí, kdy se realizuje i to, co lidé nezamýšlejí, ale vyplývá to z logiky fungování systému jako celku (jazyk, trh, peníz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znikají jak jednodušší věci (nástroje), tak složité společenské subsystémy (výrobní, dopravní), které jsou závislé na člověku, ale jsou relativně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Rozmach 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lom 18. a 19. století - vznik průmyslové revolu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chod od instrumentalizace k mechaniz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yužití energie fosilních paliv, hromadné čerpání neobnovitelných přírodních zdrojů </a:t>
            </a:r>
            <a:r>
              <a:rPr b="0" lang="cs-CZ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počátek útoku na biologickou rozmanitost živo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08:23Z</dcterms:created>
  <dc:creator>Petra Chrástková</dc:creator>
  <dc:description/>
  <dc:language>en-US</dc:language>
  <cp:lastModifiedBy>Petra Chrástková</cp:lastModifiedBy>
  <dcterms:modified xsi:type="dcterms:W3CDTF">2007-09-30T09:15:25Z</dcterms:modified>
  <cp:revision>15</cp:revision>
  <dc:subject/>
  <dc:title>Přirozená a kulturní evoluce</dc:title>
</cp:coreProperties>
</file>