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cs-CZ"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cs-CZ"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cs-CZ"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cs-CZ" sz="13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cs-CZ"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cs-CZ"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E8C636-81F5-49D1-AD0E-24E1CC20DD42}" type="slidenum">
              <a:rPr b="0" lang="cs-CZ"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92160" y="768240"/>
            <a:ext cx="5114880" cy="3837240"/>
          </a:xfrm>
          <a:prstGeom prst="rect">
            <a:avLst/>
          </a:prstGeom>
          <a:ln w="0">
            <a:noFill/>
          </a:ln>
        </p:spPr>
      </p:sp>
      <p:sp>
        <p:nvSpPr>
          <p:cNvPr id="8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Dobrý den, jmenuji se ____ a spolu s Janou Majerovou</a:t>
            </a:r>
            <a:r>
              <a:rPr b="0" lang="en-US" sz="1200" spc="-1" strike="noStrike">
                <a:solidFill>
                  <a:srgbClr val="000000"/>
                </a:solidFill>
                <a:latin typeface="Times New Roman"/>
              </a:rPr>
              <a:t>-M</a:t>
            </a:r>
            <a:r>
              <a:rPr b="0" lang="cs-CZ" sz="1200" spc="-1" strike="noStrike">
                <a:solidFill>
                  <a:srgbClr val="000000"/>
                </a:solidFill>
                <a:latin typeface="Times New Roman"/>
              </a:rPr>
              <a:t>íšou Šenkovou-Evou Holoubkovou jsme zpracovali téma přirozený a umělý řá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92160" y="768240"/>
            <a:ext cx="5114880" cy="3837240"/>
          </a:xfrm>
          <a:prstGeom prst="rect">
            <a:avLst/>
          </a:prstGeom>
          <a:ln w="0">
            <a:noFill/>
          </a:ln>
        </p:spPr>
      </p:sp>
      <p:sp>
        <p:nvSpPr>
          <p:cNvPr id="9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čím složitější řád chceme vytvořit, tím méně musíme přikazovat a více spoléhat na přirozená pravid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ětší stupen složitosti, než bychom mohli sami intelektuálně zvládnout či uvědoměle uspořád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éně moci nad detaily, než bychom měli nad detaily řádu uvědoměle uspořádané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 případě spontánních řádů můžeme určovat jejich abstraktní rysy tím, že budeme určovat některé z faktorů, jež je utvářejí, avšak jednotlivosti budeme muset přenechat okolnostem, které nezná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92160" y="768240"/>
            <a:ext cx="5114880" cy="3837240"/>
          </a:xfrm>
          <a:prstGeom prst="rect">
            <a:avLst/>
          </a:prstGeom>
          <a:ln w="0">
            <a:noFill/>
          </a:ln>
        </p:spPr>
      </p:sp>
      <p:sp>
        <p:nvSpPr>
          <p:cNvPr id="10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aždá org., ve které její členové nejsou pouhými nástroji organizátora,se  bude pomocí příkazů určovat pouze funkce, kterou má každý člen vykonávat a účel, jehož má být dosaženo. Detaily se ponechají na rozhodování jednotlivců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92160" y="768240"/>
            <a:ext cx="5114880" cy="3837240"/>
          </a:xfrm>
          <a:prstGeom prst="rect">
            <a:avLst/>
          </a:prstGeom>
          <a:ln w="0">
            <a:noFill/>
          </a:ln>
        </p:spPr>
      </p:sp>
      <p:sp>
        <p:nvSpPr>
          <p:cNvPr id="10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této části je ještě třeba dodat, že v jakékoli větší skupině lidí spolupráce vždy spočívá na spontánním řádu i na uvědomělé organizaci. Pro mnoho úkolů je organizace nejmocnější metodou účinné koordinace, protože nám umožňuje přizpůsobit výsledný řád našim přáním mnohem úplněj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2160" y="768240"/>
            <a:ext cx="5114880" cy="3837240"/>
          </a:xfrm>
          <a:prstGeom prst="rect">
            <a:avLst/>
          </a:prstGeom>
          <a:ln w="0">
            <a:noFill/>
          </a:ln>
        </p:spPr>
      </p:sp>
      <p:sp>
        <p:nvSpPr>
          <p:cNvPr id="10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á naše společnost je také řádem a to řádem přirozený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musí mít ostré hranice ----jako má zpravidla organiza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2160" y="768240"/>
            <a:ext cx="5114880" cy="3837240"/>
          </a:xfrm>
          <a:prstGeom prst="rect">
            <a:avLst/>
          </a:prstGeom>
          <a:ln w="0">
            <a:noFill/>
          </a:ln>
        </p:spPr>
      </p:sp>
      <p:sp>
        <p:nvSpPr>
          <p:cNvPr id="10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římé zasahování do řádu vede k narušení jeho fungování. Zde si můžeme jako příklad uvést zásahy vlády do fungování tržního mechanismu – tržního řád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2160" y="768240"/>
            <a:ext cx="5114880" cy="3837240"/>
          </a:xfrm>
          <a:prstGeom prst="rect">
            <a:avLst/>
          </a:prstGeom>
          <a:ln w="0">
            <a:noFill/>
          </a:ln>
        </p:spPr>
      </p:sp>
      <p:sp>
        <p:nvSpPr>
          <p:cNvPr id="1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Vycházely jsme z díla Fridricha Augusta von Hayeka – Právo, zákonodárství a svobod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2160" y="768240"/>
            <a:ext cx="5114880" cy="3837240"/>
          </a:xfrm>
          <a:prstGeom prst="rect">
            <a:avLst/>
          </a:prstGeom>
          <a:ln w="0">
            <a:noFill/>
          </a:ln>
        </p:spPr>
      </p:sp>
      <p:sp>
        <p:nvSpPr>
          <p:cNvPr id="1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je od nás k tomuto tématu vše. Děkujeme za vaši pozornost. Máte nějaké dotaz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92160" y="768240"/>
            <a:ext cx="5114880" cy="3837240"/>
          </a:xfrm>
          <a:prstGeom prst="rect">
            <a:avLst/>
          </a:prstGeom>
          <a:ln w="0">
            <a:noFill/>
          </a:ln>
        </p:spPr>
      </p:sp>
      <p:sp>
        <p:nvSpPr>
          <p:cNvPr id="8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Abychom mohli vysvětlit rozdíl mezi přirozeným a umělým řádem, musíme si nejprve říct, co se pod tímto pojmem skrývá.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Hayek dává přednost výrazu „řád“ před jinými označeními, ale řádem můžeme rozumět i systém, strukturu nebo vzore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92160" y="768240"/>
            <a:ext cx="5114880" cy="3837240"/>
          </a:xfrm>
          <a:prstGeom prst="rect">
            <a:avLst/>
          </a:prstGeom>
          <a:ln w="0">
            <a:noFill/>
          </a:ln>
        </p:spPr>
      </p:sp>
      <p:sp>
        <p:nvSpPr>
          <p:cNvPr id="8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 fungování řádu je nezbytné, aby všichni jednotlivci sledova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ěkterá pravidla budou následovat spontánně ----protože jsou součástí jejich společné kulturní tradi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ěkterým se budou podřizovat dobrovolně</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některým musí být donuceni -----neboť i když by bylo v zájmu každého na ně nedbat, celkový řád, na němž úspěch jejich jednání závisí, vznikne jen tehdy, budou-li tato pravidla obecně dodržován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92160" y="768240"/>
            <a:ext cx="5114880" cy="3837240"/>
          </a:xfrm>
          <a:prstGeom prst="rect">
            <a:avLst/>
          </a:prstGeom>
          <a:ln w="0">
            <a:noFill/>
          </a:ln>
        </p:spPr>
      </p:sp>
      <p:sp>
        <p:nvSpPr>
          <p:cNvPr id="8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ělý řád = organizace. = z řečtiny tax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92160" y="768240"/>
            <a:ext cx="5114880" cy="3837240"/>
          </a:xfrm>
          <a:prstGeom prst="rect">
            <a:avLst/>
          </a:prstGeom>
          <a:ln w="0">
            <a:noFill/>
          </a:ln>
        </p:spPr>
      </p:sp>
      <p:sp>
        <p:nvSpPr>
          <p:cNvPr id="9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řirozený řád= řád spontánní = z řečtiny kos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ůže přetrvávat i když se všechny jednotlivé prvky, které obsahují a dokonce i počet těchto prvků měn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zachování řádu stačí, aby byla zachována struktura vztahů či aby se prvky jistého druhu měly k sobě vzájemně stejným způsob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92160" y="768240"/>
            <a:ext cx="5114880" cy="3837240"/>
          </a:xfrm>
          <a:prstGeom prst="rect">
            <a:avLst/>
          </a:prstGeom>
          <a:ln w="0">
            <a:noFill/>
          </a:ln>
        </p:spPr>
      </p:sp>
      <p:sp>
        <p:nvSpPr>
          <p:cNvPr id="9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um. ř. – relativně jednoduchý – omezený na takovou úroveň složitosti, o které tvůrce ještě může mít přeh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 ř. – složitý – není omezen tím, co může lidská bytost zvládn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        </a:t>
            </a:r>
            <a:r>
              <a:rPr b="0" lang="cs-CZ" sz="1200" spc="-1" strike="noStrike">
                <a:solidFill>
                  <a:srgbClr val="000000"/>
                </a:solidFill>
                <a:latin typeface="Times New Roman"/>
              </a:rPr>
              <a:t>- nemá konkr. účel – protože nebyl vytvořen, nemá ani úč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92160" y="768240"/>
            <a:ext cx="5114880" cy="3837240"/>
          </a:xfrm>
          <a:prstGeom prst="rect">
            <a:avLst/>
          </a:prstGeom>
          <a:ln w="0">
            <a:noFill/>
          </a:ln>
        </p:spPr>
      </p:sp>
      <p:sp>
        <p:nvSpPr>
          <p:cNvPr id="9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 jiném smyslu můžeme říci, že řád spočívá v účelně zaměřeném jednání prvků, kde účel by znamenal zachování nebo obnovování tohoto řá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vky si osvojily pravidelnosti chování vedoucí k zachování řádu – nejspíše proto, že ti, kteří jednali určitými způsoby, měli v rámci řádu, který tak vznikal, větší naději na přežití než ti, kteří tak nejednal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92160" y="768240"/>
            <a:ext cx="5114880" cy="3837240"/>
          </a:xfrm>
          <a:prstGeom prst="rect">
            <a:avLst/>
          </a:prstGeom>
          <a:ln w="0">
            <a:noFill/>
          </a:ln>
        </p:spPr>
      </p:sp>
      <p:sp>
        <p:nvSpPr>
          <p:cNvPr id="9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ovéto řády se našim smyslům samy nenabízejí, musí být vysledovány intelek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541BA-F902-4AB6-97F8-96C6D9732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5CCB3-A919-4FC9-82B8-56D6D470A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CC1EB-39F6-4B38-88F9-02B4D8748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ADA09-97FF-40CB-974C-A78D517FE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01E88-8572-488E-B1CA-601E001AF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17E1C-06C1-4748-9CCD-3B141BC92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F0005-209B-459C-BE00-E702401EE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4B85C-C9F9-43ED-8BA7-929140405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6520B-0C12-414A-BAEB-92C821EDB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8833E-DF23-4CA8-A09F-3F578D088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A715-9201-4907-86F8-5B1C78678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439DB-6357-46EF-944F-55D513618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CFA2-0439-4B1B-90F2-27370BCD489D}" type="slidenum">
              <a:rPr b="0" lang="cs-CZ" sz="2000" spc="-1" strike="noStrike">
                <a:solidFill>
                  <a:srgbClr val="ffffff"/>
                </a:solidFill>
                <a:latin typeface="Times New Roman"/>
              </a:rPr>
              <a:t>&lt;number&gt;</a:t>
            </a:fld>
            <a:r>
              <a:rPr b="0" lang="en-US" sz="2000" spc="-1" strike="noStrike">
                <a:solidFill>
                  <a:srgbClr val="ffffff"/>
                </a:solidFill>
                <a:latin typeface="Times New Roman"/>
              </a:rPr>
              <a:t>/16</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řirozený a umělý řád</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 Holoubková</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na Majerová</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a Šenková</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AA0034D-F4F2-4A48-9976-453A5CDA72AF}" type="slidenum">
              <a:t>1</a:t>
            </a:fld>
          </a:p>
        </p:txBody>
      </p:sp>
    </p:spTree>
  </p:cSld>
  <p:transition>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oléhání na přirozený řád při řízení</a:t>
            </a:r>
            <a:endParaRPr b="0" lang="en-US" sz="4400" spc="-1" strike="noStrike">
              <a:solidFill>
                <a:srgbClr val="ffff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	</a:t>
            </a:r>
            <a:r>
              <a:rPr b="0" lang="en-US" sz="3200" spc="-1" strike="noStrike">
                <a:solidFill>
                  <a:srgbClr val="ffffff"/>
                </a:solidFill>
                <a:latin typeface="Times New Roman"/>
              </a:rPr>
              <a:t>větší stupeň složit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éně moci nad detail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upeň moci řídit složitý přirozený řád bude menší, než bychom mohli mít nad umělým řádem.</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7654A7C-28D9-4E37-8998-BAAC5114CA83}" type="slidenum">
              <a:t>10</a:t>
            </a:fld>
          </a:p>
        </p:txBody>
      </p:sp>
    </p:spTree>
  </p:cSld>
  <p:transition>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avidla organizace</a:t>
            </a:r>
            <a:endParaRPr b="0" lang="en-US" sz="4400" spc="-1" strike="noStrike">
              <a:solidFill>
                <a:srgbClr val="ffff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zace se musí spoléhat i na přirozená pravidla, nejen na specifické příkaz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ož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ím, že jednání jednotlivců je vedeno spíše přirozenými pravidly, je umožněno využít znalosti, které sám organizátor nemá.</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00591EC-F2EF-40AB-B834-E3C0F8FB0990}" type="slidenum">
              <a:t>11</a:t>
            </a:fld>
          </a:p>
        </p:txBody>
      </p:sp>
    </p:spTree>
  </p:cSld>
  <p:transition>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avidla organizace</a:t>
            </a:r>
            <a:endParaRPr b="0" lang="en-US" sz="4400" spc="-1" strike="noStrike">
              <a:solidFill>
                <a:srgbClr val="ffff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Čím složitější je řád, k němuž se směřuje, tím více bude ovládání záviset spíš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 přirozených pravidlech, než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 specifických příkaz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 nejsložitějších  typech organizací bude příkaz nejvyšší autority sotva víc, než určení jednotlivých funkcí a obecný zámě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EE019A1-D73E-47A6-A443-6938402C7DC6}" type="slidenum">
              <a:t>12</a:t>
            </a:fld>
          </a:p>
        </p:txBody>
      </p:sp>
    </p:spTree>
  </p:cSld>
  <p:transition>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olečnost</a:t>
            </a: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utvořena z jednotlivců a organizací (uměle utvořený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nemusí mít ostré hrani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častá existence jader z těsněji svázaných jednotlivců, zaujímající ústřední postavení ve volněji propojeném, širším řád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7066367-395D-4B74-B3DE-C53A106817FD}" type="slidenum">
              <a:t>13</a:t>
            </a:fld>
          </a:p>
        </p:txBody>
      </p:sp>
    </p:spTree>
  </p:cSld>
  <p:transition>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olečnost = přirozený řád</a:t>
            </a:r>
            <a:endParaRPr b="0" lang="en-US" sz="4400" spc="-1" strike="noStrike">
              <a:solidFill>
                <a:srgbClr val="ffff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íky tomu, že struktura moderní společnosti nebyla závislá na organizování, dosáhla současného stupně složitost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Řád o takové složitosti můžeme zachovat nikoli specifickými příkazy jeho členům, ale jen nepřímo prosazováním a zdokonalováním pravidel vedoucích k utváření přirozeného řádu.</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F3F4367-9827-4C5A-ADD7-F64AE69D171F}" type="slidenum">
              <a:t>14</a:t>
            </a:fld>
          </a:p>
        </p:txBody>
      </p:sp>
    </p:spTree>
  </p:cSld>
  <p:transition>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užitá literatura</a:t>
            </a:r>
            <a:endParaRPr b="0" lang="en-US" sz="4400" spc="-1" strike="noStrike">
              <a:solidFill>
                <a:srgbClr val="ffff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YEK  F. A. - Právo, zákonodárství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svoboda. Praha: Academia, 1994</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F072AD6-87FC-4F3F-83E1-46F15203F267}" type="slidenum">
              <a:t>15</a:t>
            </a:fld>
          </a:p>
        </p:txBody>
      </p:sp>
    </p:spTree>
  </p:cSld>
  <p:transition>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ěkujeme za pozornost</a:t>
            </a:r>
            <a:endParaRPr b="0" lang="en-US" sz="4400" spc="-1" strike="noStrike">
              <a:solidFill>
                <a:srgbClr val="ffff00"/>
              </a:solidFill>
              <a:latin typeface="Times New Roman"/>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40F3021-ACC5-48CC-BC2B-B8E4463A7A04}" type="slidenum">
              <a:t>16</a:t>
            </a:fld>
          </a:p>
        </p:txBody>
      </p:sp>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jem „Řád“</a:t>
            </a:r>
            <a:endParaRPr b="0" lang="en-US" sz="4400" spc="-1" strike="noStrike">
              <a:solidFill>
                <a:srgbClr val="ffff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boli systém, struktura, vzore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ten stav věcí, v němž se velký počet prvků různých druhů má k sobě navzájem tak, že znalost nějaké prostorové nebo časové části celku nám umožňuje vytvářet správná očekávání týkající se zbytku, nebo alespoň očekávání, která mají dobrou pravděpodobnost, že se ukáží jako správná.“</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813FDD2-9E07-46DA-B173-E46881B045FB}" type="slidenum">
              <a:t>2</a:t>
            </a:fld>
          </a:p>
        </p:txBody>
      </p:sp>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ungování řádu</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šichni jednotlivci musí sledovat stanovená pravidla, či alespoň nevybočovat z určitého rámc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ěkterá pravidla budou následovat spontánně</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ěkterým se budou podřizovat dobrovolně</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 některým musí být donuceni</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3C53E60-4C8E-425E-B642-5E763C799857}" type="slidenum">
              <a:t>3</a:t>
            </a:fld>
          </a:p>
        </p:txBody>
      </p:sp>
    </p:spTree>
  </p:cSld>
  <p:transition>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mělý řád</a:t>
            </a:r>
            <a:endParaRPr b="0" lang="en-US" sz="44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ědomě vytvořen nějakou bytostí,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tzn. exogenně</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mělý řád ve společnosti spočívá na vztahu přikazování a posluš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ůle nadřízených </a:t>
            </a:r>
            <a:r>
              <a:rPr b="0" lang="en-US" sz="3200" spc="-1" strike="noStrike">
                <a:solidFill>
                  <a:srgbClr val="ffffff"/>
                </a:solidFill>
                <a:latin typeface="Times New Roman"/>
              </a:rPr>
              <a:t>(</a:t>
            </a:r>
            <a:r>
              <a:rPr b="0" lang="cs-CZ" sz="3200" spc="-1" strike="noStrike">
                <a:solidFill>
                  <a:srgbClr val="ffffff"/>
                </a:solidFill>
                <a:latin typeface="Times New Roman"/>
              </a:rPr>
              <a:t>jediné nejvyšší autority) určuje, co každý jednotlivec musí děla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62701C1-A84C-4680-B01B-3EA2AF850DBA}" type="slidenum">
              <a:t>4</a:t>
            </a:fld>
          </a:p>
        </p:txBody>
      </p:sp>
    </p:spTree>
  </p:cSld>
  <p:transition>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řirozený řád</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pontánně sebeutvářen, tzn. endogenně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vnováha ustanovená zevnitř, bez vnějších zásah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AF3B847-1F08-41E5-8366-768265E06E6B}" type="slidenum">
              <a:t>5</a:t>
            </a:fld>
          </a:p>
        </p:txBody>
      </p:sp>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mělý řád       x   Přirozený řád</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tivně jednoduchý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ence vnímatelná lidskými smys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ytvořen uvědoměl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y sloužil účelu jeho tvůrce</a:t>
            </a:r>
            <a:endParaRPr b="0" lang="en-US" sz="2800" spc="-1" strike="noStrike">
              <a:solidFill>
                <a:srgbClr val="ffffff"/>
              </a:solidFill>
              <a:latin typeface="Times New Roman"/>
            </a:endParaRPr>
          </a:p>
        </p:txBody>
      </p:sp>
      <p:sp>
        <p:nvSpPr>
          <p:cNvPr id="6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ůže být velmi složitý</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ence se nemusí smyslům projevovat, může spočív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a abstraktních vztazích, které můžeme pouze rekonstruova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má konkrétní účel</a:t>
            </a:r>
            <a:endParaRPr b="0" lang="en-US" sz="2800" spc="-1" strike="noStrike">
              <a:solidFill>
                <a:srgbClr val="ffffff"/>
              </a:solidFill>
              <a:latin typeface="Times New Roman"/>
            </a:endParaRPr>
          </a:p>
        </p:txBody>
      </p:sp>
      <p:sp>
        <p:nvSpPr>
          <p:cNvPr id="5" name="PlaceHolder 4"/>
          <p:cNvSpPr>
            <a:spLocks noGrp="1"/>
          </p:cNvSpPr>
          <p:nvPr>
            <p:ph type="sldNum" idx="3"/>
          </p:nvPr>
        </p:nvSpPr>
        <p:spPr/>
        <p:txBody>
          <a:bodyPr/>
          <a:p>
            <a:fld id="{946DE5CF-BD0D-42CA-92D4-13DD4D5DFC48}" type="slidenum">
              <a:t>6</a:t>
            </a:fld>
          </a:p>
        </p:txBody>
      </p:sp>
    </p:spTree>
  </p:cSld>
  <p:transition>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ztah přirozeného řádu k účelu</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řirozený řád nebyl vytvořen za nějakým účel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xistence řádu může být užitečná  jednotlivcům, kteří se uvnitř něj pohybují.</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69B5EAE-1A9C-4E25-B0D2-12BA1B443F58}" type="slidenum">
              <a:t>7</a:t>
            </a:fld>
          </a:p>
        </p:txBody>
      </p:sp>
    </p:spTree>
  </p:cSld>
  <p:transition>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edlejší důsledky lidské činnosti</a:t>
            </a: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istence uspořádaných struktur, které jsou produktem jednání mnoha lidí, avšak nejsou výsledkem vědomého lidského vytváření.</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ř. jazyk, morálka, „neviditelná ruka trh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částí přirozeného řádu</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F1C1CD0-048F-49A9-AF0B-725E8BB60E0A}" type="slidenum">
              <a:t>8</a:t>
            </a:fld>
          </a:p>
        </p:txBody>
      </p:sp>
    </p:spTree>
  </p:cSld>
  <p:transition>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edlejší důsledky lidské činnosti</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a:t>
            </a:r>
            <a:r>
              <a:rPr b="0" lang="cs-CZ" sz="3200" spc="-1" strike="noStrike">
                <a:solidFill>
                  <a:srgbClr val="ffffff"/>
                </a:solidFill>
                <a:latin typeface="Times New Roman"/>
              </a:rPr>
              <a:t>Ačkoli člověk nikdy neexistoval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bez zákonů, jimž by se podřizoval, existoval samozřejmě po statisíciletí bez zákonů, které by „znal“ v tom smyslu, že by byl s to je artikulov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F. A. Hayek</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4575591-1C48-496F-A140-75803F12E5BF}" type="slidenum">
              <a:t>9</a:t>
            </a:fld>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11:31:23Z</dcterms:created>
  <dc:creator>Jan Pokorný</dc:creator>
  <dc:description/>
  <dc:language>en-US</dc:language>
  <cp:lastModifiedBy>CIKT</cp:lastModifiedBy>
  <dcterms:modified xsi:type="dcterms:W3CDTF">2007-10-09T06:58:25Z</dcterms:modified>
  <cp:revision>37</cp:revision>
  <dc:subject/>
  <dc:title>Přirozený a umělý řád</dc:title>
</cp:coreProperties>
</file>