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87C-1820-4E7D-B029-3272EE88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CA5-F57D-4F5A-8A35-8F0B68C6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617-E8FC-439A-B897-313442E7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EA8-1324-467E-BD32-38E0F597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330-A56E-44E8-8BCD-F1967905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F03-EDC8-4144-AA90-A7032A0E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D1D-DFB4-4286-8ED8-2214CD17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705-6000-40A3-9F9D-51E3C742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AEA-7ACD-4E32-90D9-B50293D5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773-AD6B-4FB7-A81E-D63A5D0D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D95-9516-4CE8-B8D4-F11CB546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721-745E-40B6-BCEA-D136A055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55C2-48CC-4EDA-A5A6-48B732A95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rcRect l="0" t="24383" r="0" b="24383"/>
          <a:stretch/>
        </p:blipFill>
        <p:spPr>
          <a:xfrm>
            <a:off x="0" y="1557360"/>
            <a:ext cx="9144000" cy="3792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560" y="2565360"/>
            <a:ext cx="78454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ezentace do předmětu Management II</a:t>
            </a:r>
            <a:br>
              <a:rPr sz="1800"/>
            </a:br>
            <a:br>
              <a:rPr sz="18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stinkty, rozum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a rozšířený řád</a:t>
            </a:r>
            <a:br>
              <a:rPr sz="3600"/>
            </a:br>
            <a:br>
              <a:rPr sz="36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.Soňa Hermanová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.Lenka Procházková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.Petra Semon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šířený řád a populační rů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idská plodnost představuje, pokud jde o nynější i budoucí blaho lidstva, hrozbu číslo jedna.“ (J. Huxley)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„Hrozbou stávajícímu i budoucímu blahu lidstva je socialismus, a to proto, že ani socialismus, ani žádná jiná náhrada tržního řádu nemůže nynější světovou populaci uživit.“ (F. A. Hay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dstava, že populační růst hrozí celosvětovou chudobou, je nesprávná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řílišné zjednodušení Malthusovy teorie populačního růst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výšení produktivity není způsobeno pouze větším počtem lidí, ale větším množstvím různých lidí. Lidé získali svou moc díky své odlišn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ové možnosti specializace skýtají předpoklad pro úspěšnější využití bohatství zem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Regionální povaha problé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 populační problém je třeba nahlížet z regionálního hledis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rální konflikt může nastat, nepřestanou-li materiálně vyspělé země podporovat a subvencovat růst počtu obyvatel v takových oblastech jako je např. Sahel ve střední Af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budeme-li se vměšovat, porostou dále jen populace schopné uživit se sam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lověk není všemohoucí. Více se přiblíží uskutečnění svých přání, uzná-li meze svých schopností, nikoli tím, že se bude řídit přirozenými pohnutkami odstranit vzdálené utrpení, s nímž toho bohužel mnoho nenaděl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íra populačního růstu se dnes blíží nebo se již dostala do svého maxima, více již neporoste a bude naopak kles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jvětší populační růst se nikdy neodehrával v rozvinutých tržních ekonomikách, ale vždy jen na jejich periferi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to periferie však už pomalu mizí a navíc nezbývá moc zemí, které by do periferní oblasti mohly vstoup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Život nemá jiný účel než sebe s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Život existuje pouze potud, pokud si zajišťuje vlastní trvá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ětšina lidí v dnešní době žije jedině díky tržnímu řád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ůžeme být početně slabí a primitivní, nebo velmi početní a civilizova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YEK, F.A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sudná domýšlivo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Praha : Sociologické nakladatelství, 1995. ISBN 80-85850-05-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šířený řá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íše znám pod pojmem kapitalis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ntánní řád – není výsledkem lidského plánu či zá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pořádání, které slouží nejrůznějším cílům neomezeného počtu lid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ložen na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pravidle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mohou být v rozporu s vrozenými instink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Řád nepoměrně star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Řád malých skupin a prehistorických lidí, kteří se vzájemně z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pořádání, které slouží konkrétním, společně sdíleným cílů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ho vztahy a soudržnost založeny na lidských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instinkte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olidarita a altruism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vymizel – typický pro rodinu, či jiné malé skup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157720"/>
            <a:ext cx="835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aha aplikovat principy jednoho řádu do řádu druhého může působit destruktivn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řesto je možné a užitečné podpůrné využití principů jednoho řádu v druh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5734080"/>
            <a:ext cx="806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Instin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část genetické informace, vrozené, dědič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způsobeny životu v malých tlupách, k nimž vývoj lidského druhu dospěl za několik miliónů 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máhaly utvářet spolupráci členů tlupy – lidí, kteří se mezi sebou znali a vzájemně na sebe spoléh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itivní lidé se řídili konkrétními, společně sdílenými cíly, podobným vnímáním nebezpečí a příležitos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působy koordinace závisely na instinktech solidarity a altruis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och není osamělý, jeho instinkty se týkají přežití kolektivu.“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ále důležitým instinktem je schopnost učit 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Pravidla lidského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íky nim vznikl náš neobyčejný řád a existence lidstva v nynějších dimenzích a struktuře (zejména díky pravidlům vztahujícím se k oddělenému vlastnic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dávají se tradicí, učením, nápodob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sahem ve značné míře zák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íření nových pravidel díky tomu, že umožňovala skupinám, které se jimi řídily, dosahovat většího úspěchu ---------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výsledkem tohoto selektivního evolučního procesu je morál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učená pravidla nahrazují instinktivní jednání (v rozšířeném řádu zejména uplatňování pravidel odděleného vlastnictví a smlouvy namísto solidarity a altruism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je mezi instinktem a rozum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oluce rozšířeného řádu (kulturní a morální evoluce) probíhá vně instinktů a nemůže být tvořena ani navržena rozum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opnost učit se nápodobou – dána geneticky, získaná dlouhým vývojem instinkt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sudná domýšlivost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mylná myšlenka, že schopnost nabývat dovedností je dána rozum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: Učení se tomu, jak se chovat, j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droj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zumu (není rozumem vytvořeno, člověk se nerodí moudrý, rozumný a dobrý, musí se učit, aby se takovým stal).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zum je ale výsledkem evolučního selektivního procesu, stejně jako morálk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ši morálku nevytváří intelekt – spíše lidské interakce ovládané morálními zásadami umožňují rozvoj rozu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724280"/>
            <a:ext cx="8207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zi instinktem a rozumem je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tradi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kterou se člověk mohl uč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661000"/>
            <a:ext cx="8209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inkt je starší než zvyk a tradice a zvyk a tradice jsou starší než rozum. Zvyk a tradice stojí mezi instinktem a rozumem – logicky, psychologicky i časov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torický poh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hlížení významu obchodu – Aristoteles, Tomáš Akvinsk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šíření racionalism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7. století – René Descartes – důraz na čistý roz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    –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ohn Locke – jiný pohled, morálka je součástí rozu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8. století – Jean-Jacques Rousseau – typ tzv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ivoch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osvobozeného od „umělých“ záb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. a 20. století – inteligentní lidé mají sklon tíhnout k socialis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ohn Maynard Keynes –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„Z dlouhodobého hlediska jsme všichni mrtví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bert Einstein – výroba pro užitek, ne pro z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acques Monod – nová, na poznání založená et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udná domýšliv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r tradicionalistů a racionalistů – tradiční morálka nesplňuje racionální požadav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565360"/>
            <a:ext cx="395928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cionalistické předpoklady jsou, že není rozumné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žet se toho, co nelze vědecky zdůvodnit či dokázat pozorován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držovat to, co člověk nechá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edovat nějaký konkrétní směr, pokud se předem plně nespecifikuje jeho cí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koli dělat, nejsou-li předem zcela poznány účinky, které jsou ověřitelné a prospěš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2565360"/>
            <a:ext cx="388944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radicionalisté tvrd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radice nelze konstruovat, ospravedlňovat ani demonstrov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edinec není schopen přirozené, spontánní a sebeuspořádávající procesy ani vnímat, natož pojmově uchop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é vlastnictví je obecně prospěšné, umožňuje maximálně využít potenci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ch z obcho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jetí obch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lišný od materiální výroby, chaotický, postradatelný, jde o zavrženíhodnou čin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ž od starověku považován spíše za kouzla a čáry, než činnost zvyšující hodnot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robku, byl mimo vnímání běžných lid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áce je jediným zdrojem bohatství, protože je při ní vynakládána fyzická síla, obchodní aktivity se za skutečnou práci nepovažuj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žitečnost není objektivní vlastnost věcí, jen jedinec sám (a mnohdy ani on) ví, co je pro něj dobré a co 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ayek vznáší požadavek na ekonomické vzdělání člově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komolený ja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šichni lidé třídí své vjemy částečně prostřednictvím atributů, které je jazyk naučil spojovat se skupinami smyslových charakteristi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ždé užití jazyka je zatíženo teoriemi o našem prostředí či jeho interpretace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luvíme-li jazykem založeným na mylné teorii, vytváříme a udržujeme tím omy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munikační obtíže při studiu lidského jednání začínají s definicí a pojmenováním samotných objektů, které chceme analyzov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Hlavní terminologické překá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společnost“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nálepka, kterou lze označit téměř každou skupinu lidí, skupinu, o jejíž struktuře a příčině soudržnosti nemusíme nic zná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jde o provizorní frázi, ke které se lidé uchylují, když zcela přesně nevědí, o čem mluv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sociální“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“lasiččí slovo“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- toto slovo připravuje o obsah jakýkoliv výraz, k němuž se připojí, přičemž se ho zdánlivě ani nedotk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užívání slova “sociální“ nabylo na velké rozmanitosti (160 slovních spojení) a slovo “sociální“ získalo již mnoho různých význam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7:40:28Z</dcterms:created>
  <dc:creator>Go this way</dc:creator>
  <dc:description/>
  <dc:language>en-US</dc:language>
  <cp:lastModifiedBy>Sonia</cp:lastModifiedBy>
  <dcterms:modified xsi:type="dcterms:W3CDTF">2007-10-10T04:44:20Z</dcterms:modified>
  <cp:revision>24</cp:revision>
  <dc:subject/>
  <dc:title>Snímek 1</dc:title>
</cp:coreProperties>
</file>