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08B-9ED9-4335-93D2-5EA5C664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66884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73A-ED5C-4A99-9C90-78FCA1F5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B2B-82A6-490C-A918-C6DFE46E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0E0-4DC0-45CE-BFBD-EB603D33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F123-46AB-43D8-845E-77B33C0C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313F-C93C-431D-96EC-04B5D3CA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AD3B-5997-4F86-8F49-3751E3BF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1FAF-F669-45F6-A1D2-003C7BE0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DCF7-6C5F-4B17-BBCD-56EEB49A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2895120"/>
            <a:ext cx="8839440" cy="60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48DC-F42C-47A0-B57B-F1576597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3F4B-872F-424F-8A57-DD46B4BB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C4F-35D0-4298-AFC7-58E56058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6055-934A-4F43-B89B-082A6D89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B155-0EDA-4AB8-9010-345AB656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66884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BE3C-A63C-4EB6-B894-6FFD58E2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F403-FD95-4D3A-AF16-D5396D4D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98FE-AE52-4BBF-91D3-5AA46AE7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DE0-5F1F-494D-AB77-2F90F1DE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F3E-43C4-43B2-997C-35326726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5D0-8034-4283-A361-65E26F8F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2895120"/>
            <a:ext cx="8839440" cy="60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6C2-A4BE-4A27-80BB-DB295B4C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E79-8ECF-44CD-8FF5-15113AAA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2C7-EA84-4DF1-92E5-3FF3531D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690-7604-408B-AA2C-A96CD3FD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5C1B-9971-4BD6-9A56-C7C0B4AC31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2EC3-DF86-43CA-9CDD-FD60DF5D73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06864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Přirozený a umělý řád</a:t>
            </a: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64000" y="5373720"/>
            <a:ext cx="3205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reza Nečasov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áclav Řezníče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rtin Proke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8428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imes New Roman"/>
              </a:rPr>
              <a:t>Management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entac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Hra katallax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ožňuje každému hráči uspokojovat potřeby, které nez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římé informace získávány pomocí 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isk vede v tržním řádu k uspokojování potřeb, které sami nevidí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Návaznost na ekonomické teori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rizont katallaktických možností = Hranice výrobních mož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iferenční křivka (komplementy a substitu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vnováha tr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moderních civilizací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asický příklad umělého řá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E … zavedením umělého řádu za účelem řízení určité organizace není možné potlačit řád přiroze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jakékoli větší skupině lidí bude spolupráce vždycky spočívat jak na spontánním řádu, tak na uvědomělé organ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tná koexistence řá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rovnováhy mezi řá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– pravidla a příkaz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je tvoře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ckými příkazy - udávají účel, funkci, sm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id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ád) - plní účel, „jak co provést“, tvořen znalostmi li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vidla mohou být chápána v podřízeném postavení k příkazům … ALE …  platí, že čím složitější organizace je, tím důležitější roli hrají pravidla nad specifickými přík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– zajištění řádu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tnost přihlédnutí k lidskému fakto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dé se řídí spíše pravidly než specifickými příkazy, je proto lepší doplňovat pravidla, než vysílat více specifických příkaz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átor si musí přát, aby jednotlivci, kteří mají spolupracovat, využívali znalostí, jež on sám nem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lenové musejí sledovat stanovená pravidla v určitém rámci (není třeba, aby všichni reagovali na dané situace stejně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vidla k zajištění „celkového řádu“ organiz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vní pravidla, forma vymezení bariér, donucení (pracovní smlouv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el na podnikovou kult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– zajištění řádu II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5778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át (vláda) jako organizace se specifickým postavením má dvě funk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4129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azení pravidel a udržení řádu společnosti ve funkční struktuře (donucovací pravomoci, udává mantine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4129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ráva zd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189000"/>
            <a:ext cx="8686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- stá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. A. Hayek (1991): „Právo, zákonodárství a svoboda“, Academia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jiny ekonomických teorií“, Ústav ekonomie Provozně ekonomické fakulty MZLU v Br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ťastný, M. (1999): „Obhajoba svobody, demokracie, spravedlnosti a spontánního řádu v díle F.A. Hayeka“, Electronic Journal for Phylosoph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3428640"/>
            <a:ext cx="83707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efinice řádu 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Struktura, systém, vzorec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ybně interpretováno jako „uvědomělé uspořádání někým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v věcí, ve kterém se velký počet prvků různých druhů má k sobě navzájem tak, že znalost určité časové či prostorové části celku nám umožňuje vytvářet správná očekávání týkající se zbyt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efinice řádu I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ořen procesem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vořen pravidly (nemusí být znám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 pravidel může být v jednotlivých řádech odlišný, ale druhy pravidel se neměn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astnosti řád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spořáda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ide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is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ope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řádu v lidské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řirozený vs. umělý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ý objekt vznikl a existuje nezávisle na lidském jednání (tradiční pojetí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lnění Haykem - … nezávisle na lidském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 vědomé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ělý objekt vznikl a existuje díky vědomému lidskému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ělé“ vychází z “přirozeného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řirozený řád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Vyrostlý, spontánní, endogenní, sebeorganizující, sebeutvářející, ko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vidla přirozeného řádu jsou na účelu nezávisl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šší stupeň uspořáda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yek: kromě „čistě přírodních řádů“ také jazyk, morálka, náboženství, zvyky, obyčeje,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r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peníze, demok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hé oblasti přirozených řádů není možné řídit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omezení sil tvořících přirozený řá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6165720"/>
            <a:ext cx="504720" cy="287640"/>
          </a:xfrm>
          <a:prstGeom prst="rightArrow">
            <a:avLst>
              <a:gd name="adj1" fmla="val 50000"/>
              <a:gd name="adj2" fmla="val 43867"/>
            </a:avLst>
          </a:prstGeom>
          <a:solidFill>
            <a:srgbClr val="93d59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Umělý řád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Vytvořený, exogen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oduchost (ve smyslu nižší složit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lnost  (uspokojování lidských potře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hraniče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Organiza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oderních civilizací, právo (normativní zákony), hospodářství řízené státem, autoritativní systé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žní řád – KATALLAX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ce katallaxe a její odlišení od ekonom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žní řád jako spontánní řá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írový řád přinášející soulad mezi očekáváními různých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náší změ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ržní řád ve velké společnost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91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náší poznatek, že lidé mohou žít pohromadě a přinášet si užitek, aniž se dohodnou na konkrétních záměr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ůzné prostředky mohou být použity k různým účel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ím více se potřeby lidí ve společnosti liší, tím je větší pravděpodobnost, že změna přinese uži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Ekonomické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Katallaktické vztah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ho lidí si je přes jejich význam nepřipouš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žko se dá popřít, že to, co drží velkou společnost pohromadě, jsou „pouta peněz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tallaktické vztahy fungují na principu rozdí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3:31:14Z</dcterms:created>
  <dc:creator>Terka</dc:creator>
  <dc:description/>
  <cp:keywords/>
  <dc:language>en-US</dc:language>
  <cp:lastModifiedBy>99515</cp:lastModifiedBy>
  <dcterms:modified xsi:type="dcterms:W3CDTF">2007-10-06T09:18:59Z</dcterms:modified>
  <cp:revision>52</cp:revision>
  <dc:subject/>
  <dc:title>“Identify some of the general issues that managers need to consider in developing the appropriate organisational structure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29</vt:lpwstr>
  </property>
</Properties>
</file>