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CED-B060-4520-9D68-1CFD2D05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38F-4251-4083-82A2-175D2AB3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D15-D7F8-4972-BF88-60CB8C8E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EF1-E42C-486F-8870-4A3A5B94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8A6-844C-4366-B7A2-08ED096A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826-E166-4DBB-8DD7-F21AD9F5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F1EF-ED3A-401B-84AA-CC7118AB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2410-DEC2-450B-BCEB-7415522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E99C-8BA6-4155-B304-FB4A930F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AB2A-ABEC-4F89-887D-5CD7B474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0423-D4CC-49EC-96DF-4FE1894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33B-0D9C-404E-8A57-675D8987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0405-4DF1-444D-BADE-E533FAC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5B63-38DA-4F73-8D2A-A1BA859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D698-C5DE-4899-930E-A076E6C6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877-41B3-4749-B4A6-6A78E726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2357-3B8C-4266-90A3-24DE99AB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D1F-84EA-4F05-BBA2-3E1B14E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E9A-4737-4B4A-BAD8-0BFE50A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B6F-A18F-45BA-8CCC-24F7768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363-3F4D-4C14-B9E4-F49F014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C0B-378F-4158-926D-72FE1319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AED-ED01-4AB7-977A-A1618E5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FB8-AA72-4425-BB80-F5B9E244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B74E-A27C-47B3-884C-6D23CF83E6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EE4D-A6E0-495F-86F4-3117C8E2EC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Verdana"/>
              </a:rPr>
              <a:t>Vývoj společnosti podle Alvina Toffl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219640" y="4581000"/>
            <a:ext cx="3167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nka Novák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iří Rou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ichard Savick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řízení e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áklad v integraci ostatních jednotek v sourod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Řídící pracovník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lit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perel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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VÁR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č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toj k příro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obnovitelné zdro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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etická a surovinová kr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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rize os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starý vs. nový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ver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eci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rsatil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nchron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lexitime at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starý vs. nový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eštíhl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írání univerzálního měřít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ncip deleg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vícerozměrné říz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ize korporací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itika stávajících struktur řízení a c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popředí zájem společnosti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ciální dovednosti řídícího pracovní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offler optim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ichel Houellebecq a extremní liberal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chard Sennet a fragmentace spole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ffler a technologický determin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ěkujeme za pozornos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Vývoj společnosti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voj společnosti obec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á vl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vl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bliograf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ffler, A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Third Wave.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w York: Bentam Books, 19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ffler, A. Šok z budoucnosti. Praha: Práce, 199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v. of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Information Society: Sceptical View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by Christopher May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Sociological Review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200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Gardels, 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he Third W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’s Third Way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w Perspectives Quarterl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Summer 200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vin Toff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*3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říjen 192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Šok z budoucnost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tí vlna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sun moci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vá civilizace. Třetí vln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álka a antivál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ákladní body Tofflerovy tez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tafora vlny (Elias, Turn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i vlny – motyka, výrobní pás,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ěk – sběračství, lov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. vlna – zem. revolu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e, sídla vesnice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. vlna – 17.stol, prům. revolu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. vlna – 1955, „informační revoluce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xistuje jednoznačná kauzal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ýrobce vs. Spotřebitel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brácený poměr trhu A a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ěžní systém, smluvní etika, materialismus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ard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obky, míry, ceny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hování, rodina, media, sexuality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ecial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covní diverz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nchron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covní doba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životní sty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várenská výroba, kapitál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ěřítko úspěc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ktivita rozhodovacích proces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1:46:06Z</dcterms:created>
  <dc:creator>Richard Savicky</dc:creator>
  <dc:description/>
  <dc:language>en-US</dc:language>
  <cp:lastModifiedBy>Richard Savicky</cp:lastModifiedBy>
  <dcterms:modified xsi:type="dcterms:W3CDTF">2007-10-12T15:42:10Z</dcterms:modified>
  <cp:revision>4</cp:revision>
  <dc:subject/>
  <dc:title>Vývoj společnosti podle Alvina Tofflera</dc:title>
</cp:coreProperties>
</file>