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B7A3-4C2E-498A-9269-B9C85EB8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3AC4-B3B3-4D0F-A60A-37807F6C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6BF0-A299-4140-9210-4CC29672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ABC0-4582-45F5-9F70-D84B0735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42A8-7D0C-4743-8828-3995302A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22EA-D688-469B-B571-F6FB91A6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4AA3-1153-4C73-B6C8-9CB79DD7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0F71-758D-40D7-B390-80C5AFBB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40E8-5A31-408D-BB79-2F4BB7D7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C52B-29CD-4BA7-8FFA-A65B710E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BB17-CAF7-426E-8F07-16727DDE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AB2C-E020-479E-9FDA-3903AC90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481F-EAC6-4E07-9DAC-77F8E878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FB71-A0A9-4684-97FA-4400E5E2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5846-9FF6-47CC-AE77-EEFD8375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41E0-23AA-4111-AE61-A8A7E37B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CAB5-BFFD-42D1-8013-F3DA8740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B1EA-47D4-4A17-B24E-89151CFC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5F6E-F033-414A-AEF5-9721EDAB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56FD-0920-4025-AB11-D1F449BE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3AC0-55D8-4DC4-ABE6-D1701E63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E803-156C-4AD4-A236-0C633B28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764D-455B-4EC4-8D54-04A9FC4B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CFBA-3629-445E-8739-428550DF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5721-BA84-4070-8B88-2E3D25F523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E5FD-BB1D-43EC-8F7A-EC61574B4B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Třetí vlna a její důsled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rel Pospíši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adislav Šim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Stret socializmu s budúcnosťo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nalógia nástupu kníhtlače a nových komunikačných médií – vplyv na spoločnos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čítače a komunikácia – dôležitý faktor pádu socializ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etia vlna a jej vplyv na 3 základné piliere socializmu – kolektívne vlastníctvo, centrálne plánovanie a dôraz na materiálnu výrob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Tretia vlna a socializm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ozdiel v toku informácií – kapitalizmus vs. socializ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stoj socializmu k duševnej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313440" cy="29178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940360" y="3357720"/>
            <a:ext cx="1973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Stret voličstie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Chaos západnej civilizác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ozdelenie voličov na dva táb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oj o minulosť - rigidita a lobby druhej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2195640" y="3357720"/>
            <a:ext cx="4744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Voličstvo zajtrajšk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stup druhej vl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masifikácia spoločnosti tretej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aňový a účtový systém – jednotiace t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5715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Dolarový kapitál byl nahrazen lidský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kapitálem. Michael Mil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eníze se pohybují rychlostí světl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informace se musí pohybovat rychlej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errill Ly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ummary první a druhé vln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" descr="Motyka srdcová bez násady&#10;Kliknutím zobrazíte detail obrázku."/>
          <p:cNvPicPr/>
          <p:nvPr/>
        </p:nvPicPr>
        <p:blipFill>
          <a:blip r:embed="rId1"/>
          <a:stretch/>
        </p:blipFill>
        <p:spPr>
          <a:xfrm>
            <a:off x="971640" y="2133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Linka pro testování a laserový potisk"/>
          <p:cNvPicPr/>
          <p:nvPr/>
        </p:nvPicPr>
        <p:blipFill>
          <a:blip r:embed="rId2"/>
          <a:stretch/>
        </p:blipFill>
        <p:spPr>
          <a:xfrm>
            <a:off x="4643280" y="2205000"/>
            <a:ext cx="3048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řetí vl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elné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techn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instit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ěny v podnicí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še jako kvantový skok vyvoláva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 "/>
          <p:cNvPicPr/>
          <p:nvPr/>
        </p:nvPicPr>
        <p:blipFill>
          <a:blip r:embed="rId5"/>
          <a:stretch/>
        </p:blipFill>
        <p:spPr>
          <a:xfrm>
            <a:off x="5292720" y="1557360"/>
            <a:ext cx="2857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, informace a poznán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en shromažďování, ale také dávání do souvislostí a kontex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, data mining, O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é technologie, substituce materiálů, nový logistický přístup, staronové pojetí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nání nahrazuje kapitá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ho se třetí vlna týká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ní faktory – pozn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hmotné hodnoty – získávání a aplikace poznatků (management znalost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masifikace – customizace, digitalizace médií, direct maily,C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– potřeba kvalifikovaných lidí, rekvalifikace, soukromé VŠ, personální agent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ce – nové koncepty, TQM, KAI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řítko – autonomní pracovní týmy, spin-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ganizace – nové struktury, nové typy podniků (joint-venture, holdingy), orientace na proce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stémová integrace a infrastruktura prostřednictvím elektronické komunik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rychlení – ne úspory z rozsahu, ale úspory z rychlosti, assesm. cent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Boli sme hádam poslední, ktorí pochopili, že vo veku informatiky je tým najnákladnejším aktívom poznanie.“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Gorbač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Tretia vlna a nezamestnanosť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ová podoba nezamestnanosti – koniec zameniteľnosti pracovní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možnosť stimulovať zamestnanosť keynesiánskymi a monetaristickými prostriedk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esun od kvantitatívnej ku kvalitatívnej zamestnanosti – stimulácia cez alokáciu pozna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Spektrum duševnej prá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staralosť tradičného delenia na sektory a nové prístupy zoskupovania zamestna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ánik čisto manuálnej práce – vznik „kognitariátu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soko intelektuálne vs. neintelektuálne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esun skutočnej hodnoty výrob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3:47:08Z</dcterms:created>
  <dc:creator>Vrbkovi</dc:creator>
  <dc:description/>
  <dc:language>en-US</dc:language>
  <cp:lastModifiedBy>Vena</cp:lastModifiedBy>
  <dcterms:modified xsi:type="dcterms:W3CDTF">2007-10-13T13:24:19Z</dcterms:modified>
  <cp:revision>5</cp:revision>
  <dc:subject/>
  <dc:title>Třetí vlna a její důsledky</dc:title>
</cp:coreProperties>
</file>