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4EC-AD5C-4F2F-B7C5-42173158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A52-D5DE-4761-A124-6B71C399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21D-8213-42CE-B8F5-F706108E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DF1-70BD-4DE8-AE5F-F432EA4B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AE1-A255-4F07-AB37-79C62B6F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246C-4113-46BA-B6F2-5F96D920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5598-9AFB-4B04-B3F4-D696FBDF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37B-101A-48A9-A7DD-13AF2A36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F23B-B934-4738-805D-89C524C4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E547-344E-4EF8-AA69-012B0BDE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4ABA-1504-4F6A-BCE9-87C2EC5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7F1-18E7-4FCF-90C2-FEBF74A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799B-2C7C-45E9-9F99-C872728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62E9-6EE4-4069-9072-5FC8305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2A4B-2407-427A-BCF1-658EDB56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EE98-9201-4C0F-885B-A7D97530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00A6-D1E9-49E4-8E2D-949DE19E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224-C3B9-4B05-9221-C30CB8ED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E2B-3086-47AF-B553-0C58785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C62-7F6D-4BA8-88CA-5458AD2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D3D-50DC-4DEE-9B74-F4F8151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B2E-C178-4EEF-902E-1A496E64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1F8-4453-4D21-935C-EEE97290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7D1-6F54-45C2-9D3F-E0A5EA6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9749-A599-40E4-8CCE-D079B18FC55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6FD-F79E-451D-A0FE-681D628EC5E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apitalistický du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základní pojem Weberových úva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 étos práce jako sebeúčelu- specifický pro protestantské smě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ovinností člověka je zvyšovat svůj kapitá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cílem zvětšování kapitálu je iracionální pocit „naplněné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volání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ydělané peníze nemá člověk vynaložit na uspokojení svý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a jeho formování se výrazně podílela reform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ické dogma o predestinac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Bůh určil kdo je vyvolený ke spáse a kdo není, nik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ví jestli je vyvolen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nemůže boží volbu nijak ovlivnit ani změni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ři snaze věřícího o spasení mu nikdo nepomůže- žádn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zatel, svátost nebo círk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tolické dogma o predestinac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církev člověku může pomoci s jeho snahou o spase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gma o predestinaci bylo věřícími těžko přijímá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ám Kalvín se považoval za vyvoleného- cítil se být „boží zbrojí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sy o zmírnění dogmat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uložení povinnosti považovat se za vyvolené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poručení neúnavné práce v povolání- nejlepší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prostředek, jak se ujistit o své spá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tolictv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ahodilé konání dobrých skutků, nemusí spolu souv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brými skutky může věřící odčinit svoje hří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hodnota skutků závisí na jejich úče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jednotlivé hodnoty se sčítají, celková hodnota určí věčn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sud člově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věřící udělal něco, čím se zpronevěřil církevním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učení, mohl využít svátost pokání a zbavit se tíže svědom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m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chce jednotlivé skutky, ale „trvale vysluhovan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vatost“=&gt; plně racionalizovaný systé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existuje celková suma skutk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existuje svátost pokání- věřící se s tím musel vyrovn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á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skeze má v západní Evropě dlouhou tradici sahající až do d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tik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stupně se vyvíjela: od poustevnictví k mnišské askez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pracovaná metoda, jak vést život racionálně, učila trval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bekontrole a uvědomování si důsledků svých činů- společné p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tolickou i kalvinistickou askez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skeze byla v katolictví pěstována především v klášterech, pokus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prosazení askeze do světského života skončily neúspěc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é měli povinnost žít asketicky ve svém všedním živo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ouvisí s řádem a systematičností v každodenním živo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volání- oddanost každému úkolu pro úkol sám, je to morál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ávaz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dmítá nestálé povolání- ten, kdo je nemá, tráví více č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ahálkou než prací a vězí ve věcném zmat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íky pevnému povolání má člověk v životě systemati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může vykonávat více povolání zároveň nebo práci změ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ři změně povolání je důležitá užite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 zjištění užitečnosti se používají 3 měřítk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mravní měřít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ůležitost produkovaných statků pro spole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výnosnost- v běžném životě nejdůležitějš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Bůh ukázal kalvinistovi možnost jak zbohatnou, měl urči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ějaký úmysl- věřící se má jeho pokyny řídit a možnosti využí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věřící odmítne zbohatnout, zdráhá se být božím správc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má k nabytému majetku závazek- byl mu svěřen bož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l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 růstem majetku roste zodpovědnost při jeho spravová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abyté bohatství se nemá použít k rozmařilému životu, ale má bý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užito pro Boha, až o to požád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Dopad kalvinismu na hospodářské uspořádání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ůsledkem kalvinistické askeze a snahy po zisku byla ohromn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kumulace kapitá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pitálu se až do konce 18. století nedostáva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é se nesnažili dostat mezi šlechtu a neinvestovali peníz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půdy, ale do průmyslu a podíleli se na rozvoji finanční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luž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racionalizace a kvantifikace podnikání- změna zaměře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ematiky- nástroj kvantifik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vlivnil podobu nově vznikajících demokratických států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ředevším USA- oddělení výkonné a zákonodárné mo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form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ztah kapitalismu a protestantství v díle Maxe Web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apitalistický d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ozdíly mezi kalvinismem a protestantstv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oncepce povol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opad kalvinismu na hospodářské uspořád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lternativní pohled na vztah kapitalismu a nábožen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82400"/>
                </a:solidFill>
                <a:latin typeface="Times New Roman"/>
              </a:rPr>
              <a:t>Alternativní pohled na vztah kapitalismu a náboženství</a:t>
            </a:r>
            <a:endParaRPr b="0" lang="en-US" sz="2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edstavuje ho Werner Somb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oučastník Maxe Web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apitalistického ducha neformoval protestantismus, ale židovs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ozmístění Židů po celé Evropě a zároveň jejich spojení vírou ji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možnilo vytvořit síť obchodních spoje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ozvoj obchodu jim umožnil nové obchodní a finanční nástro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&gt;ty zpětně ovlivňovali jejich úspěšnost=&gt; ze Židů se stali úspě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finančníci a podnikatel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židovské náboženství u věřících vyvolává smysl pro dodržov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mluv- Židé ho chápou jako smlouvu s Hospodin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c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ýznamné hnutí evropských děj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14.- 16. stole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cíl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ávrat církve k jejímu původnímu posl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zbavení církve politického a ekonomického vli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íčiny vzniku reformace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ociální problémy=&gt; důsledek odklonění církve od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votního křesťanství=&gt; lidstvo směřu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k Poslednímu sou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úpadek církevních mravů+ neúspěšná snaha církve o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astní nápra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naha církve o vlastní náprav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řadoví kněží se snažili dodržovat Boží přikáz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hodnostáři se snažili o reformu= koncilní hnut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čátek 15. stole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blémy měly odstranit závěry přijaté na koncile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oncily tvořeny biskupy, hodnostáři, učen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blém: je koncil nadřazený papeži nebo není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vní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eformátoři se snažili jen o nápravu církve, ne o vyčlenění a vzn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nové círk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ohn Wycliff- stát má zbavit církev politického a ekonomickéh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i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an Hus, Jeroným Pražský- oslovily široké vrstvy obyvatelst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&gt; vojenské prosazení =&gt; basilejské kompaktáty- 143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 Čechách a na Moravě mohly existovat dvě víry: katolictv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kališnic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ěmecká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očátek- 15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uchovní otec: Martin Lu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řesťané mají žít v chudobě a odříkání a mají se řídit písm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vatý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tát má převzít majetek círk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ívrženci byli šlechtici i prostý lid=&gt; rozdělení na umírněné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radiká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adikálové vyvolali lidová povstání= německá selská vál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i přes jejich porážku další šíření reform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ěmecká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onec 20. let 16. století- říšský sněm ve Špýru- katolíci chtě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lačit reformaci hlasováním o správnosti myšlenek reformac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zastánci reformace byly proti- o teologických myšlenkách se ned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hlasovat=&gt; protestan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onec reformace: augsburkský náboženský mír- 1555=&gt; uznání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testantského nábožens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ce ve Švýcarsk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eformace se z Německa šířila do ostatních zemí, nejví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řívrženců našla ve Švýcars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Huldrich Zwingli- větší důraz na etickou stránku křesťana než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Luth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an Kalví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ejradikálnější reformační proud- kalvinism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ůsledně etická náboženská soust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šíření po Evropě: Francie (hugenoti), Anglie (puritá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ejvětší vliv- Severní Amer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Vztah kapitalismu a protestantství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Max We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testanti mají větší podíl na vlastnictví kapitálu a na vyšší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pních řízení než jaký je jejich podíl na počtu obyvat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je potřeba kapitál, nákladné vzdělání nebo oboj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bdobná situace v 16. století- většina bohatých měst se přikloni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 protestantstv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&gt; proč jsou bohatí lidé potažmo města protestanti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dpověď- vnitřní povaha protestantství- sklon k ekonomické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cionalismu, který chybí u katolicis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4:38:48Z</dcterms:created>
  <dc:creator>I</dc:creator>
  <dc:description/>
  <dc:language>en-US</dc:language>
  <cp:lastModifiedBy>I</cp:lastModifiedBy>
  <dcterms:modified xsi:type="dcterms:W3CDTF">2007-07-04T16:40:30Z</dcterms:modified>
  <cp:revision>19</cp:revision>
  <dc:subject/>
  <dc:title>   </dc:title>
</cp:coreProperties>
</file>