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0A94-BFF7-416A-8B1D-AC43AA01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99AF-A4CA-4CC7-AD89-2FAA2FD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70CD-934F-451C-A50C-9A35C024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8763-5352-4617-89F5-AE193EF4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E25-F100-4AE5-9622-F1F351D6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55C-20A3-4BC1-85B2-035367D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39B4-78B8-4AA3-9B98-903C3F4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272C-134A-4B66-B629-AC8ACA2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5DFC-DE2C-4B29-85B3-845F0EA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1DA7-6FF0-403E-B600-67C66E46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2384-E923-4F62-8320-28047F3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9AD8-204F-4C61-840F-5375B30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98C-47F0-40FC-A3C5-D892BDA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D3C-F51D-4700-AA20-5A78F459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0704-B0FB-4060-9EE9-0FC77B2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5B5-BA91-4FBD-B641-0EDF01CA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788-6330-4B18-8BE3-B9E15CA5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8EBF-A0E3-47FC-AD2A-CC5C17D5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42EE-6C26-42BC-BF1F-E518A7C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45CA-9B43-4FFD-8905-2572C60C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52DE-64CB-4FF2-B369-A667EA0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F62A-8333-4990-A342-BA7548F1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0578-C084-43A7-8E0C-5B3A608B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ED02-AA0B-465F-A5C2-0A5FC4B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15A-7664-4A58-B69F-98A778096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E2DD-6326-4349-BA10-364D6E180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Zrod a vývoj kapitalismu jako fenoménu industriální společnosti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Iva Bernkopf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ichal Mac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etr Dolež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tolická církev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ík neměl svůj osud v ruk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ud byl v rukou kně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ictví neodblokovalo tu nejdůležitější morální a etickou brzdu pro  vývoj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liv protestantismu na ekonomi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vě proměnné: etika a ekonomické chování subjekt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ybný moment produktivity – práce jako posvátný závaz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lon k úsporám – novými ctnostmi jsou střídmost, spořivost a odří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výroby a minimalizace spotřeby jsou zároveň v jedné etické matici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cná i morální potřeba inves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ční riziko se stává imperativ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entace na kalkul – kalvínská etika podněcuje racionální uvažov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vantifikace průmyslu, uplatňování matematických systém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astnictví a zisk je ospravedlněno – člověk jako hospodář na majetku Boží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zisku je výrazem efektivního (=dobrého) hospodař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1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zice obchodníků</a:t>
            </a:r>
            <a:br>
              <a:rPr sz="32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76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ění se společenská pozice obchodní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vě se definuje pojem vlastnictví – i obchodník má morální právo na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atňuje se maximalizace zisku, ale je zde také podmínka vcítění se do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elospolečenské hledisko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ždý člověk má právo na vze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yramidová třídní struktura – třídy jsou otevřené, možný je pohyb jak nahoru, tak i dolů. Pohyb směrem dolů je ovšem nežádou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střední třídy (např. Amerik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ristokracie jsou nahrazeny tvz. </a:t>
            </a:r>
            <a:r>
              <a:rPr b="0" lang="cs-CZ" sz="2400" spc="-1" strike="noStrike">
                <a:solidFill>
                  <a:srgbClr val="ff9933"/>
                </a:solidFill>
                <a:latin typeface="Arial"/>
              </a:rPr>
              <a:t>meritokraciem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láda těch, kteří si to zaslou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eníze se stávají hlavním prostředkem společenské od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í tržní hospodářství má protiválečné a proti-revoluční t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a rozkvět povolání jakými jsou podnikatelé, manažeři, obchodníci, burzovní makléři, banké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inismus versus marxismu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le Marxe je neodstranitelnou vadou kapitalismu jeho neschopnost uspokojit potřeb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vorba kapitálu vyžaduje podle něho vykořisťování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zaškrcování kupní síl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ato námitka o nevyhnutelné polarizaci životní úrovně byla vyvrácena (vznik střední tříd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anipulace spotřebitel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931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očátku byl prodej pouhým prodloužením výr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 rostoucí hojností spotřebních statků bylo důležité, aby se z nekupujících staly kupují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ej byl rozšířen o novou manipulativní dimen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říve jen průzkum trhu, poté se prosazuje další manipulace v rámci koncepce podpory prode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jmy kupujících a prodávajících jsou v protikla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rxisté a merkantilisté považují kapitalismus za nemravný a dlouhodobě neefekti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06436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Trh a americká kul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jvětší rozmach  trhu nastal po druhé světové vál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ovace trhu spíše než inovace výrobní technik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ultura materialistická a ideová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í se etika kalvinismu – výroba se má orientovat na zisk. USA jsou nejrychleji se nerozvíjející zemí na svět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ízká produktivita je zapříčiněna i koncentrací a monopolizací výrob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ínská etika v dnešním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tup od spoření, od asketismu k hedon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potřeba současných i budoucích statků – život na dlu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šeobecná neochota podstupovat riziko a investo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tírá se rozdíl mezi investicemi, spořením a spotřeb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labení racion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ení posvátnosti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znemožňují vytváření bohats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h straní nadprůměrným, stát podprůměrný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narušují suverenitu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é rovnostářství spojené s elitářstvím stvořilo efektivní systé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časný příklon k rovnostářství efektivitu snižuj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Obsah prezent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yšlenky, které stály u zrodu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iv protestantismu na ekonom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měny ve společ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á etika v dnešním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ER, M.: Protestantská etika a duch kapitalismu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TZ, W. G.: Protestantská etika a tržní hospodářstv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ztah mezi protestantismem a kapitalism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Weber(1864-19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konci 19. století byla empiricky zjištěna vyšší ekonomická úroveň protestantských zem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otestantismu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větový křesťanský útv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znikl  z reformace Luthera, Kalvína v 16.stolet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9933"/>
                </a:solidFill>
                <a:latin typeface="Arial"/>
              </a:rPr>
              <a:t>Reformace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(lat. </a:t>
            </a:r>
            <a:r>
              <a:rPr b="0" i="1" lang="cs-CZ" sz="2600" spc="-1" strike="noStrike">
                <a:solidFill>
                  <a:srgbClr val="ffffff"/>
                </a:solidFill>
                <a:latin typeface="Arial"/>
              </a:rPr>
              <a:t>znovuobnovení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) byl proces v křesťanské církvi s těžištěm v 16.století s cílem nápravy poměrů a návratu ke křesťanství, nezatíženému tradic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Církve: kalvinisté, luteráni, reformovaní, methodisté atd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Anglosaské státy, Švýcarsko, Německo a Skandináv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yšlenky protestant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pora ekonomického racionalismu ve větší míře než katolí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tší pud po zisk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Úspěšnost zemí díky dědictví po předcích(peníze,výchova a vzdělání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 základní pilíře zrodu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volání podle Luth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Učení o predestinaci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nitrosvětská askeze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volání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lnění této povinnosti = nejvyšší obsah, který může mravní sebekontrola vůbec přijmo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áce dostala silný náboženský výz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edestin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dstvo je od začátku rozděleno na ty, kteří budou spaseni a na ty, kteří budou zatrace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Člověk toto nemůže sám ovlivn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áznak = úspěch v prá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volnění věcí pozemských a nebeských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znik podni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Vnitrosvětská askez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Člověk = služebník božích statků na zem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pěch = mravní měřítko úspěšnosti ve využívání stat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žehnaný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být úspěšný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růst luxusního konzumu a růst výdělečné čin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8:51:50Z</dcterms:created>
  <dc:creator>Miroslav Bernkopf</dc:creator>
  <dc:description/>
  <dc:language>en-US</dc:language>
  <cp:lastModifiedBy>Miroslav Bernkopf</cp:lastModifiedBy>
  <dcterms:modified xsi:type="dcterms:W3CDTF">2007-10-17T20:27:27Z</dcterms:modified>
  <cp:revision>14</cp:revision>
  <dc:subject/>
  <dc:title>Zrod a vývoj kapitalismu jako fenoménu industriální společnosti </dc:title>
</cp:coreProperties>
</file>