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E84B8-89EB-4E32-801B-93B2F7E41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615BE-F017-4901-BF67-83C5E121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429EC-C04E-458D-A411-AAD324D4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F0C4F-1422-4FEE-91CC-DB40FDB89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1825-3B22-488C-9796-B6403215F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5BE8-F062-4309-8A70-7A6DE454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5B50-F73F-4F5C-975C-85DEFFF5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0949-2A49-489B-8DCA-28682A9F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67DF-DA9F-4177-B673-1B32329E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7958-8A44-4D4F-A007-0F78EBA2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E105-4CDF-4125-AD82-0D4DB5A1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85C79-81AF-43AE-A8CD-80137032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D91C-358E-4DE1-9AA4-F0E009AA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4EEB-0E36-450A-A2BE-1E2B4DEE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6487-7D40-458C-94D0-579D198E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9387-4DA8-4928-88FE-792B355E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C7BB-D674-4D04-A428-DF0DBAFD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CCDB1-F1E7-4895-AAAC-8E713957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941C4-4E8F-4ECD-A5F4-8F898C7B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51E3C-46A6-44FC-A7DD-F63DC872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EB25D-4CC6-4D48-BD72-AA8529CF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B2938-87B6-4256-8D21-64632CDF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FD528-2A4A-407F-974E-B28E33C7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E3959-F97A-4B52-83D0-0E1FAAC2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143A-53D4-4558-8323-5F553F3CA3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620E-D9E6-419A-87E6-606258ABAD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Arial"/>
              </a:rPr>
              <a:t>Vývoj společnosti        v pojetí A. Tofflera</a:t>
            </a: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20364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sef Jalův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c. Petr Houš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ona Vitézov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ozmanitos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manitý soubor možností v životě člově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dměrný výběr x standard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emíra subkultur – rychlé střídání, vznik a zán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manitost životních styl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ranice adapt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mezené hranice adaptibility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lověk má omezenou kapacitu pro změn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kud je kapacita překročena, nastává šok z budoucnosti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íznaky přetížení (bušení srdce, třes, nespavost, podrážděnost, atd.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Čelní obran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bránění šoku z budoucnosti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naha omezit přísun informac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naha regulace množství rozhodnut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potřeba vytvořit si zóny stabil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uační skupi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hlcovače šoku z budoucnosti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dé se zde scházejí, vyměňují myšlenky a postřeh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zabývá se minulost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Poradenská služba pro krizové situac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 psychologii je „krizí“ každý významný zl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„velká životní změna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adenský systé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rizoví poradci – pověření lidé z řad studentů, obchodníků, učitelů, dělníků,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y na půl ces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užívá se ve věznicích pro tre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zv. přechodná institu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ategie aplikace i na všední živ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klávy minul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izovaná středis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munity, kde se zastaví č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hou sloužit jako učební pomůc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klávy budouc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smonauti absolvují výcvik v uměle vytvořeném prostřed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icisté mají předběžné zprávy a popis pachate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akce na změn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Škola v industriální společnost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řeba nového přístupu k čas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ové vzdělá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Školní systém = okno do budoucnost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vrdá disciplína, nedostatek individuálního přístup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čení ve školách zaměřeno na minulost a končí u přítomnosti.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budoucnosti škola mlč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zdělání musí přejít do budoucího čas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trategie zaměření na budoucnost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ce získané předem umožňují výraznou změnu ve výko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ávyk předvídání“ = schopnost dívat se dopř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ychlejší tempo změ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ál se dívat do budoucnost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řeba dívat se na „správnou vzdálenost“ do budouc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echnologi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dnou z účinných strategií v boji proti masovému šoku z budoucnosti je vědomá regulace technologického výv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tická odezva v mnoha zemí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pětný dopad technolog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zohledné pokusy zastavit technologii přinesou stejně ničivé důsledky jako bezohledné pokusy technologii zrychlova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kdo, ani ten nejlepší vědec, doopravdy neví, kam nás věda ve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ové institu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řeba vytvořit nové politické institu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podpora či zamítnutí nové technolog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trola technologie neznamená omezení svobody výzkum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ždá společnost technické inovace předem vybírá a potom schvaluje použi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ápad – základním kritériem ekonomický zisk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munismus = zda přispěje k všeobecnému hospodářskému růs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oužitá literatur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FFLER, A. Šok z budoucnosti. Praha : Práce, 1992. ISBN 80-208-0160-X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revolutionarywealth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britskelisty.c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obnost Alvina Tofflera (jeho dílo, názory a poznatk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nózy budoucího vývoje společ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užitá litera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427640" y="2349360"/>
            <a:ext cx="438768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Arial"/>
              </a:rPr>
              <a:t>Děkujeme za pozornos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39276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lvin Toffler (*3.10.1929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isovatel a futurol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Žena Heidi – také futurolož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bývá se především problémy spojenými s tzv. „třetí vlnou“ hospodářského vývoje spol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4"/>
          <a:stretch/>
        </p:blipFill>
        <p:spPr>
          <a:xfrm>
            <a:off x="4932360" y="1413000"/>
            <a:ext cx="369576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těžejní díl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20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Šok z budoucnosti (Future Shock, 196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ýza vznikajících problémů americké společ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řetí vlna (The Third Wave, 198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ástup technologické revol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3"/>
          <a:stretch/>
        </p:blipFill>
        <p:spPr>
          <a:xfrm>
            <a:off x="7164360" y="1484280"/>
            <a:ext cx="1701720" cy="23763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4"/>
          <a:stretch/>
        </p:blipFill>
        <p:spPr>
          <a:xfrm>
            <a:off x="7164360" y="4149720"/>
            <a:ext cx="1701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blast zájmu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měny spojené s technologickou revolucí (třetí vln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pady těchto změn na člověka a společnost jako cel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3"/>
          <a:stretch/>
        </p:blipFill>
        <p:spPr>
          <a:xfrm>
            <a:off x="4859280" y="3433680"/>
            <a:ext cx="39258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ěkteré prognóz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rní technologie a informační systémy umožní, aby mnoho lidí pracovalo z domova, prostřednictvím počítačů, propojených do centrálních sítí po telefonních linkách“ (196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ironické, že lidé budoucnosti nebudou trpět nedostatkem výběru výrobků, ale naopak příliš velkým výběrem, který je bude mást a dezorientovat“ (196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onec stálost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0. generace – naprostá většina věcí, které používáme, přišly v poslední genera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 se kdysi přihodilo jen někomu, dnes zasahuje všechny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ologie živí technolog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omíjivos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nímání zrychlování staršími lid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élka trvání vztah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vorba skupin pro jednotlivé úk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ritika Evropské Un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ovos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vá společnost, ne změna star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oluce v celé společ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last vě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ýrobci zážit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tříštěná rodina – „pohlcovač šoků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3:56:52Z</dcterms:created>
  <dc:creator>Simavita</dc:creator>
  <dc:description/>
  <dc:language>en-US</dc:language>
  <cp:lastModifiedBy>Simulka</cp:lastModifiedBy>
  <dcterms:modified xsi:type="dcterms:W3CDTF">2007-10-17T13:20:41Z</dcterms:modified>
  <cp:revision>13</cp:revision>
  <dc:subject/>
  <dc:title>Snímek 1</dc:title>
</cp:coreProperties>
</file>