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A075-01B4-48AA-8DEB-0671A201B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8F16-46B6-4637-95A0-CF0E174C1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CBAA-AFF9-4063-A667-05EFA7C1A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8FE9-F76E-4B91-8D9B-8B73C79C7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5F477-3BFF-4FB8-96A6-7C41CACAE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D824C-F7D0-40B1-9833-2E44E4C91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94418-5B19-4AFD-AF40-C25458725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EB735-B3FE-4A81-A93D-3BC10DC25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1115F-88F6-4291-8B76-0D2F6F0DA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470F9-02C4-4D30-955A-6B4135E57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2FB80-9818-4D92-9E33-E1166E5CE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0F5A-C3A6-476F-92F1-7B0EACD70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5FE9E-1355-4880-9832-F37B7E202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E91CE-F0F9-450A-8AA7-75744A991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A7236-DAC7-46A8-A7E0-C4C27C90C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57FBE-B144-4EF8-86C0-BAC9D8B25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9D718-79B5-4F85-BB43-CE01FBA0D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0027-18B9-4EF8-824A-E9F6341A3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940E-BB5C-4D63-91A9-E987BD8CD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C5E8-4D03-4C72-9B8F-CE7EE8BBC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4E3A-8244-4C5A-9B45-06F3E4C10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DA46-7A30-42FC-9250-F98054D16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F84C-6398-4AA3-8426-4CCA58C92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C159-7BE9-4B2B-BE67-69FEF8CC3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60928-E146-4188-9B9C-D2A1D0987EC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5E7E8-6E37-484C-B0D7-249005A4134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ŘÍZENÍ PROJEKTŮ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tr Smutný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dlišnosti P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Čím se PM liší od běžného operativního řízení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časnos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čnos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řidělení zdrojů podle potřeb projektu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ýhody P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ůsledné přiřazení odpovědnosti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zdroje jsou přiděleny podle potřeby a poté uvolněny =&gt; flexibilita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ytváří podmínky pro sledování skutečného průběhu oproti plánu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émový přístup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výhody / rizika P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specifické požadavky zákazníků se často objevují až v průběhu realizace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nutnost častých org. změn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nutnost plánovat a oceňovat v předstihu před realizací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uktura přednášk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č přednáška o řízení projektů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jektový manage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jekt – defin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ní pohled na projek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ciace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ánová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Říze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ontrola průběhu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onče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teratura ke studi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inář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 je projek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časné úsilí vynaložené na vytvoření unikátního výsledku (produktu / služby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časnost = je stanoven začátek a kone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kátn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219320" indent="-304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í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19320" indent="-304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chnologi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19320" indent="-304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dé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19320" indent="-304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nější vlivy a rizik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&gt; jedinečnost = každý projekt se provádí pouz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edno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3399"/>
                </a:solidFill>
                <a:latin typeface="Tahoma"/>
              </a:rPr>
              <a:t>Základny PM - trojimperativ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jekt je jedinečný sled aktivit a úkolů, který má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án specifický cíl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ována časová omezení působnosti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e stanoven rámec pro čerpání zdrojů na realizaci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755640" y="3573360"/>
            <a:ext cx="3672000" cy="26179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4572000" y="3573360"/>
            <a:ext cx="3887640" cy="25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Problém vzájemné podmíněnosti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jednotlivé kategorie trojimperativu jsou vzájemně  propojen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specifická povaha projektu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určuje </a:t>
            </a:r>
            <a:r>
              <a:rPr b="1" lang="cs-CZ" sz="2400" spc="-1" strike="noStrike" u="sng">
                <a:solidFill>
                  <a:srgbClr val="000000"/>
                </a:solidFill>
                <a:uFillTx/>
                <a:latin typeface="Tahoma"/>
              </a:rPr>
              <a:t>relativní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důležitost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každé podmínky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trojimperativu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=&gt; je nutno hledat </a:t>
            </a:r>
            <a:r>
              <a:rPr b="1" lang="cs-CZ" sz="2400" spc="-1" strike="noStrike" u="sng">
                <a:solidFill>
                  <a:srgbClr val="000000"/>
                </a:solidFill>
                <a:uFillTx/>
                <a:latin typeface="Tahoma"/>
              </a:rPr>
              <a:t>vyvážené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řešení. Jde spíše o optimalizační problém (x maximalizace jednotlivých kategorií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364000" y="2565360"/>
            <a:ext cx="352764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Tahoma"/>
              </a:rPr>
              <a:t>Překážky splnění podmínek trojimperativu (1/3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blémy s provedením (kvalitou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špatná komunikace mezi zákazníkem a dodavatelem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říliš ambiciózní předpoklady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yby dodavatele při plánování či realizaci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Tahoma"/>
              </a:rPr>
              <a:t>Překážky splnění podmínek trojimperativu (2/3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émy s čas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dostatek zdrojů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dměrný důraz na kvalitu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ení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492360" y="3213000"/>
            <a:ext cx="5327640" cy="35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Tahoma"/>
              </a:rPr>
              <a:t>Překážky splnění podmínek trojimperativu (3/3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blémy s náklad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těž lhářů“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ůsledek řešení časových skluzů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říliš optimistické počáteční odhady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yby při kalkulaci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uktura přednášk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č přednáška o řízení projektů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jektový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jekt – defin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ní pohled na projek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ciace projekt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ánování projekt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Řízení projekt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ontrola průběhu projekt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končení projekt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eratura ke studi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nář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uktura přednášk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č přednáška o řízení projektů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jektový manage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jekt – defin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cesní pohled na projek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ciace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ánová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Říze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ontrola průběhu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onče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teratura ke studi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inář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Základní procesní mode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187280" y="1989000"/>
            <a:ext cx="7777440" cy="39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Životní cyklus projekt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826920" y="2063880"/>
            <a:ext cx="8066160" cy="41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Průběh procesů v rámci životního cyklu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187280" y="1989000"/>
            <a:ext cx="7632720" cy="41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uktura přednášk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č přednáška o řízení projektů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jektový manage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jekt – defin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ní pohled na projek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iciace projekt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ánová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Říze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ontrola průběhu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onče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teratura ke studi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inář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novení cílů projekt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cíl projektu = nová hodnota, která je výsledkem projek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S.M.A.R.T. (Specicic, Measurable, Assignable, Realistic, Time-boun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=&gt; kritéria dosažení úspěch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zakládací listina projek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formalizuje existenci projekt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přiděluje manažerovi projektu pravomoci pro použití zdroj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definuje odpovědnost manažera za naplnění požadavků projektu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áklady projekt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předběžný rozpočet projektu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=&gt;stanovení ceny projek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cena z pohledu dodavatele = náklady + zis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cena z pohledu zákazníka = rozhodování o návratno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cenové strategi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strategie nejnižší nabídk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podcenění prvního projektu (buy-in/bail-out s.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c. s. často leží mimo odpovědnost proj. manažera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=&gt;podklad pro uzavření kontrak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Způsob pořízení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nákup vs. vlastní realiz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poř. nákl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kapacity pro realizac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organizační nárok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rizika změ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met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doba návratnost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diskont peněžních tok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rentabilita projekt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Uzavření kontrakt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hoda o provedení určitého pracovního výkonu nebo o dodávce produktu /služ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ontrakty založené na nákladových cená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kázané náklady + proměnná částk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lačí dodavatele ke snižování náklad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ákazník musí mít silné kontrolní pravomoc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ontrakty založené na pevné ceně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a zahrnuje i přiměřenou rezerv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často bývá doplněna o cílovou odměn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uktura přednášk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č přednáška o řízení projektů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jektový manage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jekt – defin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ní pohled na projek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ciace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ánování projekt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Řízení projekt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Kontrola průběhu projekt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končení projekt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teratura ke studi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minář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uktura přednášk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č přednáška o řízení projektů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jektový managemen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jekt – definic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cesní pohled na projek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ciace projektu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lánování projektu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Řízení projektu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Kontrola průběhu projektu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končení projektu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teratura ke studiu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minář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 je třeba plánova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chnologii a metod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zdroj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áklad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č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chéma plánování projekt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468360" y="2060640"/>
            <a:ext cx="842472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3399"/>
                </a:solidFill>
                <a:latin typeface="Tahoma"/>
              </a:rPr>
              <a:t>Podrobný rozpis prací </a:t>
            </a:r>
            <a:r>
              <a:rPr b="0" lang="cs-CZ" sz="1200" spc="-1" strike="noStrike">
                <a:solidFill>
                  <a:srgbClr val="333399"/>
                </a:solidFill>
                <a:latin typeface="Tahoma"/>
              </a:rPr>
              <a:t>(Work Breakdown Structure)</a:t>
            </a:r>
            <a:endParaRPr b="0" lang="en-US" sz="1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vychází z definice předmětu projekt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rozepisuje požadovaný produkt do logické hierarchie úloh (činností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je důležitým východiskem pro řízení všech tří složek trojimperativ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rozpis úseků práce (kdo co dělá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časový rozvrh projektu (kdy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plán čerpání nákladů (rozpoč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lánování čas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5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definuje v jakých termínech a časových sledech budou práce na projektu probíhat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nástroje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ahoma"/>
              </a:rPr>
              <a:t>úsečkové grafy (Ganntův diagam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+ přehlednos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+ jednoduchost konstrukc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neukazují závislosti mezi úkoly (činnostmi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změna v délce jedné činnosti se (automaticky) nepromítne do zbývající části hramonogramu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ahoma"/>
              </a:rPr>
              <a:t>síťové graf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P.E.R.T. – dobu trvání stanovují na základě optimistických realistických a pesimistických variant odhadů trvání činností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G.E.R.T – zdokonalení metody PER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C.P.M. – založena na analýze tzv. kritické cesty = nejdelšího sledu úkolů, který neobsahuje žádné časové rezervy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+ souhrnně prezentují souvislosti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+ umožňují hledat alternativ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+ mají definovanou kritickou cestu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- složitos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- nepřehlednos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zpočet projekt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časově fázový plán reprezentovaný peněžními nebo pracovními jednotkami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án čerpání zdrojů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 celkovém souhrn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 rozpisu do detailních polože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 časovém fázování podle předpokladu postupu čerpán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tody: viz specializované předmě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lokace zdrojů – problém omezených zdrojů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ův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možňuje dlouhodobě efektivní využití zdrojů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amezí konfliktu při použití konkrétního zdroj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ompromis mezi časem a nákl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oda uhlazení použití zdrojů – vyhladí špičky využití pracovních sil v dílčích úsecích =&gt; ovlivňuje délku projekt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oda umístění zdrojů – hledá nejkratší možnou kritickou cestu vzhledem k limitovaným zdrojů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uktura přednášk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č přednáška o řízení projektů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jektový manage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jekt – defin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ní pohled na projek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ciace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ánová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Řízení projekt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Kontrola průběhu projekt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končení projekt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teratura ke studi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minář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REALIZAČNÍ FÁZE PROJEKTU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Realizační fáz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projektu zpravidla vyžaduje největší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úsilí a největší náklady. Spočívá v řízení a kontro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jektovaných prací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Řízení probíhá v reálném čase podle plán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ontrolují se odchylky od plánu způsobené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předvídatelnými rušivými vlivy, ale také chybami v koncepční fázi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 základě odchylek v čase, nákladech či kvalitě se přijímají korekční opatření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blémem řízení realizační fáze je skutečnost, že odchylky jsou na sobě vzájemně závislé a korekce času, nákladů a kvality představují optimalizační úloh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Zájmové subjekty v řízení podniků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109960"/>
            <a:ext cx="777240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jedinci nebo organizace, kteří jsou zapojeni do projektu anebo jejichž zájmy jsou ovlivněny realizací projektu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hou mít zcela rozdílné zájmy a proto jejich sladění bývá největším problémem projektového řízení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K nejdůležitějším z nich patří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Zákazník – objednavatel (uživatel) výstup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vestor – poskytuje finanční zdroje na projek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ktový manažer – zodpovědný za realizaci projektu na operativní úrovn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Členové projektového týmu – pracovníc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ládní instituce, místní správ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Jednotliví občané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Projektový tým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8083440" cy="41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rojektový tým –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hraný tým pracovníků s minimálními konfliktními vztahy, zaměřený a motivovaný dosáhnout cíle projektu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ým musí být motivován na dosažení cí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 týmu musí být vytvořena atmosféra důvěry a odhodlání dosáhnout očekávaného výsledk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členové týmu musí mít možnost projevit svůj názor - týmově analyzovat a řešit problém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č přednáška o PM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ěnící se charakter prostředí a jeho vliv na řízení podniků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žadavky podniků na uchazeče o manažerské pozice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le manažera projekt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kombinace řízení a vedení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kvalifikac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odborn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soft-skills – vedení lidí, motiv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komunik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uktura přednášk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č přednáška o řízení projektů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jektový manage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jekt – defin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ní pohled na projek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ciace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ánová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Říze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ontrola průběhu projekt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končení projekt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teratura ke studi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minář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č kontrolova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1187280" y="1989000"/>
            <a:ext cx="74170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ontrola průběhu projektu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je součástí řízení projekt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probíhá ve všech třech dimenzích trojimperativ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kontrola provedení (kvalit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kontrola časového postupu prac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kontrola čerpání náklad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uktura přednášk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č přednáška o řízení projektů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jektový manage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jekt – defin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ní pohled na projek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ciace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ánová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Říze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ontrola průběhu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končení projekt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teratura ke studi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minář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Uzavření projekt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kceptace = schválení výstupů projekt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ředání výsledk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dnocení průběhu projektu 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plnění cíl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dnocení kvality výstupu i proces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vantifikace rizik, která nastala (odhad možného opakování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uktura přednášk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č přednáška o řízení projektů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jektový manage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jekt – defin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ní pohled na projek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ciace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ánová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Říze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ontrola průběhu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onče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teratura ke studi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minář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teratura ke studi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SVOZILOVÁ, Alena. Projektový Management. Grada: Praha, 2006. (ŘÍZ 539)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ROSENAU, Milton D. Řízení projektů. Computer Press. Praha, 2003. (ŘÍZ 410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FIALA, Petr. Projektové řízení. Modely, metody, analýzy. Professional Publishing: Praha, 2004. (ORG 473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GROS, Ivan. Kvantitativní metody v manažerském rozhodování. Grada: Praha, 2003. (ORG 388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ěkuji za pozornos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Ad 1) měnící se charakter prostředí…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utný rychlý vývoj nových produktů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utné časté a rychlé změny procesů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dividualizace produkce podle požadavků zákazník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šechny tyto faktory vyžadují užití jednorázového řízeného sledu činností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d 2) požadavky podniků na manažer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771640" y="1989000"/>
            <a:ext cx="9325080" cy="69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č přednáška o PM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&gt;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stoucí důležitost znalosti PM pro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dniky i absolven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uktura přednášk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č přednáška o řízení projektů?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jektový man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jekt – defin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ní pohled na projek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ciace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ánová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Říze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ontrola průběhu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onče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teratura ke studi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inář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Co je to projektový management?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uhrn aktivit spočívajících v plánování, organizování, řízení a kontrole zdrojů za účelem splnění (relativně) krátkodobého cíle, který byl stanoven pro realizaci specifických cílů a záměrů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5T15:53:31Z</dcterms:created>
  <dc:creator>Doc.Ing.Ivan Hálek, CSc.</dc:creator>
  <dc:description/>
  <dc:language>en-US</dc:language>
  <cp:lastModifiedBy>Petr Smutný</cp:lastModifiedBy>
  <dcterms:modified xsi:type="dcterms:W3CDTF">2006-10-12T08:56:53Z</dcterms:modified>
  <cp:revision>80</cp:revision>
  <dc:subject/>
  <dc:title>PROJEKTOVÉ ŘÍZENÍ</dc:title>
</cp:coreProperties>
</file>