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5D66-7D32-4434-9C36-F338809D4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3BC4-DB0E-4942-82E7-45580CB44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40D3-02F0-4C79-B7FC-E81A1704F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30C3-F90C-46A7-82CB-698F8BA98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8302D-5A30-4F63-951D-DF90C4BFD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C5316-457D-4AD1-8AE1-CCB190DC3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F79F3-248D-4EF2-88AF-E26582408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C0501-589F-4A9A-91FA-455507091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04234-EBE5-465D-AA83-01BD77900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F121D-531C-4B52-897C-DAE11D99E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94F0C-C0B2-431D-92E0-9F428862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1464-992F-4445-94AC-720E46CD4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86A2E-979D-436F-8EDA-3FC6CCD0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61203-E96C-414C-9D50-D5A7EE25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CCE2B-EFC1-4A19-BF29-7E961FFE7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610F2-A409-481F-AE0E-DF47C233B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2F456-116D-41F9-BA3D-95A28FA34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00BC-1763-4A00-B3D3-6F395ECEB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FCB0-210A-4EDE-BBFB-9539C9AE6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857B-86E2-4501-BA3D-F68EE7A6F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7893-AB01-4E9B-BB38-093C0A051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9B17-A130-472E-BA0E-CB60D7F6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F322-42C8-44F9-921A-BA155178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61B7-42AB-48B0-9758-1B24262A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24434-FC14-436D-9FB4-DD3751AEB52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DB618-C7BC-4670-82D2-0F3CE11F46C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ŘÍZENÍ PROJEKTŮ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tr Smutn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dlišnosti P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Čím se PM liší od běžného operativního řízení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časnos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čnos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řidělení zdrojů podle potřeb projekt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ýhody P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ůsledné přiřazení odpovědnosti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droje jsou přiděleny podle potřeby a poté uvolněny =&gt; flexibilita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ytváří podmínky pro sledování skutečného průběhu oproti plánu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émový přístu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výhody / rizika P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pecifické požadavky zákazníků se často objevují až v průběhu realizace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nutnost častých org. změn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nutnost plánovat a oceňovat v předstihu před realizací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 je projek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časné úsilí vynaložené na vytvoření unikátního výsledku (produktu / služby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časnost = je stanoven začátek a kone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kátn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í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chnolog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dé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nější vlivy a rizik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&gt; jedinečnost = každý projekt se provádí pouz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edno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Základny PM - trojimperati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jekt je jedinečný sled aktivit a úkolů, který má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án specifický cíl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ována časová omezení působnosti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e stanoven rámec pro čerpání zdrojů na realizaci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55640" y="3573360"/>
            <a:ext cx="3672000" cy="2617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572000" y="3573360"/>
            <a:ext cx="388764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oblém vzájemné podmíněnost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jednotlivé kategorie trojimperativu jsou vzájemně  propojen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pecifická povaha projektu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určuje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Tahoma"/>
              </a:rPr>
              <a:t>relativní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důležitost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každé podmínky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trojimperativu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=&gt; je nutno hledat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Tahoma"/>
              </a:rPr>
              <a:t>vyvážené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řešení. Jde spíše o optimalizační problém (x maximalizace jednotlivých kategorií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64000" y="2565360"/>
            <a:ext cx="352764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ahoma"/>
              </a:rPr>
              <a:t>Překážky splnění podmínek trojimperativu (1/3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émy s provedením (kvalitou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špatná komunikace mezi zákazníkem a dodavatelem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říliš ambiciózní předpoklady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yby dodavatele při plánování či realizac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ahoma"/>
              </a:rPr>
              <a:t>Překážky splnění podmínek trojimperativu (2/3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émy s čas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dostatek zdrojů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dměrný důraz na kvalitu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ení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492360" y="3213000"/>
            <a:ext cx="5327640" cy="35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ahoma"/>
              </a:rPr>
              <a:t>Překážky splnění podmínek trojimperativu (3/3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émy s náklad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těž lhářů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ůsledek řešení časových skluzů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říliš optimistické počáteční odhady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yby při kalkulaci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Základní procesní mod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777744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Životní cyklus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826920" y="2063880"/>
            <a:ext cx="8066160" cy="41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růběh procesů v rámci životního cyklu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763272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novení cílů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cíl projektu = nová hodnota, která je výsledkem projek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S.M.A.R.T. (Specicic, Measurable, Assignable, Realistic, Time-boun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=&gt; kritéria dosažení úspěch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zakládací listina projek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formalizuje existenci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řiděluje manažerovi projektu pravomoci pro použití zdroj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definuje odpovědnost manažera za naplnění požadavků projektu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áklady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ředběžný rozpočet projektu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=&gt;stanovení ceny projek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cena z pohledu dodavatele = náklady + zis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cena z pohledu zákazníka = rozhodování o návratno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cenové strateg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strategie nejnižší nabídk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podcenění prvního projektu (buy-in/bail-out s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c. s. často leží mimo odpovědnost proj. manažer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=&gt;podklad pro uzavření kontrak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Způsob pořízení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nákup vs. vlastní realiz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oř. nákl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kapacity pro realizac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organizační náro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rizika změ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met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doba návratnos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diskont peněžních tok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rentabilita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zavření kontra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hoda o provedení určitého pracovního výkonu nebo o dodávce produktu /služ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ontrakty založené na nákladových cená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kázané náklady + proměnná částk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lačí dodavatele ke snižování náklad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ákazník musí mít silné kontrolní pravomoc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ontrakty založené na pevné cen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a zahrnuje i přiměřenou rezerv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často bývá doplněna o cílovou odměn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 je třeba plánova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chnologii a metod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dro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áklad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č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héma plánování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8424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Podrobný rozpis prací </a:t>
            </a:r>
            <a:r>
              <a:rPr b="0" lang="cs-CZ" sz="1200" spc="-1" strike="noStrike">
                <a:solidFill>
                  <a:srgbClr val="333399"/>
                </a:solidFill>
                <a:latin typeface="Tahoma"/>
              </a:rPr>
              <a:t>(Work Breakdown Structure)</a:t>
            </a:r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vychází z definice předmětu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rozepisuje požadovaný produkt do logické hierarchie úloh (činností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je důležitým východiskem pro řízení všech tří složek trojimperativ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rozpis úseků práce (kdo co dělá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časový rozvrh projektu (kdy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lán čerpání nákladů (rozpoč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lánování čas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definuje v jakých termínech a časových sledech budou práce na projektu probíha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nástroj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ahoma"/>
              </a:rPr>
              <a:t>úsečkové grafy (Ganntův diaga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+ přehledno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+ jednoduchost konstruk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neukazují závislosti mezi úkoly (činnostmi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změna v délce jedné činnosti se (automaticky) nepromítne do zbývající části hramonogramu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ahoma"/>
              </a:rPr>
              <a:t>síťové graf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P.E.R.T. – dobu trvání stanovují na základě optimistických realistických a pesimistických variant odhadů trvání činností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G.E.R.T – zdokonalení metody PE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C.P.M. – založena na analýze tzv. kritické cesty = nejdelšího sledu úkolů, který neobsahuje žádné časové rezervy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+ souhrnně prezentují souvislost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+ umožňují hledat alternativ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+ mají definovanou kritickou cestu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- složito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- nepřehledno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zpočet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časově fázový plán reprezentovaný peněžními nebo pracovními jednotkam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án čerpání zdrojů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 celkovém souhrn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 rozpisu do detailních polože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 časovém fázování podle předpokladu postupu čerpán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ody: viz specializované předmě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okace zdrojů – problém omezených zdrojů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ův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možňuje dlouhodobě efektivní využití zdrojů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amezí konfliktu při použití konkrétního zdroj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ompromis mezi časem a nákl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oda uhlazení použití zdrojů – vyhladí špičky využití pracovních sil v dílčích úsecích =&gt; ovlivňuje délku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oda umístění zdrojů – hledá nejkratší možnou kritickou cestu vzhledem k limitovaným zdrojů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REALIZAČNÍ FÁZE PROJEKTU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alizační fáz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rojektu zpravidla vyžaduje největší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úsilí a největší náklady. Spočívá v řízení a kontro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aných prací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bíhá v reálném čase podle plán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trolují se odchylky od plánu způsobené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předvídatelnými rušivými vlivy, ale také chybami v koncepční fázi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 základě odchylek v čase, nákladech či kvalitě se přijímají korekční opatření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émem řízení realizační fáze je skutečnost, že odchylky jsou na sobě vzájemně závislé a korekce času, nákladů a kvality představují optimalizační úloh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Zájmové subjekty v řízení podniků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109960"/>
            <a:ext cx="77724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dinci nebo organizace, kteří jsou zapojeni do projektu anebo jejichž zájmy jsou ovlivněny realizací projektu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hou mít zcela rozdílné zájmy a proto jejich sladění bývá největším problémem projektového řízení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 nejdůležitějším z nich patří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ákazník – objednavatel (uživatel) výstup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vestor – poskytuje finanční zdroje na projek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ktový manažer – zodpovědný za realizaci projektu na operativní úrovn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Členové projektového týmu – pracovníc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ládní instituce, místní správ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dnotliví občané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ojektový tý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08344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ojektový tým –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hraný tým pracovníků s minimálními konfliktními vztahy, zaměřený a motivovaný dosáhnout cíle projekt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ým musí být motivován na dosažení cí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 týmu musí být vytvořena atmosféra důvěry a odhodlání dosáhnout očekávaného výsledk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členové týmu musí mít možnost projevit svůj názor - týmově analyzovat a řešit problém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č přednáška o PM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ěnící se charakter prostředí a jeho vliv na řízení podniků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žadavky podniků na uchazeče o manažerské pozice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le manažera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ombinace řízení a vede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valifikac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odborn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soft-skills – vedení lidí, motiv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omunik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č kontrolova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74170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ontrola průběhu projektu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je součástí řízení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robíhá ve všech třech dimenzích trojimperativ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ontrola provedení (kval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ontrola časového postupu prac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ontrola čerpání náklad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zavření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kceptace = schválení výstupů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ředání výsledk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dnocení průběhu projektu 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plnění cíl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dnocení kvality výstupu i proces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vantifikace rizik, která nastala (odhad možného opakování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teratura ke studi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SVOZILOVÁ, Alena. Projektový Management. Grada: Praha, 2006. (ŘÍZ 539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ROSENAU, Milton D. Řízení projektů. Computer Press. Praha, 2003. (ŘÍZ 41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FIALA, Petr. Projektové řízení. Modely, metody, analýzy. Professional Publishing: Praha, 2004. (ORG 473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GROS, Ivan. Kvantitativní metody v manažerském rozhodování. Grada: Praha, 2003. (ORG 388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ěkuji za pozorno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d 1) měnící se charakter prostředí…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tný rychlý vývoj nových produktů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tné časté a rychlé změny procesů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ividualizace produkce podle požadavků zákazník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šechny tyto faktory vyžadují užití jednorázového řízeného sledu činností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d 2) požadavky podniků na manaže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771640" y="1989000"/>
            <a:ext cx="9325080" cy="69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č přednáška o PM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&gt;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stoucí důležitost znalosti PM pro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dniky i absolven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o je to projektový management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hrn aktivit spočívajících v plánování, organizování, řízení a kontrole zdrojů za účelem splnění (relativně) krátkodobého cíle, který byl stanoven pro realizaci specifických cílů a záměrů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5T15:53:31Z</dcterms:created>
  <dc:creator>Doc.Ing.Ivan Hálek, CSc.</dc:creator>
  <dc:description/>
  <dc:language>en-US</dc:language>
  <cp:lastModifiedBy>Petr Smutný</cp:lastModifiedBy>
  <dcterms:modified xsi:type="dcterms:W3CDTF">2006-10-12T08:56:53Z</dcterms:modified>
  <cp:revision>80</cp:revision>
  <dc:subject/>
  <dc:title>PROJEKTOVÉ ŘÍZENÍ</dc:title>
</cp:coreProperties>
</file>