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B8A-B641-466D-9E54-9D76F12C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634-5988-42CD-806D-CB8211D1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EE3-2B53-488A-98CA-C0679E15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4F9-FAB8-4DAC-B2DA-FFE35704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B0AB-1893-49CB-881B-09BED137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BB43-6652-47D0-AC14-921078A7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39C9-EAE3-4E76-9C3E-A4749E93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95CF-0C7F-4F95-AA55-E042EA52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3D56-3F8E-41FF-B3D6-DED9EEEA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46E4-2E8E-436C-AFA1-264FD354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2EAB-79E0-4FE4-858E-33F05531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050-4AD2-430B-BAC8-347B0651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5FC4-BBD1-4969-97EF-CFF50133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F32A-1964-447A-94C1-F0A14431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2187-1493-46E4-BD81-F1AD84A9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F946-D8F2-4C5B-B9E6-65651F2C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6BA8-4760-4D6A-8B1C-D8ED6845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983-F99B-4479-B407-3A5437D4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08E-BA15-4221-98B3-6C2FF922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AC6-1107-4F4C-8AFF-8D8E7B16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945-C8EF-4D25-90E6-37D78E72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2D3-8110-4BFF-BD96-82155D8D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36A-1A0A-4262-BB06-A8DEDB19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7FE-783E-404C-86B7-9B36BF96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AB0C-BE47-4702-9FC4-44CA9C65E8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1B6F-A772-40CD-B95B-096CF43E62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ŘÍZENÍ PROJEKT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r Smu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lišnosti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ím se PM liší od běžného operativního řízen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č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idělení zdrojů podle potřeb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hody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ůsledné přiřazení odpovědnosti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 jsou přiděleny podle potřeby a poté uvolněny =&gt; flexibilit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tváří podmínky pro sledování skutečného průběhu oproti plánu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émový příst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výhody / rizika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fické požadavky zákazníků se často objevují až v průběhu realiza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častých org. změ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plánovat a oceňovat v předstihu před realizací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proj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é úsilí vynaložené na vytvoření unikátního výsledku (produktu / služb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časnost = je stanoven začátek a kon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kát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d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nější vlivy a riz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jedinečnost = každý projekt se provádí pouz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Základny PM - trojimperat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je jedinečný sled aktivit a úkolů, který m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án specifický cí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ována časová omezení působnos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 stanoven rámec pro čerpání zdrojů na realiza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72000" cy="2617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8876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blém vzájemné podmíně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kategorie trojimperativu jsou vzájemně  propoj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ecifická povaha projekt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rčuje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relativ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důležitos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 podmín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ojimperativ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=&gt; je nutno hledat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yvážené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řešení. Jde spíše o optimalizační problém (x maximalizace jednotlivých kategorií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52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1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provedením (kvalito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špatná komunikace mezi zákazníkem a dodavatel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ambiciózní předpokl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dodavatele při plánování či realiza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2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émy s čas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dostatek zdrojů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dměrný důraz na kvalit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53276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3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těž lhářů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sledek řešení časových skluzů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optimistické počáteční odh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při kalkulac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ní procesní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777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Životní cyklus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2063880"/>
            <a:ext cx="806616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ůběh procesů v rámci životního cykl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632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ovení cílů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íl projektu = nová hodnota, která je výsledk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.M.A.R.T. (Specicic, Measurable, Assignable, Realistic, Time-bou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 kritéria dosažení úspěc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kládací listina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alizuje existenci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děluje manažerovi projektu pravomoci pro použití zdroj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finuje odpovědnost manažera za naplnění požadavků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běžný rozpočet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stanovení ceny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dodavatele = náklady + zi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zákazníka = rozhodování o návrat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ové strate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trategie nejnižší nabíd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dcenění prvního projektu (buy-in/bail-out s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. s. často leží mimo odpovědnost proj. manažer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podklad pro uzavření kontra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působ poří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kup vs. vlastní 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ř. nákl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pacity pro realiza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rganizační ná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zika změ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a návrat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iskont peněžních tok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ntabilita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kontra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hoda o provedení určitého pracovního výkonu nebo o dodávce produktu /služ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nákladových cen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ázané náklady + proměnná část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lačí dodavatele ke snižování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kazník musí mít silné kontrolní pravomo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pevné ce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a zahrnuje i přiměřenou rezer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často bývá doplněna o cílovou odmě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třeba plán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ii a met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éma plánová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odrobný rozpis prací </a:t>
            </a:r>
            <a:r>
              <a:rPr b="0" lang="cs-CZ" sz="1200" spc="-1" strike="noStrike">
                <a:solidFill>
                  <a:srgbClr val="333399"/>
                </a:solidFill>
                <a:latin typeface="Tahoma"/>
              </a:rPr>
              <a:t>(Work Breakdown Structure)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chází z definice předmět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ozepisuje požadovaný produkt do logické hierarchie úloh (činnost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důležitým východiskem pro řízení všech tří složek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ozpis úseků práce (kdo co dělá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časový rozvrh projektu (kd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lán čerpání nákladů (rozpoč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ánování čas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inuje v jakých termínech a časových sledech budou práce na projektu probíha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ástroj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úsečkové grafy (Ganntův diaga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jednoduchost konstruk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neukazují závislosti mezi úkoly (činnostm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změna v délce jedné činnosti se (automaticky) nepromítne do zbývající části hramonogram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íťové graf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.E.R.T. – dobu trvání stanovují na základě optimistických realistických a pesimistických variant odhadů trvání činností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G.E.R.T – zdokonalení metody PE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C.P.M. – založena na analýze tzv. kritické cesty = nejdelšího sledu úkolů, který neobsahuje žádné časové rezerv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souhrnně prezentují souvislos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umožňují hledat alternati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mají definovanou kritickou cest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složit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ne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ově fázový plán reprezentovaný peněžními nebo pracovními jednotka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 čerpání zdrojů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celkovém souhr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rozpisu do detailních polož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časovém fázování podle předpokladu postupu čerp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ody: viz specializované předmě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okace zdrojů – problém omezen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ožňuje dlouhodobě efektivní využití zdroj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mezí konfliktu při použití konkrétního zdr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mpromis mezi časem a nákl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hlazení použití zdrojů – vyhladí špičky využití pracovních sil v dílčích úsecích =&gt; ovlivňuje délk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místění zdrojů – hledá nejkratší možnou kritickou cestu vzhledem k limitovaným zdrojů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ALIZAČNÍ FÁZE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lizační fá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ktu zpravidla vyžaduje největší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ilí a největší náklady. Spočívá v řízení a k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aných prac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bíhá v reálném čase podle plá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ují se odchylky od plánu způsobené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předvídatelnými rušivými vlivy, ale také chybami v koncepční fázi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 základě odchylek v čase, nákladech či kvalitě se přijímají korekční opatř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émem řízení realizační fáze je skutečnost, že odchylky jsou na sobě vzájemně závislé a korekce času, nákladů a kvality představují optimalizační úlo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Zájmové subjekty v řízení podniků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109960"/>
            <a:ext cx="77724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inci nebo organizace, kteří jsou zapojeni do projektu anebo jejichž zájmy jsou ovlivněny realizací projekt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hou mít zcela rozdílné zájmy a proto jejich sladění bývá největším problémem projektového ří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 nejdůležitějším z nich patří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ákazník – objednavatel (uživatel) výstup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or – poskytuje finanční zdroje na projek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ktový manažer – zodpovědný za realizaci projektu na operativní úrov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lenové projektového týmu – pracovní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ádní instituce, místní sprá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notliví občan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jektový tý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83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ktový tým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hraný tým pracovníků s minimálními konfliktními vztahy, zaměřený a motivovaný dosáhnout cíle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ým musí být motivován na dosažení cí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týmu musí být vytvořena atmosféra důvěry a odhodlání dosáhnout očekávaného výsled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lenové týmu musí mít možnost projevit svůj názor - týmově analyzovat a řešit problé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ěnící se charakter prostředí a jeho vliv na řízení podnik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žadavky podniků na uchazeče o manažerské pozi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e manažer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binace řízení a ved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valifik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bor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ft-skills – vedení lidí, motiv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kontrol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1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trola průběhu projekt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součástí 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bíhá ve všech třech dimenzích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provedení (kv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asového postupu prac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erpání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ceptace = schválení výstupů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ání výsled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dnocení průběhu projektu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lnění cíl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dnocení kvality výstupu i proces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antifikace rizik, která nastala (odhad možného opaková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atura ke studi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VOZILOVÁ, Alena. Projektový Management. Grada: Praha, 2006. (ŘÍZ 53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SENAU, Milton D. Řízení projektů. Computer Press. Praha, 2003. (ŘÍZ 4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IALA, Petr. Projektové řízení. Modely, metody, analýzy. Professional Publishing: Praha, 2004. (ORG 47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ROS, Ivan. Kvantitativní metody v manažerském rozhodování. Grada: Praha, 2003. (ORG 38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 1) měnící se charakter prostředí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ý rychlý vývoj nových produkt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é časté a rychlé změny proces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izace produkce podle požadavků zákazní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šechny tyto faktory vyžadují užití jednorázového řízeného sledu činností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 2) požadavky podniků na manaže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stoucí důležitost znalosti PM p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niky i absolven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 je to projektový managemen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hrn aktivit spočívajících v plánování, organizování, řízení a kontrole zdrojů za účelem splnění (relativně) krátkodobého cíle, který byl stanoven pro realizaci specifických cílů a záměrů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5:53:31Z</dcterms:created>
  <dc:creator>Doc.Ing.Ivan Hálek, CSc.</dc:creator>
  <dc:description/>
  <dc:language>en-US</dc:language>
  <cp:lastModifiedBy>Petr Smutný</cp:lastModifiedBy>
  <dcterms:modified xsi:type="dcterms:W3CDTF">2006-10-12T08:56:53Z</dcterms:modified>
  <cp:revision>80</cp:revision>
  <dc:subject/>
  <dc:title>PROJEKTOVÉ ŘÍZENÍ</dc:title>
</cp:coreProperties>
</file>