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D49-B315-4EB3-8632-295980B9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2781-99DC-465E-BCD8-8DEC1181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1AF-4F19-47FA-B252-245EA9F2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32F1-5852-4743-A556-F02F313D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17B8-42C7-4035-A260-834E39A2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681C-80BB-4348-878C-DBB46E2D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2C7A-FFEA-4DEA-A35D-4C7B620A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9145-AB1D-4097-94B5-855C1513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955F-EB95-4963-9847-C4B7376A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9A06-4E04-4CB9-B610-FDE8BE28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8F30-AE52-4BAF-B12B-4BEF6952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298F-B709-435B-BBB3-642B82DA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C6A7-3895-45A6-853C-5C609EE6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72CB-B40C-46D5-87DF-8FFDC70B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7F65-F860-426E-8C5F-5B6E1862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6CF8-60BE-44DC-9CEC-DC26C737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7113-D039-4F35-AC1A-DDA911F9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9A37D4-DBA7-43DC-A7F4-980FF8AE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689C3-988B-474E-83BE-26EF63B2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F8227-4B17-446D-89F3-DB4E7C27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5541D4-C459-488D-AB79-392E684D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2957A-DCE0-4FDC-A2A3-003BB31D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BCA0-9B9D-4C0A-9E3E-6EB6DE6A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4013F-0BFF-4C69-AF37-05EB861A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F2D9A-42C0-497E-BC58-942A79E9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16339B-07AA-4D04-B1F5-E2A15F7E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974CB-BE9C-405E-87A1-B0BA39AC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3BE01-7AD2-452E-8B79-57D3C692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7883E3-92E3-46FE-8530-2892642B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AFF532-DCCC-47D1-A0EA-24ECB51D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8DCDA-D502-46BB-A4CF-03D72345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87DE8-95BE-40D6-9AD6-B45FA7AB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0B067-E60D-4C63-B8C8-06781697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282-9773-4586-B760-3BD0AF8E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340F6-EC31-4B13-A7F0-FD7A0B8A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0D1EA-0439-47AB-A99E-3190F5BF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61D00-0C77-4CEA-BAC2-16AB3F06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9AB85-936B-4CCA-9783-798B79CD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17FC2-7E5A-4EC3-A8FD-B37CD6EE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1C7A6-058A-42FF-B292-170F06CB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092C4-B1D9-4C9F-9AE2-B5E7820C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23EBE-49B7-469C-940C-5B7F003B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35157-0F21-4E9C-91A6-B71A4FD6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8111BA-3547-4B4D-8763-6D218EA4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D711-314E-4532-9513-EAF96270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AD10DB-4BCB-4178-8335-BBA7D64B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001B6C-6456-42BB-B9E0-0ED5868F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B45563-ECFD-42CE-9698-5E12633B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848614-93DA-4674-9DCA-3CD4B647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D3E8AD-C003-4981-A8D2-60024BC8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B24F9-3A5F-4FE9-91B4-4FEE0A43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0F880-4363-4314-9006-7FD535AA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0D4626-AFEF-462E-A673-0B62D2B1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0BCF3F-7F82-4648-8F78-D9EF8ACC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7075F4-57C4-4CCF-9DE9-3F60A5F7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182-2730-4C3B-A54F-2046343D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C6D665-289D-4D15-A894-5D702041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D0597D-C428-471E-8F2A-642357E2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6977FD-A99C-46E5-8031-B12EDC65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76CE04-CD79-4FB5-977B-834CDCFE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1CB718-4DB7-4DB1-8FE1-09166A22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6DDFC2-DBBC-45B2-837A-07FDBDD1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1BB924-8E19-4F1C-B5FC-3BA24575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F02B4C-FF25-4171-B350-714FD6F8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1A22CD-020B-4A4E-BAB3-7350E53F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610ABD-B75F-418A-8815-D6A9CF2D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CCDA-05B9-4780-BDEE-DA4A474E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985500-9BC9-4D3F-885B-26A0F201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F232A0-85B8-4BE2-86B8-69DE697E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10FBC6-F527-487D-BBD8-9CE2D9B0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96A2CC-FD9C-4523-95ED-78F63D0E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16F656-BCBE-4515-A6A4-3656A18F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B5037D-6A9B-4952-A7B2-9148F1D7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8AF855-BFEA-4A99-AE18-196C0E8A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8D6DAE-3D4A-4ADE-AB01-507B9D49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0E7268-B78C-488C-B93B-669BA799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C27771-7FE8-47EF-AF1E-982C45C6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3BF3-DF2F-4238-BF58-7847B3AC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460E8F-605E-44F9-9C10-C5C9E23F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2B028E-DF78-40E6-ADE0-8E291387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113D4F-BDCF-45CA-A293-1141F759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80A822-AF37-4A37-99F4-03DD36D5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05DF7D-5392-4AC1-B715-B14D7C53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9908-E0CE-4DEA-974A-61D03FD8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F229-2FB4-4AB7-8155-CADCA34785A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římá spojovací čára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Obdélník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a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a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a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a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a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F823-A96B-4EBF-BC86-A66E0F39A3A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F1D7-D920-4695-970B-2C27F9AAA6A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a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a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a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římá spojovací čára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F071-7C02-4845-955B-885E594F948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53EC-EB80-440B-93F3-1CDD5A6C37C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římá spojovací čára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římá spojovací čára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římá spojovací čára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Obdélník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římá spojovací čára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a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7E75-293A-4C44-BA13-EA26185EC58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a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římá spojovací čára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římá spojovací čára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F28D-9351-4573-B183-DB7EF3487AD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Dennis_Meadows_Moscow_febr2007-1-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s.wikipedia.org/wiki/1972" TargetMode="External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A A JEJÍ DŮSLED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f271c"/>
                </a:solidFill>
                <a:latin typeface="Calibri"/>
              </a:rPr>
              <a:t>Simona Jakubcov</a:t>
            </a: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Lucie Bielikov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Martin Liz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Intelektuální versus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intelektuální podni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nzita práce s poznání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ustředění duševní práce ve vede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hatství se měří podle materiálních statk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ymbolické činnosti jsou považovány za neproduktiv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legace práce na jednotlivé zaměstnance, podporování inovací a nápad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dnota většiny výrobků spočívá v poznatcích, které jsou do nich vlože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Moscow, 16 Febr.2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86680" y="3068640"/>
            <a:ext cx="2857320" cy="37893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Calibri"/>
              </a:rPr>
              <a:t>Donella a Denis Meadows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onella H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( 13.3.1941 – 20.2.200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růkopnicí v systémové dynamice vědách o životním prostředí, učitelka a spisovatel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 u="sng">
                <a:solidFill>
                  <a:srgbClr val="8dc765"/>
                </a:solidFill>
                <a:uFillTx/>
                <a:latin typeface="Calibri"/>
                <a:hlinkClick r:id="rId3"/>
              </a:rPr>
              <a:t>1972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se dostala do týmu vědců,vyvinuli počítačový model systémové dynamiky demograficko-ekonomických ukazatelů –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orld3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financováno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Římským klub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enis L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7.6.194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americký vědec, profesor systémového management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Calibri"/>
              </a:rPr>
              <a:t>Meadows – 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2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- Meze růst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" sz="2400" spc="-1" strike="noStrike">
                <a:solidFill>
                  <a:srgbClr val="000000"/>
                </a:solidFill>
                <a:latin typeface="Calibri"/>
              </a:rPr>
              <a:t>Limits to Grow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1992 –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Překročení mezí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004 – třetí pokračování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ezí růstu ( 30letý updat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endence k překmitu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držitelný způsob existence ( exponenciální růs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ychlé tempo používání hnojiv, růst měst, spotřeby energie a materiálů lidm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užování  materiální základny lidst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ůst světové popul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nečišťov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udoba a nezaměstnanost ( sociální rozdíl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lečnost na jedno použití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tické odmítání tématu mez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Trvale udržitelná společnost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 simulovaných světů ( rovnováh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ředvídavá, pružná, moudrá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valitativní rozvoj X fyzická expanz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pokojování potřeby přítomnosti bez ohrožení budoucnos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eriální zabezpečení pro všechny(NE chudob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nost pravidel,norem,sociálních doh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enění darů zemské kůry (neobnovitelné zdroj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il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Rysy restrukturalizace světového systému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dokonalení signál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rychlení odeze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alizace používání ne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ředcházení erozi 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yužívání všech zdrojů s max. účinnost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zastavení exponenciálního růstu populace a fyzického kapitálu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"/>
          <p:cNvSpPr/>
          <p:nvPr/>
        </p:nvSpPr>
        <p:spPr>
          <a:xfrm>
            <a:off x="90000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3. Vlna: Trvalá udržitelnost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ormace ( větší databáze, lepší statistiky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troje k trvalé udržitelnost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ytváření vizí (cíl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co doopravdy chcem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zájemné propojování (sítě, organizace, povzbuzení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luvení pravdy (lež naruší info tok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uče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ilování (X individualismu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Literatur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ennis L. Meadows, Donella H. Meadows a Jorgen Randers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kročení mez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nakladatelství Argo, 1995, 320 str., ISBN 80-85794-83-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Nová civilizace,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95, 125 str., ISBN 80-86569-00-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Šok z budoucnosti,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0, 284 str., ISBN 80208016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f271c"/>
                </a:solidFill>
                <a:latin typeface="Calibri"/>
              </a:rPr>
              <a:t>Děkujeme za pozornost</a:t>
            </a:r>
            <a:r>
              <a:rPr b="0" lang="cs-CZ" sz="3000" spc="-1" strike="noStrike">
                <a:solidFill>
                  <a:srgbClr val="4f271c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4f271c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Obsah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lvin Toffl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lnová teori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řetí vln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ritéria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polečnosti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zaměstnan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intelektuální vs.intelektuální podnik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 + D Meadow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endence k překmit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rvale udržitelný společn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ysy restrukturalizace světového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ystém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řetí vlna: Trvalá udržiteln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28760" y="157140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arozen 3.10.1928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merický spisovatel a futurolo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daktor časopisu Fortun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Hostující profesor na Cornellově univerzitě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ositel čestných doktorátů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enatý s H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i Toff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vou –spisovatelka a futuroložka, mimořádná profesorka na Univerzitě národní obrany ve Washingtonu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ijí v Los Ange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1640" y="15001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H:\4.jpg"/>
          <p:cNvPicPr/>
          <p:nvPr/>
        </p:nvPicPr>
        <p:blipFill>
          <a:blip r:embed="rId1"/>
          <a:stretch/>
        </p:blipFill>
        <p:spPr>
          <a:xfrm>
            <a:off x="5072040" y="1928880"/>
            <a:ext cx="3406680" cy="239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 –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Future shock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Šok z budoucnost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8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The third wav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Třetí vl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1995 – </a:t>
            </a:r>
            <a:r>
              <a:rPr b="1" i="1" lang="cs-CZ" sz="3600" spc="-1" strike="noStrike">
                <a:solidFill>
                  <a:srgbClr val="000000"/>
                </a:solidFill>
                <a:latin typeface="Calibri"/>
              </a:rPr>
              <a:t>Creating a New Civilization </a:t>
            </a: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(Nová civilizace)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syntéza předchozích dě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lnová teorie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ivilizační vl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1. vlna – 8000 př.n.l. – 1750 – zemědělsk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2. vlna – 1750 – 1955 – průmyslov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3. vlna – 1955 - ? – informační revolu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55 – v USA poprvé počet „bílých límečků“ větší než „modrých límečků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á civilizace přichází se třetí vlnou a jediná možnost přežití je přizpůsobení 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Kritéria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Připomíná to továrn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Demasifikuje to společnost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Kolik vajec je v košík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Je to vertikální nebo virtuální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Vrací to domovu síl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Principy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2.vlny (půda, práce, kapitál) – vyčerpatelné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3.vlny - nevyčerpatelné zdroje (data, informace,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rastruktura – elektronická komunik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nání jako tvůrce technologického pokrok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investicích - pokles významu kapitál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e skladování (just in time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dopravě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materiálních nákladech (nové suroviny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Charakteristická společnost třetí vlny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ladá (doba trvání, pracovníc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lá (outsourcing, flexibilit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nkurence (inovac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vestice do výzkumu a vývo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zce specializovaní zaměstnan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soká míra využití informačních technologi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zaměstnanost z pohledu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 60.let přesun od manuální práce ke službám (3/4 pracovníků v US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covní příležitosti jsou méně zaměnitelné (důraz na vzdělání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zaměstnanos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řesun od kvantitativní ke kvalitativní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ve službác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školení, rekvalifikac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ové pracovní pozi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finančnictví, poradenské služby, vzdělávání, pečovatelství, turismu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doma, flexibilní pracovní doba, půlené zaměstnán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funkčnost tradičních monetaristických a keynesiánských nápravných prostředků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6:22:10Z</dcterms:created>
  <dc:creator>Lucie Bieliková</dc:creator>
  <dc:description/>
  <dc:language>en-US</dc:language>
  <cp:lastModifiedBy>Lucie</cp:lastModifiedBy>
  <dcterms:modified xsi:type="dcterms:W3CDTF">2008-10-13T20:48:59Z</dcterms:modified>
  <cp:revision>21</cp:revision>
  <dc:subject/>
  <dc:title>Třetí vlna a její důsledky</dc:title>
</cp:coreProperties>
</file>