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2FD-8003-49D8-A8E7-AFAB2976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4CF-31A0-4EF4-88D9-40902C9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DCA-E3F0-4EC4-A713-2C84155D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D7E-64E1-4185-9E8B-C95025E0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DFA2-BC88-47AF-8401-12A22B5A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D4EB-2B59-4BC2-BF22-5E8F192E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0723-6D2B-4ADA-900E-5DBB8D48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EF56-1CF4-4B94-B79E-909D7788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279D-3FB2-4553-A42E-BAB7ABC9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85E9-971F-44DA-8CED-0F68019B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BCF9-EE12-4BE5-8A0B-DD711105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C8C-ABE5-4D6F-9567-516CC7E0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AE58-CED4-4DE9-A9E1-5682F60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85AE-2899-43FD-9F98-444EFDB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0390-B55C-4AEB-A714-5AECDEE3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392D-5700-4546-A0EA-55123D66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089-FEAC-4A80-936B-2F57F758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BD8-9EAD-427A-96CC-28E52671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E16-AF93-4C73-90A8-1DAA001B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F19-5C35-484D-9332-F8460C2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44C-3BBB-49CB-A9A5-2983EEB1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8F0-1ACD-4174-AADD-0C16AAFE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726-4D88-44D3-924B-D5086EE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B45-99B6-452A-9B1F-D5B9EF3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D2F8-7C3D-4C68-BF38-87848E76C34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E090-A45C-47EB-9724-532921CDB4F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řirozený a umělý řá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8.9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stup k evoluci jako řádu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jako vývoj systémů v ča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dán přirozenou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d počátku vesmír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dán kulturní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S příchodem člověka na z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nejen řád vytváří, ale je také sama jeho součá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rodní a umělý (kulturní) řá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řejmá nekompatibilita – hledání příči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 obou nejasný výchozí cíl – spontánní evolu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Člověk jako součást obou řád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ní nemůže vzniknout bez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chopnost struktury udržovat, reprodukovat, rozvíjet a nič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žnost vzájemné interak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ůraz na zatlačování přírody kulturou a negativní důsledky z toho plynou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a není možná bez přírodního řád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ruktury zničené přírodou jdou kulturou obnovit, naopak to však nej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lavní nebezpečí pro existenci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yek, F.A.: Právo zákonodárství a svoboda. Praha, Academia, 1991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Šmajs, J., Krob, J.: Úvod do ontologie. Brno, Masarykova univerzita, 1991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Řád – uspořádaný stav vě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irozený – vytvořený spontáními vlivy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mělý – vytvořený třetí silou za jistým účel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ntologie – věda o bytí, zabývá se řádem jako takový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místní existence přirozeného a umělého řád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jejich vývoj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hledání příčiny odlišnosti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dlišné tendence směřování přírody a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yšlenka dvou řádů z období antického řec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 v metafyzi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ualismus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 filosofického hlediska – Descartes, Kant, Heg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Úsilí o překonání rozdvoje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nešní pohled stále diferencovaný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ývoj a exist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řirozený řád – dán přírodou a nevědomou činností 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mělý řád – dán člověkem úmyslně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ývoj paralel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ritika myšlenky, že řád musí vznikat díky aktivitě myslící bytost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zájemná koexistence a doplňov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den typ řádu převládá v závislosti na okolnoste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 rámci společ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neomezen veliko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jen v malých společenstv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zv. organizace – pomáhají koordinovat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ěl by sloužit primárně menším společenstvím, obecně by se lidé měli řídit přirozený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louhodobé řízení společnosti umělým řádem je nutně neúspěšné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rátkodobě možné – náznaky diktatu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09-30T08:49:15Z</dcterms:modified>
  <cp:revision>20</cp:revision>
  <dc:subject/>
  <dc:title>Přirozený a umělý řádc</dc:title>
</cp:coreProperties>
</file>