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188-CB53-44A0-9BF3-2B7D9347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A1D3-ADB9-4FE7-B366-FAE35664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D9F4-45B4-41D4-8E49-25DD55F1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EC05-B13B-4047-AA95-FDA8B67B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6D85-094E-4DA8-A9FA-DFB63812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A964-6134-418E-ACCE-80B41094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A44C-2826-4365-A4D8-ECEBBA0E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5327-6336-4DD1-ADF3-E29DE4B6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0BB4-325D-4591-B3DF-1039662F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C111-01EE-4848-90C3-2CD7AAA6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98E6-0E95-42B3-B21A-9E6BF3AF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52DE-D575-41FB-A4DB-FD608B71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5E16-6F91-4EB1-A6F2-3C678780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3630-6B85-475E-9E8C-69F0EBCF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D291-7D9A-44DD-89B2-59315981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9F81-4244-4235-84E1-32F524C6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21F5-BFE6-4A37-8D27-4C34E4C1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A1A-319D-4AD8-A400-DA500ECB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E8C-1D01-4466-ABF8-BAD7B131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C98C-BA11-4523-8FED-5EC301F3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A15A-BBD9-4D49-BFED-1D6F66F5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BFAB-AEE7-4F1F-9582-B4EB1EE6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7EFB-6636-4E82-98C3-0313F55E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670-445A-4414-9870-82F25369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965C-63DA-4DB4-9114-2FFC3A18C21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646C-6BAD-4FF5-BF10-84B5BB5177E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800" spc="-1" strike="noStrike">
                <a:solidFill>
                  <a:srgbClr val="cc3300"/>
                </a:solidFill>
                <a:latin typeface="Garamond"/>
              </a:rPr>
              <a:t>Vývoj společnosti v pojetí A. Tofflera</a:t>
            </a:r>
            <a:r>
              <a:rPr b="0" lang="cs-CZ" sz="5800" spc="-1" strike="noStrike">
                <a:solidFill>
                  <a:srgbClr val="cc3300"/>
                </a:solidFill>
                <a:latin typeface="Garamond"/>
              </a:rPr>
              <a:t> 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ozef Barni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arel Bay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onika Lemonov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Pomíjivosť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ýchlosť s akou sa menia naše vzťa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Verdana"/>
              </a:rPr>
              <a:t>Spoločnosť na jedno použitie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expanzia dopytu a ponuky po spotrebných statko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Šípka dolu 3"/>
          <p:cNvSpPr/>
          <p:nvPr/>
        </p:nvSpPr>
        <p:spPr>
          <a:xfrm>
            <a:off x="4429080" y="1214280"/>
            <a:ext cx="285840" cy="5004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Diagram 6" descr=""/>
          <p:cNvPicPr/>
          <p:nvPr/>
        </p:nvPicPr>
        <p:blipFill>
          <a:blip r:embed="rId1"/>
          <a:stretch/>
        </p:blipFill>
        <p:spPr>
          <a:xfrm>
            <a:off x="1494000" y="4206960"/>
            <a:ext cx="67960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Nové národy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ok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významu vzdialeno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spotrebovávame miesta a zbavujeme sa ich veľm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odobným spôsobom ako odhadzujeme papierové vreckovky alebo plechovky od piv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k-SK" sz="1800" spc="-1" strike="noStrike">
                <a:solidFill>
                  <a:srgbClr val="000000"/>
                </a:solidFill>
                <a:latin typeface="Verdana"/>
              </a:rPr>
              <a:t>Toffler A., Šok z budúcnosti, str. 4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Obrázok 3" descr="1903-lietadlo-lissovam.gif"/>
          <p:cNvPicPr/>
          <p:nvPr/>
        </p:nvPicPr>
        <p:blipFill>
          <a:blip r:embed="rId1"/>
          <a:stretch/>
        </p:blipFill>
        <p:spPr>
          <a:xfrm>
            <a:off x="5940360" y="4500720"/>
            <a:ext cx="2867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Vzdelanie v budúcom čas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obrátenie k systému, ktorý už umi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výrob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industriálneho člove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činnosť intelektuálnu a kreatívn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Model školy založený na továrni“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zameraný na minulos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vybavenosť do prax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Obrázok 3" descr="42-16032510.jpg"/>
          <p:cNvPicPr/>
          <p:nvPr/>
        </p:nvPicPr>
        <p:blipFill>
          <a:blip r:embed="rId1"/>
          <a:stretch/>
        </p:blipFill>
        <p:spPr>
          <a:xfrm>
            <a:off x="6858000" y="3857760"/>
            <a:ext cx="17146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Šok z budúcnosti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Fyzická dimenzia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adaptácia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hranice množstva zme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eakcia na nadmernú stimuláci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sychologická dimenzi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pravidelné fungovanie mys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schopnosť racionálne jedna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Obrázok 3" descr="shock_sign.jpg"/>
          <p:cNvPicPr/>
          <p:nvPr/>
        </p:nvPicPr>
        <p:blipFill>
          <a:blip r:embed="rId1"/>
          <a:stretch/>
        </p:blipFill>
        <p:spPr>
          <a:xfrm>
            <a:off x="6572160" y="4714920"/>
            <a:ext cx="19828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Fukuyam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ápadní liberální demokracie jako konečná podoba vlá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onec děj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ůstává pouze ekonomická činnost v univerzálním homogenním stát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Střetávání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ražený komunismus a fašism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ekonaný nacionalism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lám - theokratický stát jako alternativ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Konec ději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emě historické a posthistorick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ožný konflikt mezi ni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sthistorická doba bude smutný čas a staletí nu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uda vedoucí k začátku nových děj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Použitá literatur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TOFFLER, A. Šok z budoucnosti. Praha : Práce, 1992. ISBN 80-208-0160-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Huntington, S. Střet civilizací. Praha : Rybka Publishers, 2001. ISBN 80-86182-49-5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Fukuyama, F. Konec dějin a poslední člověk. Praha : Rybka Publishers 2002. ISBN 80-86182-27-4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Děkujeme za pozornost.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ivilizac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tiklad pojmu barbarství (18.s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polečnost usedlá, urbanizovaná a gramotn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ivilizace - celkový způsob života národa,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je kultura ve velké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komplexní celky (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áboženství, generace, dějiny, zvyky, instituce, objektivní prvk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…</a:t>
            </a: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ivilizac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rteln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louhověk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izpůsobují a vyvíjí 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ší se celkový počet civilizac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lavní: Čínská,Japonská, Hinduistická, Islámská, Západní, Latinskoamerická, Africk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Západ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Evropa + Severní Amerika + země osídleny Evropany (Austrálie, Nový Zélan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.st. Evropa x Amerika  (zpátečnictví, útlak, hierarchie x svoboda, rovnost, budoucnos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.st. Amerika součást západu, první mocno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Střet civilizací – Samuel Huntingt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vět po studené válce je světem 7 nebo 8 zem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přátelství a spojenectví jsou určeny kultur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ápad ztrácí dominantní postave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 21.st. Čína jako rival Západ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Huntingt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.H. vyzývá k utváření budoucnosti, doporučuje Západu přehodnotit zahraniční pol, prohloubit jednotu, rozšířit součinnost s Ruskem, Japonskem a Indií a stáhnout vojska z muslimské a čínské civiliza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pad se má sjednotit a uznat i ostatní civiliza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ezinárodní řá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7454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800" spc="-1" strike="noStrike">
                <a:solidFill>
                  <a:srgbClr val="cc3300"/>
                </a:solidFill>
                <a:latin typeface="Garamond"/>
              </a:rPr>
              <a:t>A. Toffler – Šok z budúcnosti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85840" y="1643040"/>
            <a:ext cx="8501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Veci, miesta, ľudia,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yšlienky a organizačné štruktúry sa v životoch ľudí ,spotrebovávaj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rýchlejšie“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k-SK" sz="1900" spc="-1" strike="noStrike">
                <a:solidFill>
                  <a:srgbClr val="000000"/>
                </a:solidFill>
                <a:latin typeface="Verdana"/>
              </a:rPr>
              <a:t>Toffler A., Šok z budúcnosti, str. 29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odnadpis 2"/>
          <p:cNvSpPr/>
          <p:nvPr/>
        </p:nvSpPr>
        <p:spPr>
          <a:xfrm>
            <a:off x="357120" y="3571920"/>
            <a:ext cx="8572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kultúrny š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ústredný pojem: diagnostika problémov súčasn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človeka            psychické a fyziologické problé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konfrontácie s rýchlosťou zmi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Šípka doprava 4"/>
          <p:cNvSpPr/>
          <p:nvPr/>
        </p:nvSpPr>
        <p:spPr>
          <a:xfrm>
            <a:off x="2000160" y="5300640"/>
            <a:ext cx="642960" cy="103320"/>
          </a:xfrm>
          <a:prstGeom prst="rightArrow">
            <a:avLst>
              <a:gd name="adj1" fmla="val 50000"/>
              <a:gd name="adj2" fmla="val 22126"/>
            </a:avLst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“</a:t>
            </a:r>
            <a:r>
              <a:rPr b="1" lang="sk-SK" sz="4000" spc="-1" strike="noStrike">
                <a:solidFill>
                  <a:srgbClr val="cc3300"/>
                </a:solidFill>
                <a:latin typeface="Garamond"/>
              </a:rPr>
              <a:t>Super - industrializmus</a:t>
            </a: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”</a:t>
            </a:r>
            <a:br>
              <a:rPr sz="4000"/>
            </a:b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expanzia bielych golierov oproti modrý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dominanta éry je pomíjivosť, dočasnosť a zme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sychologizácia produkc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riemysel zážitk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obývanie oceán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ové genetické varianty člove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dočasné manželstv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očiatok masového konzumu vysoko štandardizovaných produkt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Zástupný symbol obsahu 3" descr=""/>
          <p:cNvPicPr/>
          <p:nvPr/>
        </p:nvPicPr>
        <p:blipFill>
          <a:blip r:embed="rId1"/>
          <a:stretch/>
        </p:blipFill>
        <p:spPr>
          <a:xfrm>
            <a:off x="450720" y="536400"/>
            <a:ext cx="8242560" cy="5662800"/>
          </a:xfrm>
          <a:prstGeom prst="rect">
            <a:avLst/>
          </a:prstGeom>
          <a:ln w="0">
            <a:noFill/>
          </a:ln>
        </p:spPr>
      </p:pic>
      <p:pic>
        <p:nvPicPr>
          <p:cNvPr id="109" name="Obrázok 4" descr="P0115b398_s_praca_zamestnanie.jpg"/>
          <p:cNvPicPr/>
          <p:nvPr/>
        </p:nvPicPr>
        <p:blipFill>
          <a:blip r:embed="rId2"/>
          <a:stretch/>
        </p:blipFill>
        <p:spPr>
          <a:xfrm>
            <a:off x="7358040" y="3143160"/>
            <a:ext cx="1571760" cy="884160"/>
          </a:xfrm>
          <a:prstGeom prst="rect">
            <a:avLst/>
          </a:prstGeom>
          <a:ln w="0">
            <a:noFill/>
          </a:ln>
        </p:spPr>
      </p:pic>
      <p:pic>
        <p:nvPicPr>
          <p:cNvPr id="110" name="Obrázok 5" descr="1_Tokyo_quer_miki.jpg"/>
          <p:cNvPicPr/>
          <p:nvPr/>
        </p:nvPicPr>
        <p:blipFill>
          <a:blip r:embed="rId3"/>
          <a:stretch/>
        </p:blipFill>
        <p:spPr>
          <a:xfrm>
            <a:off x="7358040" y="1643040"/>
            <a:ext cx="1571760" cy="952560"/>
          </a:xfrm>
          <a:prstGeom prst="rect">
            <a:avLst/>
          </a:prstGeom>
          <a:ln w="0">
            <a:noFill/>
          </a:ln>
        </p:spPr>
      </p:pic>
      <p:pic>
        <p:nvPicPr>
          <p:cNvPr id="111" name="Obrázok 6" descr="ekopestovanie_1.jpg"/>
          <p:cNvPicPr/>
          <p:nvPr/>
        </p:nvPicPr>
        <p:blipFill>
          <a:blip r:embed="rId4"/>
          <a:stretch/>
        </p:blipFill>
        <p:spPr>
          <a:xfrm>
            <a:off x="7358040" y="4572000"/>
            <a:ext cx="1571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9:08:02Z</dcterms:created>
  <dc:creator>Monika</dc:creator>
  <dc:description/>
  <dc:language>en-US</dc:language>
  <cp:lastModifiedBy>wickon</cp:lastModifiedBy>
  <dcterms:modified xsi:type="dcterms:W3CDTF">2008-10-03T19:00:00Z</dcterms:modified>
  <cp:revision>8</cp:revision>
  <dc:subject/>
  <dc:title>Vývoj společnosti v pojetí A. Tofflera </dc:title>
</cp:coreProperties>
</file>