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567-56E5-464E-9571-EC28AA93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CD5-E9ED-40E8-AD9E-803AA8D0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2D4-676F-45E6-A9A6-3BB02489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ED63-6A37-4522-B143-46455A54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D8B4-D5D4-4602-A9A8-0DF3B1E9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9409-BCCF-4F1A-BC64-C069DE67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85CF-9F14-4377-A326-A79709B6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CB5D-2A47-492F-9892-DDB45096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C0EA-E6EE-447A-8DED-38CAAA8F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31D7-5C8E-42B7-A6E0-802A7C9C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662A-4276-4E4C-BED9-3CB9B45C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2D7-A3FA-488B-97B0-28FA4CCD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5624-623E-4DCF-8C7C-7EA04471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5268-2911-4A9D-A41B-10CDE497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3CF1-BCAF-4319-A401-DFF4D22C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936A-7AA2-448D-ABCB-3C7FCA20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C9C6-EBD5-4D22-8EFA-4A4B2F42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055-C37B-44E8-ADD3-C7EAD0B6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E89-D79F-4C9F-849E-A316D446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186-9C50-4AF2-AAAA-6C53BB94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761-A2A4-40DC-AA6A-11484405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520-05B4-4CB1-9256-D6A22AB4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A6B-ED43-4A89-BEB5-D5CF260D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46C-84FE-477C-AA71-217B82AB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965B-D1EA-4E47-85D0-9762BF004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194E-9BAD-4A86-8041-FDC226516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br>
              <a:rPr sz="2800"/>
            </a:br>
            <a:br>
              <a:rPr sz="2800"/>
            </a:br>
            <a:r>
              <a:rPr b="1" lang="cs-CZ" sz="3200" spc="-1" strike="noStrike">
                <a:solidFill>
                  <a:srgbClr val="ffffb7"/>
                </a:solidFill>
                <a:latin typeface="Arial Black"/>
              </a:rPr>
              <a:t>(Josef Šmajs: Drama evoluce)</a:t>
            </a:r>
            <a:br>
              <a:rPr sz="48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4365360"/>
            <a:ext cx="68007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pracovali: Blaha Mich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ál Tomáš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ulíčková Marc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e = proces, který směřuje proti rozpadu systému,zvyšování uspořáda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le nositele evoluční ak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ce přirozená - přír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ce kulturní – člověk (člověk prvkem přirozené evoluce a aktérem kulturní evolu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ledisko evoluce klíčem pro pochopení a řešení ekologické kriz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dělání lidí v oblasti závažnosti ekologického konfliktu, přijmutí nových hodnot (pochopení evoluce..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ositelem příro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nohem delší časové hledisko než evoluce kulturní, už od dob velkého třesku vznikaly prvky,struktury světa…(vznik abiotických a biotických systémů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tváření, přetváření, modifikace určitých prvků a struktur, výsledek evolučního procesu předem neznám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spořádanost jednotlivých organismů i uspořádanost celého ekosysté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lověkem generovaný proces, cílevědomá i spontánní aktiv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ěle vytvářená kultura vzniká z přírody, je závislá na přirozených evolučně starších systém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kladem kulturních struktur: informace kulturní=duchovní kul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ka, kultivované organismy, přirozené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ěřuje proti evolučně vytvořeným strukturám přír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ůsledek rozmachu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ůst a rozmach kultury- destrukce a snižování biologické rozmanitosti živ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ůmyslová revoluce- rostoucí nároky na suroviny, energie, hromadné čerpání zdrojů, znečišt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tika koncepce  společenského vývoje bez ohledu na vývoj přírodní, nutnost považovat kulturu za podřízený subsystém bio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tika povědomí, že člověk díky rozumu o přírodu přesahuje a je jí nadřa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 je to informac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jem dosud uspokojivě nevysvět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jako obsah a smysl zprá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jako obsah pamě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jako uspořádanost by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ížně se rozlišují a v důsledku toho i zaměňu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 je to informace? I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zev pro obsah toho, co se vymění s vnějším světem, když se mu přizpůsobujeme a působíme na něj svým přizpůsobováním.“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a ty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ypy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přirozená, biotick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kulturní, uměl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dělila struktury na živé a neži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niká modifikací starší informace přirozen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produktem kulturní informace, ale zároveň i její podmínk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eorie vzniku „spontánního společenského řádu“ (Hayek, F. A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ntická role 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mořádnou roli zastává lidský moz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, čeho jsme dosáhli, je výsledkem kulturního vývoje, jenž se opírá o mozek stále stejné kapacity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zek se rodí s hotovou strukturou, bude pracovat moderním způsobem, avšak tento mozek má svou historii. Byl budován během miliónů let, reprezentuje historii, které je výsledkem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ývoj filozof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ž donedávna filozofie bádala spíše v minulosti a snažila se vyložit podstatu nezpochybnitelného byt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jí vztah k ostatním vědám byl opomíj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es moderní filozofie hledí na realitu a vyvozuje z ní budoucnost, podstupujíce svoje teorie testu dalšími věda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ntická role kulturní informace I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ůsobí protipřírodně, je v opozici k přírodní 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ní informace se stává informací přirozen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Drama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Konflikt přirozené a kulturní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Základy systematické filosof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Wiener, N.: Kybernetika a společ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ould, S. J.: Pandin pal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ung, C. G.: Analytická psycholo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udijní materiály předmětu Management I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kutečnost – co o ní vlastně víme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šel „zázrak“ zrození, Slunce nám dodává energii nutnou ke všem procesům na Zemi (na planetu Zemi přitom dopadají pouhé 2 miliardtiny sluneční energ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iotické x abiotické struk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m směřuje skutečnost? Vesmír se rozpíná a chladne, zvyšuje se jeho entropie, naproti tomu na mnoha jeho místech vznikají stále složitější, organizovanější, struk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směřování vesmíru náhodné či se jedná také o evoluční pro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ystém přír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lobální biosféra – vytvořil ji život, nedevastuje Zemi, vychází totiž z jejích nejstarších strukt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tevřené živé systémy – mají epigenetickou paměť (CNS) a genetickou paměť. To vede k evolu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dukty evoluce jsou onticky předepsané struktury samovolně se strukturující bio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zemský život se tak stává organizačně nejsložitější, fenotypově nejaktivnější a proto i nejhodnotnější ontickou vrstvou vesmírné skutečn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Člověk jako součást systému přírod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– druhý, mladší systém, součást přírody, nemůže bez ní existov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ntropocentrická iluze – nadřazenost člověka přírodě, kultura se musí biofilně přestavě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šší systém neznamená silnější, naopak, slabší, křehčí organizační úroveň skutečnos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zpor přírody a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je součást přírody, kde vzniknul rozpo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je druhým ontickým systémem se sociokulturní informací, antropocentrická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ůže dosáhnout klimaxu s přírodou neboť roste mnohem rychleji, hnána příkonem se spalování fosilních paliv. Není tak prostor pro negativní zpětnou vazb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rama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icolai Hartmann – odlišuje vrstevnatost bytí a stejně tak jako první i přírodní a kulturní evolu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panze planetární kultury zbytečně brzo ohrožuje člověka jako dru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rálka není vždy závislá na faktu přežití, člověk může být fylogeneticky sobecký. Je však pouze nepatrnou větvičkou na stromu života, bez kterého nemůže existov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utné odstranit konspiraci lhostejn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spořádanost strukt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pořádanost poukazuje na vnitřní zjevnou i skrytou rozmanitost skut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pořádanost přirozená a kultur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nitřní architektura konkrétních struktur(biotických, kulturních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y udržující identitu těchto stru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uspořáda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ílem evoluční ontologie- přirozená uspořádanost jako vysoká kulturní hodn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lturní X přirozená uspořádanost: Nešetrné zásahy kultury do přírody ničí tuto biotickou uspořáda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majs: S ohledem na zachování přirozené uspořádanosti a na udržení biologické rozmanitosti života bude třeba rostoucí prostorové expanzi kultury zabrán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6:26:56Z</dcterms:created>
  <dc:creator>marcela</dc:creator>
  <dc:description/>
  <dc:language>en-US</dc:language>
  <cp:lastModifiedBy>snoopy</cp:lastModifiedBy>
  <dcterms:modified xsi:type="dcterms:W3CDTF">2008-09-30T13:02:12Z</dcterms:modified>
  <cp:revision>12</cp:revision>
  <dc:subject/>
  <dc:title>Přirozená a kulturní evoluce</dc:title>
</cp:coreProperties>
</file>