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9D3-261D-4B4B-9EA8-24D65A89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51C-6613-460D-A88B-067157FE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985-227C-4E18-AE6D-B492A2CA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02E-2DF3-4E0F-B40A-AE9CDB05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AD15-783E-46D6-88C5-408FB322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6F84-14BB-42CA-849D-87B0FD63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B86B-E398-4EDB-A24C-274B8FD0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C650-DBAD-49B2-AC69-752B864E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F4F3-91DD-4468-B4D3-014F63F3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61CC-6311-4695-94AA-3D5B8817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E601-8FF4-479A-9A18-D2933A71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4D0-03E3-4275-9BBD-0AC78423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044E-E528-4C38-8BD0-93E2E675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5863-725C-4C3F-97E3-865D93D7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D3C0-F3FA-42FD-80A5-6729EFAC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4CE8-0E3B-4E49-A494-376AAF06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2481-E66F-4454-9B61-4B82A05A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936-CBA3-4160-A29F-99303F6D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A08-BD42-4C94-A5D3-6F9E387E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AF5-60CC-4F5F-AB89-023D1116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2AB-7FB0-49CC-A5B4-982C13D7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2F0-03E2-41BC-A522-74DD9D18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3D0-0511-4DBE-8110-9667A43D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AF4-1AA3-4AD6-8C56-39224E60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F661-CF59-49E3-B567-01A5109A1874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D062-FDEB-4A49-A192-10ED4577E5F5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705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kologické aspekty industriální        a postindustriální společnost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47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ř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64200" y="416412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6748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6840" y="4797360"/>
            <a:ext cx="228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arie Adam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onika Kudl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František Chur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Vliv lidské činnost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692280"/>
            <a:ext cx="8209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elkové emise skleníkových plynů vznikající v důsledku lidské činnosti se od predindustriálního období zvýšily, s nárůstem o 70% mezi lety 1970 a 2004. Nejvýznamnější skleníkový plyn vznikající jako důsledek lidské činnosti j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CO2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. Roční emise tohoto plynu vzrostly 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mezi lety 1970 a 2004.“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300" spc="-1" strike="noStrike">
                <a:solidFill>
                  <a:srgbClr val="ffffff"/>
                </a:solidFill>
                <a:latin typeface="Tahoma"/>
              </a:rPr>
              <a:t>(Zdroj: Zpráva IPCC, 2007)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Globální roční emise antropogenních skleníkových plynů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50389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epříjemná pravda</a:t>
            </a:r>
            <a:br>
              <a:rPr sz="4400"/>
            </a:b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(Al Gor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ze probíhá a je morální povinností člověka ji řeš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bezpečí          Příležit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276360" y="4724280"/>
            <a:ext cx="115236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4724280"/>
            <a:ext cx="100800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7979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ak je možné ovlivnit atmosféru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Zdroj: &lt;http://apps1.eere.energy.gov/state_energy_program/update/images/06-07_greenhouse_effect.jpg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O2 vznikající z lidské činnosti: spalování ropy a uhlí, auta, elektrárny, at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é skleníkové plyny: např. fluorid sírový, fluorderiváty uhlovodíků at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4738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eplota na severní polokoul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Zdroj: An Inconvenient Truth, dostupné z: &lt;http://staffwww.fullcoll.edu/tmorris/an_inconvenient_truth/temps_north_til_2000.jpg&gt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34544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lobální oteplování jako důsledek lidské činnost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ání sněhu a led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dostatek pitné v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uriká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zertifik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sychání zemědělské pů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habita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mírání dru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růst invazivních dru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v ročních obdob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aktory, které změnily vztah člověka k Ze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ční explo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ědecko-technická r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Lidé jsou stále mocnější ve vztahu k příro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dě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zónová dí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my jsou odpovědněj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1972 – Medze rastu (Limits to growth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žiadnom systéme s obmedzenými zdrojmi nemôže pokračovať rast po ľubovoľne dlhú dob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čítačový model World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1992 – Prekročenie medzí (Beyond the limi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 modelu dosadené aktuálne informác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nohé toky materiálov a znečistenia prekročili svoje udržateľné medze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Hnacou silou, ktorá spôsobuje, že ekonom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ľudstva sa blíži fyzickým možnostiam Zeme, 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exponenciálny ra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ulá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vetového priemysl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edze, na ktoré rast naráž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Žriedla (potraviny, voda, lesy, fosílne palivá, materiály, 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Výpuste (odpady, znečisten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Zaťaženie = Populácia x Blahobyt x Technológi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Každá spoločnosť by mala previesť zlepšenia 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oblasti, kde má najväčšiu možnosť ich previesť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jem Ekologi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vodně biologická vě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irší smysl slova – ochrana přír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ologie – ideologie - ekolog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Komplexný model – počítačová simulácia sv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leduje stavy veličín: populácia, priemyselný kapitál, znečistenie, úrodná pôda, zdro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erie v úvahu časové horizonty zmien jednotlivých veličí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eberie v úvahu: nerovnomerné rozdelenie bohatstva, prírodné a technické katastrofy, vojny, korupciu, bariéry trhu ap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4 druhy medzí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Obhospodarovaná pô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Výnos z jednotky pô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Neobnoviteľné zdro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chopnosť Zeme absorbovať znečisten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úvislosti: výživa a očakávaná dľžka život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apitál, technológie a trh, priemysel a znečisteni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ôda a znečistenie, neobnoviteľné zdro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4 typy chovania mode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pretržitý r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Logistický r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kmit a oscilá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kmit a kola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3 spôsoby reakcie spoločnosti na signály o prekračovaní medz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ignály utajovať, zamlžova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mierniť tlaky technickými alebo ekonomickými opatreniami bez zmeny príčin krí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meniť štruktúru syst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dmienk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tabilizácia veľkosti populá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Obmedzenie hospodárskeho rastu – orientácia na kvalitativný 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Zlepšené technológie znižujúce emisie a zvyšujúce efektívnosť využívania prírodných zdrojo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Čím dlhšie bude trvať pretvorenie spoločnosti sme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 trvalej udržateľnosti, tým nižšia veľkosť populácie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ateriálna životná úroveň bude udržateľ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ytváranie víz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ájomné prepojo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Hovorenie prav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Uče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ilo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3 od počátku cílen jako destruktivní, aby se stal zajímav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ktní limity ne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předpokládá, že ekonomický růst nutně způsobuje nárůst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tah: množství jídla na osobu – střední délka živ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 konstantního výnosu z každé další jednotky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 malé efektivity lidské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ybějící prostor pro lidskou fantazii a operativní řešení probl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nedělá přesné předpovědi – nedá se ověř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droj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EADOWS, Jorden. Překročení mezí. Argo 1995. 319s. ISBN 80-85794-83-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REEMAN, Christopher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ls of Doom: A Critique of the Limits to Growth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volution [online]. Wikipedia.org 2008. Převzato 2008-10-13. Dostupné z www: http://en.wikipedia.org/wiki/Ev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cology [online]. Wikipedia.org 2008. Převzato 2008-10-13. Dostupné z www: http://en.wikipedia.org/wiki/Ec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práva Mezivládního panelu pro klimatické změny při OSN, 2007, Dostupné z www: http://www.ipcc.ch/pdf/assessment-report/ar4/syr/ar4_syr_spm.p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ORE, Al. Nepříjemná pravda. Argo 2007. 325s. ISBN 978-80-7203-868-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ůvody ochrany příro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etické (rekreač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ické (teologick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logické (ekologick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ývoj k současnost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lověk a války svě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inulost  X  součas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ulost – každá skupina mohla dělat cokoli chtěla a čas a válka ukázal, co je lepší (klima nebylo ovlivněn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časnost – globální společnost – nejrychlejší růst není nutný pro přežití, ovlivňuje ovšem globální kl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inulost  X  součas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nulost – neexistovaly negativní externality v globálním měřít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asnost – znečištění životního prostředí je negativní external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ázory na ekologické dopady industriální a postindustriální společnosti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263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imatická změna neprobíh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imatická změna probíh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99"/>
              </a:spcBef>
              <a:buClr>
                <a:srgbClr val="ffffff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a je přiroze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99"/>
              </a:spcBef>
              <a:buClr>
                <a:srgbClr val="ffffff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u zapříčinil člově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zasahovat               Zasah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00000" y="4437000"/>
            <a:ext cx="1655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4437000"/>
            <a:ext cx="172728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ata a východis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15920"/>
            <a:ext cx="7543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Oteplová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klimatického systému 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je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nesporn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, jak prokazují výsledky pozorování zvyšující se globální průměrné teploty vzduchu a oceánu, rozsáhlé tání sněhu a ledu a zvyšující se průměrná hladina světových moří.“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(Zdroj: Zpráva Mezivládního panelu pro klimatické změny při OSN, 2007, dostupné z: &lt;http://www.ipcc.ch/pdf/assessment-report/ar4/syr/ar4_syr_spm.pdf&gt;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růměrná povrchová teplota a úroveň hladiny moř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droj: Zpráva Mezivládního panelu pro klimatické změny při OSN, 200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553440" cy="2859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58341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7:07:13Z</dcterms:created>
  <dc:creator>ucebna</dc:creator>
  <dc:description/>
  <dc:language>en-US</dc:language>
  <cp:lastModifiedBy>Kudlová</cp:lastModifiedBy>
  <dcterms:modified xsi:type="dcterms:W3CDTF">2008-10-15T23:56:07Z</dcterms:modified>
  <cp:revision>37</cp:revision>
  <dc:subject/>
  <dc:title>Snímek 1</dc:title>
</cp:coreProperties>
</file>