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733-E2EE-449F-BFEF-22238F61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983-2F19-4C63-945B-26F5EE1F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584-92F8-43C1-B59B-2EC9A54F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C81-4473-4954-9805-7DE1B260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D15C-37B7-418D-B85E-39F42950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FCA6-751A-40DB-8189-E0D5D9A5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99AD-6CEB-434D-B838-00DCA56F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A829-AC8B-4B7C-9EB9-CEEA165A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975B-A961-48AF-8649-D53F7B73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1A8D-B387-44E4-9F57-A45FD083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5B88-E1F5-4A6C-B081-E6C0C1D3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CFF-A186-4D1C-AD26-26236129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53A0-611F-47F0-A9B0-2AFE80CD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D5AD-0037-44B6-9183-3E3C97FC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8DA6-63FE-43DB-A0BA-DE22E143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790E-D525-4CF3-940C-A4BA9DC6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1C60-04B2-40A8-BCDA-2F95177D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8462-50DA-4797-B95D-5C293A71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8D395-957C-4B87-8338-3673422E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06BF-D24E-4B57-9653-D5C7C3A0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DC954-3B9B-481F-94DB-CBB5F1EF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06FB5-7EE1-42A9-A1BA-D9C83570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9B9-2493-4135-A53B-09C3F97A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759F4-832F-4B94-9E5B-F49222BF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15980-71D5-474E-94B7-05FE7021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3FE85-A4B8-4AB3-B545-5596B627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6D641-2D68-42CA-BB71-01221093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54E60-3C1E-4F73-B5FD-BF849FD3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A4AA6-40F9-488A-8263-9CFC4AAF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A1E34-82F3-4B8C-B6CF-D68F930D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98F8B-A8FD-4E6B-B7C7-678F20E3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E2EE4-5134-4795-9679-67D49081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6FCB6-6A20-47FB-9F77-0326E4D1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24D-976A-4A94-8C62-7582AE00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7140B-7D8E-4616-95F8-9EC25F1C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5AFC7-DF98-4B65-AC02-42553216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07805-DA49-493F-BC7D-0E975A69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15FD5-6C03-4DDE-9A07-547A1286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EE771-7FF9-4182-99DA-B333775D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85D32-2CE6-4357-AD37-02DED2B4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A59D9-22AB-4E5D-95E2-FBD419E5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672A6-5F20-414F-9B27-59977533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38CF6-2CCC-45BB-9D0C-7E81666E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773-F8C5-4434-B6DE-042AD126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4AD-F287-4F3C-BF62-2E65DA29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B22-CB43-4B74-8D1F-78288907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AFB-EDEA-47F5-BFBB-1874139C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2EF-B292-42E9-B920-F272393B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8CF6-3109-4879-A56A-0DF92B151A61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DD97-C39F-4507-8231-319AD88ABACD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88A3-2EB9-4C2C-ACD5-B2787D113303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1843-574A-40CD-BBB9-57DAAC2A2D79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5000760"/>
            <a:ext cx="7854840" cy="909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áclav Klein, Vít Zouhar, Robert Kund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Děkujeme za pozornos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0040" y="4571640"/>
            <a:ext cx="822960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CO JE TO NENULOVÝ SOUČET?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AM je unášeno lidstvo ve svých dějinách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á nějaký VYŠŠÍ SMYSL?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WRIGHT: Vývoj, evoluce má svůj směr a cí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BERGSON- ELÁN VITAL- pohání živé hmo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TEILHARD de CHARDIN-dějiny lidstva směřují k bodu omega, ten je umístěn mimo prostor a č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íliš nadpozemské??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ALE…Správná základní myšlenka 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Evoluce organismů má sklon vytvářet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složitější formy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a stejně i lidské dějiny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íhnou k vývoj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stále větších a složitějších uskupení-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noosféra, globalizační vesnice.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ZE SMĚŘOVÁNÍ NA KTERÉ BERGSON A DE CHARDIN UPOZORNILI VYSVĚTLIT VĚDECKÝM ZPŮSOBEM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podle Wright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AN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POVĚĎ BY PODLE WRIGHTA MOHLA BÝT V TEORII HER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Teorie her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or, který se snaží té které hře přiřadit právě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volučně stabilní strateg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le  úspěšnosti v aktuálním kole je získána jakási poukázka na množství potomků v kole následují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trate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 x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lze nalézt i v rámci jednoho druhu – vlivy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arwinovský boj o život – spíše v rámci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ednoho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ruhu, než mezi dru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řizpůsoben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se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Žádní vítězové – pouze poraže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y protihráčů jsou nepřímo úměrné (fotbal, tenis, bo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e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 jednoho nemusí být na úkor druhého. Obvykle se zájmy překrývaj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ehled vývoje života lze uvádět stručn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řehled lidských dějin je spletit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: u obou lze zachytit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zorec vysvětlující směr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ějin práv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mocí teorie her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Vznikají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nové technolgie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odněcují nové bohatší podoby vzájemneho působeni s nenulovým součtem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té se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yvyjeji společenská uspořádán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která tohoto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tenciálu využij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promění situace s nenulovým součtem v 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zitivní zisky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V souladu s paretovým optimem-nikomu se nemůže ve společnosti dařit lepe na ukor jinéh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například Technologické revoluce tak vytvářejí stále nové hry umožnujiící oboum stranám výhru(např. Hospodářský růst i pomocí technlogií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znamená to, ale že hry s nenulovým součtem musí být ziskové na obou stranách, nebo že by bylo vyloučené podvádění, nebo parazitismus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esto, se ale po čase ukáže, že vzniká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více součtů kladných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ž záporných a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častější je oboustraný zis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směřuje tak spíše k výhrám.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Uspořádání společnosti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 tak stál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složitějš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o šířky i do hloub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ějiny života i lidstva sestávají se stále častějších, rozsáhlejších a složitějších her s nenulovým součte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Hromadění nenulových her je podstatou narůstání biologické i společenské složitosti-hromadění nenulovos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Nenulovost dodáva hybnost základnímu směřování života na planetě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Výskyt strategií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Člověk se obvykle vyskytuje v prostředí, které mu je "přirozené", tedy mezi obdobnými strategiem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rozba infiltr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 zdánlivě slepý přírodní výběr přitom "odměňuje" entity, které jsou oproti svému okolí schopné lepšího zpracování informací. Čím lepší zpracování informací, tím blíže ke K strategii a tím větší je opět prostor pro altruism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ZMATEK DNEŠNÍ DOB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ahová období-vývoj skočí z rovnovážného stavu na  vyšší úroveň rovnováh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 tomu dochází i dn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 uznává že rostouci zmatek je znamenim rozhodného kroku v postupu toho, co můžeme nazvat osudem svě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Osudem našeho druhu je VYBRAT SI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Použitá literatura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avel Houser / Vzpoura genů : od velkého třesku k umělé inteligenci . -- 1. vyd.. -- Praha : IDG Czech, 2003. -- 127 s., [16] s. barev. obr. příl. :. ISBN: 80-86304-99-X (brož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bert Wright / Logika lidského osudu -- 1. vyd.. -- Praha : Lidové noviny, 2000. –356 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ttp://www.scienceworld.cz , nahlédnuto 4.10.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0:57:50Z</dcterms:created>
  <dc:creator>Zou</dc:creator>
  <dc:description/>
  <dc:language>en-US</dc:language>
  <cp:lastModifiedBy>Zou</cp:lastModifiedBy>
  <dcterms:modified xsi:type="dcterms:W3CDTF">2008-10-06T12:43:12Z</dcterms:modified>
  <cp:revision>2</cp:revision>
  <dc:subject/>
  <dc:title>Evoluce jako hra s nenulovým součtem</dc:title>
</cp:coreProperties>
</file>