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77A5-E510-464F-BB6D-D36BDCAA2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6EE2-BF16-4465-8E37-4E4F288A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D6F5-8F04-4B61-994F-C6E8AEF58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83A8-CF66-44BD-98E1-73DD9FC91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5FEA-B272-48F5-8BA7-2220D4EB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7868-7787-4E6F-B9F5-2BC4BB07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03AB-5543-4484-9140-3747731D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0DAD-67B7-4C38-BF3E-340DF682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320"/>
            <a:ext cx="776772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A505-EE0F-4AB8-89D9-A15CE218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2DEF-4AD8-4533-B627-5FE08A59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C71F-E331-4845-A822-A13A56A5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AA1D-7AA1-414F-84E0-FE9773D9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D00600-9096-4DDF-8E0A-D47C0A1CB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79640" y="2165400"/>
            <a:ext cx="719928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Vývoj spoločnosti v pojatí A. Toffl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623052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Elena Dvoráková, Martin Petrovič, Milan Vdov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4400" spc="-1" strike="noStrike">
                <a:solidFill>
                  <a:srgbClr val="800000"/>
                </a:solidFill>
                <a:latin typeface="Arial"/>
              </a:rPr>
              <a:t>Šok z budúcn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62160" y="1980720"/>
            <a:ext cx="449100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Tri faktory zajtrajš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Pominuteľnos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Novos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Rozmanitos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futureshock_sm" descr=""/>
          <p:cNvPicPr/>
          <p:nvPr/>
        </p:nvPicPr>
        <p:blipFill>
          <a:blip r:embed="rId2"/>
          <a:stretch/>
        </p:blipFill>
        <p:spPr>
          <a:xfrm>
            <a:off x="1143000" y="2057400"/>
            <a:ext cx="2595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4400" spc="-1" strike="noStrike">
                <a:solidFill>
                  <a:srgbClr val="800000"/>
                </a:solidFill>
                <a:latin typeface="Arial"/>
              </a:rPr>
              <a:t>Pominuteľnos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615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Vec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Mies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Ľudia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Prvky situác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Organizác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Informác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33920" y="3276720"/>
            <a:ext cx="99036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4400" spc="-1" strike="noStrike">
                <a:solidFill>
                  <a:srgbClr val="800000"/>
                </a:solidFill>
                <a:latin typeface="Arial"/>
              </a:rPr>
              <a:t>Novos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Klonovan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Kyborgov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Transplantác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Využívanie oceán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Priemysel zážitk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Rod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4400" spc="-1" strike="noStrike">
                <a:solidFill>
                  <a:srgbClr val="800000"/>
                </a:solidFill>
                <a:latin typeface="Arial"/>
              </a:rPr>
              <a:t>Rozmanitos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Koniec štandardizác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nadmerný vý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Ško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Fil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Subkultú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Životné štý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2819520"/>
            <a:ext cx="76212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4400" spc="-1" strike="noStrike">
                <a:solidFill>
                  <a:srgbClr val="800000"/>
                </a:solidFill>
                <a:latin typeface="Arial"/>
              </a:rPr>
              <a:t>Šok z budúcn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7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Výskum zmi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Orientačná reak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Adaptívna reakcia = st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000" spc="-1" strike="noStrike">
                <a:solidFill>
                  <a:srgbClr val="800000"/>
                </a:solidFill>
                <a:latin typeface="Arial"/>
              </a:rPr>
              <a:t>„</a:t>
            </a:r>
            <a:r>
              <a:rPr b="0" lang="sk-SK" sz="3000" spc="-1" strike="noStrike">
                <a:solidFill>
                  <a:srgbClr val="800000"/>
                </a:solidFill>
                <a:latin typeface="Arial"/>
              </a:rPr>
              <a:t>Zmena nie je len potrebná k životu. Ona sama je život. A preto žiť znamená adaptovať sa. Adaptabilita má však svoje medze. Ak je kapacita prekročená, nastáva šok z budúcnosti.“</a:t>
            </a:r>
            <a:r>
              <a:rPr b="0" lang="sk-SK" sz="3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000" spc="-1" strike="noStrike">
                <a:solidFill>
                  <a:srgbClr val="800000"/>
                </a:solidFill>
                <a:latin typeface="Arial"/>
              </a:rPr>
              <a:t>- Alvin Toffl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Šok z budoucnosti</a:t>
            </a: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 / Alvin Toffler ; z amerického originálu přeložil Stanislav Mundil.. -- 1. vyd.. -- Praha : Práce, 1992.. -- 284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Třetí vlna</a:t>
            </a: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 / Alvin Toffler.. -- [S.l. : s.n.], 1989.. - 834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Nová civilizace</a:t>
            </a: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: třetí vlna a její důsledky</a:t>
            </a: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 / Alvin Toffler, Heidi Tofflerová ; přeložil Bohuslav Blažek.. -- 1. vyd. v českém jazyce.. -- Praha : Dokořán, 2001.. -- 124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4400" spc="-1" strike="noStrike">
                <a:solidFill>
                  <a:srgbClr val="800000"/>
                </a:solidFill>
                <a:latin typeface="Arial"/>
              </a:rPr>
              <a:t>Ďakujeme za pozornos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Alvin Toff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14800" y="1981080"/>
            <a:ext cx="4340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Narodený 3.10.192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Americký spisovateľ a futuri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Autor kníh ako Nová civilizácia, Tretia vlna, Vojna a ant</a:t>
            </a: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i</a:t>
            </a: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vojna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43080" y="1981080"/>
            <a:ext cx="2693880" cy="411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Teória vĺ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Človek ako lovec-zbera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Agrárna (feudálna) spoločnosť (I.vlna)</a:t>
            </a: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Industriálna spoločnosť (II.vlna)</a:t>
            </a: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Post-industriálna spoločnosť (III.vlna)</a:t>
            </a: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(vesmírny vek, informačný vek, elektronická epocha, technotronický vek, globálna dedina, vedeckotechnická revolúcia, superindustriálna spoločnosť)</a:t>
            </a: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Základná architektúra spoločn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Arial"/>
              </a:rPr>
              <a:t>Technosféra</a:t>
            </a: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produkuje a prideľuje bohatst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Arial"/>
              </a:rPr>
              <a:t>Sociosfé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pripisuje jednotlivcom úlohy v rámci systé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Arial"/>
              </a:rPr>
              <a:t>Infosféra</a:t>
            </a: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prideľuje potrebné informácie, aby mohol systém fungova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Arial"/>
              </a:rPr>
              <a:t>Mocenská</a:t>
            </a: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800000"/>
                </a:solidFill>
                <a:latin typeface="Arial"/>
              </a:rPr>
              <a:t>sfé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I. vl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Poľnohospodárska výroba, domestikácia zvier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Usadlý spôsob živo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Vznik remesl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Zmeny v náboženstve, umení a po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Nukleárna rodin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Feudalizm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Kočovné národy </a:t>
            </a: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vs. </a:t>
            </a: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Impériá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II. vl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Boj národov druhej vlny proti národom prvej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Kapitalizmus a komunizm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Energia, výroba, distribúc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Štandardizácia, špecializácia, synchronizácia, koncentrácia, maximalizácia, centralizác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Elementárna rodina, škola továrenského typu, korporác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Nosiče informácií</a:t>
            </a:r>
            <a:r>
              <a:rPr b="0" lang="sk-SK" sz="2600" spc="-1" strike="noStrike">
                <a:solidFill>
                  <a:srgbClr val="800000"/>
                </a:solidFill>
                <a:latin typeface="Arial"/>
              </a:rPr>
              <a:t>, neviditeľný kl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924680" y="2057400"/>
            <a:ext cx="914040" cy="3427200"/>
            <a:chOff x="7924680" y="2057400"/>
            <a:chExt cx="914040" cy="3427200"/>
          </a:xfrm>
        </p:grpSpPr>
        <p:sp>
          <p:nvSpPr>
            <p:cNvPr id="60" name=""/>
            <p:cNvSpPr/>
            <p:nvPr/>
          </p:nvSpPr>
          <p:spPr>
            <a:xfrm>
              <a:off x="7924680" y="4950360"/>
              <a:ext cx="9126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I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924680" y="4189320"/>
              <a:ext cx="912600" cy="7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924680" y="2894760"/>
              <a:ext cx="912600" cy="12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T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924680" y="2057400"/>
              <a:ext cx="912600" cy="83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3200" spc="-1" strike="noStrike">
                  <a:solidFill>
                    <a:srgbClr val="800000"/>
                  </a:solidFill>
                  <a:latin typeface="Times New Roman"/>
                </a:rPr>
                <a:t>M</a:t>
              </a:r>
              <a:r>
                <a:rPr b="0" lang="sk-SK" sz="3200" spc="-1" strike="noStrike">
                  <a:solidFill>
                    <a:srgbClr val="8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924680" y="2057400"/>
              <a:ext cx="9126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924680" y="5483520"/>
              <a:ext cx="9126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924680" y="2057400"/>
              <a:ext cx="1800" cy="837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37280" y="2057400"/>
              <a:ext cx="1440" cy="837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94760"/>
              <a:ext cx="1800" cy="1294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837280" y="2894760"/>
              <a:ext cx="1440" cy="1294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924680" y="4189320"/>
              <a:ext cx="1800" cy="76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37280" y="4189320"/>
              <a:ext cx="1440" cy="76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924680" y="4950360"/>
              <a:ext cx="1800" cy="532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837280" y="4950360"/>
              <a:ext cx="1440" cy="532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24680" y="2894760"/>
              <a:ext cx="91260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24680" y="4950360"/>
              <a:ext cx="91260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924680" y="4189320"/>
              <a:ext cx="912600" cy="108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Súčasnosť v pojatí Toffl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Kvantový skok v dejinách ľudst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Súčasná generácia je svedkom prechodu od druhej k tretej vl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Prichádzajú desaťročia zmien, turbulencií, prevratov, inovácií,  diskontinui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Koexistencia spoločností prvej (motyka), druhej (výrobný pás) a tretej vlny (počítač) súčas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Cha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Dezorientácia člove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Neschopnosť adaptácie (zaplavenie informáciami)</a:t>
            </a: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Porovnanie druhej a tretej vlny vývoja spoločn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57200" y="1676520"/>
          <a:ext cx="8305920" cy="5011560"/>
        </p:xfrm>
        <a:graphic>
          <a:graphicData uri="http://schemas.openxmlformats.org/drawingml/2006/table">
            <a:tbl>
              <a:tblPr/>
              <a:tblGrid>
                <a:gridCol w="4152960"/>
                <a:gridCol w="4152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sk-SK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2.vl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sk-SK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3.vl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68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Kapitá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Poznanie (informácie)</a:t>
                      </a: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Kapitalizmus, socializm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Informačná, znalostná spoločnos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Masifiká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Demasifiká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83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Synchronizácia, štandardizácia, centralizá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Univerzálnosť, decentralizá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Fyzická práca (modré límečky)</a:t>
                      </a: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Duševná práca (bílé límečky)</a:t>
                      </a: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‏</a:t>
                      </a: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, supersymbolická spoločnos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sk-SK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Homogenit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sk-SK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Heterogenit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Prechod k demokracii 21.storoč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282680" y="2274840"/>
            <a:ext cx="6094080" cy="3122640"/>
            <a:chOff x="1282680" y="2274840"/>
            <a:chExt cx="6094080" cy="3122640"/>
          </a:xfrm>
        </p:grpSpPr>
        <p:sp>
          <p:nvSpPr>
            <p:cNvPr id="83" name=""/>
            <p:cNvSpPr/>
            <p:nvPr/>
          </p:nvSpPr>
          <p:spPr>
            <a:xfrm>
              <a:off x="5090040" y="4331160"/>
              <a:ext cx="2285280" cy="106596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800000"/>
                  </a:solidFill>
                  <a:latin typeface="Times New Roman"/>
                </a:rPr>
                <a:t>Deľba rozhodovan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15680" y="4331160"/>
              <a:ext cx="1674000" cy="106596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282680" y="4331160"/>
              <a:ext cx="2133000" cy="106596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800000"/>
                  </a:solidFill>
                  <a:latin typeface="Times New Roman"/>
                </a:rPr>
                <a:t>Koncentrácia rozhodovan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090040" y="3264840"/>
              <a:ext cx="2285280" cy="106596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800000"/>
                  </a:solidFill>
                  <a:latin typeface="Times New Roman"/>
                </a:rPr>
                <a:t>Polopriama demokrac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415680" y="3264840"/>
              <a:ext cx="1674000" cy="106596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82680" y="3264840"/>
              <a:ext cx="2133000" cy="106596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800000"/>
                  </a:solidFill>
                  <a:latin typeface="Times New Roman"/>
                </a:rPr>
                <a:t>Priama demokrac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90040" y="2274840"/>
              <a:ext cx="2285280" cy="99000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800000"/>
                  </a:solidFill>
                  <a:latin typeface="Times New Roman"/>
                </a:rPr>
                <a:t>Vláda menšin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15680" y="2274840"/>
              <a:ext cx="1674000" cy="99000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82680" y="2274840"/>
              <a:ext cx="2133000" cy="99000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800000"/>
                  </a:solidFill>
                  <a:latin typeface="Times New Roman"/>
                </a:rPr>
                <a:t>Vláda väčšin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82680" y="2274840"/>
              <a:ext cx="3807360" cy="14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82680" y="3264840"/>
              <a:ext cx="6093000" cy="108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82680" y="4331160"/>
              <a:ext cx="609300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82680" y="2274840"/>
              <a:ext cx="1080" cy="9900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15680" y="2274840"/>
              <a:ext cx="1080" cy="31226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90040" y="2274840"/>
              <a:ext cx="1080" cy="31226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75680" y="2274840"/>
              <a:ext cx="1080" cy="31226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82680" y="3264840"/>
              <a:ext cx="1080" cy="21322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15680" y="5396040"/>
              <a:ext cx="1674000" cy="1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82680" y="5396040"/>
              <a:ext cx="2133000" cy="1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090040" y="5396040"/>
              <a:ext cx="2285280" cy="1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090040" y="2274840"/>
              <a:ext cx="2285280" cy="14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3600360" y="3778200"/>
            <a:ext cx="114300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14760" y="2878200"/>
            <a:ext cx="1143000" cy="14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00360" y="4859280"/>
            <a:ext cx="1079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 Mino</dc:creator>
  <dc:description/>
  <dc:language>en-US</dc:language>
  <cp:lastModifiedBy>El Mino</cp:lastModifiedBy>
  <dcterms:modified xsi:type="dcterms:W3CDTF">2008-10-08T16:43:36Z</dcterms:modified>
  <cp:revision>4</cp:revision>
  <dc:subject/>
  <dc:title>Prezentace aplikace PowerPoint</dc:title>
</cp:coreProperties>
</file>