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002-6EBD-458D-93E6-578BFE29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B67-3A67-4FE5-BCF7-9A04298C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5F9-D2EE-4AE0-A543-DACE8E10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F06-DC27-4AD7-9616-A189D477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F081-0033-490A-885A-10FB0EE3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A412-4A9E-422B-A8EE-451A3C8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97C6-85C9-429B-90EB-AACA4563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94C3-8817-48F1-AA79-0C5E555D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1CCD-EB5B-4803-A0B2-8A5D518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C6D7-9558-4145-BE07-B8E8F37D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8AA8-AC6C-46CE-945B-F4CE0109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2D0-A213-4E86-A7E0-72E77A1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E7F-F174-4059-B5AF-A730DB74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D60-E9E6-4EC3-B0BE-CB50C12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7414-7124-4339-A5AF-AB9A7A3D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F64-4DA3-42C8-B986-C1DDF842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2C9B-35FC-4240-B982-4521FFC1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69CBC-C1FA-467E-9A85-53724F3C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C8B66-6D04-42E6-80B6-0FBB028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ECC71-493B-4C4C-9211-E118D677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ECEA1-92B3-48DA-A481-929AE8D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12870-952D-4869-A43C-C2BD6F2C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2FE-CD71-4905-8254-D24AA030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4D083-069B-430C-8F67-71C0287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2C961-BA97-4C8D-BAD0-9E5CE3D3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09DF7-265D-40F2-94FF-1F336C5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735FF-80BA-4AFD-8205-E704467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115B7-8A49-4CBF-AB7F-7835C69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32C25-6711-4D64-834D-24AC3E5E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BF693-52B0-4DDC-9407-3DCC40EC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0663-995A-4EB5-95CB-5E3274D4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545F-D228-4318-AEC4-043AA8CA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9E8C-0B54-494A-AA37-0AD22F4B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102-1490-4F83-A41E-35CCCC3B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2C63-05CE-4356-9A85-B22F105B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B898-12D4-488D-933F-912CB29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992B-5BD4-49B9-A231-F91088B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11E9-C90E-432E-8036-8754D0D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E9B54-64DF-42A1-8FF1-627BCA8C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B9BE-D2A3-4B7A-BCE3-ABA1763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68EB-F925-4F5E-B2DB-1FE6A6F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3D6F-2D70-4DBF-817F-A10024F1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B3EA-7027-476D-AF26-9EEECB93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49AAD-79EA-47DE-BE70-9F99F856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C81-5B0B-4D20-BB16-151744A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6EE3B-26FC-4707-8EDF-FA6DACAA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2BDD3-0D44-4585-AE15-E3201A93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3604F-7E53-44A8-B646-E1B4F5E9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B791E-9113-4B10-98F8-398E78F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806E7-3B5C-4402-8B1D-B5DE84D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6D1FF-7A90-433D-8245-D152DB33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C76B3-16B9-4784-AE23-F7F2ACB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38DE1-31D0-43B6-8F68-FF7AA0B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49B47-D989-4AEB-BFAB-12BC1B02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D2873-1A2E-4CEF-A0A0-AE611F75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6DD-2E25-4D32-8CC5-4A338CB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10816-2962-48F6-9963-6FBBC8A6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97980-01E5-4AC2-8D36-C3C98FBC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4DAC6-1893-499C-B577-6494A5ED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7233E-325A-4C25-ADC3-111FDB1D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2948D-233C-46A9-BB76-30D0E865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FA000-B4DE-4BDE-88F1-51DD61F5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822AB-87A4-4561-9532-2193EDC4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26893-1F48-4DAC-8248-A75D59C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E1D94-16DC-41A2-86B4-35FD049E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C1BFE-B0F2-4D59-BF7D-8E631B5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902-316F-4D08-AC77-707C5334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4E5CF-320F-42D0-B9F7-015826A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F750E-A7A7-446E-8437-7229EA56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E1E98-B458-458B-A8E7-452C4C33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6CAA0-87C2-46E7-A248-99439F67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2AA7F-92D0-4ADC-B4CB-C4E361D4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5BF7A-638C-473A-852F-A30BABC5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DA6CD-4477-4C4B-99E3-33BDE55D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89A52-BB6A-474B-8737-B8305E5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15566-8964-419A-8409-877D4481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95F06-0662-4CB7-B98A-8851AC5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DA2-EA84-47E7-95C6-0E2F53A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C5C39-F1DC-4D69-BFDA-48464F3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0926C-1D91-4BF1-A65E-040366D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A7C8E-534F-4D0B-8BAA-2C7BE7A1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34280-4672-4FAB-B629-01BC2EF4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6B3B9-0829-422F-B467-0C8D57F2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B65-8187-4DD7-9075-5300F0FE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F555-0F67-4A48-B2B2-7F89758D16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604D-CBB9-471E-82CE-A695A63B81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D9C1-CA71-40E6-85C7-9932200B14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7726-F98A-4AF9-A260-62D59FAF4B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C9F3-B1FA-4C1E-9CA0-03E191A543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C3C9-5AAB-48E2-995C-1074D20A34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159D-EFF6-48AD-B916-56531D0B77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Arial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entury Schoolbook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entury Schoolbook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entury Schoolbook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0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SBN 0-553-27737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Děkujeme za pozornost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admin</cp:lastModifiedBy>
  <dcterms:modified xsi:type="dcterms:W3CDTF">2008-10-13T21:20:58Z</dcterms:modified>
  <cp:revision>20</cp:revision>
  <dc:subject/>
  <dc:title>Třetí vlna a její důsledky</dc:title>
</cp:coreProperties>
</file>