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B7E0-326A-42B5-9F05-90F5D5394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C9C6-70A5-48C6-BABE-FCF584905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0F15-06B6-4635-888D-069A67A30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4AD2-235D-49E7-94AD-0213CF6FE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1AF24-AD54-4F30-B2BB-8769E7CB8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93171-2034-40C6-AFD1-DA29754D0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64A36-205C-45F4-A284-F443620A7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4AB0A-89FB-41FE-952F-02B57F060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49EFF-30A8-4BE8-AFB4-11ED220AC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8C93E-0E2F-4A08-8EB1-14115E058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46883-9ECB-47E8-BF73-1E2983E8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3C19-0B22-44EE-8BC0-4FE98B60E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E1630-0B56-4BBA-88D2-8B6FFD53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2C4CF-A578-446D-B335-80BEEBE0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B61A0-26D5-46A5-AFB3-D52B2EA46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DA249-1232-48C0-9DDD-3016742BE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2C4D7-4579-42FD-8831-29A0AB519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E6FB-2F16-4467-8936-678599570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93F9-93D3-42D2-94E7-7C8A2B014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FAFC-307E-4473-9656-4E7DECC6E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CE25-15EC-4CF9-A778-FCA75186D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E00B-266D-4808-8626-3D520EBC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2C5F-9337-4084-8077-763EEC4C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BF94-72CF-4C51-A8F3-B916107E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F2C44-6559-4953-8EC2-78957E34741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79C3F-C830-4D6B-9537-53051673EA4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0920" y="1844640"/>
            <a:ext cx="8062920" cy="23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D MASOVÉ VELKOVÝROBY K INOVATIVNOSTI A HODNOTĚ PRO ZÁKAZNÍK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411280" y="4508640"/>
            <a:ext cx="640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etra Břenkov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Tereza Kalandrov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Jana Navrátilov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2. INOVACE VE SVIŽNÉM TEMPU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dporujte zapálené bojovník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ychle odstraňujte chy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ovte měřitelné cíle inov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ypěstujte schopnost inov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OUHR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ypracovat strategii inovace,která se vyznačuje velkým množstvím bleskově rychlých, ale skromných začátků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yužívat multifunkční týmy pro všechny vývojové činnost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ahradit návrhy pilotními projekty a prototyp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Zapomenout,že jste to nevynalezli a naučit se kopírovat od těch nejlepšíc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rganizujte marketingové úsilí při zavádění nových výrobků na základě výrazných kampaní rozšiřovaných ústním podání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řitahovat přeborníky  a bojovníky z personálu i z projekce k velkým projektům i k nezávislým akcí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ami osobně se svou každodenní činností staňte symbolem novátorství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bírejte neúspěc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ovaci proměňte na zaběhnutý způsob života firm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3. DOSAŽENÍ PRUŽNOSTI PŘEDÁNÍM PRAVOMOCÍ LIDEM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šichni se zajímají o všech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tavte týmy a dejte jim pravomo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slouchejte-oslavujte-uznávejte a chval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ěnujte dostatek času nábor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zdělávejte a doškoluj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3. DOSAŽENÍ PRUŽNOSTI PŘEDÁNÍM PRAVOMOCÍ LIDEM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šem pracovníkům stanovte pobídkovou mz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jte záruku trvalého zaměstná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jednodušte a zredukujte strukturu fir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vé pojetí úlohy středních manažer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dstraňte byrokratická pravidla a pokořující podmín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OUHR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Zapojte veškerý personál na všech úrovních a ve všech funkcích úplně do všeh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šechno organizovat pomocí týmů,abychom dosáhli zvýšeného soustředění a zaměření na úkol,novátorského přístupu a zaujetí jednotlivců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oustavně naslouchat, shromažďovat nebo sdílet nápady a informace a uznávat úspěchy,oslavovat formálně i neformálně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ydatně investovat do náboru čas řadových pracovníků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vestovat do lidského kapitálu tolik jako do hardwaru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Každému opatřit tučné finanční podně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Zajistit, aby velice zřídka nebo vůbec nedocházelo k propouštění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tanovte radikálně vyšší poměr řadových pracovníků k vedoucí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třední management = zařizovatel a ničitel funkčních barié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adikálně snížit a zjednodušit papírování a zbytečné procedur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4. Naučte se milovat změnu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ypracovat inspirativní v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Řídit příklad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ktikovat viditelné říze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ěnujte pozornost (více naslouchej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4. Naučte se milovat změnu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ředávejte odpovědnost a pravomo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dbouráním byrokracie usilujte o horizontální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ždého hodnoťte podle jeho lásky ke změn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ěstujte pocit naléhav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OUHR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ypracujte vizi, která vám dá sílu a možnos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ďte především svým osobním příkladem – zejména pomocí množství čas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aktikujte viditelné řízení a snažte se o snížené zkreslování informac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vinně se staňte posluchač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legujte a každé předání pravomoci zkoumejte, aby jste se opravdu pravomoci vzdali a znovu ji neodejmuli a pečlivě stanovili podmínky jejího předá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ganizaci řiďte horizontálně, trvejte na tom aby vertikální řízení bylo nahrazeno horizontální spoluprác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ři hodnocení vedoucích se zaměřit na otázky okolo počtu změn o které se vedoucí zaslouž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5. Budování systémů ve světě vzhůru nohama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ěřte to co je důležit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řepracujte hlavní řídící nástro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entralizace informací, pravomocí a strategického plánov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ovte splnitelné cí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žadujte naprostou integri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OUHR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ypracujte jednoduché podpůrné systémy, které budou pobídkou k účasti, kterým budou všichni rozumět a proto budou podporovat iniciativní jedná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jednodušte všechny tři primární způsoby řízení – hodnocení výkonnosti, stanovení cílů a popis pracovní nápln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všemi se dělte o všechny inform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ovte konzervativní cíle růstu a zejména trvejte na tom, že vývoj infrastruktury předchází projektovanému růstu příjmů a nezaostává za ní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žadujte naprostou integritu ve všech jednáních s lidmi i systémy, uvnitř i mimo firm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BSAH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měny ve vývoji ekonomik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5 předpisů pro úspěšnou firm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říklad General Electr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říklad G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 roku 1981 - Jack Welch v General Electr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rcholový management utváří vizi a formuluje ji do podnikového poslání, které klade zvýšený důraz na podnikavost, invenci, inovaci a lidský kapitá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ři zásady strategie změn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 oborech kde GE podniká, bude první nebo druhá na světě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Do výzkumu investovat tolik, kolik je na prví nebo druhé místo třeb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yužít naplno tvořivých sil všech lid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říklad G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ostupný ústup od hierarchické pyramidy k ploché organizační struktuř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působ řízení založen na sdílení informac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ytvoření pocitu důvěry a sdílnos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 řízení musí vládnout rychlost a jednoduch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Školení lidského faktoru – školící středisko Crotonville – výzva: osvoboďte se a důvěřujte, místo plánuj, organizuj, integruj, změ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Nechat si poradit zvenku prostřednictvím nejlepších poradenských firem, ale využívat vlastní zkušenosti a prosazovat vlastní příst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OUŽITÁ LITERATUR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ETERS, T. </a:t>
            </a: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Prosperita se rodí z chaosu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 Praha: Pragma, 2001. ISBN 807205816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ISLINGEROVÁ, E. </a:t>
            </a: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Chování podniku v globalizujícím se prostředí.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Praha: C. H. Beck, 2005. ISBN 807179847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TRUNEČEK, J. </a:t>
            </a: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Znalostní podnik ve znalostní společnosti.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ofesional Publishing,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Děkujeme za pozornos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ZMĚNY VE VÝVOJI EKONOMIKY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Ústup od masové výroby pro neznámého zákazníka ve prospěch zakázkové produkce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Slučování a opětovné oddělování, rozdělování, joint ventur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Technická revoluce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Menší a pružnější továrn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Nová konkurence (zahraniční, domácí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Měnící se vkus a požadavky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PŘEDPISY PRO ÚSPĚŠNOU FIRMU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ypěstovat absolutní vstřícnost k zákazníků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ovace ve svižném temp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sažení pružnosti předáním pravomocí lid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učte se milovat změn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dování systémů ve světě vzhůru noha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762120" indent="-762120" algn="ctr"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VYPĚSTOVAT ABSOLUTNÍ VSTŘÍCNOST K ZÁKAZNÍKŮM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erenciace. Specializace. Tvorba tématických sektor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ajistěte nejvyšší jakost, ale tak, jak ji vnímá zákazní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ajistěte vynikající služby. Zdůrazněte nehmotné služ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KONCEPCE ABSOLUTNÍHO VÝROBKU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784836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KONCEPCE ABSOLUTNÍHO VÝROBKU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8713800" cy="40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1. VYPĚSTOVAT ABSOLUTNÍ VSTŘÍCNOST K ZÁKAZNÍKŮM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ďte mimořádně vstříc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ďte světovým podnik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vořte jedinečn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ědomě podlehněte posedlosti naslouchání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 výroby udělejte tržní zbra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dělejte hrdiny z pracovníků prodeje a služe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zpoutejte zákaznickou revolu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2. INOVACE VE SVIŽNÉM TEMPU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stujte do aplikac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sazujte týmovou prá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dporujte pilotní projekt každého nápad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dna paní povídala“ jako marketingový systé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4T12:14:45Z</dcterms:created>
  <dc:creator>Tereza Kalandrová</dc:creator>
  <dc:description/>
  <dc:language>en-US</dc:language>
  <cp:lastModifiedBy>Ondřej Částek</cp:lastModifiedBy>
  <dcterms:modified xsi:type="dcterms:W3CDTF">2008-11-03T13:26:53Z</dcterms:modified>
  <cp:revision>15</cp:revision>
  <dc:subject/>
  <dc:title>OD MASOVÉ VELKOVÝROBY K INOVATIVNOSTI A HODNOTĚ PRO ZÁKAZNÍKA</dc:title>
</cp:coreProperties>
</file>