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6F8-E83C-468D-BB6B-C1B231CA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9E7-55F7-489B-932A-0098FC3D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E26-498B-4025-B060-CD03F618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962-8F7A-41FC-B221-811E5C9B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E7AE-EE5F-40E8-B83B-E10282B0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652A-9A0A-46DD-8E5C-F54CCAEC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C5D3-7FFB-478D-A670-C9189622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FEEE-7183-4CD6-B890-E74799F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DEF9-6811-4F32-8E81-1E70E75A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0115-128D-4374-9282-899BC65B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56E6-B841-4442-B88B-F0190C01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0E9-9658-413A-8B6E-62D2BC4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F08C-77C8-47AD-B41D-28D25B5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878-A37E-41ED-A1B7-7EB8EC8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36A-DE46-4252-9660-1F097822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F256-D22B-4C91-9DC8-91767EFA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7F9-581F-44FC-A779-44240565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BE0-CA15-4FBF-A3D4-0330AE5F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A4A-F96B-4BB1-9B63-9F3B0BC8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662-8E0A-4239-9A9B-2ACE91CF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789-6B1D-4BAC-82B9-A1E90050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790-A7F0-4E1E-944F-3861D0A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E7B-DEC3-4E92-9002-256A6FC6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FD2-2363-4636-9225-D84150E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2948-FA29-4234-8BC2-B161A9667F00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ovací čára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CCE7-9C12-473C-B3D6-6B87D7B81BF5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800" y="3928680"/>
            <a:ext cx="7286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Bookman Old Style"/>
              </a:rPr>
              <a:t>Přirozená a kulturní evolu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Bookman Old Style"/>
              </a:rPr>
              <a:t>Marek Beleš, Martin Beleš, Pavel Kinc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jdříve domněnka,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že kultura pozemskou přírodu zlepšuje ( dotváří její síly, je koevolucí, přímým pokračováním života na Zemi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zději: kultura navazuje na evoluční proces,  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má schopnost je zneužívat pro růst moci kulturního spo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činou je konstitutivní činitel kultu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Je jím, dle Šmajse: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onstitutivním činitelem kultury je sílící proces cílevědomé i spontánní informační aktivity lid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onstitutivní informací kulturních struktur nemůže být informace přirozená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Duchovní kultura - vlastní vnitřní inform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dokáže obrátit dílčí přírodní síly včetně přirozených potencí člověka proti ostatní přírodě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lověk – nový biologický druh, byl přirozenou evolucí vybaven tak, že dokázal zažehnout kulturní evoluc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o kulturu platí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Co připomíná F.  A. Hayek: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pontánní řád se formuje sám ze sebe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 a také ve smyslu Caprova výroku,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troje se stavějí,  ale organismy rostou.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společenství, produkované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Ne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 vs.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konflikt – přirozená poprvé v historii ohrožuje</a:t>
            </a:r>
            <a:br>
              <a:rPr sz="2400"/>
            </a:b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  evoluci kulturní</a:t>
            </a:r>
            <a:br>
              <a:rPr sz="2400"/>
            </a:br>
            <a:br>
              <a:rPr sz="24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škození živého i neživého prostředí planety, tedy systému,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terý kdysi vznik přirozené evoluce umožni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Zdro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Drama evolu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Ohrožená kultur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Základy filosofie (přednášky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ighfield, R. : Šíp času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ttp://cs.wikipedia.org/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Děkujeme za pozorno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Přirozená a kulturní evoluce - Úv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– Obecný pojem používaný pro časový vývoj chování systému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 biologii se tento pojem používá pro Darwinovu vývojovou teorii,  podle které vyšší formy života povstaly postupným vývojem z forem nižších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je antientropický děj =&gt; směřuje proti narůstání entropie, tedy proti degeneraci a rozpad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eznáváme ji na základě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lediska výběru přiměřené časové šká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Určení nositele evolučních změ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Times New Roman"/>
              </a:rPr>
              <a:t>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5760" y="1339920"/>
            <a:ext cx="75016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ozvolný, průběžný vývoj  X  Revol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cesualita, aktivita, nevrat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Lamarck, Darwin + Wallace – evoluční bi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6b5680"/>
                </a:solidFill>
                <a:latin typeface="Gill Sans MT"/>
              </a:rPr>
              <a:t>evoluční te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znik a vývoj života probíhal postupně hromadě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nahodilých změn a jejich sele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- kontroverzní téma – spory napříč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blém evoluce – časové peri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ádáme, že evoluce přirozená vzniká se vznikem vesmír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Zářivé období vesmír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Hvězdné (látkové) období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vesmíru vedla ke vzniku biosféry včetně biologického předka dnešního člověk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postupuje „proti proudu“, proti rozpadu =&gt; potřebuje „výživu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Jak uvádí J. Šmajs: „</a:t>
            </a:r>
            <a:r>
              <a:rPr b="0" i="1" lang="cs-CZ" sz="2600" spc="-1" strike="noStrike">
                <a:solidFill>
                  <a:srgbClr val="000000"/>
                </a:solidFill>
                <a:latin typeface="Gill Sans MT"/>
              </a:rPr>
              <a:t>Evoluce tedy generuje, ruší a modifikuje prvky, komplexy, subsystémy a systémy tak, že diverzifikovaný celek svou narůstající uspořádaností stále úsporněji využívá svého omezeného evolučního zdroje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př.: biosféra energii slunečního záření, kultura energii vynakládanou a uvolňovanou člověk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Celkový průběh evoluce biosféry neznáme =&gt; planeta Země tvoří jeden velký organism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e vývoji života zjišťujeme dva důležité filosofické moment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rovnoměrnost v biotickém evolučním proces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. J. Gould: "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 tři miliardy let byl nejvyšší formou života povlak prokaryont...pak, zhruba před 600 miliony let, se ve fosilních dokladech náhle objevují prakticky všechny stěžejní formy živočišného života, a to v průběhu několika málo milionů let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 mezi uspořádaností informačně předepsanou  a nepředepsano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jednotlivého organism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ekosystémová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Šmajs: „</a:t>
            </a:r>
            <a:r>
              <a:rPr b="0" i="1" lang="cs-CZ" sz="2300" spc="-1" strike="noStrike">
                <a:solidFill>
                  <a:srgbClr val="464653"/>
                </a:solidFill>
                <a:latin typeface="Gill Sans MT"/>
              </a:rPr>
              <a:t>I mnohobuněčný systém totiž nutně vyrůstá z jediné buňky (zygoty) a jeho víceúrovňová organizace včetně procesu ontogeneze musí být proto zapsána ve struktuře jeho dědičné paměti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né uspořádání = rozdílné implikátní a explikátní paměti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nám pomáhá porozumě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řírodní konstr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konst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cxnSp>
        <p:nvCxnSpPr>
          <p:cNvPr id="105" name="Přímá spojovací šipka 4"/>
          <p:cNvCxnSpPr/>
          <p:nvPr/>
        </p:nvCxnSpPr>
        <p:spPr>
          <a:xfrm flipH="1">
            <a:off x="2571480" y="3214440"/>
            <a:ext cx="2160" cy="500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Kultura x příro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Gill Sans MT"/>
              </a:rPr>
              <a:t>Kul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– její uspořádanost organizačně jednodušší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hodou vnitřní informace, uložená mimo geny – duchovní kultura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a, jako nebiotický systém, je možný díky vlastní vnitřní informaci – duchovní kultuř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9:20:08Z</dcterms:created>
  <dc:creator>Martin Beleš</dc:creator>
  <dc:description/>
  <dc:language>en-US</dc:language>
  <cp:lastModifiedBy>Marek</cp:lastModifiedBy>
  <dcterms:modified xsi:type="dcterms:W3CDTF">2008-10-01T18:03:44Z</dcterms:modified>
  <cp:revision>72</cp:revision>
  <dc:subject/>
  <dc:title>Přirozená a kulturní evoluce</dc:title>
</cp:coreProperties>
</file>