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F99-4AD9-41ED-BA9E-12CDC5FE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410-76BE-49B9-B50F-B39E442D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AA1-D801-4553-8F68-CC3206E7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7C9-1F78-49B8-89F3-74A36B49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1DA0A-2E55-4871-942F-75BBF499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1112D-D7A9-4A81-BD55-967FF36B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E990A-8106-4975-9141-933BD7A1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143DC-FD16-4BB7-AF4C-FABACA24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025C2-654F-44E9-B1CC-44BEBCAA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5FCB0-FEC8-4363-AA59-B7BD0BB5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36E47-79E4-4C14-A772-918EC185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459-31DE-4FFD-AAD5-F2A3D8CA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E8E5F-6BBE-41AA-A71C-9954518A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3CAF8-487B-4FF5-82B1-9FBA1253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26E7E-6E05-4B63-A160-F200BFD6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C783E-8596-40CA-B14F-5C2BF082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38442-2E46-4472-AD7F-9A1E7DD5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863-8BE3-4FC9-9610-872C9B01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7BC-C05F-47CA-8ED8-8C59F7C8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9CF-F3E2-45C7-8688-6ECAC858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914-16B5-494E-9F37-8B9D3C06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21C-4EEF-4E62-BFB3-1F3FBFF8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309-61F0-47CE-9216-86CE1AF7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735-DD1B-4CC4-B0E7-39C7E7DB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6361-EABD-4DF9-A55D-011E76237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CFE1-DDE7-4ED3-ABBB-C997010EB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kologické aspek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pracov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yněk R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a Kubi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na Košíčk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zorec poškození životního prostředí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tížení = Populace * Blahobyt * Techn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ždý člen rovnice má stejnou 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hobyt – základ v kapitálu na oso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– energie * zátěž živ. pr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tát ekonoma z M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uktura modelu World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kteristiky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y růstu (kapitál, popula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ožd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ozní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uhy mezí v modelu World3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dělávatelná pů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nos z jednotky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obnovitelné zd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pnost Země absorbova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chnologie, trhy a překročení mezí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ájemné působení trhu a technolog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h problém ohlás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problém ře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dalování mezí - scénář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ížení spotřeby neobnovitelných zdroj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ie snižující znečištění, zvyšující výnosy z půdy a technologie chránící pů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pad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výšení znečištění potlačí úrodnost pů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datečné vstupy do zemědělstv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esá průmyslový produ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upá úmrt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olečné znaky kolapsu ve scénáří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ost odkládá setkání s mezemi pomocí ekonomických a technických úpra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budoucnu tak narazí na několik z nich zároveň a dojde jí schopnost zvládat situ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á velikost průmyslového produ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é provádí kvantitativní změny, ale je třeba i strukturáln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énář 10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dina se dvěma dětmi, požadované spotřební zboží na osobu omezené, všechny technologie pro lepší využívání zdrojů a regulaci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p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ém  v rovnováze, trvale udržitelná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vale udržitelná společ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ce: společnost, která může přetrvat generace, je dostatečně předvídavá, pružná a moudrá na to, aby si nepodkopala jak fyzické, tak sociální systémy, které ji podporu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nak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jem na kvalitativním rozvoji, ne fyzické expan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rvání na současných nespravedlivých způsobech rozděl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ální zabezpečení a dostatek vš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edpokla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okonalení signálů – informace vlád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rychlení odezev – aktivně hledat signály, v předstihu rozhod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alizace používání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cházení erozi 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stavení exponenciálního růstu populace a fyzického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Úv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71 byly závěry, že dosažení fyzických mezí využívání energie a materiálů lidmi je několik desítek let před ná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91 nehledě na vylepšené technologie, důraznější politiku ochrany životního prostředí, mnohé toky materiálů a znečištění překročily své udržitelné 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lišný pohled na vě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vironmentální et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šíření etiky o vztah člověka k Zemi a rostlinám a živočichů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teratur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ADOWSOVÁ, Donella h, MEADOWS, Dennis l, RANDERS, Jorgen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řekročení mezí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: konfrontace globálního kolapsu s představou trvale udržitelné budoucnost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Pavla Polechová a Ladislav Zvolánek. 1. vyd. Praha : Argo, 1995. 319 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MAJS, Josef, et al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odnikatelská a environmentální eti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Brno : [s.n.], 2008. 184 s. ISBN 978-80-210-4564-4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kladní defin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kmit: jít za mez trvale udržitelné únosnosti životního prostře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ýpust: místo používané konečného určení pro toky energie a materiá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řídlo: Místo vzniku – počátku toků materiálů a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nenciální růst: růst, kdy rostoucí veličina přibývá za konstantní časový interval o konstantní zlomek své velik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ponenciální růst populac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binace porodnosti a úmrtnosti jsou různorod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mé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řed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soce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ůst světového průmysl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ůmyslový kapitál rostl a roste rychleji než popu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 roku 1970 do roku 1990 vzrostl průmyslový produkt skoro o 10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jednoho člověka pouze asi o 1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udob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ětná vazba dvou stra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uje chudoba růst populace neb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populace způsobuje chudob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ze: Zřídla a výpu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ůmyslový kapitál a populace jsou hnacími silami exponenciálního růstu díky své sebereproduk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yvatelstvo a kapitál berou materiály a energii ze Země, odpady a teplo do Země vrace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ují meze pro využití materiálů, energie i pro produkci odp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avidla pro meze průtoku podle Dalyho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novitelné zdroje – rychlost regene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obnovitelné zdroje – rychlost nahrazení obn. zdro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nečišťující látky – rychlost recyklace, absorbce nebo zneškodnění prostřed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věr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zita využívání přírodního bohatství a produkce odpadů není trvale udržitel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dměrné průtoky nejsou nezbyt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 Země jsou na dos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19:34Z</dcterms:created>
  <dc:creator>Drahoš</dc:creator>
  <dc:description/>
  <dc:language>en-US</dc:language>
  <cp:lastModifiedBy>Zbynek</cp:lastModifiedBy>
  <dcterms:modified xsi:type="dcterms:W3CDTF">2008-10-13T12:59:52Z</dcterms:modified>
  <cp:revision>16</cp:revision>
  <dc:subject/>
  <dc:title>Technologie, trhy a překročení mezí </dc:title>
</cp:coreProperties>
</file>