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5568-6763-488E-9BBC-11784EC8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41D-3847-48F3-A1E4-4A711920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E52-0E43-4658-8D25-3AE26465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62E7-4FA3-4648-9603-6A6F209C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A848-E3BB-45C8-876E-3F7ABD80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34CB-20FE-4915-8BD7-F032C6BE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33F6-F7EB-4541-BDE2-B6A4213E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1F1C-09FC-49C2-9DE7-89E89DDA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8E95-4F3F-4A4D-8A12-4A255464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8EE7-53A3-484D-93AF-C0C1E9C7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60C6-6C1D-472B-A72F-70DE77EA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A40-E5C9-4FA4-9285-E365BFBD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3807-C347-4836-BBBC-2F8FFD81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7346-C6EA-460E-8FB0-76787FD1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3171-307B-4853-81F9-3182AACE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4BF9-11BE-47A5-8E02-02D71299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501F-3801-4F89-9C12-D011FEA6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E11-D8FB-4BAC-BD66-FC80EA60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BFC-6662-40B4-BC37-81C8A4EF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1C7-5E7C-4918-96D2-18630D8D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9CF-6074-48D7-A758-1EF0CD14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FDB-56A3-4F95-8562-BB261F43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5D9-2F01-472B-A5EA-66800494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19F-486A-4854-B322-E63F5ECB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1A64-0333-42AB-88F5-99C04D3AC45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DC6D-03BE-4516-8E6D-5F7FFD7E496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stinkt, rozum a rozšířený řá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Michal Plače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Ondřej Roudnický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Juraj Podhradský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ijaté způsoby jednání po nás často vyžadují zanechat toho co po nás vyžadují naše instink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de 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éně střet citu a rozum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íce spor vrozených instinktů a naučených pravi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iznám se, že se musím usmívat vždy, když knihy o evoluci, dokonce i knihy napsané vědci, v nichž se uznává, že se vše až dosud vyvíjelo procesem spontánního řádu, končí apelem na lidský rozum, aby se teď, když věci začaly být tak složitými, chopil otěží a řídil budoucí vývoj.“ F.A.Hay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inkt starší než zvyk a trad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vyk a tradice jsou starší než rozu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usíme se mít na pozoru před domněnkou, že zvládnutí vědecké metody rozšiřuje způsobilost myšlení obecně. Zkušenosti ničemu tak jasně neodporuje jako přesvědčení, že člověk, který vyniká v jednom nebo více oborech, je v otázkách každodenních záležitostí moudřejší než kdokoli jiný.“ W. Tro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zum podle Lock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ENÍ schopnost pochop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LE principy činnosti, ze kterých vznikají ctnosti a vše nezbytné pro vznik morálních zás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álka není výtvorem lidského rozumu, ale produktem kulturní evolu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ecně platí, že čím inteligentnější a vzdělanější člověk je, s tím větší pravděpodobností bude nejen racionalistou, ale také zastáncem socialis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cionalisté mají sklon být inteligentní a intelektuálští a inteligentní intelektuálové tíhnou k socialism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ligentní lidé ale budou mít tendenci nadhodnocovat význam inteligence a předpokládat, že současné výhody a příležitosti jsou spíše produktem promyšleného plánu než dodržování tradičních pravide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n to co je racionálně zdůvodnitelné a lze to dokázat experimentem si zaslouží důvěr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n podle toho co působí potěšení, bychom měli jednat a ostatní odmíta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&gt; hlavní morální tradice si nezasluhují naši oddanost a naším úkolem je konstrukce nové morálky podmíněné vědeckým poznáním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edpoklad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ržet se toho co nelze vědecky zdůvodnit nebo dokázat pozorování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održovat to, co člověk necháp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ělat cokoli nejsou-li předem známy účinky a nejsou-li tyto ověřitelné a prospěšné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ysluplné a rozumné jen ty procesy, které jsou vědecky prokazatelné, pochopitelné a nepostrádají cí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ětšina principů, institucí a způsobů tradiční morálky nevyhovuje uvedeným požadavkům =&gt; jsou tedy nerozumnými a nevědecký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sa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Úvod do problematiky konfliktu instinktu a řá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um a morál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zyk, růst populace a náboženstv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tratí-li slovo svůj význam, ztratí lidé svou svobodu“ Konfuci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zyk nám umožňuje nejen označovat objekty dané našim smyslům jako jednotlivé entity, ale také klasifikovat nekonečnou rozmanitost kombinací charakteristických znak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imizmus x artificialism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VHODNÉ výraz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apitalismu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žní ekonomi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HODNÉ výraz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atalaxe = předmět ekonom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siččí slovo „sociální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 popisného významu se přechází k předpis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Účinky slova „sociální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vrácená představa, že to co vzniklo spontánně, je vlastně výsledkem cílevědomé lidské tvorb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eluje na lidi, aby znovu rozvrhli to co sami nemohli navrhnou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bavuje významu substantiva za ním =&gt; lasičč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žívání termínu „sociální“ je totéž jako volání po distributivní spravedlnosti. Ta je neslučitelná s tržním řádem založeným na konkurenci =&gt; sociální = protispolečensk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lthusiánské teorie nemají v dnešní době opodstatnění, protože vycházejí z dvoufaktorové ekonomiky a homogenního faktoru prác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dská populace je sebestimulující a není sebelimitující jako u zvíř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ůst populace neskončí dokud nebudou jednotlivé úrodné části země přibližně stejně hustě osídlené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ůst populace je esenciální pro růst blahobyt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Život nemá jiný účel než sebe sama (atomová katastrof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áboženství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cip tvorby a zachování morálních zásad, protože tyto nemohou být zachyceny během jednoho živo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achovala se jen náboženství podporující oddělené vlastnictví a rodin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ákony svědomí, o kterých říkáme, že se rodí z přírody, se rodí ze zvyku“ M.E. de Montaig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ayek, F.A., Osudná domýšlivost: omyly socialismu. 1. vyd. Praha : Sociologické nakladatelství, 1995. 200 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ayek, F.A., Kontrarevoluce vědy : studie o zneužívání rozumu. 1. vyd. Praha, Liberální institut. 1995. 212 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Šmajs, J., Filosofie psaná kurzívou. 1. vyd. Brno : Doplněk, 2003.113 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istoteles věřil, že počet lidí žijících v řádu nemůže o mnoho překročit množství, ke kterému by dolehla slova hlasatele, a proto je stát čítající 100 000 lidí neuskutečniteln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hodoval se na základě instinkt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lo by nám zatěžko uvěřit, že něco takového, jako je náš nynější řád, je vůbec možné, a vyprávění o něm bychom považovali, kdybychom v něm reálně nežili, za bájnou a zázračnou pověst o něčem, co nikdy nemůže nast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ynější dimenze existence lidstva a její struktura vznikla zejména díky pravidlům lidského chován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ířený řád se neobjevil najedno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žní řád je teprve nedávn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ktury a tradice tohoto řádu vznikali dlouh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 obratu od zvířete k člověku došlo díky kulturně determinovaným omezením vrozených reakc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učená pravidla, kterými se jedinec začal nevědomky řídit, nahrazovala instinktivní jednání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Genetický a kulturní vývoj se dostává do konfliktu (analogicky prof. Šmajs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ezi nejdůležitější z vrozených instinktů, které pomáhaly odstranit instinkty jiné, je schopnost učit s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esto zásadní konflikt mezi tím co mají lidé instinktivně rádi a naučenými pravidly chování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ířený řá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přirozený (nepřizpůsobuje se biologickému vybavení člověk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 přirozený – vzniknu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0:51:28Z</dcterms:created>
  <dc:creator>Ondra</dc:creator>
  <dc:description/>
  <dc:language>en-US</dc:language>
  <cp:lastModifiedBy>Ondřej Částek</cp:lastModifiedBy>
  <dcterms:modified xsi:type="dcterms:W3CDTF">2008-10-07T14:03:40Z</dcterms:modified>
  <cp:revision>8</cp:revision>
  <dc:subject/>
  <dc:title>Instinkt, rozum a rozšířený řád</dc:title>
</cp:coreProperties>
</file>