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457C-AA70-4930-80D2-23A85A8EE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4495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1120" y="5433840"/>
            <a:ext cx="4495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09D6-D5DF-407C-8598-29776B6C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1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95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65F9-8D23-4B95-BA8D-7E4A93D3F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11040" y="487656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30960" y="487656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1120" y="543384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11040" y="543384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30960" y="543384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5272-430A-4AB4-B138-C5BCBBC3C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A0E1-D979-4B80-9835-E6002BB20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191120" y="4876560"/>
            <a:ext cx="4495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D257-2D9C-47F2-8F9D-11A02AFD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44956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67A2-9A74-47D7-A0BD-F18F10E4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3443-DD8D-48DA-8058-0A05A447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B7BB-4C35-422D-B307-7D340AF8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33360" y="837720"/>
            <a:ext cx="6629400" cy="60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62CB-59E9-4814-A0D9-8F3DBCFC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91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29FB-20E4-4AE5-8C7A-121493DD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1120" y="4876560"/>
            <a:ext cx="4495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4E40-62CE-434F-994E-1A4CCE03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95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CB19-A521-4DCD-B7E5-AD803B49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91120" y="5433840"/>
            <a:ext cx="4495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DDA8-2383-4BFF-91CC-634B75FB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4495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91120" y="5433840"/>
            <a:ext cx="4495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E700-BB58-4EF3-A2EA-A84A167A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91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495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C106-D68E-48A7-873A-631173AD1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711040" y="487656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230960" y="487656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91120" y="543384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711040" y="543384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230960" y="543384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BD16-C859-42D0-BCBE-05238AC35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44956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16B1-DC2E-4059-B057-F824D789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9D98-A0D6-4B3A-A507-8BB908DE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0875-2F17-46C5-8E37-B6942086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33360" y="837720"/>
            <a:ext cx="6629400" cy="60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9A98-3B50-4B03-B3D5-CB71B53D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1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A9F3-86F5-4CA3-9D85-BF42569F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95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CD36-A9D5-44DA-85F7-5456BB61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1120" y="5433840"/>
            <a:ext cx="4495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1484-503B-4F28-98E9-2B01F45F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24AD-84FA-4C25-BA2F-1F829B2CF9A1}" type="slidenum"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0DEA-2619-49F5-BC09-3C85A60AE3E5}" type="slidenum"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ff66"/>
                </a:solidFill>
                <a:latin typeface="Arial Black"/>
              </a:rPr>
              <a:t>Zrod a vývoj kapitalismu jako fenoménu industriální společnosti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191120" y="4876920"/>
            <a:ext cx="4495680" cy="17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ecff"/>
                </a:solidFill>
                <a:latin typeface="Arial"/>
              </a:rPr>
              <a:t>Simona Doubková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ecff"/>
                </a:solidFill>
                <a:latin typeface="Arial"/>
              </a:rPr>
              <a:t>Petra Krupová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ecff"/>
                </a:solidFill>
                <a:latin typeface="Arial"/>
              </a:rPr>
              <a:t>Lenka Valentová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ecff"/>
                </a:solidFill>
                <a:latin typeface="Arial"/>
              </a:rPr>
              <a:t>16.10.2008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Protestantismus a kapitalismus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Kapitalisté a podnikatelé jsou většinou protestanti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roč? K získání hospodářských funkcí je třeba kapitál a nákladné vzdělání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Řada bohatých měst se v 16. století přiklonila k protestantství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rotestanti prokazují sklon k ekonomickému racionalismu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Katolicismus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Spása za pomocí církve a svátosti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Dobré skutky příležitostně – k odčinění hříchů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okání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Jednotlivé skutky (dobré a špatné) se člověku připočítávaly a pak ovlivňovaly jeho věčný osud (úhrnné saldo života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Askeze mnišská v klášterech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Kalvinismus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Učení o vyvolenosti (predestinaci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Žádný kazatel ani svátost nejsou prostředky k získání milosti boží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Nepomůže ani církev, ale naopak - kdo do církve nevstoupí, nemůže být vyvolený ke spás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Nelze poznat, kdo je vyvolený a kdo zavrže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Jako prostředek k dosažení žádoucího vědomí se doporučuje neúnavně pracovat v povolání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Pokus rozšířit askezi do všedního života (nejen v klášterech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Systematické chování (metodisté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Povolání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okud člověk nemá pevné povolání, těká v příležitostné práci, utrácí víc času v lenošení než v dílu.“ [R. Baxter: Christian Directory]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Životu bez povolání chybí systematičnost, metodičnost, což žádá světská askez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Užitečnost povolání se měří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99"/>
                </a:solidFill>
                <a:latin typeface="Arial"/>
              </a:rPr>
              <a:t>Měřítkem mravním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99"/>
                </a:solidFill>
                <a:latin typeface="Arial"/>
              </a:rPr>
              <a:t>Měřítkem důležitosti produkovaných statků pro „celek“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99"/>
                </a:solidFill>
                <a:latin typeface="Arial"/>
              </a:rPr>
              <a:t>Měřítkem soukromohospodářské výnosnosti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ovolání =&gt; Bohatství – pro Boha, nesmí svádět k hříšným požitkům a povalování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Vznik kapitalismu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412"/>
              </a:spcAft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odpora výdělečné činnosti a zisku, ale zároveň světská askeze, která bránila užívání majetku =&gt; to vedlo k akumulaci kapitálu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Protestantská etika a tržní hospodářství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4077000" cy="42674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838760" y="1752480"/>
            <a:ext cx="4076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6699"/>
                </a:solidFill>
                <a:latin typeface="Arial"/>
              </a:rPr>
              <a:t>Gerhard Wilhelm (William) Ditz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nar. 1917 v Praz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WW II – emigrace do   USA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americký sociolog a ekonom českorakouského původu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2 proměnné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nezávisle proměnná – etika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                                       </a:t>
            </a: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(dle Webera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závisle proměnná – ekonomické chování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Vznik kapitalismu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(moderní tržní hospodářství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spojen s přijetím kalvinismu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56000" y="404640"/>
            <a:ext cx="6480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ccff66"/>
                </a:solidFill>
                <a:latin typeface="Arial Black"/>
              </a:rPr>
              <a:t>Středověk vs. kalvinismus</a:t>
            </a:r>
            <a:endParaRPr b="0" lang="en-US" sz="3300" spc="-1" strike="noStrike">
              <a:solidFill>
                <a:srgbClr val="ccff66"/>
              </a:solidFill>
              <a:latin typeface="Arial Black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600200"/>
          <a:ext cx="8229600" cy="4997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ožská práva králů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 aristokraci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ožská práva vlastníků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 meritokraci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mezení spotřeb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sketismus a maximalizace výroby (zisku)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abuizace úroků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důraz na spoření a investování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ráce - trest boží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„</a:t>
                      </a: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ovolání“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111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uzavřená pyramidová struktur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tevřená pyramidová struktur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Kritika kapitalismu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marxisté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- žádná podpora pro dělnickou třídu (masy)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- dlouhodobá neudržitelnos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merkantilisté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- dohled krále a církve nad obchodníkem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Weber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- nestabilní a institucionálně zranitelný systém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Obsah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Úvo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336699"/>
                </a:solidFill>
                <a:latin typeface="Arial"/>
              </a:rPr>
              <a:t>Protestantská etika a duch kapitalismu</a:t>
            </a: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 (M.Weber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rotestantská etika a tržní hospodářství (W.G.Ditz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Úpadek kapitalismu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zadlužování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nezaměstnanos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státní zásah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důraz na lidská práva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Literatura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6699"/>
                </a:solidFill>
                <a:latin typeface="Arial"/>
              </a:rPr>
              <a:t>WEBER, M.  Protestantská etika a duch kapitalismu.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6699"/>
                </a:solidFill>
                <a:latin typeface="Arial"/>
              </a:rPr>
              <a:t>DITZ, W. G.  Protestantská etika a tržní hospodářství. 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6699"/>
                </a:solidFill>
                <a:latin typeface="Arial"/>
              </a:rPr>
              <a:t>HINDLS, R., HOLMAN, R., HRONOVÁ, S. a kol. Ekonomický slovník.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6699"/>
                </a:solidFill>
                <a:latin typeface="Arial"/>
              </a:rPr>
              <a:t>SIRŮČEK, P. a  kol. Hospodářské dějiny a  ekonomické teorie.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95280" y="836640"/>
            <a:ext cx="6629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Děkujeme za pozornost!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Pojem KAPITALISMUS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Společenský a ekonomický řád, charakterizovaný soukromým vlastnictvím, tržní koordinací ekonomických činností a námezdními vztahy mezi vlastníky kapitálu a pracovníky. </a:t>
            </a:r>
            <a:r>
              <a:rPr b="0" lang="cs-CZ" sz="2000" spc="-1" strike="noStrike">
                <a:solidFill>
                  <a:srgbClr val="336699"/>
                </a:solidFill>
                <a:latin typeface="Arial"/>
              </a:rPr>
              <a:t>(Ekonomický slovník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zrod v 16. stol. – raný kapitalismu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nahrazuje dosavadní feudální systém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Od feudalismu ke kapitalismu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Feudalismus: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99"/>
                </a:solidFill>
                <a:latin typeface="Arial"/>
              </a:rPr>
              <a:t>hlavní role: zemědělství – soběstačnost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99"/>
                </a:solidFill>
                <a:latin typeface="Arial"/>
              </a:rPr>
              <a:t>směna jen omezeného okruhu výrobků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vrcholný středověk: rozkvět měst – cechovní řemeslná výroba, trhy, městská práva a svobody a nové sociální vrstvy (řemeslníci a obchodníci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postupný nárůst populace, zvyšující se poptávka po zboží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rozšiřování dělby práce a směny – roste význam peněz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zámořské objevy – 15., 16. stol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nárůst vzdělanosti a náboženská reformac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Raný kapitalismus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sociální transformace – kapitalističtí podnikatelé (buržoazie) a námezdní dělnictvo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systém založený na kapitálu a námezdní práci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roces kolektivní akumulace – počáteční nahromadění kapitálu a odloučení výrobců od vlastnictví výrobních prostředků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Diferenciace hospodářského vývoje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nerovnoměrný vývoj v různých částech Evrop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západní Evr. rychlejší a přímočařejší vývoj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změny - buržoazní revoluc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střední Evr. v 16. a 17. sto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zastavení růstu měst a rozvoje prvků raného kapitalismu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dodavatel zemědělských, lesnických a zčásti báňských produktů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změny – reformy shora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76360" y="40464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Průmyslová revoluce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řechod od ruční výroby v manufakturách k tovární strojní velkovýrobě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Anglie v 2. pol. 18. stol. X méně vyvinuté časti Evr. v 2. pol. 19. stol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Kapitalismus volné konkurence (soutěže)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vrchol 60. a 70. léta 19. stol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prosazování principů liberalismu do hospodářské politik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rušení omezení zahraničního obchodu - volný pohyb zboží, lidí a kapitálu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každý občan mohl založit podnik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slabší podléhali silnějším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koncentrace výroby a kapitálu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vznik obchodních bank – roste objem úvěrů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kapitalistická společnost – 2 třídy: buržoazie (průmyslníci) a dělnictvo – sociální otázk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ccff66"/>
                </a:solidFill>
                <a:latin typeface="Arial Black"/>
              </a:rPr>
              <a:t>Protestantská etika a duch kapitalismu</a:t>
            </a:r>
            <a:endParaRPr b="0" lang="en-US" sz="3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838760" y="1752480"/>
            <a:ext cx="4076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6699"/>
                </a:solidFill>
                <a:latin typeface="Arial"/>
              </a:rPr>
              <a:t>Max Weber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1864 - 1920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německý sociolog a ekonom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řazen mezi tzv. otce zakladatele sociologie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049400" y="1752480"/>
            <a:ext cx="31971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09:31:11Z</dcterms:created>
  <dc:creator>čtenář</dc:creator>
  <dc:description/>
  <cp:keywords/>
  <dc:language>en-US</dc:language>
  <cp:lastModifiedBy>172114</cp:lastModifiedBy>
  <dcterms:modified xsi:type="dcterms:W3CDTF">2008-10-15T15:07:35Z</dcterms:modified>
  <cp:revision>38</cp:revision>
  <dc:subject/>
  <dc:title>Zrod a vývoj kapitalismu jako fenoménu industriální společnost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81029</vt:lpwstr>
  </property>
</Properties>
</file>