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1A8B-C8D6-482E-B404-DFB9243D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8125-C3D6-4EBC-8BF4-ACCEE20F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9F63-4471-4C7F-8EBE-C06091D4F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777D-E048-4E6B-9D2D-29F1399F8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72A7-BF19-448E-895D-94C2122E1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1753-BE70-446A-8844-3C21B7EA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5BC0-C7CE-47E5-84F0-048750B7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578A-C639-4176-8C96-F3814A2D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D46F-6CB1-4BAC-9D99-5D932134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7003-7DAD-47DD-B97D-19726F67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C61B-E595-4437-AB0B-84D5C6F3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F3CB-7D70-42B4-B15E-244981F9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55CE-6977-45E3-83D0-B4FB71CA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1A91-7B3B-4DE8-9F28-4C82BCB2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26F8-BED6-4496-8D8B-E5616EB8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E596-1BB4-4145-94CC-83B8E552D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EB26-FF8F-4187-9C0E-545F5FEA0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079F-A9CD-4B70-B209-931F4366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6EC7-BF9A-4DB4-AC91-FEE34A12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6AFA-EB45-4395-A532-B0185EE8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037A-7BD0-4E47-B44B-D544311E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5D84-3356-4DE9-AE78-66CB6C19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ADC2-C397-473C-93DE-D2414097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613B-F842-4BFF-8F2C-910D9202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45B4-3A9C-4CD7-ACCA-77E9884E31F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5F13-503A-4F8F-98B2-B2EB2EB9337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Třetí vlna a její důsledky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84240" y="4578480"/>
            <a:ext cx="598176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66"/>
                </a:solidFill>
                <a:latin typeface="Arial"/>
              </a:rPr>
              <a:t>Linda Khall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66"/>
                </a:solidFill>
                <a:latin typeface="Arial"/>
              </a:rPr>
              <a:t>Zuzana Soóki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Tretia vlna a politika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38080" y="2361960"/>
            <a:ext cx="7693200" cy="34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Druhá vlna: centralizovaná byrokracia, nukleárna rodina, masový vzdelávací systém, veľké korporác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Tretia vlna: pozeranie sa do budúcnosti, väčší podiel duševnej práce, heterogenita, malé a mladé podniky, </a:t>
            </a:r>
            <a:r>
              <a:rPr b="0" lang="sk-SK" sz="2800" spc="-1" strike="noStrike">
                <a:solidFill>
                  <a:srgbClr val="003366"/>
                </a:solidFill>
                <a:latin typeface="Arial"/>
                <a:ea typeface="Arial"/>
              </a:rPr>
              <a:t>↑investícií, podpora sektoru služie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Stavebné princípy vlád tretej vln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55640" y="2349000"/>
            <a:ext cx="7848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Moc menší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Polopriama demokra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Deľba deciz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Použitá literatú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TOFFLER, A. – TOFFLEROVÁ, H. </a:t>
            </a:r>
            <a:r>
              <a:rPr b="0" i="1" lang="sk-SK" sz="2000" spc="-1" strike="noStrike">
                <a:solidFill>
                  <a:srgbClr val="003366"/>
                </a:solidFill>
                <a:latin typeface="Arial"/>
              </a:rPr>
              <a:t>Nová civilizace - Třetí vlna a její důsledky. </a:t>
            </a: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1. vyd. Praha: Nakladatelství Dokorán, 2001. 125 s. ISBN 80-86569-00-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POE, R. </a:t>
            </a:r>
            <a:r>
              <a:rPr b="0" i="1" lang="sk-SK" sz="2000" spc="-1" strike="noStrike">
                <a:solidFill>
                  <a:srgbClr val="003366"/>
                </a:solidFill>
                <a:latin typeface="Arial"/>
              </a:rPr>
              <a:t>Třetí vlna – Nová epocha network marketingu. </a:t>
            </a: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1. vyd. Brno: Nakladatelství Jiří Alman, 1998. 255 s. ISBN 80-86135-03-9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BLAŽEK, L. </a:t>
            </a:r>
            <a:r>
              <a:rPr b="0" i="1" lang="sk-SK" sz="2000" spc="-1" strike="noStrike">
                <a:solidFill>
                  <a:srgbClr val="003366"/>
                </a:solidFill>
                <a:latin typeface="Arial"/>
              </a:rPr>
              <a:t>Sylaby k jednotlivým tématům zveřejněné na www stránkách Ekonomicko-správní fakulty M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3366"/>
                </a:solidFill>
                <a:latin typeface="Arial"/>
              </a:rPr>
              <a:t>www stránky: http://www.park.cz/ke_treti_vlne_alvina_tofflera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366"/>
                </a:solidFill>
                <a:latin typeface="Arial"/>
              </a:rPr>
              <a:t>Ďakujeme za pozornosť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677000" y="20934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Vývoj spoločnosti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2491920"/>
            <a:ext cx="79200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vá vlna – vznik pred cca 10 000 rokmi, zemědelská revolú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ruhá vlna – vzn. pred 300 rokmi, priemyslová revolúcia 18.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retia vlna – vznik v USA v 60. rokoch 20.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retia vln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ívlastky: informačná, znalostná, digitál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ociálne, kultúrne, politické a morálne zme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Havný konflikt súčasnos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29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Stret civilizáci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Válka medzi záujmami 1. a 2. vln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V súčasnosti 3 súperiace civilizác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Demasifikácia spoločnos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220500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Upustenie od masovosti 2. vlny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Výroba, marketing, médiá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Heterogenita spoločnosti 3. vl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Informatizác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Informačná spoločnosť, komputerizá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Zdroj bohatstva: poznan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6666"/>
                </a:solidFill>
                <a:latin typeface="Arial"/>
              </a:rPr>
              <a:t>Hlavné princípy ekonomiky 3. vln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640" y="2421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Poznan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Demasifiká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Narastajúca nezameniteľnosť profesií, požiadavky na špecializované dovednos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Inovácie, reeingenee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Infraštruktúra: elektronické komunikác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Tretia vln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55280" y="2276280"/>
            <a:ext cx="7993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Nezamestnanosť sa presunula od kvantitatívnej ku kvalitatívnej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Zaraďovanie pracovníkov do kategórií podľa miery spracovania symbolov a duševnej prá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Intelektuálne“ versus „neintelektuálne“ podnik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Kritériá tretej vln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55640" y="256500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Pripomína to továreň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Demasifikuje to spoločnosť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Koľko vajec je v košíku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Je to vertikálne, alebo horizontáln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Vracia to domovu silu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10:29:21Z</dcterms:created>
  <dc:creator>snoopy</dc:creator>
  <dc:description/>
  <dc:language>en-US</dc:language>
  <cp:lastModifiedBy>snoopy</cp:lastModifiedBy>
  <dcterms:modified xsi:type="dcterms:W3CDTF">2008-10-13T11:25:02Z</dcterms:modified>
  <cp:revision>45</cp:revision>
  <dc:subject/>
  <dc:title>Třetí vlna a její důsledky</dc:title>
</cp:coreProperties>
</file>