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1339-F6C2-40A8-B0D8-9FB3CBEA4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80E4-1D28-4058-9762-C6A4D67AF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B0D6-930F-4578-ABF4-E594B5BF8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F2CD-41C6-4B93-8E19-418559D17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3D6B2-2042-45A4-A2D6-E1C417C2F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6EDC5-9C57-4C85-9F29-711F30CDD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7CE7B-1A37-4109-84A6-2D9FC6D0A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4ED8F-22B3-4DF2-80C7-91C5D115E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9CA69-A7A0-4980-B17C-F162D55AD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326F9-063D-44D8-A25C-A74424A71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A49B8-BA98-4246-B033-DD44C10F5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3BE9-8FDC-4EF3-B091-8A2A33A05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FDBEE-853C-4B2F-A140-43969CA34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4AA7F-6C3C-4BF4-8F36-5A6BBAF4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49B04-7491-47CE-B597-B4F2F1748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37A5C-80DA-42BE-985C-682A1AA6C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D24A5-2441-4FBE-A366-F5CDD9401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5739-E1C4-4EFA-B4FA-ACF69FC6E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162A-FD38-4C88-9799-D5BFE1AB2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191C-B051-40A5-A364-76D39D0C8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EFD8-FBBF-476F-8027-EE940C45E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0BAE-4287-4CF0-884E-26299CA0B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656A-3354-41BF-BA86-BC67E519A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784E-1ED2-4F9C-90FB-1075C424C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D087A-5175-416C-BD1F-C0DBD4F38D4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4805A-905A-4BE5-9CFE-07F54F8C832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Přirozená a kulturní evoluce a konflikt mezi nimi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Bc. Zbyněk Jančú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Michal Krejč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Michal Pavlí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řirozená evolu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va filozoficky důležité moment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platňuje se nerovnoměrnost ve vývoji: pomalé fáze jsou střídány rychlými evolučními skoky (prudké vzestupy po dosažení jisté prahové hodnoty vývoj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zdíl mezi informací předávanou mezi organismy a informací předávanou v rámci ekosystém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řirozená evolu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Díky pokroku ve fyzikálních a biologických vědách začínáme částečně chápat obecná pravidla přírodní konstruolog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a rozdíl od obecně rozšířené Newtonowské teorie je třeba přírodě přiznat spontánní evoluční tvořivost, posvátnost, schopnost reprodukovat biosféru včetně člově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řirozená evolu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Člověk ke svému životu a vývoji nutně potřebuje přírodu, avšak příroda se bez člověka snadno obejd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851280" y="3716280"/>
            <a:ext cx="1533600" cy="18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Kulturní evolu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ultura – organizační a funkční opozice vůči přírodě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 přírodě závislý systé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řád který vznikl z řádu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 dosaženou úroveň přirozené pozemské evoluce nenavazuje – není jejím pokračování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řirozená biotická evoluce nevrcholí jen v jedné linii, tj. člověk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d počátku nebiotickým systéme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uze člověkem generovaný pro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kračovatelem genetické evoluce, ale jiným prostředk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Kulturní evolu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ědomá aktivita strukturované pospolitosti lidí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nstitutivním činitelem kultury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nto systém se  samovolně reprodukuje a rozvíj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řevyšuje poznávací , regulační i produktivní schopnost jedinců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Kulturní evolu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chovní kultu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 konstitutivní informací kultur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gruje kulturní společenstv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káže obrátit dílčí přírodní síly proti přírodě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stémový charakter kultury duchovní složku kultury nejen podněcují a rozvíjejí, ale také omezují, transformují a ruší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Kulturní evoluce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Člověk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málním živočišným dru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ho biologická prosperita závisí na celkovém „zdravotním“ stavu celé biosfér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ologický předek člověka byl ale vybaven přirozenou evolucí k zažehnutí kulturní evolu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Kulturní evolu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dská činnost sice generuje všechny úrovně a linie kulturní evolu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člověk je ale jako bytost v individuálním projevu jejím podřízeným prvke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olečenské subsystémy se stávají přes svou existenční závislost na člověku značně autonomními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 výsledcích činnosti lidí se potom projevuje i to, o co lidé neusiluj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dská závislost na kultuře se zvyšuje. Systém vytváří své nové prvky, části a subsystémy (instituce, organizace,...)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Neolitická revolu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ytvořila téměř všechny druhy dnes domestikovaných zvířat a kulturních rostl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je důkazem předností i omezených možností  nepřímé ontické tvořivosti kulturní evolu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emohla být dílem samotného individu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člověka z přírodního řádu částečně vyřadil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růmyslová revoluce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rozmach přímé ontotvorné síly kulturní evolu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řechod od instrumentální práce k práci strojové - prudký spontánní vývoj abiotické technik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ačlenění  do produktivního procesu hlavně neživé přírodní struktury a sí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hromadné čerpání neobnovitelných přírodních zdrojů Zem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timulace produktivně zaměřenou přírodní vědou (sociální objednávka)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ítězí panský postoj člověka k přírodě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Obsah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řirozená evolu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orie vývoje druh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Člověk jako součást příro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ulturní evolu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ývoj člověka jako kulturní bytos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ulturní revolu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nflikt mezi kulturou a přírod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tavení člověka mezi nim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ostindustriální fáze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akotvena v racionalitě klasického období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aložena na lidském fylogeneticky omezeném a deformovaném poznání příro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znikají méně agresivní technologie vůči přírod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lkový charakter postoje k přírodě se příliš neměn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zšiřuje se nebezpečná spotřební orientace v životním způsobu lidí – vychází z tradičního liberálního práva člověka na vlastnictví a ničím neohraničenou spotřebu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dá se, že institut soukromého vlastnictví řešení ekologické krize znemožňuje (liberální právo člověka na půdu konstruováno antropocentricky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Konflik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lobální ekologická krize je konfliktem přirozeného a kulturního řádu, je dosud neznámým typem krize evolučního úspěchu kultu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Člověk totiž není pánem tvorstva, správcem či pastýřem bytí. Není dokonce ani partnerem Země. Je jejím prvk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Konflik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Člověk a jeho kultura nemůže ani vytvářet proměnlivost, ani jí zabrán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ůže jen zachovávat a hromadit odchylky, které mu poskytuje přírod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Konflikt – vlastní názor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říroda jako hlavní činitel evoluce a vývoje druhů přece jen na některé části nemůže pojmout. Při rozvoji kybernetiky a robotiky to v budoucnosti možná bude právě a jen člověk, který tuto novou kulturu bude vytvářet, formovat a určovat její odlišení a adaptovat ji na změny podmín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Možné je však i to, že příroda sama tuto vývojovou větev považuje za neperspektivní nebo i schopnou ohrozit ostatní druh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ŠMAJS, Josef. </a:t>
            </a: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Drama evoluce.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raha: Hynek, 2000. 188 s. ISBN 808620277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ŠMAJS, Josef. </a:t>
            </a: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Ohrožená kultura.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2. vyd.</a:t>
            </a: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raha: Hynek, 1997. 209 s. ISBN 808590653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ŠMAJS, Josef. </a:t>
            </a: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Potřebujeme filosofii přežití?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1. vyd.</a:t>
            </a:r>
            <a:r>
              <a:rPr b="1" i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Brno: Doplněk, 2008. 104 s. ISBN 97880723922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DARWIN, Charles. </a:t>
            </a: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O vzniku druhů přírodním výběrem.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3.vyd. Praha: Academia, 2007. 576 s. ISBN 978802001492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KANT, Imanuel. </a:t>
            </a: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Kritika čistého rozumu.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1. vyd. Praha: OIKOYMENH, 2001. 568 s. ISBN 807298035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J.Šmaj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rama evolu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hrožená kultu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otřebujeme filosofii přežití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I.K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ritika čistého rozum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Ch. Darw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 vzniku druhů přírodním výběr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řirozená evolu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říroda chápána jako přirozenost, tj. adjective (formaliter), znamená souvislost určení nějaké věci podle vnitřního principu kauzality. Naproti tomu substantive (materialiter) rozumíme přirodou úhrn jevů, souvisejících zcela podle vnitřních principů kauzality“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I.K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ritika čistého rozumu, s.27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300720" y="3789360"/>
            <a:ext cx="122076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řirozená evolu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rwin popisuje přirozenou evoluci druhů jako teorii přírodního výběru, čili přežití nejsilnějšíh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dmiňuje přirozený výběr schopností adaptovat se na změny životních podmínek (klimatické změny, zavlečení nového druhu atd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měna životních podmínek zvyšuje proměnliv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877080" y="4581360"/>
            <a:ext cx="1433520" cy="18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řirozená evolu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člověk může přispívat k přírodní evoluci (viz. Domestikovaná zvířata, šlechtění zemědělských rostl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šem příroda tak může činit mnohem snadněji, neboť má pro svou činnost neporovnatelně více čas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řirozená evolu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řirozená evoluce podle Darwina má autoregulační schopnosti: žádný druh nemůže dominantně převážit nad ostatním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říklad: Teorie upírů (kritika Brama Stokera – román Dracul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 rozšiřováním druhu roste i počet jeho přirozených nepřátel nebo přichází úbytek potrav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Přirozená evoluce – přírodní výběr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brazně lze říct, že přírodní výběr den co den a hodinu co hodinu zkoumá na celém světě každou, i tu nejmenší odchylku, zavrhuje špatné, zachovává a rozvíjí dobré, nehlučně a nepozorovaně pracuje „kdekoliv a kdykoliv se naskytne příležitost“ na vylepšení každého organizmu ve vztahu k organickým i neorganickým podmínkám života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Ch. Darw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O vzniku druhů přírodním výběrem, s.106-10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667640" y="3789360"/>
            <a:ext cx="9507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řirozená evolu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 filozofického pohledu je klíčovou otázkou rozvoje života funkční začlenění subsystému vnitřní informace do živého systém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íky tomuto se vytvořila hranice mezi živým a neživý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ložení vnitřní informace umožnilo živým systémům budoucí rozvoj oproti neživé kultuře a schopnost měnit své vlastnosti zároveň se změnami okol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9:01:49Z</dcterms:created>
  <dc:creator>Michal Pavlík</dc:creator>
  <dc:description/>
  <dc:language>en-US</dc:language>
  <cp:lastModifiedBy>Ondřej Částek</cp:lastModifiedBy>
  <dcterms:modified xsi:type="dcterms:W3CDTF">2008-09-29T10:16:59Z</dcterms:modified>
  <cp:revision>27</cp:revision>
  <dc:subject/>
  <dc:title>Přirozená a kulturní evoluce a konflikt mezi nimi</dc:title>
</cp:coreProperties>
</file>