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9B8-8E99-40DB-A5A6-0D1E1F2A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C6C-8A06-48DF-84ED-300ABBCC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AF5-F429-41AB-92BD-4F8C4408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167-D094-44B2-8425-236C157B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2797-5104-4C75-B068-08EAABB6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FC22-439C-4E74-AE22-FC8E4278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F53C-C490-4B3F-859C-803947E3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C2FE-5D1B-4028-95ED-48D4C43A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55A6-957C-4FE5-9471-49850B92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4AC8-5DF6-48E9-A9AE-D4F90DBB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0A50-19BA-486B-B2D5-B070FED2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D89-57EF-43E0-8CA7-6286D079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AA25-A8A0-4C9A-B857-0D2BB68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56EC-B55B-4D5E-B963-530C4569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5F28-EEA0-4ED5-A186-D2748A29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CB77-574A-40B5-B7AA-4713B3E0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7FA6-5DFF-4817-A725-74234DAC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BB0-6693-460A-9122-07C5F90D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9BF-444C-4E63-AA33-ED854E21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148-B30E-4C32-8A7F-8643FEE5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149-A0C7-41B2-886A-95099DCD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238-0BFD-468E-8959-F84A5AEA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15A-372C-46FD-BAEB-35BEE829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97A-91FC-4F56-A28D-006417F1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D344-B80B-4C73-88E5-37C46BA1B2D6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CAF8-3CF8-4D60-A1B9-F44FB7F5C778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kologické aspekty industriální        a postindustriální společ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ř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41641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6840" y="4797360"/>
            <a:ext cx="22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arie Adam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onika Kud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František Chur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Vliv lidské čin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692280"/>
            <a:ext cx="820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emise skleníkových plynů vznikající v důsledku lidské činnosti se od predindustriálního období zvýšily, s nárůstem o 70% mezi lety 1970 a 2004. Nejvýznamnější skleníkový plyn vznikající jako důsledek lidské činnosti j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CO2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. Roční emise tohoto plynu vzrostly 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mezi lety 1970 a 2004.“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300" spc="-1" strike="noStrike">
                <a:solidFill>
                  <a:srgbClr val="ffffff"/>
                </a:solidFill>
                <a:latin typeface="Tahoma"/>
              </a:rPr>
              <a:t>(Zdroj: Zpráva IPCC, 2007)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Globální roční emise antropogenních skleníkových plyn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50389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epříjemná pravda</a:t>
            </a:r>
            <a:br>
              <a:rPr sz="4400"/>
            </a:b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(Al Gor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 probíhá a je morální povinností člověka ji řeš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ezpečí          Příležit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76360" y="4724280"/>
            <a:ext cx="115236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4724280"/>
            <a:ext cx="100800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97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ak je možné ovlivnit atmosféru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Zdroj: &lt;http://apps1.eere.energy.gov/state_energy_program/update/images/06-07_greenhouse_effect.jpg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O2 vznikající z lidské činnosti: spalování ropy a uhlí, auta, elektrárny, at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é skleníkové plyny: např. fluorid sírový, fluorderiváty uhlovodíků a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473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eplota na severní polokoul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droj: An Inconvenient Truth, dostupné z: &lt;http://staffwww.fullcoll.edu/tmorris/an_inconvenient_truth/temps_north_til_2000.jpg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3454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lobální oteplování jako důsledek lidské činnost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ání sněhu a 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dostatek pitné v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uriká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zertifik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sychání zemědělské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habita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mírání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růst invazivních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v ročních obdob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aktory, které změnily vztah člověka k Ze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ční explo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ecko-technická r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Lidé jsou stále mocnější ve vztahu k přír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dě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zónová dí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y jsou odpověd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72 – Medze rastu (Limits to growth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žiadnom systéme s obmedzenými zdrojmi nemôže pokračovať rast po ľubovoľne dlhú do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čítačový model World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92 – Prekročenie medzí (Beyond the limi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 modelu dosadené aktuálne informá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nohé toky materiálov a znečistenia prekročili svoje udržateľné medze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Hnacou silou, ktorá spôsobuje, že ekonom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ľudstva sa blíži fyzickým možnostiam Zeme, 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exponenciálny ra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vetového priemysl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edze, na ktoré rast naráž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Žriedla (potraviny, voda, lesy, fosílne palivá, materiály, 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puste (odpady, znečisten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Zaťaženie = Populácia x Blahobyt x Technológi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Každá spoločnosť by mala previesť zlepšenia 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oblasti, kde má najväčšiu možnosť ich previesť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em Ekolog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vodně biologická vě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irší smysl slova – ochrana přír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logie – ideologie - ekolog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Komplexný model – počítačová simulácia sv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leduje stavy veličín: populácia, priemyselný kapitál, znečistenie, úrodná pôda,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erie v úvahu časové horizonty zmien jednotlivých veličí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berie v úvahu: nerovnomerné rozdelenie bohatstva, prírodné a technické katastrofy, vojny, korupciu, bariéry trhu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4 druhy medzí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hospodarovaná pô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nos z jednotky pô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chopnosť Zeme absorbovať znečisten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úvislosti: výživa a očakávaná dľžka živo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apitál, technológie a trh, priemysel a znečisteni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ôda a znečistenie, 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4 typy chovania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retržit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Logistick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oscilá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kola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3 spôsoby reakcie spoločnosti na signály o prekračovaní medz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ignály utajovať, zamlžova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ierniť tlaky technickými alebo ekonomickými opatreniami bez zmeny príčin krí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eniť štruktúru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dmienk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tabilizácia veľkosti 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medzenie hospodárskeho rastu – orientácia na kvalitativný 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Zlepšené technológie znižujúce emisie a zvyšujúce efektívnosť využívania prírodných zdroj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Čím dlhšie bude trvať pretvorenie spoločnosti sme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 trvalej udržateľnosti, tým nižšia veľkosť populácie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ateriálna životná úroveň bude udržateľ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tváranie víz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ájomné prepoj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Hovorenie prav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Uč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l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3 od počátku cílen jako destruktivní, aby se stal zajímav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ktní limity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předpokládá, že ekonomický růst nutně způsobuje nárůs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tah: množství jídla na osobu – střední délka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konstantního výnosu z každé další jednotky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malé efektivity lidské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ybějící prostor pro lidskou fantazii a operativní řešení probl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nedělá přesné předpovědi – nedá se ověř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EADOWS, Jorden. Překročení mezí. Argo 1995. 319s. ISBN 80-85794-83-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REEMAN, Christopher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ls of Doom: A Critique of the Limits to Growth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volution [online]. Wikipedia.org 2008. Převzato 2008-10-13. Dostupné z www: http://en.wikipedia.org/wiki/Ev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cology [online]. Wikipedia.org 2008. Převzato 2008-10-13. Dostupné z www: http://en.wikipedia.org/wiki/Ec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práva Mezivládního panelu pro klimatické změny při OSN, 2007, Dostupné z www: http://www.ipcc.ch/pdf/assessment-report/ar4/syr/ar4_syr_spm.p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ORE, Al. Nepříjemná pravda. Argo 2007. 325s. ISBN 978-80-7203-868-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vody ochrany příro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etické (rekreač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ické (te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ické (ek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voj k současnost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a války svě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ulost – každá skupina mohla dělat cokoli chtěla a čas a válka ukázal, co je lepší (klima nebylo ovlivněn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časnost – globální společnost – nejrychlejší růst není nutný pro přežití, ovlivňuje ovšem globální k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nulost – neexistovaly negativní externality v globálním měřít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ost – znečištění životního prostředí je negativní external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ázory na ekologické dopady industriální a postindustriální společnost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26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ne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a je přiroze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u zapříčinil člově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sahovat               Zasah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00000" y="4437000"/>
            <a:ext cx="165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437000"/>
            <a:ext cx="172728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ata a východis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Oteplová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klimatického systému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j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nespor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jak prokazují výsledky pozorování zvyšující se globální průměrné teploty vzduchu a oceánu, rozsáhlé tání sněhu a ledu a zvyšující se průměrná hladina světových moří.“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(Zdroj: Zpráva Mezivládního panelu pro klimatické změny při OSN, 2007, dostupné z: &lt;http://www.ipcc.ch/pdf/assessment-report/ar4/syr/ar4_syr_spm.pdf&gt;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růměrná povrchová teplota a úroveň hladiny moř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droj: Zpráva Mezivládního panelu pro klimatické změny při OSN, 200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553440" cy="2859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58341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7:07:13Z</dcterms:created>
  <dc:creator>ucebna</dc:creator>
  <dc:description/>
  <dc:language>en-US</dc:language>
  <cp:lastModifiedBy>Kudlová</cp:lastModifiedBy>
  <dcterms:modified xsi:type="dcterms:W3CDTF">2008-10-15T23:56:07Z</dcterms:modified>
  <cp:revision>37</cp:revision>
  <dc:subject/>
  <dc:title>Snímek 1</dc:title>
</cp:coreProperties>
</file>