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365-A211-4C0D-985F-AE24C41C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7C1-AC5E-4BA1-8E12-2346A0A4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8B1-CF21-4903-BB9F-F07C62D2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3FB-0F79-44C0-BAF9-E4093737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B9B0-2A0A-4FCC-84A5-04E95880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B901-CEB0-42DD-8E91-2C67FF61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1D6D-D3A7-440E-ADBF-6546DF45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7C62-51D8-409F-9F37-FA8A569F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5CEE-60F6-46C7-BD8B-6DAD8C41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FF0C-30D9-40EB-B834-37D1C080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A731-C7F8-4EA1-891E-3E0D361F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C9B-D1B1-4F2C-9664-7E6618D4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8AEA-025D-4E3F-99EF-0A44D1E7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F011-9871-49C4-9D4F-25B58D0A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E6E2-C91F-4A8D-BADE-51DC7E0A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C6A7-EA0B-42CB-8C80-96E2DA96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134B-C60D-4F5B-9DFE-6EEFE8E9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C57-7970-41FB-B5A0-9D76C687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8D5-9D0F-4B90-8AEF-A2F4A8E7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234-1FAC-446C-9CD3-5EE8D818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BEF-BE91-4209-AEFC-C0435B35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040-13D6-453A-8D4D-08AE9A4E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C22-3C69-4D5D-A040-46A7B09D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F37-21AD-4A2D-9633-0D2EE3E6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B0C1-4332-47AB-AA6B-58C59C7C62A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134A-FD5B-4359-BEA8-8FC75095878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stinkt, rozum a rozšířený řá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Michal Plače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Ondřej Roudnick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Juraj Podhradsk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ijaté způsoby jednání po nás často vyžadují zanechat toho co po nás vyžadují naše instink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de 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éně střet citu a rozum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íce spor vrozených instinktů a naučených pravi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znám se, že se musím usmívat vždy, když knihy o evoluci, dokonce i knihy napsané vědci, v nichž se uznává, že se vše až dosud vyvíjelo procesem spontánního řádu, končí apelem na lidský rozum, aby se teď, když věci začaly být tak složitými, chopil otěží a řídil budoucí vývoj.“ F.A.Hay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inkt starší než zvyk a trad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vyk a tradice jsou starší než rozu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síme se mít na pozoru před domněnkou, že zvládnutí vědecké metody rozšiřuje způsobilost myšlení obecně. Zkušenosti ničemu tak jasně neodporuje jako přesvědčení, že člověk, který vyniká v jednom nebo více oborech, je v otázkách každodenních záležitostí moudřejší než kdokoli jiný.“ W. Tro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zum podle Lock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ENÍ schopnost pochop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LE principy činnosti, ze kterých vznikají ctnosti a vše nezbytné pro vznik morálních zás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álka není výtvorem lidského rozumu, ale produktem kulturní evolu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ecně platí, že čím inteligentnější a vzdělanější člověk je, s tím větší pravděpodobností bude nejen racionalistou, ale také zastáncem socialis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cionalisté mají sklon být inteligentní a intelektuálští a inteligentní intelektuálové tíhnou k socialism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ligentní lidé ale budou mít tendenci nadhodnocovat význam inteligence a předpokládat, že současné výhody a příležitosti jsou spíše produktem promyšleného plánu než dodržování tradičních pravide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n to co je racionálně zdůvodnitelné a lze to dokázat experimentem si zaslouží důvěr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n podle toho co působí potěšení, bychom měli jednat a ostatní odmíta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&gt; hlavní morální tradice si nezasluhují naši oddanost a naším úkolem je konstrukce nové morálky podmíněné vědeckým poznáním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dpoklad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ržet se toho co nelze vědecky zdůvodnit nebo dokázat pozorování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održovat to, co člověk necháp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ělat cokoli nejsou-li předem známy účinky a nejsou-li tyto ověřitelné a prospěšn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ysluplné a rozumné jen ty procesy, které jsou vědecky prokazatelné, pochopitelné a nepostrádají cí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ětšina principů, institucí a způsobů tradiční morálky nevyhovuje uvedeným požadavkům =&gt; jsou tedy nerozumnými a nevědecký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sa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Úvod do problematiky konfliktu instinktu a řá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um a morál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zyk, růst populace a náboženstv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tratí-li slovo svůj význam, ztratí lidé svou svobodu“ Konfuci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zyk nám umožňuje nejen označovat objekty dané našim smyslům jako jednotlivé entity, ale také klasifikovat nekonečnou rozmanitost kombinací charakteristických znak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imizmus x artificialism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VHODNÉ výraz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apitalismu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žní ekonom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HODNÉ výraz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atalaxe = předmět ekonom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siččí slovo „sociální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 popisného významu se přechází k předpis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Účinky slova „sociální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vrácená představa, že to co vzniklo spontánně, je vlastně výsledkem cílevědomé lidské tvorb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eluje na lidi, aby znovu rozvrhli to co sami nemohli navrhno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bavuje významu substantiva za ním =&gt; lasičč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žívání termínu „sociální“ je totéž jako volání po distributivní spravedlnosti. Ta je neslučitelná s tržním řádem založeným na konkurenci =&gt; sociální = protispolečensk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lthusiánské teorie nemají v dnešní době opodstatnění, protože vycházejí z dvoufaktorové ekonomiky a homogenního faktoru prác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dská populace je sebestimulující a není sebelimitující jako u zvíř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populace neskončí dokud nebudou jednotlivé úrodné části země přibližně stejně hustě osídlené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populace je esenciální pro růst blahobyt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Život nemá jiný účel než sebe sama (atomová katastrof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áboženství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cip tvorby a zachování morálních zásad, protože tyto nemohou být zachyceny během jednoho živo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achovala se jen náboženství podporující oddělené vlastnictví a rodin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ákony svědomí, o kterých říkáme, že se rodí z přírody, se rodí ze zvyku“ M.E. de Montaig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ayek, F.A., Osudná domýšlivost: omyly socialismu. 1. vyd. Praha : Sociologické nakladatelství, 1995. 200 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ayek, F.A., Kontrarevoluce vědy : studie o zneužívání rozumu. 1. vyd. Praha, Liberální institut. 1995. 212 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Šmajs, J., Filosofie psaná kurzívou. 1. vyd. Brno : Doplněk, 2003.113 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istoteles věřil, že počet lidí žijících v řádu nemůže o mnoho překročit množství, ke kterému by dolehla slova hlasatele, a proto je stát čítající 100 000 lidí neuskutečniteln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hodoval se na základě instinkt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lo by nám zatěžko uvěřit, že něco takového, jako je náš nynější řád, je vůbec možné, a vyprávění o něm bychom považovali, kdybychom v něm reálně nežili, za bájnou a zázračnou pověst o něčem, co nikdy nemůže nast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ynější dimenze existence lidstva a její struktura vznikla zejména díky pravidlům lidského chován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ířený řád se neobjevil najedno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žní řád je teprve nedávn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ktury a tradice tohoto řádu vznikali dlouh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 obratu od zvířete k člověku došlo díky kulturně determinovaným omezením vrozených reakc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učená pravidla, kterými se jedinec začal nevědomky řídit, nahrazovala instinktivní jednání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Genetický a kulturní vývoj se dostává do konfliktu (analogicky prof. Šmaj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ezi nejdůležitější z vrozených instinktů, které pomáhaly odstranit instinkty jiné, je schopnost učit s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esto zásadní konflikt mezi tím co mají lidé instinktivně rádi a naučenými pravidly chování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ířený řá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přirozený (nepřizpůsobuje se biologickému vybavení člověk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 přirozený – vzniknu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0:51:28Z</dcterms:created>
  <dc:creator>Ondra</dc:creator>
  <dc:description/>
  <dc:language>en-US</dc:language>
  <cp:lastModifiedBy>Ondřej Částek</cp:lastModifiedBy>
  <dcterms:modified xsi:type="dcterms:W3CDTF">2008-10-07T14:03:40Z</dcterms:modified>
  <cp:revision>8</cp:revision>
  <dc:subject/>
  <dc:title>Instinkt, rozum a rozšířený řád</dc:title>
</cp:coreProperties>
</file>