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2C9-6959-4CCB-8CDF-FDB302DA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B49-4247-4538-9AC8-AAFC40D6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610E-6A46-4B09-8B54-B7F6BDF0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F20-D60B-4D6C-BFDA-0D17FBBE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286B-3E81-4142-B8A7-58D590CE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8DFC-A53D-4F63-B7FB-EF1D0E1A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7750-44F5-4402-948C-914E23B8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9BD9-BD5A-41DE-9232-908B6CD4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C3D0-6D6F-4E40-9A97-C6DBB34D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9716-2F8E-416D-929B-10697C6A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5B6A-6479-4DA2-8B56-F74BD8EB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E97-A222-45DB-8B4B-910C4E5F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BEEA-81E6-4283-8EAD-12A95088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BC6E-B9E0-4BC3-85F3-1E03E0C7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0693-CF26-4A99-AC31-1C50A72D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75F4-49ED-48FC-A262-F77FA02A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0B90-AD86-42F2-8B5F-185643B5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3C6D7-3A7B-4ED0-8599-6D0B3BF8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485AD-5D39-4D79-BBA3-00D3EA19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381EA-0CD3-440D-A8FE-B2BF5FA5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F737E-83D7-4245-A316-3A6F6C6B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B6BF4-F0AE-4315-963D-A4861D09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439-D3EF-406A-B8A2-055187F2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A77A4-75EA-44EC-B7AB-CA1EADC1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A038B-ADB1-4F60-AE4F-A01F94D1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F622A-C4B9-4FA1-B76B-CF15CCA9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B2FC1-EA08-4D50-8F60-04A3B4D5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125DE-B760-4A12-A4C4-C5DBA5B4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61CE3-03BF-4A00-9894-51707198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502FA-829E-4FF3-9AD9-652ED056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F6256-76F6-4CB6-A303-479A580F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D3869-143C-4FE9-B4CA-64C3BB97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545C1-2E27-4966-897C-5CDBAC4C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B4C-5645-4554-AE34-E2E9EE9D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D04EF-B313-4C17-A109-C978FB72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11793-BBEB-4F0B-BCB0-059B0C41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0D1BB-AB93-4E07-ACE4-408459E1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D1732-820E-4FE6-9980-0486CEA7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FD9AA-6FCD-4E20-8C3B-522FEF72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2DE64-D930-40E7-B42C-65C24F93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EFC9D-58B6-4FAD-946C-65A091D4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8518C-3E4C-4915-A07C-D937FD68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D2290-8682-4AFF-9723-30C2F5AA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9C949-E744-47E9-B4C8-9C418C8A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3EE9-E26E-4708-B8D7-AC2CA190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8655C-235D-4A45-B7F0-D7726D35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935B0-C83C-4615-91D3-BC412807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B73FC-32A5-41EB-82A0-1CAEF7A8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3A5A9-AA43-418A-9A7F-96BB3A34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27C6A-6ECD-4331-8727-84E88367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A1ED1-E56E-4F8F-A56D-3FF585E5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8A1F23-6399-4DF7-BA34-878EA187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ADDF7-5D08-41D8-93F6-C7459935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1C21D-DDD4-4999-A102-EE27E0A2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B0537-A59E-4884-8EDE-FA3B44D6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ED9-13EC-4F7D-922F-CDD8AC57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5139E-F0DA-48C0-962C-ECFA2018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4C7D4E-009F-42F1-A481-A9E8319D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0E846B-DD76-43F6-9921-121AAC8D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F78878-63ED-4D8C-90C0-185A8298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809F05-83CD-482A-AA9A-5C37A824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A4C50-CE14-489E-BFF9-2F7F900D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C7DEBE-38D9-44D6-ABA7-DC7049AF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9CE59-81A5-4392-A90E-907B9580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002E0D-F986-4AFB-9FB3-6CB6C678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FDF7FD-3E39-46DD-872D-EA6FF9E1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1C25-A20C-4E1C-AE95-CB468A52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FB1D4-6F27-4371-B6A6-C390CBA9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67E0B-58C7-4049-9E6C-20566ABD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9250F7-E864-4876-9CFA-69CC1195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1C8AE4-CBD8-40EB-8BFD-1F85A8A9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954BE-5365-40A5-B173-05878D57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2F81E7-4881-439E-AD06-7C6DB234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AE2A0C-7801-4B16-B012-3B4F29D9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596ED0-45B9-48B9-B640-18907222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72AC96-B187-471B-8C3F-9DA21371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8116D-A444-41B2-B8F5-57318ECB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34D-2B5D-47E8-91A9-C4B2B630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15F13-2C92-4E54-AC23-9CA359FF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523176-1D4A-4E0F-B4B9-0D7F36BE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E9630-F2CD-49B5-B58F-D00FED42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477E2-D4C8-4AE4-BDD6-E5A04739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A1358C-1B9E-4E5C-9A90-8C4E86B9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6F4-24A2-4C0E-9BB9-324B72CC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1B94-7BE3-4547-8864-F351894B2C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5DE6-BF9B-4A0D-B570-60B53C6692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5A19-89F7-4793-ABA6-D717356071E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FB8F-DBFF-4E60-A972-C9FD3294BDD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0B25-11BE-42AC-AE2F-64E68D3EB7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BDCC-D8BF-4D4D-B1E3-87B24190F58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8E19-E5CC-4CB4-9841-72807973C6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nnis_Meadows_Moscow_febr2007-1-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s.wikipedia.org/wiki/1972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A A JEJÍ DŮSLED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f271c"/>
                </a:solidFill>
                <a:latin typeface="Calibri"/>
              </a:rPr>
              <a:t>Simona Jakubcov</a:t>
            </a: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Lucie Bielik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Martin Liz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Intelektuální versus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intelektuální podni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zita práce s poznání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ustředění duševní práce ve vede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hatství se měří podle materiálních statk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mbolické činnosti jsou považovány za neproduktiv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legace práce na jednotlivé zaměstnance, podporování inovací a nápad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dnota většiny výrobků spočívá v poznatcích, které jsou do nich vlože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Moscow, 16 Febr.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6680" y="3068640"/>
            <a:ext cx="2857320" cy="3789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Arial"/>
              </a:rPr>
              <a:t>Donella a Denis Meadows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nella 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 13.3.1941 – 20.2.200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růkopnicí v systémové dynamice vědách o životním prostředí, učitelka a spisovatel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4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197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e dostala do týmu vědců,vyvinuli počítačový model systémové dynamiky demograficko-ekonomických ukazatelů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World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financováno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ímským klub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enis L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7.6.194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americký vědec, profesor systémového managemen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entury Schoolbook"/>
              </a:rPr>
              <a:t>Meadows – 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72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- Meze růstu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en" sz="2400" spc="-1" strike="noStrike">
                <a:solidFill>
                  <a:srgbClr val="000000"/>
                </a:solidFill>
                <a:latin typeface="Century Schoolbook"/>
              </a:rPr>
              <a:t>Limits to Grow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1992 – </a:t>
            </a:r>
            <a:r>
              <a:rPr b="1" i="1" lang="cs-CZ" sz="3200" spc="-1" strike="noStrike">
                <a:solidFill>
                  <a:srgbClr val="000000"/>
                </a:solidFill>
                <a:latin typeface="Century Schoolbook"/>
              </a:rPr>
              <a:t>Překročení mezí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2004 – třetí pokračování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Mezí růstu ( 30letý upda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Tendence k překmitu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udržitelný způsob existence ( exponenciální růs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ychlé tempo používání hnojiv, růst měst, spotřeby energie a materiálů lid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užování  materiální základny lidst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ůst světové popul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nečišť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udoba a nezaměstnanost ( sociální rozdíl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olečnost na jedno použití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litické odmítání tématu mez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entury Schoolbook"/>
              </a:rPr>
              <a:t>Trvale udržitelná společnost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 simulovaných světů ( rovnováh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ředvídavá, pružná, moudr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valitativní rozvoj X fyzická expan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pokojování potřeby přítomnosti bez ohrožení budouc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teriální zabezpečení pro všechny(NE chudob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utnost pravidel,norem,sociálních doh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enění darů zemské kůry (neobnovitelné zdroj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exibil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entury Schoolbook"/>
              </a:rPr>
              <a:t>Rysy restrukturalizace světového systému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dokonalení signá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rychlení odeze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nimalizace používání ne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ředcházení erozi 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yužívání všech zdrojů s max. účinnos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zastavení exponenciálního růstu populace a fyzického kapitálu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3. Vlna: Trvalá udržitelnost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nformace ( větší databáze, lepší statistiky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ástroje k trvalé udržitelnost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vytváření vizí (cíl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co doopravdy chceme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vzájemné propojování (sítě, organizace, povzbuze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mluvení pravdy (lež naruší info tok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uč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milování (X individualism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Literatur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ennis L. Meadows, Donella H. Meadows a Jorgen Randers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Překročení mezí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,nakladatelství Argo, 1995, 320 str., ISBN 80-85794-83-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Nová civilizace,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95, 125 str., ISBN 80-86569-00-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Šok z budoucnosti,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70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SBN 0-553-27737-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f271c"/>
                </a:solidFill>
                <a:latin typeface="Arial"/>
              </a:rPr>
              <a:t>Děkujeme za pozornost </a:t>
            </a:r>
            <a:r>
              <a:rPr b="0" lang="cs-CZ" sz="3000" spc="-1" strike="noStrike">
                <a:solidFill>
                  <a:srgbClr val="4f271c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Obsah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lvin Toffl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nová teori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řetí vln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ritéria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polečnosti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zaměstnanos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intelektuální vs.intelektuální podniky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157140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arozen 3.10.1928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merický spisovatel a futurolo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daktor časopisu Fortu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stující profesor na Cornellově univerzitě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ositel čestných doktorátů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atý s H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 Toff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vou –spisovatelka a futuroložka, mimořádná profesorka na Univerzitě národní obrany ve Washingtonu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ijí v Los Ange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164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:\4.jpg"/>
          <p:cNvPicPr/>
          <p:nvPr/>
        </p:nvPicPr>
        <p:blipFill>
          <a:blip r:embed="rId1"/>
          <a:stretch/>
        </p:blipFill>
        <p:spPr>
          <a:xfrm>
            <a:off x="5072040" y="1928880"/>
            <a:ext cx="3406680" cy="239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 –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uture shoc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Šok z budouc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8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he third wav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Třetí vl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995 – </a:t>
            </a:r>
            <a:r>
              <a:rPr b="1" i="1" lang="cs-CZ" sz="3600" spc="-1" strike="noStrike">
                <a:solidFill>
                  <a:srgbClr val="000000"/>
                </a:solidFill>
                <a:latin typeface="Calibri"/>
              </a:rPr>
              <a:t>Creating a New Civilization 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(Nová civilizace)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yntéza předchozích dě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lnová teorie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ivilizační vl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1. vlna – 8000 př.n.l. – 1750 – zemědělsk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2. vlna – 1750 – 1955 – průmyslov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3. vlna – 1955 - ? – informační revolu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55 – v USA poprvé počet „bílých límečků“ větší než „modrých límečků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á civilizace přichází se třetí vlnou a jediná možnost přežití je přizpůsobení 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Kritéria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Připomíná to továrn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Demasifikuje to společnost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Kolik vajec je v košík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Je to vertikální nebo virtuální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Vrací to domovu síl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Principy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2.vlny (půda, práce, kapitál) – vyčerpateln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3.vlny - nevyčerpatelné zdroje (data, informace,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rastruktura – elektronická komunik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nání jako tvůrce technologického pokro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investicích - pokles významu kapitál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e skladování (just in tim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dopravě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materiálních nákladech (nové suroviny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Charakteristická společnost třetí vlny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ladá (doba trvání, pracovníc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(outsourcing, flexibili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kurence (inovac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vestice do výzkumu a vývo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zce specializovaní zaměstnan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ká míra využití informačních technologi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zaměstnanost z pohledu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60.let přesun od manuální práce ke službám (3/4 pracovníků v US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covní příležitosti jsou méně zaměnitelné (důraz na vzdělání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esun od kvantitativní ke kvalitativní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ve službá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, rekvalifikac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é pracovní pozi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finančnictví, poradenské služby, vzdělávání, pečovatelství, turismu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doma, flexibilní pracovní doba, půlené zaměstn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funkčnost tradičních monetaristických a keynesiánských nápravných prostředků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22:10Z</dcterms:created>
  <dc:creator>Lucie Bieliková</dc:creator>
  <dc:description/>
  <dc:language>en-US</dc:language>
  <cp:lastModifiedBy>admin</cp:lastModifiedBy>
  <dcterms:modified xsi:type="dcterms:W3CDTF">2008-10-13T21:20:58Z</dcterms:modified>
  <cp:revision>20</cp:revision>
  <dc:subject/>
  <dc:title>Třetí vlna a její důsledky</dc:title>
</cp:coreProperties>
</file>