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132EC-CCC6-47C1-8560-E29F6F8D1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40ECE-3DE7-4508-9BB6-56DAAEEE9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93938-9919-4751-9335-B13A9BFE9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A99FA-FC10-4405-B9CD-BEF969FEF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06A76-5691-4170-AA68-FA3C358E6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C3A69-1D4A-4658-8056-0C2B75F48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CA5E2-CA5A-4BAC-AC7E-A67846256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77135-A6D7-452D-8928-8A486C186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5D410-B45C-4D05-93E0-E36827C91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D4F73-A4F9-433A-93EF-088DBCF74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8FF5C-758B-46B0-A9D3-5393AAF1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3CD8D-910D-46C3-B891-5A5BE20F6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78B3A-CFEA-4281-96B0-407C2414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6076A-1F20-4D34-881B-64D26CF6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4F261-C809-4DDC-910D-948B43131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88665-AE7A-4316-AF2A-7E8EC120E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82EDF-E4C0-4DE1-9A4D-A0C9574E8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3EFD3-0BC1-4889-8756-3A3230CAA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D6A35-2281-49AD-9B04-57402C07C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D89D7-7E92-47E3-96A4-034B1A58A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2C4F6-6C07-4B4A-B3AE-3165952F4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83572-F15B-4051-97C8-9B65E832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7E938-8E34-49BB-A7A7-5C6BB511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A9B7D-A20D-4FD3-A0A6-AFF25047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85549-6303-40B8-B46D-D602C1BA5D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3B2FB-3851-4104-9E0D-8EEA0BA825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lean.org/" TargetMode="External"/><Relationship Id="rId2" Type="http://schemas.openxmlformats.org/officeDocument/2006/relationships/hyperlink" Target="http://www.lean.org/" TargetMode="External"/><Relationship Id="rId3" Type="http://schemas.openxmlformats.org/officeDocument/2006/relationships/hyperlink" Target="http://www.lean.org/" TargetMode="External"/><Relationship Id="rId4" Type="http://schemas.openxmlformats.org/officeDocument/2006/relationships/hyperlink" Target="http://www.lean.org/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Kapitalismus nové civilizac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ichaela Kaprál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nika Kovář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omáš Sedláč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Mud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&amp;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Lean Think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hno: </a:t>
            </a:r>
            <a:r>
              <a:rPr b="1" lang="cs-CZ" sz="3200" spc="-1" strike="noStrike">
                <a:solidFill>
                  <a:srgbClr val="00007d"/>
                </a:solidFill>
                <a:latin typeface="Arial"/>
              </a:rPr>
              <a:t>mud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= plýtvání, mar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hlcuje zdroje, nevytváří hodno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ones, Womack: </a:t>
            </a:r>
            <a:r>
              <a:rPr b="1" lang="cs-CZ" sz="3200" spc="-1" strike="noStrike">
                <a:solidFill>
                  <a:srgbClr val="00007d"/>
                </a:solidFill>
                <a:latin typeface="Arial"/>
              </a:rPr>
              <a:t>lean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eštíhlující myšl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ék na hýřivé prakti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ntinuální tok hod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cipy zeštíhlujícího myšl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ecify value from the standpoint of the cust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dentify all the steps in the value stream – eliminate everything that does not create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grate the sequence so the product will flow smoothly toward the cust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et customers pull value from the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ursue perfection through continuous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užby a to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nik nenabízí produkt, ale přímo službu, kterou daný produkt poskytu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lumí nestabilitu - vyrovnává výkyvy, protože produkty jsou dodávány plynu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ynulý tok služeb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ální podnik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hy a jejich fung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Trh-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„Je oblast ekonomiky v níž se střetává nabídka s poptávkou a výsledkem tohoto střetu je nákup resp. prodej určitého množství zboží za určitou cenu.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Kapitalismus- „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Kapitalismus je ekonomický systém, v němž jsou výrobní prostředky v soukromém vlastnictví a provozovány za účelem dosažení zisku. Ekonomické parametry (např. ceny) jsou určovány prostřednictvím volného trhu (nabídkou a poptávkou), a to i ceny práce, nikoli řízeny pouze zásahy stát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Dokonalá konkurence-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„Teoretický model trhu, v němž platí: existuje velký počet kupujících a prodávajících, žádný z nich nemůže ovlivnit cenu, produkceje homoggenní, neexistují překážky vstupu do odvětví, všichni mají dokonalé informace o cenách a množství zboží na trhu.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íčiny nefunkčnosti trh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Špatná alokace kapitá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ční selh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ční selh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ční selh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zika hodnotových řetěz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pravdivé a chybějící cenové signá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úplné trhy a vlastnická prá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45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kčnosti trhu napomáhají spravedlivá pravidla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Čína: Země, kde se kapitalismus s komunismem snoub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oční růst HDP okolo 9% (již od 70.l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$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,53 bilionů zahraničních měnových rezer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větší producent textilu, oceli, zlata a c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roce 2006 dokončilo VŠ 2,4 mil. Studen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 2011 – největší spotřebitel ener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zitivní kro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tevřenější a svobodnější zem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voboda cest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rušení registračního systé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86% číňanů je spokojeno s ekonomikou a jejím směřování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voboda podnik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tevřenost zahraničním investorů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ohatství a velký rozvoj mě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n malý posun v poli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pírání svobody sl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iskriminace menšin (tibeťané, Sin-ťia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ěznění aktivistů v pracovních táborech, muč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oni zablokováno přes 2500 www strán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kračující monopol komunistické str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kaz nezávislých odborů a některých círk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Špatné pracovní podmínky (postavení zaměstnanců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pitalističtější než US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ém hrazení zdravotnictví a sociálních služ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átní zásahy do ekonomiky v období nynější kr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de kapitalismus nevyhnutelně k demokraci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a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írodní kapitalis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alizace a zeštíhlující myšl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hy a jejich fung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5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awken, P., Lovins, A., Lovins, L.H. </a:t>
            </a:r>
            <a:r>
              <a:rPr b="0" i="1" lang="cs-CZ" sz="2400" spc="-1" strike="noStrike">
                <a:solidFill>
                  <a:srgbClr val="666699"/>
                </a:solidFill>
                <a:latin typeface="Arial"/>
              </a:rPr>
              <a:t>Přírodní kapitalismus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raha: Mladá fronta, 200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5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666699"/>
                </a:solidFill>
                <a:latin typeface="Arial"/>
              </a:rPr>
              <a:t>„</a:t>
            </a:r>
            <a:r>
              <a:rPr b="0" i="1" lang="cs-CZ" sz="2400" spc="-1" strike="noStrike">
                <a:solidFill>
                  <a:srgbClr val="666699"/>
                </a:solidFill>
                <a:latin typeface="Arial"/>
              </a:rPr>
              <a:t>Principles of Lean Thinking“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Womack, J. and Jones, D., 1996. Lean Enterprise Institute. </a:t>
            </a:r>
            <a:r>
              <a:rPr b="0" lang="cs-CZ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www.</a:t>
            </a:r>
            <a:r>
              <a:rPr b="0" lang="cs-CZ" sz="2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lean</a:t>
            </a:r>
            <a:r>
              <a:rPr b="0" lang="cs-CZ" sz="24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.</a:t>
            </a:r>
            <a:r>
              <a:rPr b="0" lang="cs-CZ" sz="24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ttp://cs.wikipedia.org/wiki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ttps://ekonom.feld.cvut.cz/materialy/ekocz/EK02.pd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Časopis Euro, č.38/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 je dnes vzácn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čátek průmyslové revol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éně obyva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ální zásoby bezmezné a nevyčerpa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omezeným zdrojem jsou lid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íroda se stává vzácněj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Čtyři typy kapitá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nční kapitá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yrobený kapitá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írodní kapitá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dský kapitá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nvenční kapitalis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nčně zisková avšak neudržitelná forma lidského výv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írodní a lidský kapitál má malou hodno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lý zájem o odpad při produkci i staré výrob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írodní kapitalis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tředí není jen okrajovým faktorem výro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oucí rozvoj je limitován dostupností a funkčností přírodního kapitá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řeba radikálního zvýšení produktivity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ální strate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kální produktivita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logické mimik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konomika služeb a to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ování do přírodního kapitá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írodní kapitá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vědomovaný, ovšem nezastupiteln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bytek a snížení kv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nahraditelné a nezastupitelné přírodní služ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stice do přírodního kapitá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řeba revidovat systém daní a dot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verzní do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danění plynu, užívání všech vozidel a letadel,odpadů, umělých hnoj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maliz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k se provrtat nákladovou bariér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spora energi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ostní systémové inženýr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ek jako systém, ne jen suma čá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ání mu tradiční sché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šlení opačným směr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ndřej Částek</cp:lastModifiedBy>
  <dcterms:modified xsi:type="dcterms:W3CDTF">2008-11-03T13:26:29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