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6267-CA64-478F-A77F-B5F0CEA73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9704-2478-48B8-AD05-2F817F1E7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822F-AE0C-4C48-ABB8-B7E59695F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CF66-9013-4605-B4C7-89D431481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CB610-01BD-41D5-8E1C-FD9130C9E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BB354-76FA-483B-B4E8-126C74D4B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7C775-9637-416B-A78B-22523B69C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C6089-5ECF-45A2-B5AF-D8F7E950D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0CF66-A6F1-45CC-A3CD-AEF8652D8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C069D-8B88-4627-B814-7C194F773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CF2D8-FDF1-467F-BB75-DFCA9885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A1CC-E565-4C2E-9F09-4ADA49ECB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94795-F060-4837-B7F4-934776E1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B9D58-EF4A-49D4-A1F3-34E4EA952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3B9A5-0175-4322-8068-A745FCBBE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FB6E8-2549-4C98-B9C4-C73AC52EF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D8107-E7FE-4692-AD0F-BD237C1CF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FF9F-3A94-4C98-8EDF-53240A75D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FBBC-91DA-4639-AB9C-FF856173B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EC02-0D83-44F8-8DCC-8EF0CEE82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A6F7-0F13-49F9-8275-BBE12D767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E4E1-3A8A-4D77-B69A-5DED16DE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F6A9-8F0B-47A0-B16B-36BA5B932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C511-6B32-4951-9C2D-E6EBDCCB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0047F-37A4-47F9-8569-86AF4364E1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7DE0E-E10D-40A8-AD61-F5EFF55A0F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11280" y="1125000"/>
            <a:ext cx="7772400" cy="18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b7"/>
                </a:solidFill>
                <a:latin typeface="Arial Black"/>
              </a:rPr>
              <a:t>Přirozená a kulturní evoluce</a:t>
            </a:r>
            <a:br>
              <a:rPr sz="2800"/>
            </a:br>
            <a:br>
              <a:rPr sz="2800"/>
            </a:br>
            <a:r>
              <a:rPr b="1" lang="cs-CZ" sz="3200" spc="-1" strike="noStrike">
                <a:solidFill>
                  <a:srgbClr val="ffffb7"/>
                </a:solidFill>
                <a:latin typeface="Arial Black"/>
              </a:rPr>
              <a:t>(Josef Šmajs: Drama evoluce)</a:t>
            </a:r>
            <a:br>
              <a:rPr sz="4800"/>
            </a:b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71280" y="4365360"/>
            <a:ext cx="680076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pracovali: Blaha Mich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rál Tomáš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aulíčková Marce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řirozená a kulturní evolu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oluce = proces, který směřuje proti rozpadu systému,zvyšování uspořádanos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dle nositele evoluční aktivit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oluce přirozená - příro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oluce kulturní – člověk (člověk prvkem přirozené evoluce a aktérem kulturní evoluc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ledisko evoluce klíčem pro pochopení a řešení ekologické kriz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zdělání lidí v oblasti závažnosti ekologického konfliktu, přijmutí nových hodnot (pochopení evoluce..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řirozená evolu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Nositelem přírod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Mnohem delší časové hledisko než evoluce kulturní, už od dob velkého třesku vznikaly prvky,struktury světa…(vznik abiotických a biotických systémů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ytváření, přetváření, modifikace určitých prvků a struktur, výsledek evolučního procesu předem neznám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Uspořádanost jednotlivých organismů i uspořádanost celého ekosystém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Kulturní evolu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Člověkem generovaný proces, cílevědomá i spontánní aktivi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měle vytvářená kultura vzniká z přírody, je závislá na přirozených evolučně starších systéme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ákladem kulturních struktur: informace kulturní=duchovní kultu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ika, kultivované organismy, přirozené systém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ěřuje proti evolučně vytvořeným strukturám příro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ůsledek rozmachu kultur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ůst a rozmach kultury- destrukce a snižování biologické rozmanitosti živo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ůmyslová revoluce- rostoucí nároky na suroviny, energie, hromadné čerpání zdrojů, znečiště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ritika koncepce  společenského vývoje bez ohledu na vývoj přírodní, nutnost považovat kulturu za podřízený subsystém biosfé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ritika povědomí, že člověk díky rozumu o přírodu přesahuje a je jí nadřaz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 je to informace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jem dosud uspokojivě nevysvětl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jako obsah a smysl zpráv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jako obsah pamě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jako uspořádanost byt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tížně se rozlišují a v důsledku toho i zaměňuj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 je to informace? II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„…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ázev pro obsah toho, co se vymění s vnějším světem, když se mu přizpůsobujeme a působíme na něj svým přizpůsobováním.“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va typ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ypy informa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ace přirozená, biotick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ace kulturní, uměl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řirozená informa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zdělila struktury na živé a neživ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Kulturní informa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zniká modifikací starší informace přirozen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Je produktem kulturní informace, ale zároveň i její podmínk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Teorie vzniku „spontánního společenského řádu“ (Hayek, F. A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b7"/>
                </a:solidFill>
                <a:latin typeface="Arial Black"/>
              </a:rPr>
              <a:t>Ontická role kulturní informa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mořádnou roli zastává lidský moz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„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še, čeho jsme dosáhli, je výsledkem kulturního vývoje, jenž se opírá o mozek stále stejné kapacity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zek se rodí s hotovou strukturou, bude pracovat moderním způsobem, avšak tento mozek má svou historii. Byl budován během miliónů let, reprezentuje historii, které je výsledkem.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Vývoj filozofi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ž donedávna filozofie bádala spíše v minulosti a snažila se vyložit podstatu nezpochybnitelného bytí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jí vztah k ostatním vědám byl opomíj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nes moderní filozofie hledí na realitu a vyvozuje z ní budoucnost, podstupujíce svoje teorie testu dalšími vědam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b7"/>
                </a:solidFill>
                <a:latin typeface="Arial Black"/>
              </a:rPr>
              <a:t>Ontická role kulturní informace II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ůsobí protipřírodně, je v opozici k přírodní evolu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ulturní informace se stává informací přirozen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užitá literatur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Šmajs, J.: Drama evolu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Šmajs, J.: Konflikt přirozené a kulturní evolu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Šmajs, J.: Základy systematické filosof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Wiener, N.: Kybernetika a společn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Gould, S. J.: Pandin pale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Jung, C. G.: Analytická psycholog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tudijní materiály předmětu Management I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Skutečnost – co o ní vlastně víme?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řišel „zázrak“ zrození, Slunce nám dodává energii nutnou ke všem procesům na Zemi (na planetu Zemi přitom dopadají pouhé 2 miliardtiny sluneční energi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Biotické x abiotické struktu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am směřuje skutečnost? Vesmír se rozpíná a chladne, zvyšuje se jeho entropie, naproti tomu na mnoha jeho místech vznikají stále složitější, organizovanější, struktu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Je směřování vesmíru náhodné či se jedná také o evoluční proc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ystém přírod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Globální biosféra – vytvořil ji život, nedevastuje Zemi, vychází totiž z jejích nejstarších struktu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tevřené živé systémy – mají epigenetickou paměť (CNS) a genetickou paměť. To vede k evoluc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rodukty evoluce jsou onticky předepsané struktury samovolně se strukturující biosfé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ozemský život se tak stává organizačně nejsložitější, fenotypově nejaktivnější a proto i nejhodnotnější ontickou vrstvou vesmírné skutečnost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Člověk jako součást systému přírody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ultura – druhý, mladší systém, součást přírody, nemůže bez ní existova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Antropocentrická iluze – nadřazenost člověka přírodě, kultura se musí biofilně přestavě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yšší systém neznamená silnější, naopak, slabší, křehčí organizační úroveň skutečnost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ozpor přírody a kultur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ultura je součást přírody, kde vzniknul rozpor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ultura je druhým ontickým systémem se sociokulturní informací, antropocentrická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emůže dosáhnout klimaxu s přírodou neboť roste mnohem rychleji, hnána příkonem se spalování fosilních paliv. Není tak prostor pro negativní zpětnou vazbu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rama evolu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icolai Hartmann – odlišuje vrstevnatost bytí a stejně tak jako první i přírodní a kulturní evoluc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Expanze planetární kultury zbytečně brzo ohrožuje člověka jako druh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Morálka není vždy závislá na faktu přežití, člověk může být fylogeneticky sobecký. Je však pouze nepatrnou větvičkou na stromu života, bez kterého nemůže existova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utné odstranit konspiraci lhostejnost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Uspořádanost struktur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pořádanost poukazuje na vnitřní zjevnou i skrytou rozmanitost skutečnos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pořádanost přirozená a kultur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nitřní architektura konkrétních struktur(biotických, kulturních…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y udržující identitu těchto strukt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řirozená uspořádanos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Cílem evoluční ontologie- přirozená uspořádanost jako vysoká kulturní hodno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ulturní X přirozená uspořádanost: Nešetrné zásahy kultury do přírody ničí tuto biotickou uspořádan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Šmajs: S ohledem na zachování přirozené uspořádanosti a na udržení biologické rozmanitosti života bude třeba rostoucí prostorové expanzi kultury zabráni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16:26:56Z</dcterms:created>
  <dc:creator>marcela</dc:creator>
  <dc:description/>
  <dc:language>en-US</dc:language>
  <cp:lastModifiedBy>snoopy</cp:lastModifiedBy>
  <dcterms:modified xsi:type="dcterms:W3CDTF">2008-09-30T13:02:12Z</dcterms:modified>
  <cp:revision>12</cp:revision>
  <dc:subject/>
  <dc:title>Přirozená a kulturní evoluce</dc:title>
</cp:coreProperties>
</file>