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4703-7439-4F13-9F43-E450B570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741-B27D-49CD-ACE0-3B28F3CA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0D90-A0AD-4FD4-BD44-55DD4BE4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EAC-A6F4-4CB9-AFB3-13C7E419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1A53-4292-43AC-870B-0D2A59B5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80E8-C1D5-43AC-8A83-E2CB5B9D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5359-C364-4D30-8F78-A8BAE4E7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8B1E-FBF5-44C4-AC6E-42DE7E46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4EC5-29CB-4C33-9ED6-24F66E48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A85D-81C0-4091-9FB8-2424465B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074D-D808-4A46-9D36-254BF792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7C2-F7B6-446A-AF2F-95A5A2E7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E3DE-AFE3-46CB-995B-72B77ECF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E7FD-239C-45FF-BD35-332AE724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4724-53CD-4A15-9DFB-6B65C285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FADE-2847-4D2F-8519-EF1786CC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2A3C-0C36-40B4-AF49-1F5F3E23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730B-C9AD-411A-9CB6-EA0A8FB9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D248-4B98-49E1-A3E3-B36F2FD4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3F8B-E6FB-4E88-BD5D-981A3C69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F8C0-53C6-4B66-B273-1874B9EE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7F3F-74DB-423D-8B84-68C95E07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553-8EFD-42BC-B913-6B78DF85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4C33-5C30-4C6D-AFA1-E87981A7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E9FD-B8ED-42B3-8682-918EBD7BB3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58B7-007D-4E7E-A389-8F0EDDD7A8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</a:rPr>
              <a:t>Přirozená a kulturní evolu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chová, Jelínek, Kaszper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lověk  - výjimečný živočišný dru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 je motorem kultur. evol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původního přírodního řádu vytváří odvozený kulturní řá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ltura – nestandardní, potenciálně protipřírodní subsystém biosfé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Produkt 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tivované organis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tivované přirozené systé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uševní a duchovní k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Vztah přírodní a 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roda vytvořila dokonal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hardwar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“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tímco kultura, do níž se člověk socializu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í pouze je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softwar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Konflik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rozená vs. kulturní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ělé  vs. přirozeného (řád z řád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mná přirozená uspořádanost 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biosfé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ustupuje před hrubou nebiotickou uspořádaností 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technosfé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Drama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sledky konfliktu – ekologická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m směřuje šipka čas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Literatur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majs, J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Drama evolu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Praha: Hynek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majs, J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Konflikt přirozené a kulturní evoluc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no: MU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veney,P., Highfield, R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Šíp času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trava: OLDAG, 19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rwin, CH.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 O původu člověka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ha: Akademika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veney,P. Highfield, R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Mezi chaosem a řáde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Praha: Mladá fronta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11280" y="2491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Děkujeme za pozornos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je evolu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rozená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rozená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turní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lturní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flikt přirozené a kulturní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Co je evoluc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zvolný, průběžný vý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stitutivní, svébytný a spontánní pr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í stále jemněj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iferencovanější struktu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Co je evoluc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vní ucelenou evoluční teor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Jean Baptiste Lamar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značení procesu změn dědičných vlastností mezi organismy (evoluční biolog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nešní chápání vychází z </a:t>
            </a: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Charlese Darw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Co je evoluc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197000"/>
            <a:ext cx="64008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ledek evolučního procesu je vždy víceméně neznámý, předem nezjistitel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nepředpověditeln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běh evoluce je na každé organizační úrovni ovlivňován uvnitř i vně systému mnohými nahodilými fak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Ča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268360" y="1557360"/>
            <a:ext cx="6624720" cy="4176720"/>
            <a:chOff x="2268360" y="1557360"/>
            <a:chExt cx="6624720" cy="4176720"/>
          </a:xfrm>
        </p:grpSpPr>
        <p:sp>
          <p:nvSpPr>
            <p:cNvPr id="98" name=""/>
            <p:cNvSpPr/>
            <p:nvPr/>
          </p:nvSpPr>
          <p:spPr>
            <a:xfrm>
              <a:off x="4572360" y="1845360"/>
              <a:ext cx="1728000" cy="3888720"/>
            </a:xfrm>
            <a:prstGeom prst="downArrow">
              <a:avLst>
                <a:gd name="adj1" fmla="val 50000"/>
                <a:gd name="adj2" fmla="val 5626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04360" y="2565360"/>
              <a:ext cx="720000" cy="14400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č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12360" y="1557360"/>
              <a:ext cx="2304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Arial"/>
                </a:rPr>
                <a:t>BIOLOGICKÝ ŽIV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(energie, hmot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12360" y="2421360"/>
              <a:ext cx="2160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Organizovaná hmo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12360" y="3429720"/>
              <a:ext cx="2160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Soutěžení o zdro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12360" y="4149720"/>
              <a:ext cx="2160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Přirozený výběr (přežití nejzdatnějšíh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12360" y="4869720"/>
              <a:ext cx="2160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Evoluce s otevřeným konc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20360" y="213336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20360" y="2853360"/>
              <a:ext cx="144000" cy="576000"/>
            </a:xfrm>
            <a:prstGeom prst="downArrow">
              <a:avLst>
                <a:gd name="adj1" fmla="val 50000"/>
                <a:gd name="adj2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0360" y="386172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20360" y="4725720"/>
              <a:ext cx="144000" cy="144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68360" y="2853360"/>
              <a:ext cx="1008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Mut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08360" y="2853360"/>
              <a:ext cx="1152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sebereplik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56720" y="1557360"/>
              <a:ext cx="2160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Arial"/>
                </a:rPr>
                <a:t>UMĚLÝ ŽIV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(strojový čas, paměť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56720" y="2421360"/>
              <a:ext cx="2160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Organizovaná hmo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68720" y="3429720"/>
              <a:ext cx="2736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</a:rPr>
                <a:t>Soutěž o zdroje času a paměti CP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68720" y="4149720"/>
              <a:ext cx="3024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Přirozený výběr nejzdatnějšího sebereplikujícího se algoritm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00720" y="4869720"/>
              <a:ext cx="2016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Evoluce s otevřeným konc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4720" y="213336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64720" y="2853360"/>
              <a:ext cx="144000" cy="576000"/>
            </a:xfrm>
            <a:prstGeom prst="downArrow">
              <a:avLst>
                <a:gd name="adj1" fmla="val 50000"/>
                <a:gd name="adj2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4720" y="386172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64720" y="4725720"/>
              <a:ext cx="144000" cy="144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12720" y="2853360"/>
              <a:ext cx="1008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Mut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52720" y="2853360"/>
              <a:ext cx="1152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sebereplik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Přirozená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udká expanze kosmické hmo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 15 mld.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lký tř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ástice, atomy, molekuly, kosmické objekty, země, nerosty, horniny, vody, půdy a předchůdce člově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é fáze tvorby hvě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Přirozená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rozená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ležitost a vztah přirozené evoluce pro kulturní evolu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ladší systé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aznost na přirozenou evolu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ědomá aktivita li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ověká filozofická koncepce děj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stitutivn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4:56:11Z</dcterms:created>
  <dc:creator>Čech</dc:creator>
  <dc:description/>
  <dc:language>en-US</dc:language>
  <cp:lastModifiedBy> </cp:lastModifiedBy>
  <dcterms:modified xsi:type="dcterms:W3CDTF">2008-09-29T17:58:45Z</dcterms:modified>
  <cp:revision>5</cp:revision>
  <dc:subject/>
  <dc:title>Přirozená a kulturní evoluce</dc:title>
</cp:coreProperties>
</file>