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4E7-E61A-45E1-928F-5FF3666B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240-EB38-4D36-B6B8-CF952E19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CED-EACC-454A-8E75-E8336429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EEB-2878-42F2-87D4-E5442317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8DB8-DFB5-453F-86A0-9E64DB1B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DD58-D208-4C00-AD78-1DAFAE91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2A87-BE83-44CA-9E86-1AAAB325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4591-4165-40E0-9FFE-3D719BB3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AA38-4932-4A8B-AB45-79E19F25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F6BC-279B-4FF7-A9BB-960F5D1C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465F-6DC3-4F09-B9CE-29B8123F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ACE-50BF-4007-8AEA-BC6A8BD6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5126-55C5-489C-9600-B70ADAB2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87FB-8D85-4CD9-A2B9-8A162657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5F5B-F65C-496F-9346-FC5D6294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AD8B-8E4E-4285-95FB-EBF4B55F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7053-1FB6-4F92-8431-87B5DB7F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6725E-C35E-4096-A247-D7BAE8EF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06CF9-65E5-4FE5-8855-35E7C59F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357E2-EA61-4BA0-A3A4-252B81F2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6930B-29B3-4BA2-B324-95D3CBCE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7859-9186-4CA7-9163-D2DAE4E6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354-2A89-4503-8071-0F0072C4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DD10F-4AAB-4B05-A63B-23E9F63D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A290-5266-4EA1-82A2-9AA04735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2B44-B06D-40F8-BE39-9B1DF13C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2F1D4-666C-4562-9B51-13A48A17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0E4D7-0F99-4375-9EC0-27F56EDE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6DB0-4DA5-4ECC-88AA-4AEAA161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0B7C4-515F-45D1-B11D-67AF0772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26C7B-0DEE-4873-B507-FB61A4FE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0AB7A-DD0B-49B4-80BB-17395F54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8376A-51FB-4052-A865-AEE6F459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95E-AEE7-431B-B995-8DCCF7E9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A36D5-F33F-4568-94A1-5D7E8BBD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06F54-6EDD-4750-A25C-D0641C34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998DB-CCD9-4CE3-B8EB-1D109A0F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30460-22EE-42ED-B715-1BD472E2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3DC4A-4CB2-4986-8FE7-BCCF9969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FD82-9E8A-4AE4-BB19-CBF5E807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354E2-BFA4-4E7D-9737-AB376310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BBEE5-1B93-4696-BC3F-645DE472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B5AC4-DF89-497D-91F7-5A54AA20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A84-A454-460E-A537-003F10C7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08B-986D-4715-A72D-8F9CC815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A31-B494-4F85-A583-1FBEFAEF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C0C-1EEF-44E4-AD98-272375E4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C37-82FB-436F-B114-A407F34C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E434-1D47-4FD9-B5F1-9F26E8D00E31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5210-690C-4C4A-ADE7-A499CAAC58F8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178A-1A16-4FEA-A467-B023A514BA5C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1668-C07C-4F73-8A58-0B9864AAA2B9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5000760"/>
            <a:ext cx="7854840" cy="909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áclav Klein, Vít Zouhar, Robert Kund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Děkujeme za pozornos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0040" y="4571640"/>
            <a:ext cx="822960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CO JE TO NENULOVÝ SOUČET?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AM je unášeno lidstvo ve svých dějinách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á nějaký VYŠŠÍ SMYSL?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WRIGHT: Vývoj, evoluce má svůj směr a cí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BERGSON- ELÁN VITAL- pohání živé hmo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TEILHARD de CHARDIN-dějiny lidstva směřují k bodu omega, ten je umístěn mimo prostor a č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íliš nadpozemské??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ALE…Správná základní myšlenka 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Evoluce organismů má sklon vytvářet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složitější formy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a stejně i lidské dějiny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íhnou k vývoj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stále větších a složitějších uskupení-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noosféra, globalizační vesnice.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ZE SMĚŘOVÁNÍ NA KTERÉ BERGSON A DE CHARDIN UPOZORNILI VYSVĚTLIT VĚDECKÝM ZPŮSOBEM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podle Wright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AN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POVĚĎ BY PODLE WRIGHTA MOHLA BÝT V TEORII HER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Teorie her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or, který se snaží té které hře přiřadit právě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volučně stabilní strateg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le  úspěšnosti v aktuálním kole je získána jakási poukázka na množství potomků v kole následují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trate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 x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lze nalézt i v rámci jednoho druhu – vlivy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arwinovský boj o život – spíše v rámci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ednoho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ruhu, než mezi dru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řizpůsoben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se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Žádní vítězové – pouze poraže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y protihráčů jsou nepřímo úměrné (fotbal, tenis, bo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e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 jednoho nemusí být na úkor druhého. Obvykle se zájmy překrývaj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ehled vývoje života lze uvádět stručn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řehled lidských dějin je spletit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: u obou lze zachytit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zorec vysvětlující směr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ějin práv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mocí teorie her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Vznikají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nové technolgie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odněcují nové bohatší podoby vzájemneho působeni s nenulovým součtem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té se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yvyjeji společenská uspořádán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která tohoto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tenciálu využij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promění situace s nenulovým součtem v 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zitivní zisky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V souladu s paretovým optimem-nikomu se nemůže ve společnosti dařit lepe na ukor jinéh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například Technologické revoluce tak vytvářejí stále nové hry umožnujiící oboum stranám výhru(např. Hospodářský růst i pomocí technlogií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znamená to, ale že hry s nenulovým součtem musí být ziskové na obou stranách, nebo že by bylo vyloučené podvádění, nebo parazitismus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esto, se ale po čase ukáže, že vzniká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více součtů kladných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ž záporných a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častější je oboustraný zis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směřuje tak spíše k výhrám.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Uspořádání společnosti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 tak stál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složitějš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o šířky i do hloub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ějiny života i lidstva sestávají se stále častějších, rozsáhlejších a složitějších her s nenulovým součte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Hromadění nenulových her je podstatou narůstání biologické i společenské složitosti-hromadění nenulovos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Nenulovost dodáva hybnost základnímu směřování života na planetě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Výskyt strategií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Člověk se obvykle vyskytuje v prostředí, které mu je "přirozené", tedy mezi obdobnými strategiem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rozba infiltr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 zdánlivě slepý přírodní výběr přitom "odměňuje" entity, které jsou oproti svému okolí schopné lepšího zpracování informací. Čím lepší zpracování informací, tím blíže ke K strategii a tím větší je opět prostor pro altruism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ZMATEK DNEŠNÍ DOB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ahová období-vývoj skočí z rovnovážného stavu na  vyšší úroveň rovnováh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 tomu dochází i dn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 uznává že rostouci zmatek je znamenim rozhodného kroku v postupu toho, co můžeme nazvat osudem svě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Osudem našeho druhu je VYBRAT SI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Použitá literatura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avel Houser / Vzpoura genů : od velkého třesku k umělé inteligenci . -- 1. vyd.. -- Praha : IDG Czech, 2003. -- 127 s., [16] s. barev. obr. příl. :. ISBN: 80-86304-99-X (brož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bert Wright / Logika lidského osudu -- 1. vyd.. -- Praha : Lidové noviny, 2000. –356 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ttp://www.scienceworld.cz , nahlédnuto 4.10.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0:57:50Z</dcterms:created>
  <dc:creator>Zou</dc:creator>
  <dc:description/>
  <dc:language>en-US</dc:language>
  <cp:lastModifiedBy>Zou</cp:lastModifiedBy>
  <dcterms:modified xsi:type="dcterms:W3CDTF">2008-10-06T12:43:12Z</dcterms:modified>
  <cp:revision>2</cp:revision>
  <dc:subject/>
  <dc:title>Evoluce jako hra s nenulovým součtem</dc:title>
</cp:coreProperties>
</file>