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D48-CFA0-4AD2-AB2D-673EEB95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DE97-538B-4BE7-A5CD-EAAF7CA4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1B1-07F8-459B-B094-EC47969A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9C5-D3DF-4A86-993F-E43114F8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FABD-8C4C-40CA-A863-ADE9DAC6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216C-6FF8-465D-AE63-FA8DECAA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611E-4320-45C1-B011-4ACAB3C6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FCB5-FD21-4760-9ECC-4E8486A4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4DC6-E57D-4FA7-A4B2-463DC064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1284-FF29-4A85-9EFC-3F4DCE5D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8F48-940C-45D7-A1EC-FFA9141C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D01B-76CE-4DCA-A7EB-06F5C0FE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06F5-89C4-4C87-B681-72346908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3A08-054D-4F37-9853-B8B134A5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2FB7-8DAC-4877-8A1B-CB771544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54B3-F91E-4662-AFFD-06060F5C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A35F-5D52-4FF0-A268-63E00E73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1A1-9F2B-489B-8A63-8C214F2A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1C5-C7A5-411D-AD50-01572CE2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18A-F67F-4D7C-BC86-C9B426C9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E6B-8860-4382-B4A5-FFD254A8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F76D-771C-44BE-91A2-63ADE4EC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498-608A-4C9D-8C65-13514A63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A6BD-DF92-4108-A45B-3686CDA5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A658-F539-4D5B-97B9-F70FD7838D29}" type="slidenum"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římá spojovací čára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53E1-86E8-489C-B431-3D6088763A7F}" type="slidenum"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8800" y="3928680"/>
            <a:ext cx="7286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Bookman Old Style"/>
              </a:rPr>
              <a:t>Přirozená a kulturní evoluce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4653"/>
                </a:solidFill>
                <a:latin typeface="Bookman Old Style"/>
              </a:rPr>
              <a:t>Marek Beleš, Martin Beleš, Pavel Kinc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Nejdříve domněnka, 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že kultura pozemskou přírodu zlepšuje ( dotváří její síly, je koevolucí, přímým pokračováním života na Zemi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ozději: kultura navazuje na evoluční proces,  al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má schopnost je zneužívat pro růst moci kulturního spo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Příčinou je konstitutivní činitel kultur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Je jím, dle Šmajse: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Konstitutivním činitelem kultury je sílící proces cílevědomé i spontánní informační aktivity lidí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.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onstitutivní informací kulturních struktur nemůže být informace přirozená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Duchovní kultura - vlastní vnitřní informa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dokáže obrátit dílčí přírodní síly včetně přirozených potencí člověka proti ostatní přírodě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Člověk – nový biologický druh, byl přirozenou evolucí vybaven tak, že dokázal zažehnout kulturní evoluc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ro kulturu platí 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Co připomíná F.  A. Hayek: že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spontánní řád se formuje sám ze sebe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 a také ve smyslu Caprova výroku, že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stroje se stavějí,  ale organismy rostou.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ní společenství, produkované 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Nepřím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Přím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 vs.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965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konflikt – přirozená poprvé v historii ohrožuje</a:t>
            </a:r>
            <a:br>
              <a:rPr sz="2400"/>
            </a:b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  evoluci kulturní</a:t>
            </a:r>
            <a:br>
              <a:rPr sz="2400"/>
            </a:br>
            <a:br>
              <a:rPr sz="2400"/>
            </a:b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poškození živého i neživého prostředí planety, tedy systému,</a:t>
            </a:r>
            <a:br>
              <a:rPr sz="2000"/>
            </a:b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který kdysi vznik přirozené evoluce umožnil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Zdro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965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Drama evoluc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Ohrožená kultur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Základy filosofie (přednášky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Highfield, R. : Šíp času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http://cs.wikipedia.org/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720" y="4267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Děkujeme za pozornos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Přirozená a kulturní evoluce - Úvo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ill Sans MT"/>
              </a:rPr>
              <a:t>Evoluce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– Obecný pojem používaný pro časový vývoj chování systému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V biologii se tento pojem používá pro Darwinovu vývojovou teorii,  podle které vyšší formy života povstaly postupným vývojem z forem nižších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ill Sans MT"/>
              </a:rPr>
              <a:t>Evoluce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je antientropický děj =&gt; směřuje proti narůstání entropie, tedy proti degeneraci a rozpad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eznáváme ji na základě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Hlediska výběru přiměřené časové šká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Určení nositele evolučních změ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Times New Roman"/>
              </a:rPr>
              <a:t>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25760" y="1339920"/>
            <a:ext cx="750168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ozvolný, průběžný vývoj  X  Revolu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rocesualita, aktivita, nevrat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Lamarck, Darwin + Wallace – evoluční biolog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6b5680"/>
                </a:solidFill>
                <a:latin typeface="Gill Sans MT"/>
              </a:rPr>
              <a:t>evoluční teor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vznik a vývoj života probíhal postupně hromadě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nahodilých změn a jejich sele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- kontroverzní téma – spory napříč společ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roblém evoluce – časové period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ředpokládáme, že evoluce přirozená vzniká se vznikem vesmír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Zářivé období vesmír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Hvězdné (látkové) období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vesmíru vedla ke vzniku biosféry včetně biologického předka dnešního člověk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postupuje „proti proudu“, proti rozpadu =&gt; potřebuje „výživu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Jak uvádí J. Šmajs: „</a:t>
            </a:r>
            <a:r>
              <a:rPr b="0" i="1" lang="cs-CZ" sz="2600" spc="-1" strike="noStrike">
                <a:solidFill>
                  <a:srgbClr val="000000"/>
                </a:solidFill>
                <a:latin typeface="Gill Sans MT"/>
              </a:rPr>
              <a:t>Evoluce tedy generuje, ruší a modifikuje prvky, komplexy, subsystémy a systémy tak, že diverzifikovaný celek svou narůstající uspořádaností stále úsporněji využívá svého omezeného evolučního zdroje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Např.: biosféra energii slunečního záření, kultura energii vynakládanou a uvolňovanou člověk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Celkový průběh evoluce biosféry neznáme =&gt; planeta Země tvoří jeden velký organism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Ve vývoji života zjišťujeme dva důležité filosofické momenty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Nerovnoměrnost v biotickém evolučním proces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1006560" indent="-4572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S. J. Gould: "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Po tři miliardy let byl nejvyšší formou života povlak prokaryont...pak, zhruba před 600 miliony let, se ve fosilních dokladech náhle objevují prakticky všechny stěžejní formy živočišného života, a to v průběhu několika málo milionů let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„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díl mezi uspořádaností informačně předepsanou  a nepředepsano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ill Sans MT"/>
              </a:rPr>
              <a:t>Uspořádanost jednotlivého organism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ill Sans MT"/>
              </a:rPr>
              <a:t>Uspořádanost ekosystémová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Šmajs: „</a:t>
            </a:r>
            <a:r>
              <a:rPr b="0" i="1" lang="cs-CZ" sz="2300" spc="-1" strike="noStrike">
                <a:solidFill>
                  <a:srgbClr val="464653"/>
                </a:solidFill>
                <a:latin typeface="Gill Sans MT"/>
              </a:rPr>
              <a:t>I mnohobuněčný systém totiž nutně vyrůstá z jediné buňky (zygoty) a jeho víceúrovňová organizace včetně procesu ontogeneze musí být proto zapsána ve struktuře jeho dědičné paměti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dílné uspořádání = rozdílné implikátní a explikátní paměti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nám pomáhá porozumě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„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řírodní konstruologii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„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ní konstuologii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cxnSp>
        <p:nvCxnSpPr>
          <p:cNvPr id="105" name="Přímá spojovací šipka 4"/>
          <p:cNvCxnSpPr/>
          <p:nvPr/>
        </p:nvCxnSpPr>
        <p:spPr>
          <a:xfrm flipH="1">
            <a:off x="2571480" y="3214440"/>
            <a:ext cx="2160" cy="5007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Kultura x příro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Gill Sans MT"/>
              </a:rPr>
              <a:t>Kultura 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– její uspořádanost organizačně jednodušší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Výhodou vnitřní informace, uložená mimo geny – duchovní kultura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a, jako nebiotický systém, je možný díky vlastní vnitřní informaci – duchovní kultuře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09:20:08Z</dcterms:created>
  <dc:creator>Martin Beleš</dc:creator>
  <dc:description/>
  <dc:language>en-US</dc:language>
  <cp:lastModifiedBy>Marek</cp:lastModifiedBy>
  <dcterms:modified xsi:type="dcterms:W3CDTF">2008-10-01T18:03:44Z</dcterms:modified>
  <cp:revision>72</cp:revision>
  <dc:subject/>
  <dc:title>Přirozená a kulturní evoluce</dc:title>
</cp:coreProperties>
</file>