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B08-3415-49A9-8C62-5059C9DE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8EB-7B8B-4F0B-8ED9-4646BEAF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E68-0C50-430B-82D5-05D367D1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508-0F99-4D5D-A3D6-54252B0F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E691-DD1A-4F7A-B0B7-2AF0EA79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6465-55B3-45EB-BFA8-C7AD4D6E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6872-065B-4635-8517-CB976E47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5155-C1D2-4AA1-8C14-87D0FE74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5954-1A6A-4DDD-8602-4B572E10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00FB-FF4C-44E1-9798-0C97BB3A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8494-E5D2-428D-A72E-F4289C6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5FF-628B-4263-8E1A-D60FB76A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449E-5D36-4E7F-871B-AD408904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D2A6-0AE0-41B8-A1E8-D8DAAE4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22B9-CB9A-40E2-B3E1-39463982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E146-021E-4289-B6F3-6E2BE13E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475E-0A0F-46B3-A923-F601274E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2E2-8C66-4830-8647-2ED4004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9B5-D12F-4151-961B-132ED3FF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007-EFF9-44F8-A68E-55A4626E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7F8-7619-4FD7-BD4C-A445BB68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BC3-FC92-4D56-AFD4-84786EC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ED2-7331-4812-902E-9A510EB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78E-1802-4800-9024-D14BBB6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E540-DDE2-43C9-BE1E-2589D6363B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1D6A-F1A6-45B0-9579-746BAB3E92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kologické aspekty industriální a postindustriální společnost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oscilace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516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álná možnost – populace ry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kolaps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445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i reálný svět – tendence k překmitu a kolaps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46400" y="2349360"/>
            <a:ext cx="48765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znaky překmitu: mizející suroviny, plnící se výpusti, přirozené mechanismy likvidující znečištění selhávaj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oky proti kolapsu: rychlé ochránění surovin, pokles průtoku energie a materiálu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změna struktury systé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y, technologie a 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n trhy a technologie nejsou schopny obstarat udržitelnou společnost (slouží společnosti – krátký časový horizont, růstové cí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souvání mezí pomocí trhu a technologií – možnost nárazu na několik mezí součas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tráta schopnosti zvládat situa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vody překročení: signály trhu jsou zkreslené a zpožděn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486900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6308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2360" y="837000"/>
            <a:ext cx="8424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sty k trvale udržitelnému systém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měna struktury – změna informačních vazeb, ne kvantitativní změn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ktura: sociální normy, cíle, kultur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ůležité: stabilizace populace, zrychlení odezev, hospodárné využívání zdroj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ím delší prodleva v zavedení – tím větší výkyvy v populaci, produktu, objemu potrav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ení nutné snižovat životní úrove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č se lidé obklopují materiálními statky – neuspokojení nemateriálních potřeb (úcta, porozumě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, ne však kola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revoluce: zemědělská, industriální, trvale udržitelná společ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 změnu společnosti jsou nutní čestní vůdci, lidé mluvící pravdu a lidé, kteří se stále uč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ři věří v trvale udržitelnou společnost a v přechod k 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mosfé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četnost lidstva a rozvinutost tech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koncentrace jejích základních slož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ákladní složky – skleníkové plyny, ozón, vodní pára,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xid uhličit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ztah Q oxidu uhličitého a výší tepl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zrůst Q oxidu uhličitéh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vzrůst tepl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556" t="28599" r="17355" b="28919"/>
          <a:stretch/>
        </p:blipFill>
        <p:spPr>
          <a:xfrm>
            <a:off x="3059280" y="3284640"/>
            <a:ext cx="23144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0658" t="1057" r="384" b="27438"/>
          <a:stretch/>
        </p:blipFill>
        <p:spPr>
          <a:xfrm>
            <a:off x="536400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oteplování neexistuj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2436" t="52154" r="9393" b="7427"/>
          <a:stretch/>
        </p:blipFill>
        <p:spPr>
          <a:xfrm>
            <a:off x="684360" y="256536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5445000"/>
            <a:ext cx="7693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šší teploty ve středově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5442" t="37179" r="9328" b="28013"/>
          <a:stretch/>
        </p:blipFill>
        <p:spPr>
          <a:xfrm>
            <a:off x="4932360" y="2492280"/>
            <a:ext cx="4211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Hurikány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vyšování jejich délky i intenzity i počtu i sí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uvislost s oteplování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nes versus 70.léta: ½ delší trván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+50%vyšší intenzi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25360" y="1927440"/>
            <a:ext cx="7184520" cy="50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viromentalismu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e zabývá vztahy mezi přírodou a společností. Usiluje o změnu společenských, ekonomických a politických mechanismů, které brání snahám o ochranu životního prostředí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vale udržitelná společnost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je taková, která uspokojuje potřeby přítomnosti, aniž by ohrozila uspokojení potřeb budoucích generací.</a:t>
            </a:r>
            <a:br>
              <a:rPr sz="2800"/>
            </a:b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vodn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šování počtu i intenz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plejší vod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↑Q vodní páry v bouřkových mrací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Část v jiných oblastech než obvyk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ř.Čína: jedna provincie sucha x sousední povod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zinárodní konflik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¼ světové produkce skleníkových plyn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6800kg emisí oxidu uhličitého ročně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Afrika 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ysychání jez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álky, genocida, hlado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iřování pouští (dezertifik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1970 zákon o čistotě ovzduš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ání permafrostu + požá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afrost = území na sever od polárního kru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 něm postaveny domy, silnic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infrastruk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si 1 000 000 kilometrů čtverečn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oty → vysušení půdy a porost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ejší vzduch → více bles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romadný zánik druh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0x rychlejší miz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zároveň působí negativně na krizi klima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čení amazonského deštného prales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yhynutí mnoha druhů + oxid uhličitý do atmosfé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ceán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jejich chemického slož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rtvé zóny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důsledek řas, znečištění lidmi, teplejší vod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lednutí korá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Zvyšování mořské hladi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formace vztahu civilizace a ekologického systém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Č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ulační exploze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 po potravinách, vodě, energiích, výr. zdrojíc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ědeckotechnická revoluce (neočekávané vedlejší účinky – jiné důsledky než se starou techniko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působ uvažování o krizi klimatu (dezinformace, cenzura, úpravy, podplácení, znevažová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tát + rady na závě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ď mají zelenou ti, kdo zeleně myslí. Přišla doba, kdy zlepšování životního prostředí vede k výnosům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effrey R. Immelt (předseda správní rady General Electri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y: efektivně svítit, energeticky efektivní spotřebiče, jejich správné používání a udržování, efektivní vytápění domů, izolace domů, šetřit teplou vodou, zelená energi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↓emise dopravních prostředků, recyklovat, kompostov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49320" y="1028160"/>
            <a:ext cx="77025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áclav 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673520" y="2852280"/>
            <a:ext cx="40132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odrá, nikoli zelená planeta“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76932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lobální oteplování je zásadním ideovým a politickým střetem současnos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Environmentalismus se stal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dominantní alternativou ideologií orientovaných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rimárně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na lidskou svobod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.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Environmentalismus je politické hnutí podobné socialismu, který 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se snaží omezit svobodu člověka a ekonomický růst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, podáváním zkreslených údajů, které jsou prostřednictvím tlaku médií lidem vnucovány.“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ozbou jednadvacátého století přestává být socialismus, je jí moderní zelená odnož socialismu, environmnetalismus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édia neposkytují dostatečný prostor protichůdným názorům, tudíž jde o ovlivňování postojů společnosti zájmovýni skupinami.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ročení mez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ce o změnách životního prostředí a přírodního bohatství, simuluje budoucí st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aha o rozpoznávání vzájemných vazeb v přírod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kniha 1972, 2. kniha 19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 je sledování mezí toků (energie, materiály) ne v absolutních hodnotá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budoucích variant –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k je to myšlen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6932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stup environmentalistů k přírodě je obdobou marxistického přístupu k ekonomickým zákonito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naží se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ahradit přirozený vývoj světa „globálním plánováním“ světového vývo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Jak by to mělo bý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třeba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echat probíhat přirozenou spontaneitu lidského vývoj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„protože jinak vše dopadne daleko hůře.“(V. Kla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oč by měly naše zásahy do spontaneity vývoje dopadnout hůř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ždý pokus „poroučet větru a dešti“ se zatím ukázal být dlouhodobě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eúčinný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, nákladným a k tomu omezoval lidskou svobodu.“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(pozn. aut.:myšleno jako kritika Keynesiánství? Zásahy do ekonomiky snad ano, ale jaké byly globální pokusy chránit životní prostředí v minulosti a jak dopadly?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Al Gore ve své newyorské přednášce (2006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čelíme planetární katastrofě“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 když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něco neuděláme během deseti let, nebude možné se vyhnout nezvratné zkáze obyvatelnosti planety pro lidskou civilizaci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.“(NewYorkUniverzityLawSchool, 18.9.06 </a:t>
            </a:r>
            <a:r>
              <a:rPr b="1" lang="cs-CZ" sz="1400" spc="-1" strike="noStrike">
                <a:solidFill>
                  <a:srgbClr val="003366"/>
                </a:solidFill>
                <a:latin typeface="Arial"/>
              </a:rPr>
              <a:t>– citováno V.Klaus, Modrá nikoli zelená planeta, s. 19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Tento výrok je zcela absurdní a má charakter poplašné zprávy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 ví V. Klaus, že tyhle informace nejsou postavené na vědeckém základě a pravdivé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elé dějiny naší planety včetně strukturace jejího povrchu jsou předmětem permanentních změn. V posledních několika tisících let je jedním z faktorů člověk a jeho činnost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odle environmmentalistů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e člověk „exogenním faktorem“ působícím na přírodní mechanismy.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Základní příčinu problémů světa vidí v samotném rozšíření druhu Homo Sapie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4760" y="97092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. Klau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nvironmentalisté, ač vycházejí původně snad i z dobrých úmyslů, snaží se zasahovat prostřednictvím přírodních věd do věd sociálně politických, což má katastrofální důsledky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6699"/>
                </a:solidFill>
                <a:latin typeface="Arial"/>
              </a:rPr>
              <a:t>(x návrh autorky k zamyšlení: jak by bylo možné odvrátit negativní ekologické dopady, pokud by se vědecké poznatky držely striktně na poli vědy a političtí reprezentanti podle nich nepřizpůsobili své program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hyn živočišných druh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evolučním vývoji planety přirozeně vznikají a zanikají živočišné druh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Úhyn živočišných druhů současné doby je normální a není třeba ho dávat za důsledek škodlivé činnosti člověka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eexistuje žádný předem daný oprimální stav světa, který jsme povinni chránit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ykácení prales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ou činností sice byly vykáceny pralesy, na místo nich zde však byly vytvořeny jiné, neméně kvalitní statky.“(technosfé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(pozn – nejslíš byly myšleny pravěké pralesy, které pokrývaly většinu pevniny, ne deštné prales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kologická doporučení Al Gor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kud bychom striktně dodrželi veškerá doporučení AlGora, tedy bychom se prakticky vrátili na úroveň před industriální společností, nejvíce patrným výsledkem by bylo, že by se obyvatelé Bangladéše utopili ne v roce 2100 ale až v roce 2115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Nejlepší politikou dneška je s mírnou změnou klimatu žít a podporovat ekonomický rozvoj, který nám vytvoří budoucí, daleko efektivnější technolog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nak řečeno: ochrana přírody ano, environmentalismus ne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áš 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blém je daleko složitější.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k chce V. Klaus chránit přírod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zmíněno v jeho závěru)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fektivněji, než globálním uvedením v realitu některých opatření environmentalistů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slí si snad, že svobodný člověk neomezený ekologickými normami na nějž není vyvíjen tlak médii se bude chovat ekologick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tuální situace, překročení meze nečekaně a neúmysl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činy: rychlý pohyb, změna, potíže s ovládání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sledky: havárie, náprava, zvolně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 překmitu může dojít k oscilaci, nebo ke kolap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: růst nemůže trvat věč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27640" y="837000"/>
            <a:ext cx="712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 zamyšlení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ž se v budoucnu dostaneme k efektivnějším technologiím přirozenou liberálně ekonomickou cestou, kolik živočišných a rostlinných druhů vymizí ze světa? A co když nastanou do té doby mnohem vážnější dopady změn klimatu, než jakých jsme svědky nyní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mezují ekologická opatření opravdu tak drasticky svobodu člověk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DOWS,D. H. et al. Překročení mezí. Praha : Argo, 1995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E, A. Nepříjemná pravda. Praha: Argo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AUS, V. Modrá, nikoli zelená planeta. Praha: Dokořán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3141720"/>
            <a:ext cx="76932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yní je prostor pro Vaše otázky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onenciální rů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e lidskou činnost – pozitivní zpětná vazba (zesilo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votní exp. růst - populace, kapitá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uhotný exp. růst ostatních veličin - poháněny lidmi a kapitá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lišení růstu čeho, pro koho, jak dlouh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bezvýhradný rů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764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řídla a výpu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ojení s mezemi, překračování mezí zřídel a výpustí, tok energií a materiál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řídlo: místo původu (ropné naleziště), výpust: místo vypouštění (odpadní vody, ovzduš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obnovitelných zdrojů: ne rychlejší než možnosti reproduk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neobnovitelných zdrojů: ne rychlejší než rychlost nahrazování novými zdro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škodlivin: ne rychlejší než rychlost zneškodně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enšení průtoku: zvýšení životnosti výrobků, pokles toků ze zří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ice „na konec potrubí“ (ne do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tický problém (která země více znečišťuj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ka růstu v konečném svět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programu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stiky modelu: růst, meze, zpoždění, erozní proce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modely pro populaci a fyzickou ekonomiku (2 stabilní a 2 nestabil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álý růst (stabilní mode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stický růst (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4:09:03Z</dcterms:created>
  <dc:creator>Liduska</dc:creator>
  <dc:description/>
  <dc:language>en-US</dc:language>
  <cp:lastModifiedBy>snoopy</cp:lastModifiedBy>
  <dcterms:modified xsi:type="dcterms:W3CDTF">2008-10-13T08:59:05Z</dcterms:modified>
  <cp:revision>19</cp:revision>
  <dc:subject/>
  <dc:title>Překročení mezí</dc:title>
</cp:coreProperties>
</file>