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81E1-1074-4329-AF6D-FB79BDA9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B652-7921-4A54-A868-2F614D83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7D71-FE01-4E68-B5A9-AD1CC12F9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6EDA-D631-4E41-A290-A85F230A0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905E-6EBC-40B7-94FF-E6B35C551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E146-11D2-4AB4-AB2D-DE7F41A7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3DCC-EA4D-4DEC-91D4-68237869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0631-31F1-4D54-B2E8-409711F8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4E0B-0D0A-4E5D-8F9A-94AF8462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23D9-4650-46E6-BBCA-3D659BF4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A0A0-840A-469C-8503-05BA1DAE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2231-31E5-496A-8EAA-120BF92A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BCFD-47DF-40D5-A2D4-276253E5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FC66-85AF-4826-84EB-840EBFBA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FA35-458E-4ECD-B3E0-572F7B40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3EF5-D11A-4EA8-8A62-509754AEC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288F-ACDB-4995-8C1C-078A91904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EA16DF-F209-40E0-A308-DDF0107F6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86C20B-C684-4C00-BB25-0228B945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633DF4-BD01-410A-9BDF-C509EF6B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001055-689C-4256-A3A1-011FFC9B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70915A-0D40-48F4-A00E-75102A99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D71E-7975-4D98-A24E-4B7D8C91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8A50D4-7A81-4E69-A125-6FB6D0C2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755ACD-B64F-4D61-B82D-522F7D8E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75E442-82B1-4F57-A8FD-7983EA1F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DC3FE3-A4BB-4D47-9D95-275EF955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06063B-06CC-4479-9C42-A33B6B43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56E938-15F8-432C-852F-ACB0EFF08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82FC48-7CC5-470E-BDC9-C590D1704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152AD7-9F14-4E8C-B86D-E0F770AF1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813F2E-862F-4F60-AFA0-C2F483CD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39636C-761D-48A0-89F8-82042566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1A23-7D88-451A-927C-A6AFFA7D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50B212-D130-4E4F-BFFB-1558C466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3CB0C0-9706-42A5-BE1A-207489C7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84D367-3109-4C3B-A775-51551327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DDF79C-5F45-41AF-8E41-FFC10BBA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9D3985-E1F8-4EC4-96FE-A3507406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AD9541-17F1-40BE-A7FD-EF8E6642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7E08D4-75F5-4D7C-B41A-B35045AC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C81AF5-D104-4C09-862E-55875FF9F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E81B23-9E27-4AAC-8E3C-55B7522B7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F63DBB-C684-433D-9F8F-70398ADC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A6B6-98B4-4BA3-8444-1714CA47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D72D2C-3B38-49CC-A6DB-59C0B688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744E10-F393-4D07-A044-740AE425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679587-9C27-4F85-A710-CC6BC232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FAE60E-DCC3-4F39-9DAE-56DBBFE9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86B401-4198-455A-9B83-B8CFACC9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A0EDF4-0EF1-41DB-89F7-E33D3D4B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C1BE03-B414-42EB-A13A-2B06C366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B60C06-2A5B-4231-A854-C2BEA751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390E09-F83D-4320-91F3-DEABF40D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EC0D1B-0E73-4265-8E7A-19F2C1251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2D2B-3B4F-4EA6-9BB7-0F468968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5E6E8D-9541-4573-956D-D87E7A882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FDEF6-FD64-4A02-B6EA-864461F59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628AB-841F-4A6B-A077-064EC9E2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92BE2-B675-46F4-A0BE-DE220357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7E852-641F-4408-8EEC-C0950E3C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1926F-4859-4216-88BF-579E1E3A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1D41D-1DC5-470B-A253-25B044FC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D4B3F-6855-4E9C-9DBE-47B8AA5C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558AB-6DAC-4A15-B9C4-CC804201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ABFAE-A8AD-46E2-B6CF-5DDED50F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6C67-C013-41E2-BD44-5734A8DE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41215-443C-45FD-BEFA-017FAAA5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4C233-CF96-4074-B8AF-9EB3C1D82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C83C4-6AFE-48E8-A2CC-4B913164A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87DD6A-0E46-4A96-9294-0FB75D4AC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38FC82-6E58-44D7-8D04-CD9F2957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F75118-93FE-4395-8590-A7F6DEAE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29E7FC-D431-45ED-9F83-060FB8DC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6C25C0-4793-4970-90DD-2DC1F7D0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B82E57-3579-4C80-A909-9016AF73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F1C15C-9F25-471D-A98F-CB35213D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A1EF-1309-4A40-B56D-0363B5C5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4BC9DE-9B76-4546-8B6A-D93CFCC6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0A4311-A882-4FC0-A746-D2DBF115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CBA010-A58A-4036-8BBE-2C9554CE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A76E02-D62C-4C1E-9CBB-727EAF83D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DBE932-861A-4251-899B-3AE1D45E4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FA29B-7E40-4C14-8C41-91C4DE862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D09F6-1674-4AFA-BA9C-6AD933AD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73DB4-8F29-4809-A3DD-7F1A22CD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FC3A5-2097-400B-BF61-3476A107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9FBCC-568E-4D10-9DCB-165C3A00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A0F5-8B57-46CB-81E7-8F2A3276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2A468-B856-4FA1-90AA-DAB23389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6F3CB-47B1-4FC6-9AE6-85AC3CCE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3C4E8-1C38-45D3-9C19-E987791C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319A6-C1F7-4366-82A9-38A68FD1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CDDBC-526A-4B51-8A74-3CBE9409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A858E-AF3F-492B-86C2-46FB866C6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1CFBF-AC2C-435E-85D3-E412286C4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36C2-ED14-47A2-8A38-426E2F084156}" type="slidenum">
              <a:rPr b="1" lang="cs-CZ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délní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C062-2B14-45E7-9BE3-3CE6E9A1A97C}" type="slidenum">
              <a:rPr b="1" lang="cs-CZ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bdélní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bdélní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délní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9A0C-F898-4D6C-AD3E-DA1F9E5B4301}" type="slidenum">
              <a:rPr b="1" lang="cs-CZ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B928-A2D4-4C88-B16A-71CE75B7D7EE}" type="slidenum">
              <a:rPr b="1" lang="cs-CZ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CFC9-02E9-4DCD-BD56-1CD2AC0300E5}" type="slidenum">
              <a:rPr b="1" lang="cs-CZ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66C2-5781-41CE-84A1-5399F3D96C8C}" type="slidenum">
              <a:rPr b="1" lang="cs-CZ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Obdélní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bdélní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3E27-F37D-4DBF-9982-6F4C7ECCCD28}" type="slidenum">
              <a:rPr b="1" lang="cs-CZ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Obdélní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bdélní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bdélní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9235-C8AF-4614-A350-8555576F2BE7}" type="slidenum">
              <a:rPr b="1" lang="cs-CZ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bddc3"/>
                </a:solidFill>
                <a:latin typeface="Tw Cen MT"/>
              </a:rPr>
              <a:t>EVOLUCE JAKO HRA S NENULOVÝM SOUČTEM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w Cen MT"/>
              </a:rPr>
              <a:t>Pavel Hasoň, Zuzana Jurková, Milan Kedroň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Simulace na starších počítačích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1. Vymizeli strategie absolutně dobr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2. Triumf zlých pouze dočasný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3. Vítězem půjčka na oplátk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k neznámému se zachová dobř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 dalších kolek pak kopíruje jeho chování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Důvod vítězství: zlé je podvedou jenom jednou, poté se už podráží vzájemně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Simulace na nových počítačích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Byla zavedena možnost chyby strategie“náhodný šum“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ůjčka na oplátku poražena strategií, která je ještě hodnějš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Schopnost odpouštět – zradu v průběhu hry jednou přehlédnem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Robert Wrigh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Žije ve Washingtonu, D. 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Autor článk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The New York Times Magazine, The Atlantic Monthly,…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National Magazine Award for Essay and Critis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Spisovat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íc než nic, Logika lidského osud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Morální zvíře: Evoluční psychologie každodenního život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Tři vědci a jejich bohové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Víc než nic, Logika lidského osudu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w Cen MT"/>
              </a:rPr>
              <a:t>Evoluce lidských společností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w Cen MT"/>
              </a:rPr>
              <a:t>Kam je unášeno lidstvo ve svých dějinách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w Cen MT"/>
              </a:rPr>
              <a:t>Využívání teorie her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w Cen MT"/>
              </a:rPr>
              <a:t>Vývoj historie lidstva = nenulová hra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w Cen MT"/>
              </a:rPr>
              <a:t>Lidé jsou svazováni stále větší vzájemnou závislostí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w Cen MT"/>
              </a:rPr>
              <a:t>Naznačuje, k čemu pravděpodobně dojd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7" name="Zástupný symbol pro obsah 7" descr="wright.jpg"/>
          <p:cNvPicPr/>
          <p:nvPr/>
        </p:nvPicPr>
        <p:blipFill>
          <a:blip r:embed="rId1"/>
          <a:stretch/>
        </p:blipFill>
        <p:spPr>
          <a:xfrm>
            <a:off x="5500800" y="2000160"/>
            <a:ext cx="2379600" cy="35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Víc než nic, Logika lidského osudu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Příklad lovců a sběračů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Soupeřit o místa vysoko na společenském žebříčku znamená hrát hru s nulovým součtem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Jedním ze způsobů, jak v soupeření uspět, je objevit technologie, které vytvářejí nové hry, avšak tentokrát se součtem nenulovým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Příklad války – i zde nenulovost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Vývoj společností míří neustále kupředu, což potvrzuje teorii nenulového součtu jako výsledku vývoje společnosti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Citace z knih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Výhody získané z nenulových součtů organizovanost společnosti značně zvyšují. Účast v úspěšné hře s nenulovým součtem obvykle už sama o sobě znamená nárůst společenské složitosti. Od hráčů vyžaduje, aby koordinovali své chování. Lidé, kteří by jinak žili sami ve svém světě, se dají dohromady a vytvoří jeden uspořádaný celek, ve kterém se navíc téměř vždy uplatní dělba práce.“ </a:t>
            </a: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*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Tw Cen MT"/>
              </a:rPr>
              <a:t>* Str. 29, Robert Wright – Víc než nic, Logika lidského osudu, nakladatelství Lidové noviny: 2002, ISBN 80-7106-433-5, 457 s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Použité zdroj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Robert Wright – Víc než nic, Logika lidského osudu, nakladatelství Lidové noviny: 2002, ISBN 80-7106-433-5, 457 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b0f0"/>
                </a:solidFill>
                <a:latin typeface="Tw Cen MT"/>
              </a:rPr>
              <a:t>http://encyklopedie.seznam.cz/heslo/183426-clove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b0f0"/>
                </a:solidFill>
                <a:latin typeface="Tw Cen MT"/>
              </a:rPr>
              <a:t>http://rubriky.cz/darwinova_evoluce_a_inteligentni_plan.php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b0f0"/>
                </a:solidFill>
                <a:latin typeface="Tw Cen MT"/>
              </a:rPr>
              <a:t>http://www.scienceworld.cz/sw.nsf/ID/51121AEBBE0CA003C1256E9700489BE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b0f0"/>
                </a:solidFill>
                <a:latin typeface="Tw Cen MT"/>
              </a:rPr>
              <a:t>http://is.muni.cz/th/98689/fi_b/kooperace.tx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775f55"/>
                </a:solidFill>
                <a:latin typeface="Tw Cen MT"/>
              </a:rPr>
              <a:t>Evoluce jako hra s nenulovým součtem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Úvo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Evolu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Teorie h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WRIGHT, R. Víc než nic. Logika lidského osudu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4" name="Obrázek 3" descr="evoluce.jpg"/>
          <p:cNvPicPr/>
          <p:nvPr/>
        </p:nvPicPr>
        <p:blipFill>
          <a:blip r:embed="rId1"/>
          <a:stretch/>
        </p:blipFill>
        <p:spPr>
          <a:xfrm>
            <a:off x="2714760" y="2071800"/>
            <a:ext cx="61513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Evolu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Stáří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esmíru – 13,7 miliard le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lunce – 4,7 miliard le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Země – 4,6 miliard le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Život vznikl před 3,5 mld le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3 miliardy let byl pouze jednobuněčný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„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Moderní“ člověk - </a:t>
            </a:r>
            <a:r>
              <a:rPr b="1" i="1" lang="cs-CZ" sz="2900" spc="-1" strike="noStrike">
                <a:solidFill>
                  <a:srgbClr val="000000"/>
                </a:solidFill>
                <a:latin typeface="Tw Cen MT"/>
              </a:rPr>
              <a:t>Homo sapiens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- asi před 200 000 le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Evolu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Tw Cen MT"/>
              </a:rPr>
              <a:t>Darwinova evoluce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(Darwinismus) vs. </a:t>
            </a:r>
            <a:r>
              <a:rPr b="0" i="1" lang="cs-CZ" sz="2900" spc="-1" strike="noStrike">
                <a:solidFill>
                  <a:srgbClr val="000000"/>
                </a:solidFill>
                <a:latin typeface="Tw Cen MT"/>
              </a:rPr>
              <a:t>Inteligentní plán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(Intelligent design)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Darwinismus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(150 let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šechny organismy jsou modifikovaní potomci společného předka, kteří vznikly akumulací náhodných odchylek a neřízenými procesy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Inteligentní plá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z empirických důkazů lze některé rysy přírodního světa nejlépe vysvětlit pomocí inteligentní příčin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Fak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neexistuje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vědecký důkaz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, že živočišné druhy se vyvinuly ze společného předk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Darwinismus se neopírá o jediný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vědecky prokázaný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fakt, který by pokrokem ve vědě nebyl vyvrácen – vědecký konsensu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Poměr 500:700 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mezi odpůrci a příznivci darwinismu z řad renomovaných vědc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Z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fosilních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nálezů není možné za žádných okolností určit, kdo z nich je předek, kdo potomek, kdo otec, kdo sy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Fak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řítomnost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informace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v DNA vylučuje náhod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Bičík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trávící bakterie – Musel  být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rovnou sestaven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podle konkrétního plánu takový jaký je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Srážlivost krve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relizovaná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kaskádou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proteinových moleku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Darwinisté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bojkotují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publikování ve vědeckých časopisech práce ne-darwinistů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Evoluční hra a evoluční strategi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Nevztahuje se jen na biologické chování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Evoluční strategi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ztah k produkci potomstva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míra podstupovaného rizika – spojitost s finančními trh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Evoluční strategi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yužívá počítačové modely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čím úspěšnější, tím více potomků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Vězňova hr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Dva vězňové, čtyři možnosti řešen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nejvýhodnější pro nás já jsem zlý, on je dobrý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nejméně výhodná je opačná strategi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lušná výhoda při kooperaci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mírná prohra při vzájemném podraz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Zdánlivě se vyplatí podvádě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Ale! Při vzájemné kooperaci „body navíc“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Podmínky simula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Nekonečná hr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Dokonalá paměť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Čím více bodů, tím vícekrát strategie v dalším ko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Řada přednastavených strategi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8:13:04Z</dcterms:created>
  <dc:creator>Pafča</dc:creator>
  <dc:description/>
  <dc:language>en-US</dc:language>
  <cp:lastModifiedBy>Pafča</cp:lastModifiedBy>
  <dcterms:modified xsi:type="dcterms:W3CDTF">2008-10-01T11:42:18Z</dcterms:modified>
  <cp:revision>22</cp:revision>
  <dc:subject/>
  <dc:title>Evoluce jako hra s nenulovým součtem</dc:title>
</cp:coreProperties>
</file>