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2F9-40D5-4A84-BAAC-00A3677E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D81-C1AC-4512-B6BA-0663DAEC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3A0-1E1A-4DDB-AFB7-87D13DC4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81E-C1E9-47E9-82F6-AC123AB9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1625-B1D8-4F94-BBA2-C3366D04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A59-4A95-4F81-82ED-DD004B7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97FB-8278-4FCA-9CCF-65DAEFE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C03C-F0AC-46E7-BED8-C00A0D2E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0257-DC9A-4A29-8916-8977C8D3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B6AF-38C1-4F6B-ABE4-5A789CC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639F-3117-4E00-9298-FFB8774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140-5961-48D3-B9B6-915FEF7A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5D89-412B-4295-940E-CB1CB086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E733-6F71-48A4-818C-816F5FA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D8A-010C-43F3-A345-E9D49142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A3F6-560E-4E55-A24E-710179B0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F53B-20AC-47FA-A21D-727DD8C0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E11-7119-48F0-8665-6F65CFB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DC9-FF1D-4B1C-8CAE-B445EBA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269-F9D5-4239-AA60-1799159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A4C-6293-4695-A91E-38068B30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E28-F024-4025-989E-428CEE2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BF8-A9E3-4FB1-BDF4-1B54DF9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EDA-CD5A-46E3-985C-8ABC3F2D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976-7049-4C63-B067-8DD86E6BE2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1274-BA07-4240-8E12-1DD6849E1A8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řetí vlna a její důsledk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84240" y="4578480"/>
            <a:ext cx="59817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Linda Khal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Zuzana Soóki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 a poli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ruhá vlna: centralizovaná byrokracia, nukleárna rodina, masový vzdelávací systém, veľké korpor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Tretia vlna: pozeranie sa do budúcnosti, väčší podiel duševnej práce, heterogenita, malé a mladé podniky, 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  <a:ea typeface="Arial"/>
              </a:rPr>
              <a:t>↑investícií, podpora sektoru služi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Stavebné princípy vlád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234900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Moc menší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lopriama demokra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ľba dec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Použitá literatú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TOFFLER, A. – TOFFLEROVÁ, H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Nová civilizace - Třetí vlna a její důsledky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Praha: Nakladatelství Dokorán, 2001. 125 s. ISBN 80-86569-00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POE, R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Třetí vlna – Nová epocha network marketingu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Brno: Nakladatelství Jiří Alman, 1998. 255 s. ISBN 80-86135-03-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BLAŽEK, L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Sylaby k jednotlivým tématům zveřejněné na www stránkách Ekonomicko-správní fakulty 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www stránky: http://www.park.cz/ke_treti_vlne_alvina_tofflera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366"/>
                </a:solidFill>
                <a:latin typeface="Arial"/>
              </a:rPr>
              <a:t>Ďakujeme za pozornos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77000" y="20934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ývoj spoločnost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á vlna – vznik pred cca 10 000 rokmi, zemědelská revolú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á vlna – vzn. pred 300 rokmi, priemyslová revolúcia 18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tia vlna – vznik v USA v 60. rokoch 20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ívlastky: informačná, znalostná, digitá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ciálne, kultúrne, politické a morálne zme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Havný konflikt súčas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Stret civilizáci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álka medzi záujmami 1. a 2. vl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 súčasnosti 3 súperiace civiliz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Demasifikácia spoloč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Upustenie od masovosti 2. vln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ýroba, marketing, médi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Heterogenita spoločnosti 3. vl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Informatizá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ormačná spoločnosť, komputeriz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droj bohatstva: 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Arial"/>
              </a:rPr>
              <a:t>Hlavné princípy ekonomiky 3. vl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arastajúca nezameniteľnosť profesií, požiadavky na špecializované doved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ovácie, reeinge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raštruktúra: elektronické komunik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280" y="2276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ezamestnanosť sa presunula od kvantitatívnej ku kvalitatívne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araďovanie pracovníkov do kategórií podľa miery spracovania symbolov a duševnej prá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telektuálne“ versus „neintelektuálne“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Kritériá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2565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ripomína to továreň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uje to spoločnosť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Koľko vajec je v košík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Je to vertikálne, alebo horizontál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racia to domovu sil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29:21Z</dcterms:created>
  <dc:creator>snoopy</dc:creator>
  <dc:description/>
  <dc:language>en-US</dc:language>
  <cp:lastModifiedBy>snoopy</cp:lastModifiedBy>
  <dcterms:modified xsi:type="dcterms:W3CDTF">2008-10-13T11:25:02Z</dcterms:modified>
  <cp:revision>45</cp:revision>
  <dc:subject/>
  <dc:title>Třetí vlna a její důsledky</dc:title>
</cp:coreProperties>
</file>