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188-3BDE-4E3B-8EB0-E451B0DF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9B5-9F75-427C-8EC0-F796443D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682-2174-4AF4-A015-391B03F3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905-EC4D-47CD-8D65-D83D7B4C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DAF5-7853-4774-A982-E4937676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2815-1ACA-4D8D-AD22-2F7B7042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03ED-00DF-4D4E-8A18-CCDAC94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779A-90A8-493A-A01D-30221CE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3428-FC65-4F87-83FA-34BDFE09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142C-A19B-4120-8F08-EE070937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55B2-317F-4A34-9040-C04CECFC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CE5-C281-41F1-8E36-97FDE3A0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4DE9-FAD6-48A2-8F60-02CF622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EEA2-2AAC-4327-801F-1CD48F8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56AD-E5A4-48F0-88C5-8F771DC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CD8B-8550-4687-BFBD-82F94895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0430-00CB-4E3E-8634-B06E3427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A71-44B8-41B2-8DB8-0EFB8E3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6BA-EC01-41D2-82D1-678512BD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EEB-3E83-4A91-A93C-01DE3EA8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0C8-ED1B-4F59-A5C8-4AEAB591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46F-A75E-4B7E-9850-FA130ED2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8E4-4C4C-474A-9BBB-ABAE77C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05E-12F7-4E32-B036-4F51A5D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903-8605-4D65-B667-C382CE6C2B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EF3B-92D6-4CB6-9C28-175BCDE191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řirozená a kulturní evoluce a konflikt mezi nim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c. Zbyněk Jančú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filozoficky důležité mome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atňuje se nerovnoměrnost ve vývoji: pomalé fáze jsou střídány rychlými evolučními skoky (prudké vzestupy po dosažení jisté prahové hodnoty vývo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íl mezi informací předávanou mezi organismy a informací předávanou v rámci eko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íky pokroku ve fyzikálních a biologických vědách začínáme částečně chápat obecná pravidla přírodní konstru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rozdíl od obecně rozšířené Newtonowské teorie je třeba přírodě přiznat spontánní evoluční tvořivost, posvátnost, schopnost reprodukovat biosféru včetn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ke svému životu a vývoji nutně potřebuje přírodu, avšak příroda se bez člověka snadno obej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533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a – organizační a funkční opozice vůč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přírodě závislý systé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ád který vznikl z řá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dosaženou úroveň přirozené pozemské evoluce nenavazuje – není jejím pokračo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rozená biotická evoluce nevrcholí jen v jedné linii, tj. člově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počátku nebiotickým systém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ze člověkem generovaný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račovatelem genetické evoluce, ale jiným prostředk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á aktivita strukturované pospolitosti lid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itutivním činitelem kultu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o systém se  samovolně reprodukuje a rozví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vyšuje poznávací , regulační i produktivní schopnost jedinc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konstitutivní informací kultu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uje kulturní společen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áže obrátit dílčí přírodní síly prot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émový charakter kultury duchovní složku kultury nejen podněcují a rozvíjejí, ale také omezují, transformují a ruš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álním živočišným dru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 biologická prosperita závisí na celkovém „zdravotním“ stavu celé biosfé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ký předek člověka byl ale vybaven přirozenou evolucí k zažehnutí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činnost sice generuje všechny úrovně a linie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 je ale jako bytost v individuálním projevu jejím podřízeným prvk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lečenské subsystémy se stávají přes svou existenční závislost na člověku značně autonomními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 výsledcích činnosti lidí se potom projevuje i to, o co lidé neusiluj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závislost na kultuře se zvyšuje. Systém vytváří své nové prvky, části a subsystémy (instituce, organizace,...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olitická r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ila téměř všechny druhy dnes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důkazem předností i omezených možností  nepřímé ontické tvořivosti 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ohla být dílem samotného individ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a z přírodního řádu částečně vyřadi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mach přímé ontotvorné síly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od instrumentální práce k práci strojové - prudký spontánní vývoj abiotické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lenění  do produktivního procesu hlavně neživé přírodní struktury a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omadné čerpání neobnovitelných přírodních zdrojů Ze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imulace produktivně zaměřenou přírodní vědou (sociální objednávka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tězí panský postoj člověka k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ie vývoje druh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lověk jako součást pří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voj člověka jako kulturní byt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ní r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t mezi kulturou a příro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avení člověka mezi n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industriální fáz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otvena v racionalitě klasického obdob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ložena na lidském fylogeneticky omezeném a deformovaném poznání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znikají méně agresivní technologie vůči příro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kový charakter postoje k přírodě se příliš nem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šiřuje se nebezpečná spotřební orientace v životním způsobu lidí – vychází z tradičního liberálního práva člověka na vlastnictví a ničím neohraničenou spotřeb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dá se, že institut soukromého vlastnictví řešení ekologické krize znemožňuje (liberální právo člověka na půdu konstruováno antropocentrick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ální ekologická krize je konfliktem přirozeného a kulturního řádu, je dosud neznámým typem krize evolučního úspěchu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totiž není pánem tvorstva, správcem či pastýřem bytí. Není dokonce ani partnerem Země. Je jejím prvk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a jeho kultura nemůže ani vytvářet proměnlivost, ani jí zabrá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ůže jen zachovávat a hromadit odchylky, které mu poskytuje příro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 – vlastní náz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jako hlavní činitel evoluce a vývoje druhů přece jen na některé části nemůže pojmout. Při rozvoji kybernetiky a robotiky to v budoucnosti možná bude právě a jen člověk, který tuto novou kulturu bude vytvářet, formovat a určovat její odlišení a adaptovat ji na změny podmí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é je však i to, že příroda sama tuto vývojovou větev považuje za neperspektivní nebo i schopnou ohrozit ostatní dru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2000. 188 s. ISBN 80862027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hrožená kultura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vyd.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1997. 209 s. ISBN 80859065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otřebujeme filosofii přežití?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vyd.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rno: Doplněk, 2008. 104 s. ISBN 97880723922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RWIN, Charles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vyd. Praha: Academia, 2007. 576 s. ISBN 97880200149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NT, Imanue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ritika čistého rozum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 OIKOYMENH, 2001. 568 s. ISBN 8072980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Šmaj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hrožen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třebujeme filosofii přežit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 vzniku druhů přírodním výbě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chápána jako přirozenost, tj. adjective (formaliter), znamená souvislost určení nějaké věci podle vnitřního principu kauzality. Naproti tomu substantive (materialiter) rozumíme přirodou úhrn jevů, souvisejících zcela podle vnitřních principů kauzality“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, s.2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2207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popisuje přirozenou evoluci druhů jako teorii přírodního výběru, čili přežití nejsilnějš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miňuje přirozený výběr schopností adaptovat se na změny životních podmínek (klimatické změny, zavlečení nového druhu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životních podmínek zvyšuje proměnli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4335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člověk může přispívat k přírodní evoluci (viz. Domestikovaná zvířata, šlechtění zemědělských rost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šem příroda tak může činit mnohem snadněji, neboť má pro svou činnost neporovnatelně více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rozená evoluce podle Darwina má autoregulační schopnosti: žádný druh nemůže dominantně převážit nad ostatní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: Teorie upírů (kritika Brama Stokera – román Dracu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 rozšiřováním druhu roste i počet jeho přirozených nepřátel nebo přichází úbytek potr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řirozená evoluce – přírodní výbě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azně lze říct, že přírodní výběr den co den a hodinu co hodinu zkoumá na celém světě každou, i tu nejmenší odchylku, zavrhuje špatné, zachovává a rozvíjí dobré, nehlučně a nepozorovaně pracuje „kdekoliv a kdykoliv se naskytne příležitost“ na vylepšení každého organizmu ve vztahu k organickým i neorganickým podmínkám život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, s.106-1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950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filozofického pohledu je klíčovou otázkou rozvoje života funkční začlenění subsystému vnitřní informace do živ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íky tomuto se vytvořila hranice mezi živým a neživý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ložení vnitřní informace umožnilo živým systémům budoucí rozvoj oproti neživé kultuře a schopnost měnit své vlastnosti zároveň se změnami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01:49Z</dcterms:created>
  <dc:creator>Michal Pavlík</dc:creator>
  <dc:description/>
  <dc:language>en-US</dc:language>
  <cp:lastModifiedBy>Ondřej Částek</cp:lastModifiedBy>
  <dcterms:modified xsi:type="dcterms:W3CDTF">2008-09-29T10:16:59Z</dcterms:modified>
  <cp:revision>27</cp:revision>
  <dc:subject/>
  <dc:title>Přirozená a kulturní evoluce a konflikt mezi nimi</dc:title>
</cp:coreProperties>
</file>