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8C2A-13A2-40FB-92BF-EF2F3030D3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8AAA-ACF7-4B14-8E7B-E0C86CA3F9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AC8A-5C30-4EF5-9686-F4F67095BA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E2F6-ED19-49CB-A0DD-4E10791CA3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E53-3305-4CBB-8536-C431178500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2A73-2C66-4B78-A4D2-2004AD914C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10E2-4A70-42FF-A843-C29C55C2D6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D9BF-E6E0-484C-8A94-23F05F4339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33E6-C08E-4C91-A154-024A679F06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89D-5EFE-4AE2-970E-CAA7AFD5EB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EF9E-E1EE-4963-9E3E-BA5FDC49C1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8A9-932C-4983-8BF2-1DCC8ABD03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6639-1921-4CCB-9C22-925DA5D53B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4BA-C120-4DF4-893F-5D070A43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754-01DD-4C55-A974-69975408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CA6-8416-4EE9-AB61-809513D7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F1E-E741-4C30-835B-A292B9C9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4AC4-D4B9-4B47-B26B-BA66A246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2634-43EA-4E2D-B252-8064EC2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BF15-EA10-4AEE-9D1D-FCDE1695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DE27-F136-430D-A6BC-7BE6F93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1368-0C68-412A-9C80-B8B0B2A6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C970-7907-4F84-AC54-06F72FD3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4807-FBFD-41DF-AEB2-5C2E52F6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ED5-21BC-4C3B-AD54-6D9FF98E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1956-CB4D-4C55-8B98-DB7C29D7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A716-CA92-4C3A-9C8B-2531D4C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9165-6AF6-47D1-8D91-614FE4CB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1FFF-5BBF-42F6-B7E6-4E07F82A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05D3-0AD5-40CB-859A-4C82AD87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04D-1E9E-4702-B0C7-986A989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861-906F-4101-91AF-60DE44FA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631-C9A8-4CE6-8888-CE0DDF65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348-B168-4B8D-B243-A0B766E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F5C-ECBC-49DB-A090-5931FC6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DDF-56E8-4927-A46C-50EBE05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10B-4E7F-49D7-B71E-20340C1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79F6-9BB6-4397-8C2F-3F757C8939A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ADFE-76B1-43E9-B56E-DA72AFEFF2C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8920" y="5013000"/>
            <a:ext cx="32720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Hana Drozd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ára Ottich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EMOKRACIE PRO 21. STOLET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á demokracie (reprezentace a sebeprez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a decize (delegace práva rozhodov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chází generace „tvořen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FFLER, A., TOFFLEROVÁ, H. Nov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ivi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raha : Dokořán 2001. ISBN 80-86569-00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VIN A HEIDI TOFFLER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, korespondent Bílého domu, nositel čestných doktorátů v oboru právu, humanitních a přídorních věd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eidi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ka, nositelka četných vyznamená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olupracují s několika předními politiky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ROČ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vlna - „zemědělská“ revoluce (zhruba před 10 000 le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vlna - „průmyslová“ revoluce (od 18.stole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vlna - „informační“ revoluce (v USA od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55 - v USA počet bílých límečků poprvé v dějinách převýšil počet modrých límeč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stále zrychlující se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O JE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té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“továrnu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 (delegace pravomo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 nebo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Návrat k rod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ŘETÍ VLNA PODROBNĚ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ní faktory: po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hmotné hodnot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získávat, generovat, distribuovat a aplikovat poznatky (nehmot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asifikace: demasifikace celé společnosti (diverzita produktů, segmentace tr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řeba kvalifikovaných lidí, růst požadavků, rekvalifikace, soukromé VŠ, personální ag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ovace: pro soutěž nezbytná neustálá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ítko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struktury, nové typy podniků (joint-venture, holdingy), orientace na proc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ová integrace a infrastruktura: elektronická komunikace, nové formy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ychlení: místo úspor z rozsahu úspory z rych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 TOHO PL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zaměnitelnosti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un od kvantitativní ke kvalitativní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nik čistě manuální práce, vznik kognitari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dělení ekonomiky na sektory, rozpad profesních kateg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menší počet inteligentnějších pracovních 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L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otní konflikt: civilizace první vlny X civilizace druhé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nes: střet civilizací první, druhé a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ě střet mezi druhou a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91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OCIALISMUS DOPLATIL NA STŘET DRUHÉ A TŘETÍ VL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“Hardware” x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důsledkem aktuálního střetu druhé a třetí vlny v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en tábor chce zachovat nukleární rodinu, masové vzdělávání, obří korporace, masové odbory, centr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je pravým opakem (liberalizace, důraz na I + D, decentralizace, informace, poznání, nové typy rod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asifikace volič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10:12Z</dcterms:created>
  <dc:creator>Klára</dc:creator>
  <dc:description/>
  <dc:language>en-US</dc:language>
  <cp:lastModifiedBy>KRI</cp:lastModifiedBy>
  <dcterms:modified xsi:type="dcterms:W3CDTF">2008-10-15T22:00:01Z</dcterms:modified>
  <cp:revision>11</cp:revision>
  <dc:subject/>
  <dc:title>Třetí vlna a její důsledky</dc:title>
</cp:coreProperties>
</file>