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B76-38DE-42A2-8426-BF352BDC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AAD-7FC9-47A4-ABDD-1C53BD30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463-42CB-4304-A11C-14F62571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1A3-281D-46EC-BF34-109D94C6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073A-C645-49BB-BD69-9F8A6945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74C2-2B94-49C8-B24B-F6A7C756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168C-ED9F-4E4A-B06D-B94E72ED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9EE7-DC8E-4B68-AA84-473D2BB8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FF37-8565-4B0E-AC97-05205048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9340-5443-447A-8B40-A298484B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AAE4-BF7E-45DC-B77D-92FB626E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5F7-F490-40CD-8C27-A9EF62A2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7998-32AB-473C-AE4D-EC7C6FE1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9A0E-ED4E-447F-BB64-A9A69B70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E1F0-2B07-4F9D-928A-8ED94982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4F68-1971-4C87-9CD7-1D693A0D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1911-5813-40A1-A8D7-DF0F2BB6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9B039-EE9A-4EDC-B303-C1322B37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7302-4CDB-480D-BEBE-9376F747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27BA4-A1A3-41B1-ACF1-BB49BC37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AF9FE-C076-4784-B8CF-CD16A411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7D68-5575-4F01-8CB1-0B3FDE2B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79B-A52D-49A8-83C1-359FAB77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B0E25-F850-44E6-AA54-6C9C985F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42670-6C5A-40D8-B3CC-264815DE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8CB79-5F19-489B-880A-E8F94FCC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41908-937B-454D-84B2-94573E48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44242-F29B-49DA-8B2E-5DE0201A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A03D3-81A1-4BE0-8AAE-5D881811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49FFF-DC80-4E69-89CA-B0078AF1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8358-273C-4B1E-84D8-E7531EFE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1884B-EBF7-493F-8954-2A31047B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E11FD-07D0-4FAD-88D7-085F877B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C6BB-8B00-4F61-8DE4-3F69E6EC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ECF6F-4E67-4B09-BBDF-1E81D0E4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E12C2-70B6-4528-B70A-9D8B5916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91440-422D-494D-9CB0-5981315A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921B9-9E3B-4A16-8863-41EF21CF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54AB1-5370-4F9D-A9A7-DC7FCD90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9126-3A31-4D8C-9F2F-E6E651B8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51892-7476-421B-A3AF-02245B34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D603F-B8C4-4C9C-A805-D1BB31F2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E7E04-E8EF-4EF3-B1FD-07CD59A0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9D21-B2BD-4144-B3FE-4F3F630B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5E9-80FF-4037-8CE3-D9FEA12A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06C-928C-4394-8DEB-529C5785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5C0-5025-4D72-BE1B-64F4C3B5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3D3-4214-42D7-8522-19E02240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4094-7B07-44AB-8394-2AD1FD58BFCD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FA75-A17E-458B-9378-16E38C21D111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7643-310C-4F86-ADCB-7D8356FB080C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2988-E9AA-4FE4-A993-6813FADAF70A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5000760"/>
            <a:ext cx="7854840" cy="909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áclav Klein, Vít Zouhar, Robert Kund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Děkujeme za pozornos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0040" y="4571640"/>
            <a:ext cx="822960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CO JE TO NENULOVÝ SOUČET?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AM je unášeno lidstvo ve svých dějinách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á nějaký VYŠŠÍ SMYSL?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WRIGHT: Vývoj, evoluce má svůj směr a cí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BERGSON- ELÁN VITAL- pohání živé hmo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TEILHARD de CHARDIN-dějiny lidstva směřují k bodu omega, ten je umístěn mimo prostor a č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íliš nadpozemské??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ALE…Správná základní myšlenka 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Evoluce organismů má sklon vytvářet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složitější formy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a stejně i lidské dějiny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íhnou k vývoj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stále větších a složitějších uskupení-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noosféra, globalizační vesnice.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ZE SMĚŘOVÁNÍ NA KTERÉ BERGSON A DE CHARDIN UPOZORNILI VYSVĚTLIT VĚDECKÝM ZPŮSOBEM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podle Wright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AN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POVĚĎ BY PODLE WRIGHTA MOHLA BÝT V TEORII HER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Teorie her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or, který se snaží té které hře přiřadit právě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volučně stabilní strateg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le  úspěšnosti v aktuálním kole je získána jakási poukázka na množství potomků v kole následují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trate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 x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lze nalézt i v rámci jednoho druhu – vlivy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arwinovský boj o život – spíše v rámci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ednoho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ruhu, než mezi dru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řizpůsoben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se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Žádní vítězové – pouze poraže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y protihráčů jsou nepřímo úměrné (fotbal, tenis, bo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e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 jednoho nemusí být na úkor druhého. Obvykle se zájmy překrývaj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ehled vývoje života lze uvádět stručn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řehled lidských dějin je spletit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: u obou lze zachytit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zorec vysvětlující směr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ějin práv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mocí teorie her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Vznikají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nové technolgie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odněcují nové bohatší podoby vzájemneho působeni s nenulovým součtem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té se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yvyjeji společenská uspořádán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která tohoto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tenciálu využij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promění situace s nenulovým součtem v 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zitivní zisky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V souladu s paretovým optimem-nikomu se nemůže ve společnosti dařit lepe na ukor jinéh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například Technologické revoluce tak vytvářejí stále nové hry umožnujiící oboum stranám výhru(např. Hospodářský růst i pomocí technlogií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znamená to, ale že hry s nenulovým součtem musí být ziskové na obou stranách, nebo že by bylo vyloučené podvádění, nebo parazitismus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esto, se ale po čase ukáže, že vzniká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více součtů kladných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ž záporných a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častější je oboustraný zis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směřuje tak spíše k výhrám.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Uspořádání společnosti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 tak stál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složitějš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o šířky i do hloub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ějiny života i lidstva sestávají se stále častějších, rozsáhlejších a složitějších her s nenulovým součte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Hromadění nenulových her je podstatou narůstání biologické i společenské složitosti-hromadění nenulovos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Nenulovost dodáva hybnost základnímu směřování života na planetě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Výskyt strategií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Člověk se obvykle vyskytuje v prostředí, které mu je "přirozené", tedy mezi obdobnými strategiem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rozba infiltr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 zdánlivě slepý přírodní výběr přitom "odměňuje" entity, které jsou oproti svému okolí schopné lepšího zpracování informací. Čím lepší zpracování informací, tím blíže ke K strategii a tím větší je opět prostor pro altruism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ZMATEK DNEŠNÍ DOB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ahová období-vývoj skočí z rovnovážného stavu na  vyšší úroveň rovnováh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 tomu dochází i dn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 uznává že rostouci zmatek je znamenim rozhodného kroku v postupu toho, co můžeme nazvat osudem svě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Osudem našeho druhu je VYBRAT SI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Použitá literatura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avel Houser / Vzpoura genů : od velkého třesku k umělé inteligenci . -- 1. vyd.. -- Praha : IDG Czech, 2003. -- 127 s., [16] s. barev. obr. příl. :. ISBN: 80-86304-99-X (brož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bert Wright / Logika lidského osudu -- 1. vyd.. -- Praha : Lidové noviny, 2000. –356 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ttp://www.scienceworld.cz , nahlédnuto 4.10.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0:57:50Z</dcterms:created>
  <dc:creator>Zou</dc:creator>
  <dc:description/>
  <dc:language>en-US</dc:language>
  <cp:lastModifiedBy>Zou</cp:lastModifiedBy>
  <dcterms:modified xsi:type="dcterms:W3CDTF">2008-10-06T12:43:12Z</dcterms:modified>
  <cp:revision>2</cp:revision>
  <dc:subject/>
  <dc:title>Evoluce jako hra s nenulovým součtem</dc:title>
</cp:coreProperties>
</file>