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9486-0132-4098-BC1C-AA40244F057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AA2D-F917-40AA-BE96-171A15D5DA5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5434-4EAD-4175-BB81-FF166834FE9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B356-22A4-4185-B8F5-E0DF0E90471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36BF-E116-46D4-854F-9D7C8F4699F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C9A2-C7C1-48FE-9F6C-B517125BF8E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1861-5FCC-4156-B70A-3EBBA110B46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ED75-5442-4662-9585-00A5F72ACAD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4288-495B-4398-B83B-382D681BBE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DD05-D79D-41E2-9EE6-992C51000FE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B60C-818A-4FFD-920D-120F402D9B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E26A-DE42-46EE-B7D0-4CDBFE31D2F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7CE8-B110-4B19-A776-1994528C0F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239A-121B-4568-95DD-3D28EC2A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E037-DE6F-4D40-8A7F-F4A9FFC9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B7F9-E281-439F-B54A-687C3D8F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1F74-5848-4E1F-9991-7F071A93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D53C-C273-4955-80B6-A7A9541F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8D10-06D9-491A-BE3C-650F7F91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C55C-05A9-4D1A-9DC0-04431B6B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7658-56D3-4F28-9E40-2C3644AD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561A-CA59-40E0-9897-AF8CAA8E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BE45-439B-47FA-BECC-AF3C125E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B100-65D7-4A33-A7DB-61BBBCCA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335C-3674-41ED-AE20-287B616A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7DF2-F016-448D-B376-F1AB0246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5302-CFCF-45C8-A3F2-895F34DC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2E7E-2C73-463F-8B01-BECF743E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6A1A-F5DD-4A65-A1A7-D925E01A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512A-1D42-4F77-877C-9B77630C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D44B-5142-4CF1-A8D1-CCF5E90F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8086-153C-4C9B-B149-417813E7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0FD9-E2CC-4235-895F-BEDC1BD9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5ECB-E4D4-4AC5-B088-0C0AF705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5059-8B50-4442-A179-369B8D8F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E299-5DBD-4D5D-9134-9BC51C70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E610-B992-401E-9BEF-F64156E7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4DC6-50C5-4E34-9622-911FDA188A7F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402D-A560-47C1-95A0-28CB3DA96CBC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řetí vlna a její důsled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858920" y="5013000"/>
            <a:ext cx="32720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c. Hana Drozd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lára Ottich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c. Kristýna Trn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DEMOKRACIE PRO 21. STOLET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y vlády třetí vln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c menš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opřímá demokracie (reprezentace a sebeprezent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lba decize (delegace práva rozhodov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chází generace „tvoření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POUŽITÁ LITERATU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FFLER, A., TOFFLEROVÁ, H. Nová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iviliz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Praha : Dokořán 2001. ISBN 80-86569-00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LVIN A HEIDI TOFFLEROV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lvin Toff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fesor, korespondent Bílého domu, nositel čestných doktorátů v oboru právu, humanitních a přídorních věd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Heidi Toff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fesorka, nositelka četných vyznamenání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polupracují s několika předními politiky U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PROČ TŘETÍ VLN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vlna - „zemědělská“ revoluce (zhruba před 10 000 le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vlna - „průmyslová“ revoluce (od 18.stolet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.vlna - „informační“ revoluce (v USA od 195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955 - v USA počet bílých límečků poprvé v dějinách převýšil počet modrých límeč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ustále zrychlující se vý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CO JE TŘETÍ VLN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rité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. Připomíná “továrnu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. Demasifikace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. Decentralizace organizací (delegace pravomoc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. Vertikální  nebo virtuální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 Návrat k rodi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TŘETÍ VLNA PODROBNĚ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ní faktory: poz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hmotné hodnoty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získávat, generovat, distribuovat a aplikovat poznatky (nehmotné hodno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masifikace: demasifikace celé společnosti (diverzita produktů, segmentace tr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ce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třeba kvalifikovaných lidí, růst požadavků, rekvalifikace, soukromé VŠ, personální ag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ovace: pro soutěž nezbytná neustálá ino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řítko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lé diferencované pracovní tý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ce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é struktury, nové typy podniků (joint-venture, holdingy), orientace na proc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stémová integrace a infrastruktura: elektronická komunikace, nové formy ved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rychlení: místo úspor z rozsahu úspory z rychl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Z TOHO PLY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ec zaměnitelnosti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un od kvantitativní ke kvalitativní zaměstna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nik čistě manuální práce, vznik kognitari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ec dělení ekonomiky na sektory, rozpad profesních kategor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: menší počet inteligentnějších pracovních s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ŘET VL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otní konflikt: civilizace první vlny X civilizace druhé v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nes: střet civilizací první, druhé a třetí v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avně střet mezi druhou a třetí vln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915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OCIALISMUS DOPLATIL NA STŘET DRUHÉ A TŘETÍ VLN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alistické vlastnictví x Soukromé vlastnic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ntrální plánování x Tržní plán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ůraz na “Hardware” x “Softwa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ŘET VOLIČSTE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důsledkem aktuálního střetu druhé a třetí vlny ve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en tábor chce zachovat nukleární rodinu, masové vzdělávání, obří korporace, masové odbory, centraliz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ruhý je pravým opakem (liberalizace, důraz na I + D, decentralizace, informace, poznání, nové typy rodi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masifikace volič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5:10:12Z</dcterms:created>
  <dc:creator>Klára</dc:creator>
  <dc:description/>
  <dc:language>en-US</dc:language>
  <cp:lastModifiedBy>KRI</cp:lastModifiedBy>
  <dcterms:modified xsi:type="dcterms:W3CDTF">2008-10-15T22:00:01Z</dcterms:modified>
  <cp:revision>11</cp:revision>
  <dc:subject/>
  <dc:title>Třetí vlna a její důsledky</dc:title>
</cp:coreProperties>
</file>