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FB0-C000-4C32-B782-76818F83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AFE-F313-41DB-AD78-3D4FCB3D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F86-3BF0-4F81-8C44-B4752AA6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2ED-712C-4541-BDE9-650C0E92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320D-A075-4242-9EF8-C720B065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CB0C-4F43-4482-A5BE-D31B35FC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8760-DB8A-4544-AF31-3A1E23C2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75F8-490B-469A-8764-D60FD607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3005-2057-47FB-98F6-D8A5FC55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A211-54BD-4BE8-9732-57CE39EA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0376-E8BF-4D20-B24C-82A13B7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0D9-6FA7-4C7D-90B3-3202FBFC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88D4-7540-4088-A635-CC734643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51DD-8284-493A-BA36-8B47B167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B7F5-0222-41CC-A2F2-2E93EA9A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C2A2-F764-4669-8636-BFE71236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932E-FB14-428E-8981-464F297E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5AFB5-27C2-4082-BF7F-0434C3CF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F7D6E-4243-40FA-ADF1-BBB88D58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DB71C-11A7-48B9-A5EC-A60AA1B9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6AAAC-4650-4426-B618-51F66386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8DEB5-2162-475F-9E52-2858E614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495-FC26-4FB8-8BD8-AE98FBFF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AD6C0-E210-4571-9D87-A1399125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E61A8-0EEA-4081-8AE6-E03F43D5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3F26A-9AA6-48C9-A2DF-F9CE0D78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D2D2F-F7DB-449B-A17D-43A9E3ED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3264B-C8BB-46C3-B464-1AB566C1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EAD1B-2E32-423F-A487-0284EFEA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06283-C489-4905-9C3B-A7BFED57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0D2B7-6285-49BA-ACDC-03707BEF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1E384-56A8-4600-9D22-4AB08A08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B5B83-3E1F-4052-9E54-AB53191E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B3A-70DE-43D3-BBA6-70EC6E4D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FF2E4-F5CF-414A-833B-B99123CD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A95DE-AB87-40FF-981E-498A3379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0F7A4-F677-4C53-9834-EA0BBE63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2B38B-BF1F-4E4D-B0E5-344DB9E6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FD6CB-FD9C-4FE4-977F-EA6F4979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5141D-6907-4941-936E-73F54D50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3ED7B-826B-4F25-BA0F-1100E7F6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0A234-AA5C-4BB8-BF56-5FDBCCF6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F4754-E206-486D-B271-975AEE37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7C08D-7F45-477B-9EFB-B4F47338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B24-1E23-4432-A793-3FADFCCF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EE89B-8C54-43EA-A128-C3AA05D7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0823C-CF97-4F07-8B3A-89F360DD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30709-018C-4E0A-BBAF-436C2041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D0C74-DC3C-4D96-8C93-0055F6EE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4974A-BFB1-45CB-A1F1-998B8F46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96A48-9944-4199-8479-B9AA46ED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CAD7F-6996-4087-8F31-D13A90A1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600EC-2352-4CF8-90A5-61F28984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DBF1D-B0B6-471A-AA96-1776F9AC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CC5A6-8A0F-4FBD-AC85-75E33AA2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B7A-6FCD-4314-9A69-4A345882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49183-09DD-49C7-9955-7654EFC2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3CF85-8F11-4249-9E13-09C30715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ACF8CF-EC13-479C-9DA8-A7E7D232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6CEAB-55A7-4651-8A4B-DC91DAE3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1F699-5C16-4304-880E-45F3FECD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5F970-235E-4781-8258-D9E7FEE8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9CD8D-FD07-4F06-A85C-C5297138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4837D-E43D-4AF6-8305-E1DCA3A6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83B2B-78F6-4752-8A9C-3CCE63A3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AF6DD-571F-40F3-8788-3736CBC2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259-B567-4A84-AF55-624BBC4A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29063-B35B-4FF0-8BC5-151EB2AC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652B7-DB4C-4A80-9C90-95CB92AD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868635-BAFE-4ED3-99E8-73DF2F28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44258-F604-4184-81E6-A725D924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64124-30EA-469B-AC1D-8058E27A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C50673-50B6-4F51-88E9-BA9F51B7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DB786B-5D37-4A8C-BD5B-005C7F31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2CF327-E2F8-4A8E-9735-08CF095D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E7D337-A4C7-4952-B056-ACD669CC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CF29BE-1E28-41A9-AA7B-C4733FEB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108-9D3A-4287-B01C-2B9939F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8B29B3-EEFB-479F-BAD9-C43BB0F0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88929-0826-47D2-9D4C-BB69281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DDDB0-8A4A-400F-BFEC-2E446E1C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052FE-5159-45DB-A1E6-3766B743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38D1D5-9EF3-44BE-88A6-ACE73D38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D98-9D53-43EA-A118-9E56FCE9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5799-5FDF-4B65-AF59-CD21593D64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D698-FE46-426E-8D87-36D091A612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A93D-9DEA-40E8-829F-031FDF1A26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D33B-EEE3-4AA2-A26D-463BA25554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0FC3-25AC-42A3-B7AC-ADD9DFD72C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2998-8DDD-44B7-B1D7-48D9619E03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B35F-7781-4CA6-86A5-2E34EE8102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nnis_Meadows_Moscow_febr2007-1-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1972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A A JEJÍ DŮSLED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271c"/>
                </a:solidFill>
                <a:latin typeface="Calibri"/>
              </a:rPr>
              <a:t>Simona Jakubcov</a:t>
            </a: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Lucie Bielik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Martin Liz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Intelektuální versus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intelektuální podni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zita práce s poznán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ustředění duševní práce ve vede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hatství se měří podle materiálních statk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mbolické činnosti jsou považovány za neproduktiv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legace práce na jednotlivé zaměstnance, podporování inovací a nápad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dnota většiny výrobků spočívá v poznatcích, které jsou do nich vlože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Moscow, 16 Febr.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3068640"/>
            <a:ext cx="2857320" cy="3789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alibri"/>
              </a:rPr>
              <a:t>Donella a Denis Meadows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onella H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( 13.3.1941 – 20.2.200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ůkopnicí v systémové dynamice vědách o životním prostředí, učitelka a spisovatel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197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se dostala do týmu vědců,vyvinuli počítačový model systémové dynamiky demograficko-ekonomických ukazatelů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orld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financováno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Římským klub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enis L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7.6.194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americký vědec, profesor systémového managemen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alibri"/>
              </a:rPr>
              <a:t>Meadows – 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2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Meze růst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" sz="2400" spc="-1" strike="noStrike">
                <a:solidFill>
                  <a:srgbClr val="000000"/>
                </a:solidFill>
                <a:latin typeface="Calibri"/>
              </a:rPr>
              <a:t>Limits to Grow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992 –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kročení mezí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004 – třetí pokračování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ezí růstu ( 30letý upd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endence k překmitu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držitelný způsob existence ( exponenciální rů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ychlé tempo používání hnojiv, růst měst, spotřeby energie a materiálů lid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užování  materiální základny lidst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ůst světové popu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ečišť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udoba a nezaměstnanost ( sociální rozdíl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lečnost na jedno použití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ké odmítání tématu mez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Trvale udržitelná společnost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 simulovaných světů ( rovnováh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dvídavá, pružná, moudr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valitativní rozvoj X fyzická expan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pokojování potřeby přítomnosti bez ohrožení budouc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eriální zabezpečení pro všechny(NE chudob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nost pravidel,norem,sociálních do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enění darů zemské kůry (neobnovitelné zdroj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il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Rysy restrukturalizace světového systému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dokonalení signá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rychlení odeze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izace používání ne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dcházení erozi 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yužívání všech zdrojů s max. účinn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zastavení exponenciálního růstu populace a fyzického kapitálu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3. Vlna: Trvalá udržitelnost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ormace ( větší databáze, lepší statistiky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troje k trvalé udržitelnost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tváření vizí (cíl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co doopravdy chcem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zájemné propojování (sítě, organizace, povzbuz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luvení pravdy (lež naruší info to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uč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ilování (X individualism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Literatur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nnis L. Meadows, Donella H. Meadows a Jorgen Randers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kročení mez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nakladatelství Argo, 1995, 320 str., ISBN 80-85794-83-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ová civilizace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95, 125 str., ISBN 80-86569-00-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Šok z budoucnosti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, 284 str., ISBN 8020801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f271c"/>
                </a:solidFill>
                <a:latin typeface="Calibri"/>
              </a:rPr>
              <a:t>Děkujeme za pozornost</a:t>
            </a:r>
            <a:r>
              <a:rPr b="0" lang="cs-CZ" sz="30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4f271c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Obsah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lvin Toffl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lnová teor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vl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itéria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lečnosti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intelektuální vs.intelektuální podnik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 + D Meadow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ndence k překmit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vale udržitelný společ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ysy restrukturalizace světového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ystém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vlna: Trvalá udržitel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157140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ozen 3.10.1928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merický spisovatel a futuro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daktor časopisu Fortu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stující profesor na Cornellově univerzitě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ositel čestných doktorátů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atý s 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 Toff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vou –spisovatelka a futuroložka, mimořádná profesorka na Univerzitě národní obrany ve Washington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ijí v Los Ange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164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:\4.jpg"/>
          <p:cNvPicPr/>
          <p:nvPr/>
        </p:nvPicPr>
        <p:blipFill>
          <a:blip r:embed="rId1"/>
          <a:stretch/>
        </p:blipFill>
        <p:spPr>
          <a:xfrm>
            <a:off x="5072040" y="1928880"/>
            <a:ext cx="3406680" cy="239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 –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uture shoc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ok z budouc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8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he third wav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řetí vl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995 – </a:t>
            </a:r>
            <a:r>
              <a:rPr b="1" i="1" lang="cs-CZ" sz="3600" spc="-1" strike="noStrike">
                <a:solidFill>
                  <a:srgbClr val="000000"/>
                </a:solidFill>
                <a:latin typeface="Calibri"/>
              </a:rPr>
              <a:t>Creating a New Civilization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(Nová civilizace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yntéza předchozích dě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lnová teorie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ivilizační 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. vlna – 8000 př.n.l. – 1750 – zemědělsk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2. vlna – 1750 – 1955 – průmyslov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vlna – 1955 - ? – informační revolu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55 – v USA poprvé počet „bílých límečků“ větší než „modrých límečků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á civilizace přichází se třetí vlnou a jediná možnost přežití je přizpůsobení 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Kritéria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Připomíná to továrn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Demasifikuje to společnost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Kolik vajec je v košík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Je to vertikální nebo virtuální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Vrací to domovu síl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Principy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2.vlny (půda, práce, kapitál) – vyčerpateln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3.vlny - nevyčerpatelné zdroje (data, informace,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struktura – elektronická komunik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nání jako tvůrce technologického pokr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investicích - pokles významu kapitál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e skladování (just in tim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dopravě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materiálních nákladech (nové surovin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Charakteristická společnost třetí vlny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ladá (doba trvání, pracovní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(outsourcing, flexibili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ce (inova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výzkumu a výv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zce specializovaní zaměstna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ká míra využití informačních technologi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zaměstnanost z pohledu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60.let přesun od manuální práce ke službám (3/4 pracovníků v US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covní příležitosti jsou méně zaměnitelné (důraz na vzdělání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esun od kvantitativní ke kvalitativn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ve službá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, rekvalifikac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é pracovní pozi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inančnictví, poradenské služby, vzdělávání, pečovatelství, turism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doma, flexibilní pracovní doba, půlené zaměstn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funkčnost tradičních monetaristických a keynesiánských nápravných prostředků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22:10Z</dcterms:created>
  <dc:creator>Lucie Bieliková</dc:creator>
  <dc:description/>
  <dc:language>en-US</dc:language>
  <cp:lastModifiedBy>Lucie</cp:lastModifiedBy>
  <dcterms:modified xsi:type="dcterms:W3CDTF">2008-10-13T20:48:59Z</dcterms:modified>
  <cp:revision>21</cp:revision>
  <dc:subject/>
  <dc:title>Třetí vlna a její důsledky</dc:title>
</cp:coreProperties>
</file>