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7DC-5C7F-41DA-B932-0CA4DC64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18D-07A9-4909-B22D-E0084E45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756-2023-471B-B299-BD329E94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9E2-6627-44D3-86CD-2E854AE7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CD8-4447-41B5-BFB9-B12DE46A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AE77-8A93-4A85-8DB7-296C254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6FB2-DA97-4AC3-B5B3-DFC2AA3E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4274-7687-4CA6-A0C4-E75FEFB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61D-8C77-479F-B4C1-981031A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ACE8-ADE1-426E-8CAC-272D7952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A9AF-DD21-4242-A5BC-61D7EEE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C6C-02B1-46A4-BE74-3E66536E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A1E9-BDDE-4EB2-8972-8FBEFF2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2528-DC04-4190-854F-27F998C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83C2-A553-49D1-A0D0-4DADC1E3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F14C-54BD-4ED4-89E4-D9F128CC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FE63-790B-49ED-B72B-FF85DFAC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D0B-0913-4CE9-8934-C85F2611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1BF-4E87-4A86-8B83-A29ABBEB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835-4381-4EA5-9679-E8ED6E63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76A-7BC8-47CC-A843-6EA4973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374-2C78-4212-B91C-756E8257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28A-D419-428B-B546-3F08AF9C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6F9-B362-4033-8490-9779730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FFA1-E936-41C5-8982-AB4F39079B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AC60-F9EB-4C8B-8EDF-995D02E4D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Ondřej Částek</cp:lastModifiedBy>
  <dcterms:modified xsi:type="dcterms:W3CDTF">2008-11-03T13:26:53Z</dcterms:modified>
  <cp:revision>15</cp:revision>
  <dc:subject/>
  <dc:title>OD MASOVÉ VELKOVÝROBY K INOVATIVNOSTI A HODNOTĚ PRO ZÁKAZNÍKA</dc:title>
</cp:coreProperties>
</file>