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7C4-2D42-42C7-99CA-A9597F77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D14-A05C-4E7A-B1DD-BEAF3EA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E63-4672-4235-8418-B7B87B87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E88-2999-4637-BFDD-006C7DCC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141-F3E1-44AD-9F99-AC3EA001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0F4-D5D6-4761-9267-E4D3257D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2A0-F4EB-49A4-9D29-B381555F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56F-614D-4E23-B423-76580DC1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7F6B-5403-4F7D-9D68-2168095C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A80-BE8F-47A9-8AB4-049D492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0A7-2862-416C-8201-7673FEC7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06B-3394-4969-A22A-2EF66177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9AB17-21ED-41FF-98FD-479C324C0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ývoj spoločnosti v pojatí A.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4910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Tri faktory zajtraj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utureshock_sm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595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615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e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Mie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Ľudia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vky situ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gan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Inform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276720"/>
            <a:ext cx="99036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lonov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yborgov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Transplant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yužívanie oceá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iemysel zážit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Rod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oniec štandard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nadmerný vý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Šk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Fil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Subkultú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Životné štý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ýskum z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ientačná reak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Adaptívna reakcia = s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Zmena nie je len potrebná k životu. Ona sama je život. A preto žiť znamená adaptovať sa. Adaptabilita má však svoje medze. Ak je kapacita prekročená, nastáva šok z budúcnosti.“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- Alvin Toff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Šok z budoucnosti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 ; z amerického originálu přeložil Stanislav Mundil.. -- 1. vyd.. -- Praha : Práce, 1992.. -- 28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Třetí vlna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.. -- [S.l. : s.n.], 1989.. - 83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Nová civilizace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: třetí vlna a její důsledky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, Heidi Tofflerová ; přeložil Bohuslav Blažek.. -- 1. vyd. v českém jazyce.. -- Praha : Dokořán, 2001.. -- 12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8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Alvin Toff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340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Narodený 3.10.19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merický spisovateľ a futur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utor kníh ako Nová civilizácia, Tretia vlna, Vojna a ant</a:t>
            </a: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oj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3080" y="1981080"/>
            <a:ext cx="269388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Teória v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Človek ako lovec-zber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grárna (feudálna) spoločnosť (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Industriálna spoločnosť (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ost-industriálna spoločnosť (I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(vesmírny vek, informačný vek, elektronická epocha, technotronický vek, globálna dedina, vedeckotechnická revolúcia, superindustriálna spoločnosť)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Základná architektúr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Techn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odukuje a prideľuje bohat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ocio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pisuje jednotlivcom úlohy v rámci systé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Inf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deľuje potrebné informácie, aby mohol systém fungova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Mocenská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oľnohospodárska výroba, domestikácia zvi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Usadlý spôsob živo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znik remes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Zmeny v náboženstve, umení a p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ukleárna rod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Feudal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čovné národy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s.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Impéri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Boj národov druhej vlny proti národom prve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apitalizmus a komun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nergia, výroba, distribú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Štandardizácia, špecializácia, synchronizácia, koncentrácia, maximalizácia, centraliz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lementárna rodina, škola továrenského typu, korpor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osiče informácií</a:t>
            </a:r>
            <a:r>
              <a:rPr b="0" lang="sk-SK" sz="2600" spc="-1" strike="noStrike">
                <a:solidFill>
                  <a:srgbClr val="800000"/>
                </a:solidFill>
                <a:latin typeface="Arial"/>
              </a:rPr>
              <a:t>, neviditeľný kl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24680" y="2057400"/>
            <a:ext cx="914040" cy="3427200"/>
            <a:chOff x="7924680" y="2057400"/>
            <a:chExt cx="914040" cy="3427200"/>
          </a:xfrm>
        </p:grpSpPr>
        <p:sp>
          <p:nvSpPr>
            <p:cNvPr id="60" name=""/>
            <p:cNvSpPr/>
            <p:nvPr/>
          </p:nvSpPr>
          <p:spPr>
            <a:xfrm>
              <a:off x="7924680" y="4950360"/>
              <a:ext cx="912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24680" y="4189320"/>
              <a:ext cx="91260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24680" y="2894760"/>
              <a:ext cx="9126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057400"/>
              <a:ext cx="9126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800000"/>
                  </a:solidFill>
                  <a:latin typeface="Times New Roman"/>
                </a:rPr>
                <a:t>M</a:t>
              </a:r>
              <a:r>
                <a:rPr b="0" lang="sk-SK" sz="3200" spc="-1" strike="noStrike">
                  <a:solidFill>
                    <a:srgbClr val="8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205740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548352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4680" y="2057400"/>
              <a:ext cx="180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37280" y="2057400"/>
              <a:ext cx="144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94760"/>
              <a:ext cx="180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37280" y="2894760"/>
              <a:ext cx="144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24680" y="4189320"/>
              <a:ext cx="180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37280" y="4189320"/>
              <a:ext cx="144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4680" y="4950360"/>
              <a:ext cx="180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37280" y="4950360"/>
              <a:ext cx="144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24680" y="28947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4680" y="49503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4189320"/>
              <a:ext cx="9126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účasnosť v pojatí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vantový skok v dejinách ľudst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Súčasná generácia je svedkom prechodu od druhej k tretej vl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richádzajú desaťročia zmien, turbulencií, prevratov, inovácií,  diskontinu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existencia spoločností prvej (motyka), druhej (výrobný pás) a tretej vlny (počítač) súč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Dezorientácia člov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eschopnosť adaptácie (zaplavenie informáciami)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rovnanie druhej a tretej vlny vývoj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76520"/>
          <a:ext cx="8305920" cy="5011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á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Poznanie (informácie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alizmus, socializ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Informačná, znalostn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e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Synchronizácia, štandardizácia, 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Univerzálnosť, de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Fyzická práca (modr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uševná práca (bíl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, supersymbolick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om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eter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rechod k demokracii 21.storoč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82680" y="2274840"/>
            <a:ext cx="6094080" cy="3122640"/>
            <a:chOff x="1282680" y="2274840"/>
            <a:chExt cx="6094080" cy="3122640"/>
          </a:xfrm>
        </p:grpSpPr>
        <p:sp>
          <p:nvSpPr>
            <p:cNvPr id="83" name=""/>
            <p:cNvSpPr/>
            <p:nvPr/>
          </p:nvSpPr>
          <p:spPr>
            <a:xfrm>
              <a:off x="5090040" y="433116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Deľb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5680" y="433116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2680" y="433116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Koncentráci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90040" y="326484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olo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15680" y="326484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82680" y="326484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0040" y="2274840"/>
              <a:ext cx="228528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men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5680" y="2274840"/>
              <a:ext cx="1674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82680" y="2274840"/>
              <a:ext cx="2133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väč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82680" y="2274840"/>
              <a:ext cx="380736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2680" y="3264840"/>
              <a:ext cx="60930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82680" y="4331160"/>
              <a:ext cx="60930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2680" y="2274840"/>
              <a:ext cx="1080" cy="9900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1568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004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75680" y="2274840"/>
              <a:ext cx="1080" cy="3122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2680" y="3264840"/>
              <a:ext cx="1080" cy="2132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680" y="5396040"/>
              <a:ext cx="1674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2680" y="5396040"/>
              <a:ext cx="2133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0040" y="5396040"/>
              <a:ext cx="228528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0040" y="2274840"/>
              <a:ext cx="228528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600360" y="3778200"/>
            <a:ext cx="114300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4760" y="2878200"/>
            <a:ext cx="114300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0360" y="4859280"/>
            <a:ext cx="1079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 Mino</dc:creator>
  <dc:description/>
  <dc:language>en-US</dc:language>
  <cp:lastModifiedBy>El Mino</cp:lastModifiedBy>
  <dcterms:modified xsi:type="dcterms:W3CDTF">2008-10-08T16:43:36Z</dcterms:modified>
  <cp:revision>4</cp:revision>
  <dc:subject/>
  <dc:title>Prezentace aplikace PowerPoint</dc:title>
</cp:coreProperties>
</file>