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E6A-C9F9-4AC2-9D97-FC78469A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366-F4D5-4A68-8701-2696F9FB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51D-9BE0-440A-A46F-4832B796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2D17-31D6-4CDA-8FC8-4932AF5F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D044-A04A-42AC-8816-AE6789D5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B6D5-CE5B-426D-AC75-A7C8A156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852F-142F-413F-B8CB-6AD57FD5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EE63-965B-4F79-8851-3D7D6D29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EBD9-27AA-4C2B-ADA0-0EFC8C4F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D2FE-EE73-4EF4-9B52-62920A81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FB65-DC6C-4044-89BE-EB2887AB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689-2CC7-4F0B-9D77-6E0EBC59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EF5F-4EF1-41D1-9FDB-0054C3CE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21FD-A2A9-4CBE-8069-9E5F7644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DD9C-4658-4F99-A44C-4FB93D01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EEBE-F33C-4435-90D1-9FFE10A9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9E13-9211-4DBF-9B9E-DEE447CD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703-41F1-4D5B-A184-550633DA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103-4EC3-4A33-9514-58D2DC48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149-AC61-40A7-BFED-581208B5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E1C-CC27-4A45-9DC2-31A8C387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074-C59F-4260-A4D2-9B24F698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F59-56BB-4728-97FE-AA3DD03F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3F8-320F-425A-BAE1-4AD4DEC6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776A-5E74-47CA-874A-C8B7D63DEDE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688C-03EA-4B0B-87F6-3E87B06EFFE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Třetí vlna a její důsledky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84240" y="4578480"/>
            <a:ext cx="59817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Linda Khall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Zuzana Soóki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Tretia vlna a politik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2361960"/>
            <a:ext cx="769320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ruhá vlna: centralizovaná byrokracia, nukleárna rodina, masový vzdelávací systém, veľké korpor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Tretia vlna: pozeranie sa do budúcnosti, väčší podiel duševnej práce, heterogenita, malé a mladé podniky, </a:t>
            </a:r>
            <a:r>
              <a:rPr b="0" lang="sk-SK" sz="2800" spc="-1" strike="noStrike">
                <a:solidFill>
                  <a:srgbClr val="003366"/>
                </a:solidFill>
                <a:latin typeface="Arial"/>
                <a:ea typeface="Arial"/>
              </a:rPr>
              <a:t>↑investícií, podpora sektoru služi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Stavebné princípy vlád tretej vl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55640" y="2349000"/>
            <a:ext cx="78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Moc menší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olopriama demokra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ľba dec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Použitá literatú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TOFFLER, A. – TOFFLEROVÁ, H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Nová civilizace - Třetí vlna a její důsledky.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1. vyd. Praha: Nakladatelství Dokorán, 2001. 125 s. ISBN 80-86569-00-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POE, R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Třetí vlna – Nová epocha network marketingu.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1. vyd. Brno: Nakladatelství Jiří Alman, 1998. 255 s. ISBN 80-86135-03-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BLAŽEK, L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Sylaby k jednotlivým tématům zveřejněné na www stránkách Ekonomicko-správní fakulty 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www stránky: http://www.park.cz/ke_treti_vlne_alvina_tofflera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366"/>
                </a:solidFill>
                <a:latin typeface="Arial"/>
              </a:rPr>
              <a:t>Ďakujeme za pozornos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77000" y="20934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Vývoj spoločnosti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79200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vá vlna – vznik pred cca 10 000 rokmi, zemědelská revolú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uhá vlna – vzn. pred 300 rokmi, priemyslová revolúcia 18.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etia vlna – vznik v USA v 60. rokoch 20.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etia vl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ívlastky: informačná, znalostná, digitál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ciálne, kultúrne, politické a morálne zme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Havný konflikt súčas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9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Stret civilizáci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álka medzi záujmami 1. a 2. vln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 súčasnosti 3 súperiace civiliz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Demasifikácia spoloč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Upustenie od masovosti 2. vln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ýroba, marketing, médiá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Heterogenita spoločnosti 3. vl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Informatizá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formačná spoločnosť, komputerizá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Zdroj bohatstva: poznan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66"/>
                </a:solidFill>
                <a:latin typeface="Arial"/>
              </a:rPr>
              <a:t>Hlavné princípy ekonomiky 3. vln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oznan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masifiká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Narastajúca nezameniteľnosť profesií, požiadavky na špecializované doved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ovácie, reeingene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fraštruktúra: elektronické komunik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Tretia vl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55280" y="2276280"/>
            <a:ext cx="7993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Nezamestnanosť sa presunula od kvantitatívnej ku kvalitatívnej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Zaraďovanie pracovníkov do kategórií podľa miery spracovania symbolov a duševnej prá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telektuálne“ versus „neintelektuálne“ podn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Kritériá tretej vl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5640" y="256500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ripomína to továreň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masifikuje to spoločnosť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Koľko vajec je v košík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Je to vertikálne, alebo horizontál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racia to domovu sil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0:29:21Z</dcterms:created>
  <dc:creator>snoopy</dc:creator>
  <dc:description/>
  <dc:language>en-US</dc:language>
  <cp:lastModifiedBy>snoopy</cp:lastModifiedBy>
  <dcterms:modified xsi:type="dcterms:W3CDTF">2008-10-13T11:25:02Z</dcterms:modified>
  <cp:revision>45</cp:revision>
  <dc:subject/>
  <dc:title>Třetí vlna a její důsledky</dc:title>
</cp:coreProperties>
</file>