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5CB-27BC-47FF-B894-AED47BDF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6E2-1977-4823-B455-06FC467B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C4F-2ED4-4677-9C87-D6960BB2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804-80D1-4F16-A742-FCE056D7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8D9-CAEE-45A9-A244-A7F3AF00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D2C-70C4-49C6-A14C-911F57C2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693-C2F6-471E-87C6-1DBF646D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F03-451B-4B24-9F33-7E8D10F8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5FD-FEE3-44AB-8653-BE7CD2C1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DC6-42AA-4A24-BC37-93EAF55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DF4-8B31-4BEB-ABCB-D427B2CB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764-4E0F-4252-A528-0FC4F320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2C42-F7C1-4598-ACF8-86FF819F2D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rod a vývoj kapitalizmu ako fenoménu industriálnej spoločnost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4920" y="5084640"/>
            <a:ext cx="309708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utori: Tereza Koklar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ichal Dančiš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artin Ďub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33260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 je kapitaliz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Čo je to kapitaliz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pitaliz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žne označuje ekonomický systém založený na súkromnom vlastníctve výrobných prostriedkov a súťaži súkromných podnikov na trhu a (sekundárne) tiež veľkej individuálnej podnikavosti, snahe o dosiahnutie zisku a systematickom reinvestovaní zisk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antská etika a trhové hospodárst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ávislá premenná – etika, ktorá je z dlhodobého hľadiska odvodená od Kalvínovej metafyziky spas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ávislá premenná - individuálne a kolektívne ekonomické chovanie, ktoré je etickými normami štrukturované a inštitucionaliz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Kalvin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oderný ekonomický vývoj koreluje s prijatím a presadzovaním kalvínskej etiky a efektívnosť a účinnosť kalvínskeho kapitalizmu uznali i najzásadovejší odporcovia kapitaliz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ný kapitalizmus – ekonomicky pokročilejšie časti Európy 16. - 18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rvou Európskou krajinou, ktorá uvoľnila cestu kapitalistickému vývoju, bolo Holandsk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emyslová revolúcia 18. – 19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ovŕšenie formovania základných tried kapitalistickej spoločnosti – priemyselníci, robotnícka trie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nik sociálnej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ritika kapitalizmu z pozícií humanizmu, éra ochranného sociálneho zákonodarst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pitalizmus voľnej konkurencie (vrchol 60. – 90. roky 19. storoč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ípy liberalizmu, politika slobodného ob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chel Albert – dva hlavné prúdy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1. Neoamerický kapital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je priťažlivejší, ale sociálne krutejší, ekonomicky me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fektív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2. Rýnsky kapitalizmus – zeme od Švajcarska až po Holandsko, Škandinávie, Japons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strohejší, ale výkonnejší a spravodlivejš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esto trhu v rýnskom a americkom modely – netrhové statky, zmiešané statky, trhové 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ýnský kapitalizmus – hospodárska aj sociálna preva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riek tomu sa americký kapitalizmus presadzuje z psychologického i politického hľadi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čo kapitalizmus triumfuje na Západe a zlyháva všade inde na sv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ysté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chýbajúcej inform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mŕtvy kapitál, jeho hodno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kapi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Kapitál je nositeľom dvoch paralelných  významov: jednak vyjadruje bezprostrednú materiálnu hodnotu aktív a jednak odkazuje k skrytému potenciálu produkovať nadhodnotu. + skrytý konverzný proces západu – formálne majetkové záznam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právneho zlyh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vlastníctvo v rozvojových a postkomunistických krajiná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klenený zv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f. ing. Faltus, Jozef, CSc., prof. Ing. Průcha, Václav, CSc., Všeobecné hospodářské dějiny 19. a 20. století, Vysoká škola ekonomická v Praze, Nakladatelství Oeconomica, 2004, ISBN 80-245-0499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ernando  de Soto, Mystérium kapitálu, Rybka Publishers, Praha 2007, ISBN: 978-80-87067-20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bert Michel, Kapitalizmus proti kapitalizmu, nakladatelství ELITA, Bratislava 1994, ISBN 80-85323-6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tz, W. G., Protestantská etika a tržní hospodář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eber, M., Protestantská etika a duch kapitalis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7:29:20Z</dcterms:created>
  <dc:creator>Martin</dc:creator>
  <dc:description/>
  <dc:language>en-US</dc:language>
  <cp:lastModifiedBy>terka</cp:lastModifiedBy>
  <dcterms:modified xsi:type="dcterms:W3CDTF">2008-10-06T23:01:55Z</dcterms:modified>
  <cp:revision>12</cp:revision>
  <dc:subject/>
  <dc:title>Zrod a vývoj kapitalizmu ako fenoménu industriálnej spoločnosti </dc:title>
</cp:coreProperties>
</file>