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D3B-A9FF-4870-A5A2-71342009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DF27-B00A-4CE4-85C2-AFCA8532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2634-5022-4FF2-9F4C-1262A9A8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26E-75BD-4692-A2EF-AA1360CF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5862-0089-4B37-999B-BBD2BE01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6A92-4B0F-47F5-BCD2-35CE67BA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9EBA-1BF1-45BE-88E2-DEBEA3AE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3E61-A4B2-4CED-A4DB-B2937D67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C442-14B8-4EC4-B01D-7287CE6D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CA1C-DC89-43D8-8A5D-D9FAABF6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68CF-23C9-4282-BD81-9B505806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7657-9A1D-4FF6-B086-2ECCCAD5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4510-36B8-4679-90E3-301C7969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3737-2732-4DEF-B773-81A234C7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BB7C-C66F-430B-B798-15F6D40D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E817-8B7F-4AB8-96EE-FDB41914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7B0D-309B-44AA-9880-CC7D6A5A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1FAB09-DCDD-4528-BB50-0CA75FEE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7FE35-B232-4871-A149-78A8344A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B9B02-7E85-4243-BB0C-B7FD551A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0A7F1-A8F7-4692-B919-497DEEA1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E2629E-52DE-4DF3-86D2-258E102E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35D-EE43-4464-935B-9C9645F3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F736A5-63AF-493F-AA60-02138F01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B3A12-DF8C-4E6E-9ACB-2C7CFEEF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A1729-24F2-4038-BD21-4C3CEF65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0FDFA-616B-4477-863A-0DF39328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24820F-6AA5-45B8-9B00-B1E88A4F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68195-5A37-4A8D-A60F-7569BE67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EB8C6-3674-44FD-8709-39381E93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9E5448-3804-4EC6-80DB-DBDB6D28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077C33-2A41-4A7A-9C30-34CC3522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FECE16-D952-4A02-ADA5-83232BC0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BE5A-BAAB-4EFF-8328-5D91FD9F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D2656C-C209-4BD4-8412-5565A3BA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A703E8-4D95-475E-A087-F9711817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BCE4AE-9DED-4451-801F-58B6E490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655AFC-B5D1-4DFC-9E67-C704F28D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E6C081-0D53-4CFF-952A-497CD774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D709F0-1BC9-49BB-9A24-696DF69F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8763AF-0330-4088-AEC2-9E1E56AA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B13489-E104-4DE5-914C-AE92C18F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BA5542-C3A9-40C9-9D21-6000C1D1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21571C-9C2B-48B7-904B-106F0105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0C5D-BEBC-46D9-B159-7671E6B7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1233E5-B050-4536-8A52-B6C2909C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8CDB1D-26BA-4BB7-8DF0-FACDF59D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66D1FC-2927-4CC8-B961-4754CF33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539B41-A1F2-46F9-A21F-0DE7EE15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0CAADA-79EA-43D5-AF5F-64CCB3CB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6FDE8A-E5B2-41E8-98F9-DE7536DE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AA7E63-1DA7-4653-BB47-301770E5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8EC3D6-7822-4BFD-9E08-08AE0C53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38D32F-9433-462B-B238-67A52B93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D04BC4-1964-40C5-8B55-C62D1BE2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3931-5214-425C-90C6-1EB5F732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C5A050-629E-44DC-857F-1A2E003A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60CB9-D5F7-45DD-BE34-CB5FC443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50516-FEA7-494F-984D-912E0486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96AF7-34B2-4BAA-BAB3-476282D2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EACC4-E159-4260-A9BD-94A2E10D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67A19-1AA6-42A4-BB01-917C6098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EADFC-146D-46E4-8C6F-D59EE808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F1AF3-44E9-4A3B-9DD5-A22A6213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41BD7-897D-4408-8CFE-BA019CC3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9D520-1F98-4233-B269-75BE1B9C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5506-3AB2-44F6-BF3B-D2A2D64C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98C9E-756C-47A2-9A38-16EA3127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878BE-E50E-44F8-A8C5-BB076992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99D4D-7581-47E3-87B6-D9141B1B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271730-3D7A-4746-BC28-0531D3FA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C2E4F6-2E42-4064-AAB0-2C97A41A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E61707-3CC3-49E2-977B-3CADDD93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2F1A5-F6E0-4B33-8740-C5551B41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7B9C1E-436A-4A17-B095-B74871CD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DEC5A5-5C62-41E6-9A3D-4B529F17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82E85E-3FAA-4EA5-B76D-BCFDE264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ED6C-1CA0-42EE-9E9A-D1E61B3C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7B2D7A-C253-4A3B-BB76-E5FC8318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18048B-86B2-4833-B2EE-8DB0374C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30D9A1-0284-4CBF-A312-C735D322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C16755-9DDC-4604-82E1-CB044EE4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D759F5-69C4-429F-BFE4-0B42F54A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0924A-CA16-422B-BCF8-E689DA4B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A56FE-CB82-4CFC-BE4C-74E113F5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BAE57-79CD-436F-B108-CE20DD05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32264-0AEB-44AC-9694-3EE38EE3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D14C5-254A-4E25-9C3A-A3CE970E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792F-09D9-4E17-ACBD-514E2F51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5F3DC-AB6F-48AE-A7E7-B624116F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9DD21-A05B-4350-BEEA-844F8627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F7252-5B01-4C6D-A574-A5963830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9482C-BD0C-4AD4-96C4-0F03DD6D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1A307-8DE8-4639-AD40-0D0976DC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507D7-3B5D-4F2D-A538-FFBF4E6D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8785D-509D-4739-9D8C-F7A832DB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C4D9-D9E7-43C1-B6DC-5837D2E3B35A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3A35-8929-46AA-B2A0-6F8BFFAFEE7F}" type="slidenum">
              <a:rPr b="1" lang="cs-CZ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bdélní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6BD8-04E2-4A4F-B2EF-63AEADE133C5}" type="slidenum">
              <a:rPr b="1" lang="cs-CZ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B45B-E752-45F6-BEFC-F37BA14B10DB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5972-D59F-46A1-9A51-D314E7B626D4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DDF9-8E5D-46A3-9B25-0E9E86776DC2}" type="slidenum">
              <a:rPr b="1" lang="cs-CZ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bdélní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9B54-A9FA-4EA1-8E41-79D8AE7E76EF}" type="slidenum">
              <a:rPr b="1" lang="cs-CZ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bdélní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délní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bdélní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2755-26CF-44E5-A602-F5877FE60A6E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bddc3"/>
                </a:solidFill>
                <a:latin typeface="Tw Cen MT"/>
              </a:rPr>
              <a:t>EVOLUCE JAKO HRA S NENULOVÝM SOUČTEM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w Cen MT"/>
              </a:rPr>
              <a:t>Pavel Hasoň, Zuzana Jurková, Milan Kedroň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Simulace na starších počítačí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1. Vymizeli strategie absolutně dobr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2. Triumf zlých pouze dočasný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3. Vítězem půjčka na oplátk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k neznámému se zachová dobř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 dalších kolek pak kopíruje jeho chová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ůvod vítězství: zlé je podvedou jenom jednou, poté se už podráží vzájemně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Simulace na nových počítačí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Byla zavedena možnost chyby strategie“náhodný šum“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ůjčka na oplátku poražena strategií, která je ještě hodnějš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chopnost odpouštět – zradu v průběhu hry jednou přehlédne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Robert Wrigh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Žije ve Washingtonu, D. 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Autor článk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The New York Times Magazine, The Atlantic Monthly,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ational Magazine Award for Essay and Critis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pisovat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íc než nic, Logika lidského osud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orální zvíře: Evoluční psychologie každodenního živo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Tři vědci a jejich bohové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Víc než nic, Logika lidského osudu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Evoluce lidských společností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Kam je unášeno lidstvo ve svých dějinách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Využívání teorie he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Vývoj historie lidstva = nenulová hr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Lidé jsou svazováni stále větší vzájemnou závislostí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Naznačuje, k čemu pravděpodobně dojd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7" name="Zástupný symbol pro obsah 7" descr="wright.jpg"/>
          <p:cNvPicPr/>
          <p:nvPr/>
        </p:nvPicPr>
        <p:blipFill>
          <a:blip r:embed="rId1"/>
          <a:stretch/>
        </p:blipFill>
        <p:spPr>
          <a:xfrm>
            <a:off x="5500800" y="2000160"/>
            <a:ext cx="237960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Víc než nic, Logika lidského osudu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Příklad lovců a sběračů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Soupeřit o místa vysoko na společenském žebříčku znamená hrát hru s nulovým součtem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Jedním ze způsobů, jak v soupeření uspět, je objevit technologie, které vytvářejí nové hry, avšak tentokrát se součtem nenulovým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Příklad války – i zde nenulovos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Vývoj společností míří neustále kupředu, což potvrzuje teorii nenulového součtu jako výsledku vývoje společnosti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Citace z knih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Výhody získané z nenulových součtů organizovanost společnosti značně zvyšují. Účast v úspěšné hře s nenulovým součtem obvykle už sama o sobě znamená nárůst společenské složitosti. Od hráčů vyžaduje, aby koordinovali své chování. Lidé, kteří by jinak žili sami ve svém světě, se dají dohromady a vytvoří jeden uspořádaný celek, ve kterém se navíc téměř vždy uplatní dělba práce.“ </a:t>
            </a: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Tw Cen MT"/>
              </a:rPr>
              <a:t>* Str. 29, Robert Wright – Víc než nic, Logika lidského osudu, nakladatelství Lidové noviny: 2002, ISBN 80-7106-433-5, 457 s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Použité zdroj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Robert Wright – Víc než nic, Logika lidského osudu, nakladatelství Lidové noviny: 2002, ISBN 80-7106-433-5, 457 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encyklopedie.seznam.cz/heslo/183426-clove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rubriky.cz/darwinova_evoluce_a_inteligentni_plan.php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www.scienceworld.cz/sw.nsf/ID/51121AEBBE0CA003C1256E9700489BE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is.muni.cz/th/98689/fi_b/kooperace.tx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75f55"/>
                </a:solidFill>
                <a:latin typeface="Tw Cen MT"/>
              </a:rPr>
              <a:t>Evoluce jako hra s nenulovým součtem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Úvo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Evolu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Teorie h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WRIGHT, R. Víc než nic. Logika lidského osudu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4" name="Obrázek 3" descr="evoluce.jpg"/>
          <p:cNvPicPr/>
          <p:nvPr/>
        </p:nvPicPr>
        <p:blipFill>
          <a:blip r:embed="rId1"/>
          <a:stretch/>
        </p:blipFill>
        <p:spPr>
          <a:xfrm>
            <a:off x="2714760" y="2071800"/>
            <a:ext cx="6151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Evolu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táří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esmíru – 13,7 miliard l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lunce – 4,7 miliard l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Země – 4,6 miliard l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Život vznikl před 3,5 mld l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3 miliardy let byl pouze jednobuněčný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„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oderní“ člověk - </a:t>
            </a:r>
            <a:r>
              <a:rPr b="1" i="1" lang="cs-CZ" sz="2900" spc="-1" strike="noStrike">
                <a:solidFill>
                  <a:srgbClr val="000000"/>
                </a:solidFill>
                <a:latin typeface="Tw Cen MT"/>
              </a:rPr>
              <a:t>Homo sapiens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- asi před 200 000 le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Evolu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w Cen MT"/>
              </a:rPr>
              <a:t>Darwinova evoluce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(Darwinismus) vs. </a:t>
            </a:r>
            <a:r>
              <a:rPr b="0" i="1" lang="cs-CZ" sz="2900" spc="-1" strike="noStrike">
                <a:solidFill>
                  <a:srgbClr val="000000"/>
                </a:solidFill>
                <a:latin typeface="Tw Cen MT"/>
              </a:rPr>
              <a:t>Inteligentní plán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(Intelligent design)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Darwinismus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(150 let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šechny organismy jsou modifikovaní potomci společného předka, kteří vznikly akumulací náhodných odchylek a neřízenými procesy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Inteligentní plá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z empirických důkazů lze některé rysy přírodního světa nejlépe vysvětlit pomocí inteligentní příčin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ak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eexistuje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vědecký důkaz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, že živočišné druhy se vyvinuly ze společného předk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arwinismus se neopírá o jediný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vědecky prokázaný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fakt, který by pokrokem ve vědě nebyl vyvrácen – vědecký konsensu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Poměr 500:700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ezi odpůrci a příznivci darwinismu z řad renomovaných vědc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fosilních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nálezů není možné za žádných okolností určit, kdo z nich je předek, kdo potomek, kdo otec, kdo sy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ak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řítomnost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informace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v DNA vylučuje náhod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Bičík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trávící bakterie – Musel  být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rovnou sestaven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podle konkrétního plánu takový jaký je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Srážlivost krve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relizovaná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kaskádou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proteinových moleku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arwinisté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bojkotují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publikování ve vědeckých časopisech práce ne-darwinistů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Evoluční hra a evoluční strategi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evztahuje se jen na biologické chování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Evoluční strateg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ztah k produkci potomstva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íra podstupovaného rizika – spojitost s finančními trh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Evoluční strateg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yužívá počítačové modely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čím úspěšnější, tím více potomků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Vězňova hr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va vězňové, čtyři možnosti řeše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ejvýhodnější pro nás já jsem zlý, on je dobrý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ejméně výhodná je opačná strategi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lušná výhoda při kooperac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írná prohra při vzájemném podraz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dánlivě se vyplatí podvádě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Ale! Při vzájemné kooperaci „body navíc“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Podmínky simula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ekonečná hr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okonalá paměť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Čím více bodů, tím vícekrát strategie v dalším ko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Řada přednastavených strategi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8:13:04Z</dcterms:created>
  <dc:creator>Pafča</dc:creator>
  <dc:description/>
  <dc:language>en-US</dc:language>
  <cp:lastModifiedBy>Pafča</cp:lastModifiedBy>
  <dcterms:modified xsi:type="dcterms:W3CDTF">2008-10-01T11:42:18Z</dcterms:modified>
  <cp:revision>22</cp:revision>
  <dc:subject/>
  <dc:title>Evoluce jako hra s nenulovým součtem</dc:title>
</cp:coreProperties>
</file>