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65A-17BA-48F2-A03F-32DE3BE1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572-B33D-4EE6-B284-F9A72E77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FB0-877F-42C6-9A60-51014C48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35D-5954-4512-B0C6-494E4D48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FF0BA-559C-4E63-89CE-2A807485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314B0-5A8B-4793-B497-10B5FD1C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B85CC-917C-4B8C-AE46-0746BEBA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02944-B68D-4ABB-8A45-1468247D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6AC6D-54F5-485D-992E-9389FEB6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BB5BF-3BA8-4E55-BBB5-5B085E36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0CF8B-BF02-489A-A718-D35F4AA9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99B-ED5B-4E29-9769-3621E17A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36DB0-FD95-48E4-A0A9-6005F5C7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65010-E1A7-46CF-8F76-DCF080BA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18826-8EE9-4FC0-9679-EC62EC4D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C2AC0-BFAD-457E-909E-6799574D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2FC5F-3ABC-41F1-878D-4223F4FE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DE5C-1E19-47AB-9BD9-319F5E89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562-A839-4571-A3B4-6E7A168D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C6C-751E-475D-A61E-826177AC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85E-0E0C-44EA-A0D1-FBA1A6BB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0AA-F9E0-4910-B415-7116060A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DE5-A4A2-4624-96A2-3D8DBD81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CB3-E8DB-44B1-B6E6-D2161ED4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253F-C4E7-47DE-BB94-E91BF4A85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2828-629A-4C52-9323-DB7C67917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kologické aspek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pracoval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byněk R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a Kubi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ena Košíčk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zorec poškození životního prostředí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atížení = Populace * Blahobyt * Technolo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ždý člen rovnice má stejnou 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hobyt – základ v kapitálu na oso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ie – energie * zátěž živ. pro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tát ekonoma z M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uktura modelu World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kteristiky model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y růstu (kapitál, popula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ožd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ozní proce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uhy mezí v modelu World3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dělávatelná pů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ýnos z jednotky pů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obnovitelné zdr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pnost Země absorbovat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chnologie, trhy a překročení mezí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ájemné působení trhu a technolog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h problém ohlás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ie problém ře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ddalování mezí - scénář 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dpoklad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ížení spotřeby neobnovitelných zdroj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ie snižující znečištění, zvyšující výnosy z půdy a technologie chránící pů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pady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výšení znečištění potlačí úrodnost pů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datečné vstupy do zemědělstv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lesá průmyslový produ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upá úmrt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olečné znaky kolapsu ve scénáří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lečnost odkládá setkání s mezemi pomocí ekonomických a technických úpra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budoucnu tak narazí na několik z nich zároveň a dojde jí schopnost zvládat situ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á velikost průmyslového produ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dé provádí kvantitativní změny, ale je třeba i strukturální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énář 10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dina se dvěma dětmi, požadované spotřební zboží na osobu omezené, všechny technologie pro lepší využívání zdrojů a regulaci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pad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ém  v rovnováze, trvale udržitelná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vale udržitelná společ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ce: společnost, která může přetrvat generace, je dostatečně předvídavá, pružná a moudrá na to, aby si nepodkopala jak fyzické, tak sociální systémy, které ji podporu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naky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jem na kvalitativním rozvoji, ne fyzické expan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rvání na současných nespravedlivých způsobech rozděl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ální zabezpečení a dostatek vš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ředpokla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okonalení signálů – informace vlád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rychlení odezev – aktivně hledat signály, v předstihu rozhod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imalizace používání ne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cházení erozi 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stavení exponenciálního růstu populace a fyzického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Úvo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roce 1971 byly závěry, že dosažení fyzických mezí využívání energie a materiálů lidmi je několik desítek let před ná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roce 1991 nehledě na vylepšené technologie, důraznější politiku ochrany životního prostředí, mnohé toky materiálů a znečištění překročily své udržitelné me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dlišný pohled na vě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nvironmentální et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šíření etiky o vztah člověka k Zemi a rostlinám a živočichů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teratur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ADOWSOVÁ, Donella h, MEADOWS, Dennis l, RANDERS, Jorgen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řekročení mezí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: konfrontace globálního kolapsu s představou trvale udržitelné budoucnost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Pavla Polechová a Ladislav Zvolánek. 1. vyd. Praha : Argo, 1995. 319 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MAJS, Josef, et al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odnikatelská a environmentální etik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Brno : [s.n.], 2008. 184 s. ISBN 978-80-210-4564-4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ákladní defin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kmit: jít za mez trvale udržitelné únosnosti životního prostře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ýpust: místo používané konečného určení pro toky energie a materiál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řídlo: Místo vzniku – počátku toků materiálů a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onenciální růst: růst, kdy rostoucí veličina přibývá za konstantní časový interval o konstantní zlomek své velik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ponenciální růst populac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binace porodnosti a úmrtnosti jsou různorod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méně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ředně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soce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ůst světového průmysl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ůmyslový kapitál rostl a roste rychleji než popu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 roku 1970 do roku 1990 vzrostl průmyslový produkt skoro o 10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jednoho člověka pouze asi o 1/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udob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ětná vazba dvou stra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ůsobuje chudoba růst populace neb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ůst populace způsobuje chudobu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ze: Zřídla a výpust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ůmyslový kapitál a populace jsou hnacími silami exponenciálního růstu díky své sebereproduk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yvatelstvo a kapitál berou materiály a energii ze Země, odpady a teplo do Země vrace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xistují meze pro využití materiálů, energie i pro produkci odpa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Pravidla pro meze průtoku podle Dalyho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novitelné zdroje – rychlost regener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obnovitelné zdroje – rychlost nahrazení obn. zdro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nečišťující látky – rychlost recyklace, absorbce nebo zneškodnění prostřed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ávěry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nzita využívání přírodního bohatství a produkce odpadů není trvale udržiteln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dměrné průtoky nejsou nezbytn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ze Země jsou na dos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19:34Z</dcterms:created>
  <dc:creator>Drahoš</dc:creator>
  <dc:description/>
  <dc:language>en-US</dc:language>
  <cp:lastModifiedBy>Zbynek</cp:lastModifiedBy>
  <dcterms:modified xsi:type="dcterms:W3CDTF">2008-10-13T12:59:52Z</dcterms:modified>
  <cp:revision>16</cp:revision>
  <dc:subject/>
  <dc:title>Technologie, trhy a překročení mezí </dc:title>
</cp:coreProperties>
</file>