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F3B2-B643-466E-8770-29EAB617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099-9290-42F3-81BB-467EFCBC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3A0A-D49B-4AC6-A1E0-BF5959D4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1104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096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112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1104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096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92D-1407-4B4D-9DC9-FB0AF07B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7682-3212-4405-AC03-46554C5F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288C-D873-49E4-89ED-E802D88D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4803-91BB-4A9A-8584-5B42ABC4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8D10-9357-4221-8EBF-AC80E95D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AC9C-37FE-4C5E-B230-78588506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33360" y="837720"/>
            <a:ext cx="662940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DACB-2883-4D39-836E-2A8C230E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3D23-8AEA-4100-9E8F-CB65ACA0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D491-007E-4AFD-83AA-46BB0425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11F6-C482-4A9E-8BDD-E25FCAC8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3B3F-183E-4195-A85B-6EC46D62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580F-A0F3-45D8-B26A-92C502E3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CC11-EC34-41CB-899D-57339DFE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1104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096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112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71104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096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5DAB-16C9-4D7C-9DBC-B3FCF611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873-E3D5-4341-9EA9-5C3C299E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F410-B0D1-49A6-883D-73AF99C7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959-2CEB-440E-8B86-3505E643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360" y="837720"/>
            <a:ext cx="662940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3A9A-3604-4955-99EF-E3902218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D72-7CA9-4949-8445-4AD8B9D6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015E-028D-4040-B39D-0D0236F0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15BF-6302-4921-8102-31090E09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6A1F-8357-47C9-8E21-2D281CD4329E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085E-0564-4909-A3DF-6742DCB67E8B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ff66"/>
                </a:solidFill>
                <a:latin typeface="Arial Black"/>
              </a:rPr>
              <a:t>Zrod a vývoj kapitalismu jako fenoménu industriální společnosti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1120" y="4876920"/>
            <a:ext cx="449568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Simona Doubková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Petra Krupová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Lenka Valentová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16.10.2008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rotestantismus a kapitalismus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Kapitalisté a podnikatelé jsou většinou protestant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č? K získání hospodářských funkcí je třeba kapitál a nákladné vzděl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Řada bohatých měst se v 16. století přiklonila k protestantstv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testanti prokazují sklon k ekonomickému racionalism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Katolic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pása za pomocí církve a svátost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Dobré skutky příležitostně – k odčinění hříchů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ok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Jednotlivé skutky (dobré a špatné) se člověku připočítávaly a pak ovlivňovaly jeho věčný osud (úhrnné saldo života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Askeze mnišská v klášterech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Kalvin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Učení o vyvolenosti (predestinaci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Žádný kazatel ani svátost nejsou prostředky k získání milosti boží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Nepomůže ani církev, ale naopak - kdo do církve nevstoupí, nemůže být vyvolený ke spás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Nelze poznat, kdo je vyvolený a kdo zavrže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Jako prostředek k dosažení žádoucího vědomí se doporučuje neúnavně pracovat v povolání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Pokus rozšířit askezi do všedního života (nejen v klášterech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Systematické chování (metodisté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ovolání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okud člověk nemá pevné povolání, těká v příležitostné práci, utrácí víc času v lenošení než v dílu.“ [R. Baxter: Christian Directory]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Životu bez povolání chybí systematičnost, metodičnost, což žádá světská askez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Užitečnost povolání se měří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Měřítkem mravním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Měřítkem důležitosti produkovaných statků pro „celek“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Měřítkem soukromohospodářské výnosnosti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ovolání =&gt; Bohatství – pro Boha, nesmí svádět k hříšným požitkům a povalován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Vznik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412"/>
              </a:spcAft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odpora výdělečné činnosti a zisku, ale zároveň světská askeze, která bránila užívání majetku =&gt; to vedlo k akumulaci kapitál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rotestantská etika a tržní hospodářství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077000" cy="4267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38760" y="1752480"/>
            <a:ext cx="4076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Gerhard Wilhelm (William) Ditz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ar. 1917 v Praz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WW II – emigrace do   US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americký sociolog a ekonom českorakouského původu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2 proměnné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ezávisle proměnná – etika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                                      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(dle Webera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ávisle proměnná – ekonomické chov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Vznik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(moderní tržní hospodářství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pojen s přijetím kalvinism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6000" y="404640"/>
            <a:ext cx="6480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ccff66"/>
                </a:solidFill>
                <a:latin typeface="Arial Black"/>
              </a:rPr>
              <a:t>Středověk vs. kalvinismus</a:t>
            </a:r>
            <a:endParaRPr b="0" lang="en-US" sz="3300" spc="-1" strike="noStrike">
              <a:solidFill>
                <a:srgbClr val="ccff66"/>
              </a:solidFill>
              <a:latin typeface="Arial Black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99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žská práva králů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 aristokraci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žská práva vlastníků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 meritokraci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mezení spotřeb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sketismus a maximalizace výroby (zisku)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abuizace úroků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ůraz na spoření a investování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áce - trest boží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„</a:t>
                      </a: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ovolání“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111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uzavřená pyramidová struktur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tevřená pyramidová struktur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Kritika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marxisté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žádná podpora pro dělnickou třídu (masy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dlouhodobá neudržitelnos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merkantilisté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dohled krále a církve nad obchodníke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Web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nestabilní a institucionálně zranitelný systé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Obsah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6699"/>
                </a:solidFill>
                <a:latin typeface="Arial"/>
              </a:rPr>
              <a:t>Protestantská etika a duch kapitalismu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(M.Weber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testantská etika a tržní hospodářství (W.G.Ditz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Úpadek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adlužov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ezaměstnanos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tátní zásah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důraz na lidská práv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Literatura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WEBER, M.  Protestantská etika a duch kapitalismu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DITZ, W. G.  Protestantská etika a tržní hospodářství. 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HINDLS, R., HOLMAN, R., HRONOVÁ, S. a kol. Ekonomický slovník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SIRŮČEK, P. a  kol. Hospodářské dějiny a  ekonomické teorie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95280" y="83664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Děkujeme za pozornost!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ojem KAPITALISMUS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polečenský a ekonomický řád, charakterizovaný soukromým vlastnictvím, tržní koordinací ekonomických činností a námezdními vztahy mezi vlastníky kapitálu a pracovníky. </a:t>
            </a: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(Ekonomický slovník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rod v 16. stol. – raný kapitalismu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ahrazuje dosavadní feudální systé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Od feudalismu ke kapitalismu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Feudalismus: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hlavní role: zemědělství – soběstačnos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směna jen omezeného okruhu výrobků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vrcholný středověk: rozkvět měst – cechovní řemeslná výroba, trhy, městská práva a svobody a nové sociální vrstvy (řemeslníci a obchodníci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postupný nárůst populace, zvyšující se poptávka po zboží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rozšiřování dělby práce a směny – roste význam peněz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ámořské objevy – 15., 16. stol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nárůst vzdělanosti a náboženská reforma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Raný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ociální transformace – kapitalističtí podnikatelé (buržoazie) a námezdní dělnictv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ystém založený na kapitálu a námezdní práci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oces kolektivní akumulace – počáteční nahromadění kapitálu a odloučení výrobců od vlastnictví výrobních prostředků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Diferenciace hospodářského vývoje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erovnoměrný vývoj v různých částech Evrop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západní Evr. rychlejší a přímočařejší vývoj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měny - buržoazní revolu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třední Evr. v 16. a 17. st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astavení růstu měst a rozvoje prvků raného kapitalism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dodavatel zemědělských, lesnických a zčásti báňských produktů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měny – reformy shor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růmyslová revoluce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řechod od ruční výroby v manufakturách k tovární strojní velkovýrobě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Anglie v 2. pol. 18. stol. X méně vyvinuté časti Evr. v 2. pol. 19. stol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Kapitalismus volné konkurence (soutěže)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vrchol 60. a 70. léta 19. stol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prosazování principů liberalismu do hospodářské politik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rušení omezení zahraničního obchodu - volný pohyb zboží, lidí a kapitál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každý občan mohl založit podnik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slabší podléhali silnějším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koncentrace výroby a kapitál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vznik obchodních bank – roste objem úvěrů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kapitalistická společnost – 2 třídy: buržoazie (průmyslníci) a dělnictvo – sociální otázk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ff66"/>
                </a:solidFill>
                <a:latin typeface="Arial Black"/>
              </a:rPr>
              <a:t>Protestantská etika a duch kapitalismu</a:t>
            </a:r>
            <a:endParaRPr b="0" lang="en-US" sz="3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38760" y="1752480"/>
            <a:ext cx="4076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Max Web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1864 - 1920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ěmecký sociolog a ekono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řazen mezi tzv. otce zakladatele sociologie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49400" y="1752480"/>
            <a:ext cx="3197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9:31:11Z</dcterms:created>
  <dc:creator>čtenář</dc:creator>
  <dc:description/>
  <cp:keywords/>
  <dc:language>en-US</dc:language>
  <cp:lastModifiedBy>172114</cp:lastModifiedBy>
  <dcterms:modified xsi:type="dcterms:W3CDTF">2008-10-15T15:07:35Z</dcterms:modified>
  <cp:revision>38</cp:revision>
  <dc:subject/>
  <dc:title>Zrod a vývoj kapitalismu jako fenoménu industriální společnost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81029</vt:lpwstr>
  </property>
</Properties>
</file>