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6DF-768B-4DDA-9DDE-7E911619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2F1-782D-4600-ACFC-DF98A23A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584-35AE-4391-B733-7D5EBEB2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306-F1AA-4877-AA8E-AEBDA7D4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DB3-B4CF-427B-A13D-CCD55094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D42-F05A-462C-AE1B-906A5A28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ADC-C412-4380-A60E-D2FED9ED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491-F8D1-4039-813F-E9CA9746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764-4C2C-4194-918B-98115D9B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DE2-8AFE-4282-8767-DC5505F7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D1F-2952-4098-ADD9-4186150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6D1-CED3-4BD7-8EA2-BFA3194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788D-631C-4DF5-8C92-C9BCD6240F21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7521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Vývoj společnosti v pojetí A.Toffle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556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0)ZRÝCHLEN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dochádza k úsporám z rýchlosti a nie veľkovýroby, „čas sú peniaze“ sa mení na „každý časový interval je hodnotnejší ako bol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Podľa Petersona: „ Peniaze sa pohybujú rýchlosťou svetla. Informácie sa musia pohybovať rýchlejšie.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99"/>
                </a:solidFill>
                <a:latin typeface="Verdana"/>
              </a:rPr>
              <a:t>Kritéria 3. vln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316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1)Pripomína to továreň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Ak áno, môže z toho vzniknúť hocičo, len nie 3. vln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2)Demasifikuje to spoločnosť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Zástanci 3. vlny chcú vykonávať prácu, ktorá si žiada demasifikáciu spoločnosti, zatiaľ čo stúpenci 2. vlny usilujú o uchovanie masovej výrob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3)Koľko vajec je v košík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ide o prenesenie rozhodnutí na perifériu, a nie koncentrácia problémov na centrále, ktorá má málo informáci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4)Je to vertikálne alebo virtuáln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prevláda virtuálna integrácia – tzv. „zmluvné spojenia“ alebo „minimalistické, ba až neviditeľné organizácie“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5)Vracia to silu domov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šetko, čo navracia silu rodine a zdôrazňuje jej rolu je prejavom 3. vln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Šok z budouc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ová duševní nemoc s těžkými násled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čané nejbohatších a technicky nejrozvinutějších zem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jevy: dezorientace, ztráta schopnosti racionálně se vyrovnávat se svým okol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zasáhne celou společnost -&gt; masová dezorient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měny a jejich zrychle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blém držet krok s požadavkem změny, zrychlují se a je jich stále ví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tzv. „800. generace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ysoká spotřeba energ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znásobení objemu výroby a služeb (2x za 15le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míjiv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ultura „věcí na jedno použití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architektura, technický pokro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„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modularismus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najím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empo živo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1736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luboce ovlivňuje ch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dividuální posto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místění v č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si 70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minul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s 25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přítom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byt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budouc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elativní vnímání času – starším utíká rychle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ské vztahy – pokles průměrné délky tr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ektický pohyb lidé v superindustriální spo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Strategie pro přeži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Řešením „šoku z budoucnosti“ není umělé potlačení vývo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Úroveň osobní a společenská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osobní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snížení úrovně stimula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pnout hudb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páchnoucím místů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avřít si dveř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bav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gulace množství rozhodnu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držování dlouhodobějších vztahů k věc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reorganizací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vořit tzv. „zóny stabili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edvídat změny, plánovat – poměr čas : emo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společenská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mezení ničivých důsledků změn na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ituační skupin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radenský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ům na půli ces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minul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budoucn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olečenské rituá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šíření adaptivních kapacit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hled literatu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Šok z budoucnosti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Praha : Práce, 1992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1989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, TOFFLEROVÁ, H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Nová civilizace : třetí vlna a její důsledky.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aha : Dokořán 2001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Futurolog, sociální myslit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Hlavní oblasti záj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opad technologií na společnost/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ces změ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braná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díla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Šok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z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budoucnosti, 197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1980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sun moci, 199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ová civilizace: třetí vlna a její důsledky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álka a antiválka: jak porozumět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nešnímu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globálnímu chaosu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rvní vlna – pre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hradila předchozí společnost lovců a sběrač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da představovala základ hospodářství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měna výrobků byla omezen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Jednoduchá dělba prá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vod determinoval postavení člověka v životě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Druhá vlna – 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9368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cca 1650 –1955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ůst počtu obyvatelstva, který povzbuzoval přesuny do měst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chnologický pokrok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ddělení výroby od spotřeb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vinutá dělba práce, speci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ynchronizace a standard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axim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1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Začiatok cca po 2. W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Dnešná generácia na rozhraní 2. a 3. vl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Sú aj zeme pod vplyvom všetkých troch vĺn, kde každá má inú rýchlosť a sil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prevláda jedna vlna- situácia ľahko odhadnuteľn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súčasný výskyt dvoch alebo viacerých vĺn a ani jedna nepreváži- obraz budúcnosti je rozbit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Protichodné tendencie vĺn sa prejavujú v práci, rod. živote, sex. postojoch, i osobnej morálke 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  <a:ea typeface="Arial"/>
              </a:rPr>
              <a:t>→ zákl. konflikt medzi dvomi skupinami ľud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Tento konflikt autor nazýva „superzápas“ zajtrajška. Je to vlnová teória konfliktu kde civilizácia 2. vlny bojuje proti civilizácii 3. vl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Vytvorili sa tak zeme 3 sektorov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1. vlny dodáva poľnohospodárske a nerastné zdroj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2. vlny poskytuje lacnú prac. silu a pásovú výrob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3. vlny predáva informácie a inovácie, management, kultúru, vzdelávanie, výcvik, fin. služby a ost. služby celému svet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Spôsob, ako vytvárame bohatstv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)VÝROBNÉ FAK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práca, pôda, kapitá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poznanie zahrňujúc dáta, informácie, obrazy, symboly, kultúru, filozofiu a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)NEHMOTNÉ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hodnoty podniku sa merajú pomocou hmotných aktí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hodnoty podniku sú v získavaní, generovaní, distribuovaní a aplikovaní poznat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)DEMASIFIKÁ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výrobné systémy s neobmedzenou škálou výrobkov, s lacnou variabilitou, prevláda masová výro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masový trh sa rozpadá, špecifikuje, je rôznorodý podľa potreby zákazníka, zameranie až na „atómy“ t.j. na jednotliv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1116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)PRÁ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2.vlna: prevláda fyzická práca, ktorá bola ľahko zameniteľná vďaka masovému vzdelaniu robotníkov, bez nákladov za náhrad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evláda duševná práca, ktorá je ťažko zameniteľná a nákladná kvôli vzrastajúcej špecializácii a rýchlym zmenám v požiadavkách na profesi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NOVÝ VÝZNAM NEZAMESTNANOSTI: presun od kvantitatívnej ku kvalitatívnej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5)INOVÁ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firmy požadujú od zamestnancov kreativitu a „odpútanie“ od smerníc, nové výrobky a nápady sú vítané vo svete neustálej konkurencie ak  chce spoločnosť prežiť na trh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6)MERÍTK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ac. jednotky sa zmenšujú, rozsah operací sa minimalizuje, masy robotníkov sú nahradzované diferencovanými tímami, obrovské podniky sa zmenšujú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746000"/>
            <a:ext cx="844524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7)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2. vlna: podniky mali podobné organizačné schém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3. vlna: dnešné trhy, technológie a požiadavky sa menia tak rýchlo a vyvíjajú taký tlak, že uniformita nemá šanc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→ „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reengineering“ –reštrukturalizácia firmy podľa procesov a nie podľa trhov, či oddelení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8)SYSTÉMOVÁ 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vzrastajúca komplexita volá po rafinovanejšej integrácii a managemente, ako aj po nových formách vedenia a vysokej úrovni systémovej integráci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9)INFRAŠTRUKTÚR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nezbytné investovať do elekt. sietí, ktoré prepojujú počítače a databázy, ako aj firmy s dodávateľmi a so zákazníkm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        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0-06T21:14:17Z</dcterms:modified>
  <cp:revision>10</cp:revision>
  <dc:subject/>
  <dc:title>Business 1 Template</dc:title>
</cp:coreProperties>
</file>