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A9AC-2676-4569-B3B0-1E5C82353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24D8-1F75-45C3-95BA-BB4FFACE8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E683-9DBC-4A3A-9350-8AE4B01BC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B98A-B43F-422F-B287-0F8D7AF43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84015-0DA1-467B-81B5-FFD00337C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45D52-6753-4ECA-8958-67FB8D71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288FD-E660-475E-BCED-616D33569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08E4D-6962-418F-AFD6-007088F78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3FA70-495E-4601-8BE1-1BEFCE05C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CA971-B645-476B-981D-CB9490B3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84715-4C4B-4BC6-9147-96240372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2368-1220-41A1-9660-D26FD4977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A1013-5C69-4AE5-8445-543B1CB1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DEEDD-2529-455E-BFA1-1CEE72BD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DB66C-26D2-415E-8D32-B1008404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C95D7-55CE-473B-A761-F619990EB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35153-43BE-40BD-BEB9-A7A4223B6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09E5-EC9B-4A1F-88ED-478E5FC5C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E6C3-4281-4E08-9C79-0A62531DD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47E9-9EB3-4D33-A699-FD4065074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F50B-2F10-401C-969C-7684FC1CE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3208-E5F4-497F-BCFF-63184AEF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4984-0E7D-4C9B-9E07-2A980357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7484-E698-4555-89A3-CA48C9D0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652DD-1968-4DD9-A80C-F1E13FCB5B9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27D25-A3C1-4AC0-A494-0A3E47AC926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Instinkt, rozum a rozšířený řád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6666"/>
                </a:solidFill>
                <a:latin typeface="Arial"/>
              </a:rPr>
              <a:t>Michal Plaček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6666"/>
                </a:solidFill>
                <a:latin typeface="Arial"/>
              </a:rPr>
              <a:t>Ondřej Roudnický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6666"/>
                </a:solidFill>
                <a:latin typeface="Arial"/>
              </a:rPr>
              <a:t>Juraj Podhradský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Úvod do problematiky konfliktu instinktu a řádu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řijaté způsoby jednání po nás často vyžadují zanechat toho co po nás vyžadují naše instinkt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de 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éně střet citu a rozum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íce spor vrozených instinktů a naučených pravid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Úvod do problematiky konfliktu instinktu a řádu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řiznám se, že se musím usmívat vždy, když knihy o evoluci, dokonce i knihy napsané vědci, v nichž se uznává, že se vše až dosud vyvíjelo procesem spontánního řádu, končí apelem na lidský rozum, aby se teď, když věci začaly být tak složitými, chopil otěží a řídil budoucí vývoj.“ F.A.Haye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Úvod do problematiky konfliktu instinktu a řádu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stinkt starší než zvyk a tradic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vyk a tradice jsou starší než rozu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ozum a morálk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usíme se mít na pozoru před domněnkou, že zvládnutí vědecké metody rozšiřuje způsobilost myšlení obecně. Zkušenosti ničemu tak jasně neodporuje jako přesvědčení, že člověk, který vyniká v jednom nebo více oborech, je v otázkách každodenních záležitostí moudřejší než kdokoli jiný.“ W. Trot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ozum a morálk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ozum podle Locka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NENÍ schopnost pochopení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ALE principy činnosti, ze kterých vznikají ctnosti a vše nezbytné pro vznik morálních zása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orálka není výtvorem lidského rozumu, ale produktem kulturní evoluc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ozum a morálk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becně platí, že čím inteligentnější a vzdělanější člověk je, s tím větší pravděpodobností bude nejen racionalistou, ale také zastáncem socialism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acionalisté mají sklon být inteligentní a intelektuálští a inteligentní intelektuálové tíhnou k socialismu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ozum a morálk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ligentní lidé ale budou mít tendenci nadhodnocovat význam inteligence a předpokládat, že současné výhody a příležitosti jsou spíše produktem promyšleného plánu než dodržování tradičních pravidel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ozum a morálk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Jen to co je racionálně zdůvodnitelné a lze to dokázat experimentem si zaslouží důvěru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Jen podle toho co působí potěšení, bychom měli jednat a ostatní odmíta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=&gt; hlavní morální tradice si nezasluhují naši oddanost a naším úkolem je konstrukce nové morálky podmíněné vědeckým poznáním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ozum a morálk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ředpoklady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ní rozumné držet se toho co nelze vědecky zdůvodnit nebo dokázat pozorováním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ní rozumné dodržovat to, co člověk necháp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ní rozumné dělat cokoli nejsou-li předem známy účinky a nejsou-li tyto ověřitelné a prospěšné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ozum a morálk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mysluplné a rozumné jen ty procesy, které jsou vědecky prokazatelné, pochopitelné a nepostrádají cí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ětšina principů, institucí a způsobů tradiční morálky nevyhovuje uvedeným požadavkům =&gt; jsou tedy nerozumnými a nevědeckým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sa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Úvod do problematiky konfliktu instinktu a řád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ozum a morálk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azyk, růst populace a náboženstv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azyk, růst populace a náboženství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Ztratí-li slovo svůj význam, ztratí lidé svou svobodu“ Konfuci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azyk, růst populace a náboženství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azyk nám umožňuje nejen označovat objekty dané našim smyslům jako jednotlivé entity, ale také klasifikovat nekonečnou rozmanitost kombinací charakteristických znaků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azyk, růst populace a náboženství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nimizmus x artificialism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azyk, růst populace a náboženství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EVHODNÉ výrazy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kapitalismu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žní ekonomik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VHODNÉ výrazy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katalaxe = předmět ekonomi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azyk, růst populace a náboženství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siččí slovo „sociální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Z popisného významu se přechází k předpisu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Účinky slova „sociální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Zvrácená představa, že to co vzniklo spontánně, je vlastně výsledkem cílevědomé lidské tvorby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peluje na lidi, aby znovu rozvrhli to co sami nemohli navrhnou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Zbavuje významu substantiva za ním =&gt; lasiččí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azyk, růst populace a náboženství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žívání termínu „sociální“ je totéž jako volání po distributivní spravedlnosti. Ta je neslučitelná s tržním řádem založeným na konkurenci =&gt; sociální = protispolečenský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azyk, růst populace a náboženství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althusiánské teorie nemají v dnešní době opodstatnění, protože vycházejí z dvoufaktorové ekonomiky a homogenního faktoru prác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idská populace je sebestimulující a není sebelimitující jako u zvířa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azyk, růst populace a náboženství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ůst populace neskončí dokud nebudou jednotlivé úrodné části země přibližně stejně hustě osídlené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ůst populace je esenciální pro růst blahobytu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azyk, růst populace a náboženství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Život nemá jiný účel než sebe sama (atomová katastrof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azyk, růst populace a náboženství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áboženství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incip tvorby a zachování morálních zásad, protože tyto nemohou být zachyceny během jednoho život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Zachovala se jen náboženství podporující oddělené vlastnictví a rodinu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Úvod do problematiky konfliktu instinktu a řádu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Zákony svědomí, o kterých říkáme, že se rodí z přírody, se rodí ze zvyku“ M.E. de Montaig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iteratu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ayek, F.A., Osudná domýšlivost: omyly socialismu. 1. vyd. Praha : Sociologické nakladatelství, 1995. 200 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ayek, F.A., Kontrarevoluce vědy : studie o zneužívání rozumu. 1. vyd. Praha, Liberální institut. 1995. 212 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Šmajs, J., Filosofie psaná kurzívou. 1. vyd. Brno : Doplněk, 2003.113 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ěkujeme za pozornos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Úvod do problematiky konfliktu instinktu a řádu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ristoteles věřil, že počet lidí žijících v řádu nemůže o mnoho překročit množství, ke kterému by dolehla slova hlasatele, a proto je stát čítající 100 000 lidí neuskutečnitelný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ozhodoval se na základě instinktů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Úvod do problematiky konfliktu instinktu a řádu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lo by nám zatěžko uvěřit, že něco takového, jako je náš nynější řád, je vůbec možné, a vyprávění o něm bychom považovali, kdybychom v něm reálně nežili, za bájnou a zázračnou pověst o něčem, co nikdy nemůže nasta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ynější dimenze existence lidstva a její struktura vznikla zejména díky pravidlům lidského chování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Úvod do problematiky konfliktu instinktu a řádu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ozšířený řád se neobjevil najednou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žní řád je teprve nedávný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ruktury a tradice tohoto řádu vznikali dlouh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Úvod do problematiky konfliktu instinktu a řádu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 obratu od zvířete k člověku došlo díky kulturně determinovaným omezením vrozených reakcí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aučená pravidla, kterými se jedinec začal nevědomky řídit, nahrazovala instinktivní jednání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Úvod do problematiky konfliktu instinktu a řádu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Genetický a kulturní vývoj se dostává do konfliktu (analogicky prof. Šmajs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Mezi nejdůležitější z vrozených instinktů, které pomáhaly odstranit instinkty jiné, je schopnost učit se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Přesto zásadní konflikt mezi tím co mají lidé instinktivně rádi a naučenými pravidly chování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Úvod do problematiky konfliktu instinktu a řádu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ozšířený řád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NÍ přirozený (nepřizpůsobuje se biologickému vybavení člověka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JE přirozený – vzniknul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10:51:28Z</dcterms:created>
  <dc:creator>Ondra</dc:creator>
  <dc:description/>
  <dc:language>en-US</dc:language>
  <cp:lastModifiedBy>Ondřej Částek</cp:lastModifiedBy>
  <dcterms:modified xsi:type="dcterms:W3CDTF">2008-10-07T14:03:40Z</dcterms:modified>
  <cp:revision>8</cp:revision>
  <dc:subject/>
  <dc:title>Instinkt, rozum a rozšířený řád</dc:title>
</cp:coreProperties>
</file>