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18C-A07D-49BB-ADAC-44123B01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515-B0B9-41B1-8EDF-035757F0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731-D779-458E-BC12-0E70CD8D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7CD-D23F-42D6-B69D-E6EFBBDB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507D-A755-4311-A848-B941B8F9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FC3C-F195-4951-B5EA-160B4BAC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CA4-D0C0-40EE-A2B0-4B81DF5C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F24B-1E17-45C6-9340-853C6E4A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77EE-0AE5-424B-A154-D6D0D583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97F2-7C56-418D-A7F7-1C374A4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D053-DF5F-4817-9C99-F7FCD6F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2E4-9FC1-474D-881C-7793DA71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A8F7-6ADB-410B-AF04-16729162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2F70-0FA1-45E8-B194-C81CE032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1AA7-D41A-417E-940B-001D53BD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6854-1539-42F3-8EB6-6B931F07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C1A2-296F-4151-A535-865CE003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EB4-3454-423B-B1DC-BE4562BB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A00-B633-42EC-9847-24046F90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8F2-CAAD-41EF-8E86-394C2EAB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25F-EB9B-4BAE-84DD-FDA4CEDE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D72-6B30-4E70-B6D8-56C27804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00B-DCA2-45C0-BDBB-798D0512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53F-BCC8-46B8-B8F2-831A57C2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0223-3BB3-42D7-AFFD-F4AD6047CE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74B7-ABE9-4F98-8402-B4121D82FE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Přirozená a kulturní evolu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chová, Jelínek, Kaszp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 - výjimečný živočišný d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je motorem kultur. evol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ůvodního přírodního řádu vytváří odvozený kulturní řá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a – nestandardní, potenciálně protipřírodní subsystém bi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rodukt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organis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přirozené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ztah přírodní a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roda vytvořila dokona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hard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mco kultura, do níž se člověk socializu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pouze je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soft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onflik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vs.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  vs. přirozeného (řád z řá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mná přirozená uspořádanost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bi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stupuje před hrubou nebiotickou uspořádaností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techn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rama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sledky konfliktu – ekologic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m směřuje šipka čas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Litera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Drama evolu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Hynek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Konflikt přirozené a kulturní evolu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no: MU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,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Šíp času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trava: OLDAG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rwin, CH.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 O původu člověka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: Akademik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Mezi chaosem a řá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Mladá fronta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evolu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likt přirozené a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volný, průběžn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, svébytný a spontánní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stále jem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iferencovanější 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ucelenou evoluční teo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Jean Baptiste La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procesu změn dědičných vlastností mezi organismy (evoluční biolog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šní chápání vychází z 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Charlese Darw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ek evolučního procesu je vždy víceméně neznámý, předem nezjist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epředpověditel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h evoluce je na každé organizační úrovni ovlivňován uvnitř i vně systému mnohými nahodilými fak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Č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68360" y="1557360"/>
            <a:ext cx="6624720" cy="4176720"/>
            <a:chOff x="2268360" y="1557360"/>
            <a:chExt cx="6624720" cy="4176720"/>
          </a:xfrm>
        </p:grpSpPr>
        <p:sp>
          <p:nvSpPr>
            <p:cNvPr id="98" name=""/>
            <p:cNvSpPr/>
            <p:nvPr/>
          </p:nvSpPr>
          <p:spPr>
            <a:xfrm>
              <a:off x="4572360" y="1845360"/>
              <a:ext cx="1728000" cy="3888720"/>
            </a:xfrm>
            <a:prstGeom prst="downArrow">
              <a:avLst>
                <a:gd name="adj1" fmla="val 50000"/>
                <a:gd name="adj2" fmla="val 5626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04360" y="2565360"/>
              <a:ext cx="720000" cy="1440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č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360" y="1557360"/>
              <a:ext cx="2304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BIOLOGICK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energie, hmot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236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2360" y="342972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Soutěžení o zdr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2360" y="414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(přežití nejzdatnějšíh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2360" y="486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036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036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036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036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836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0836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6720" y="155736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UMĚL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strojový čas, paměť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672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8720" y="3429720"/>
              <a:ext cx="273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Soutěž o zdroje času a paměti 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8720" y="4149720"/>
              <a:ext cx="3024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nejzdatnějšího sebereplikujícího se algoritm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720" y="4869720"/>
              <a:ext cx="2016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72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472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472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472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272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5272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dká expanze kosmické hm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 15 mld.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ý tř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ice, atomy, molekuly, kosmické objekty, země, nerosty, horniny, vody, půdy a předchůdce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é fáze tvorby hvě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ležitost a vztah přirozené evoluce pro kulturní evolu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š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aznost na přirozenou evolu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á aktivita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ověká filozofická koncepce děj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56:11Z</dcterms:created>
  <dc:creator>Čech</dc:creator>
  <dc:description/>
  <dc:language>en-US</dc:language>
  <cp:lastModifiedBy> </cp:lastModifiedBy>
  <dcterms:modified xsi:type="dcterms:W3CDTF">2008-09-29T17:58:45Z</dcterms:modified>
  <cp:revision>5</cp:revision>
  <dc:subject/>
  <dc:title>Přirozená a kulturní evoluce</dc:title>
</cp:coreProperties>
</file>