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2B73B-0921-454E-9E66-1C29B8B40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0BE9C-59AA-41B3-8521-25ED34A8F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4E9FC07-DFD3-4B5C-BA2B-FEBF7FEBBC6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5A08D6F-7FFA-44B9-BEAE-9639F8E7C95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188A6A3-5778-4B09-852E-3E85BC3F6DB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0A85AD4-0C03-4C86-988E-89B487827BF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27873EC-8471-470F-9485-33EE24CD48A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0C4C15A-AE32-4FC5-85D0-7FAE3CB9E6D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87DFC79-58C6-4F48-89AE-028DF9F4099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B4F90A3-D643-4C64-997E-6B602663D14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3AB23ED-D7C5-4427-80A1-429CCA3F8CC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00E059B-40FA-451F-B62A-89F2F2FA209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E2A0C-36D1-4426-A850-C949503B4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8BB44CA-F11B-41A1-83FC-949EB450FC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54778EB-1653-4C53-A71A-295E488455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973A31F-F578-40AA-99E1-B6327E7537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65C94CB-DFFD-494C-A24B-89B5ED6783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B35A6C7-4D40-4D4B-8A88-A5B23DE4A9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5B6EC35-1A08-4490-BE59-891C7EE5CB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E40D4DB-BB1B-43B8-98E9-836BAABF58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604F0C5-88BE-4AD1-AB60-302189EEEA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87429D8-639C-4DE0-B1E8-62E49882E9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BA8BF63-82DE-401D-9C17-FD0A89EED37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6C30F-78D9-4EDA-AC26-474C074F2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179C8A9-977B-49E9-A4DA-28FA3393F10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B38727B-EA02-4D23-B124-0C65EBAB05C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76BCA2-50F6-437E-9D8A-E5541BB676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E69A3C-6CCB-4D42-A221-035073CE41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17DA90-0D6C-4A29-ABCC-2AA95CE9C5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A6ACC4-4254-4C5E-B064-BB85DA43FE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7BABC6-0D5A-4051-8AAE-CA09E386FA6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E728D1-2EDF-4053-A189-B71E49475F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4C8E15-4D30-4A8E-B5A6-8FADEA5E34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2DE057-0933-45EB-838F-617CF9F858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132F34-6264-43C7-8E0A-B656E1FFC9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F00654-578C-4FE7-ADC1-463C0B1E1C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F095F01-5AF3-4591-A96D-3D3FA471479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9A894C1-379D-46AF-A105-80E750F32F3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F43FBC9D-86B9-41EE-AB68-1BF8A88DCF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4C8469B-A4CD-43B8-AC34-59CE42252D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D5878F7-1142-48F6-8A85-387DDCFCAB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A4313F0-DD9C-464B-AF43-0A3F30DED8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B5DB540-0EED-42DD-9DE3-0AF820B058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EAA83FD-3635-4935-8B75-6BD852CFE4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9ECF155-00D5-4B56-BFEB-4470C4F979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F2AD4-8100-4E9A-9427-CECF361EF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786C5E8-DE30-43E6-95DA-9769DCF7EB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E2FAB96-77FD-4ED0-A5E6-BE0905E5F6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2E95767-3E9C-461A-B266-6AEBBBF9B7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55FA491-B9E5-4511-B9FE-144F2F571D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C628BF4-1DF7-4904-931C-AFDAD8CCBD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ECEA6-42F7-46BC-AC81-C28EBBBFB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CAB00-2AEF-426E-A9AF-6E1DA915F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79322-B2E5-4280-98C4-2E69A49B4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99BC9-E934-46C8-902A-A2FEB50C2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B3E11-EB67-4E48-BFB6-DA1311A82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B9A4B-7CB3-4486-A39E-384C5D1C2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0F1DF-B925-4C0E-ADFB-B1EF8ABB0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5B403-559E-4595-A3D0-AD98172A9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A35C0-3583-4C83-8B07-5B6D8F9A7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EF0BD1-CA28-46FF-BDBD-5A720DBD3A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A4C7AD-24E0-4DE8-9464-A7E761585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7C07FD-36A7-424B-88B3-B577CA9E70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EE8879-0990-420A-B0EE-209AA5AE11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D0144A-BA33-4707-874E-A50B516727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03D7CC-B8E2-4D4B-9784-6FCA2C84C3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5ECDE1-A215-4115-B419-6CD4912E7F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64A82-59AE-4F7F-80CA-0837476CF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8902AE-0391-4597-BE50-CE081BEEB6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A6215B-56AB-4AA0-BA5D-FF07348BAA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D200C4-3D1C-4ACD-AEA0-AB521A83A9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9D3837-1035-46D0-9633-F7A06454B3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8553C1-536E-421C-B78E-D0510F2748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343BC7-53DC-42A9-8021-DE188D9644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15C98E-7182-49B9-BE22-4A0F2BA213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513689E-0C21-4FE4-9420-E6D1C74F49C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AFBE1C6-11B3-4688-BA03-169245D761E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C472669-3C5A-4898-B1A5-D04E582DF14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57941-ECA5-45FE-93C5-43E920B03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9CE6E29-DF4C-4828-ADBD-BF81441C258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2361BA3-55A8-4194-8417-A1A1F8AB36A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852A7F3-8FED-4842-B9C5-424AB095EB9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CDDA478-0BE6-42CD-984E-A5E19B728C4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53D3954-7A3F-40C8-84D4-3F6BDD671B7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621B5A9-A888-4984-96E7-376F1D04E4C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4A426A0-5DA6-4994-ABCF-B2309C7F341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6811510-F47A-4558-813F-781BCE8913E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85A6C4F-5903-470C-9970-6C722869C9D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09C177-3ACC-4800-A8BF-1D4A4221A5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C0D73-A311-4C53-9330-8C4C77E7D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E32BDD-70A8-4CA7-A1F0-05781CBD90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44834B-5E02-4DB4-8B82-E062188303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B369D9-8DD2-49E4-BCFA-D977127FF4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526358-9184-4523-8625-7F0BA561B1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12372A-E3C0-4773-8AF8-62D7687F15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D2B9ED-4A01-4D52-9AA8-D71943E924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4DF07D-9A16-4DD7-89FD-B7E8E23499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82DE9D-AD95-4A55-8704-0108868F3E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BD0A5A-5F27-48A8-87EB-34CCC8492E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4FB79E-B9E1-41D5-A5EA-9DF12BB152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FAE6E-03CD-4835-A487-8228D1C76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6B795D-4EE7-4A77-BFCD-42BB2ADE2E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79B7E4-70E4-4BE7-AD36-92E6DC9D8E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766498-F417-4F28-AAB2-C79C5D1B3F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9B367F-CD80-4411-BBCB-C5A7F1CD5D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E055C4-4520-438E-B434-77109E2B74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74E2FA-C80C-425F-8BE6-E1BB441A30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638CC8-329A-4BEB-99B2-B44A84F7A6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41BADA-E81D-4252-B665-3C83A4F1CD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617841-0D1D-4985-BABF-B4D14D6D50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88B85A-6961-4CBB-B128-4BE157E381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079F8-1FDD-4B6E-AD24-44633E73A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537A1E-530A-4077-8A74-ADED3340D9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1E7E58-5FE5-40E6-BF47-D678F20722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4E21B9-0389-4DEC-B621-1EEAD7F636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154938-E98C-417D-B879-43BCD264E1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533F60-DC13-4010-A2DB-F3BFB00B14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3F8FC0-0169-4444-9A65-B47186D151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F89A55-0112-4C8D-92F6-3F042D7D0A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6F9D67-9994-4D6A-85C4-4B6C617EEB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207295-6598-4D9D-9211-5BB484369A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B080ED-6B8A-464D-B0FE-58CFCEBEAE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79C6F-CBF2-468F-803F-0C8EABCA7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56E65A-39B7-443E-9EA2-8229DB2AE0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3A25E7-BE24-42B6-8F79-A1DA1065DB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A53CD3-3DB2-4883-B022-29C30B0A31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A93AB1-6AC7-4D2E-810C-D24E2A3FB6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191074-3727-4E58-87DC-C48D38CA6F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0BCD16-D045-4FFC-9A0A-AD003ACFFF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9D1482-D869-4269-9075-E6E6A5931A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A0FC15-D1EE-4919-9D31-9A6348C060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551F2A-B37E-4ED8-A2F5-EBA2EFB3C4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520158-1162-42EC-BB00-4560B34F4E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DE581-BEB7-44AA-BE00-75AB118FF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0619EA-9406-4887-9F06-BA3FA018B0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396AC6-684C-47B7-9718-CB7EF3CCCB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DF6235-D8DF-4E92-8815-D8D8B836F0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28C71A-DF28-40E4-88A3-24EE2BB174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8E91A4-EAA8-43F7-BB0C-C996398249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3163E5-FA4D-49CE-A983-F9100F8BFC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A0BA3A-7ED0-455F-B2C1-9152CAA288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883D2E6-4B12-4A27-9D8D-D1AA57BD8F6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91735C1-C272-4C77-960F-56491A409F7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9B75359-3B66-49F3-A3CD-585C6005039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CA780-2152-4A9F-91DA-E2988567D253}"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římá spojovací čára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Obdélní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Obdélník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Obdélní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Obdélník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Obdélník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Obdélník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Elipsa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Elipsa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Obdélník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BAEB-DCEC-40D0-B229-D73DD20F394F}"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D7B44-8E0A-43AA-8D40-A6797A1EE6A9}"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Obdélník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Obdélník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Obdélník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Obdélník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Přímá spojovací čára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Elipsa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Elipsa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932A6-5745-459E-8E62-786DEAD9CA96}"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Obdélník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Obdélník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Obdélník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Obdélník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Přímá spojovací čára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Obdélník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Elipsa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Elipsa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7F4C3-E760-4ABF-81FA-680A28F7DCBB}"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496F9-9F8C-40AE-BAF8-9F83D68AC229}"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Obdélník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Obdélník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Obdélník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Obdélník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Obdélník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Obdélník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Obdélník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Přímá spojovací čára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Elipsa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Elipsa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B3125-72F3-4DB4-972E-C1296F379216}"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Přímá spojovací čára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4FCE-5BEF-443E-B7C4-64CCEE7943A4}"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Přímá spojovací čára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Obdélník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Obdélník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Obdélník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Obdélník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Obdélník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Přímá spojovací čára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Obdélník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Elipsa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Elipsa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84412-B20F-40BB-B03D-1163FCDCCDE1}"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CC574-5B9A-4329-9D43-5631CD389E5B}"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Obdélník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Obdélní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Obdélník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Obdélník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59FB8-977E-481F-8615-0CF590078389}" type="slidenum">
              <a:rPr b="0" lang="cs-CZ"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Obdélník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Obdélní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Obdélník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Obdélní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Obdélník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Obdélník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Přímá spojovací čára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Elipsa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Elipsa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Obdélník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74B99-B0AA-469A-8E7C-7FA492852D7D}"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57200" y="3857760"/>
            <a:ext cx="6400800" cy="175248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Georgia"/>
              </a:rPr>
              <a:t>JAN ŠIMEČEK</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Georgia"/>
              </a:rPr>
              <a:t>MARTIN KARLÍK</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Georgia"/>
              </a:rPr>
              <a:t>JAN UHL</a:t>
            </a:r>
            <a:endParaRPr b="0" lang="en-US" sz="1600" spc="-1" strike="noStrike">
              <a:solidFill>
                <a:srgbClr val="000000"/>
              </a:solidFill>
              <a:latin typeface="Georgia"/>
            </a:endParaRPr>
          </a:p>
        </p:txBody>
      </p:sp>
      <p:sp>
        <p:nvSpPr>
          <p:cNvPr id="607" name="PlaceHolder 2"/>
          <p:cNvSpPr>
            <a:spLocks noGrp="1"/>
          </p:cNvSpPr>
          <p:nvPr>
            <p:ph type="title"/>
          </p:nvPr>
        </p:nvSpPr>
        <p:spPr>
          <a:xfrm>
            <a:off x="642960" y="35712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d16349"/>
                </a:solidFill>
                <a:latin typeface="Georgia"/>
              </a:rPr>
              <a:t>Přirozený a umělý řád</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Spontánní řád x organizace</a:t>
            </a:r>
            <a:endParaRPr b="0" lang="en-US" sz="3300" spc="-1" strike="noStrike">
              <a:solidFill>
                <a:srgbClr val="7b9899"/>
              </a:solidFill>
              <a:latin typeface="Georgia"/>
            </a:endParaRPr>
          </a:p>
        </p:txBody>
      </p:sp>
      <p:sp>
        <p:nvSpPr>
          <p:cNvPr id="624" name=""/>
          <p:cNvSpPr txBox="1"/>
          <p:nvPr/>
        </p:nvSpPr>
        <p:spPr>
          <a:xfrm>
            <a:off x="285480" y="192888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V jakékoli skupině lidí, která je jen trochu větší, bude spolupráce vždycky spočívat jak na spontánním řádu, tak na uvědomělé organizaci.</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Hayek říká:</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a:t>
            </a:r>
            <a:r>
              <a:rPr b="1" lang="cs-CZ" sz="2200" spc="-1" strike="noStrike">
                <a:solidFill>
                  <a:srgbClr val="000000"/>
                </a:solidFill>
                <a:latin typeface="Georgia"/>
              </a:rPr>
              <a:t>To, že tyto dva řády druhy řádu budou pravidelně existovat vedle sebe v každé společnosti o jakémkoli stupni složitosti, však neznamená, že je můžeme podle libosti kombinovat.“</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Internet – umělý x spontánní</a:t>
            </a:r>
            <a:r>
              <a:rPr b="0" lang="cs-CZ" sz="3300" spc="-1" strike="noStrike">
                <a:solidFill>
                  <a:srgbClr val="7b9899"/>
                </a:solidFill>
                <a:latin typeface="Georgia"/>
              </a:rPr>
              <a:t>	</a:t>
            </a:r>
            <a:endParaRPr b="0" lang="en-US" sz="3300" spc="-1" strike="noStrike">
              <a:solidFill>
                <a:srgbClr val="7b9899"/>
              </a:solidFill>
              <a:latin typeface="Georgia"/>
            </a:endParaRPr>
          </a:p>
        </p:txBody>
      </p:sp>
      <p:sp>
        <p:nvSpPr>
          <p:cNvPr id="626" name=""/>
          <p:cNvSpPr txBox="1"/>
          <p:nvPr/>
        </p:nvSpPr>
        <p:spPr>
          <a:xfrm>
            <a:off x="285480" y="22860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Vznik (60. léta)</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Komunikace, </a:t>
            </a:r>
            <a:r>
              <a:rPr b="0" lang="cs-CZ" sz="2200" spc="-1" strike="noStrike">
                <a:solidFill>
                  <a:srgbClr val="000000"/>
                </a:solidFill>
                <a:latin typeface="Georgia"/>
              </a:rPr>
              <a:t>Prvek selže →</a:t>
            </a:r>
            <a:r>
              <a:rPr b="0" lang="en-US" sz="2200" spc="-1" strike="noStrike">
                <a:solidFill>
                  <a:srgbClr val="000000"/>
                </a:solidFill>
                <a:latin typeface="Georgia"/>
              </a:rPr>
              <a:t> s</a:t>
            </a:r>
            <a:r>
              <a:rPr b="0" lang="cs-CZ" sz="2200" spc="-1" strike="noStrike">
                <a:solidFill>
                  <a:srgbClr val="000000"/>
                </a:solidFill>
                <a:latin typeface="Georgia"/>
              </a:rPr>
              <a:t>ystém neselž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Relativně jednoduchý řád</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Existence ohledáním </a:t>
            </a:r>
            <a:r>
              <a:rPr b="0" lang="en-US" sz="2200" spc="-1" strike="noStrike">
                <a:solidFill>
                  <a:srgbClr val="000000"/>
                </a:solidFill>
                <a:latin typeface="Georgia"/>
              </a:rPr>
              <a:t> ok</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Uměle (</a:t>
            </a:r>
            <a:r>
              <a:rPr b="0" lang="en-US" sz="2200" spc="-1" strike="noStrike">
                <a:solidFill>
                  <a:srgbClr val="000000"/>
                </a:solidFill>
                <a:latin typeface="Georgia"/>
              </a:rPr>
              <a:t>u</a:t>
            </a:r>
            <a:r>
              <a:rPr b="0" lang="cs-CZ" sz="2200" spc="-1" strike="noStrike">
                <a:solidFill>
                  <a:srgbClr val="000000"/>
                </a:solidFill>
                <a:latin typeface="Georgia"/>
              </a:rPr>
              <a:t>vědoměle) vytvořen</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m</a:t>
            </a:r>
            <a:r>
              <a:rPr b="0" lang="cs-CZ" sz="2700" spc="-1" strike="noStrike">
                <a:solidFill>
                  <a:srgbClr val="000000"/>
                </a:solidFill>
                <a:latin typeface="Georgia"/>
              </a:rPr>
              <a:t>ělý řád</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Internet – umělý x spontánní</a:t>
            </a:r>
            <a:r>
              <a:rPr b="0" lang="en-US" sz="3300" spc="-1" strike="noStrike">
                <a:solidFill>
                  <a:srgbClr val="7b9899"/>
                </a:solidFill>
                <a:latin typeface="Georgia"/>
              </a:rPr>
              <a:t> (2)</a:t>
            </a:r>
            <a:endParaRPr b="0" lang="en-US" sz="3300" spc="-1" strike="noStrike">
              <a:solidFill>
                <a:srgbClr val="7b9899"/>
              </a:solidFill>
              <a:latin typeface="Georgia"/>
            </a:endParaRPr>
          </a:p>
        </p:txBody>
      </p:sp>
      <p:sp>
        <p:nvSpPr>
          <p:cNvPr id="62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ou</a:t>
            </a:r>
            <a:r>
              <a:rPr b="0" lang="cs-CZ" sz="2700" spc="-1" strike="noStrike">
                <a:solidFill>
                  <a:srgbClr val="000000"/>
                </a:solidFill>
                <a:latin typeface="Georgia"/>
              </a:rPr>
              <a:t>časnost</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Rozsáhlá síť</a:t>
            </a:r>
            <a:r>
              <a:rPr b="0" lang="en-US" sz="2200" spc="-1" strike="noStrike">
                <a:solidFill>
                  <a:srgbClr val="000000"/>
                </a:solidFill>
                <a:latin typeface="Georgia"/>
              </a:rPr>
              <a:t> </a:t>
            </a:r>
            <a:r>
              <a:rPr b="0" lang="cs-CZ" sz="2200" spc="-1" strike="noStrike">
                <a:solidFill>
                  <a:srgbClr val="000000"/>
                </a:solidFill>
                <a:latin typeface="Georgia"/>
              </a:rPr>
              <a:t>→</a:t>
            </a:r>
            <a:r>
              <a:rPr b="0" lang="en-US" sz="2200" spc="-1" strike="noStrike">
                <a:solidFill>
                  <a:srgbClr val="000000"/>
                </a:solidFill>
                <a:latin typeface="Georgia"/>
              </a:rPr>
              <a:t> Stovky mil. r</a:t>
            </a:r>
            <a:r>
              <a:rPr b="0" lang="cs-CZ" sz="2200" spc="-1" strike="noStrike">
                <a:solidFill>
                  <a:srgbClr val="000000"/>
                </a:solidFill>
                <a:latin typeface="Georgia"/>
              </a:rPr>
              <a:t>ůzných zařízení</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emo</a:t>
            </a:r>
            <a:r>
              <a:rPr b="0" lang="cs-CZ" sz="2200" spc="-1" strike="noStrike">
                <a:solidFill>
                  <a:srgbClr val="000000"/>
                </a:solidFill>
                <a:latin typeface="Georgia"/>
              </a:rPr>
              <a:t>žné vedět co všechno se v něm děj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Nemožné naplánovat</a:t>
            </a:r>
            <a:r>
              <a:rPr b="0" lang="en-US" sz="2200" spc="-1" strike="noStrike">
                <a:solidFill>
                  <a:srgbClr val="000000"/>
                </a:solidFill>
                <a:latin typeface="Georgia"/>
              </a:rPr>
              <a:t>/vymyslet/sestavi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Přesto stabilní a rozvíjející se</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Spontánní řád</a:t>
            </a:r>
            <a:r>
              <a:rPr b="0" lang="en-US" sz="2700" spc="-1" strike="noStrike">
                <a:solidFill>
                  <a:srgbClr val="000000"/>
                </a:solidFill>
                <a:latin typeface="Georgia"/>
              </a:rPr>
              <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Internet – umělý x spontánní</a:t>
            </a:r>
            <a:r>
              <a:rPr b="0" lang="en-US" sz="3300" spc="-1" strike="noStrike">
                <a:solidFill>
                  <a:srgbClr val="7b9899"/>
                </a:solidFill>
                <a:latin typeface="Georgia"/>
              </a:rPr>
              <a:t> (3)</a:t>
            </a:r>
            <a:endParaRPr b="0" lang="en-US" sz="33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Zařízení připojená k internetu</a:t>
            </a:r>
            <a:endParaRPr b="0" lang="en-US" sz="28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Nedostávájí konkrétní úlohu</a:t>
            </a:r>
            <a:r>
              <a:rPr b="0" lang="en-US" sz="2400" spc="-1" strike="noStrike">
                <a:solidFill>
                  <a:srgbClr val="000000"/>
                </a:solidFill>
                <a:latin typeface="Georgia"/>
              </a:rPr>
              <a:t> </a:t>
            </a:r>
            <a:r>
              <a:rPr b="0" lang="cs-CZ" sz="2400" spc="-1" strike="noStrike">
                <a:solidFill>
                  <a:srgbClr val="000000"/>
                </a:solidFill>
                <a:latin typeface="Georgia"/>
              </a:rPr>
              <a:t>„</a:t>
            </a:r>
            <a:r>
              <a:rPr b="0" lang="en-US" sz="2400" spc="-1" strike="noStrike">
                <a:solidFill>
                  <a:srgbClr val="000000"/>
                </a:solidFill>
                <a:latin typeface="Georgia"/>
              </a:rPr>
              <a:t>Jak fungovat”</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ecné náležitosti komunikace →</a:t>
            </a:r>
            <a:r>
              <a:rPr b="0" lang="en-US" sz="2400" spc="-1" strike="noStrike">
                <a:solidFill>
                  <a:srgbClr val="000000"/>
                </a:solidFill>
                <a:latin typeface="Georgia"/>
              </a:rPr>
              <a:t> protokol</a:t>
            </a:r>
            <a:r>
              <a:rPr b="0" lang="cs-CZ" sz="2400" spc="-1" strike="noStrike">
                <a:solidFill>
                  <a:srgbClr val="000000"/>
                </a:solidFill>
                <a:latin typeface="Georgia"/>
              </a:rPr>
              <a:t> → „vlastní život“</a:t>
            </a:r>
            <a:r>
              <a:rPr b="0" lang="en-US" sz="2400" spc="-1" strike="noStrike">
                <a:solidFill>
                  <a:srgbClr val="000000"/>
                </a:solidFill>
                <a:latin typeface="Georgia"/>
              </a:rPr>
              <a:t> &gt; spont</a:t>
            </a:r>
            <a:r>
              <a:rPr b="0" lang="cs-CZ" sz="2400" spc="-1" strike="noStrike">
                <a:solidFill>
                  <a:srgbClr val="000000"/>
                </a:solidFill>
                <a:latin typeface="Georgia"/>
              </a:rPr>
              <a:t>ánní řád</a:t>
            </a:r>
            <a:endParaRPr b="0" lang="en-US" sz="2400" spc="-1" strike="noStrike">
              <a:solidFill>
                <a:srgbClr val="646b86"/>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Lidé ve </a:t>
            </a:r>
            <a:r>
              <a:rPr b="0" lang="en-US" sz="2800" spc="-1" strike="noStrike">
                <a:solidFill>
                  <a:srgbClr val="000000"/>
                </a:solidFill>
                <a:latin typeface="Georgia"/>
              </a:rPr>
              <a:t>svobodn</a:t>
            </a:r>
            <a:r>
              <a:rPr b="0" lang="cs-CZ" sz="2800" spc="-1" strike="noStrike">
                <a:solidFill>
                  <a:srgbClr val="000000"/>
                </a:solidFill>
                <a:latin typeface="Georgia"/>
              </a:rPr>
              <a:t>ém trhu</a:t>
            </a:r>
            <a:endParaRPr b="0" lang="en-US" sz="28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Nedostávají konkrétní úlohu „Jak žít“</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ecné pravidla →</a:t>
            </a:r>
            <a:r>
              <a:rPr b="0" lang="en-US" sz="2400" spc="-1" strike="noStrike">
                <a:solidFill>
                  <a:srgbClr val="000000"/>
                </a:solidFill>
                <a:latin typeface="Georgia"/>
              </a:rPr>
              <a:t> soukrom</a:t>
            </a:r>
            <a:r>
              <a:rPr b="0" lang="cs-CZ" sz="2400" spc="-1" strike="noStrike">
                <a:solidFill>
                  <a:srgbClr val="000000"/>
                </a:solidFill>
                <a:latin typeface="Georgia"/>
              </a:rPr>
              <a:t>ý majetek →</a:t>
            </a:r>
            <a:r>
              <a:rPr b="0" lang="en-US" sz="2400" spc="-1" strike="noStrike">
                <a:solidFill>
                  <a:srgbClr val="000000"/>
                </a:solidFill>
                <a:latin typeface="Georgia"/>
              </a:rPr>
              <a:t> prostor pro realizaci svobodn</a:t>
            </a:r>
            <a:r>
              <a:rPr b="0" lang="cs-CZ" sz="2400" spc="-1" strike="noStrike">
                <a:solidFill>
                  <a:srgbClr val="000000"/>
                </a:solidFill>
                <a:latin typeface="Georgia"/>
              </a:rPr>
              <a:t>é vůle →</a:t>
            </a:r>
            <a:r>
              <a:rPr b="0" lang="en-US" sz="2400" spc="-1" strike="noStrike">
                <a:solidFill>
                  <a:srgbClr val="000000"/>
                </a:solidFill>
                <a:latin typeface="Georgia"/>
              </a:rPr>
              <a:t> spont</a:t>
            </a:r>
            <a:r>
              <a:rPr b="0" lang="cs-CZ" sz="2400" spc="-1" strike="noStrike">
                <a:solidFill>
                  <a:srgbClr val="000000"/>
                </a:solidFill>
                <a:latin typeface="Georgia"/>
              </a:rPr>
              <a:t>ánní řád</a:t>
            </a: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pont</a:t>
            </a:r>
            <a:r>
              <a:rPr b="0" lang="cs-CZ" sz="3300" spc="-1" strike="noStrike">
                <a:solidFill>
                  <a:srgbClr val="7b9899"/>
                </a:solidFill>
                <a:latin typeface="Georgia"/>
              </a:rPr>
              <a:t>ánní řád v organizaci</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32"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odniková kultura</a:t>
            </a:r>
            <a:endParaRPr b="0" lang="en-US" sz="2800" spc="-1" strike="noStrike">
              <a:solidFill>
                <a:srgbClr val="000000"/>
              </a:solidFill>
              <a:latin typeface="Georgia"/>
            </a:endParaRPr>
          </a:p>
          <a:p>
            <a:pPr lvl="1" marL="54756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Georgia"/>
              </a:rPr>
              <a:t>„</a:t>
            </a:r>
            <a:r>
              <a:rPr b="0" i="1" lang="cs-CZ" sz="1800" spc="-1" strike="noStrike">
                <a:solidFill>
                  <a:srgbClr val="000000"/>
                </a:solidFill>
                <a:latin typeface="Georgia"/>
              </a:rPr>
              <a:t>Podniková kultura představuje soustavu hodnot, norem, přesvědčení, postojů a domněnek, která sice nebyla nikde výslovně zformulována, ale formuje způsob chování a jednání lidí a způsoby vykonávání práce.“</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Armstrong, M.</a:t>
            </a:r>
            <a:endParaRPr b="0" lang="en-US" sz="1800" spc="-1" strike="noStrike">
              <a:solidFill>
                <a:srgbClr val="646b86"/>
              </a:solidFill>
              <a:latin typeface="Georgia"/>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O jaký se jedná řád</a:t>
            </a:r>
            <a:r>
              <a:rPr b="0" lang="en-US" sz="2800" spc="-1" strike="noStrike">
                <a:solidFill>
                  <a:srgbClr val="000000"/>
                </a:solidFill>
                <a:latin typeface="Georgia"/>
              </a:rPr>
              <a:t>?</a:t>
            </a:r>
            <a:endParaRPr b="0" lang="en-US" sz="2800" spc="-1" strike="noStrike">
              <a:solidFill>
                <a:srgbClr val="000000"/>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tížně se zkoumá a zjišťuje</a:t>
            </a:r>
            <a:endParaRPr b="0" lang="en-US" sz="2400" spc="-1" strike="noStrike">
              <a:solidFill>
                <a:srgbClr val="646b86"/>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Má však účel </a:t>
            </a:r>
            <a:r>
              <a:rPr b="0" lang="en-US" sz="2400" spc="-1" strike="noStrike">
                <a:solidFill>
                  <a:srgbClr val="000000"/>
                </a:solidFill>
                <a:latin typeface="Georgia"/>
              </a:rPr>
              <a:t>(pokud je siln</a:t>
            </a:r>
            <a:r>
              <a:rPr b="0" lang="cs-CZ" sz="2400" spc="-1" strike="noStrike">
                <a:solidFill>
                  <a:srgbClr val="000000"/>
                </a:solidFill>
                <a:latin typeface="Georgia"/>
              </a:rPr>
              <a:t>á</a:t>
            </a:r>
            <a:r>
              <a:rPr b="0" lang="en-US" sz="2400" spc="-1" strike="noStrike">
                <a:solidFill>
                  <a:srgbClr val="000000"/>
                </a:solidFill>
                <a:latin typeface="Georgia"/>
              </a:rPr>
              <a:t>)</a:t>
            </a:r>
            <a:r>
              <a:rPr b="0" lang="cs-CZ" sz="2400" spc="-1" strike="noStrike">
                <a:solidFill>
                  <a:srgbClr val="000000"/>
                </a:solidFill>
                <a:latin typeface="Georgia"/>
              </a:rPr>
              <a:t> →</a:t>
            </a:r>
            <a:r>
              <a:rPr b="0" lang="en-US" sz="2400" spc="-1" strike="noStrike">
                <a:solidFill>
                  <a:srgbClr val="000000"/>
                </a:solidFill>
                <a:latin typeface="Georgia"/>
              </a:rPr>
              <a:t> </a:t>
            </a:r>
            <a:r>
              <a:rPr b="0" lang="cs-CZ" sz="2400" spc="-1" strike="noStrike">
                <a:solidFill>
                  <a:srgbClr val="000000"/>
                </a:solidFill>
                <a:latin typeface="Georgia"/>
              </a:rPr>
              <a:t>efektivní dosahování cílů </a:t>
            </a:r>
            <a:r>
              <a:rPr b="0" lang="en-US" sz="2400" spc="-1" strike="noStrike">
                <a:solidFill>
                  <a:srgbClr val="000000"/>
                </a:solidFill>
                <a:latin typeface="Georgia"/>
              </a:rPr>
              <a:t>podniku</a:t>
            </a:r>
            <a:endParaRPr b="0" lang="en-US" sz="2400" spc="-1" strike="noStrike">
              <a:solidFill>
                <a:srgbClr val="646b86"/>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Vzniká spontánním učením i aktivitami managmentu</a:t>
            </a:r>
            <a:endParaRPr b="0" lang="en-US" sz="2400" spc="-1" strike="noStrike">
              <a:solidFill>
                <a:srgbClr val="646b86"/>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tížně se ovlivňuje (působení na celek)</a:t>
            </a: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Zdroje, literatura</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HAYEK, F.A. </a:t>
            </a:r>
            <a:r>
              <a:rPr b="0" i="1" lang="cs-CZ" sz="2200" spc="-1" strike="noStrike">
                <a:solidFill>
                  <a:srgbClr val="000000"/>
                </a:solidFill>
                <a:latin typeface="Georgia"/>
              </a:rPr>
              <a:t>Právo, zákonodárství a svoboda</a:t>
            </a:r>
            <a:r>
              <a:rPr b="0" lang="cs-CZ" sz="2200" spc="-1" strike="noStrike">
                <a:solidFill>
                  <a:srgbClr val="000000"/>
                </a:solidFill>
                <a:latin typeface="Georgia"/>
              </a:rPr>
              <a:t>. 1 Pravidla a řád. Praha :   Academia, 1991. ISBN 80-200-027</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JEŽEK, T. </a:t>
            </a:r>
            <a:r>
              <a:rPr b="0" i="1" lang="cs-CZ" sz="2200" spc="-1" strike="noStrike">
                <a:solidFill>
                  <a:srgbClr val="000000"/>
                </a:solidFill>
                <a:latin typeface="Georgia"/>
              </a:rPr>
              <a:t>Liberální ekonomie. </a:t>
            </a:r>
            <a:r>
              <a:rPr b="0" lang="cs-CZ" sz="2200" spc="-1" strike="noStrike">
                <a:solidFill>
                  <a:srgbClr val="000000"/>
                </a:solidFill>
                <a:latin typeface="Georgia"/>
              </a:rPr>
              <a:t>Praha : Prostor, 1993. ISBN 80-85190-21-4. </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VÁGNER, I.: Systém managementu. Brno: Vydavatelství MU, 2007, ISBN 978-80-210-4264-3</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MORAVEC, O.: Internet je spontánní řád, http://myego.cz/item/internet-je-spontanni-rad</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Pojem řád</a:t>
            </a:r>
            <a:endParaRPr b="0" lang="en-US" sz="3300" spc="-1" strike="noStrike">
              <a:solidFill>
                <a:srgbClr val="7b9899"/>
              </a:solidFill>
              <a:latin typeface="Georgia"/>
            </a:endParaRPr>
          </a:p>
        </p:txBody>
      </p:sp>
      <p:sp>
        <p:nvSpPr>
          <p:cNvPr id="609" name=""/>
          <p:cNvSpPr txBox="1"/>
          <p:nvPr/>
        </p:nvSpPr>
        <p:spPr>
          <a:xfrm>
            <a:off x="285480" y="2071800"/>
            <a:ext cx="8504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700" spc="-1" strike="noStrike">
                <a:solidFill>
                  <a:srgbClr val="000000"/>
                </a:solidFill>
                <a:latin typeface="Georgia"/>
              </a:rPr>
              <a:t>„</a:t>
            </a:r>
            <a:r>
              <a:rPr b="0" i="1" lang="cs-CZ" sz="2700" spc="-1" strike="noStrike">
                <a:solidFill>
                  <a:srgbClr val="000000"/>
                </a:solidFill>
                <a:latin typeface="Georgia"/>
              </a:rPr>
              <a:t>Řád je stav věcí, v němž se velký počet prvků různých druhů má k sobě navzájem tak, že znalost nějaké prostorové nebo časové části celku nám umožňuje vytvářet správná očekávání tykající se zbytku, nebo alespoň očekávání, která mají dobrou pravděpodobnost, že se ukáží jako správná.“</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Přirozený (spontánní) řád</a:t>
            </a:r>
            <a:endParaRPr b="0" lang="en-US" sz="3300" spc="-1" strike="noStrike">
              <a:solidFill>
                <a:srgbClr val="7b9899"/>
              </a:solidFill>
              <a:latin typeface="Georgia"/>
            </a:endParaRPr>
          </a:p>
        </p:txBody>
      </p:sp>
      <p:sp>
        <p:nvSpPr>
          <p:cNvPr id="611" name=""/>
          <p:cNvSpPr txBox="1"/>
          <p:nvPr/>
        </p:nvSpPr>
        <p:spPr>
          <a:xfrm>
            <a:off x="285480" y="192888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F.A.Hayek</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1) nezávislý na lidském jednání</a:t>
            </a:r>
            <a:endParaRPr b="0" lang="en-US" sz="27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 </a:t>
            </a:r>
            <a:r>
              <a:rPr b="0" lang="cs-CZ" sz="2000" spc="-1" strike="noStrike">
                <a:solidFill>
                  <a:srgbClr val="000000"/>
                </a:solidFill>
                <a:latin typeface="Georgia"/>
              </a:rPr>
              <a:t>= příroda</a:t>
            </a:r>
            <a:endParaRPr b="0" lang="en-US" sz="20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2) nezávislý na </a:t>
            </a:r>
            <a:r>
              <a:rPr b="0" lang="cs-CZ" sz="2700" spc="-1" strike="noStrike" u="sng">
                <a:solidFill>
                  <a:srgbClr val="000000"/>
                </a:solidFill>
                <a:uFillTx/>
                <a:latin typeface="Georgia"/>
              </a:rPr>
              <a:t>vědomém</a:t>
            </a:r>
            <a:r>
              <a:rPr b="0" lang="cs-CZ" sz="2700" spc="-1" strike="noStrike">
                <a:solidFill>
                  <a:srgbClr val="000000"/>
                </a:solidFill>
                <a:latin typeface="Georgia"/>
              </a:rPr>
              <a:t> lidském jednání</a:t>
            </a:r>
            <a:endParaRPr b="0" lang="en-US" sz="27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 </a:t>
            </a:r>
            <a:r>
              <a:rPr b="0" lang="cs-CZ" sz="2000" spc="-1" strike="noStrike">
                <a:solidFill>
                  <a:srgbClr val="000000"/>
                </a:solidFill>
                <a:latin typeface="Georgia"/>
              </a:rPr>
              <a:t>= příroda + vedlejší důsledky lidské činnosti (např. jazyk, morálka, trh)</a:t>
            </a:r>
            <a:endParaRPr b="0" lang="en-US" sz="20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Spontánní řád ve společnosti</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lIns="90000" rIns="90000" tIns="46800" bIns="46800" anchor="t">
            <a:normAutofit fontScale="97000"/>
          </a:bodyPr>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Ve společnosti existují uspořádané struktury, které jsou produktem jednání mnoha lidí, avšak nejsou výsledkem vědomého lidského vytváření.</a:t>
            </a:r>
            <a:endParaRPr b="0" lang="en-US" sz="2800" spc="-1" strike="noStrike">
              <a:solidFill>
                <a:srgbClr val="000000"/>
              </a:solidFill>
              <a:latin typeface="Georgia"/>
            </a:endParaRPr>
          </a:p>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Lidé se snaží o naplnění svých cílů → svým  chováním ovlivňují jiné lidi, kteří se také snaží naplnit jejich cíle → všichni chtějí co nejefektivnější naplnění vlastních cílů → člověk volí chování s ohledem na to, jak se chovají ostatní → v chování lidí vznikají jisté pravidelnosti, za kterýma stojí určitá </a:t>
            </a:r>
            <a:r>
              <a:rPr b="0" lang="cs-CZ" sz="2800" spc="-1" strike="noStrike" u="sng">
                <a:solidFill>
                  <a:srgbClr val="000000"/>
                </a:solidFill>
                <a:uFillTx/>
                <a:latin typeface="Georgia"/>
              </a:rPr>
              <a:t>pravidla</a:t>
            </a:r>
            <a:r>
              <a:rPr b="0" lang="cs-CZ" sz="2800" spc="-1" strike="noStrike">
                <a:solidFill>
                  <a:srgbClr val="000000"/>
                </a:solidFill>
                <a:latin typeface="Georgia"/>
              </a:rPr>
              <a:t>. Ta tvoří spontánní řád.</a:t>
            </a:r>
            <a:endParaRPr b="0" lang="en-US" sz="2800" spc="-1" strike="noStrike">
              <a:solidFill>
                <a:srgbClr val="000000"/>
              </a:solidFill>
              <a:latin typeface="Georgia"/>
            </a:endParaRPr>
          </a:p>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7b9899"/>
                </a:solidFill>
                <a:latin typeface="Georgia"/>
              </a:rPr>
              <a:t>Odlišující vlastnosti spontánního řádu</a:t>
            </a:r>
            <a:endParaRPr b="0" lang="en-US" sz="3600" spc="-1" strike="noStrike">
              <a:solidFill>
                <a:srgbClr val="7b9899"/>
              </a:solidFill>
              <a:latin typeface="Georgia"/>
            </a:endParaRPr>
          </a:p>
        </p:txBody>
      </p:sp>
      <p:sp>
        <p:nvSpPr>
          <p:cNvPr id="615" name=""/>
          <p:cNvSpPr txBox="1"/>
          <p:nvPr/>
        </p:nvSpPr>
        <p:spPr>
          <a:xfrm>
            <a:off x="285480" y="1928880"/>
            <a:ext cx="8504280" cy="4572000"/>
          </a:xfrm>
          <a:prstGeom prst="rect">
            <a:avLst/>
          </a:prstGeom>
          <a:noFill/>
          <a:ln w="0">
            <a:noFill/>
          </a:ln>
        </p:spPr>
        <p:txBody>
          <a:bodyPr lIns="90000" rIns="90000" tIns="46800" bIns="46800" anchor="t">
            <a:normAutofit/>
          </a:bodyPr>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Může dosáhnou jakéhokoli stupně složitosti (není omezen tím, co může lidská mysl zvládnout).</a:t>
            </a:r>
            <a:endParaRPr b="0" lang="en-US" sz="2800" spc="-1" strike="noStrike">
              <a:solidFill>
                <a:srgbClr val="000000"/>
              </a:solidFill>
              <a:latin typeface="Georgia"/>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eho existence se nemusí našim smyslům sama projevovat, nýbrž může spočívat v čistě </a:t>
            </a:r>
            <a:r>
              <a:rPr b="0" lang="cs-CZ" sz="2800" spc="-1" strike="noStrike" u="sng">
                <a:solidFill>
                  <a:srgbClr val="000000"/>
                </a:solidFill>
                <a:uFillTx/>
                <a:latin typeface="Georgia"/>
              </a:rPr>
              <a:t>abstraktních vztazích</a:t>
            </a:r>
            <a:r>
              <a:rPr b="0" lang="cs-CZ" sz="2800" spc="-1" strike="noStrike">
                <a:solidFill>
                  <a:srgbClr val="000000"/>
                </a:solidFill>
                <a:latin typeface="Georgia"/>
              </a:rPr>
              <a:t>, které můžeme pouze rekonstruovat.</a:t>
            </a:r>
            <a:endParaRPr b="0" lang="en-US" sz="2800" spc="-1" strike="noStrike">
              <a:solidFill>
                <a:srgbClr val="000000"/>
              </a:solidFill>
              <a:latin typeface="Georgia"/>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rotože nebyl vytvořen, </a:t>
            </a:r>
            <a:r>
              <a:rPr b="0" lang="cs-CZ" sz="2800" spc="-1" strike="noStrike" u="sng">
                <a:solidFill>
                  <a:srgbClr val="000000"/>
                </a:solidFill>
                <a:uFillTx/>
                <a:latin typeface="Georgia"/>
              </a:rPr>
              <a:t>nelze</a:t>
            </a:r>
            <a:r>
              <a:rPr b="0" lang="cs-CZ" sz="2800" spc="-1" strike="noStrike">
                <a:solidFill>
                  <a:srgbClr val="000000"/>
                </a:solidFill>
                <a:latin typeface="Georgia"/>
              </a:rPr>
              <a:t> rozumně říci, že </a:t>
            </a:r>
            <a:r>
              <a:rPr b="0" lang="cs-CZ" sz="2800" spc="-1" strike="noStrike" u="sng">
                <a:solidFill>
                  <a:srgbClr val="000000"/>
                </a:solidFill>
                <a:uFillTx/>
                <a:latin typeface="Georgia"/>
              </a:rPr>
              <a:t>má určitý účel</a:t>
            </a:r>
            <a:r>
              <a:rPr b="0" lang="cs-CZ" sz="2800" spc="-1" strike="noStrike">
                <a:solidFill>
                  <a:srgbClr val="000000"/>
                </a:solidFill>
                <a:latin typeface="Georgia"/>
              </a:rPr>
              <a:t>, ačkoli naše vědomí jeho existence může být mimořádně důležité pro úspěšné sledování velké rozmanitosti rozličných účelů.</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Umělý řád</a:t>
            </a:r>
            <a:endParaRPr b="0" lang="en-US" sz="3300" spc="-1" strike="noStrike">
              <a:solidFill>
                <a:srgbClr val="7b9899"/>
              </a:solidFill>
              <a:latin typeface="Georgia"/>
            </a:endParaRPr>
          </a:p>
        </p:txBody>
      </p:sp>
      <p:sp>
        <p:nvSpPr>
          <p:cNvPr id="617" name=""/>
          <p:cNvSpPr txBox="1"/>
          <p:nvPr/>
        </p:nvSpPr>
        <p:spPr>
          <a:xfrm>
            <a:off x="285480" y="22860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 </a:t>
            </a:r>
            <a:r>
              <a:rPr b="0" lang="cs-CZ" sz="2700" spc="-1" strike="noStrike">
                <a:solidFill>
                  <a:srgbClr val="000000"/>
                </a:solidFill>
                <a:latin typeface="Georgia"/>
              </a:rPr>
              <a:t>Umělý řád bývá interpretován jako umělé uspořádání někým → pojem se stal mezi většinou přátel svobody nepopulární a oblíbili si ho hlavně autoritáři</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Autoritářský význam pojmu řád je však zcela odvozen z přesvědčení, že řád může být vytvořen pouze silami mimo systém → exogenně</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Umělý, vytvořený řád</a:t>
            </a:r>
            <a:endParaRPr b="0" lang="en-US" sz="3300" spc="-1" strike="noStrike">
              <a:solidFill>
                <a:srgbClr val="7b9899"/>
              </a:solidFill>
              <a:latin typeface="Georgia"/>
            </a:endParaRPr>
          </a:p>
        </p:txBody>
      </p:sp>
      <p:sp>
        <p:nvSpPr>
          <p:cNvPr id="619" name=""/>
          <p:cNvSpPr txBox="1"/>
          <p:nvPr/>
        </p:nvSpPr>
        <p:spPr>
          <a:xfrm>
            <a:off x="285480" y="20718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Vytvořený řád, který jsme už nazvali exogenním řádem nebo uspořádáním, může být dále označen jako konstrukce, jako umělý řád nebo – zejména tam, kde máme co dělat s řízeným společenským řádem → jako organizac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Klasická řečtina tento druh řádu označuje jako </a:t>
            </a:r>
            <a:r>
              <a:rPr b="0" lang="cs-CZ" sz="2700" spc="-1" strike="noStrike" u="sng">
                <a:solidFill>
                  <a:srgbClr val="000000"/>
                </a:solidFill>
                <a:uFillTx/>
                <a:latin typeface="Georgia"/>
              </a:rPr>
              <a:t>taxis</a:t>
            </a:r>
            <a:r>
              <a:rPr b="0" lang="cs-CZ" sz="2700" spc="-1" strike="noStrike">
                <a:solidFill>
                  <a:srgbClr val="000000"/>
                </a:solidFill>
                <a:latin typeface="Georgia"/>
              </a:rPr>
              <a:t> = vytvořený řá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Taxis, umělý řád</a:t>
            </a:r>
            <a:endParaRPr b="0" lang="en-US" sz="3300" spc="-1" strike="noStrike">
              <a:solidFill>
                <a:srgbClr val="7b9899"/>
              </a:solidFill>
              <a:latin typeface="Georgia"/>
            </a:endParaRPr>
          </a:p>
        </p:txBody>
      </p:sp>
      <p:sp>
        <p:nvSpPr>
          <p:cNvPr id="621" name=""/>
          <p:cNvSpPr txBox="1"/>
          <p:nvPr/>
        </p:nvSpPr>
        <p:spPr>
          <a:xfrm>
            <a:off x="356760" y="22860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Takovéto řády jsou relativně jednoduché nebo alespoň nutně omezené na takové nízké stupně složitosti, o kterých tvůrce ještě může mít přehl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Tím, že byly vytvořeny uměle, slouží pravidelně (nebo svého času sloužily) </a:t>
            </a:r>
            <a:r>
              <a:rPr b="0" lang="cs-CZ" sz="2700" spc="-1" strike="noStrike" u="sng">
                <a:solidFill>
                  <a:srgbClr val="000000"/>
                </a:solidFill>
                <a:uFillTx/>
                <a:latin typeface="Georgia"/>
              </a:rPr>
              <a:t>účelu</a:t>
            </a:r>
            <a:r>
              <a:rPr b="0" lang="cs-CZ" sz="2700" spc="-1" strike="noStrike">
                <a:solidFill>
                  <a:srgbClr val="000000"/>
                </a:solidFill>
                <a:latin typeface="Georgia"/>
              </a:rPr>
              <a:t> jejich funkc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500040" y="2071800"/>
            <a:ext cx="8229600" cy="452592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700" spc="-1" strike="noStrike">
                <a:solidFill>
                  <a:srgbClr val="000000"/>
                </a:solidFill>
                <a:latin typeface="Georgia"/>
              </a:rPr>
              <a:t>	</a:t>
            </a:r>
            <a:r>
              <a:rPr b="1" i="1" lang="cs-CZ" sz="2700" spc="-1" strike="noStrike">
                <a:solidFill>
                  <a:srgbClr val="000000"/>
                </a:solidFill>
                <a:latin typeface="Georgia"/>
              </a:rPr>
              <a:t>Nikdy nemůžeme vytvořit krystal nebo složitou organickou sloučeninu tím, že umístíme individuální atomy do takového postavení, že budou tvořit nějakou mřížku krystalu nebo nějaký systém benzenových jader, z nichž je organická sloučenin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5:27:39Z</dcterms:created>
  <dc:creator>Vajcka</dc:creator>
  <dc:description/>
  <dc:language>en-US</dc:language>
  <cp:lastModifiedBy>Vajcka</cp:lastModifiedBy>
  <dcterms:modified xsi:type="dcterms:W3CDTF">2008-10-06T06:05:51Z</dcterms:modified>
  <cp:revision>4</cp:revision>
  <dc:subject/>
  <dc:title>Přirozený a umělý řád</dc:title>
</cp:coreProperties>
</file>