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B8DA-A97A-405D-AAEC-63BDCA9A5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7582-3AC4-4C19-BDFD-C68D5B21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E66D-2027-4AAA-B262-4BC9B173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D0BC-06D1-41DC-BBED-BA829071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FB21-065E-48DB-B03A-7AB6B5A0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C70F-1828-4EAA-9482-E57C2544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8A66-9537-445B-B23D-64C1C4CA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D8DF-CAC6-46FB-81AF-0DDA0671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442F-EE38-4CB8-A081-1E660F63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F928-6245-40DF-810E-76E3F8B4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ECA6-8314-4D35-A32B-C8698F9D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A1E0-594B-49CD-9D47-5E641D39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4284-E765-42E2-8F77-EBD9A72C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499B-0DDA-42E9-9345-BF0E2DC2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0A0D-E5F5-4B3E-92F7-68D6E734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548C-E77A-4417-A291-343DCC507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A90C-AA96-4E05-91AC-9653A128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33CB-A56F-4188-B8D7-2E68BABE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ACAB-8B3C-4ED6-8242-E33F424C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33DD-8803-4C20-A7E8-70CBCF13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1FE7-8A56-49AF-AAFD-576121AD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F201-1CEB-438A-A661-AC884B8F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AF57-F75C-4D25-AB8C-DD84FC85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89B8-DE0A-4461-BD05-A427E066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898A-77BC-4E89-823B-5C4A5ACFD1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B125-DCBB-4D7B-90C8-A31246199D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Přirozená a kulturní evoluce a konflikt mezi nimi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Bc. Zbyněk Jančú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ichal Krejč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ichal Pavlí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va filozoficky důležité moment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latňuje se nerovnoměrnost ve vývoji: pomalé fáze jsou střídány rychlými evolučními skoky (prudké vzestupy po dosažení jisté prahové hodnoty vývoj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díl mezi informací předávanou mezi organismy a informací předávanou v rámci ekosysté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íky pokroku ve fyzikálních a biologických vědách začínáme částečně chápat obecná pravidla přírodní konstruolog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 rozdíl od obecně rozšířené Newtonowské teorie je třeba přírodě přiznat spontánní evoluční tvořivost, posvátnost, schopnost reprodukovat biosféru včetně člově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lověk ke svému životu a vývoji nutně potřebuje přírodu, avšak příroda se bez člověka snadno obejd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851280" y="3716280"/>
            <a:ext cx="153360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ulturní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ultura – organizační a funkční opozice vůči přírod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 přírodě závislý systé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řád který vznikl z řád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 dosaženou úroveň přirozené pozemské evoluce nenavazuje – není jejím pokračování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irozená biotická evoluce nevrcholí jen v jedné linii, tj. člověk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 počátku nebiotickým systém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uze člověkem generovaný pro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kračovatelem genetické evoluce, ale jiným prostředk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ulturní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ědomá aktivita strukturované pospolitosti lidí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stitutivním činitelem kultury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to systém se  samovolně reprodukuje a rozvíj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evyšuje poznávací , regulační i produktivní schopnost jedinc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ulturní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chovní kult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konstitutivní informací kultu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uje kulturní společenstv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káže obrátit dílčí přírodní síly proti přírod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émový charakter kultury duchovní složku kultury nejen podněcují a rozvíjejí, ale také omezují, transformují a ruší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ulturní evoluce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lově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álním živočišným dru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ho biologická prosperita závisí na celkovém „zdravotním“ stavu celé biosfé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logický předek člověka byl ale vybaven přirozenou evolucí k zažehnutí kulturní evolu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ulturní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dská činnost sice generuje všechny úrovně a linie kulturní evolu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člověk je ale jako bytost v individuálním projevu jejím podřízeným prvke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lečenské subsystémy se stávají přes svou existenční závislost na člověku značně autonomními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 výsledcích činnosti lidí se potom projevuje i to, o co lidé neusiluj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dská závislost na kultuře se zvyšuje. Systém vytváří své nové prvky, části a subsystémy (instituce, organizace,...)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eolitická r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tvořila téměř všechny druhy dnes domestikovaných zvířat a kulturních rostl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e důkazem předností i omezených možností  nepřímé ontické tvořivosti kulturní evol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mohla být dílem samotného individu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člověka z přírodního řádu částečně vyřadil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ůmyslová revoluce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mach přímé ontotvorné síly kulturní evolu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chod od instrumentální práce k práci strojové - prudký spontánní vývoj abiotické technik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členění  do produktivního procesu hlavně neživé přírodní struktury a sí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romadné čerpání neobnovitelných přírodních zdrojů Zem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imulace produktivně zaměřenou přírodní vědou (sociální objednávka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ítězí panský postoj člověka k přírod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irozená evol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orie vývoje druh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Člověk jako součást přír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ulturní evol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ývoj člověka jako kulturní byt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ulturní revolu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nflikt mezi kulturou a přírod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avení člověka mezi ni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stindustriální fáze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akotvena v racionalitě klasického obdob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aložena na lidském fylogeneticky omezeném a deformovaném poznání přír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znikají méně agresivní technologie vůči přírod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kový charakter postoje k přírodě se příliš nemě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zšiřuje se nebezpečná spotřební orientace v životním způsobu lidí – vychází z tradičního liberálního práva člověka na vlastnictví a ničím neohraničenou spotřeb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dá se, že institut soukromého vlastnictví řešení ekologické krize znemožňuje (liberální právo člověka na půdu konstruováno antropocentricky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onflik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bální ekologická krize je konfliktem přirozeného a kulturního řádu, je dosud neznámým typem krize evolučního úspěchu kul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lověk totiž není pánem tvorstva, správcem či pastýřem bytí. Není dokonce ani partnerem Země. Je jejím prvk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onflik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lověk a jeho kultura nemůže ani vytvářet proměnlivost, ani jí zabrán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ůže jen zachovávat a hromadit odchylky, které mu poskytuje příro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onflikt – vlastní náz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íroda jako hlavní činitel evoluce a vývoje druhů přece jen na některé části nemůže pojmout. Při rozvoji kybernetiky a robotiky to v budoucnosti možná bude právě a jen člověk, který tuto novou kulturu bude vytvářet, formovat a určovat její odlišení a adaptovat ji na změny podmín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ožné je však i to, že příroda sama tuto vývojovou větev považuje za neperspektivní nebo i schopnou ohrozit ostatní dru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MAJS, Josef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Drama evoluce.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aha: Hynek, 2000. 188 s. ISBN 808620277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MAJS, Josef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Ohrožená kultura.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2. vyd.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aha: Hynek, 1997. 209 s. ISBN 808590653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MAJS, Josef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Potřebujeme filosofii přežití?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1. vyd.</a:t>
            </a: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Brno: Doplněk, 2008. 104 s. ISBN 97880723922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ARWIN, Charles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O vzniku druhů přírodním výběrem.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3.vyd. Praha: Academia, 2007. 576 s. ISBN 97880200149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ANT, Imanuel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Kritika čistého rozumu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1. vyd. Praha: OIKOYMENH, 2001. 568 s. ISBN 80729803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.Šmaj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rama evolu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hrožená kul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třebujeme filosofii přežití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.K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ritika čistého rozum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h. Darw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 vzniku druhů přírodním výběr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íroda chápána jako přirozenost, tj. adjective (formaliter), znamená souvislost určení nějaké věci podle vnitřního principu kauzality. Naproti tomu substantive (materialiter) rozumíme přirodou úhrn jevů, souvisejících zcela podle vnitřních principů kauzality“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I.K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ritika čistého rozumu, s.27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300720" y="3789360"/>
            <a:ext cx="122076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rwin popisuje přirozenou evoluci druhů jako teorii přírodního výběru, čili přežití nejsilnější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dmiňuje přirozený výběr schopností adaptovat se na změny životních podmínek (klimatické změny, zavlečení nového druhu atd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měna životních podmínek zvyšuje proměnliv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77080" y="4581360"/>
            <a:ext cx="143352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člověk může přispívat k přírodní evoluci (viz. Domestikovaná zvířata, šlechtění zemědělských rostl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šem příroda tak může činit mnohem snadněji, neboť má pro svou činnost neporovnatelně více čas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irozená evoluce podle Darwina má autoregulační schopnosti: žádný druh nemůže dominantně převážit nad ostatní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íklad: Teorie upírů (kritika Brama Stokera – román Dracul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 rozšiřováním druhu roste i počet jeho přirozených nepřátel nebo přichází úbytek potrav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Přirozená evoluce – přírodní výběr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razně lze říct, že přírodní výběr den co den a hodinu co hodinu zkoumá na celém světě každou, i tu nejmenší odchylku, zavrhuje špatné, zachovává a rozvíjí dobré, nehlučně a nepozorovaně pracuje „kdekoliv a kdykoliv se naskytne příležitost“ na vylepšení každého organizmu ve vztahu k organickým i neorganickým podmínkám života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Ch. Darw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 vzniku druhů přírodním výběrem, s.106-1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67640" y="3789360"/>
            <a:ext cx="9507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filozofického pohledu je klíčovou otázkou rozvoje života funkční začlenění subsystému vnitřní informace do živého systé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íky tomuto se vytvořila hranice mezi živým a neživý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ložení vnitřní informace umožnilo živým systémům budoucí rozvoj oproti neživé kultuře a schopnost měnit své vlastnosti zároveň se změnami okol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9:01:49Z</dcterms:created>
  <dc:creator>Michal Pavlík</dc:creator>
  <dc:description/>
  <dc:language>en-US</dc:language>
  <cp:lastModifiedBy>Ondřej Částek</cp:lastModifiedBy>
  <dcterms:modified xsi:type="dcterms:W3CDTF">2008-09-29T10:16:59Z</dcterms:modified>
  <cp:revision>27</cp:revision>
  <dc:subject/>
  <dc:title>Přirozená a kulturní evoluce a konflikt mezi nimi</dc:title>
</cp:coreProperties>
</file>