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22D-25DA-4CBC-A34C-FE9EFD51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F8B-8A7E-49B9-B028-584A8BFA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C5FD-0229-4E37-8FB2-167BCB93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A608-CDDD-491C-BAC4-CFE0AC88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FE29-69E9-41A0-9235-0B742D68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6A6A-B9FC-4A09-AA2E-8C686AC1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B153-AF28-44E9-A02A-DA56CEEE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03E2-9CEC-4704-9E02-42B4A088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1BD0-8FDD-4FA3-8906-9C86CE86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72F7-9FD7-489F-99E9-7D41476D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F723-FF50-4E46-A114-0405F88D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6947-4D6C-44D1-A7B2-37B23313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FE8D-449E-4B34-8CB9-F94C920A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EB93-D04F-4AED-A03C-453F9590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0480-93F2-4D99-8DB8-60C3B300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A44A-74AC-4539-A7AC-78308C15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9C3F-C659-4311-983C-BE8CCB9C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5AFF2-959E-4FAB-8325-FC0C6ACD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054CA-770F-4869-9E2C-918C124F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FD303-7DFA-44FD-9262-EF717236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3EEBA-BF11-4822-85F3-A73E1B88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C3DDC-D6D4-41BD-97A7-92B2796E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738-D405-4A6C-8F3F-65D9CE60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71717-1CAB-476A-AA60-3E722D80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5806E-B357-4447-8FBA-41A85E4C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3DAB1-97B4-4EF3-AF9D-578A26BE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5DB8F-DFDB-4970-9B90-079F5122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2E1E2-9009-425E-BEB2-DE684B0F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8D3B5-A6A3-499F-9530-55772C19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220F3-A623-4C49-815A-1C50C762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3FCE7-EF63-4256-83A8-A12688C4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0DF27-1055-4F69-840A-BC9B1713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92535-15B8-4DBD-B7A4-60064437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467-7D4A-4A5C-9521-8DDFDA82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44931-DAEB-4A40-9873-BE7FB1C4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84F2A-5296-4677-A568-816C99BD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34BE6-4E63-49C0-B493-9D817762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E2849-66DF-468A-B2F5-1D2D65AE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168B0-B781-49BB-8A82-AE8CC93E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452DF-F94C-44BB-8EF9-3B75BC0D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68E3D-0F67-4E1B-81C4-7A15C754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D0801-B0F3-43A6-9A45-6C845DCD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2DD9F-8A38-4AA7-BE73-3BBD2278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D5C2EA-D5A7-40C5-8983-CE5A2C00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C06-8184-4750-AAC2-13E236DA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2329B8-CBF9-4CCF-9485-FC3DF62E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F40877-837B-4069-A580-06F24CBC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9A8A3-40F6-4D62-AA1F-0FF2C364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3B1B3-42DB-40ED-BB2D-700BF7DB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ABDC4-C1A4-482A-A495-CF32E310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41589-01BA-458C-8771-C9950389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122A43-26DA-489A-98EA-8AF2C9FA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A25343-4BCE-4923-B037-FFB74D86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274C34-7D92-4373-B4FF-A050F99F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664F7-51C0-4CF9-BE3A-96A7613E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4B9-3BF9-4B31-89FF-8A4FB05B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713D0-C305-41C2-8A42-97B6EA3D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3EB254-9831-4959-8C3E-89587AF7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7C9D6-7F94-4A65-9F15-9CD28124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8BF2D-BEAC-48EB-8360-9FF76A72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5E917-5471-4E59-90F0-45EE76E3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284443-A321-466E-81C0-AEBBD026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2AD8EE-D382-4C24-9A6F-2DA56C07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432A9A-4D6C-45BC-9804-A876CFD9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2E38C7-A6C1-4125-B0CA-35AB746A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0EBC8F-045E-4033-AFFC-1EF09F99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824-8873-4148-82A5-BFF42B83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20A62F-3D84-44AC-9C10-5BCBD573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20411F-6E66-4143-992C-F98C6BC8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369C6-B920-443B-8ED1-2A057C8B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BEDDF6-B398-4BC2-BC1C-5ACBE61E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DB1B6-D04D-409C-ABEC-EC8D5D4C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FAD490-CEC3-4A1E-A53F-68702E0F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BD492-DCD3-4DAB-ACCA-4520DC2E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F4B5DB-0D0F-4D8E-BAEF-264521AD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00316-4055-4214-ADFA-0CBCA3CC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C1D96-FBDB-459D-B76F-EAF29F66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C4F-37F2-4ED5-B2D0-B5C1D54E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4C5514-93F6-4D0E-B3A4-25A54A92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B4C9B-92AA-4954-8652-BF921DF7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31C956-CF05-4970-9819-E251F813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2F9BD2-3985-4C11-B5BE-D19A7690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F5B2B8-A527-4081-B59E-45E7A090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DAA-5D95-4F3D-995E-72CFBFF0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299A-9403-4338-973B-A540881EC8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římá spojovací čár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bdélní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1B7C-AFCD-4774-9E43-B293EDE4B5C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F8F5-AFB7-4985-A6E6-14AC001F93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římá spojovací čár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C445-0591-4BF7-9685-0ED91BA1F4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C46F-54C2-4C96-860C-40EBAB90CB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římá spojovací čár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římá spojovací čár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římá spojovací čár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Obdélní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římá spojovací čár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E4F6-045B-40B4-8C60-BA78BC8950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římá spojovací čár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římá spojovací čár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C0F9-D58E-488E-9205-54674523718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ennis_Meadows_Moscow_febr2007-1-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s.wikipedia.org/wiki/1972" TargetMode="External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A A JEJÍ DŮSLED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f271c"/>
                </a:solidFill>
                <a:latin typeface="Calibri"/>
              </a:rPr>
              <a:t>Simona Jakubcov</a:t>
            </a: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Lucie Bielikov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Martin Liz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Intelektuální versus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intelektuální podni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nzita práce s poznání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ustředění duševní práce ve vede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hatství se měří podle materiálních statk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ymbolické činnosti jsou považovány za neproduktiv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legace práce na jednotlivé zaměstnance, podporování inovací a nápad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dnota většiny výrobků spočívá v poznatcích, které jsou do nich vlože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Moscow, 16 Febr.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86680" y="3068640"/>
            <a:ext cx="2857320" cy="3789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Arial"/>
              </a:rPr>
              <a:t>Donella a Denis Meadows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nella 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 13.3.1941 – 20.2.200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růkopnicí v systémové dynamice vědách o životním prostředí, učitelka a spisovatel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4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197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e dostala do týmu vědců,vyvinuli počítačový model systémové dynamiky demograficko-ekonomických ukazatelů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World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financováno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ímským klub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enis L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7.6.194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americký vědec, profesor systémového managemen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entury Schoolbook"/>
              </a:rPr>
              <a:t>Meadows – 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72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- Meze růstu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en" sz="2400" spc="-1" strike="noStrike">
                <a:solidFill>
                  <a:srgbClr val="000000"/>
                </a:solidFill>
                <a:latin typeface="Century Schoolbook"/>
              </a:rPr>
              <a:t>Limits to Grow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1992 – </a:t>
            </a:r>
            <a:r>
              <a:rPr b="1" i="1" lang="cs-CZ" sz="3200" spc="-1" strike="noStrike">
                <a:solidFill>
                  <a:srgbClr val="000000"/>
                </a:solidFill>
                <a:latin typeface="Century Schoolbook"/>
              </a:rPr>
              <a:t>Překročení mezí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2004 – třetí pokračování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Mezí růstu ( 30letý updat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Tendence k překmitu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udržitelný způsob existence ( exponenciální růs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ychlé tempo používání hnojiv, růst měst, spotřeby energie a materiálů lidm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užování  materiální základny lidst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ůst světové popul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nečišť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udoba a nezaměstnanost ( sociální rozdíl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olečnost na jedno použití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litické odmítání tématu mez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entury Schoolbook"/>
              </a:rPr>
              <a:t>Trvale udržitelná společnost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 simulovaných světů ( rovnováh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ředvídavá, pružná, moudrá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valitativní rozvoj X fyzická expanz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pokojování potřeby přítomnosti bez ohrožení budouc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teriální zabezpečení pro všechny(NE chudob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utnost pravidel,norem,sociálních doh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enění darů zemské kůry (neobnovitelné zdroj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exibil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entury Schoolbook"/>
              </a:rPr>
              <a:t>Rysy restrukturalizace světového systému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dokonalení signál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rychlení odeze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nimalizace používání ne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ředcházení erozi 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yužívání všech zdrojů s max. účinnos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zastavení exponenciálního růstu populace a fyzického kapitálu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/>
          <p:nvPr/>
        </p:nvSpPr>
        <p:spPr>
          <a:xfrm>
            <a:off x="900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3. Vlna: Trvalá udržitelnost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nformace ( větší databáze, lepší statistiky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ástroje k trvalé udržitelnost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vytváření vizí (cíl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co doopravdy chceme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vzájemné propojování (sítě, organizace, povzbuzení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mluvení pravdy (lež naruší info tok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uč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milování (X individualismu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Literatur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ennis L. Meadows, Donella H. Meadows a Jorgen Randers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Překročení mezí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,nakladatelství Argo, 1995, 320 str., ISBN 80-85794-83-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Nová civilizace,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95, 125 str., ISBN 80-86569-00-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Šok z budoucnosti,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70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SBN 0-553-27737-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f271c"/>
                </a:solidFill>
                <a:latin typeface="Arial"/>
              </a:rPr>
              <a:t>Děkujeme za pozornost </a:t>
            </a:r>
            <a:r>
              <a:rPr b="0" lang="cs-CZ" sz="3000" spc="-1" strike="noStrike">
                <a:solidFill>
                  <a:srgbClr val="4f271c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Obsah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lvin Toffl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nová teori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řetí vln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ritéria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polečnosti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zaměstnanos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intelektuální vs.intelektuální podniky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28760" y="157140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arozen 3.10.1928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merický spisovatel a futurolo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daktor časopisu Fortu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Hostující profesor na Cornellově univerzitě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ositel čestných doktorátů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atý s H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 Toff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vou –spisovatelka a futuroložka, mimořádná profesorka na Univerzitě národní obrany ve Washingtonu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ijí v Los Ange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1640" y="15001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:\4.jpg"/>
          <p:cNvPicPr/>
          <p:nvPr/>
        </p:nvPicPr>
        <p:blipFill>
          <a:blip r:embed="rId1"/>
          <a:stretch/>
        </p:blipFill>
        <p:spPr>
          <a:xfrm>
            <a:off x="5072040" y="1928880"/>
            <a:ext cx="3406680" cy="239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 –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Future shock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Šok z budoucnos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8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he third wav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Třetí vl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995 – </a:t>
            </a:r>
            <a:r>
              <a:rPr b="1" i="1" lang="cs-CZ" sz="3600" spc="-1" strike="noStrike">
                <a:solidFill>
                  <a:srgbClr val="000000"/>
                </a:solidFill>
                <a:latin typeface="Calibri"/>
              </a:rPr>
              <a:t>Creating a New Civilization 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(Nová civilizace)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yntéza předchozích dě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lnová teorie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ivilizační vl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1. vlna – 8000 př.n.l. – 1750 – zemědělsk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2. vlna – 1750 – 1955 – průmyslov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3. vlna – 1955 - ? – informační revolu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55 – v USA poprvé počet „bílých límečků“ větší než „modrých límečků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á civilizace přichází se třetí vlnou a jediná možnost přežití je přizpůsobení 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Kritéria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Připomíná to továrn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Demasifikuje to společnost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Kolik vajec je v košík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Je to vertikální nebo virtuální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Vrací to domovu síl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Principy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2.vlny (půda, práce, kapitál) – vyčerpateln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3.vlny - nevyčerpatelné zdroje (data, informace,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rastruktura – elektronická komunik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nání jako tvůrce technologického pokrok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investicích - pokles významu kapitál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e skladování (just in tim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dopravě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materiálních nákladech (nové suroviny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Charakteristická společnost třetí vlny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ladá (doba trvání, pracovníc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(outsourcing, flexibili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nkurence (inovac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vestice do výzkumu a vývo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zce specializovaní zaměstnan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ká míra využití informačních technologi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zaměstnanost z pohledu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 60.let přesun od manuální práce ke službám (3/4 pracovníků v US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covní příležitosti jsou méně zaměnitelné (důraz na vzdělání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esun od kvantitativní ke kvalitativní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ve službá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, rekvalifikac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é pracovní pozi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finančnictví, poradenské služby, vzdělávání, pečovatelství, turismu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doma, flexibilní pracovní doba, půlené zaměstná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funkčnost tradičních monetaristických a keynesiánských nápravných prostředků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6:22:10Z</dcterms:created>
  <dc:creator>Lucie Bieliková</dc:creator>
  <dc:description/>
  <dc:language>en-US</dc:language>
  <cp:lastModifiedBy>admin</cp:lastModifiedBy>
  <dcterms:modified xsi:type="dcterms:W3CDTF">2008-10-13T21:20:58Z</dcterms:modified>
  <cp:revision>20</cp:revision>
  <dc:subject/>
  <dc:title>Třetí vlna a její důsledky</dc:title>
</cp:coreProperties>
</file>