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6871-FD04-4BA0-B322-B45A4C075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64008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71600" y="4424400"/>
            <a:ext cx="64008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AE6E-7856-4C38-86F1-33BCE02FB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5156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557F-6539-47CD-A171-D579C3923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5560" y="327024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99880" y="327024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71600" y="442440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5560" y="442440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699880" y="442440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D994-EBCA-48A0-B710-C81436725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3DDE5-159C-4685-8BAA-FB8E88D93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D1F4E-D9EE-4E5F-83AF-110FE611C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87E6D-73DB-4634-B5D8-64720B180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F7F5F-84D5-466E-AE12-D651A5F47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6C5BB-B0B5-489E-8135-55E0B53FE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9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E0CD7-CB92-41B7-B9E5-D841B762B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BB41C-432F-46F1-B6F3-4A71816E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6FEF-E622-424B-B48D-17F90B54F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5156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03080-02ED-4F53-B017-D3FF2AE9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424400"/>
            <a:ext cx="64008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4F0E9-7FE8-414C-8880-7BBEFFBE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64008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71600" y="4424400"/>
            <a:ext cx="64008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2017A-F91B-4509-8117-A225080A5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160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5156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35E81-F17C-4132-A954-C90A4D9E4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35560" y="327024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699880" y="327024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71600" y="442440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35560" y="442440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699880" y="442440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38E92-435A-45FC-A565-4A1119C24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85A1-7E96-4C36-A21F-92FF1A1E5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AB43-9AF6-4491-8628-E89879605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9186-B5C6-4DEF-8E1C-E9E94F1A7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9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CAF2-60CD-497B-B666-B1C0BF441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7160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4E6F-A3DF-48BC-B3D8-C7CAEE1A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5156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B766-46CA-4739-9527-C8CE4BAF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4424400"/>
            <a:ext cx="64008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5E86-723F-49D0-8747-9EA73E67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C4699-3153-45ED-BC5D-364BD4597B8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92003-66E2-4D05-BEA1-958EABFB48D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33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800" spc="-1" strike="noStrike">
                <a:solidFill>
                  <a:srgbClr val="cc3300"/>
                </a:solidFill>
                <a:latin typeface="Garamond"/>
              </a:rPr>
              <a:t>Vývoj společnosti v pojetí A. Tofflera</a:t>
            </a:r>
            <a:r>
              <a:rPr b="0" lang="cs-CZ" sz="5800" spc="-1" strike="noStrike">
                <a:solidFill>
                  <a:srgbClr val="cc3300"/>
                </a:solidFill>
                <a:latin typeface="Garamond"/>
              </a:rPr>
              <a:t> </a:t>
            </a: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ozef Barnia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Karel Bay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onika Lemonov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cc3300"/>
                </a:solidFill>
                <a:latin typeface="Garamond"/>
              </a:rPr>
              <a:t>Pomíjivosť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229600" cy="28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rýchlosť s akou sa menia naše vzťah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0000"/>
                </a:solidFill>
                <a:latin typeface="Verdana"/>
              </a:rPr>
              <a:t>Spoločnosť na jedno použitie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expanzia dopytu a ponuky po spotrebných statko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Šípka dolu 3"/>
          <p:cNvSpPr/>
          <p:nvPr/>
        </p:nvSpPr>
        <p:spPr>
          <a:xfrm>
            <a:off x="4429080" y="1214280"/>
            <a:ext cx="285840" cy="50040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Diagram 6" descr=""/>
          <p:cNvPicPr/>
          <p:nvPr/>
        </p:nvPicPr>
        <p:blipFill>
          <a:blip r:embed="rId1"/>
          <a:stretch/>
        </p:blipFill>
        <p:spPr>
          <a:xfrm>
            <a:off x="1494000" y="4206960"/>
            <a:ext cx="679608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cc3300"/>
                </a:solidFill>
                <a:latin typeface="Garamond"/>
              </a:rPr>
              <a:t>Nové národy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okl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významu vzdialenost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spotrebovávame miesta a zbavujeme sa ich veľmi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podobným spôsobom ako odhadzujeme papierové vreckovky alebo plechovky od piv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sk-SK" sz="1800" spc="-1" strike="noStrike">
                <a:solidFill>
                  <a:srgbClr val="000000"/>
                </a:solidFill>
                <a:latin typeface="Verdana"/>
              </a:rPr>
              <a:t>Toffler A., Šok z budúcnosti, str. 43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Obrázok 3" descr="1903-lietadlo-lissovam.gif"/>
          <p:cNvPicPr/>
          <p:nvPr/>
        </p:nvPicPr>
        <p:blipFill>
          <a:blip r:embed="rId1"/>
          <a:stretch/>
        </p:blipFill>
        <p:spPr>
          <a:xfrm>
            <a:off x="5940360" y="4500720"/>
            <a:ext cx="28670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cc3300"/>
                </a:solidFill>
                <a:latin typeface="Garamond"/>
              </a:rPr>
              <a:t>Vzdelanie v budúcom čase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obrátenie k systému, ktorý už umie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výrob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 industriálneho človek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činnosť intelektuálnu a kreatívn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Model školy založený na továrni“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zameraný na minulosť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nevybavenosť do prax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Obrázok 3" descr="42-16032510.jpg"/>
          <p:cNvPicPr/>
          <p:nvPr/>
        </p:nvPicPr>
        <p:blipFill>
          <a:blip r:embed="rId1"/>
          <a:stretch/>
        </p:blipFill>
        <p:spPr>
          <a:xfrm>
            <a:off x="6858000" y="3857760"/>
            <a:ext cx="171468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cc3300"/>
                </a:solidFill>
                <a:latin typeface="Garamond"/>
              </a:rPr>
              <a:t>Šok z budúcnosti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Fyzická dimenzia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adaptácia</a:t>
            </a: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hranice množstva zmen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reakcia na nadmernú stimuláci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Psychologická dimenzi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nepravidelné fungovanie mysl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neschopnosť racionálne jednať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Obrázok 3" descr="shock_sign.jpg"/>
          <p:cNvPicPr/>
          <p:nvPr/>
        </p:nvPicPr>
        <p:blipFill>
          <a:blip r:embed="rId1"/>
          <a:stretch/>
        </p:blipFill>
        <p:spPr>
          <a:xfrm>
            <a:off x="6572160" y="4714920"/>
            <a:ext cx="19828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Garamond"/>
              </a:rPr>
              <a:t>Fukuyama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Západní liberální demokracie jako konečná podoba vlád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onec děj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Zůstává pouze ekonomická činnost v univerzálním homogenním státě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Střetávání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ražený komunismus a fašism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řekonaný nacionalism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lám - theokratický stát jako alternativa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Konec dějin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emě historické a posthistorick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Možný konflikt mezi nim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osthistorická doba bude smutný čas a staletí nud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uda vedoucí k začátku nových děj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Použitá literatura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TOFFLER, A. Šok z budoucnosti. Praha : Práce, 1992. ISBN 80-208-0160-X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Huntington, S. Střet civilizací. Praha : Rybka Publishers, 2001. ISBN 80-86182-49-5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Fukuyama, F. Konec dějin a poslední člověk. Praha : Rybka Publishers 2002. ISBN 80-86182-27-4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cc3300"/>
                </a:solidFill>
                <a:latin typeface="Garamond"/>
              </a:rPr>
              <a:t>Děkujeme za pozornost.</a:t>
            </a: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ivilizace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rotiklad pojmu barbarství (18.s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polečnost usedlá, urbanizovaná a gramotná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Civilizace - celkový způsob života národa,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je kultura ve velké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komplexní celky (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náboženství, generace, dějiny, zvyky, instituce, objektivní prvky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…</a:t>
            </a: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ivilizace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mrteln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louhověk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řizpůsobují a vyvíjí 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ší se celkový počet civilizací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lavní: Čínská,Japonská, Hinduistická, Islámská, Západní, Latinskoamerická, Africká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Západ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 Evropa + Severní Amerika + země osídleny Evropany (Austrálie, Nový Zéland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.st. Evropa x Amerika  (zpátečnictví, útlak, hierarchie x svoboda, rovnost, budoucnos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.st. Amerika součást západu, první mocno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Garamond"/>
              </a:rPr>
              <a:t>Střet civilizací – Samuel Huntington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vět po studené válce je světem 7 nebo 8 zemí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přátelství a spojenectví jsou určeny kulturo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Západ ztrácí dominantní postavení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 21.st. Čína jako rival Západ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Garamond"/>
              </a:rPr>
              <a:t>Huntington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.H. vyzývá k utváření budoucnosti, doporučuje Západu přehodnotit zahraniční pol, prohloubit jednotu, rozšířit součinnost s Ruskem, Japonskem a Indií a stáhnout vojska z muslimské a čínské civilizac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ápad se má sjednotit a uznat i ostatní civilizac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Mezinárodní řá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774540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5800" spc="-1" strike="noStrike">
                <a:solidFill>
                  <a:srgbClr val="cc3300"/>
                </a:solidFill>
                <a:latin typeface="Garamond"/>
              </a:rPr>
              <a:t>A. Toffler – Šok z budúcnosti</a:t>
            </a: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85840" y="1643040"/>
            <a:ext cx="8501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“ </a:t>
            </a:r>
            <a:r>
              <a:rPr b="0" lang="sk-SK" sz="3000" spc="-1" strike="noStrike">
                <a:solidFill>
                  <a:srgbClr val="000000"/>
                </a:solidFill>
                <a:latin typeface="Verdana"/>
              </a:rPr>
              <a:t>Veci, miesta, ľudia,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sk-SK" sz="3000" spc="-1" strike="noStrike">
                <a:solidFill>
                  <a:srgbClr val="000000"/>
                </a:solidFill>
                <a:latin typeface="Verdana"/>
              </a:rPr>
              <a:t>yšlienky a organizačné štruktúry sa v životoch ľudí ,spotrebovávajú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k-SK" sz="3000" spc="-1" strike="noStrike">
                <a:solidFill>
                  <a:srgbClr val="000000"/>
                </a:solidFill>
                <a:latin typeface="Verdana"/>
              </a:rPr>
              <a:t>rýchlejšie“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sk-SK" sz="1900" spc="-1" strike="noStrike">
                <a:solidFill>
                  <a:srgbClr val="000000"/>
                </a:solidFill>
                <a:latin typeface="Verdana"/>
              </a:rPr>
              <a:t>Toffler A., Šok z budúcnosti, str. 29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sk-SK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odnadpis 2"/>
          <p:cNvSpPr/>
          <p:nvPr/>
        </p:nvSpPr>
        <p:spPr>
          <a:xfrm>
            <a:off x="357120" y="3571920"/>
            <a:ext cx="8572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kultúrny š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ústredný pojem: diagnostika problémov súčasné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človeka            psychické a fyziologické problém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konfrontácie s rýchlosťou zmi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Šípka doprava 4"/>
          <p:cNvSpPr/>
          <p:nvPr/>
        </p:nvSpPr>
        <p:spPr>
          <a:xfrm>
            <a:off x="2000160" y="5300640"/>
            <a:ext cx="642960" cy="103320"/>
          </a:xfrm>
          <a:prstGeom prst="rightArrow">
            <a:avLst>
              <a:gd name="adj1" fmla="val 50000"/>
              <a:gd name="adj2" fmla="val 22126"/>
            </a:avLst>
          </a:prstGeom>
          <a:gradFill rotWithShape="0">
            <a:gsLst>
              <a:gs pos="0">
                <a:srgbClr val="000000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cc3300"/>
                </a:solidFill>
                <a:latin typeface="Garamond"/>
              </a:rPr>
              <a:t>“</a:t>
            </a:r>
            <a:r>
              <a:rPr b="1" lang="sk-SK" sz="4000" spc="-1" strike="noStrike">
                <a:solidFill>
                  <a:srgbClr val="cc3300"/>
                </a:solidFill>
                <a:latin typeface="Garamond"/>
              </a:rPr>
              <a:t>Super - industrializmus</a:t>
            </a:r>
            <a:r>
              <a:rPr b="1" lang="en-US" sz="4000" spc="-1" strike="noStrike">
                <a:solidFill>
                  <a:srgbClr val="cc3300"/>
                </a:solidFill>
                <a:latin typeface="Garamond"/>
              </a:rPr>
              <a:t>”</a:t>
            </a:r>
            <a:br>
              <a:rPr sz="4000"/>
            </a:b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expanzia bielych golierov oproti modrý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dominanta éry je pomíjivosť, dočasnosť a zme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psychologizácia produkc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priemysel zážitko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obývanie oceáno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nové genetické varianty človek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dočasné manželstv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počiatok masového konzumu vysoko štandardizovaných produkto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Zástupný symbol obsahu 3" descr=""/>
          <p:cNvPicPr/>
          <p:nvPr/>
        </p:nvPicPr>
        <p:blipFill>
          <a:blip r:embed="rId1"/>
          <a:stretch/>
        </p:blipFill>
        <p:spPr>
          <a:xfrm>
            <a:off x="450720" y="536400"/>
            <a:ext cx="8242560" cy="5662800"/>
          </a:xfrm>
          <a:prstGeom prst="rect">
            <a:avLst/>
          </a:prstGeom>
          <a:ln w="0">
            <a:noFill/>
          </a:ln>
        </p:spPr>
      </p:pic>
      <p:pic>
        <p:nvPicPr>
          <p:cNvPr id="109" name="Obrázok 4" descr="P0115b398_s_praca_zamestnanie.jpg"/>
          <p:cNvPicPr/>
          <p:nvPr/>
        </p:nvPicPr>
        <p:blipFill>
          <a:blip r:embed="rId2"/>
          <a:stretch/>
        </p:blipFill>
        <p:spPr>
          <a:xfrm>
            <a:off x="7358040" y="3143160"/>
            <a:ext cx="1571760" cy="884160"/>
          </a:xfrm>
          <a:prstGeom prst="rect">
            <a:avLst/>
          </a:prstGeom>
          <a:ln w="0">
            <a:noFill/>
          </a:ln>
        </p:spPr>
      </p:pic>
      <p:pic>
        <p:nvPicPr>
          <p:cNvPr id="110" name="Obrázok 5" descr="1_Tokyo_quer_miki.jpg"/>
          <p:cNvPicPr/>
          <p:nvPr/>
        </p:nvPicPr>
        <p:blipFill>
          <a:blip r:embed="rId3"/>
          <a:stretch/>
        </p:blipFill>
        <p:spPr>
          <a:xfrm>
            <a:off x="7358040" y="1643040"/>
            <a:ext cx="1571760" cy="952560"/>
          </a:xfrm>
          <a:prstGeom prst="rect">
            <a:avLst/>
          </a:prstGeom>
          <a:ln w="0">
            <a:noFill/>
          </a:ln>
        </p:spPr>
      </p:pic>
      <p:pic>
        <p:nvPicPr>
          <p:cNvPr id="111" name="Obrázok 6" descr="ekopestovanie_1.jpg"/>
          <p:cNvPicPr/>
          <p:nvPr/>
        </p:nvPicPr>
        <p:blipFill>
          <a:blip r:embed="rId4"/>
          <a:stretch/>
        </p:blipFill>
        <p:spPr>
          <a:xfrm>
            <a:off x="7358040" y="4572000"/>
            <a:ext cx="15717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19:08:02Z</dcterms:created>
  <dc:creator>Monika</dc:creator>
  <dc:description/>
  <dc:language>en-US</dc:language>
  <cp:lastModifiedBy>wickon</cp:lastModifiedBy>
  <dcterms:modified xsi:type="dcterms:W3CDTF">2008-10-03T19:00:00Z</dcterms:modified>
  <cp:revision>8</cp:revision>
  <dc:subject/>
  <dc:title>Vývoj společnosti v pojetí A. Tofflera </dc:title>
</cp:coreProperties>
</file>