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127-C0B7-44A3-BBC0-BB09A6FB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60F-572E-4585-8D6B-600613E1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FBED-6768-4D65-BC24-F3980367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A39-CB1B-40F5-94AB-6E251754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F9CD-F9F9-412D-BF49-2A3C3296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8E04-68B0-4205-BA98-E4261708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9E81-4829-49F7-8731-9DD7FA09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49B1-61DF-4D03-9424-943FD53F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2F56-F396-45E7-885E-8DD4C344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A5F0-FBC0-45BF-8048-0A562BCD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3338-2626-4631-A957-CF318741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767-626C-4097-9487-EF5CD3AC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7235-5F1A-498D-9C96-BBD17313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45BF-34E3-4EB7-A304-5CEE34A0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F98B-543A-49EA-9925-056186B5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A272-0B92-4745-B7A7-37E54121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CF71-AE7E-4619-A2CA-91EE733C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01E1-4268-4809-B783-DA2DC22A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C65-D3C5-4FCF-A87B-3716C77B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158E-C54C-4EBB-B25B-B1A82BB7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13A5-2D2E-465C-A785-0DEB1A3D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FE5-B732-4D48-B523-97E4BABC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4040-4511-499F-B329-9E86EE67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BF17-40AC-41C6-BB84-8A5BA390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A8DF-6C31-4801-968F-21A0397D02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8B05-E5A2-4DE4-920C-98E76F45E9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b7"/>
                </a:solidFill>
                <a:latin typeface="Arial Black"/>
              </a:rPr>
              <a:t>Přirozená a kulturní evoluce</a:t>
            </a:r>
            <a:br>
              <a:rPr sz="2800"/>
            </a:br>
            <a:br>
              <a:rPr sz="2800"/>
            </a:br>
            <a:r>
              <a:rPr b="1" lang="cs-CZ" sz="3200" spc="-1" strike="noStrike">
                <a:solidFill>
                  <a:srgbClr val="ffffb7"/>
                </a:solidFill>
                <a:latin typeface="Arial Black"/>
              </a:rPr>
              <a:t>(Josef Šmajs: Drama evoluce)</a:t>
            </a:r>
            <a:br>
              <a:rPr sz="48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280" y="4365360"/>
            <a:ext cx="68007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pracovali: Blaha Mich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rál Tomáš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ulíčková Marc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a 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e = proces, který směřuje proti rozpadu systému,zvyšování uspořáda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le nositele evoluční ak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oluce přirozená - přír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oluce kulturní – člověk (člověk prvkem přirozené evoluce a aktérem kulturní evolu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ledisko evoluce klíčem pro pochopení a řešení ekologické kriz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dělání lidí v oblasti závažnosti ekologického konfliktu, přijmutí nových hodnot (pochopení evoluce..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ositelem příro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nohem delší časové hledisko než evoluce kulturní, už od dob velkého třesku vznikaly prvky,struktury světa…(vznik abiotických a biotických systémů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ytváření, přetváření, modifikace určitých prvků a struktur, výsledek evolučního procesu předem neznám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spořádanost jednotlivých organismů i uspořádanost celého ekosysté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Člověkem generovaný proces, cílevědomá i spontánní aktiv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ěle vytvářená kultura vzniká z přírody, je závislá na přirozených evolučně starších systém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ákladem kulturních struktur: informace kulturní=duchovní kul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ka, kultivované organismy, přirozené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ěřuje proti evolučně vytvořeným strukturám přír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ůsledek rozmachu kultu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ůst a rozmach kultury- destrukce a snižování biologické rozmanitosti živ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ůmyslová revoluce- rostoucí nároky na suroviny, energie, hromadné čerpání zdrojů, znečiště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tika koncepce  společenského vývoje bez ohledu na vývoj přírodní, nutnost považovat kulturu za podřízený subsystém bio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tika povědomí, že člověk díky rozumu o přírodu přesahuje a je jí nadřa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 je to informac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jem dosud uspokojivě nevysvět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jako obsah a smysl zprá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jako obsah pamě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jako uspořádanost by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ížně se rozlišují a v důsledku toho i zaměňu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 je to informace? I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zev pro obsah toho, co se vymění s vnějším světem, když se mu přizpůsobujeme a působíme na něj svým přizpůsobováním.“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a ty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ypy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e přirozená, biotick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e kulturní, uměl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dělila struktury na živé a neživ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zniká modifikací starší informace přirozen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 produktem kulturní informace, ale zároveň i její podmínk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eorie vzniku „spontánního společenského řádu“ (Hayek, F. A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Ontická role kulturní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mořádnou roli zastává lidský moz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„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e, čeho jsme dosáhli, je výsledkem kulturního vývoje, jenž se opírá o mozek stále stejné kapacity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zek se rodí s hotovou strukturou, bude pracovat moderním způsobem, avšak tento mozek má svou historii. Byl budován během miliónů let, reprezentuje historii, které je výsledkem.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ývoj filozof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ž donedávna filozofie bádala spíše v minulosti a snažila se vyložit podstatu nezpochybnitelného byt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jí vztah k ostatním vědám byl opomíj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es moderní filozofie hledí na realitu a vyvozuje z ní budoucnost, podstupujíce svoje teorie testu dalšími vědam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Ontická role kulturní informace I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ůsobí protipřírodně, je v opozici k přírodní evolu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ní informace se stává informací přirozen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.: Drama evol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.: Konflikt přirozené a kulturní evol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.: Základy systematické filosof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Wiener, N.: Kybernetika a společ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Gould, S. J.: Pandin pal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ung, C. G.: Analytická psycholog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udijní materiály předmětu Management I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kutečnost – co o ní vlastně víme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išel „zázrak“ zrození, Slunce nám dodává energii nutnou ke všem procesům na Zemi (na planetu Zemi přitom dopadají pouhé 2 miliardtiny sluneční energ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iotické x abiotické strukt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m směřuje skutečnost? Vesmír se rozpíná a chladne, zvyšuje se jeho entropie, naproti tomu na mnoha jeho místech vznikají stále složitější, organizovanější, struk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 směřování vesmíru náhodné či se jedná také o evoluční proc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ystém příro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lobální biosféra – vytvořil ji život, nedevastuje Zemi, vychází totiž z jejích nejstarších strukt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tevřené živé systémy – mají epigenetickou paměť (CNS) a genetickou paměť. To vede k evoluc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dukty evoluce jsou onticky předepsané struktury samovolně se strukturující bio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zemský život se tak stává organizačně nejsložitější, fenotypově nejaktivnější a proto i nejhodnotnější ontickou vrstvou vesmírné skutečnos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Člověk jako součást systému přírod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a – druhý, mladší systém, součást přírody, nemůže bez ní existov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ntropocentrická iluze – nadřazenost člověka přírodě, kultura se musí biofilně přestavě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šší systém neznamená silnější, naopak, slabší, křehčí organizační úroveň skutečnos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ozpor přírody a kultu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a je součást přírody, kde vzniknul rozpor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a je druhým ontickým systémem se sociokulturní informací, antropocentrická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může dosáhnout klimaxu s přírodou neboť roste mnohem rychleji, hnána příkonem se spalování fosilních paliv. Není tak prostor pro negativní zpětnou vazbu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rama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icolai Hartmann – odlišuje vrstevnatost bytí a stejně tak jako první i přírodní a kulturní evoluc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xpanze planetární kultury zbytečně brzo ohrožuje člověka jako dru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rálka není vždy závislá na faktu přežití, člověk může být fylogeneticky sobecký. Je však pouze nepatrnou větvičkou na stromu života, bez kterého nemůže existov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utné odstranit konspiraci lhostejnos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spořádanost strukt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pořádanost poukazuje na vnitřní zjevnou i skrytou rozmanitost skut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pořádanost přirozená a kultur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nitřní architektura konkrétních struktur(biotických, kulturních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y udržující identitu těchto strukt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uspořáda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ílem evoluční ontologie- přirozená uspořádanost jako vysoká kulturní hodn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ulturní X přirozená uspořádanost: Nešetrné zásahy kultury do přírody ničí tuto biotickou uspořáda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Šmajs: S ohledem na zachování přirozené uspořádanosti a na udržení biologické rozmanitosti života bude třeba rostoucí prostorové expanzi kultury zabráni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6:26:56Z</dcterms:created>
  <dc:creator>marcela</dc:creator>
  <dc:description/>
  <dc:language>en-US</dc:language>
  <cp:lastModifiedBy>snoopy</cp:lastModifiedBy>
  <dcterms:modified xsi:type="dcterms:W3CDTF">2008-09-30T13:02:12Z</dcterms:modified>
  <cp:revision>12</cp:revision>
  <dc:subject/>
  <dc:title>Přirozená a kulturní evoluce</dc:title>
</cp:coreProperties>
</file>