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69E-69B3-40C1-8519-81C4695C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558-3053-49BE-A02A-816EFA04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EBA-FA1B-445A-A688-F0266570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E3B-3543-4394-A515-7EDDB1F5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2A5-89E2-4179-A9AC-E534D5C7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DC9-13C4-4A8B-973F-3D457A48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8D4-6917-4771-B178-B35EA9B9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02B-8A03-43CB-B025-11480DDE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40D-5A94-44E3-8F37-6375E3D0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5F7-28AA-4211-8795-5AA23AE9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07C-4FBB-4F05-ACC3-961CC32A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168-4B5A-4532-AFC0-C3DEA256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6FE9-AAEF-40F5-AF56-826315B11E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rod a vývoj kapitalizmu ako fenoménu industriálnej spoločnost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5084640"/>
            <a:ext cx="309708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utori: Tereza Koklar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chal Dančiš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artin Ďub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3260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 je kapitaliz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Čo je to kapital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pitaliz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žne označuje ekonomický systém založený na súkromnom vlastníctve výrobných prostriedkov a súťaži súkromných podnikov na trhu a (sekundárne) tiež veľkej individuálnej podnikavosti, snahe o dosiahnutie zisku a systematickom reinvestovaní zis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ská etika a trhové hospodárs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ávislá premenná – etika, ktorá je z dlhodobého hľadiska odvodená od Kalvínovej metafyziky spas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ávislá premenná - individuálne a kolektívne ekonomické chovanie, ktoré je etickými normami štrukturované a inštitucionaliz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Kalvin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oderný ekonomický vývoj koreluje s prijatím a presadzovaním kalvínskej etiky a efektívnosť a účinnosť kalvínskeho kapitalizmu uznali i najzásadovejší odporcovia kapitaliz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ný kapitalizmus – ekonomicky pokročilejšie časti Európy 16. - 18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rvou Európskou krajinou, ktorá uvoľnila cestu kapitalistickému vývoju, bolo Holand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myslová revolúcia 18. – 19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vŕšenie formovania základných tried kapitalistickej spoločnosti – priemyselníci, robotnícka trie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nik sociálnej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ritika kapitalizmu z pozícií humanizmu, éra ochranného sociálneho zákonodarst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italizmus voľnej konkurencie (vrchol 60. – 90. roky 19. storoč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ípy liberalizmu, politika slobodného ob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chel Albert – dva hlavné prúdy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1. Neoamerický kapital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je priťažlivejší, ale sociálne krutejší, ekonomicky me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2. Rýnsky kapitalizmus – zeme od Švajcarska až po Holandsko, Škandinávie, Japon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strohejší, ale výkonnejší a spravodlivejš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esto trhu v rýnskom a americkom modely – netrhové statky, zmiešané statky, trhové 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ýnský kapitalizmus – hospodárska aj sociálna preva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riek tomu sa americký kapitalizmus presadzuje z psychologického i politického hľadi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čo kapitalizmus triumfuje na Západe a zlyháva všade inde na sv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ysté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chýbajúcej inform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mŕtvy kapitál, jeho hodno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Kapitál je nositeľom dvoch paralelných  významov: jednak vyjadruje bezprostrednú materiálnu hodnotu aktív a jednak odkazuje k skrytému potenciálu produkovať nadhodnotu. + skrytý konverzný proces západu – formálne majetkové zázna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právneho zlyh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vlastníctvo v rozvojových a postkomunistických krajiná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klenený zv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f. ing. Faltus, Jozef, CSc., prof. Ing. Průcha, Václav, CSc., Všeobecné hospodářské dějiny 19. a 20. století, Vysoká škola ekonomická v Praze, Nakladatelství Oeconomica, 2004, ISBN 80-245-0499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ernando  de Soto, Mystérium kapitálu, Rybka Publishers, Praha 2007, ISBN: 978-80-87067-20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bert Michel, Kapitalizmus proti kapitalizmu, nakladatelství ELITA, Bratislava 1994, ISBN 80-85323-6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tz, W. G., Protestantská etika a tržní hospodář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eber, M., Protestantská etika a duch kapitalis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7:29:20Z</dcterms:created>
  <dc:creator>Martin</dc:creator>
  <dc:description/>
  <dc:language>en-US</dc:language>
  <cp:lastModifiedBy>terka</cp:lastModifiedBy>
  <dcterms:modified xsi:type="dcterms:W3CDTF">2008-10-06T23:01:55Z</dcterms:modified>
  <cp:revision>12</cp:revision>
  <dc:subject/>
  <dc:title>Zrod a vývoj kapitalizmu ako fenoménu industriálnej spoločnosti </dc:title>
</cp:coreProperties>
</file>