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F58A-CF02-4BB1-9503-F240C2E2D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71600" y="442440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B415-772A-4671-8B60-55DD9F1F3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5156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BCD9-7F4D-4033-856E-9A48A4FBF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5560" y="327024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99880" y="327024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71600" y="44244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5560" y="44244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699880" y="44244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EE6D-B70C-43A6-9637-81C62718E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CC1A8-010B-4B21-B215-4636AEB28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38E73-8AC3-4A91-ADD3-C381C3AB5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81A07-624A-4C00-BD35-9803188A7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38C88-8393-4EB2-A958-D6A7B574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18FF9-585A-469A-BF64-09BBF5772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9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3C872-5A6E-4247-9E2F-02CED47FB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E3B16-0000-4D12-8DDD-9C42CEF3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3B1B-A7DF-462C-82E6-05660EDA6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156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AE231-4C75-462F-936E-10E0DCEA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42440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D6946-C4CE-45E8-8758-F9E0DE3B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71600" y="442440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15B91-9D5C-457E-BD3D-0572DE814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160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156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6C28C-62A9-49E3-9181-45E361B57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35560" y="327024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699880" y="327024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71600" y="44244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35560" y="44244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699880" y="44244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A272C-C405-4CE8-B17F-033050DB3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DC4B-0F72-489B-BC41-4231AFD66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B9D4-E268-4FA1-9CA8-AF5B0E623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BA9C-8227-47DB-89D3-BE02D3B1A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9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7ACD-C543-485B-A8E6-849B31FCA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7160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7538-E600-4563-9CD6-8AA2F280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5156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F7CB-9620-46CC-BE5B-BDFDD3C2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442440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FA4D-F6AD-4501-A152-D3BC9FFA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06D3A-4326-4DAA-8B2A-3560D8B5AE6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07F50-35C8-4091-9702-599E28C80D4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3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800" spc="-1" strike="noStrike">
                <a:solidFill>
                  <a:srgbClr val="cc3300"/>
                </a:solidFill>
                <a:latin typeface="Garamond"/>
              </a:rPr>
              <a:t>Vývoj společnosti v pojetí A. Tofflera</a:t>
            </a:r>
            <a:r>
              <a:rPr b="0" lang="cs-CZ" sz="5800" spc="-1" strike="noStrike">
                <a:solidFill>
                  <a:srgbClr val="cc3300"/>
                </a:solidFill>
                <a:latin typeface="Garamond"/>
              </a:rPr>
              <a:t> </a:t>
            </a: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ozef Barnia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arel Bay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onika Lemonov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cc3300"/>
                </a:solidFill>
                <a:latin typeface="Garamond"/>
              </a:rPr>
              <a:t>Pomíjivosť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28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rýchlosť s akou sa menia naše vzťah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0000"/>
                </a:solidFill>
                <a:latin typeface="Verdana"/>
              </a:rPr>
              <a:t>Spoločnosť na jedno použitie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expanzia dopytu a ponuky po spotrebných statko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Šípka dolu 3"/>
          <p:cNvSpPr/>
          <p:nvPr/>
        </p:nvSpPr>
        <p:spPr>
          <a:xfrm>
            <a:off x="4429080" y="1214280"/>
            <a:ext cx="285840" cy="50040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Diagram 6" descr=""/>
          <p:cNvPicPr/>
          <p:nvPr/>
        </p:nvPicPr>
        <p:blipFill>
          <a:blip r:embed="rId1"/>
          <a:stretch/>
        </p:blipFill>
        <p:spPr>
          <a:xfrm>
            <a:off x="1494000" y="4206960"/>
            <a:ext cx="679608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cc3300"/>
                </a:solidFill>
                <a:latin typeface="Garamond"/>
              </a:rPr>
              <a:t>Nové národy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okl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významu vzdialenost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spotrebovávame miesta a zbavujeme sa ich veľmi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podobným spôsobom ako odhadzujeme papierové vreckovky alebo plechovky od piv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sk-SK" sz="1800" spc="-1" strike="noStrike">
                <a:solidFill>
                  <a:srgbClr val="000000"/>
                </a:solidFill>
                <a:latin typeface="Verdana"/>
              </a:rPr>
              <a:t>Toffler A., Šok z budúcnosti, str. 43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Obrázok 3" descr="1903-lietadlo-lissovam.gif"/>
          <p:cNvPicPr/>
          <p:nvPr/>
        </p:nvPicPr>
        <p:blipFill>
          <a:blip r:embed="rId1"/>
          <a:stretch/>
        </p:blipFill>
        <p:spPr>
          <a:xfrm>
            <a:off x="5940360" y="4500720"/>
            <a:ext cx="28670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cc3300"/>
                </a:solidFill>
                <a:latin typeface="Garamond"/>
              </a:rPr>
              <a:t>Vzdelanie v budúcom čase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obrátenie k systému, ktorý už umie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výrob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 industriálneho človek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činnosť intelektuálnu a kreatívn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Model školy založený na továrni“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zameraný na minulosť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nevybavenosť do prax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Obrázok 3" descr="42-16032510.jpg"/>
          <p:cNvPicPr/>
          <p:nvPr/>
        </p:nvPicPr>
        <p:blipFill>
          <a:blip r:embed="rId1"/>
          <a:stretch/>
        </p:blipFill>
        <p:spPr>
          <a:xfrm>
            <a:off x="6858000" y="3857760"/>
            <a:ext cx="171468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cc3300"/>
                </a:solidFill>
                <a:latin typeface="Garamond"/>
              </a:rPr>
              <a:t>Šok z budúcnosti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Fyzická dimenzia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adaptácia</a:t>
            </a: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hranice množstva zmen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reakcia na nadmernú stimuláci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Psychologická dimenzi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nepravidelné fungovanie mysl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neschopnosť racionálne jednať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Obrázok 3" descr="shock_sign.jpg"/>
          <p:cNvPicPr/>
          <p:nvPr/>
        </p:nvPicPr>
        <p:blipFill>
          <a:blip r:embed="rId1"/>
          <a:stretch/>
        </p:blipFill>
        <p:spPr>
          <a:xfrm>
            <a:off x="6572160" y="4714920"/>
            <a:ext cx="19828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Garamond"/>
              </a:rPr>
              <a:t>Fukuyama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Západní liberální demokracie jako konečná podoba vlád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onec děj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Zůstává pouze ekonomická činnost v univerzálním homogenním státě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Střetávání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ražený komunismus a fašism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řekonaný nacionalism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lám - theokratický stát jako alternativa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Konec dějin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emě historické a posthistorick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Možný konflikt mezi nim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osthistorická doba bude smutný čas a staletí nud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uda vedoucí k začátku nových děj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Použitá literatura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TOFFLER, A. Šok z budoucnosti. Praha : Práce, 1992. ISBN 80-208-0160-X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Huntington, S. Střet civilizací. Praha : Rybka Publishers, 2001. ISBN 80-86182-49-5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Fukuyama, F. Konec dějin a poslední člověk. Praha : Rybka Publishers 2002. ISBN 80-86182-27-4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cc3300"/>
                </a:solidFill>
                <a:latin typeface="Garamond"/>
              </a:rPr>
              <a:t>Děkujeme za pozornost.</a:t>
            </a: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ivilizace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rotiklad pojmu barbarství (18.s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polečnost usedlá, urbanizovaná a gramotná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Civilizace - celkový způsob života národa,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je kultura ve velké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komplexní celky (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náboženství, generace, dějiny, zvyky, instituce, objektivní prvky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…</a:t>
            </a: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ivilizace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mrteln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louhověk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řizpůsobují a vyvíjí 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ší se celkový počet civilizací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lavní: Čínská,Japonská, Hinduistická, Islámská, Západní, Latinskoamerická, Africká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Západ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 Evropa + Severní Amerika + země osídleny Evropany (Austrálie, Nový Zéland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.st. Evropa x Amerika  (zpátečnictví, útlak, hierarchie x svoboda, rovnost, budoucnos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.st. Amerika součást západu, první mocno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Garamond"/>
              </a:rPr>
              <a:t>Střet civilizací – Samuel Huntington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vět po studené válce je světem 7 nebo 8 zemí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přátelství a spojenectví jsou určeny kulturo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Západ ztrácí dominantní postavení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 21.st. Čína jako rival Západ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Garamond"/>
              </a:rPr>
              <a:t>Huntington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.H. vyzývá k utváření budoucnosti, doporučuje Západu přehodnotit zahraniční pol, prohloubit jednotu, rozšířit součinnost s Ruskem, Japonskem a Indií a stáhnout vojska z muslimské a čínské civilizac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ápad se má sjednotit a uznat i ostatní civilizac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Mezinárodní řá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774540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5800" spc="-1" strike="noStrike">
                <a:solidFill>
                  <a:srgbClr val="cc3300"/>
                </a:solidFill>
                <a:latin typeface="Garamond"/>
              </a:rPr>
              <a:t>A. Toffler – Šok z budúcnosti</a:t>
            </a: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85840" y="1643040"/>
            <a:ext cx="8501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“ </a:t>
            </a:r>
            <a:r>
              <a:rPr b="0" lang="sk-SK" sz="3000" spc="-1" strike="noStrike">
                <a:solidFill>
                  <a:srgbClr val="000000"/>
                </a:solidFill>
                <a:latin typeface="Verdana"/>
              </a:rPr>
              <a:t>Veci, miesta, ľudia,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sk-SK" sz="3000" spc="-1" strike="noStrike">
                <a:solidFill>
                  <a:srgbClr val="000000"/>
                </a:solidFill>
                <a:latin typeface="Verdana"/>
              </a:rPr>
              <a:t>yšlienky a organizačné štruktúry sa v životoch ľudí ,spotrebovávajú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k-SK" sz="3000" spc="-1" strike="noStrike">
                <a:solidFill>
                  <a:srgbClr val="000000"/>
                </a:solidFill>
                <a:latin typeface="Verdana"/>
              </a:rPr>
              <a:t>rýchlejšie“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sk-SK" sz="1900" spc="-1" strike="noStrike">
                <a:solidFill>
                  <a:srgbClr val="000000"/>
                </a:solidFill>
                <a:latin typeface="Verdana"/>
              </a:rPr>
              <a:t>Toffler A., Šok z budúcnosti, str. 29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sk-SK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odnadpis 2"/>
          <p:cNvSpPr/>
          <p:nvPr/>
        </p:nvSpPr>
        <p:spPr>
          <a:xfrm>
            <a:off x="357120" y="3571920"/>
            <a:ext cx="8572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kultúrny š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ústredný pojem: diagnostika problémov súčasné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človeka            psychické a fyziologické problém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konfrontácie s rýchlosťou zmi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Šípka doprava 4"/>
          <p:cNvSpPr/>
          <p:nvPr/>
        </p:nvSpPr>
        <p:spPr>
          <a:xfrm>
            <a:off x="2000160" y="5300640"/>
            <a:ext cx="642960" cy="103320"/>
          </a:xfrm>
          <a:prstGeom prst="rightArrow">
            <a:avLst>
              <a:gd name="adj1" fmla="val 50000"/>
              <a:gd name="adj2" fmla="val 22126"/>
            </a:avLst>
          </a:prstGeom>
          <a:gradFill rotWithShape="0">
            <a:gsLst>
              <a:gs pos="0">
                <a:srgbClr val="000000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cc3300"/>
                </a:solidFill>
                <a:latin typeface="Garamond"/>
              </a:rPr>
              <a:t>“</a:t>
            </a:r>
            <a:r>
              <a:rPr b="1" lang="sk-SK" sz="4000" spc="-1" strike="noStrike">
                <a:solidFill>
                  <a:srgbClr val="cc3300"/>
                </a:solidFill>
                <a:latin typeface="Garamond"/>
              </a:rPr>
              <a:t>Super - industrializmus</a:t>
            </a:r>
            <a:r>
              <a:rPr b="1" lang="en-US" sz="4000" spc="-1" strike="noStrike">
                <a:solidFill>
                  <a:srgbClr val="cc3300"/>
                </a:solidFill>
                <a:latin typeface="Garamond"/>
              </a:rPr>
              <a:t>”</a:t>
            </a:r>
            <a:br>
              <a:rPr sz="4000"/>
            </a:b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expanzia bielych golierov oproti modrý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dominanta éry je pomíjivosť, dočasnosť a zme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psychologizácia produkc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priemysel zážitko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obývanie oceáno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nové genetické varianty človek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dočasné manželstv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počiatok masového konzumu vysoko štandardizovaných produkto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Zástupný symbol obsahu 3" descr=""/>
          <p:cNvPicPr/>
          <p:nvPr/>
        </p:nvPicPr>
        <p:blipFill>
          <a:blip r:embed="rId1"/>
          <a:stretch/>
        </p:blipFill>
        <p:spPr>
          <a:xfrm>
            <a:off x="450720" y="536400"/>
            <a:ext cx="8242560" cy="5662800"/>
          </a:xfrm>
          <a:prstGeom prst="rect">
            <a:avLst/>
          </a:prstGeom>
          <a:ln w="0">
            <a:noFill/>
          </a:ln>
        </p:spPr>
      </p:pic>
      <p:pic>
        <p:nvPicPr>
          <p:cNvPr id="109" name="Obrázok 4" descr="P0115b398_s_praca_zamestnanie.jpg"/>
          <p:cNvPicPr/>
          <p:nvPr/>
        </p:nvPicPr>
        <p:blipFill>
          <a:blip r:embed="rId2"/>
          <a:stretch/>
        </p:blipFill>
        <p:spPr>
          <a:xfrm>
            <a:off x="7358040" y="3143160"/>
            <a:ext cx="1571760" cy="884160"/>
          </a:xfrm>
          <a:prstGeom prst="rect">
            <a:avLst/>
          </a:prstGeom>
          <a:ln w="0">
            <a:noFill/>
          </a:ln>
        </p:spPr>
      </p:pic>
      <p:pic>
        <p:nvPicPr>
          <p:cNvPr id="110" name="Obrázok 5" descr="1_Tokyo_quer_miki.jpg"/>
          <p:cNvPicPr/>
          <p:nvPr/>
        </p:nvPicPr>
        <p:blipFill>
          <a:blip r:embed="rId3"/>
          <a:stretch/>
        </p:blipFill>
        <p:spPr>
          <a:xfrm>
            <a:off x="7358040" y="1643040"/>
            <a:ext cx="1571760" cy="952560"/>
          </a:xfrm>
          <a:prstGeom prst="rect">
            <a:avLst/>
          </a:prstGeom>
          <a:ln w="0">
            <a:noFill/>
          </a:ln>
        </p:spPr>
      </p:pic>
      <p:pic>
        <p:nvPicPr>
          <p:cNvPr id="111" name="Obrázok 6" descr="ekopestovanie_1.jpg"/>
          <p:cNvPicPr/>
          <p:nvPr/>
        </p:nvPicPr>
        <p:blipFill>
          <a:blip r:embed="rId4"/>
          <a:stretch/>
        </p:blipFill>
        <p:spPr>
          <a:xfrm>
            <a:off x="7358040" y="4572000"/>
            <a:ext cx="15717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19:08:02Z</dcterms:created>
  <dc:creator>Monika</dc:creator>
  <dc:description/>
  <dc:language>en-US</dc:language>
  <cp:lastModifiedBy>wickon</cp:lastModifiedBy>
  <dcterms:modified xsi:type="dcterms:W3CDTF">2008-10-03T19:00:00Z</dcterms:modified>
  <cp:revision>8</cp:revision>
  <dc:subject/>
  <dc:title>Vývoj společnosti v pojetí A. Tofflera </dc:title>
</cp:coreProperties>
</file>