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A64-069A-4829-9A62-7CC72040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2CB-E9F6-4398-AB83-B16E469C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937-0F93-41D6-8244-BBE6FD7B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159-C045-4E62-9905-2B9AC13C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CF3B-8BFE-4CA5-8E79-AE84A097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44B4-14CF-4C4E-AA31-25E2418C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EB76-41F7-4360-BDC4-B09FB28E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8E0D-BBFA-48CA-A0F1-089EDF78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66AF-6734-4903-B76D-36E4F63E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CB50-720C-467B-A097-7872740E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306B-6947-4907-8992-79281602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684-36B8-4F8A-BC5F-110F2E4B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4737-217F-454F-B63E-AFF02878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3B1C-01FF-49C5-B544-9A02FB83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D3C9-8A1C-4D63-8629-9AC704D4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6A7F-3F6B-417E-8C30-45A2E3C8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ABB8-ACFB-452D-BA8F-2E4E5EF5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CE32-4F94-4C2A-B429-D8367D75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28B-670E-4B04-80BE-2B2853EC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4E5-EA36-4F9E-83CE-684CB9BC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0BA-5CC4-4E5C-92BD-52DBCD82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462A-2F2A-476A-BB4A-4446C041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4E2C-C41A-4260-AF93-86E753FC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875-2E22-4926-ACDD-0ED1BEBA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30B5-9E53-416F-8E1C-D88F1B912CBC}" type="slidenum"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římá spojovací čára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78AC-BDBD-4C26-A637-A55400AE97F8}" type="slidenum"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8800" y="3928680"/>
            <a:ext cx="72864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Bookman Old Style"/>
              </a:rPr>
              <a:t>Přirozená a kulturní evoluce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4653"/>
                </a:solidFill>
                <a:latin typeface="Bookman Old Style"/>
              </a:rPr>
              <a:t>Marek Beleš, Martin Beleš, Pavel Kinc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Nejdříve domněnka, 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že kultura pozemskou přírodu zlepšuje ( dotváří její síly, je koevolucí, přímým pokračováním života na Zemi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ozději: kultura navazuje na evoluční proces,  al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má schopnost je zneužívat pro růst moci kulturního spo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Příčinou je konstitutivní činitel kultur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Je jím, dle Šmajse: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Konstitutivním činitelem kultury je sílící proces cílevědomé i spontánní informační aktivity lidí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.“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onstitutivní informací kulturních struktur nemůže být informace přirozená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Duchovní kultura - vlastní vnitřní informa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dokáže obrátit dílčí přírodní síly včetně přirozených potencí člověka proti ostatní přírodě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Člověk – nový biologický druh, byl přirozenou evolucí vybaven tak, že dokázal zažehnout kulturní evoluci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ro kulturu platí 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Co připomíná F.  A. Hayek: že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spontánní řád se formuje sám ze sebe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“ a také ve smyslu Caprova výroku, že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stroje se stavějí,  ale organismy rostou.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ulturní společenství, produkované 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Nepřím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Přím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 vs.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965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konflikt – přirozená poprvé v historii ohrožuje</a:t>
            </a:r>
            <a:br>
              <a:rPr sz="2400"/>
            </a:b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  evoluci kulturní</a:t>
            </a:r>
            <a:br>
              <a:rPr sz="2400"/>
            </a:br>
            <a:br>
              <a:rPr sz="2400"/>
            </a:b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poškození živého i neživého prostředí planety, tedy systému,</a:t>
            </a:r>
            <a:br>
              <a:rPr sz="2000"/>
            </a:b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který kdysi vznik přirozené evoluce umožnil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Zdro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965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Šmajs, J. : Drama evoluc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Šmajs, J. : Ohrožená kultur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Šmajs, J. : Základy filosofie (přednášky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Highfield, R. : Šíp času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http://cs.wikipedia.org/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76720" y="4267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Děkujeme za pozornos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Přirozená a kulturní evoluce - Úvo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ill Sans MT"/>
              </a:rPr>
              <a:t>Evoluce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– Obecný pojem používaný pro časový vývoj chování systému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V biologii se tento pojem používá pro Darwinovu vývojovou teorii,  podle které vyšší formy života povstaly postupným vývojem z forem nižších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ill Sans MT"/>
              </a:rPr>
              <a:t>Evoluce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je antientropický děj =&gt; směřuje proti narůstání entropie, tedy proti degeneraci a rozpad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Rozeznáváme ji na základě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998280" indent="-43416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Hlediska výběru přiměřené časové šká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998280" indent="-43416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998280" indent="-43416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Určení nositele evolučních změ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Times New Roman"/>
              </a:rPr>
              <a:t>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25760" y="1339920"/>
            <a:ext cx="750168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ozvolný, průběžný vývoj  X  Revolu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rocesualita, aktivita, nevrat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Lamarck, Darwin + Wallace – evoluční biolog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6b5680"/>
                </a:solidFill>
                <a:latin typeface="Gill Sans MT"/>
              </a:rPr>
              <a:t>evoluční teor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vznik a vývoj života probíhal postupně hromadě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nahodilých změn a jejich sele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- kontroverzní téma – spory napříč společ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roblém evoluce – časové period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ředpokládáme, že evoluce přirozená vzniká se vznikem vesmír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Zářivé období vesmíru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Hvězdné (látkové) období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Evoluce vesmíru vedla ke vzniku biosféry včetně biologického předka dnešního člověk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Evoluce postupuje „proti proudu“, proti rozpadu =&gt; potřebuje „výživu“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Jak uvádí J. Šmajs: „</a:t>
            </a:r>
            <a:r>
              <a:rPr b="0" i="1" lang="cs-CZ" sz="2600" spc="-1" strike="noStrike">
                <a:solidFill>
                  <a:srgbClr val="000000"/>
                </a:solidFill>
                <a:latin typeface="Gill Sans MT"/>
              </a:rPr>
              <a:t>Evoluce tedy generuje, ruší a modifikuje prvky, komplexy, subsystémy a systémy tak, že diverzifikovaný celek svou narůstající uspořádaností stále úsporněji využívá svého omezeného evolučního zdroje“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Např.: biosféra energii slunečního záření, kultura energii vynakládanou a uvolňovanou člověk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Celkový průběh evoluce biosféry neznáme =&gt; planeta Země tvoří jeden velký organism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Ve vývoji života zjišťujeme dva důležité filosofické momenty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Nerovnoměrnost v biotickém evolučním procesu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1006560" indent="-4572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S. J. Gould: "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Po tři miliardy let byl nejvyšší formou života povlak prokaryont...pak, zhruba před 600 miliony let, se ve fosilních dokladech náhle objevují prakticky všechny stěžejní formy živočišného života, a to v průběhu několika málo milionů let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„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Rozdíl mezi uspořádaností informačně předepsanou  a nepředepsanou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3" marL="1006560" indent="-45720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ill Sans MT"/>
              </a:rPr>
              <a:t>Uspořádanost jednotlivého organismu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06560" indent="-45720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ill Sans MT"/>
              </a:rPr>
              <a:t>Uspořádanost ekosystémová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06560" indent="-45720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Šmajs: „</a:t>
            </a:r>
            <a:r>
              <a:rPr b="0" i="1" lang="cs-CZ" sz="2300" spc="-1" strike="noStrike">
                <a:solidFill>
                  <a:srgbClr val="464653"/>
                </a:solidFill>
                <a:latin typeface="Gill Sans MT"/>
              </a:rPr>
              <a:t>I mnohobuněčný systém totiž nutně vyrůstá z jediné buňky (zygoty) a jeho víceúrovňová organizace včetně procesu ontogeneze musí být proto zapsána ve struktuře jeho dědičné paměti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“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Rozdílné uspořádání = rozdílné implikátní a explikátní paměti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Evoluce nám pomáhá porozumě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„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řírodní konstruologii“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„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ulturní konstuologii“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cxnSp>
        <p:nvCxnSpPr>
          <p:cNvPr id="105" name="Přímá spojovací šipka 4"/>
          <p:cNvCxnSpPr/>
          <p:nvPr/>
        </p:nvCxnSpPr>
        <p:spPr>
          <a:xfrm flipH="1">
            <a:off x="2571480" y="3214440"/>
            <a:ext cx="2160" cy="50076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Kultura x přírod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Gill Sans MT"/>
              </a:rPr>
              <a:t>Kultura 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– její uspořádanost organizačně jednodušší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Výhodou vnitřní informace, uložená mimo geny – duchovní kultura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ultura, jako nebiotický systém, je možný díky vlastní vnitřní informaci – duchovní kultuře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09:20:08Z</dcterms:created>
  <dc:creator>Martin Beleš</dc:creator>
  <dc:description/>
  <dc:language>en-US</dc:language>
  <cp:lastModifiedBy>Marek</cp:lastModifiedBy>
  <dcterms:modified xsi:type="dcterms:W3CDTF">2008-10-01T18:03:44Z</dcterms:modified>
  <cp:revision>72</cp:revision>
  <dc:subject/>
  <dc:title>Přirozená a kulturní evoluce</dc:title>
</cp:coreProperties>
</file>