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80F-4055-46AC-B03F-87CCE898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150-73BA-421D-88A8-471D7E21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234-EB24-4D84-A358-EFF520EB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5CD-9736-4D54-9EB2-B8BC623F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20CF-DF86-484F-934B-606EBABA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EE16-03D4-4540-A6FF-E5AC53FC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A3DF-F9DD-490A-ABA8-B699387E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81A4-91BB-41BD-B3B1-D53B5053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8F8B-5982-4239-873B-70ADA055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543D-0C69-4029-8311-C189122D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50D7-87C0-4255-9595-275FFB0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5E9-A975-4A3E-907C-E78E1DE8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5CB-2057-4632-83D6-2337EB5D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50BA-3B43-47E7-81C1-87431186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173-6FA8-4949-8043-7D6F3DE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10B7-D37B-4E4D-AEEA-914B83F6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5ED6-E880-47B2-BBD6-36791811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E046F-4ED6-4496-B652-6F3F973D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4A00A-CED3-4A81-8056-404AF27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65614-7AF5-40B3-A62A-1BF38FF2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A0206-7070-426D-A5D4-5DFBB7F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DC8D9-2012-4B4B-9B2E-AF02FAB4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00B-0194-4DF4-B966-D180B6B0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AB5B2-405A-4411-BF8C-2422DB4A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087DA-4D0F-44AC-B681-1739052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EA680-2863-4E58-8F4F-1FFDD62C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22646-07E8-4BFB-B344-F47233B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1534E-95FD-44EC-8DBF-532B9DED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E7B67-7470-4AAF-8BA9-3E003698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E0156-A1FA-4DE2-BCDA-F14811F1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8726-7F01-4A42-B82F-716AD265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B2B4-71C2-42EB-AB9C-923C86C9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B6EE-8340-41A3-A188-3390A22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C9A-D816-4161-A539-4211B934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46869-AEDC-4B89-BE1A-022D1789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7AD2-DE80-4FC3-865E-CB6BF9E5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1FE0-2A5D-4C12-A32B-BA9F937B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A9F5-6B17-42FF-B816-BAD0DDA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CEBC-C6FC-4BB8-B477-3F1274F8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4A89-12AE-4E21-BF51-835C344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6194B-74B3-4346-BEA0-03E1F773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0BFE-5086-422F-8448-3C61007A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016D-72A5-44ED-9292-E6D8B9B1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D0FF2-F911-48C2-8DD5-63B5FB47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E8C-62B7-42F3-A3E3-B0A91BA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A7A03-C4EF-41FE-8F74-A395AD4C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CCA7E-2224-4A65-8C27-23C26328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C123E-CAE9-4F79-92E1-4F0A6F90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259D1-121D-4D29-BE45-DEA5CEA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2DAC7-934C-4977-AABE-408E0F9E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93588-BC81-4AE9-B039-AA6E72D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2B605-1FC5-4223-A592-7A209DD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76459-0EE0-46AC-8DD7-D707D7E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3A8B0-A5FA-4919-89B4-A1002FBF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75885-0777-4BE9-AB11-24F74667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144-DB10-40EC-A412-02F9D345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D42666-3B79-4FF1-A7B9-855F7124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4AC9F-2741-4E20-8F30-5C0474EF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5AAD3-2B8E-4ABA-B839-2BC5EC1C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BE512-DF78-448A-BE26-14380CC5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A6BC8-F8BA-4EFA-8BDE-4908DD5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A4EC5-79CA-459B-B037-83AC79BC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D17B4-CDBD-400D-BD51-A45926D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E309A-20CA-4763-B3D1-C65C0A14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968E0-9D45-4CA3-BF48-AE65516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70AD3-3ECC-4DBD-85F1-4ECBDB50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21A-E4A7-405E-8ECB-53DEAA8B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4CCE0-A5F7-44F8-B3E8-63F901DC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87A8E-0755-49E1-818E-8CF7D1C8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987B0-7778-4931-8E4F-100FE87C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DA6CC-695B-4CA7-8270-837B66D3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BD72E-43DC-423F-B2C4-EF657D7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8565B-A0AD-4DBB-B9D8-D318BA05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48071-AF42-4C19-BB1F-ADA6C4BF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E5852-BCD4-485A-9FB3-9B417FE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28490-75F1-4940-8C48-BBACF1B5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42767-D874-43A0-8C9F-1F443F5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F59-3210-447C-9F1D-27016F6F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38A82-9C61-4C46-BC31-C314529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042CE-7F2D-483E-8EAB-0844E069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79135-C660-43A8-AE6B-C77498B8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2DC8A-DDA4-4193-9C23-6A42CCB4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6CAC4-9661-4081-AA47-533F17B5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F11-E9B6-482D-A41A-EB848293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E604-B5CF-4CF2-9237-77DD2B4BEA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2C3-A209-4804-977E-74F7A4BBC7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2F9D-48A8-48E4-A0C2-DE8CD7405E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53C-579F-488B-BA0E-19C0CE6F21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B356-FF59-4272-B9A8-BA1211E0C9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A87B-62CE-481E-85E4-DD8C0F3621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637-7985-4319-BCF5-F2012A1559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alibri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, 284 str., ISBN 8020801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Calibri"/>
              </a:rPr>
              <a:t>Děkujeme za pozornost</a:t>
            </a: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+ D Mead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dence k překmit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vale udržitelný společ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y restrukturalizace světov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: Trvalá udržitel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Lucie</cp:lastModifiedBy>
  <dcterms:modified xsi:type="dcterms:W3CDTF">2008-10-13T20:48:59Z</dcterms:modified>
  <cp:revision>21</cp:revision>
  <dc:subject/>
  <dc:title>Třetí vlna a její důsledky</dc:title>
</cp:coreProperties>
</file>