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FD7-E846-48DF-8693-6BBEBFAA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68F-44FA-494B-808E-927FED53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6EC-7EAB-4F82-B485-43E38674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F8C-F253-4E2F-A456-FCFE3D8F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0F00-A9B8-4124-B952-9DCDF86F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3D12-5D10-48B5-80AD-15FEAD81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A75F-0C15-4AEE-956E-4D064FEF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85BD-B35D-4610-B09E-59434595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F9FD-D588-4399-A16D-C4A65EBC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4375-2EF5-4EFA-A446-DF4A261E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CD0E-78DE-4D7E-97B2-D7109E69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4BBF-7574-43A3-9C1B-18AC28CB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675D-F59C-4117-A261-4D6B3804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8590-E8ED-4F82-81EE-4D6A081E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8C78-6CE2-4222-8E20-538E3BF6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A3D7-E63A-4A44-B194-E1EBD47D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8691-9282-4F8E-9ED5-2C2AABE1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E388-C564-45C7-8198-2F996E36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13BE-0023-4425-9967-726C95D3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F21-C0BC-4A88-98F5-3A85BC9D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FF80-D529-4A68-A08E-926F5C2B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0F0B-A77A-48CE-A212-25A0EB06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EF8-1E9C-4CEF-858E-0FB7FBD3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66F-2D56-4509-8939-D501816B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5755-DD7B-4E0C-ADE4-4875072CD2BF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7F9F-58A6-4BFC-BBC2-0478B8A09941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705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kologické aspekty industriální        a postindustriální společnost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47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toř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64200" y="4164120"/>
            <a:ext cx="196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67480" y="409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06840" y="4797360"/>
            <a:ext cx="228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Marie Adam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Monika Kudl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František Chur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Vliv lidské činnost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692280"/>
            <a:ext cx="8209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elkové emise skleníkových plynů vznikající v důsledku lidské činnosti se od predindustriálního období zvýšily, s nárůstem o 70% mezi lety 1970 a 2004. Nejvýznamnější skleníkový plyn vznikající jako důsledek lidské činnosti je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CO2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. Roční emise tohoto plynu vzrostly 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mezi lety 1970 a 2004.“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300" spc="-1" strike="noStrike">
                <a:solidFill>
                  <a:srgbClr val="ffffff"/>
                </a:solidFill>
                <a:latin typeface="Tahoma"/>
              </a:rPr>
              <a:t>(Zdroj: Zpráva IPCC, 2007)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Globální roční emise antropogenních skleníkových plynů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0920" y="3068640"/>
            <a:ext cx="50389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Nepříjemná pravda</a:t>
            </a:r>
            <a:br>
              <a:rPr sz="4400"/>
            </a:b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(Al Gore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rize probíhá a je morální povinností člověka ji řeš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r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bezpečí          Příležit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276360" y="4724280"/>
            <a:ext cx="115236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4724280"/>
            <a:ext cx="100800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7979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Jak je možné ovlivnit atmosféru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Zdroj: &lt;http://apps1.eere.energy.gov/state_energy_program/update/images/06-07_greenhouse_effect.jpg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O2 vznikající z lidské činnosti: spalování ropy a uhlí, auta, elektrárny, at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é skleníkové plyny: např. fluorid sírový, fluorderiváty uhlovodíků at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54738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eplota na severní polokoul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Zdroj: An Inconvenient Truth, dostupné z: &lt;http://staffwww.fullcoll.edu/tmorris/an_inconvenient_truth/temps_north_til_2000.jpg&gt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34544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Globální oteplování jako důsledek lidské činnost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ání sněhu a led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dostatek pitné v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uriká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zertifik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sychání zemědělské pů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habitat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mírání druh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árůst invazivních druh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v ročních období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Faktory, které změnily vztah člověka k Zem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ční explo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ědecko-technická revol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Lidé jsou stále mocnější ve vztahu k příro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35280" y="2852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aděj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zónová dí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my jsou odpovědněj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D.Meadowsová, D.Meadows, J.Randers: Překročení mez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1972 – Medze rastu (Limits to growth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žiadnom systéme s obmedzenými zdrojmi nemôže pokračovať rast po ľubovoľne dlhú dob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čítačový model World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1992 – Prekročenie medzí (Beyond the limi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 modelu dosadené aktuálne informác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nohé toky materiálov a znečistenia prekročili svoje udržateľné medze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D.Meadowsová, D.Meadows, J.Randers: Překročení mez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Hnacou silou, ktorá spôsobuje, že ekonom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ľudstva sa blíži fyzickým možnostiam Zeme, 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exponenciálny ra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ulá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vetového priemysl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Medze, na ktoré rast naráž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Žriedla (potraviny, voda, lesy, fosílne palivá, materiály, 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Výpuste (odpady, znečisten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D.Meadowsová, D.Meadows, J.Randers: Překročení mez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Tahoma"/>
              </a:rPr>
              <a:t>Zaťaženie = Populácia x Blahobyt x Technológi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Tahoma"/>
              </a:rPr>
              <a:t>Každá spoločnosť by mala previesť zlepšenia v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Tahoma"/>
              </a:rPr>
              <a:t>oblasti, kde má najväčšiu možnosť ich previesť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jem Ekologi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ůvodně biologická vě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irší smysl slova – ochrana přír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kologie – ideologie - ekologism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World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Komplexný model – počítačová simulácia sve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leduje stavy veličín: populácia, priemyselný kapitál, znečistenie, úrodná pôda, zdro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erie v úvahu časové horizonty zmien jednotlivých veličí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eberie v úvahu: nerovnomerné rozdelenie bohatstva, prírodné a technické katastrofy, vojny, korupciu, bariéry trhu ap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World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4 druhy medzí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Obhospodarovaná pô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Výnos z jednotky pô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Neobnoviteľné zdro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chopnosť Zeme absorbovať znečisten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úvislosti: výživa a očakávaná dľžka život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kapitál, technológie a trh, priemysel a znečisteni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ôda a znečistenie, neobnoviteľné zdro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World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4 typy chovania model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pretržitý r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Logistický r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kmit a oscilá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kmit a kola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Cesty k trvale udržateľnému systém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3 spôsoby reakcie spoločnosti na signály o prekračovaní medz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ignály utajovať, zamlžova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mierniť tlaky technickými alebo ekonomickými opatreniami bez zmeny príčin krí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meniť štruktúru syst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Cesty k trvale udržateľnému systém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dmienk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tabilizácia veľkosti populá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Obmedzenie hospodárskeho rastu – orientácia na kvalitativný r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Zlepšené technológie znižujúce emisie a zvyšujúce efektívnosť využívania prírodných zdrojo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Čím dlhšie bude trvať pretvorenie spoločnosti smer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k trvalej udržateľnosti, tým nižšia veľkosť populácie 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materiálna životná úroveň bude udržateľn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Cesty k trvale udržateľnému systém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ytváranie víz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ájomné prepojov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Hovorenie prav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Uče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ilov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ritika modelu World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3 od počátku cílen jako destruktivní, aby se stal zajímav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ktní limity neobnovitel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předpokládá, že ekonomický růst nutně způsobuje nárůst znečišt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ritika modelu World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tah: množství jídla na osobu – střední délka živ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poklad konstantního výnosu z každé další jednotky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poklad malé efektivity lidské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ritika modelu World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ybějící prostor pro lidskou fantazii a operativní řešení probl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nedělá přesné předpovědi – nedá se ověř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Zdroje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MEADOWS, Jorden. Překročení mezí. Argo 1995. 319s. ISBN 80-85794-83-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REEMAN, Christopher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dels of Doom: A Critique of the Limits to Growth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Evolution [online]. Wikipedia.org 2008. Převzato 2008-10-13. Dostupné z www: http://en.wikipedia.org/wiki/Ev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Ecology [online]. Wikipedia.org 2008. Převzato 2008-10-13. Dostupné z www: http://en.wikipedia.org/wiki/Ecolo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práva Mezivládního panelu pro klimatické změny při OSN, 2007, Dostupné z www: http://www.ipcc.ch/pdf/assessment-report/ar4/syr/ar4_syr_spm.pd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GORE, Al. Nepříjemná pravda. Argo 2007. 325s. ISBN 978-80-7203-868-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ůvody ochrany příro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etické (rekreač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ické (teologick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logické (ekologick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ývoj k současnost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lověk a války svět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inulost  X  současno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ulost – každá skupina mohla dělat cokoli chtěla a čas a válka ukázal, co je lepší (klima nebylo ovlivněn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časnost – globální společnost – nejrychlejší růst není nutný pro přežití, ovlivňuje ovšem globální kl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inulost  X  současno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inulost – neexistovaly negativní externality v globálním měřít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učasnost – znečištění životního prostředí je negativní external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Názory na ekologické dopady industriální a postindustriální společnosti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7263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imatická změna neprobíh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imatická změna probíh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spcBef>
                <a:spcPts val="799"/>
              </a:spcBef>
              <a:buClr>
                <a:srgbClr val="ffffff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na je přirozen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spcBef>
                <a:spcPts val="799"/>
              </a:spcBef>
              <a:buClr>
                <a:srgbClr val="ffffff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nu zapříčinil člově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zasahovat               Zasah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00000" y="4437000"/>
            <a:ext cx="1655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4437000"/>
            <a:ext cx="172728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Data a východis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15920"/>
            <a:ext cx="75438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1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Oteplová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klimatického systému </a:t>
            </a:r>
            <a:r>
              <a:rPr b="1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je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nesporn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, jak prokazují výsledky pozorování zvyšující se globální průměrné teploty vzduchu a oceánu, rozsáhlé tání sněhu a ledu a zvyšující se průměrná hladina světových moří.“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(Zdroj: Zpráva Mezivládního panelu pro klimatické změny při OSN, 2007, dostupné z: &lt;http://www.ipcc.ch/pdf/assessment-report/ar4/syr/ar4_syr_spm.pdf&gt;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Průměrná povrchová teplota a úroveň hladiny moř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droj: Zpráva Mezivládního panelu pro klimatické změny při OSN, 2007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553440" cy="2859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58920" y="3429000"/>
            <a:ext cx="58341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07:07:13Z</dcterms:created>
  <dc:creator>ucebna</dc:creator>
  <dc:description/>
  <dc:language>en-US</dc:language>
  <cp:lastModifiedBy>Kudlová</cp:lastModifiedBy>
  <dcterms:modified xsi:type="dcterms:W3CDTF">2008-10-15T23:56:07Z</dcterms:modified>
  <cp:revision>37</cp:revision>
  <dc:subject/>
  <dc:title>Snímek 1</dc:title>
</cp:coreProperties>
</file>