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7DE-9385-44C2-B4F5-D7433863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2B3-4D81-47F0-A70A-4970D805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A29-967B-4905-93AC-B2AC93D5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598-B3C7-4E1E-9BDE-E246897A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E3C4-1CEA-4291-9627-C2DC9015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4143-6BA7-4460-BEAC-F9D0E837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5291-7569-44C6-B965-3E9A09FE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9909-160A-416C-BEB8-FEC2C7A7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C74C-2771-436D-AEF0-B31E8C8C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00BC-3BFE-42BA-89FD-3F7EAD8B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5AC4-14BA-4F9D-BA2D-C27B11EA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67A-ED4E-4861-9158-9F757554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AF05-A423-4A94-9DA0-9F73B959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4763-3014-4688-B6E5-2570943E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169F-FA4F-4870-AA1B-47D936E3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4C16-B5CB-4D7C-BFCF-DF7F8BED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2133-9783-4BED-8136-3585BFEE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A45-D6E0-429A-9F67-7FD0FC50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F9C-FFA9-483A-AC3C-67C3D012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125-C37A-4597-8912-8F7427D6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035-2905-497B-9CE2-AC9800EB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007-3D47-4BE1-93CB-7D1E0B95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CA3-02E0-4D94-8C0F-F4D75181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4E2-2B3D-4454-8F93-6D3D062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DEB4-55CB-45CE-A9CF-613125F63F7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C894-B2A1-440A-8775-DE2089958AA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řirozený a umělý řá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8.9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stup k evoluci jako řádu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jako vývoj systémů v ča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dán přirozenou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d počátku vesmír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dán kulturní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S příchodem člověka na z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nejen řád vytváří, ale je také sama jeho součá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rodní a umělý (kulturní) řá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řejmá nekompatibilita – hledání příči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 obou nejasný výchozí cíl – spontánní evolu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Člověk jako součást obou řád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ní nemůže vzniknout bez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chopnost struktury udržovat, reprodukovat, rozvíjet a nič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žnost vzájemné interak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ůraz na zatlačování přírody kulturou a negativní důsledky z toho plynou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a není možná bez přírodního řád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ruktury zničené přírodou jdou kulturou obnovit, naopak to však nej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lavní nebezpečí pro existenci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yek, F.A.: Právo zákonodárství a svoboda. Praha, Academia, 1991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Šmajs, J., Krob, J.: Úvod do ontologie. Brno, Masarykova univerzita, 1991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Řád – uspořádaný stav vě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irozený – vytvořený spontáními vlivy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mělý – vytvořený třetí silou za jistým účel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ntologie – věda o bytí, zabývá se řádem jako takový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místní existence přirozeného a umělého řád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jejich vývoj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hledání příčiny odlišnosti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dlišné tendence směřování přírody a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yšlenka dvou řádů z období antického řec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 v metafyzi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ualismus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 filosofického hlediska – Descartes, Kant, Heg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Úsilí o překonání rozdvoje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nešní pohled stále diferencovaný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ývoj a exist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řirozený řád – dán přírodou a nevědomou činností 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mělý řád – dán člověkem úmyslně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ývoj paralel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ritika myšlenky, že řád musí vznikat díky aktivitě myslící bytost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zájemná koexistence a doplňov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den typ řádu převládá v závislosti na okolnoste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 rámci společ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neomezen veliko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jen v malých společenstv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zv. organizace – pomáhají koordinovat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ěl by sloužit primárně menším společenstvím, obecně by se lidé měli řídit přirozený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louhodobé řízení společnosti umělým řádem je nutně neúspěšné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rátkodobě možné – náznaky diktatu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09-30T08:49:15Z</dcterms:modified>
  <cp:revision>20</cp:revision>
  <dc:subject/>
  <dc:title>Přirozený a umělý řádc</dc:title>
</cp:coreProperties>
</file>