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5D4-C4F7-4BF4-882F-F8879A65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57B-85E5-40D5-AB39-B45C3C9A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DAC-680D-4DE7-91F3-D01E7A37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57E-E500-443D-8F9D-BCEABDEA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67C-8F3C-4A36-873E-E89ECDA9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C3AE-42AC-4ACD-9E0E-B2A588A3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B997-CF51-49F4-8B33-F2A65B29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3277-592E-4317-A720-70BC3FFC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A33C-B494-4C5C-893E-BCDD0EEB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652A-02E8-4C17-8814-F228BD27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E8DA-5BDF-4273-8B36-C92A80D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F36-71B6-48F0-BF82-7835ECAA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DD4D-CABA-48E9-A926-6A94023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1BB4-759C-4202-BCE4-DD2CFF1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E636-B341-47E4-8A0B-0514D84F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0760-F8A3-438D-A5D1-DE6DBD52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59AD-47B6-4BA1-8542-84589D0D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617F9-5060-4F17-BC89-6EFD75AB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4D571-CDBC-498E-85F4-17E8E8FE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9DD75-EC68-4706-92FE-3E7AB0F7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EA41B-3DA5-45FD-AC46-B2BA2A98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D4CF7-2A51-4A2E-88FE-AE1B8458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CF1-0F90-4C51-AB12-0CAEDD9A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52EF9-3F41-4910-93EB-56287A2C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50F30-8F60-4697-BA53-61A5715C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F86F3-8159-4603-9174-B0E08DB7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83EE4-6377-45C8-9F14-1E4F0419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2B73F-F0E3-46C0-83DC-67062A56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24451-9AE8-443D-ACDD-A6E3A36A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ACEA2-0197-4FDB-A71A-A194C528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29E5-CA5F-48EE-B8D1-68F5A7A9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2E28-FDBB-4796-9E3C-3372BA8F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6554-7AB6-4ADE-B2CF-95668498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1BE-DF80-4507-B954-E22B80C6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A9D4-DB08-448B-B426-30EAD874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15A9-2A73-47B0-BFB6-958377CA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4762-F1B4-4D44-B18B-131812E7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D269-64F7-4AD8-94E3-1F3F3E11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9FD2-43EC-46CC-85B2-150B37E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4E284-E008-4A43-9CDF-B9863334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606C2-7B03-4C6A-9390-A716020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C57B-3048-4259-A3C4-34AE2B43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040F3-DC61-40BC-9422-C9CCD9B6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3C910-CA5A-42C0-8BAF-0C02F59D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06A-FE41-45AD-B527-4A3DD1DE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A6379-3BC4-4839-91C5-18D21535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228F2-A530-4E08-A319-83A2B1C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F315C-101F-4C06-836E-14297288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E21A8-075C-4D87-9A5D-982325EE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35EFB-475C-48BD-BBF0-7A44F561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3B65E-B9EA-46E9-92CE-D5B44CDF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A7B8A-29F1-4C83-AE45-B9ACD888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F9AE1-3622-4F28-8681-C57CAD23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9BD9F-B521-4DE3-8639-A640871D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84DB0-CF51-4D37-9B69-CF4287BD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B9F-4DEC-4AE5-B097-1110C04D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6690C-0C84-4C4C-912E-B2087BCA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09CE60-3209-4B78-A7D6-888E54C3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813DD-34CD-4719-A506-85C6A60B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5F455-9FF2-4786-882E-BE0B2EF5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F37C1-38A6-410E-AC22-5C1994CC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C30F2-DB5C-423B-A58A-679CAD85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2BF74-3428-408A-B100-8EC7B59D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68BE91-E9BB-428E-890C-D8B639B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C35E0-4718-479A-BE9E-01BE80C3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49972C-2586-491F-B6E3-96068B2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F19-98C1-4D38-92F0-AA106606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B20E1-8C75-42E3-AED1-36E691F5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F7129-67BF-4637-89FF-AA41D5AB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A1200-3B22-4921-8127-8C2142B0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9F43F-BAAB-4C45-86BF-68C8627C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9E3A1-C73B-459C-AEF2-31728C2C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1CAF4-FCEB-49F0-B580-945EF665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5CD05-07F9-4CD2-A3F8-A65DDF03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FCBCC-EA71-4A45-9CBC-9787E3B9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0A4FA-F408-49E2-A09F-1A7E06AD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22FB1-3BEF-4302-91D4-ED6F4E91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BD6-DF93-466F-9088-BD7D0FD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553B7-FC23-446B-ADDC-1216DBD9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1C96B-0EFE-47B0-8C42-E5A287E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198FD-B231-4484-8095-6570D535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30358-D22E-4C6F-9591-5852F5C0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36085-0FAA-4F0A-AFE3-1A60B79F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51A-2D54-49EE-B1DC-55D38D5C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1FD9-E793-470E-BC05-2ECB823EDF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7A7-CB1A-4672-BB8A-0118A9B5F1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B8C2-4FB4-489F-8AD1-734BEEF38B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762-81F9-4597-8C22-BF655B2150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CD5A-7514-4A41-BB21-8405BE34DB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3641-0971-4016-A027-3054B56939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197B-DE1C-4A81-AE21-5D99E3C635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Arial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entury Schoolbook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entury Schoolbook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entury Schoolbook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0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SBN 0-553-27737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Děkujeme za pozornost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admin</cp:lastModifiedBy>
  <dcterms:modified xsi:type="dcterms:W3CDTF">2008-10-13T21:20:58Z</dcterms:modified>
  <cp:revision>20</cp:revision>
  <dc:subject/>
  <dc:title>Třetí vlna a její důsledky</dc:title>
</cp:coreProperties>
</file>