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58B-A241-4BE2-9A81-FAD9C22B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340-FB16-4522-B515-16D1056A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600-3964-46B8-BD13-E259933A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DDA-F769-493E-9519-AA1A03D4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3DD6-2F3B-4909-8136-134269FA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4E97-6FF8-477F-A8C5-A86E494C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2D95-7BAD-4CB5-A70F-72B45D12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36D0-F47B-41B5-B9F3-8C103F31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FEB5-09ED-48DC-BD40-214A8346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D754-2993-4547-8E21-F088CAB8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7C22-20FD-41B6-AC03-7B51B41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D1A-C5B8-4B95-8657-89F98FE3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646D-7AA2-466B-BE3E-DA6F7A1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C35C-36A0-48BC-887A-8B403884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6E62-5A2D-4973-BB63-94180E86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9505-AE69-4109-B247-44139BB8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BC87-9505-40DF-8A6C-7C3532EA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098-1BEF-44D1-9C84-71AFEF45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3EA-5CC7-468B-9228-AA795BFA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2BA-E211-46AB-8E6B-0B438A73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D4F-86B5-4BAC-9FD4-33142036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B6B-A383-4761-8443-A13267BB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6D5-52C4-458B-ACF6-40D661CA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71E-F79C-4FC3-B69A-6239F50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D6DD-0FDF-436B-AC32-65D64F8E7834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8356-340F-4C48-9B1B-B77A080CA315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ff66"/>
                </a:solidFill>
                <a:latin typeface="Arial Black"/>
              </a:rPr>
              <a:t>Zrod a vývoj kapitalismu jako fenoménu industriální společnosti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920"/>
            <a:ext cx="44956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Simona Doubk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Petra Krup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Lenka Valent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16.10.2008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ismus a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Kapitalisté a podnikatelé jsou většinou protestan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č? K získání hospodářských funkcí je třeba kapitál a nákladné vzděl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Řada bohatých měst se v 16. století přiklonila k protestantstv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i prokazují sklon k ekonomickému racional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tolic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ása za pomocí církve a svátos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obré skutky příležitostně – k odčinění hřích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k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ednotlivé skutky (dobré a špatné) se člověku připočítávaly a pak ovlivňovaly jeho věčný osud (úhrnné saldo život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skeze mnišská v klášter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lvin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Učení o vyvolenosti (predestina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Žádný kazatel ani svátost nejsou prostředky k získání milosti 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pomůže ani církev, ale naopak - kdo do církve nevstoupí, nemůže být vyvolený ke spás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lze poznat, kdo je vyvolený a kdo zavrž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Jako prostředek k dosažení žádoucího vědomí se doporučuje neúnavně pracovat v povolán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kus rozšířit askezi do všedního života (nejen v klášterech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ystematické chování (metodisté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ovolání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kud člověk nemá pevné povolání, těká v příležitostné práci, utrácí víc času v lenošení než v dílu.“ [R. Baxter: Christian Directory]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Životu bez povolání chybí systematičnost, metodičnost, což žádá světská aske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Užitečnost povolání se měří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mravní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důležitosti produkovaných statků pro „celek“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soukromohospodářské výnosnosti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volání =&gt; Bohatství – pro Boha, nesmí svádět k hříšným požitkům a povalová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412"/>
              </a:spcAft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dpora výdělečné činnosti a zisku, ale zároveň světská askeze, která bránila užívání majetku =&gt; to vedlo k akumulaci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ská etika a tržní hospodářství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077000" cy="426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Gerhard Wilhelm (William) Dit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r. 1917 v Pra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W II – emigrace do   US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americký sociolog a ekonom českorakouského původ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2 proměnné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ávisle proměnná – etika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                                      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dle Weber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ávisle proměnná – ekonomické ch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moderní tržní hospodářství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jen s přijetím kalvin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480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ccff66"/>
                </a:solidFill>
                <a:latin typeface="Arial Black"/>
              </a:rPr>
              <a:t>Středověk vs. kalvinismus</a:t>
            </a:r>
            <a:endParaRPr b="0" lang="en-US" sz="33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9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král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aris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vlastní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meri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mezení spotřeb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sketismus a maximalizace výroby (zisku)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abuizace úro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ůraz na spoření a investován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áce - trest bož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„</a:t>
                      </a: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ovolání“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11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uza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te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ritika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arx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žádná podpora pro dělnickou třídu (masy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louhodobá neudržitelnos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erkantil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ohled krále a církve nad obchodník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nestabilní a institucionálně zranitelný systé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Obsah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Arial"/>
              </a:rPr>
              <a:t>Protestantská etika a duch kapitalismu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(M.Weber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ská etika a tržní hospodářství (W.G.Ditz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Úpade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adluž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aměstnano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tátní zásah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ůraz na lidská práv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WEBER, M.  Protestantská etika a duch kapitalismu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DITZ, W. G.  Protestantská etika a tržní hospodářství.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HINDLS, R., HOLMAN, R., HRONOVÁ, S. a kol. Ekonomický slovník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SIRŮČEK, P. a  kol. Hospodářské dějiny a  ekonomické teorie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83664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Děkujeme za pozornost!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ojem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lečenský a ekonomický řád, charakterizovaný soukromým vlastnictvím, tržní koordinací ekonomických činností a námezdními vztahy mezi vlastníky kapitálu a pracovníky. </a:t>
            </a: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(Ekonomický slovník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rod v 16. stol. – raný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hrazuje dosavadní feudální systé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Od feudalismu ke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Feudalismus: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hlavní role: zemědělství – soběstačnos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směna jen omezeného okruhu výrobků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ný středověk: rozkvět měst – cechovní řemeslná výroba, trhy, městská práva a svobody a nové sociální vrstvy (řemeslníci a obchodní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stupný nárůst populace, zvyšující se poptávka po z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ozšiřování dělby práce a směny – roste význam peně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ámořské objevy – 15., 16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árůst vzdělanosti a náboženská reform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ný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ciální transformace – kapitalističtí podnikatelé (buržoazie) a námezdní dělnictv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ystém založený na kapitálu a námezdní prác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ces kolektivní akumulace – počáteční nahromadění kapitálu a odloučení výrobců od vlastnictví výrobních prostředků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Diferenciace hospodářského vývoje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rovnoměrný vývoj v různých částech Evrop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ápadní Evr. rychlejší a přímočařejší vývoj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- buržoazní revolu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ední Evr. v 16. a 17. st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astavení růstu měst a rozvoje prvků raného kapitalism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dodavatel zemědělských, lesnických a zčásti báňských produkt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– reformy shor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růmyslová revoluc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echod od ruční výroby v manufakturách k tovární strojní velkovýrobě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nglie v 2. pol. 18. stol. X méně vyvinuté časti Evr. v 2. pol. 19. sto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Kapitalismus volné konkurence (soutěže)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 60. a 70. léta 19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rosazování principů liberalismu do hospodářské politi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ušení omezení zahraničního obchodu - volný pohyb zboží, lidí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ždý občan mohl založit podni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labší podléhali silnější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oncentrace výroby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znik obchodních bank – roste objem úvěr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pitalistická společnost – 2 třídy: buržoazie (průmyslníci) a dělnictvo – sociální otáz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ff66"/>
                </a:solidFill>
                <a:latin typeface="Arial Black"/>
              </a:rPr>
              <a:t>Protestantská etika a duch kapitalismu</a:t>
            </a:r>
            <a:endParaRPr b="0" lang="en-US" sz="3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1864 - 1920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ěmecký sociolog a ekono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řazen mezi tzv. otce zakladatele sociologie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9400" y="1752480"/>
            <a:ext cx="3197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9:31:11Z</dcterms:created>
  <dc:creator>čtenář</dc:creator>
  <dc:description/>
  <cp:keywords/>
  <dc:language>en-US</dc:language>
  <cp:lastModifiedBy>172114</cp:lastModifiedBy>
  <dcterms:modified xsi:type="dcterms:W3CDTF">2008-10-15T15:07:35Z</dcterms:modified>
  <cp:revision>38</cp:revision>
  <dc:subject/>
  <dc:title>Zrod a vývoj kapitalismu jako fenoménu industriální společno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81029</vt:lpwstr>
  </property>
</Properties>
</file>