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5E6-70B5-4D55-841A-5B1AC746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81A-BD46-486D-9192-564ECC77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4133-1D44-4336-B400-91DF9F38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630-D4C0-4E32-83C3-55F5FD97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6CCEA-C957-4640-A368-EAE084B6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8BC91-39E0-4982-A76E-9555F4D8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F1C3C-FCF5-4B0C-A0AC-4CE2A0B5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10343-48EB-43B1-929D-179DB703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58EFB-E02F-47F2-A8E4-F51DF73D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FF555-0766-4AE5-8BC2-1414E585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9A1C9-57F1-4C29-900D-A1ACD05E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61AB-7A01-404F-A377-97F5588C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121E9-3344-47CB-829F-3259697A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C9885-66AF-4773-BE80-B4C3C446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3E405-8839-4DA4-A433-8CEA768A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A009F-4A95-4AD6-86FD-BAEB0F3F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85432-66EA-4562-A482-DFC18455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6B2-545F-4A11-9328-1B9AF3BC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385B-9840-40C6-AA21-46C49A3C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E99-5EE1-492A-ACEF-2B8A569C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84EE-F06A-4889-8D6D-FE3B9D9F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E89-287E-4EE3-AFED-F4BDFC6D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3C3-2F9D-49A2-969F-9DC94B0B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6CFC-06ED-4ADC-B36A-BF50C243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C7A3-E137-448B-9990-A39A502273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FD19-82FB-4E82-B522-59680FA6E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kologické aspek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ypracoval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byněk R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a Kubic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ena Košíčk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zorec poškození životního prostředí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atížení = Populace * Blahobyt * Technolo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ždý člen rovnice má stejnou 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hobyt – základ v kapitálu na oso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ie – energie * zátěž živ. pro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tát ekonoma z M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uktura modelu World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kteristiky model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y růstu (kapitál, popula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ožd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ozní proce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uhy mezí v modelu World3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dělávatelná pů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ýnos z jednotky pů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obnovitelné zdr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pnost Země absorbovat znečišt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chnologie, trhy a překročení mezí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ájemné působení trhu a technolog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h problém ohlás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ie problém ře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ddalování mezí - scénář 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dpoklad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ížení spotřeby neobnovitelných zdroj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ologie snižující znečištění, zvyšující výnosy z půdy a technologie chránící pů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pady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výšení znečištění potlačí úrodnost pů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datečné vstupy do zemědělstv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lesá průmyslový produk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oupá úmrt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polečné znaky kolapsu ve scénáří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lečnost odkládá setkání s mezemi pomocí ekonomických a technických úpra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budoucnu tak narazí na několik z nich zároveň a dojde jí schopnost zvládat situ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lá velikost průmyslového produ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dé provádí kvantitativní změny, ale je třeba i strukturální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énář 10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poklad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dina se dvěma dětmi, požadované spotřební zboží na osobu omezené, všechny technologie pro lepší využívání zdrojů a regulaci znečišt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pad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ém  v rovnováze, trvale udržitelná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vale udržitelná společ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ce: společnost, která může přetrvat generace, je dostatečně předvídavá, pružná a moudrá na to, aby si nepodkopala jak fyzické, tak sociální systémy, které ji podporuj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naky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jem na kvalitativním rozvoji, ne fyzické expan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rvání na současných nespravedlivých způsobech rozděl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iální zabezpečení a dostatek vš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ředpokla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dokonalení signálů – informace vlád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rychlení odezev – aktivně hledat signály, v předstihu rozhod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imalizace používání neobnovitel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cházení erozi obnovitel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stavení exponenciálního růstu populace a fyzického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Úvo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roce 1971 byly závěry, že dosažení fyzických mezí využívání energie a materiálů lidmi je několik desítek let před ná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roce 1991 nehledě na vylepšené technologie, důraznější politiku ochrany životního prostředí, mnohé toky materiálů a znečištění překročily své udržitelné me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dlišný pohled na vě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nvironmentální et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šíření etiky o vztah člověka k Zemi a rostlinám a živočichů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teratur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EADOWSOVÁ, Donella h, MEADOWS, Dennis l, RANDERS, Jorgen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řekročení mezí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: konfrontace globálního kolapsu s představou trvale udržitelné budoucnosti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Pavla Polechová a Ladislav Zvolánek. 1. vyd. Praha : Argo, 1995. 319 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MAJS, Josef, et al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odnikatelská a environmentální etik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Brno : [s.n.], 2008. 184 s. ISBN 978-80-210-4564-4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ákladní defin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kmit: jít za mez trvale udržitelné únosnosti životního prostře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ýpust: místo používané konečného určení pro toky energie a materiál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řídlo: Místo vzniku – počátku toků materiálů a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onenciální růst: růst, kdy rostoucí veličina přibývá za konstantní časový interval o konstantní zlomek své velik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ponenciální růst populac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binace porodnosti a úmrtnosti jsou různorod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méně industrializovan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ředně industrializovan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soce industrializovan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ůst světového průmysl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ůmyslový kapitál rostl a roste rychleji než popu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 roku 1970 do roku 1990 vzrostl průmyslový produkt skoro o 100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jednoho člověka pouze asi o 1/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udob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ětná vazba dvou stra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ůsobuje chudoba růst populace neb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ůst populace způsobuje chudobu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ze: Zřídla a výpust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ůmyslový kapitál a populace jsou hnacími silami exponenciálního růstu díky své sebereproduk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yvatelstvo a kapitál berou materiály a energii ze Země, odpady a teplo do Země vracej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xistují meze pro využití materiálů, energie i pro produkci odpad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Pravidla pro meze průtoku podle Dalyho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novitelné zdroje – rychlost regener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obnovitelné zdroje – rychlost nahrazení obn. zdro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nečišťující látky – rychlost recyklace, absorbce nebo zneškodnění prostřed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ávěry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nzita využívání přírodního bohatství a produkce odpadů není trvale udržiteln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dměrné průtoky nejsou nezbytn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ze Země jsou na dos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8:19:34Z</dcterms:created>
  <dc:creator>Drahoš</dc:creator>
  <dc:description/>
  <dc:language>en-US</dc:language>
  <cp:lastModifiedBy>Zbynek</cp:lastModifiedBy>
  <dcterms:modified xsi:type="dcterms:W3CDTF">2008-10-13T12:59:52Z</dcterms:modified>
  <cp:revision>16</cp:revision>
  <dc:subject/>
  <dc:title>Technologie, trhy a překročení mezí </dc:title>
</cp:coreProperties>
</file>