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DDBBA-4F0C-4113-9480-C41F7E4A7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483C1-85E8-4E42-BEB0-5ADC634DB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0D14E-2D1B-48F3-869C-B5C1009EF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E98C9-4453-4B31-91E2-10ED714FB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69C35-3930-4463-8361-8B6DE691D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07E64-C774-4E19-9732-14C2C06DB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C71DF-876E-4A68-96A3-B33475A58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9B566-C9C0-4300-9130-A3BE04DF2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0E841-908B-49C8-9C5B-8C7D31F6D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AAAE5-4EC3-4EFB-B320-4841EDB50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A3B03-7B0B-4703-A152-74FEB5909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BCC88-AFE2-49DA-BCD0-C009F4B50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52026-65C7-44D3-A2C7-7F8B31BD8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875E6-BB58-42F7-8BF1-18B3237C2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C4844-F891-4CD3-A2C6-06975B77F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3E127-68D4-41BC-B53D-0371C9CFE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597FD-C1C4-4BF8-8AE2-ACB1C058F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1B892-E287-4EB6-BF34-B45F44974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741FB-97AB-40D5-B9F7-20346F374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7EAF3-D17A-4791-91B5-1C57F986F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7263D-EEFE-44AB-85E0-34C2AA97A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DA5A2-D863-49E9-A4C8-433B98D56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CE535-163E-45C7-90EB-B544C5B58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8A479-4738-4147-81DB-5BDB39635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B14D9-3B63-4643-811F-78021E51E55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23A65-DB75-4742-94F1-7DF8B2C61F0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Přirozená a kulturní evoluce a konflikt mezi nimi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Bc. Zbyněk Jančú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Michal Krejč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Michal Pavlí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Přirozená evoluc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va filozoficky důležité momenty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platňuje se nerovnoměrnost ve vývoji: pomalé fáze jsou střídány rychlými evolučními skoky (prudké vzestupy po dosažení jisté prahové hodnoty vývoj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zdíl mezi informací předávanou mezi organismy a informací předávanou v rámci ekosystém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Přirozená evoluc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Díky pokroku ve fyzikálních a biologických vědách začínáme částečně chápat obecná pravidla přírodní konstruologi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Na rozdíl od obecně rozšířené Newtonowské teorie je třeba přírodě přiznat spontánní evoluční tvořivost, posvátnost, schopnost reprodukovat biosféru včetně člověk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Přirozená evoluc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Člověk ke svému životu a vývoji nutně potřebuje přírodu, avšak příroda se bez člověka snadno obejde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3851280" y="3716280"/>
            <a:ext cx="1533600" cy="18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Kulturní evoluc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ultura – organizační a funkční opozice vůči přírodě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 přírodě závislý systém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řád který vznikl z řádu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 dosaženou úroveň přirozené pozemské evoluce nenavazuje – není jejím pokračování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řirozená biotická evoluce nevrcholí jen v jedné linii, tj. člověk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d počátku nebiotickým systémem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uze člověkem generovaný pro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kračovatelem genetické evoluce, ale jiným prostředky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Kulturní evoluc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„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ědomá aktivita strukturované pospolitosti lidí“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onstitutivním činitelem kultury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nto systém se  samovolně reprodukuje a rozvíj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řevyšuje poznávací , regulační i produktivní schopnost jedinců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Kulturní evoluc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uchovní kultur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e konstitutivní informací kultur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egruje kulturní společenstv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káže obrátit dílčí přírodní síly proti přírodě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stémový charakter kultury duchovní složku kultury nejen podněcují a rozvíjejí, ale také omezují, transformují a ruší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Kulturní evoluce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Člověk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rmálním živočišným druh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eho biologická prosperita závisí na celkovém „zdravotním“ stavu celé biosfér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ologický předek člověka byl ale vybaven přirozenou evolucí k zažehnutí kulturní evolu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Kulturní evoluc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dská činnost sice generuje všechny úrovně a linie kulturní evolu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člověk je ale jako bytost v individuálním projevu jejím podřízeným prvkem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polečenské subsystémy se stávají přes svou existenční závislost na člověku značně autonomními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 výsledcích činnosti lidí se potom projevuje i to, o co lidé neusilují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dská závislost na kultuře se zvyšuje. Systém vytváří své nové prvky, části a subsystémy (instituce, organizace,...)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Neolitická revoluc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vytvořila téměř všechny druhy dnes domestikovaných zvířat a kulturních rostl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je důkazem předností i omezených možností  nepřímé ontické tvořivosti kulturní evolu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nemohla být dílem samotného individu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člověka z přírodního řádu částečně vyřadil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Průmyslová revoluce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rozmach přímé ontotvorné síly kulturní evolu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přechod od instrumentální práce k práci strojové - prudký spontánní vývoj abiotické technik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začlenění  do produktivního procesu hlavně neživé přírodní struktury a sí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hromadné čerpání neobnovitelných přírodních zdrojů Země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stimulace produktivně zaměřenou přírodní vědou (sociální objednávka)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vítězí panský postoj člověka k přírodě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Obsah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řirozená evolu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orie vývoje druh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Člověk jako součást přírod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ulturní evolu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ývoj člověka jako kulturní bytost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ulturní revolu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onflikt mezi kulturou a přírodo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stavení člověka mezi nim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Postindustriální fáze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zakotvena v racionalitě klasického období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založena na lidském fylogeneticky omezeném a deformovaném poznání přírod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znikají méně agresivní technologie vůči přírod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elkový charakter postoje k přírodě se příliš nemění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ozšiřuje se nebezpečná spotřební orientace v životním způsobu lidí – vychází z tradičního liberálního práva člověka na vlastnictví a ničím neohraničenou spotřebu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zdá se, že institut soukromého vlastnictví řešení ekologické krize znemožňuje (liberální právo člověka na půdu konstruováno antropocentricky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Konflik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lobální ekologická krize je konfliktem přirozeného a kulturního řádu, je dosud neznámým typem krize evolučního úspěchu kultu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Člověk totiž není pánem tvorstva, správcem či pastýřem bytí. Není dokonce ani partnerem Země. Je jejím prvke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Konflik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Člověk a jeho kultura nemůže ani vytvářet proměnlivost, ani jí zabráni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ůže jen zachovávat a hromadit odchylky, které mu poskytuje přírod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Konflikt – vlastní názory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Příroda jako hlavní činitel evoluce a vývoje druhů přece jen na některé části nemůže pojmout. Při rozvoji kybernetiky a robotiky to v budoucnosti možná bude právě a jen člověk, který tuto novou kulturu bude vytvářet, formovat a určovat její odlišení a adaptovat ji na změny podmíne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Možné je však i to, že příroda sama tuto vývojovou větev považuje za neperspektivní nebo i schopnou ohrozit ostatní druh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Literatura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68360" y="148392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ŠMAJS, Josef. </a:t>
            </a:r>
            <a:r>
              <a:rPr b="0" i="1" lang="cs-CZ" sz="2400" spc="-1" strike="noStrike">
                <a:solidFill>
                  <a:srgbClr val="ffffff"/>
                </a:solidFill>
                <a:latin typeface="Arial"/>
              </a:rPr>
              <a:t>Drama evoluce.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Praha: Hynek, 2000. 188 s. ISBN 808620277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ŠMAJS, Josef. </a:t>
            </a:r>
            <a:r>
              <a:rPr b="0" i="1" lang="cs-CZ" sz="2400" spc="-1" strike="noStrike">
                <a:solidFill>
                  <a:srgbClr val="ffffff"/>
                </a:solidFill>
                <a:latin typeface="Arial"/>
              </a:rPr>
              <a:t>Ohrožená kultura.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2. vyd.</a:t>
            </a:r>
            <a:r>
              <a:rPr b="0" i="1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Praha: Hynek, 1997. 209 s. ISBN 808590653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ŠMAJS, Josef. </a:t>
            </a:r>
            <a:r>
              <a:rPr b="0" i="1" lang="cs-CZ" sz="2400" spc="-1" strike="noStrike">
                <a:solidFill>
                  <a:srgbClr val="ffffff"/>
                </a:solidFill>
                <a:latin typeface="Arial"/>
              </a:rPr>
              <a:t>Potřebujeme filosofii přežití?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1. vyd.</a:t>
            </a:r>
            <a:r>
              <a:rPr b="1" i="1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Brno: Doplněk, 2008. 104 s. ISBN 978807239221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DARWIN, Charles. </a:t>
            </a:r>
            <a:r>
              <a:rPr b="0" i="1" lang="cs-CZ" sz="2400" spc="-1" strike="noStrike">
                <a:solidFill>
                  <a:srgbClr val="ffffff"/>
                </a:solidFill>
                <a:latin typeface="Arial"/>
              </a:rPr>
              <a:t>O vzniku druhů přírodním výběrem.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3.vyd. Praha: Academia, 2007. 576 s. ISBN 978802001492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KANT, Imanuel. </a:t>
            </a:r>
            <a:r>
              <a:rPr b="0" i="1" lang="cs-CZ" sz="2400" spc="-1" strike="noStrike">
                <a:solidFill>
                  <a:srgbClr val="ffffff"/>
                </a:solidFill>
                <a:latin typeface="Arial"/>
              </a:rPr>
              <a:t>Kritika čistého rozumu.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1. vyd. Praha: OIKOYMENH, 2001. 568 s. ISBN 807298035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Literatura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J.Šmaj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Drama evolu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Ohrožená kultur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Potřebujeme filosofii přežití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I.Ka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Kritika čistého rozum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Ch. Darw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O vzniku druhů přírodním výběr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Přirozená evoluc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„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Příroda chápána jako přirozenost, tj. adjective (formaliter), znamená souvislost určení nějaké věci podle vnitřního principu kauzality. Naproti tomu substantive (materialiter) rozumíme přirodou úhrn jevů, souvisejících zcela podle vnitřních principů kauzality“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I.K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Kritika čistého rozumu, s.27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6300720" y="3789360"/>
            <a:ext cx="1220760" cy="151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Přirozená evoluc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rwin popisuje přirozenou evoluci druhů jako teorii přírodního výběru, čili přežití nejsilnějšíh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dmiňuje přirozený výběr schopností adaptovat se na změny životních podmínek (klimatické změny, zavlečení nového druhu atd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Změna životních podmínek zvyšuje proměnlivo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6877080" y="4581360"/>
            <a:ext cx="1433520" cy="183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Přirozená evoluc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 člověk může přispívat k přírodní evoluci (viz. Domestikovaná zvířata, šlechtění zemědělských rostli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všem příroda tak může činit mnohem snadněji, neboť má pro svou činnost neporovnatelně více čas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Přirozená evoluc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Přirozená evoluce podle Darwina má autoregulační schopnosti: žádný druh nemůže dominantně převážit nad ostatním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Příklad: Teorie upírů (kritika Brama Stokera – román Dracula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S rozšiřováním druhu roste i počet jeho přirozených nepřátel nebo přichází úbytek potrav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Přirozená evoluce – přírodní výběr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„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Obrazně lze říct, že přírodní výběr den co den a hodinu co hodinu zkoumá na celém světě každou, i tu nejmenší odchylku, zavrhuje špatné, zachovává a rozvíjí dobré, nehlučně a nepozorovaně pracuje „kdekoliv a kdykoliv se naskytne příležitost“ na vylepšení každého organizmu ve vztahu k organickým i neorganickým podmínkám života“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Ch. Darw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O vzniku druhů přírodním výběrem, s.106-10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7667640" y="3789360"/>
            <a:ext cx="95076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Přirozená evoluc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Z filozofického pohledu je klíčovou otázkou rozvoje života funkční začlenění subsystému vnitřní informace do živého systém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íky tomuto se vytvořila hranice mezi živým a neživý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ložení vnitřní informace umožnilo živým systémům budoucí rozvoj oproti neživé kultuře a schopnost měnit své vlastnosti zároveň se změnami okol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3T09:01:49Z</dcterms:created>
  <dc:creator>Michal Pavlík</dc:creator>
  <dc:description/>
  <dc:language>en-US</dc:language>
  <cp:lastModifiedBy>Ondřej Částek</cp:lastModifiedBy>
  <dcterms:modified xsi:type="dcterms:W3CDTF">2008-09-29T10:16:59Z</dcterms:modified>
  <cp:revision>27</cp:revision>
  <dc:subject/>
  <dc:title>Přirozená a kulturní evoluce a konflikt mezi nimi</dc:title>
</cp:coreProperties>
</file>