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45CD-9C28-4415-96B6-D04BA4EEE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954A-8EA9-4338-887C-E613E32B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1B9E-5054-455C-92C4-478857049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13C6-A25D-4238-A059-76B9C9476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8EA8-9F1B-4629-948F-4CD94C483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F9438-1D8F-42F5-B29D-97E80D1C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2E4B-D9C9-426F-B2B7-14A4A1B0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8296-2FF4-4E25-997B-D47F3BF5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5CDA-E1EB-4100-AE10-872D30DF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7C1D5-B2EB-4C84-AB4F-F6BEBE5C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56B3-C26E-4D65-AF55-5110731C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EDAB-F9E1-4D57-9386-74354E6D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B304-774B-4666-B1D6-75CCE62D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0D79-035A-48D9-8D91-ED46E724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25C4-26A2-4831-8227-08FD3DB9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F9DFA-157B-4F89-B15F-D3FC55490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E95B-5F95-4353-B291-4E60D40E5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36788-58CE-404E-B44D-5924CB4D6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5FEE3-2DB2-4E51-AEB0-9F4FF745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86D04-A875-4EFC-9E6A-9BABCC8A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37846-61FA-41FC-AEDE-430E0FC0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D8619-79D6-4BF9-8719-5A5BD787D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0A1D-0097-4A88-8F89-56B2789D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FA3A6-E152-4596-9E6D-0AE8849E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E69E7-432B-4562-9F79-0B091F0A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E697D-8D05-4858-BA58-36B21A12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287D9-B6F9-4D9B-AE76-82B96B74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46481-7FFC-4DEF-B94F-FA5E8C5D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604D9-9AB0-40E6-9F96-BDEF56DB4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C2EB6-E4A8-4695-AD71-4336429FE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13601-8F67-4E2C-B48A-1AFF7E9CB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BE683-613E-4149-8A0D-70C8B453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ED9E6-1DDE-402A-8549-7FF03ED6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3F01-4200-4BB7-A505-3BD78BA5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50952-014D-4E2B-99DF-CC325BCA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4F2A7-C0B7-4907-B393-D8BD2109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54F96-19A4-477D-9811-0C424B01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BA3BC-4E76-458A-8770-18005745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8301C-A741-4AFB-AF2A-66E9E881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835DC-0DF5-4A24-9924-B11D8E25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182F3-C5FF-4461-840B-CCC0DFEA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E7A08-62DC-4F17-9447-22A70DA99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87717-9DF0-4633-8DFA-1AA6C5BB7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2335-6DA9-4549-BE89-A1A4AAC0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966F-FD82-4BEE-8D38-9D184E67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4B45-01D0-4FA2-A1DE-B2A98331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202C-B939-479A-9220-583BA9C3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80A9-DBD2-48C2-B0D4-F9DA756E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2424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42424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2424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3212-D508-4F56-B48F-DB400F7F452A}" type="slidenum">
              <a:rPr b="0" lang="cs-CZ" sz="1200" spc="-1" strike="noStrike">
                <a:solidFill>
                  <a:srgbClr val="42424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de9ec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de9ec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de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79D9-E434-4195-B8F0-56F4266B0DD0}" type="slidenum">
              <a:rPr b="0" lang="cs-CZ" sz="1200" spc="-1" strike="noStrike">
                <a:solidFill>
                  <a:srgbClr val="d3de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de9ec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de9ec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de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4EF8-B849-4FB0-978D-13595563F583}" type="slidenum">
              <a:rPr b="0" lang="cs-CZ" sz="1200" spc="-1" strike="noStrike">
                <a:solidFill>
                  <a:srgbClr val="d3de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2424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42424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2424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30FE-37A3-421E-9B49-317D8F05D987}" type="slidenum">
              <a:rPr b="0" lang="cs-CZ" sz="1200" spc="-1" strike="noStrike">
                <a:solidFill>
                  <a:srgbClr val="42424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786456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99680" y="5000760"/>
            <a:ext cx="7854840" cy="9093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Václav Klein, Vít Zouhar, Robert Kund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76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464653"/>
                </a:solidFill>
                <a:latin typeface="Calibri"/>
              </a:rPr>
              <a:t>Děkujeme za pozornos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0040" y="4571640"/>
            <a:ext cx="822960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464653"/>
                </a:solidFill>
                <a:latin typeface="Calibri"/>
              </a:rPr>
              <a:t>CO JE TO NENULOVÝ SOUČET?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KAM je unášeno lidstvo ve svých dějinách?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Má nějaký VYŠŠÍ SMYSL?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WRIGHT: Vývoj, evoluce má svůj směr a cíl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BERGSON- ELÁN VITAL- pohání živé hmot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TEILHARD de CHARDIN-dějiny lidstva směřují k bodu omega, ten je umístěn mimo prostor a ča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Příliš nadpozemské???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ALE…Správná základní myšlenka 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Evoluce organismů má sklon vytvářet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složitější formy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a stejně i lidské dějiny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tíhnou k vývoji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stále větších a složitějších uskupení-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noosféra, globalizační vesnice.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LZE SMĚŘOVÁNÍ NA KTERÉ BERGSON A DE CHARDIN UPOZORNILI VYSVĚTLIT VĚDECKÝM ZPŮSOBEM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podle Wrighta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ANO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ODPOVĚĎ BY PODLE WRIGHTA MOHLA BÝT V TEORII HER.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500" spc="-1" strike="noStrike">
                <a:solidFill>
                  <a:srgbClr val="464653"/>
                </a:solidFill>
                <a:latin typeface="Calibri"/>
              </a:rPr>
              <a:t>Teorie her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Obor, který se snaží té které hře přiřadit právě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evolučně stabilní strategi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Dle  úspěšnosti v aktuálním kole je získána jakási poukázka na množství potomků v kole následující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Strategi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 x </a:t>
            </a: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lze nalézt i v rámci jednoho druhu – vlivy prostřed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Darwinovský boj o život – spíše v rámci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jednoho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druhu, než mezi druh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Přizpůsobení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se prostřed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Žádní vítězové – pouze poražen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464653"/>
                </a:solidFill>
                <a:latin typeface="Calibri"/>
              </a:rPr>
              <a:t>HRY S NULOVÝMI A NENULOVÝMI SOUČTY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Hry s nulovým součtem- 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zisky protihráčů jsou nepřímo úměrné (fotbal, tenis, box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Hry s nenulovým součtem- 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zisk jednoho nemusí být na úkor druhého. Obvykle se zájmy překrývají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řehled vývoje života lze uvádět stručně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 přehled lidských dějin je spletitý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Wright: u obou lze zachytit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vzorec vysvětlující směr 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dějin právě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pomocí teorie her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464653"/>
                </a:solidFill>
                <a:latin typeface="Calibri"/>
              </a:rPr>
              <a:t>HRY S NULOVÝMI A NENULOVÝMI SOUČTY</a:t>
            </a: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57120" y="1928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-Vznikají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nové technolgie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 podněcují nové bohatší podoby vzájemneho působeni s nenulovým součtem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oté se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vyvyjeji společenská uspořádání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, která tohoto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potenciálu využijí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-promění situace s nenulovým součtem v 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pozitivní zisky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. V souladu s paretovým optimem-nikomu se nemůže ve společnosti dařit lepe na ukor jiného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-například Technologické revoluce tak vytvářejí stále nové hry umožnujiící oboum stranám výhru(např. Hospodářský růst i pomocí technlogií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464653"/>
                </a:solidFill>
                <a:latin typeface="Calibri"/>
              </a:rPr>
              <a:t>HRY S NULOVÝMI A NENULOVÝMI SOUČTY</a:t>
            </a: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Neznamená to, ale že hry s nenulovým součtem musí být ziskové na obou stranách, nebo že by bylo vyloučené podvádění, nebo parazitismus!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Přesto, se ale po čase ukáže, že vzniká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více součtů kladných 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než záporných a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častější je oboustraný zisk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-směřuje tak spíše k výhrám.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Uspořádání společnosti 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je tak stále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složitější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do šířky i do hloubk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Dějiny života i lidstva sestávají se stále častějších, rozsáhlejších a složitějších her s nenulovým součtem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Hromadění nenulových her je podstatou narůstání biologické i společenské složitosti-hromadění nenulovosti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Nenulovost dodáva hybnost základnímu směřování života na planetě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500" spc="-1" strike="noStrike">
                <a:solidFill>
                  <a:srgbClr val="464653"/>
                </a:solidFill>
                <a:latin typeface="Calibri"/>
              </a:rPr>
              <a:t>Výskyt strategií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Člověk se obvykle vyskytuje v prostředí, které mu je "přirozené", tedy mezi obdobnými strategiemi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Hrozba infiltra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I zdánlivě slepý přírodní výběr přitom "odměňuje" entity, které jsou oproti svému okolí schopné lepšího zpracování informací. Čím lepší zpracování informací, tím blíže ke K strategii a tím větší je opět prostor pro altruismu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500" spc="-1" strike="noStrike">
                <a:solidFill>
                  <a:srgbClr val="464653"/>
                </a:solidFill>
                <a:latin typeface="Calibri"/>
              </a:rPr>
              <a:t>ZMATEK DNEŠNÍ DOBY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rahová období-vývoj skočí z rovnovážného stavu na  vyšší úroveň rovnováh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K tomu dochází i dne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Wright uznává že rostouci zmatek je znamenim rozhodného kroku v postupu toho, co můžeme nazvat osudem světa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nstantia"/>
              </a:rPr>
              <a:t>Osudem našeho druhu je VYBRAT SI!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464653"/>
                </a:solidFill>
                <a:latin typeface="Calibri"/>
              </a:rPr>
              <a:t>Použitá literatura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avel Houser / Vzpoura genů : od velkého třesku k umělé inteligenci . -- 1. vyd.. -- Praha : IDG Czech, 2003. -- 127 s., [16] s. barev. obr. příl. :. ISBN: 80-86304-99-X (brož.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Robert Wright / Logika lidského osudu -- 1. vyd.. -- Praha : Lidové noviny, 2000. –356 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http://www.scienceworld.cz , nahlédnuto 4.10.2008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0:57:50Z</dcterms:created>
  <dc:creator>Zou</dc:creator>
  <dc:description/>
  <dc:language>en-US</dc:language>
  <cp:lastModifiedBy>Zou</cp:lastModifiedBy>
  <dcterms:modified xsi:type="dcterms:W3CDTF">2008-10-06T12:43:12Z</dcterms:modified>
  <cp:revision>2</cp:revision>
  <dc:subject/>
  <dc:title>Evoluce jako hra s nenulovým součtem</dc:title>
</cp:coreProperties>
</file>