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74A-06ED-4615-8E5F-BDF2C329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6C2-422F-47DD-8532-14936DF2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1EF-2A1A-4B59-9FDF-3F285605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581-710F-4BC0-AB3B-C8F3253F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E536-32F1-4D64-8579-FC8CE3B5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423E-1F13-40DB-91B2-624D15CA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8EB2-3777-43F2-B02F-7F5F15C7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BF9F-08A8-4354-A30E-4DDAEED0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4C36-EE56-4B40-835B-CBE80E1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F0AF-8E12-4150-8E7F-6F3524AB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3247-78A3-4619-92C3-F50E3662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674-F9E0-41A0-820B-F3970AA8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A1C5-CCB7-4177-8C90-3B0B480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DD40-8B7B-4C86-9E15-D2661645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8A01-FCFC-4ACF-9DF5-D820F179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F706-83B2-4144-9E89-2E38B29C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53D0-9D8C-4C09-B1F5-E3BE8990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A86-6960-4D67-A171-30E3629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15E-EA4A-444F-9ADA-E07E82E6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E76-0508-415A-ACE2-8733D00B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03C-B871-4831-B09C-9814C701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CE8-0A6D-417D-98DA-CDC3B336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A18-4A5B-466B-9A0C-63CD7D5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DAE-A26D-4645-8C1F-209FE3D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5B1B-BBF6-439B-9E8A-86175D3CCD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658C-16B3-4DC4-883E-7897E86C7B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Přirozená a kulturní evolu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chová, Jelínek, Kaszp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 - výjimečný živočišný d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je motorem kultur. evol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ůvodního přírodního řádu vytváří odvozený kulturní řá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a – nestandardní, potenciálně protipřírodní subsystém bi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rodukt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organis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přirozené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ztah přírodní a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roda vytvořila dokona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hard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mco kultura, do níž se člověk socializu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pouze je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soft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onflik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vs.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  vs. přirozeného (řád z řá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mná přirozená uspořádanost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bi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stupuje před hrubou nebiotickou uspořádaností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techn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rama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sledky konfliktu – ekologic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m směřuje šipka čas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Litera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Drama evolu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Hynek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Konflikt přirozené a kulturní evolu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no: MU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,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Šíp času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trava: OLDAG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rwin, CH.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 O původu člověka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: Akademik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Mezi chaosem a řá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Mladá fronta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evolu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likt přirozené a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volný, průběžn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, svébytný a spontánní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stále jem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iferencovanější 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ucelenou evoluční teo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Jean Baptiste La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procesu změn dědičných vlastností mezi organismy (evoluční biolog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šní chápání vychází z 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Charlese Darw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ek evolučního procesu je vždy víceméně neznámý, předem nezjist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epředpověditel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h evoluce je na každé organizační úrovni ovlivňován uvnitř i vně systému mnohými nahodilými fak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Č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68360" y="1557360"/>
            <a:ext cx="6624720" cy="4176720"/>
            <a:chOff x="2268360" y="1557360"/>
            <a:chExt cx="6624720" cy="4176720"/>
          </a:xfrm>
        </p:grpSpPr>
        <p:sp>
          <p:nvSpPr>
            <p:cNvPr id="98" name=""/>
            <p:cNvSpPr/>
            <p:nvPr/>
          </p:nvSpPr>
          <p:spPr>
            <a:xfrm>
              <a:off x="4572360" y="1845360"/>
              <a:ext cx="1728000" cy="3888720"/>
            </a:xfrm>
            <a:prstGeom prst="downArrow">
              <a:avLst>
                <a:gd name="adj1" fmla="val 50000"/>
                <a:gd name="adj2" fmla="val 5626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04360" y="2565360"/>
              <a:ext cx="720000" cy="1440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č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360" y="1557360"/>
              <a:ext cx="2304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BIOLOGICK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energie, hmot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236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2360" y="342972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Soutěžení o zdr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2360" y="414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(přežití nejzdatnějšíh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2360" y="486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036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036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036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036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836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0836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6720" y="155736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UMĚL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strojový čas, paměť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672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8720" y="3429720"/>
              <a:ext cx="273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Soutěž o zdroje času a paměti 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8720" y="4149720"/>
              <a:ext cx="3024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nejzdatnějšího sebereplikujícího se algoritm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720" y="4869720"/>
              <a:ext cx="2016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72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472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472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472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272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5272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dká expanze kosmické hm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 15 mld.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ý tř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ice, atomy, molekuly, kosmické objekty, země, nerosty, horniny, vody, půdy a předchůdce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é fáze tvorby hvě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ležitost a vztah přirozené evoluce pro kulturní evolu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š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aznost na přirozenou evolu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á aktivita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ověká filozofická koncepce děj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56:11Z</dcterms:created>
  <dc:creator>Čech</dc:creator>
  <dc:description/>
  <dc:language>en-US</dc:language>
  <cp:lastModifiedBy> </cp:lastModifiedBy>
  <dcterms:modified xsi:type="dcterms:W3CDTF">2008-09-29T17:58:45Z</dcterms:modified>
  <cp:revision>5</cp:revision>
  <dc:subject/>
  <dc:title>Přirozená a kulturní evoluce</dc:title>
</cp:coreProperties>
</file>