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B96C-9197-40FA-AAD8-320BA69F6B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A134-DEA4-4D2A-98CA-4DC6591703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CD65-8790-4FD4-A5CC-2883B0D371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86AE-7A0C-4872-882B-25475BD3FD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E5FA-3E2E-49D6-9B7C-4BECDDD922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B001-1CE3-428F-9326-D6D1B8FD54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D92-01C7-49B8-AA80-8EEC794F08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236F-DAED-4B32-99B9-718869EDC4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8AC5-D734-478D-A248-64DC1A3688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6DB7-E0CF-4BC4-ADBE-467153E595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ACE5-36D5-42BB-8AFA-6A20E8E28B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32E3-A92D-447D-A84B-09D691194D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BBCE-FEF4-44C0-BB16-EAF1DBAFDC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F80-B509-4516-AE8B-DB6A8C71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00D-8CD9-4BCA-8142-AD13B66C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4A1-2C8B-4DE6-8380-E5C115DA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7B8-8B01-4FEE-BD7B-1A827319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86D5-2B5B-41EF-B997-E1E2128A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1992-C1D5-4253-93F2-CFB5A580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33E1-E609-4FCF-A46B-0BB7824D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15DF-FD88-4FFE-BA89-1F6A8E1E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F114-01C4-4904-9F85-DC51B27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C73D-7E7E-4B07-BA76-36F8088A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4914-8CA0-445E-9F33-0E81F8D9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87E-FED2-4107-B55A-B53AA9A0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C1C1-9B4A-4EA3-BF49-6DDA052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DE31-F460-4961-8A58-7E2F7340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EA3C-1ECB-4EBD-B998-5DAA8C37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4075-ABC0-461A-A969-049FB59B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E05C-91D0-47B5-A15C-140CA6CC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FCB-70B8-4121-8ADB-1399C4F3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3AF-73F8-4EC6-9A9D-75691156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E96-4F63-4360-8F6B-AD4214D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A86-8A7B-4DCB-9561-9705D68A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5A5-521A-4AA5-B84A-DE7CB3A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412-1756-4760-B58F-1F52BA3A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244-0EF4-4045-B7B9-69594D87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E77C-768A-4361-82B3-DEE1A425C1D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52D5-BEA8-49C9-A85D-40D17AEB341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8920" y="5013000"/>
            <a:ext cx="32720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Hana Drozd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ára Ottich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EMOKRACIE PRO 21. STOLET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á demokracie (reprezentace a sebeprez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a decize (delegace práva rozhodov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chází generace „tvořen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FFLER, A., TOFFLEROVÁ, H. Nov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ivi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raha : Dokořán 2001. ISBN 80-86569-00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VIN A HEIDI TOFFLER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, korespondent Bílého domu, nositel čestných doktorátů v oboru právu, humanitních a přídorních věd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eidi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ka, nositelka četných vyznamená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olupracují s několika předními politiky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ROČ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vlna - „zemědělská“ revoluce (zhruba před 10 000 le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vlna - „průmyslová“ revoluce (od 18.stole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vlna - „informační“ revoluce (v USA od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55 - v USA počet bílých límečků poprvé v dějinách převýšil počet modrých límeč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stále zrychlující se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O JE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té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“továrnu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 (delegace pravomo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 nebo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Návrat k rod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ŘETÍ VLNA PODROBNĚ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ní faktory: po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hmotné hodnot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získávat, generovat, distribuovat a aplikovat poznatky (nehmot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asifikace: demasifikace celé společnosti (diverzita produktů, segmentace tr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řeba kvalifikovaných lidí, růst požadavků, rekvalifikace, soukromé VŠ, personální ag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ovace: pro soutěž nezbytná neustálá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ítko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struktury, nové typy podniků (joint-venture, holdingy), orientace na proc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ová integrace a infrastruktura: elektronická komunikace, nové formy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ychlení: místo úspor z rozsahu úspory z rych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 TOHO PL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zaměnitelnosti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un od kvantitativní ke kvalitativní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nik čistě manuální práce, vznik kognitari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dělení ekonomiky na sektory, rozpad profesních kateg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menší počet inteligentnějších pracovních 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L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otní konflikt: civilizace první vlny X civilizace druhé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nes: střet civilizací první, druhé a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ě střet mezi druhou a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91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OCIALISMUS DOPLATIL NA STŘET DRUHÉ A TŘETÍ VL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“Hardware” x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důsledkem aktuálního střetu druhé a třetí vlny v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en tábor chce zachovat nukleární rodinu, masové vzdělávání, obří korporace, masové odbory, centr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je pravým opakem (liberalizace, důraz na I + D, decentralizace, informace, poznání, nové typy rod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asifikace volič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10:12Z</dcterms:created>
  <dc:creator>Klára</dc:creator>
  <dc:description/>
  <dc:language>en-US</dc:language>
  <cp:lastModifiedBy>KRI</cp:lastModifiedBy>
  <dcterms:modified xsi:type="dcterms:W3CDTF">2008-10-15T22:00:01Z</dcterms:modified>
  <cp:revision>11</cp:revision>
  <dc:subject/>
  <dc:title>Třetí vlna a její důsledky</dc:title>
</cp:coreProperties>
</file>