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8E68-8023-40C0-A037-41DA6B77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E755-712B-4098-AD2D-F61D47D7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68F6-FB32-45CB-BF0B-7E71A1DA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8D25-309C-48BC-A279-93E156B2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2FDA-BC77-40FB-9440-826CDB89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C1F2-27FD-492C-823D-D16D8B72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9E2F-4D0E-47AD-8666-24C18583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A3CB-2056-4A56-8DF0-38C8DD16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7A0B-94BE-4C1F-866B-4E26F84D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E1AB-2083-4EFE-A432-0711A2DB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5C25-C060-4D13-8097-129C0A26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8E59-6A7E-488C-A620-D8621A75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3741-C43E-48D1-9A55-B451622A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35F2-604D-49A8-877B-F118BB73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77FB-6FE9-404A-A5F0-82AD7013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3FDE-5FDA-4665-A8C6-C4C356801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DC75-1E3A-42AB-8312-747C3215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2D16-C298-4C21-B224-770C815C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BFA-A244-4365-8E09-ECA3DBC1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E021-9B31-433C-BF92-E7FE1BD3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94D2-1E91-4FAB-A982-0B0D193A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8379-8CB2-4D97-A095-C38F515B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D4F8-1049-4F24-A0C4-500996C4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0896-0C61-4F87-9A99-434BF261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7899-5A58-4AB0-AADE-5846A513429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B5CE-E7FC-44DF-BF4E-8D5D63D0364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kologické aspekty industriální a postindustriální společnosti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ereza Hurník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Veronika Molák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udmila Šauer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mit a oscilace (nestabilní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46400" y="239544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26920" y="5516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álná možnost – populace ry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mit a kolaps (nestabilní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544500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el i reálný svět – tendence k překmitu a kolaps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46400" y="2349360"/>
            <a:ext cx="487656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kračován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íznaky překmitu: mizející suroviny, plnící se výpusti, přirozené mechanismy likvidující znečištění selhávaj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roky proti kolapsu: rychlé ochránění surovin, pokles průtoku energie a materiálu,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změna struktury systém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hy, technologie a překm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en trhy a technologie nejsou schopny obstarat udržitelnou společnost (slouží společnosti – krátký časový horizont, růstové cíl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dsouvání mezí pomocí trhu a technologií – možnost nárazu na několik mezí současn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tráta schopnosti zvládat situac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ůvody překročení: signály trhu jsou zkreslené a zpožděn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72360" y="486900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630864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72360" y="837000"/>
            <a:ext cx="84247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esty k trvale udržitelnému systém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měna struktury – změna informačních vazeb, ne kvantitativní změny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uktura: sociální normy, cíle, kulturní předpokla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ůležité: stabilizace populace, zrychlení odezev, hospodárné využívání zdroj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Čím delší prodleva v zavedení – tím větší výkyvy v populaci, produktu, objemu potrav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ení nutné snižovat životní úrove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č se lidé obklopují materiálními statky – neuspokojení nemateriálních potřeb (úcta, porozumění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mit, ne však kola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 revoluce: zemědělská, industriální, trvale udržitelná společn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 změnu společnosti jsou nutní čestní vůdci, lidé mluvící pravdu a lidé, kteří se stále uč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utoři věří v trvale udržitelnou společnost a v přechod k 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tmosfé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četnost lidstva a rozvinutost techni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měna koncentrace jejích základních slože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ákladní složky – skleníkové plyny, ozón, vodní pára,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oxid uhličitý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ztah Q oxidu uhličitého a výší teplot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zrůst Q oxidu uhličitéh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vzrůst teplo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41556" t="28599" r="17355" b="28919"/>
          <a:stretch/>
        </p:blipFill>
        <p:spPr>
          <a:xfrm>
            <a:off x="3059280" y="3284640"/>
            <a:ext cx="2314440" cy="3240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20658" t="1057" r="384" b="27438"/>
          <a:stretch/>
        </p:blipFill>
        <p:spPr>
          <a:xfrm>
            <a:off x="5364000" y="242100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lobální oteplování neexistuj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22436" t="52154" r="9393" b="7427"/>
          <a:stretch/>
        </p:blipFill>
        <p:spPr>
          <a:xfrm>
            <a:off x="684360" y="2565360"/>
            <a:ext cx="4248000" cy="25923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5445000"/>
            <a:ext cx="76932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yšší teploty ve středověk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15442" t="37179" r="9328" b="28013"/>
          <a:stretch/>
        </p:blipFill>
        <p:spPr>
          <a:xfrm>
            <a:off x="4932360" y="2492280"/>
            <a:ext cx="421164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Hurikány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Zvyšování jejich délky i intenzity i počtu i sí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ouvislost s oteplování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nes versus 70.léta: ½ delší trvání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+50%vyšší intenzit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25360" y="1927440"/>
            <a:ext cx="7184520" cy="50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nviromentalismus</a:t>
            </a:r>
            <a:br>
              <a:rPr sz="28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se zabývá vztahy mezi přírodou a společností. Usiluje o změnu společenských, ekonomických a politických mechanismů, které brání snahám o ochranu životního prostředí. 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rvale udržitelná společnost</a:t>
            </a:r>
            <a:br>
              <a:rPr sz="28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je taková, která uspokojuje potřeby přítomnosti, aniž by ohrozila uspokojení potřeb budoucích generací.</a:t>
            </a:r>
            <a:br>
              <a:rPr sz="2800"/>
            </a:br>
            <a:br>
              <a:rPr sz="2400"/>
            </a:br>
            <a:br>
              <a:rPr sz="28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vodně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vyšování počtu i intenz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plejší voda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 ↑Q vodní páry v bouřkových mrací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Část v jiných oblastech než obvyk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př.Čína: jedna provincie sucha x sousední povodn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zinárodní konflik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A ¼ světové produkce skleníkových plyn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6800kg emisí oxidu uhličitého ročně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 Afrika 5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ysychání jezer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 války, genocida, hladom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šiřování pouští (dezertifikac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A 1970 zákon o čistotě ovzduš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ání permafrostu + požá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mafrost = území na sever od polárního kruh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 něm postaveny domy, silnic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→ infrastruktu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Asi 1 000 000 kilometrů čtvereční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↑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teploty → vysušení půdy a porost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Teplejší vzduch → více blesk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romadný zánik druhů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00x rychlejší mize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zároveň působí negativně na krizi klimat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ičení amazonského deštného pralesa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 vyhynutí mnoha druhů + oxid uhličitý do atmosfé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ceány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měna jejich chemického slože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rtvé zóny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 důsledek řas, znečištění lidmi, teplejší vodo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Blednutí korál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Zvyšování mořské hladi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ansformace vztahu civilizace a ekologického systém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Č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pulační exploze (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↑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 po potravinách, vodě, energiích, výr. zdrojích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ědeckotechnická revoluce (neočekávané vedlejší účinky – jiné důsledky než se starou technikou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působ uvažování o krizi klimatu (dezinformace, cenzura, úpravy, podplácení, znevažování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itát + rady na závě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ď mají zelenou ti, kdo zeleně myslí. Přišla doba, kdy zlepšování životního prostředí vede k výnosům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Jeffrey R. Immelt (předseda správní rady General Electric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dy: efektivně svítit, energeticky efektivní spotřebiče, jejich správné používání a udržování, efektivní vytápění domů, izolace domů, šetřit teplou vodou, zelená energie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↓emise dopravních prostředků, recyklovat, kompostov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949320" y="1028160"/>
            <a:ext cx="77025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áclav Klau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673520" y="2852280"/>
            <a:ext cx="401328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Modrá, nikoli zelená planeta“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692280"/>
            <a:ext cx="76932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Globální oteplování je zásadním ideovým a politickým střetem současnosti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Environmentalismus se stal </a:t>
            </a:r>
            <a:r>
              <a:rPr b="1" lang="cs-CZ" sz="3200" spc="-1" strike="noStrike" u="sng">
                <a:solidFill>
                  <a:srgbClr val="003366"/>
                </a:solidFill>
                <a:uFillTx/>
                <a:latin typeface="Arial"/>
              </a:rPr>
              <a:t>dominantní alternativou ideologií orientovaných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primárně </a:t>
            </a:r>
            <a:r>
              <a:rPr b="1" lang="cs-CZ" sz="3200" spc="-1" strike="noStrike" u="sng">
                <a:solidFill>
                  <a:srgbClr val="003366"/>
                </a:solidFill>
                <a:uFillTx/>
                <a:latin typeface="Arial"/>
              </a:rPr>
              <a:t>na lidskou svobodu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.Klau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Environmentalismus je politické hnutí podobné socialismu, který </a:t>
            </a:r>
            <a:r>
              <a:rPr b="1" lang="cs-CZ" sz="2200" spc="-1" strike="noStrike" u="sng">
                <a:solidFill>
                  <a:srgbClr val="003366"/>
                </a:solidFill>
                <a:uFillTx/>
                <a:latin typeface="Arial"/>
              </a:rPr>
              <a:t>se snaží omezit svobodu člověka a ekonomický růst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, podáváním zkreslených údajů, které jsou prostřednictvím tlaku médií lidem vnucovány.“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Hrozbou jednadvacátého století přestává být socialismus, je jí moderní zelená odnož socialismu, environmnetalismus.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édia neposkytují dostatečný prostor protichůdným názorům, tudíž jde o ovlivňování postojů společnosti zájmovýni skupinami.“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ročení mez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formace o změnách životního prostředí a přírodního bohatství, simuluje budoucí stav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aha o rozpoznávání vzájemných vazeb v přírod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 kniha 1972, 2. kniha 199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ůležité je sledování mezí toků (energie, materiály) ne v absolutních hodnotá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ulace budoucích variant – World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k je to myšleno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00000" y="2421000"/>
            <a:ext cx="769320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řístup environmentalistů k přírodě je obdobou marxistického přístupu k ekonomickým zákonitost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naží se </a:t>
            </a:r>
            <a:r>
              <a:rPr b="1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nahradit přirozený vývoj světa „globálním plánováním“ světového vývoj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Jak by to mělo být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Je třeba </a:t>
            </a:r>
            <a:r>
              <a:rPr b="1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nechat probíhat přirozenou spontaneitu lidského vývoje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, „protože jinak vše dopadne daleko hůře.“(V. Klau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oč by měly naše zásahy do spontaneity vývoje dopadnout hůře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aždý pokus „poroučet větru a dešti“ se zatím ukázal být dlouhodobě 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neúčinným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, nákladným a k tomu omezoval lidskou svobodu.“ </a:t>
            </a: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(pozn. aut.:myšleno jako kritika Keynesiánství? Zásahy do ekonomiky snad ano, ale jaké byly globální pokusy chránit životní prostředí v minulosti a jak dopadly??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Al Gore ve své newyorské přednášce (2006)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čelíme planetární katastrofě“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a když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„něco neuděláme během deseti let, nebude možné se vyhnout nezvratné zkáze obyvatelnosti planety pro lidskou civilizaci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.“(NewYorkUniverzityLawSchool, 18.9.06 </a:t>
            </a:r>
            <a:r>
              <a:rPr b="1" lang="cs-CZ" sz="1400" spc="-1" strike="noStrike">
                <a:solidFill>
                  <a:srgbClr val="003366"/>
                </a:solidFill>
                <a:latin typeface="Arial"/>
              </a:rPr>
              <a:t>– citováno V.Klaus, Modrá nikoli zelená planeta, s. 19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V.Klaus: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„Tento výrok je zcela absurdní a má charakter poplašné zprávy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ak ví V. Klaus, že tyhle informace nejsou postavené na vědeckém základě a pravdivé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elé dějiny naší planety včetně strukturace jejího povrchu jsou předmětem permanentních změn. V posledních několika tisících let je jedním z faktorů člověk a jeho činnost.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3366"/>
                </a:solidFill>
                <a:latin typeface="Arial"/>
              </a:rPr>
              <a:t>Podle environmmentalistů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je člověk „exogenním faktorem“ působícím na přírodní mechanismy. </a:t>
            </a:r>
            <a:r>
              <a:rPr b="0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Základní příčinu problémů světa vidí v samotném rozšíření druhu Homo Sapie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24760" y="970920"/>
            <a:ext cx="7798680" cy="87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. Klau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Environmentalisté, ač vycházejí původně snad i z dobrých úmyslů, snaží se zasahovat prostřednictvím přírodních věd do věd sociálně politických, což má katastrofální důsledky.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666699"/>
                </a:solidFill>
                <a:latin typeface="Arial"/>
              </a:rPr>
              <a:t>(x návrh autorky k zamyšlení: jak by bylo možné odvrátit negativní ekologické dopady, pokud by se vědecké poznatky držely striktně na poli vědy a političtí reprezentanti podle nich nepřizpůsobili své programy?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Úhyn živočišných druhů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i evolučním vývoji planety přirozeně vznikají a zanikají živočišné druh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Úhyn živočišných druhů současné doby je normální a není třeba ho dávat za důsledek škodlivé činnosti člověka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Neexistuje žádný předem daný oprimální stav světa, který jsme povinni chránit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ykácení pralesů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637000"/>
            <a:ext cx="76932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dskou činností sice byly vykáceny pralesy, na místo nich zde však byly vytvořeny jiné, neméně kvalitní statky.“(technosféra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6699"/>
                </a:solidFill>
                <a:latin typeface="Arial"/>
              </a:rPr>
              <a:t>(pozn – nejslíš byly myšleny pravěké pralesy, které pokrývaly většinu pevniny, ne deštné pralesy?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kologická doporučení Al Gora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kud bychom striktně dodrželi veškerá doporučení AlGora, tedy bychom se prakticky vrátili na úroveň před industriální společností, nejvíce patrným výsledkem by bylo, že by se obyvatelé Bangladéše utopili ne v roce 2100 ale až v roce 2115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ávě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4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V.Klaus: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„Nejlepší politikou dneška je s mírnou změnou klimatu žít a podporovat ekonomický rozvoj, který nám vytvoří budoucí, daleko efektivnější technologi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inak řečeno: ochrana přírody ano, environmentalismus ne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áš závě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blém je daleko složitější.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Jak chce V. Klaus chránit přírodu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(zmíněno v jeho závěru)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efektivněji, než globálním uvedením v realitu některých opatření environmentalistů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yslí si snad, že svobodný člověk neomezený ekologickými normami na nějž není vyvíjen tlak médii se bude chovat ekologick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m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ktuální situace, překročení meze nečekaně a neúmysln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íčiny: rychlý pohyb, změna, potíže s ovládání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ůsledky: havárie, náprava, zvolně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 překmitu může dojít k oscilaci, nebo ke kolaps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ůležité: růst nemůže trvat věčn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27640" y="837000"/>
            <a:ext cx="7127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 zamyšlení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ž se v budoucnu dostaneme k efektivnějším technologiím přirozenou liberálně ekonomickou cestou, kolik živočišných a rostlinných druhů vymizí ze světa? A co když nastanou do té doby mnohem vážnější dopady změn klimatu, než jakých jsme svědky nyní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mezují ekologická opatření opravdu tak drasticky svobodu člověk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užitá litera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ADOWS,D. H. et al. Překročení mezí. Praha : Argo, 1995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RE, A. Nepříjemná pravda. Praha: Argo, 2007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LAUS, V. Modrá, nikoli zelená planeta. Praha: Dokořán, 2007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ěkujeme za pozornost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3141720"/>
            <a:ext cx="769320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Nyní je prostor pro Vaše otázky!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ponenciální rů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rakterizuje lidskou činnost – pozitivní zpětná vazba (zesilování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votní exp. růst - populace, kapitá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uhotný exp. růst ostatních veličin - poháněny lidmi a kapitál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lišení růstu čeho, pro koho, jak dlouh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 bezvýhradný růs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2764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řídla a výpu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26560" y="2362320"/>
            <a:ext cx="77043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pojení s mezemi, překračování mezí zřídel a výpustí, tok energií a materiál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řídlo: místo původu (ropné naleziště), výpust: místo vypouštění (odpadní vody, ovzduší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ůtok u obnovitelných zdrojů: ne rychlejší než možnosti reproduk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ůtok u neobnovitelných zdrojů: ne rychlejší než rychlost nahrazování novými zdroj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ůtok u škodlivin: ne rychlejší než rychlost zneškodně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menšení průtoku: zvýšení životnosti výrobků, pokles toků ze zříd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vestice „na konec potrubí“ (ne do nových technologií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litický problém (která země více znečišťuj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ynamika růstu v konečném světě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ulace programu World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rakteristiky modelu: růst, meze, zpoždění, erozní proces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 modely pro populaci a fyzickou ekonomiku (2 stabilní a 2 nestabilní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álý růst (stabilní model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46400" y="23954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stický růst (stabilní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46400" y="23954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4:09:03Z</dcterms:created>
  <dc:creator>Liduska</dc:creator>
  <dc:description/>
  <dc:language>en-US</dc:language>
  <cp:lastModifiedBy>snoopy</cp:lastModifiedBy>
  <dcterms:modified xsi:type="dcterms:W3CDTF">2008-10-13T08:59:05Z</dcterms:modified>
  <cp:revision>19</cp:revision>
  <dc:subject/>
  <dc:title>Překročení mezí</dc:title>
</cp:coreProperties>
</file>