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1AE1-AE1C-43B3-874C-CFD3759F4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B988-B4B5-4624-B826-2AE16F57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D24C-7000-4CDA-BCDB-D6EC776E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056F-80BF-44C0-B99A-31B5FC606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9D74-A7A9-45D8-977B-FE4DC97A0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FB7C-D039-4C75-90D5-53754C94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580C-611B-476C-8F37-E9E97B56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6FE8-1FFB-4CBA-8855-D08D7CD8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ED15-4B44-4292-B7C2-162D5CA4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2505-EBC7-47BC-B24B-788DD8CE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3D19-612F-4F8E-AB5C-EA1D0989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0D9E-2A35-49CF-AAD9-3FB9FFF2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04C5-6759-4803-94DB-28093F20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34E5-4AE3-4EC6-93F5-4888EF13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13B4-4175-4FBF-AE0E-F750D598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9705-35DB-44BD-A677-834FE39CF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D72A-E3A7-44AA-8D5E-6B619FAB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AB35-9BAE-4EE1-9470-5401A132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8CEC-9501-45A6-93EE-AE1FB13A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A91B-AEEB-4087-9475-BC896F13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C5A6-5EC7-4914-9E89-79885B82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F06A-0017-4776-AB2E-76DBAE1D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9532-61AA-4AB4-BF0E-D9DE23B6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8633-F257-4243-A3A3-686BC6B0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471C-5C1D-4025-9DC9-1A7A86549B3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E143-76E6-407B-8B90-58E1692F1D0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Třetí vlna a její důsledky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84240" y="4578480"/>
            <a:ext cx="598176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66"/>
                </a:solidFill>
                <a:latin typeface="Arial"/>
              </a:rPr>
              <a:t>Linda Khallová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66"/>
                </a:solidFill>
                <a:latin typeface="Arial"/>
              </a:rPr>
              <a:t>Zuzana Soókiová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Tretia vlna a politika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38080" y="2361960"/>
            <a:ext cx="7693200" cy="34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Druhá vlna: centralizovaná byrokracia, nukleárna rodina, masový vzdelávací systém, veľké korporác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Tretia vlna: pozeranie sa do budúcnosti, väčší podiel duševnej práce, heterogenita, malé a mladé podniky, </a:t>
            </a:r>
            <a:r>
              <a:rPr b="0" lang="sk-SK" sz="2800" spc="-1" strike="noStrike">
                <a:solidFill>
                  <a:srgbClr val="003366"/>
                </a:solidFill>
                <a:latin typeface="Arial"/>
                <a:ea typeface="Arial"/>
              </a:rPr>
              <a:t>↑investícií, podpora sektoru služie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Stavebné princípy vlád tretej vln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55640" y="2349000"/>
            <a:ext cx="7848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Moc menší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Polopriama demokra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Deľba deciz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Použitá literatú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366"/>
                </a:solidFill>
                <a:latin typeface="Arial"/>
              </a:rPr>
              <a:t>TOFFLER, A. – TOFFLEROVÁ, H. </a:t>
            </a:r>
            <a:r>
              <a:rPr b="0" i="1" lang="sk-SK" sz="2000" spc="-1" strike="noStrike">
                <a:solidFill>
                  <a:srgbClr val="003366"/>
                </a:solidFill>
                <a:latin typeface="Arial"/>
              </a:rPr>
              <a:t>Nová civilizace - Třetí vlna a její důsledky. </a:t>
            </a:r>
            <a:r>
              <a:rPr b="0" lang="sk-SK" sz="2000" spc="-1" strike="noStrike">
                <a:solidFill>
                  <a:srgbClr val="003366"/>
                </a:solidFill>
                <a:latin typeface="Arial"/>
              </a:rPr>
              <a:t>1. vyd. Praha: Nakladatelství Dokorán, 2001. 125 s. ISBN 80-86569-00-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366"/>
                </a:solidFill>
                <a:latin typeface="Arial"/>
              </a:rPr>
              <a:t>POE, R. </a:t>
            </a:r>
            <a:r>
              <a:rPr b="0" i="1" lang="sk-SK" sz="2000" spc="-1" strike="noStrike">
                <a:solidFill>
                  <a:srgbClr val="003366"/>
                </a:solidFill>
                <a:latin typeface="Arial"/>
              </a:rPr>
              <a:t>Třetí vlna – Nová epocha network marketingu. </a:t>
            </a:r>
            <a:r>
              <a:rPr b="0" lang="sk-SK" sz="2000" spc="-1" strike="noStrike">
                <a:solidFill>
                  <a:srgbClr val="003366"/>
                </a:solidFill>
                <a:latin typeface="Arial"/>
              </a:rPr>
              <a:t>1. vyd. Brno: Nakladatelství Jiří Alman, 1998. 255 s. ISBN 80-86135-03-9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366"/>
                </a:solidFill>
                <a:latin typeface="Arial"/>
              </a:rPr>
              <a:t>BLAŽEK, L. </a:t>
            </a:r>
            <a:r>
              <a:rPr b="0" i="1" lang="sk-SK" sz="2000" spc="-1" strike="noStrike">
                <a:solidFill>
                  <a:srgbClr val="003366"/>
                </a:solidFill>
                <a:latin typeface="Arial"/>
              </a:rPr>
              <a:t>Sylaby k jednotlivým tématům zveřejněné na www stránkách Ekonomicko-správní fakulty M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3366"/>
                </a:solidFill>
                <a:latin typeface="Arial"/>
              </a:rPr>
              <a:t>www stránky: http://www.park.cz/ke_treti_vlne_alvina_tofflera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366"/>
                </a:solidFill>
                <a:latin typeface="Arial"/>
              </a:rPr>
              <a:t>Ďakujeme za pozornosť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677000" y="20934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66"/>
                </a:solidFill>
                <a:latin typeface="Arial"/>
              </a:rPr>
              <a:t>Vývoj spoločnosti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2491920"/>
            <a:ext cx="79200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vá vlna – vznik pred cca 10 000 rokmi, zemědelská revolú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ruhá vlna – vzn. pred 300 rokmi, priemyslová revolúcia 18.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retia vlna – vznik v USA v 60. rokoch 20.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retia vln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ívlastky: informačná, znalostná, digitál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ociálne, kultúrne, politické a morálne zmen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Havný konflikt súčasnos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29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Stret civilizáci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Válka medzi záujmami 1. a 2. vln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V súčasnosti 3 súperiace civilizác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Demasifikácia spoločnos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220500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Upustenie od masovosti 2. vlny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Výroba, marketing, médiá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Heterogenita spoločnosti 3. vln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Informatizác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Informačná spoločnosť, komputerizá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Zdroj bohatstva: poznan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6666"/>
                </a:solidFill>
                <a:latin typeface="Arial"/>
              </a:rPr>
              <a:t>Hlavné princípy ekonomiky 3. vln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640" y="2421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Poznan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Demasifiká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Narastajúca nezameniteľnosť profesií, požiadavky na špecializované dovednos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Inovácie, reeingeneer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Infraštruktúra: elektronické komunikác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Tretia vln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55280" y="2276280"/>
            <a:ext cx="7993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Nezamestnanosť sa presunula od kvantitatívnej ku kvalitatívnej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Zaraďovanie pracovníkov do kategórií podľa miery spracovania symbolov a duševnej prá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Intelektuálne“ versus „neintelektuálne“ podnik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Kritériá tretej vln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55640" y="256500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Pripomína to továreň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Demasifikuje to spoločnosť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Koľko vajec je v košíku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Je to vertikálne, alebo horizontáln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Vracia to domovu silu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10:29:21Z</dcterms:created>
  <dc:creator>snoopy</dc:creator>
  <dc:description/>
  <dc:language>en-US</dc:language>
  <cp:lastModifiedBy>snoopy</cp:lastModifiedBy>
  <dcterms:modified xsi:type="dcterms:W3CDTF">2008-10-13T11:25:02Z</dcterms:modified>
  <cp:revision>45</cp:revision>
  <dc:subject/>
  <dc:title>Třetí vlna a její důsledky</dc:title>
</cp:coreProperties>
</file>