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E8D-3D13-40A3-B9E1-F6B00BE2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AD8-1CF3-4595-9472-896E2282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283-4595-4BC7-A6D4-EC548777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B07-8540-41F8-BE6E-E7AAF0B4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4544-BB93-49AD-882F-2499D3AC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CB8C-263E-444F-9B06-79EC7822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3B3D-68A2-4FF5-A86B-7064079A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BDA4-DA44-4272-B59E-7F8A2AFC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D0B1-97D6-4DB6-A555-DB640FC5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CA28-FEEB-44A0-83D2-EFB0C484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EA7B-0EE1-4830-A2CF-58D74768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AEC-8932-49BF-B9CC-E8E9D6AA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D943-D56A-4AF9-BAB2-6BDA559A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D453-2C4B-4045-AA8A-3E694165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9DB7-0237-4228-A24D-6EB44E42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6D41-AE15-4A58-B4B4-5720AD53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FFF4-EAD9-4B8A-B2C1-28EFA82B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FA0-11B4-4C1C-AFF2-2A06CEB3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7A7-81C0-4717-AAE8-CFC2C3AD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BFA-7624-4F1F-8871-CE36A3B7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AF7-BD79-4208-AB4C-63E72D8C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7E1-0C0C-4AFA-9F6A-6CA2B144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21D-28D0-4B55-BE4D-BA8A079B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76F-38FB-4076-A042-8C431028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479E-C07B-4D5A-8C5D-7F888348B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A013-1D69-4D8A-A820-F94D91D6F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br>
              <a:rPr sz="2800"/>
            </a:br>
            <a:br>
              <a:rPr sz="2800"/>
            </a:br>
            <a:r>
              <a:rPr b="1" lang="cs-CZ" sz="3200" spc="-1" strike="noStrike">
                <a:solidFill>
                  <a:srgbClr val="ffffb7"/>
                </a:solidFill>
                <a:latin typeface="Arial Black"/>
              </a:rPr>
              <a:t>(Josef Šmajs: Drama evoluce)</a:t>
            </a:r>
            <a:br>
              <a:rPr sz="48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68007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racovali: Blaha Mic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 Tomáš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ulíčková Marc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e = proces, který směřuje proti rozpadu systému,zvyšování uspořád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le nositele evoluční ak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přirozená - přír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kulturní – člověk (člověk prvkem přirozené evoluce a aktérem kulturní evolu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edisko evoluce klíčem pro pochopení a řešení ekologické kri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dělání lidí v oblasti závažnosti ekologického konfliktu, přijmutí nových hodnot (pochopení evoluce.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ositelem přír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nohem delší časové hledisko než evoluce kulturní, už od dob velkého třesku vznikaly prvky,struktury světa…(vznik abiotických a biotických syst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, přetváření, modifikace určitých prvků a struktur, výsledek evolučního procesu předem neznám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spořádanost jednotlivých organismů i uspořádanost celého ekosysté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em generovaný proces, cílevědomá i spontánní aktiv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ěle vytvářená kultura vzniká z přírody, je závislá na přirozených evolučně starších systém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ladem kulturních struktur: informace kulturní=duchovní k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ka, kultivované organismy, přirozené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ěřuje proti evolučně vytvořeným strukturám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ek rozmachu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ůst a rozmach kultury- destrukce a snižování biologické rozmanitosti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myslová revoluce- rostoucí nároky na suroviny, energie, hromadné čerpání zdrojů, zneč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koncepce  společenského vývoje bez ohledu na vývoj přírodní, nutnost považovat kulturu za podřízený subsystém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povědomí, že člověk díky rozumu o přírodu přesahuje a je jí nadř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jem dosud uspokojivě nevysvět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jako obsah a smysl zprá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ako obsah pamě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jako uspořádanost by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ížně se rozlišují a v důsledku toho i zaměňu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zev pro obsah toho, co se vymění s vnějším světem, když se mu přizpůsobujeme a působíme na něj svým přizpůsobováním.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ty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y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přirozená, 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kulturní, umě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ělila struktury na živé a než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modifikací starší informace přiroze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produktem kulturní informace, ale zároveň i její podmínk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orie vzniku „spontánního společenského řádu“ (Hayek, F. A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mořádnou roli zastává lidský moz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, čeho jsme dosáhli, je výsledkem kulturního vývoje, jenž se opírá o mozek stále stejné kapacit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ek se rodí s hotovou strukturou, bude pracovat moderním způsobem, avšak tento mozek má svou historii. Byl budován během miliónů let, reprezentuje historii, které je výsledkem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voj filozof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ž donedávna filozofie bádala spíše v minulosti a snažila se vyložit podstatu nezpochybnitelného by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jí vztah k ostatním vědám byl opomíj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es moderní filozofie hledí na realitu a vyvozuje z ní budoucnost, podstupujíce svoje teorie testu dalšími věda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sobí protipřírodně, je v opozici k přírodní 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ní informace se stává informací přiroze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Drama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Konflikt přirozené a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Základy systematické filoso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iener, N.: Kybernetika a společ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ould, S. J.: Pandin pal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ung, C. G.: Analytická psych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udijní materiály předmětu Management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kutečnost – co o ní vlastně vím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šel „zázrak“ zrození, Slunce nám dodává energii nutnou ke všem procesům na Zemi (na planetu Zemi přitom dopadají pouhé 2 miliardtiny sluneční ene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otické x abiotick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m směřuje skutečnost? Vesmír se rozpíná a chladne, zvyšuje se jeho entropie, naproti tomu na mnoha jeho místech vznikají stále složitější, organizovanější, struk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směřování vesmíru náhodné či se jedná také o evoluční pro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stém přír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ální biosféra – vytvořil ji život, nedevastuje Zemi, vychází totiž z jejích nejstarších struk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evřené živé systémy – mají epigenetickou paměť (CNS) a genetickou paměť. To vede k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ukty evoluce jsou onticky předepsané struktury samovolně se strukturující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emský život se tak stává organizačně nejsložitější, fenotypově nejaktivnější a proto i nejhodnotnější ontickou vrstvou vesmírné skuteč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Člověk jako součást systému přírod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– druhý, mladší systém, součást přírody, nemůže bez ní existov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ntropocentrická iluze – nadřazenost člověka přírodě, kultura se musí biofilně přestavě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šší systém neznamená silnější, naopak, slabší, křehčí organizační úroveň skuteč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por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součást přírody, kde vzniknul rozpo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druhým ontickým systémem se sociokulturní informací, antropocentrick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ůže dosáhnout klimaxu s přírodou neboť roste mnohem rychleji, hnána příkonem se spalování fosilních paliv. Není tak prostor pro negativní zpětnou vazb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am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colai Hartmann – odlišuje vrstevnatost bytí a stejně tak jako první i přírodní a kulturní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panze planetární kultury zbytečně brzo ohrožuje člověka jako dru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rálka není vždy závislá na faktu přežití, člověk může být fylogeneticky sobecký. Je však pouze nepatrnou větvičkou na stromu života, bez kterého nemůže exist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é odstranit konspiraci lhostej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spořádanost strukt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oukazuje na vnitřní zjevnou i skrytou rozmanitost skut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řirozená a kultur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nitřní architektura konkrétních struktur(biotických, kulturních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y udržující identitu těchto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uspořád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em evoluční ontologie- přirozená uspořádanost jako vysoká kulturní hodn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X přirozená uspořádanost: Nešetrné zásahy kultury do přírody ničí tuto biotickou uspořád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majs: S ohledem na zachování přirozené uspořádanosti a na udržení biologické rozmanitosti života bude třeba rostoucí prostorové expanzi kultury zabrán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26:56Z</dcterms:created>
  <dc:creator>marcela</dc:creator>
  <dc:description/>
  <dc:language>en-US</dc:language>
  <cp:lastModifiedBy>snoopy</cp:lastModifiedBy>
  <dcterms:modified xsi:type="dcterms:W3CDTF">2008-09-30T13:02:12Z</dcterms:modified>
  <cp:revision>12</cp:revision>
  <dc:subject/>
  <dc:title>Přirozená a kulturní evoluce</dc:title>
</cp:coreProperties>
</file>