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5E08-475B-45A6-A138-3739CAD76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AFBC-932A-4D53-A91C-11BF1908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E5A1-41A6-4428-8809-1C6428E44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420E-77D2-4DCE-8E1C-D6CD69A19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CB99-F389-4FCC-A747-BF39A6E6C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91EA-DB46-47F1-A930-0DEDF0A1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F39F-E0A5-450E-B352-552D60C9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4383-17F4-45D8-865A-8FD79E10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C682-B965-401F-BA7F-8C40340A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984C-257C-4C29-8E83-B2EF1BFC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8E38-46F2-498A-AC64-BBF2059D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07AB-2A5E-4238-B655-C07BB0B7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802C-9C9B-4122-9E56-209A2BCA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68B7-F08F-4AD8-A4AE-A0B78041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5F1D-0D86-47B2-825A-9CC94FC7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012E-1F43-43A9-AB16-8757A4628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6297-C770-4F18-B686-0DA655A7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0960-84C9-44D2-84DE-027F9CB8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CD46-F57C-4BC2-AE44-3C668225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3AF5-ABA8-4B04-80D5-C9A436C2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F310-F7EF-4FBB-984D-7D62AEDC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0379-F2BB-4F56-A3D5-CC1179B8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64CC-ED89-4854-BD80-B48BEA59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E61B-3797-4774-AB03-F959123D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45B8-33F4-4A10-AED8-FC75DD836EB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A7CD-8BBC-40D2-8778-91DEFCC5205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Třetí vlna a její důsledky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84240" y="4578480"/>
            <a:ext cx="598176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66"/>
                </a:solidFill>
                <a:latin typeface="Arial"/>
              </a:rPr>
              <a:t>Linda Khallová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66"/>
                </a:solidFill>
                <a:latin typeface="Arial"/>
              </a:rPr>
              <a:t>Zuzana Soókiová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Tretia vlna a politika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38080" y="2361960"/>
            <a:ext cx="7693200" cy="34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Druhá vlna: centralizovaná byrokracia, nukleárna rodina, masový vzdelávací systém, veľké korporác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Tretia vlna: pozeranie sa do budúcnosti, väčší podiel duševnej práce, heterogenita, malé a mladé podniky, </a:t>
            </a:r>
            <a:r>
              <a:rPr b="0" lang="sk-SK" sz="2800" spc="-1" strike="noStrike">
                <a:solidFill>
                  <a:srgbClr val="003366"/>
                </a:solidFill>
                <a:latin typeface="Arial"/>
                <a:ea typeface="Arial"/>
              </a:rPr>
              <a:t>↑investícií, podpora sektoru služie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Stavebné princípy vlád tretej vln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55640" y="2349000"/>
            <a:ext cx="7848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Moc menší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Polopriama demokra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Deľba deciz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Použitá literatú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366"/>
                </a:solidFill>
                <a:latin typeface="Arial"/>
              </a:rPr>
              <a:t>TOFFLER, A. – TOFFLEROVÁ, H. </a:t>
            </a:r>
            <a:r>
              <a:rPr b="0" i="1" lang="sk-SK" sz="2000" spc="-1" strike="noStrike">
                <a:solidFill>
                  <a:srgbClr val="003366"/>
                </a:solidFill>
                <a:latin typeface="Arial"/>
              </a:rPr>
              <a:t>Nová civilizace - Třetí vlna a její důsledky. </a:t>
            </a:r>
            <a:r>
              <a:rPr b="0" lang="sk-SK" sz="2000" spc="-1" strike="noStrike">
                <a:solidFill>
                  <a:srgbClr val="003366"/>
                </a:solidFill>
                <a:latin typeface="Arial"/>
              </a:rPr>
              <a:t>1. vyd. Praha: Nakladatelství Dokorán, 2001. 125 s. ISBN 80-86569-00-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366"/>
                </a:solidFill>
                <a:latin typeface="Arial"/>
              </a:rPr>
              <a:t>POE, R. </a:t>
            </a:r>
            <a:r>
              <a:rPr b="0" i="1" lang="sk-SK" sz="2000" spc="-1" strike="noStrike">
                <a:solidFill>
                  <a:srgbClr val="003366"/>
                </a:solidFill>
                <a:latin typeface="Arial"/>
              </a:rPr>
              <a:t>Třetí vlna – Nová epocha network marketingu. </a:t>
            </a:r>
            <a:r>
              <a:rPr b="0" lang="sk-SK" sz="2000" spc="-1" strike="noStrike">
                <a:solidFill>
                  <a:srgbClr val="003366"/>
                </a:solidFill>
                <a:latin typeface="Arial"/>
              </a:rPr>
              <a:t>1. vyd. Brno: Nakladatelství Jiří Alman, 1998. 255 s. ISBN 80-86135-03-9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366"/>
                </a:solidFill>
                <a:latin typeface="Arial"/>
              </a:rPr>
              <a:t>BLAŽEK, L. </a:t>
            </a:r>
            <a:r>
              <a:rPr b="0" i="1" lang="sk-SK" sz="2000" spc="-1" strike="noStrike">
                <a:solidFill>
                  <a:srgbClr val="003366"/>
                </a:solidFill>
                <a:latin typeface="Arial"/>
              </a:rPr>
              <a:t>Sylaby k jednotlivým tématům zveřejněné na www stránkách Ekonomicko-správní fakulty M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3366"/>
                </a:solidFill>
                <a:latin typeface="Arial"/>
              </a:rPr>
              <a:t>www stránky: http://www.park.cz/ke_treti_vlne_alvina_tofflera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366"/>
                </a:solidFill>
                <a:latin typeface="Arial"/>
              </a:rPr>
              <a:t>Ďakujeme za pozornosť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677000" y="20934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66"/>
                </a:solidFill>
                <a:latin typeface="Arial"/>
              </a:rPr>
              <a:t>Vývoj spoločnosti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2491920"/>
            <a:ext cx="79200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vá vlna – vznik pred cca 10 000 rokmi, zemědelská revolú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ruhá vlna – vzn. pred 300 rokmi, priemyslová revolúcia 18.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retia vlna – vznik v USA v 60. rokoch 20.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retia vln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ívlastky: informačná, znalostná, digitál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ociálne, kultúrne, politické a morálne zmen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Havný konflikt súčasnos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29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Stret civilizáci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Válka medzi záujmami 1. a 2. vln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V súčasnosti 3 súperiace civilizác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Demasifikácia spoločnos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2205000"/>
            <a:ext cx="7632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Upustenie od masovosti 2. vlny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Výroba, marketing, médiá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Heterogenita spoločnosti 3. vln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Informatizác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Informačná spoločnosť, komputerizá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Zdroj bohatstva: poznan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6666"/>
                </a:solidFill>
                <a:latin typeface="Arial"/>
              </a:rPr>
              <a:t>Hlavné princípy ekonomiky 3. vln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640" y="2421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Poznan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Demasifiká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Narastajúca nezameniteľnosť profesií, požiadavky na špecializované dovednos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Inovácie, reeingeneer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Infraštruktúra: elektronické komunikác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Tretia vln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55280" y="2276280"/>
            <a:ext cx="7993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Nezamestnanosť sa presunula od kvantitatívnej ku kvalitatívnej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Zaraďovanie pracovníkov do kategórií podľa miery spracovania symbolov a duševnej prá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Intelektuálne“ versus „neintelektuálne“ podnik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Kritériá tretej vln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55640" y="256500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Pripomína to továreň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Demasifikuje to spoločnosť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Koľko vajec je v košíku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Je to vertikálne, alebo horizontáln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Vracia to domovu silu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10:29:21Z</dcterms:created>
  <dc:creator>snoopy</dc:creator>
  <dc:description/>
  <dc:language>en-US</dc:language>
  <cp:lastModifiedBy>snoopy</cp:lastModifiedBy>
  <dcterms:modified xsi:type="dcterms:W3CDTF">2008-10-13T11:25:02Z</dcterms:modified>
  <cp:revision>45</cp:revision>
  <dc:subject/>
  <dc:title>Třetí vlna a její důsledky</dc:title>
</cp:coreProperties>
</file>