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B1C-B674-4A5C-9CB3-AEC186C3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150-B41F-46BB-BCCA-117AD94B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B8A-BAB4-483F-8CC7-1A072860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861-F407-47D0-AE26-3BE09E48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62EE8-52DB-4B4B-8C46-4C219FF6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D68EE-766C-44A6-96E7-5BA63C67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F8E29-7A8A-4A3D-94C1-54E86782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34393-1E74-427E-AF7D-91F9F3D6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60E6E-1EC1-4693-944A-D53C7177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39348-2A92-4AA7-B081-493E2428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A9EED-A232-4341-B68B-420B088B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8CA-B2AC-4099-927B-69BC7BFC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1A85F-F1CA-4B2A-9A44-4DC234D0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F1C2B-9915-43AB-89D2-A8348D6B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5DFA0-8C8F-459A-8F72-8BA32659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5A234-B744-443C-9813-6B634A2B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748BF-C70C-419C-B6A7-122349F7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644-1C02-4C34-84D0-C096FB0B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F34-EC42-4D2C-96F2-620269B6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E75-038E-4945-B7A7-CFF01F92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474-0E3E-4D94-93CE-DAA59891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7E3-ECA9-4D35-9E57-9AA752F9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B16E-55D3-4E38-95A1-EFA4DB4F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A19-3075-4769-9881-FE547E8D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C381-044F-428F-B873-4278240F3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FC73-A3FF-4BB3-BD1D-4EDC1C87F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kologické aspek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pracoval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byněk R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a Kubi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ena Košíčk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zorec poškození životního prostředí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atížení = Populace * Blahobyt * Technolo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ždý člen rovnice má stejnou 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hobyt – základ v kapitálu na oso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ie – energie * zátěž živ. pro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tát ekonoma z M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uktura modelu World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kteristiky model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y růstu (kapitál, popula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ožd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ozní proce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uhy mezí v modelu World3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dělávatelná pů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ýnos z jednotky pů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obnovitelné zdr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pnost Země absorbovat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chnologie, trhy a překročení mezí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ájemné působení trhu a technolog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h problém ohlás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ie problém ře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ddalování mezí - scénář 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dpoklad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ížení spotřeby neobnovitelných zdroj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ie snižující znečištění, zvyšující výnosy z půdy a technologie chránící pů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pady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výšení znečištění potlačí úrodnost pů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datečné vstupy do zemědělstv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lesá průmyslový produ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upá úmrt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olečné znaky kolapsu ve scénáří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lečnost odkládá setkání s mezemi pomocí ekonomických a technických úpra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budoucnu tak narazí na několik z nich zároveň a dojde jí schopnost zvládat situ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á velikost průmyslového produ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dé provádí kvantitativní změny, ale je třeba i strukturální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énář 10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dina se dvěma dětmi, požadované spotřební zboží na osobu omezené, všechny technologie pro lepší využívání zdrojů a regulaci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pad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ém  v rovnováze, trvale udržitelná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vale udržitelná společ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ce: společnost, která může přetrvat generace, je dostatečně předvídavá, pružná a moudrá na to, aby si nepodkopala jak fyzické, tak sociální systémy, které ji podporu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naky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jem na kvalitativním rozvoji, ne fyzické expan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rvání na současných nespravedlivých způsobech rozděl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ální zabezpečení a dostatek vš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ředpokla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okonalení signálů – informace vlád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rychlení odezev – aktivně hledat signály, v předstihu rozhod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imalizace používání ne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cházení erozi 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stavení exponenciálního růstu populace a fyzického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Úvo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roce 1971 byly závěry, že dosažení fyzických mezí využívání energie a materiálů lidmi je několik desítek let před ná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roce 1991 nehledě na vylepšené technologie, důraznější politiku ochrany životního prostředí, mnohé toky materiálů a znečištění překročily své udržitelné me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dlišný pohled na vě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nvironmentální et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šíření etiky o vztah člověka k Zemi a rostlinám a živočichů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teratur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ADOWSOVÁ, Donella h, MEADOWS, Dennis l, RANDERS, Jorgen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řekročení mezí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: konfrontace globálního kolapsu s představou trvale udržitelné budoucnost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Pavla Polechová a Ladislav Zvolánek. 1. vyd. Praha : Argo, 1995. 319 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MAJS, Josef, et al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odnikatelská a environmentální etik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Brno : [s.n.], 2008. 184 s. ISBN 978-80-210-4564-4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ákladní defin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kmit: jít za mez trvale udržitelné únosnosti životního prostře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ýpust: místo používané konečného určení pro toky energie a materiál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řídlo: Místo vzniku – počátku toků materiálů a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onenciální růst: růst, kdy rostoucí veličina přibývá za konstantní časový interval o konstantní zlomek své velik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ponenciální růst populac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binace porodnosti a úmrtnosti jsou různorod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méně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ředně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soce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ůst světového průmysl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ůmyslový kapitál rostl a roste rychleji než popu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 roku 1970 do roku 1990 vzrostl průmyslový produkt skoro o 10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jednoho člověka pouze asi o 1/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udob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ětná vazba dvou stra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ůsobuje chudoba růst populace neb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ůst populace způsobuje chudobu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ze: Zřídla a výpust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ůmyslový kapitál a populace jsou hnacími silami exponenciálního růstu díky své sebereproduk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yvatelstvo a kapitál berou materiály a energii ze Země, odpady a teplo do Země vrace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xistují meze pro využití materiálů, energie i pro produkci odpa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Pravidla pro meze průtoku podle Dalyho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novitelné zdroje – rychlost regener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obnovitelné zdroje – rychlost nahrazení obn. zdro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nečišťující látky – rychlost recyklace, absorbce nebo zneškodnění prostřed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ávěry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nzita využívání přírodního bohatství a produkce odpadů není trvale udržiteln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dměrné průtoky nejsou nezbytn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ze Země jsou na dos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19:34Z</dcterms:created>
  <dc:creator>Drahoš</dc:creator>
  <dc:description/>
  <dc:language>en-US</dc:language>
  <cp:lastModifiedBy>Zbynek</cp:lastModifiedBy>
  <dcterms:modified xsi:type="dcterms:W3CDTF">2008-10-13T12:59:52Z</dcterms:modified>
  <cp:revision>16</cp:revision>
  <dc:subject/>
  <dc:title>Technologie, trhy a překročení mezí </dc:title>
</cp:coreProperties>
</file>