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4FB4-C74A-4278-8D85-EC2797B02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FBE2-6887-4EAA-A2F5-9B5F99E8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E3E6-8083-40C9-A9F6-52444A55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BE69-9521-42FF-9665-9758F752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D548-5D6E-4990-9C8F-5408A986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9ED0-EF49-4F57-852B-1328672B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2BE3-358E-47C4-803A-F5CD5F1D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12AA-340F-4561-A215-21209AC7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D528-31E1-4FB5-9790-2C235318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89B5-F91B-4CE5-B1C6-8FAC5836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CAC1-EBC7-4967-A01B-81ACFB67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12F5-467C-451C-B1DD-B5A10DD4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E30B-8077-4298-84F5-3B4263B1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B1C6-28C4-44E0-9F73-988625DA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C7E8-E573-47AE-A049-0F55FA3C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D207-3C6D-4A78-9DFA-AD21563E1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CA38-04E2-46AF-8EA6-7491FADC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2F626-8354-4DE4-9374-793DC8E1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2D487-7C45-4651-A569-2A16D03D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647E9-7B56-4A51-84A9-C91AEEAD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AF8C0-9DB8-4A12-A467-D98EE636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9DDA9-3970-4BD8-9C0F-DA319979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BE3C-135A-499F-9400-3DA4A4F7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46739-A1B6-4CF3-AE77-E72951E2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D8933-ADC3-4D88-9FCF-62EF5FE5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C49C1-15CF-4B8B-8004-DC4A9232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6CC85-C692-4CE5-B582-1ADCFDC8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A380F-14FF-4CC1-87CC-57351DD4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2A597-63D4-4054-A679-030F16EFD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BCA35-17D8-413F-9924-27F13DE8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7DF4A-2246-4A1E-9BF9-221E405F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AE1BE-39CA-42B4-8190-B30CA9C3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1CB87-9065-4FA0-AF68-79333558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F72D-E57D-4A9D-B1C2-95DC5665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8C831-8C12-467D-94E4-E36B2263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DA158-85F7-450A-81E2-352F48C1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DAF50-91F3-4454-8438-1E42265D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02F0D-5951-4565-B775-AFC76037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5210F-FC64-4C0F-A476-D22CFB15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1B99B-413D-40B1-88FF-F577B609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3D0F6-1923-4988-93D5-CE79C100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0C386-8179-4573-96AD-A5E74201E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F711C-B344-46D3-8CCB-5FBB57FC7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90DA-7166-4D00-9C78-C04E5FDF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35A1-1E6B-415E-8E51-73E00910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9660-6792-4D90-875D-79351EEB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351E-C70A-4799-AF5C-78B153AB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FC92-7D7B-4259-B355-75AB794F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5018-548E-469B-A02C-373AFDF6E74D}" type="slidenum"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de9e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de9ec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B814-EDB9-488F-8C56-B938AFD0674B}" type="slidenum"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de9e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de9ec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224E-94F2-4986-9EEA-2D16F82FF298}" type="slidenum"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A237-B34F-4631-AB1F-6DCFCD97711C}" type="slidenum"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99680" y="5000760"/>
            <a:ext cx="7854840" cy="9093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Václav Klein, Vít Zouhar, Robert Kund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53"/>
                </a:solidFill>
                <a:latin typeface="Calibri"/>
              </a:rPr>
              <a:t>Děkujeme za pozornos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0040" y="4571640"/>
            <a:ext cx="822960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CO JE TO NENULOVÝ SOUČET?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KAM je unášeno lidstvo ve svých dějinách?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Má nějaký VYŠŠÍ SMYSL?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WRIGHT: Vývoj, evoluce má svůj směr a cí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BERGSON- ELÁN VITAL- pohání živé hmot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TEILHARD de CHARDIN-dějiny lidstva směřují k bodu omega, ten je umístěn mimo prostor a ča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říliš nadpozemské???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ALE…Správná základní myšlenka 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Evoluce organismů má sklon vytvářet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složitější formy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a stejně i lidské dějiny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tíhnou k vývoji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stále větších a složitějších uskupení-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noosféra, globalizační vesnice.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LZE SMĚŘOVÁNÍ NA KTERÉ BERGSON A DE CHARDIN UPOZORNILI VYSVĚTLIT VĚDECKÝM ZPŮSOBEM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podle Wrighta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AN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ODPOVĚĎ BY PODLE WRIGHTA MOHLA BÝT V TEORII HER.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464653"/>
                </a:solidFill>
                <a:latin typeface="Calibri"/>
              </a:rPr>
              <a:t>Teorie her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Obor, který se snaží té které hře přiřadit právě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evolučně stabilní strategi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le  úspěšnosti v aktuálním kole je získána jakási poukázka na množství potomků v kole následující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Strategi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 x </a:t>
            </a: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lze nalézt i v rámci jednoho druhu – vlivy prostřed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arwinovský boj o život – spíše v rámci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jednoho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druhu, než mezi druh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Přizpůsobení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se prostřed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Žádní vítězové – pouze poražen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HRY S NULOVÝMI A NENULOVÝMI SOUČTY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Hry s nulovým součtem-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isky protihráčů jsou nepřímo úměrné (fotbal, tenis, box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Hry s nenulovým součtem-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isk jednoho nemusí být na úkor druhého. Obvykle se zájmy překrývají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řehled vývoje života lze uvádět stručně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 přehled lidských dějin je spletit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Wright: u obou lze zachytit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vzorec vysvětlující směr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dějin právě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mocí teorie her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HRY S NULOVÝMI A NENULOVÝMI SOUČTY</a:t>
            </a: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712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Vznikají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nové technolgie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 podněcují nové bohatší podoby vzájemneho působeni s nenulovým součtem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oté se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vyvyjeji společenská uspořádání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, která tohoto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tenciálu využijí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promění situace s nenulovým součtem v 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zitivní zisky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. V souladu s paretovým optimem-nikomu se nemůže ve společnosti dařit lepe na ukor jiného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například Technologické revoluce tak vytvářejí stále nové hry umožnujiící oboum stranám výhru(např. Hospodářský růst i pomocí technlogií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HRY S NULOVÝMI A NENULOVÝMI SOUČTY</a:t>
            </a: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Neznamená to, ale že hry s nenulovým součtem musí být ziskové na obou stranách, nebo že by bylo vyloučené podvádění, nebo parazitismus!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řesto, se ale po čase ukáže, že vzniká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více součtů kladných 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než záporných a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častější je oboustraný zisk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-směřuje tak spíše k výhrám.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Uspořádání společnosti 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je tak stále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složitější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do šířky i do hloubk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ějiny života i lidstva sestávají se stále častějších, rozsáhlejších a složitějších her s nenulovým součtem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Hromadění nenulových her je podstatou narůstání biologické i společenské složitosti-hromadění nenulovosti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Nenulovost dodáva hybnost základnímu směřování života na planetě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464653"/>
                </a:solidFill>
                <a:latin typeface="Calibri"/>
              </a:rPr>
              <a:t>Výskyt strategií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Člověk se obvykle vyskytuje v prostředí, které mu je "přirozené", tedy mezi obdobnými strategiemi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Hrozba infiltra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I zdánlivě slepý přírodní výběr přitom "odměňuje" entity, které jsou oproti svému okolí schopné lepšího zpracování informací. Čím lepší zpracování informací, tím blíže ke K strategii a tím větší je opět prostor pro altruismu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464653"/>
                </a:solidFill>
                <a:latin typeface="Calibri"/>
              </a:rPr>
              <a:t>ZMATEK DNEŠNÍ DOBY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rahová období-vývoj skočí z rovnovážného stavu na  vyšší úroveň rovnováh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K tomu dochází i dn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Wright uznává že rostouci zmatek je znamenim rozhodného kroku v postupu toho, co můžeme nazvat osudem svět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nstantia"/>
              </a:rPr>
              <a:t>Osudem našeho druhu je VYBRAT SI!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53"/>
                </a:solidFill>
                <a:latin typeface="Calibri"/>
              </a:rPr>
              <a:t>Použitá literatura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avel Houser / Vzpoura genů : od velkého třesku k umělé inteligenci . -- 1. vyd.. -- Praha : IDG Czech, 2003. -- 127 s., [16] s. barev. obr. příl. :. ISBN: 80-86304-99-X (brož.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Robert Wright / Logika lidského osudu -- 1. vyd.. -- Praha : Lidové noviny, 2000. –356 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http://www.scienceworld.cz , nahlédnuto 4.10.200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0:57:50Z</dcterms:created>
  <dc:creator>Zou</dc:creator>
  <dc:description/>
  <dc:language>en-US</dc:language>
  <cp:lastModifiedBy>Zou</cp:lastModifiedBy>
  <dcterms:modified xsi:type="dcterms:W3CDTF">2008-10-06T12:43:12Z</dcterms:modified>
  <cp:revision>2</cp:revision>
  <dc:subject/>
  <dc:title>Evoluce jako hra s nenulovým součtem</dc:title>
</cp:coreProperties>
</file>