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B66-51DC-42BD-ABA1-1E897162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481-2A86-42B7-A33A-14669FF8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0F3-4619-4DC8-863F-B1757994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8D7-C331-4BE6-BD8F-5695571D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DD42-8093-4334-9E2A-47EAA2BF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A54E-7DBA-42DB-B796-D0BC782B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B810-ACB1-49A2-A5A7-01862B51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FB0B-268A-4429-B53C-989BEB66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C029-14C7-409A-91E4-A78B019E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D7F3-A1B4-4947-924E-3062F54A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07B4-5E6B-400C-AB02-FADEB94C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1C9-D0EF-4AD3-8F8F-45A1CD59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DA8E-68B0-4CC3-8FC5-9D6D1972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70B7-ABE1-4860-B731-477FE6F5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0E19-D218-4E05-8CCE-D63316C5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B459-B34B-4BF7-AC3D-D6C6B644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049E-2DB1-46D5-A0CA-03A67AE2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975-DB0B-452E-A155-A705A63F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FCA-F843-46DB-B995-254156E0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A2D-E79E-4765-90DC-665B6527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D3D-595C-4ABD-8A10-DE94FDD3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23C-4C6C-483F-959B-2C14B1F3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A17-C259-4AEA-91F9-C6B87EE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FB0-1D11-4144-A06B-C6C65EF5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C1D1-7F50-4F4F-8989-87F2FD6B4CAE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2E6B-5AD4-4EAB-99F9-62AA2505A585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ff66"/>
                </a:solidFill>
                <a:latin typeface="Arial Black"/>
              </a:rPr>
              <a:t>Zrod a vývoj kapitalismu jako fenoménu industriální společnosti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920"/>
            <a:ext cx="44956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Simona Doubk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Petra Krup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Lenka Valent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16.10.2008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ismus a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Kapitalisté a podnikatelé jsou většinou protestan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č? K získání hospodářských funkcí je třeba kapitál a nákladné vzděl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Řada bohatých měst se v 16. století přiklonila k protestantstv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i prokazují sklon k ekonomickému racional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tolic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ása za pomocí církve a svátos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obré skutky příležitostně – k odčinění hřích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k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ednotlivé skutky (dobré a špatné) se člověku připočítávaly a pak ovlivňovaly jeho věčný osud (úhrnné saldo život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skeze mnišská v klášter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lvin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Učení o vyvolenosti (predestina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Žádný kazatel ani svátost nejsou prostředky k získání milosti 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pomůže ani církev, ale naopak - kdo do církve nevstoupí, nemůže být vyvolený ke spás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lze poznat, kdo je vyvolený a kdo zavrž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Jako prostředek k dosažení žádoucího vědomí se doporučuje neúnavně pracovat v povolán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kus rozšířit askezi do všedního života (nejen v klášterech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ystematické chování (metodisté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ovolání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kud člověk nemá pevné povolání, těká v příležitostné práci, utrácí víc času v lenošení než v dílu.“ [R. Baxter: Christian Directory]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Životu bez povolání chybí systematičnost, metodičnost, což žádá světská aske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Užitečnost povolání se měří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mravní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důležitosti produkovaných statků pro „celek“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soukromohospodářské výnosnosti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volání =&gt; Bohatství – pro Boha, nesmí svádět k hříšným požitkům a povalová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412"/>
              </a:spcAft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dpora výdělečné činnosti a zisku, ale zároveň světská askeze, která bránila užívání majetku =&gt; to vedlo k akumulaci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ská etika a tržní hospodářství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077000" cy="426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Gerhard Wilhelm (William) Dit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r. 1917 v Pra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W II – emigrace do   US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americký sociolog a ekonom českorakouského původ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2 proměnné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ávisle proměnná – etika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                                      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dle Weber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ávisle proměnná – ekonomické ch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moderní tržní hospodářství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jen s přijetím kalvin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480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ccff66"/>
                </a:solidFill>
                <a:latin typeface="Arial Black"/>
              </a:rPr>
              <a:t>Středověk vs. kalvinismus</a:t>
            </a:r>
            <a:endParaRPr b="0" lang="en-US" sz="33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9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král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aris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vlastní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meri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mezení spotřeb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sketismus a maximalizace výroby (zisku)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abuizace úro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ůraz na spoření a investován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áce - trest bož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„</a:t>
                      </a: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ovolání“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11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uza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te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ritika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arx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žádná podpora pro dělnickou třídu (masy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louhodobá neudržitelnos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erkantil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ohled krále a církve nad obchodník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nestabilní a institucionálně zranitelný systé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Obsah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Arial"/>
              </a:rPr>
              <a:t>Protestantská etika a duch kapitalismu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(M.Weber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ská etika a tržní hospodářství (W.G.Ditz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Úpade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adluž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aměstnano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tátní zásah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ůraz na lidská práv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Literatura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WEBER, M.  Protestantská etika a duch kapitalismu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DITZ, W. G.  Protestantská etika a tržní hospodářství. 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HINDLS, R., HOLMAN, R., HRONOVÁ, S. a kol. Ekonomický slovník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SIRŮČEK, P. a  kol. Hospodářské dějiny a  ekonomické teorie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95280" y="83664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Děkujeme za pozornost!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ojem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lečenský a ekonomický řád, charakterizovaný soukromým vlastnictvím, tržní koordinací ekonomických činností a námezdními vztahy mezi vlastníky kapitálu a pracovníky. </a:t>
            </a: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(Ekonomický slovník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rod v 16. stol. – raný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hrazuje dosavadní feudální systé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Od feudalismu ke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Feudalismus: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hlavní role: zemědělství – soběstačnos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směna jen omezeného okruhu výrobků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ný středověk: rozkvět měst – cechovní řemeslná výroba, trhy, městská práva a svobody a nové sociální vrstvy (řemeslníci a obchodní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stupný nárůst populace, zvyšující se poptávka po z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ozšiřování dělby práce a směny – roste význam peně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ámořské objevy – 15., 16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árůst vzdělanosti a náboženská reform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ný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ciální transformace – kapitalističtí podnikatelé (buržoazie) a námezdní dělnictv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ystém založený na kapitálu a námezdní prác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ces kolektivní akumulace – počáteční nahromadění kapitálu a odloučení výrobců od vlastnictví výrobních prostředků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Diferenciace hospodářského vývoje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rovnoměrný vývoj v různých částech Evrop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ápadní Evr. rychlejší a přímočařejší vývoj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- buržoazní revolu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ední Evr. v 16. a 17. st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astavení růstu měst a rozvoje prvků raného kapitalism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dodavatel zemědělských, lesnických a zčásti báňských produkt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– reformy shor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růmyslová revoluc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echod od ruční výroby v manufakturách k tovární strojní velkovýrobě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nglie v 2. pol. 18. stol. X méně vyvinuté časti Evr. v 2. pol. 19. sto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Kapitalismus volné konkurence (soutěže)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 60. a 70. léta 19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rosazování principů liberalismu do hospodářské politi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ušení omezení zahraničního obchodu - volný pohyb zboží, lidí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ždý občan mohl založit podni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labší podléhali silnější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oncentrace výroby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znik obchodních bank – roste objem úvěr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pitalistická společnost – 2 třídy: buržoazie (průmyslníci) a dělnictvo – sociální otáz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ff66"/>
                </a:solidFill>
                <a:latin typeface="Arial Black"/>
              </a:rPr>
              <a:t>Protestantská etika a duch kapitalismu</a:t>
            </a:r>
            <a:endParaRPr b="0" lang="en-US" sz="3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1864 - 1920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ěmecký sociolog a ekono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řazen mezi tzv. otce zakladatele sociologie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49400" y="1752480"/>
            <a:ext cx="3197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9:31:11Z</dcterms:created>
  <dc:creator>čtenář</dc:creator>
  <dc:description/>
  <cp:keywords/>
  <dc:language>en-US</dc:language>
  <cp:lastModifiedBy>172114</cp:lastModifiedBy>
  <dcterms:modified xsi:type="dcterms:W3CDTF">2008-10-15T15:07:35Z</dcterms:modified>
  <cp:revision>38</cp:revision>
  <dc:subject/>
  <dc:title>Zrod a vývoj kapitalismu jako fenoménu industriální společno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81029</vt:lpwstr>
  </property>
</Properties>
</file>