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5EB-4C64-45FC-A6B3-73A8C4BA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100-3B25-4AB1-9CDA-82BE9D91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7C6-DF07-40C6-8C97-8A00DD7B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30D-9259-487F-802C-2253F09B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92F5-93A1-44A3-94FB-51C1E66A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A29B-5531-4E02-B73E-F6672B32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966C-43E1-466F-B98E-CB997CAF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E8EF-D40D-4692-87B9-F073CBE6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F58F-2243-4296-B463-D130A93E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99F7-CFFB-4025-B728-476FBA6F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2535-C6DF-44AB-9234-262686D7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4FA-26E4-44C3-9A50-CC971C75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C9E0-9ABB-4D47-97DA-224D3B6E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15A5-C868-4743-BEC4-28C618D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3666-1235-4171-9EF9-78DC7661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D65D-F34C-4B52-83F0-82BEE855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2AD1-4CAF-4E79-A368-B9A609C2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B0D46-9787-4CCF-A9CA-BA2A4C6C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00BCD-47E1-469B-BA9B-ACD8BD09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50DB8-367F-49D0-A68C-A6FD6989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4ED01-EF80-41A9-9E1A-0E789E22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55B7F-4563-4D8C-8678-9170DC48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607-8A8C-4C6E-8B28-E7E0879E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8B78A-B259-46AE-9980-895AE094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5C9F4-A4D6-476A-A7F8-C236F32C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89DCF-595C-44B6-8BC8-092A7665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79648-60BD-4396-8BF5-FE24A62F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EDFC3-6E5E-46EF-800C-C5668835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1DFC1-569D-43C6-BA23-C17BDB97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A966A-ECAE-494D-B22C-53EFBA34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6C93-ED9E-4461-B4F6-CF227A27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3F92-FD3E-4256-9656-7B7AAE87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FAD7-4D4C-49BA-A145-693FC3E6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1EB-5500-450F-8B9C-862F0120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683E1-EDC0-4E0B-8BFE-F0DCCC4F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EC7F8-B906-45C5-A0C6-F7A0C1C9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B5A8-755C-4CA9-AD3C-7751481F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112EF-2E8C-4161-992D-183D2D7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0DDBB-F065-44F1-88B4-4103DEFE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65361-0CEA-4805-9337-C8A47C83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A922-9D9A-4DB6-8B05-65906114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B8C19-AC08-4B9B-BD08-B01BA498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DF601-BB1F-4CD1-96F0-B2425E10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1921D-7DB7-4166-A873-64AD7901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F07-2050-44DF-9FDA-042A17A0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43382-53A7-4DDE-8EC2-9915996B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FFBDE-048D-4487-9BD6-F091AFBC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8B80E-CC2C-4B42-8071-9E034CF0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5AD11-2FFC-4477-9FF7-91A1CBAB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60E82-D08D-4166-B69A-453AE7C5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1B678-D6EC-4EE2-B297-F172A24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B9CB8-5134-476C-A8AD-B4ECF96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FBF2D-B299-4C51-ABBB-65DBD605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B56A7-19D1-4432-84E2-4D9F0D8A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95B59-9E5F-427A-AF95-C63DCF21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1D2-21DC-41C2-A8AB-20E5B574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BEF95-B990-4141-BB89-5E23D966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BD790-D3B2-466A-A5B5-8EBD0C3E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4C42F-EBF4-4848-98FF-352F4257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C2056-DC2D-4B42-9494-5EC36A69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E57E2-770B-45BB-ACDF-B6C35B14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7DCAF-4997-4FBD-B310-1F4AFDA3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60B7B1-BA1F-4D23-A06A-E9670D48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78D3E-7640-42D9-B170-0F44EA06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EB564-C779-4010-8745-F35DFBD7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C9626-D25D-4A99-927B-3AA6AC13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5B1-EF40-4C0A-B1A0-835A885A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3C1D9-7413-4C80-BBF7-731B27EB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7918A-4495-4CB9-889F-84F77297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ACDFD-9A1A-4CFC-B320-913BCEF0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6DA90-EBFD-4B63-819E-58A7199B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F4673-BFA1-4531-8BE4-51B6FE85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DBF03-9C07-4BE8-AA1A-6058157B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FEEE9-FC35-41DE-9D4B-18BA844E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8A6D0-3CCC-4C50-A590-2A800D1F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95EC2-AD05-4A5E-AE81-617B4069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9CB44-D5AA-496F-98C7-89089382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003-0BA5-4396-9A01-AC158131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9873B-25B4-41DD-A041-37474A3C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755E8-F3F2-4CDE-B60D-EAB73B7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2425A-A8B0-4550-84FA-C403C0FC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0BB61-6ECC-4EF8-BF4E-04B9969A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F45B7-88B1-431B-B7D6-E1CAAB17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342-3CF8-412D-B0B7-B96929A1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4185-4E9D-4C80-84B1-7854FC6B7F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62A6-B589-4F60-B40A-3CFEEB0A8F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CD72-6634-414E-B81A-EB701847A5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85B2-928C-4740-9651-6E4135B5E8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348A-8E5B-4624-965D-762590C28B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3CD2-5DC2-47A3-A149-B0403FA15C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05F8-D597-4464-9A2E-5182E4D089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alibri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, 284 str., ISBN 8020801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Calibri"/>
              </a:rPr>
              <a:t>Děkujeme za pozornost</a:t>
            </a: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 + D Meadow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ndence k překmit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vale udržitelný společ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ysy restrukturalizace světového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ystém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: Trvalá udržitel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Lucie</cp:lastModifiedBy>
  <dcterms:modified xsi:type="dcterms:W3CDTF">2008-10-13T20:48:59Z</dcterms:modified>
  <cp:revision>21</cp:revision>
  <dc:subject/>
  <dc:title>Třetí vlna a její důsledky</dc:title>
</cp:coreProperties>
</file>