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D997-99FA-4295-B72C-757F9BAE08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0D51-878A-47EA-9A34-23B5531E60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CA1-DE99-4D9B-9028-A85050FCD8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AD4F-221D-4AA5-B2B0-1A164CE222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9766-DD1E-42F9-9086-8257820450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6BF1-F372-4C05-B069-C544C8D0E7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D216-58C8-41C6-BFA5-EBEE07E07C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9A3A-047B-4BA9-9375-B32A3A99BB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ACD6-07F7-4B3D-BEFE-72D316B9A9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6DF1-D5EA-476C-9C83-BC0589416C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EA05-D74B-4172-B6E9-C12A4AE5AC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37E3-564B-41D4-A093-18B42DB6C6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F611-0B12-4ECA-B962-716C96A0E4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786-FC68-45C3-BDB9-8FDB0F09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B59-D99B-4A4C-B79A-BB672F0E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EE5-B0D3-449C-A323-1C75FF63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710-E121-48E8-8C56-D547D64B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D4F3-73F1-4C47-9662-62E7B37E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AE76-5CDD-4C76-843F-2A73287B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988F-B3FE-4FF1-947C-7873D7DB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0E07-581C-4C0A-B6AE-6E0C77B8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1189-A09D-4C32-B25D-79656C63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595F-4938-46F7-BABA-3EDB2920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CCB4-4F35-4C26-BA12-DBE128FD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124-2990-4F48-BB40-9DBA8860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1682-C95A-4C13-B8E1-07A520F1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45A3-088F-44CA-A5C0-1C1EF16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7D1F-92FA-471F-99DC-56DC4588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91F-6820-4151-A408-67D524DD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CAD3-221B-42F4-81C3-663CD3CC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0D4-4869-49DE-B8C6-6442BC7A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EB7-572A-4357-91A0-F0C8116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FCF-97E6-4D2C-9ECA-23D61D81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462-9BC2-47AB-9B4F-E694B79D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A15-1CA1-4FB7-9C74-20B50F59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ABF-61FD-4826-8B41-4D1B9E1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8F0-7F09-451A-8443-64D0BEC7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52C-3924-457E-8CCF-A732754E83A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A5C-53B6-4439-BE93-FDE4B039362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8920" y="5013000"/>
            <a:ext cx="32720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Hana Drozd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ára Ottich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EMOKRACIE PRO 21. STOLET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á demokracie (reprezentace a sebeprez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a decize (delegace práva rozhodov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chází generace „tvořen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FFLER, A., TOFFLEROVÁ, H. Nov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ivi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raha : Dokořán 2001. ISBN 80-86569-00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VIN A HEIDI TOFFLER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, korespondent Bílého domu, nositel čestných doktorátů v oboru právu, humanitních a přídorních věd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eidi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ka, nositelka četných vyznamená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olupracují s několika předními politiky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ROČ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vlna - „zemědělská“ revoluce (zhruba před 10 000 le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vlna - „průmyslová“ revoluce (od 18.stole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vlna - „informační“ revoluce (v USA od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55 - v USA počet bílých límečků poprvé v dějinách převýšil počet modrých límeč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stále zrychlující se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O JE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té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“továrnu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 (delegace pravomo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 nebo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Návrat k rod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ŘETÍ VLNA PODROBNĚ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ní faktory: po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hmotné hodnot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získávat, generovat, distribuovat a aplikovat poznatky (nehmot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asifikace: demasifikace celé společnosti (diverzita produktů, segmentace tr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řeba kvalifikovaných lidí, růst požadavků, rekvalifikace, soukromé VŠ, personální ag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ovace: pro soutěž nezbytná neustálá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ítko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struktury, nové typy podniků (joint-venture, holdingy), orientace na proc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ová integrace a infrastruktura: elektronická komunikace, nové formy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ychlení: místo úspor z rozsahu úspory z rych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 TOHO PL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zaměnitelnosti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un od kvantitativní ke kvalitativní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nik čistě manuální práce, vznik kognitari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dělení ekonomiky na sektory, rozpad profesních kateg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menší počet inteligentnějších pracovních 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L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otní konflikt: civilizace první vlny X civilizace druhé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nes: střet civilizací první, druhé a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ě střet mezi druhou a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91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OCIALISMUS DOPLATIL NA STŘET DRUHÉ A TŘETÍ VL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“Hardware” x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důsledkem aktuálního střetu druhé a třetí vlny v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en tábor chce zachovat nukleární rodinu, masové vzdělávání, obří korporace, masové odbory, centr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je pravým opakem (liberalizace, důraz na I + D, decentralizace, informace, poznání, nové typy rod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asifikace volič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10:12Z</dcterms:created>
  <dc:creator>Klára</dc:creator>
  <dc:description/>
  <dc:language>en-US</dc:language>
  <cp:lastModifiedBy>KRI</cp:lastModifiedBy>
  <dcterms:modified xsi:type="dcterms:W3CDTF">2008-10-15T22:00:01Z</dcterms:modified>
  <cp:revision>11</cp:revision>
  <dc:subject/>
  <dc:title>Třetí vlna a její důsledky</dc:title>
</cp:coreProperties>
</file>