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939C-FC60-49BB-AA7F-292182C1A45A}"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cs.wikipedia.org/wiki/Liberalismus" TargetMode="External"/><Relationship Id="rId2" Type="http://schemas.openxmlformats.org/officeDocument/2006/relationships/hyperlink" Target="http://cs.wikipedia.org/wiki/Libertarianismus"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belova cena - za průkopnickou práci v teorii peněz a ekonomických kolísaní a za pronikavou analýzu vzájemné závislosti ekonomických, společenských a institucionálních jev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Rakouská škola</a:t>
            </a:r>
            <a:r>
              <a:rPr b="0" lang="cs-CZ" sz="1200" spc="-1" strike="noStrike">
                <a:solidFill>
                  <a:srgbClr val="000000"/>
                </a:solidFill>
                <a:latin typeface="Arial"/>
              </a:rPr>
              <a:t> je svébytná škola ekonomického myšlení, jejíž vliv však zasahuje i do jiných vědeckých oblastí, do filozofie, historie a práva a představuje tak ve společenských vědách ucelený myšlenkový proud. Od ostatních ekonomických škol myšlení se odlišuje zejména svou metodologií, jejíž podstatou je analýza lidského jednání a striktní využívání deduktivní logiky. Zároveň odmítá využívání metod přírodních věd v oblasti ekonomie. V současnosti je alternativním proudem k hlavnímu ekonomickému proudu představovaného </a:t>
            </a:r>
            <a:r>
              <a:rPr b="0" i="1" lang="cs-CZ" sz="1200" spc="-1" strike="noStrike">
                <a:solidFill>
                  <a:srgbClr val="000000"/>
                </a:solidFill>
                <a:latin typeface="Arial"/>
              </a:rPr>
              <a:t>neoklasickou syntézou</a:t>
            </a:r>
            <a:r>
              <a:rPr b="0" lang="cs-CZ" sz="1200" spc="-1" strike="noStrike">
                <a:solidFill>
                  <a:srgbClr val="000000"/>
                </a:solidFill>
                <a:latin typeface="Arial"/>
              </a:rPr>
              <a:t>. Její představitelé se řadí k </a:t>
            </a:r>
            <a:r>
              <a:rPr b="0" lang="cs-CZ" sz="1200" spc="-1" strike="noStrike" u="sng">
                <a:solidFill>
                  <a:srgbClr val="009999"/>
                </a:solidFill>
                <a:uFillTx/>
                <a:latin typeface="Arial"/>
                <a:hlinkClick r:id="rId1"/>
              </a:rPr>
              <a:t>liberalismu</a:t>
            </a:r>
            <a:r>
              <a:rPr b="0" lang="cs-CZ" sz="1200" spc="-1" strike="noStrike">
                <a:solidFill>
                  <a:srgbClr val="000000"/>
                </a:solidFill>
                <a:latin typeface="Arial"/>
              </a:rPr>
              <a:t> či </a:t>
            </a:r>
            <a:r>
              <a:rPr b="0" lang="cs-CZ" sz="1200" spc="-1" strike="noStrike" u="sng">
                <a:solidFill>
                  <a:srgbClr val="009999"/>
                </a:solidFill>
                <a:uFillTx/>
                <a:latin typeface="Arial"/>
                <a:hlinkClick r:id="rId2"/>
              </a:rPr>
              <a:t>libertarianismu</a:t>
            </a:r>
            <a:r>
              <a:rPr b="0" lang="cs-C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Instinkty byly uzpůsobeny životu v malých kočujících skupinách a tlupách, k nimž vývoj lidského druhu dopěl za dobu svého vývoje. Proti spontánnímu řádu, který zde nazývá rozšířený řád, staví řád nepoměrně starší, jehož vztahy a soudržnost jsou založeny na lidských instinktech, zejména na </a:t>
            </a:r>
            <a:r>
              <a:rPr b="1" lang="cs-CZ" sz="1000" spc="-1" strike="noStrike">
                <a:solidFill>
                  <a:srgbClr val="000000"/>
                </a:solidFill>
                <a:latin typeface="Arial"/>
              </a:rPr>
              <a:t>solidaritě a altruismu </a:t>
            </a:r>
            <a:r>
              <a:rPr b="0" lang="cs-CZ" sz="1000" spc="-1" strike="noStrike">
                <a:solidFill>
                  <a:srgbClr val="000000"/>
                </a:solidFill>
                <a:latin typeface="Arial"/>
              </a:rPr>
              <a:t>(Ohled na prospěch druhého). Jen tímto způsobem mohli členové malých skupin uhájit svou existenci – osamocený člověk by záhy zahynu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Hayek se termínem Sociální spravedlnost zabýval a odmítl jej uznat za správnou zásadu lidského chování. S pojmem instinkt souvisí následovně: Podle Hayeka je spravedlnost něčím, co platí pro lidské chování, když se očekává jisté jednání, které je možné si zvolit. Když se někdo narodí postižený, nebo onemocní, nejde o „nespravedlnost“, ale o neštěstí. V životě to tak chodí a nemá to nic společného se spravedlivým nebo nespravedlivým jednáním. Naopak „sociální spravedlnost“ vyjadřuje, že existuje jiný způsob rozdělování příjmů, který má být spravedlivější. Můžeme říct, že se jedná o přerozdělování, které má ulehčit lidem, kterým se stalo neštěstí, což je jednání, které je ve shodě právě s našimi instinkty. Člověk má potřebu se chovat solidárně a od svých bližních taktéž toto chování očekává. Ale Hayek tvrdí, že právě pro rozšířený řád, který funguje na principu konkurence, nelze solidárnost uplatňovat v míře, jaké jsme zvyklí například v rodině. Je to právě proto, že v konkurenční společnosti určuje kombinace schopnosti a právě i štěstí a neštěstí jednotlivců místo v řebříčku příjmů a bohatství.</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Hayek tvrdí, že lidstvo dospělo k civilizaci tím, že rozvíjelo a učilo se dodržovat pravidla, která člověku často zakazovalo to, co po něm chtěly jeho instinkty. Nelze jednat se všemi lidmi jako se svými bližními. V takové společnosti by rozšířený řád nikdy nemohl vyrůst. Ti, kteří dnes žijí, mají prospěch z toho, že spolu nezacházejí jako se svými bližními a že ve vzájemných vztazích uplatňují pravidla jako jsou pravidla odděleného vlastnictví a smlouvy, místo pravidel solidarity a altruism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um pomáchá poznávat spíše jednoduchá fakta (oblast fyzikálních jevů). Pokud však pracujeme s nepřeberným množstvím proměnných, tak jako je tomu například při zkoumání společenských systémů, nutně naráží i věda na nemožnost obsáhnout všechna potřebná fakta, která jsou obvykle rozptýlena ve zlomkovitých znalostech miliónů jednotlivců a závisí pak možná na miliardách proměnných, jež nikdy svým rozumem nemůžeme obsáhnout. </a:t>
            </a:r>
            <a:r>
              <a:rPr b="0" i="1" lang="cs-CZ" sz="1200" spc="-1" strike="noStrike">
                <a:solidFill>
                  <a:srgbClr val="000000"/>
                </a:solidFill>
                <a:latin typeface="Arial"/>
              </a:rPr>
              <a:t>Tyto rozptýlené znalosti dokáže zužitkovat, jak si první uvědomil Adam Smith, právě tr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dobně Hayek hovoří o domýšlivosti lidského rozumu, ve který, aniž si uvědomujeme jeho meze, často slepě věříme . To se projevuje zejména v naší ambici řídit společenské systémy (jako jsou ekonomika či stát) stejným způsobem, jako by se jednalo o organizace typu armády, podniku nebo domácnosti. Jediná (racionalistova) mysl může řídit společnost pouze minimální velikosti a složit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třeba ukázat, že se civilizace a myšlení vyvíjely a rozvíjely souběžně. Hayek tvrdí, že je nemožné, aby náš rozum, který byl tvořen v průběhu evoluce, by měl určovat svoji vlastní budoucí evoluci. Hayek tedy kritizuje vědce, kteří tvrdí, že společnost se dostala do stádia, kdy je tak složitá, že musí být plánována, tedy kritizuje myšlenku že by měl rozum řídit budoucí vývoj. Skutečnost je taková, že neplánované společnosti jsou schopné mnohem větší složitosti než jakákoliv plánovaná organiz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še morální zvyklosti nejsou ani instinktivní, ani rozumem vytvořené, ale tvoří samostatnou tradici „mezi instinktem a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radice nám umožňuje přizpůsobit se problémům a okolnostem dalece přesahujícím obzor našeho rozum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uznává tradici proto, že tradice - a vše, co je s ní spojené - dovede pomáhat našemu nedokonalému rozumu na cestě k „objevování“ svobody, resp., že je dobrým základem pro fungování svobodného, </a:t>
            </a:r>
            <a:r>
              <a:rPr b="0" i="1" lang="cs-CZ" sz="1200" spc="-1" strike="noStrike">
                <a:solidFill>
                  <a:srgbClr val="000000"/>
                </a:solidFill>
                <a:latin typeface="Arial"/>
              </a:rPr>
              <a:t>spontánního</a:t>
            </a:r>
            <a:r>
              <a:rPr b="0" lang="cs-CZ" sz="1200" spc="-1" strike="noStrike">
                <a:solidFill>
                  <a:srgbClr val="000000"/>
                </a:solidFill>
                <a:latin typeface="Arial"/>
              </a:rPr>
              <a:t> řádu, v kterémžto (a pouze v tomto) uspořádání dojdeme nejlépe ku svobodě a rozvoji lidské exis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tvrdí, že významnou úlohu v našem společenském životě hraje poznání, a to i takové poznání, které nelze zaznamenat například do knih. Jedná se o například o uznávané zvyky jako „čestné chování“ nebo „smysl pro spravedlnost“. Jsou to zvyky, emocionální postoje a gesta, které nemusíme chápat nebo vysvětlovat jejich význam pro společnost, jednoduše se jimi řídíme a pomáhají nám spolupracovat. Vidíme, jak fungují v našem každodenním životě. Tyto nástroje jsou podle Hayeka výsledkem zkušeností po sobě jdoucích generací. Moderní společenský život zábisí na tom, že naše jednání se řídí určitými pravidly. Tato pravidla se nedodržují kvůli dosáhnutí nějakého konkrétního výsledku, ale jsou rámcem, který zpřístupňuje společenský život. Umožňují nám spolupracovat s jinými, cizími lidmi, bez toho, abychom museli u každého jednotlivého setkání dlouze přemýšlet, jak máme jedn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založen na pravidlech, která se postupně vytvořila, přičemž tato pravidla, jimiž se lidé řídí (musí řídit) mohou být i v rozporu s původními instinkty (Blažek syla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šířený řád nebyl výsledkem plánu či záměru, ale vznikl spontánně.</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šířený řád vznikl zejména díky pravidlům lidského chování, která se předávají spíše tradicí, učením a nápodobou než dědictvím instinktů. Instituce ekonomiky a sociálního života jsou výsledkem lidského snažení, nejsou však produktem lidského záměru či plánování. Naopak instituce, které formují společnost, vznikají velmi spontánně, když se lidé střetávají a obchodují.</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dobně jako se děti učí jazyku a nejrůznějším výrazům, které nikdy před tím neslyšely, učí se podle Hayeka každý z nás spoustě postupů, tak jak to známe z přijímání různých zvyků, mravů či práva a vůbec většiny dovedností. Tato pravidla či dovednosti známe a umíme je používat, avšak často si jejich znalost ani neuvědomujeme a neumíme je ani vysvětlit. Podobným (víceméně nevědomým) způsobem vznikly dle Hayeka takové společenské instituce jako jsou právo, jazyk, morálka či trh nebo také peníze, písmo či náboženství nebo zákon. A právě vývoj všech těchto institucí by se bezpochyby těžko obešel bez kontinuity spočívající právě v respektu k tradicím.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ovi kritici zdůrazňují, že jeho filozofie je postavena na opovržení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svědčení o schopnosti rozumu poznávat realitu a být naším suverénním vodítkem k racionálnímu, morálnímu, a tudíž úspěšnému praktickému jednání, považuje Hayek za osudnou domýšliv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se zde dopouští zásadních omylů. Vědomí člověka, jako rozumová </a:t>
            </a:r>
            <a:r>
              <a:rPr b="0" i="1" lang="cs-CZ" sz="1200" spc="-1" strike="noStrike">
                <a:solidFill>
                  <a:srgbClr val="000000"/>
                </a:solidFill>
                <a:latin typeface="Arial"/>
              </a:rPr>
              <a:t>schopnost</a:t>
            </a:r>
            <a:r>
              <a:rPr b="0" lang="cs-CZ" sz="1200" spc="-1" strike="noStrike">
                <a:solidFill>
                  <a:srgbClr val="000000"/>
                </a:solidFill>
                <a:latin typeface="Arial"/>
              </a:rPr>
              <a:t>, je nepochybně výsledkem </a:t>
            </a:r>
            <a:r>
              <a:rPr b="0" i="1" lang="cs-CZ" sz="1200" spc="-1" strike="noStrike">
                <a:solidFill>
                  <a:srgbClr val="000000"/>
                </a:solidFill>
                <a:latin typeface="Arial"/>
              </a:rPr>
              <a:t>biologické </a:t>
            </a:r>
            <a:r>
              <a:rPr b="0" lang="cs-CZ" sz="1200" spc="-1" strike="noStrike">
                <a:solidFill>
                  <a:srgbClr val="000000"/>
                </a:solidFill>
                <a:latin typeface="Arial"/>
              </a:rPr>
              <a:t>evoluce, na jejímž vrcholu stojí člověk. Není však výsledkem žádné kulturní evoluce ani žádným kulturním dědictvím. Vědomí je schopností člověka specifickým způsobem vnímat to, co existuje. Vědomí </a:t>
            </a:r>
            <a:r>
              <a:rPr b="0" i="1" lang="cs-CZ" sz="1200" spc="-1" strike="noStrike">
                <a:solidFill>
                  <a:srgbClr val="000000"/>
                </a:solidFill>
                <a:latin typeface="Arial"/>
              </a:rPr>
              <a:t>je </a:t>
            </a:r>
            <a:r>
              <a:rPr b="0" lang="cs-CZ" sz="1200" spc="-1" strike="noStrike">
                <a:solidFill>
                  <a:srgbClr val="000000"/>
                </a:solidFill>
                <a:latin typeface="Arial"/>
              </a:rPr>
              <a:t>atributem, který je člověku přirozeně dán, bez ohledu na to, zda vůbec nebo v jaké míře absorbuje kulturní dědictví. Je schopností poznávat realitu, je vnímáním toho, co existuje nezávisle na něm. </a:t>
            </a:r>
            <a:r>
              <a:rPr b="0" i="1" lang="cs-CZ" sz="1200" spc="-1" strike="noStrike">
                <a:solidFill>
                  <a:srgbClr val="000000"/>
                </a:solidFill>
                <a:latin typeface="Arial"/>
              </a:rPr>
              <a:t>Schopnost smyslově vnímat </a:t>
            </a:r>
            <a:r>
              <a:rPr b="0" lang="cs-CZ" sz="1200" spc="-1" strike="noStrike">
                <a:solidFill>
                  <a:srgbClr val="000000"/>
                </a:solidFill>
                <a:latin typeface="Arial"/>
              </a:rPr>
              <a:t>a </a:t>
            </a:r>
            <a:r>
              <a:rPr b="0" i="1" lang="cs-CZ" sz="1200" spc="-1" strike="noStrike">
                <a:solidFill>
                  <a:srgbClr val="000000"/>
                </a:solidFill>
                <a:latin typeface="Arial"/>
              </a:rPr>
              <a:t>přemýšlet </a:t>
            </a:r>
            <a:r>
              <a:rPr b="0" lang="cs-CZ" sz="1200" spc="-1" strike="noStrike">
                <a:solidFill>
                  <a:srgbClr val="000000"/>
                </a:solidFill>
                <a:latin typeface="Arial"/>
              </a:rPr>
              <a:t>má člověk bez ohledu na kulturu, v níž žije. Výsledkem kulturní evoluce je </a:t>
            </a:r>
            <a:r>
              <a:rPr b="0" i="1" lang="cs-CZ" sz="1200" spc="-1" strike="noStrike">
                <a:solidFill>
                  <a:srgbClr val="000000"/>
                </a:solidFill>
                <a:latin typeface="Arial"/>
              </a:rPr>
              <a:t>kumulace </a:t>
            </a:r>
            <a:r>
              <a:rPr b="0" lang="cs-CZ" sz="1200" spc="-1" strike="noStrike">
                <a:solidFill>
                  <a:srgbClr val="000000"/>
                </a:solidFill>
                <a:latin typeface="Arial"/>
              </a:rPr>
              <a:t>lidského poznání, </a:t>
            </a:r>
            <a:r>
              <a:rPr b="0" i="1" lang="cs-CZ" sz="1200" spc="-1" strike="noStrike">
                <a:solidFill>
                  <a:srgbClr val="000000"/>
                </a:solidFill>
                <a:latin typeface="Arial"/>
              </a:rPr>
              <a:t>nikoli </a:t>
            </a:r>
            <a:r>
              <a:rPr b="0" lang="cs-CZ" sz="1200" spc="-1" strike="noStrike">
                <a:solidFill>
                  <a:srgbClr val="000000"/>
                </a:solidFill>
                <a:latin typeface="Arial"/>
              </a:rPr>
              <a:t>schopnost lidského poznání, tj. nikoli rozumová (tj. pojmová) schopnost poznáv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ovi kritici zdůrazňují, že jeho filozofie je postavena na opovržení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svědčení o schopnosti rozumu poznávat realitu a být naším suverénním vodítkem k racionálnímu, morálnímu, a tudíž úspěšnému praktickému jednání, považuje Hayek za osudnou domýšliv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se zde dopouští zásadních omylů. Vědomí člověka, jako rozumová </a:t>
            </a:r>
            <a:r>
              <a:rPr b="0" i="1" lang="cs-CZ" sz="1200" spc="-1" strike="noStrike">
                <a:solidFill>
                  <a:srgbClr val="000000"/>
                </a:solidFill>
                <a:latin typeface="Arial"/>
              </a:rPr>
              <a:t>schopnost</a:t>
            </a:r>
            <a:r>
              <a:rPr b="0" lang="cs-CZ" sz="1200" spc="-1" strike="noStrike">
                <a:solidFill>
                  <a:srgbClr val="000000"/>
                </a:solidFill>
                <a:latin typeface="Arial"/>
              </a:rPr>
              <a:t>, je nepochybně výsledkem </a:t>
            </a:r>
            <a:r>
              <a:rPr b="0" i="1" lang="cs-CZ" sz="1200" spc="-1" strike="noStrike">
                <a:solidFill>
                  <a:srgbClr val="000000"/>
                </a:solidFill>
                <a:latin typeface="Arial"/>
              </a:rPr>
              <a:t>biologické </a:t>
            </a:r>
            <a:r>
              <a:rPr b="0" lang="cs-CZ" sz="1200" spc="-1" strike="noStrike">
                <a:solidFill>
                  <a:srgbClr val="000000"/>
                </a:solidFill>
                <a:latin typeface="Arial"/>
              </a:rPr>
              <a:t>evoluce, na jejímž vrcholu stojí člověk. Není však výsledkem žádné kulturní evoluce ani žádným kulturním dědictvím. Vědomí je schopností člověka specifickým způsobem vnímat to, co existuje. Vědomí </a:t>
            </a:r>
            <a:r>
              <a:rPr b="0" i="1" lang="cs-CZ" sz="1200" spc="-1" strike="noStrike">
                <a:solidFill>
                  <a:srgbClr val="000000"/>
                </a:solidFill>
                <a:latin typeface="Arial"/>
              </a:rPr>
              <a:t>je </a:t>
            </a:r>
            <a:r>
              <a:rPr b="0" lang="cs-CZ" sz="1200" spc="-1" strike="noStrike">
                <a:solidFill>
                  <a:srgbClr val="000000"/>
                </a:solidFill>
                <a:latin typeface="Arial"/>
              </a:rPr>
              <a:t>atributem, který je člověku přirozeně dán, bez ohledu na to, zda vůbec nebo v jaké míře absorbuje kulturní dědictví. Je schopností poznávat realitu, je vnímáním toho, co existuje nezávisle na něm. </a:t>
            </a:r>
            <a:r>
              <a:rPr b="0" i="1" lang="cs-CZ" sz="1200" spc="-1" strike="noStrike">
                <a:solidFill>
                  <a:srgbClr val="000000"/>
                </a:solidFill>
                <a:latin typeface="Arial"/>
              </a:rPr>
              <a:t>Schopnost smyslově vnímat </a:t>
            </a:r>
            <a:r>
              <a:rPr b="0" lang="cs-CZ" sz="1200" spc="-1" strike="noStrike">
                <a:solidFill>
                  <a:srgbClr val="000000"/>
                </a:solidFill>
                <a:latin typeface="Arial"/>
              </a:rPr>
              <a:t>a </a:t>
            </a:r>
            <a:r>
              <a:rPr b="0" i="1" lang="cs-CZ" sz="1200" spc="-1" strike="noStrike">
                <a:solidFill>
                  <a:srgbClr val="000000"/>
                </a:solidFill>
                <a:latin typeface="Arial"/>
              </a:rPr>
              <a:t>přemýšlet </a:t>
            </a:r>
            <a:r>
              <a:rPr b="0" lang="cs-CZ" sz="1200" spc="-1" strike="noStrike">
                <a:solidFill>
                  <a:srgbClr val="000000"/>
                </a:solidFill>
                <a:latin typeface="Arial"/>
              </a:rPr>
              <a:t>má člověk bez ohledu na kulturu, v níž žije. Výsledkem kulturní evoluce je </a:t>
            </a:r>
            <a:r>
              <a:rPr b="0" i="1" lang="cs-CZ" sz="1200" spc="-1" strike="noStrike">
                <a:solidFill>
                  <a:srgbClr val="000000"/>
                </a:solidFill>
                <a:latin typeface="Arial"/>
              </a:rPr>
              <a:t>kumulace </a:t>
            </a:r>
            <a:r>
              <a:rPr b="0" lang="cs-CZ" sz="1200" spc="-1" strike="noStrike">
                <a:solidFill>
                  <a:srgbClr val="000000"/>
                </a:solidFill>
                <a:latin typeface="Arial"/>
              </a:rPr>
              <a:t>lidského poznání, </a:t>
            </a:r>
            <a:r>
              <a:rPr b="0" i="1" lang="cs-CZ" sz="1200" spc="-1" strike="noStrike">
                <a:solidFill>
                  <a:srgbClr val="000000"/>
                </a:solidFill>
                <a:latin typeface="Arial"/>
              </a:rPr>
              <a:t>nikoli </a:t>
            </a:r>
            <a:r>
              <a:rPr b="0" lang="cs-CZ" sz="1200" spc="-1" strike="noStrike">
                <a:solidFill>
                  <a:srgbClr val="000000"/>
                </a:solidFill>
                <a:latin typeface="Arial"/>
              </a:rPr>
              <a:t>schopnost lidského poznání, tj. nikoli rozumová (tj. pojmová) schopnost poznáv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154C2-60C3-4E0B-85F6-BB8AD6827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3B682-E3FF-4102-AD61-5B6334917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0293C-8931-4CEE-845C-07C86435E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3871D-E223-4F69-BE58-7EDC4D4F9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0E842-43ED-46BC-A900-593B732B0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FD45C-79B0-42B3-9024-381EBDABC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D9B4E-FCB3-4F1E-9B5F-918691451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76428-E293-4589-82C0-1FAD7B8D5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87492-8E5C-4D0A-9093-305735EE2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D5902-D3BE-4257-9FC1-978C9937F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13677-DC2E-454F-9459-8624F4937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188BE-02A0-40DD-A1EC-373B25F6A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99326-721F-457B-8DB4-B22CBFCB7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36309-C214-4E3B-A3AE-BC4465E7D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C6621-2B01-4E59-9AC2-36A2D0414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57E32-784C-478E-ACC4-8A1ECF1E0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43612-07A8-45F5-8A1C-A42FDB144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FC239-BA1E-4B45-98FE-9E5144B7D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26815-0C4D-48B1-9CC5-2F146AC01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F2FC5-6564-4FD7-A412-F8E4C57F8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70D80-B9C2-4739-86CB-88EDBA1F8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51CB3-7EA8-4DB4-AA85-9A264EBC7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1CAB5-BDF8-4656-A130-89BD22187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ABAFB-7FF9-4D1F-A904-ACDD65C28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225A-D8E9-4032-8879-016FF2C102DF}"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E6C2-FCA8-40A7-86C0-886226277A81}"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cs.wikipedia.org/wiki/F._A._Hayek" TargetMode="External"/><Relationship Id="rId2" Type="http://schemas.openxmlformats.org/officeDocument/2006/relationships/hyperlink" Target="http://cs.wikipedia.org/wiki/F._A._Hayek" TargetMode="External"/><Relationship Id="rId3" Type="http://schemas.openxmlformats.org/officeDocument/2006/relationships/hyperlink" Target="http://cs.wikipedia.org/wiki/F._A._Hayek" TargetMode="External"/><Relationship Id="rId4" Type="http://schemas.openxmlformats.org/officeDocument/2006/relationships/hyperlink" Target="http://cs.wikipedia.org/wiki/F._A._Hayek" TargetMode="External"/><Relationship Id="rId5" Type="http://schemas.openxmlformats.org/officeDocument/2006/relationships/hyperlink" Target="http://cs.wikipedia.org/wiki/F._A._Hayek" TargetMode="External"/><Relationship Id="rId6" Type="http://schemas.openxmlformats.org/officeDocument/2006/relationships/hyperlink" Target="http://cs.wikipedia.org/wiki/F._A._Hayek" TargetMode="External"/><Relationship Id="rId7" Type="http://schemas.openxmlformats.org/officeDocument/2006/relationships/hyperlink" Target="http://cs.wikipedia.org/wiki/F._A._Hayek" TargetMode="External"/><Relationship Id="rId8" Type="http://schemas.openxmlformats.org/officeDocument/2006/relationships/hyperlink" Target="http://cs.wikipedia.org/wiki/F._A._Hayek" TargetMode="External"/><Relationship Id="rId9" Type="http://schemas.openxmlformats.org/officeDocument/2006/relationships/hyperlink" Target="http://cs.wikipedia.org/wiki/F._A._Hayek" TargetMode="External"/><Relationship Id="rId10" Type="http://schemas.openxmlformats.org/officeDocument/2006/relationships/hyperlink" Target="http://cs.wikipedia.org/wiki/F._A._Hayek" TargetMode="External"/><Relationship Id="rId11" Type="http://schemas.openxmlformats.org/officeDocument/2006/relationships/hyperlink" Target="http://cs.wikipedia.org/wiki/F._A._Hayek" TargetMode="External"/><Relationship Id="rId12" Type="http://schemas.openxmlformats.org/officeDocument/2006/relationships/hyperlink" Target="http://cs.wikipedia.org/wiki/F._A._Hayek" TargetMode="External"/><Relationship Id="rId13" Type="http://schemas.openxmlformats.org/officeDocument/2006/relationships/hyperlink" Target="http://cs.wikipedia.org/wiki/F._A._Hayek" TargetMode="External"/><Relationship Id="rId14" Type="http://schemas.openxmlformats.org/officeDocument/2006/relationships/hyperlink" Target="http://cs.wikipedia.org/wiki/F._A._Hayek" TargetMode="External"/><Relationship Id="rId15" Type="http://schemas.openxmlformats.org/officeDocument/2006/relationships/hyperlink" Target="http://cs.wikipedia.org/wiki/F._A._Hayek" TargetMode="External"/><Relationship Id="rId16" Type="http://schemas.openxmlformats.org/officeDocument/2006/relationships/hyperlink" Target="http://cs.wikipedia.org/wiki/F._A._Hayek" TargetMode="External"/><Relationship Id="rId17" Type="http://schemas.openxmlformats.org/officeDocument/2006/relationships/hyperlink" Target="http://cs.wikipedia.org/wiki/F._A._Hayek" TargetMode="External"/><Relationship Id="rId18" Type="http://schemas.openxmlformats.org/officeDocument/2006/relationships/hyperlink" Target="http://cs.wikipedia.org/wiki/F._A._Hayek" TargetMode="External"/><Relationship Id="rId19" Type="http://schemas.openxmlformats.org/officeDocument/2006/relationships/hyperlink" Target="http://cs.wikipedia.org/wiki/F._A._Hayek" TargetMode="External"/><Relationship Id="rId20" Type="http://schemas.openxmlformats.org/officeDocument/2006/relationships/hyperlink" Target="http://cs.wikipedia.org/wiki/F._A._Hayek" TargetMode="External"/><Relationship Id="rId2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stinkty, rozum a rozšířený řád </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vel Brach</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a Sedláčková</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na Tomečkov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Zdroje</a:t>
            </a:r>
            <a:endParaRPr b="0" lang="en-US" sz="4200" spc="-1" strike="noStrike">
              <a:solidFill>
                <a:srgbClr val="000000"/>
              </a:solidFill>
              <a:latin typeface="Arial"/>
            </a:endParaRPr>
          </a:p>
        </p:txBody>
      </p:sp>
      <p:sp>
        <p:nvSpPr>
          <p:cNvPr id="115" name="PlaceHolder 2"/>
          <p:cNvSpPr>
            <a:spLocks noGrp="1"/>
          </p:cNvSpPr>
          <p:nvPr>
            <p:ph/>
          </p:nvPr>
        </p:nvSpPr>
        <p:spPr>
          <a:xfrm>
            <a:off x="539640" y="1904760"/>
            <a:ext cx="7994880" cy="426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Hayek, F. A.: </a:t>
            </a:r>
            <a:r>
              <a:rPr b="0" i="1" lang="cs-CZ" sz="3000" spc="-1" strike="noStrike">
                <a:solidFill>
                  <a:srgbClr val="000000"/>
                </a:solidFill>
                <a:latin typeface="Arial"/>
              </a:rPr>
              <a:t>Osudná domýšlivost, </a:t>
            </a:r>
            <a:r>
              <a:rPr b="0" lang="cs-CZ" sz="3000" spc="-1" strike="noStrike">
                <a:solidFill>
                  <a:srgbClr val="000000"/>
                </a:solidFill>
                <a:latin typeface="Arial"/>
              </a:rPr>
              <a:t>Praha, Slon 1995.</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Butler, E.: Hayek a jeho prínos k politickému a ekonomickému mysleniu dneška, Bratislava, Inštitút liberálnych štúdií, 1996.</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
              </a:rPr>
              <a:t>http://</a:t>
            </a:r>
            <a:r>
              <a:rPr b="0" lang="cs-CZ" sz="3000" spc="-1" strike="noStrike" u="sng">
                <a:solidFill>
                  <a:srgbClr val="006666"/>
                </a:solidFill>
                <a:uFillTx/>
                <a:latin typeface="Arial"/>
                <a:hlinkClick r:id="rId2"/>
              </a:rPr>
              <a:t>cs</a:t>
            </a:r>
            <a:r>
              <a:rPr b="0" lang="cs-CZ" sz="3000" spc="-1" strike="noStrike" u="sng">
                <a:solidFill>
                  <a:srgbClr val="006666"/>
                </a:solidFill>
                <a:uFillTx/>
                <a:latin typeface="Arial"/>
                <a:hlinkClick r:id="rId3"/>
              </a:rPr>
              <a:t>.</a:t>
            </a:r>
            <a:r>
              <a:rPr b="0" lang="cs-CZ" sz="3000" spc="-1" strike="noStrike" u="sng">
                <a:solidFill>
                  <a:srgbClr val="006666"/>
                </a:solidFill>
                <a:uFillTx/>
                <a:latin typeface="Arial"/>
                <a:hlinkClick r:id="rId4"/>
              </a:rPr>
              <a:t>wikipedia</a:t>
            </a:r>
            <a:r>
              <a:rPr b="0" lang="cs-CZ" sz="3000" spc="-1" strike="noStrike" u="sng">
                <a:solidFill>
                  <a:srgbClr val="006666"/>
                </a:solidFill>
                <a:uFillTx/>
                <a:latin typeface="Arial"/>
                <a:hlinkClick r:id="rId5"/>
              </a:rPr>
              <a:t>.</a:t>
            </a:r>
            <a:r>
              <a:rPr b="0" lang="cs-CZ" sz="3000" spc="-1" strike="noStrike" u="sng">
                <a:solidFill>
                  <a:srgbClr val="006666"/>
                </a:solidFill>
                <a:uFillTx/>
                <a:latin typeface="Arial"/>
                <a:hlinkClick r:id="rId6"/>
              </a:rPr>
              <a:t>org</a:t>
            </a:r>
            <a:r>
              <a:rPr b="0" lang="cs-CZ" sz="3000" spc="-1" strike="noStrike" u="sng">
                <a:solidFill>
                  <a:srgbClr val="006666"/>
                </a:solidFill>
                <a:uFillTx/>
                <a:latin typeface="Arial"/>
                <a:hlinkClick r:id="rId7"/>
              </a:rPr>
              <a:t>/</a:t>
            </a:r>
            <a:r>
              <a:rPr b="0" lang="cs-CZ" sz="3000" spc="-1" strike="noStrike" u="sng">
                <a:solidFill>
                  <a:srgbClr val="006666"/>
                </a:solidFill>
                <a:uFillTx/>
                <a:latin typeface="Arial"/>
                <a:hlinkClick r:id="rId8"/>
              </a:rPr>
              <a:t>wiki</a:t>
            </a:r>
            <a:r>
              <a:rPr b="0" lang="cs-CZ" sz="3000" spc="-1" strike="noStrike" u="sng">
                <a:solidFill>
                  <a:srgbClr val="006666"/>
                </a:solidFill>
                <a:uFillTx/>
                <a:latin typeface="Arial"/>
                <a:hlinkClick r:id="rId9"/>
              </a:rPr>
              <a:t>/F._A._</a:t>
            </a:r>
            <a:r>
              <a:rPr b="0" lang="cs-CZ" sz="3000" spc="-1" strike="noStrike" u="sng">
                <a:solidFill>
                  <a:srgbClr val="006666"/>
                </a:solidFill>
                <a:uFillTx/>
                <a:latin typeface="Arial"/>
                <a:hlinkClick r:id="rId10"/>
              </a:rPr>
              <a:t>Hayek</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1"/>
              </a:rPr>
              <a:t>http://www.</a:t>
            </a:r>
            <a:r>
              <a:rPr b="0" lang="cs-CZ" sz="3000" spc="-1" strike="noStrike" u="sng">
                <a:solidFill>
                  <a:srgbClr val="006666"/>
                </a:solidFill>
                <a:uFillTx/>
                <a:latin typeface="Arial"/>
                <a:hlinkClick r:id="rId12"/>
              </a:rPr>
              <a:t>aynrand</a:t>
            </a:r>
            <a:r>
              <a:rPr b="0" lang="cs-CZ" sz="3000" spc="-1" strike="noStrike" u="sng">
                <a:solidFill>
                  <a:srgbClr val="006666"/>
                </a:solidFill>
                <a:uFillTx/>
                <a:latin typeface="Arial"/>
                <a:hlinkClick r:id="rId13"/>
              </a:rPr>
              <a:t>.</a:t>
            </a:r>
            <a:r>
              <a:rPr b="0" lang="cs-CZ" sz="3000" spc="-1" strike="noStrike" u="sng">
                <a:solidFill>
                  <a:srgbClr val="006666"/>
                </a:solidFill>
                <a:uFillTx/>
                <a:latin typeface="Arial"/>
                <a:hlinkClick r:id="rId14"/>
              </a:rPr>
              <a:t>cz</a:t>
            </a:r>
            <a:r>
              <a:rPr b="0" lang="cs-CZ" sz="3000" spc="-1" strike="noStrike" u="sng">
                <a:solidFill>
                  <a:srgbClr val="006666"/>
                </a:solidFill>
                <a:uFillTx/>
                <a:latin typeface="Arial"/>
                <a:hlinkClick r:id="rId15"/>
              </a:rPr>
              <a:t>/media/</a:t>
            </a:r>
            <a:r>
              <a:rPr b="0" lang="cs-CZ" sz="3000" spc="-1" strike="noStrike" u="sng">
                <a:solidFill>
                  <a:srgbClr val="006666"/>
                </a:solidFill>
                <a:uFillTx/>
                <a:latin typeface="Arial"/>
                <a:hlinkClick r:id="rId16"/>
              </a:rPr>
              <a:t>Hayek</a:t>
            </a:r>
            <a:r>
              <a:rPr b="0" lang="cs-CZ" sz="3000" spc="-1" strike="noStrike" u="sng">
                <a:solidFill>
                  <a:srgbClr val="006666"/>
                </a:solidFill>
                <a:uFillTx/>
                <a:latin typeface="Arial"/>
                <a:hlinkClick r:id="rId17"/>
              </a:rPr>
              <a:t>/</a:t>
            </a:r>
            <a:r>
              <a:rPr b="0" lang="cs-CZ" sz="3000" spc="-1" strike="noStrike" u="sng">
                <a:solidFill>
                  <a:srgbClr val="006666"/>
                </a:solidFill>
                <a:uFillTx/>
                <a:latin typeface="Arial"/>
                <a:hlinkClick r:id="rId18"/>
              </a:rPr>
              <a:t>hayek</a:t>
            </a:r>
            <a:r>
              <a:rPr b="0" lang="cs-CZ" sz="3000" spc="-1" strike="noStrike" u="sng">
                <a:solidFill>
                  <a:srgbClr val="006666"/>
                </a:solidFill>
                <a:uFillTx/>
                <a:latin typeface="Arial"/>
                <a:hlinkClick r:id="rId19"/>
              </a:rPr>
              <a:t>.</a:t>
            </a:r>
            <a:r>
              <a:rPr b="0" lang="cs-CZ" sz="3000" spc="-1" strike="noStrike" u="sng">
                <a:solidFill>
                  <a:srgbClr val="006666"/>
                </a:solidFill>
                <a:uFillTx/>
                <a:latin typeface="Arial"/>
                <a:hlinkClick r:id="rId20"/>
              </a:rPr>
              <a:t>pdf</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růvodce studiem Management II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0000"/>
                </a:solidFill>
                <a:latin typeface="Arial"/>
              </a:rPr>
              <a:t>Friedrich August von Hayek</a:t>
            </a:r>
            <a:r>
              <a:rPr b="0" lang="cs-CZ" sz="4200" spc="-1" strike="noStrike">
                <a:solidFill>
                  <a:srgbClr val="000000"/>
                </a:solidFill>
                <a:latin typeface="Arial"/>
              </a:rPr>
              <a:t> </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ýznamný ekonom, politolog a sociolog tzv. Rakouské škol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slul zejména svou obhajobou liberální demokracie a tržního hospodářství.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ritika socialistických myšlenek</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 roce 1974 mu byla udělena Nobelova cena za ekonomii.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stinkt</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Řád menší společnosti založen na instinktec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ciální spravedlnos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rozšířeného řádu a dodržování pravid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zum</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ze lidského rozumu</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Osudová domýšlivos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a:t>
            </a:r>
            <a:r>
              <a:rPr b="0" i="1" lang="en-US" sz="3000" spc="-1" strike="noStrike">
                <a:solidFill>
                  <a:srgbClr val="000000"/>
                </a:solidFill>
                <a:latin typeface="Arial"/>
              </a:rPr>
              <a:t>Nikdy bychom neměli uvažovat tak, že náš rozum se nachází na vyšším kritickém postavení a že platná jsou pouze ta morální pravidla, s nimiž rozum souhlas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adice</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Mezi instinktem a rozume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ce přesahuje rozu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ýznam tradi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 </a:t>
            </a:r>
            <a:r>
              <a:rPr b="0" lang="en-US" sz="4200" spc="-1" strike="noStrike">
                <a:solidFill>
                  <a:srgbClr val="000000"/>
                </a:solidFill>
                <a:latin typeface="Arial"/>
              </a:rPr>
              <a:t>a rozšířený řád</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pořádání, které slouží nejrůznějším cílům neomezeného počtu lidí.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l spontánně</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rozšířeného řádu díky tradici</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společenských institucí (právo, jazyk, morálka či trh nebo také peníze, písmo či náboženství nebo zák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onent</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151760" cy="454824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ayekova cesta do otroctví – Jiří Kink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 – nedůležitý filosof, derivát Huma a Kant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povržení lidským rozumem, Osudová domýšlivos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ědomí člověka jako výsledek biologické i kulturní evoluc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umulace x schopnost lidského poznání</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strukce civilizace, intelektuální závislos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boženské tradice – negramotnost, bída, utrp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onent</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svět, který vnímáme, tedy nepoznáváme, ale </a:t>
            </a:r>
            <a:r>
              <a:rPr b="0" i="1" lang="en-US" sz="2400" spc="-1" strike="noStrike">
                <a:solidFill>
                  <a:srgbClr val="000000"/>
                </a:solidFill>
                <a:latin typeface="Arial"/>
              </a:rPr>
              <a:t>vytváříme </a:t>
            </a:r>
            <a:r>
              <a:rPr b="0" lang="en-US" sz="2400" spc="-1" strike="noStrike">
                <a:solidFill>
                  <a:srgbClr val="000000"/>
                </a:solidFill>
                <a:latin typeface="Arial"/>
              </a:rPr>
              <a:t>si jej naším vědomím x fyzické zákon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Rozum je schopností omezovat instinkty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zum - interpretace reality, kauzální souvislosti</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řijmeme do firmy nepoctivého člověka proto, že „omezujeme instinkt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je x instink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ojem „rozum“ je velmi abstraktní, a jeho správné odvození a obsah zdaleka nejsou triviální záležitos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9:38:04Z</dcterms:created>
  <dc:creator>snoopy</dc:creator>
  <dc:description/>
  <dc:language>en-US</dc:language>
  <cp:lastModifiedBy>snoopy</cp:lastModifiedBy>
  <dcterms:modified xsi:type="dcterms:W3CDTF">2008-10-08T12:40:53Z</dcterms:modified>
  <cp:revision>25</cp:revision>
  <dc:subject/>
  <dc:title>Snímek 1</dc:title>
</cp:coreProperties>
</file>