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A8B-5425-49D3-B913-0A1FC89C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A0E-12F3-4E8F-BB95-258564C0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3E9-ED58-416B-ADBE-6829F0CF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A11-C434-47A8-89D2-0BE4B173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0442-2C18-48B8-92CD-6A397092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443-2F80-4A4F-8FE9-3E84ED19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428E-A15D-4E42-98AC-9403527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068-1E53-40B3-9DB6-92B3854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315-7213-42AA-B041-1BF0158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EC79-441E-475E-B29F-49C18B1C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0AF-9E62-49A6-8515-F7B3B82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ADC-3BEF-4A65-9EE1-B54EDFEE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2937-962B-461F-865F-18363F4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703-D1A2-48C3-8A5B-7EF2B26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794-CBD9-442D-945A-63A60B83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6592-2F02-45C9-8A4A-57E0F6ED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D4D1-3E5D-4677-8D9E-9BA6A835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6CC-3A49-4DFF-AC5A-E8E7AC80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CD1-A53E-4E7C-8F06-77F14F8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CCD-7255-4E5A-806A-32F1668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8D1-91BB-429E-950A-1D021D0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D2D-D519-43CF-B5E8-B774C8D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852-C214-4229-A6F6-9E8C131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AEC-0A6C-48F2-A65F-93032E4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9649-6D65-4CE1-86B8-CFF6242665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320-24EA-459E-B42A-1E6C598A07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stinkt, rozum a rozšířený řá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ichal Plač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Ondřej Roudnic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Juraj Podhrads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jaté způsoby jednání po nás často vyžadují zanechat toho co po nás vyžadují naše instink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de 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ně střet citu a rozu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íce spor vrozených instinktů a naučených pravi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znám se, že se musím usmívat vždy, když knihy o evoluci, dokonce i knihy napsané vědci, v nichž se uznává, že se vše až dosud vyvíjelo procesem spontánního řádu, končí apelem na lidský rozum, aby se teď, když věci začaly být tak složitými, chopil otěží a řídil budoucí vývoj.“ F.A.Hay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inkt starší než zvyk a trad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k a tradice jsou starší než rozu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íme se mít na pozoru před domněnkou, že zvládnutí vědecké metody rozšiřuje způsobilost myšlení obecně. Zkušenosti ničemu tak jasně neodporuje jako přesvědčení, že člověk, který vyniká v jednom nebo více oborech, je v otázkách každodenních záležitostí moudřejší než kdokoli jiný.“ W. Tro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um podle Lock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NÍ schopnost pochop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LE principy činnosti, ze kterých vznikají ctnosti a vše nezbytné pro vznik morálních zás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álka není výtvorem lidského rozumu, ale produktem kulturní evolu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cně platí, že čím inteligentnější a vzdělanější člověk je, s tím větší pravděpodobností bude nejen racionalistou, ale také zastáncem socialis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ionalisté mají sklon být inteligentní a intelektuálští a inteligentní intelektuálové tíhnou k socialism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igentní lidé ale budou mít tendenci nadhodnocovat význam inteligence a předpokládat, že současné výhody a příležitosti jsou spíše produktem promyšleného plánu než dodržování tradičních pravide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to co je racionálně zdůvodnitelné a lze to dokázat experimentem si zaslouží důvěr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podle toho co působí potěšení, bychom měli jednat a ostatní odmít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&gt; hlavní morální tradice si nezasluhují naši oddanost a naším úkolem je konstrukce nové morálky podmíněné vědeckým poznání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dpoklad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ržet se toho co nelze vědecky zdůvodnit nebo dokázat pozorován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održovat to, co člověk nechá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ělat cokoli nejsou-li předem známy účinky a nejsou-li tyto ověřitelné a prospěšn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ysluplné a rozumné jen ty procesy, které jsou vědecky prokazatelné, pochopitelné a nepostrádají cí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tšina principů, institucí a způsobů tradiční morálky nevyhovuje uvedeným požadavkům =&gt; jsou tedy nerozumnými a nevědecký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sa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vod do problematiky konfliktu instinktu a řá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um a morál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, růst populace a náboženstv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tratí-li slovo svůj význam, ztratí lidé svou svobodu“ Konfuci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 nám umožňuje nejen označovat objekty dané našim smyslům jako jednotlivé entity, ale také klasifikovat nekonečnou rozmanitost kombinací charakteristických zna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imizmus x artificial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pitalismu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žní ekonom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talaxe = předmět ekono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iččí slovo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popisného významu se přechází k předpi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činky slova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vrácená představa, že to co vzniklo spontánně, je vlastně výsledkem cílevědomé lidské tvorb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eluje na lidi, aby znovu rozvrhli to co sami nemohli navrhn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avuje významu substantiva za ním =&gt; lasičč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žívání termínu „sociální“ je totéž jako volání po distributivní spravedlnosti. Ta je neslučitelná s tržním řádem založeným na konkurenci =&gt; sociální = protispolečensk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husiánské teorie nemají v dnešní době opodstatnění, protože vycházejí z dvoufaktorové ekonomiky a homogenního faktoru prá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á populace je sebestimulující a není sebelimitující jako u zvíř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neskončí dokud nebudou jednotlivé úrodné části země přibližně stejně hustě osídlen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je esenciální pro růst blahoby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Život nemá jiný účel než sebe sama (atomová katastrof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áboženstv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 tvorby a zachování morálních zásad, protože tyto nemohou být zachyceny během jednoho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achovala se jen náboženství podporující oddělené vlastnictví a rodi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ony svědomí, o kterých říkáme, že se rodí z přírody, se rodí ze zvyku“ M.E. de Montaig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Osudná domýšlivost: omyly socialismu. 1. vyd. Praha : Sociologické nakladatelství, 1995. 200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Kontrarevoluce vědy : studie o zneužívání rozumu. 1. vyd. Praha, Liberální institut. 1995. 212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Šmajs, J., Filosofie psaná kurzívou. 1. vyd. Brno : Doplněk, 2003.113 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stoteles věřil, že počet lidí žijících v řádu nemůže o mnoho překročit množství, ke kterému by dolehla slova hlasatele, a proto je stát čítající 100 000 lidí neuskutečniteln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hodoval se na základě instink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lo by nám zatěžko uvěřit, že něco takového, jako je náš nynější řád, je vůbec možné, a vyprávění o něm bychom považovali, kdybychom v něm reálně nežili, za bájnou a zázračnou pověst o něčem, co nikdy nemůže nast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nější dimenze existence lidstva a její struktura vznikla zejména díky pravidlům lidského ch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 se neobjevil najedn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žní řád je teprve nedáv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ktury a tradice tohoto řádu vznikali dlou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 obratu od zvířete k člověku došlo díky kulturně determinovaným omezením vrozených reak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čená pravidla, kterými se jedinec začal nevědomky řídit, nahrazovala instinktivní jednání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enetický a kulturní vývoj se dostává do konfliktu (analogicky prof. Šmaj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i nejdůležitější z vrozených instinktů, které pomáhaly odstranit instinkty jiné, je schopnost učit 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to zásadní konflikt mezi tím co mají lidé instinktivně rádi a naučenými pravidly ch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přirozený (nepřizpůsobuje se biologickému vybavení člově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 přirozený – vzniknu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0:51:28Z</dcterms:created>
  <dc:creator>Ondra</dc:creator>
  <dc:description/>
  <dc:language>en-US</dc:language>
  <cp:lastModifiedBy>Ondřej Částek</cp:lastModifiedBy>
  <dcterms:modified xsi:type="dcterms:W3CDTF">2008-10-07T14:03:40Z</dcterms:modified>
  <cp:revision>8</cp:revision>
  <dc:subject/>
  <dc:title>Instinkt, rozum a rozšířený řád</dc:title>
</cp:coreProperties>
</file>