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E08-A6E9-484F-825E-7F0A4168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C8A-DA6B-4BF6-AE6B-0EFDE962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614-09CA-488E-9325-BDB80B0D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1FD-F908-4A75-AE8F-A9333275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AAB5-E759-45A9-9933-73ABECEF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0472-7A77-431E-991B-A90FFD07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A7EB-81D0-4F02-B575-5BE28676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DA74-90B8-4894-A6F5-7EC7D75F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8612-9684-4D80-BF98-B968F87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9EB8-82AC-4127-B39C-3311F80D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EC51-1A38-427A-940B-2972C8B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326-546D-4CD1-884D-42FF269B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FB16-186E-4174-9FDF-C9A63C36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CA37-E5CB-4C3B-AA23-14103CF6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C1F9-8D28-4A61-971A-B20F946C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43A3-1408-4ED1-B699-8FBB864B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1961-EB40-4CF9-B483-EEFD63E6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E56-C0FC-47A2-9A56-F13E9AA3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06E-D0CE-4B5B-9584-7E85A650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BC2-1568-4DF8-9288-B610E6A6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19C-221D-4645-9612-9E98C1D7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29E-0F98-499F-B683-FC899129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C43-713E-4B96-B446-438D732A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702-96AA-4C6F-A904-EA76CDA0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B3FB-B882-4D12-9CCB-362D42DC67F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4920-15DF-4E82-B838-9DC6139AE89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řirozený a umělý řá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8.9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stup k evoluci jako řádu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jako vývoj systémů v ča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dán přirozenou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d počátku vesmíru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dán kulturní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S příchodem člověka na ze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nejen řád vytváří, ale je také sama jeho součá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rodní a umělý (kulturní) řá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řejmá nekompatibilita – hledání příči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 obou nejasný výchozí cíl – spontánní evolu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Člověk jako součást obou řád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ní nemůže vzniknout bez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chopnost struktury udržovat, reprodukovat, rozvíjet a nič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ožnost vzájemné interak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ůraz na zatlačování přírody kulturou a negativní důsledky z toho plynou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a není možná bez přírodního řád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ruktury zničené přírodou jdou kulturou obnovit, naopak to však nej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lavní nebezpečí pro existenci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ayek, F.A.: Právo zákonodárství a svoboda. Praha, Academia, 1991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Šmajs, J., Krob, J.: Úvod do ontologie. Brno, Masarykova univerzita, 1991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Řád – uspořádaný stav vě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irozený – vytvořený spontáními vlivy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mělý – vytvořený třetí silou za jistým účel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ntologie – věda o bytí, zabývá se řádem jako takový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místní existence přirozeného a umělého řád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jejich vývoj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hledání příčiny odlišnosti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dlišné tendence směřování přírody a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yšlenka dvou řádů z období antického řec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 v metafyzi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ualismus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 filosofického hlediska – Descartes, Kant, Heg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Úsilí o překonání rozdvoje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nešní pohled stále diferencovaný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ývoj a exist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řirozený řád – dán přírodou a nevědomou činností 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mělý řád – dán člověkem úmyslně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ývoj paralel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ritika myšlenky, že řád musí vznikat díky aktivitě myslící bytost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zájemná koexistence a doplňov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den typ řádu převládá v závislosti na okolnoste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 rámci společ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neomezen veliko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jen v malých společenstv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zv. organizace – pomáhají koordinovat činnosti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ěl by sloužit primárně menším společenstvím, obecně by se lidé měli řídit přirozený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louhodobé řízení společnosti umělým řádem je nutně neúspěšné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rátkodobě možné – náznaky diktatu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09-30T08:49:15Z</dcterms:modified>
  <cp:revision>20</cp:revision>
  <dc:subject/>
  <dc:title>Přirozený a umělý řádc</dc:title>
</cp:coreProperties>
</file>