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0E5-1E78-450B-AB28-076B790B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57C-5DF1-4BA5-B1B1-16547473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647-2C22-4DBC-B187-F8A7598A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BA8-3CCD-4313-B2C3-CF935559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E5F2-2556-40B6-A509-B36DD20B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F9C3-1344-49B1-91DF-4C0E5BA4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788B-B494-4818-8B08-E4E13589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DF64-DBA1-49DC-B4FD-CD76AB93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D7BB-3FF6-4058-9012-E0D8EFEF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46B3-269F-449A-B58E-F64A93AE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F5C8-E4EB-436C-8A3B-4ABA5D79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166-E0C6-47AD-A430-242DDDB0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D2BF-B55A-43DB-9CA0-3696AAB3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3DD6-072F-47BF-9B1D-73544E09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D5D5-607B-4026-B09A-35EC41DE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3936-AE4C-4136-90C1-5687E7C2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79EE-8085-41D1-B152-F822B078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30D-2505-456B-AD9F-93101020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E48-A378-44EA-AB15-38C70F6C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854-F603-43DA-AF73-E6A6E0F0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966-6670-4D40-971D-6497D896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AC8-D212-4460-9999-AE43E88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FA7-21BC-4082-935D-FA0671E0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272-34FF-4BA9-BB36-61502C8D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894A-D6D8-4049-BF8A-41B0DF1830E0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římá spojovací čára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A632-0FFA-49A9-A92A-57A0571396D1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8800" y="3928680"/>
            <a:ext cx="7286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Bookman Old Style"/>
              </a:rPr>
              <a:t>Přirozená a kulturní evoluc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4653"/>
                </a:solidFill>
                <a:latin typeface="Bookman Old Style"/>
              </a:rPr>
              <a:t>Marek Beleš, Martin Beleš, Pavel Kinc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jdříve domněnka,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že kultura pozemskou přírodu zlepšuje ( dotváří její síly, je koevolucí, přímým pokračováním života na Zemi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ozději: kultura navazuje na evoluční proces,  al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má schopnost je zneužívat pro růst moci kulturního spo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činou je konstitutivní činitel kultu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Je jím, dle Šmajse: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onstitutivním činitelem kultury je sílící proces cílevědomé i spontánní informační aktivity lidí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onstitutivní informací kulturních struktur nemůže být informace přirozená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Duchovní kultura - vlastní vnitřní informa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dokáže obrátit dílčí přírodní síly včetně přirozených potencí člověka proti ostatní přírodě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Člověk – nový biologický druh, byl přirozenou evolucí vybaven tak, že dokázal zažehnout kulturní evoluc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ro kulturu platí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Co připomíná F.  A. Hayek: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pontánní řád se formuje sám ze sebe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 a také ve smyslu Caprova výroku,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troje se stavějí,  ale organismy rostou.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společenství, produkované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Ne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 vs.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konflikt – přirozená poprvé v historii ohrožuje</a:t>
            </a:r>
            <a:br>
              <a:rPr sz="2400"/>
            </a:b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  evoluci kulturní</a:t>
            </a:r>
            <a:br>
              <a:rPr sz="2400"/>
            </a:br>
            <a:br>
              <a:rPr sz="24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škození živého i neživého prostředí planety, tedy systému,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terý kdysi vznik přirozené evoluce umožnil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Zdro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Drama evolu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Ohrožená kultur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Základy filosofie (přednášky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ighfield, R. : Šíp času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ttp://cs.wikipedia.org/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4267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Děkujeme za pozornos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Přirozená a kulturní evoluce - Úvo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– Obecný pojem používaný pro časový vývoj chování systému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 biologii se tento pojem používá pro Darwinovu vývojovou teorii,  podle které vyšší formy života povstaly postupným vývojem z forem nižších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je antientropický děj =&gt; směřuje proti narůstání entropie, tedy proti degeneraci a rozpad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eznáváme ji na základě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Hlediska výběru přiměřené časové šká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Určení nositele evolučních změ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Times New Roman"/>
              </a:rPr>
              <a:t>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25760" y="1339920"/>
            <a:ext cx="75016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ozvolný, průběžný vývoj  X  Revolu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cesualita, aktivita, nevrat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Lamarck, Darwin + Wallace – evoluční biolo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6b5680"/>
                </a:solidFill>
                <a:latin typeface="Gill Sans MT"/>
              </a:rPr>
              <a:t>evoluční teor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znik a vývoj života probíhal postupně hromadě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nahodilých změn a jejich sele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- kontroverzní téma – spory napříč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blém evoluce – časové perio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ředpokládáme, že evoluce přirozená vzniká se vznikem vesmír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Zářivé období vesmír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Hvězdné (látkové) období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vesmíru vedla ke vzniku biosféry včetně biologického předka dnešního člověk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postupuje „proti proudu“, proti rozpadu =&gt; potřebuje „výživu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Jak uvádí J. Šmajs: „</a:t>
            </a:r>
            <a:r>
              <a:rPr b="0" i="1" lang="cs-CZ" sz="2600" spc="-1" strike="noStrike">
                <a:solidFill>
                  <a:srgbClr val="000000"/>
                </a:solidFill>
                <a:latin typeface="Gill Sans MT"/>
              </a:rPr>
              <a:t>Evoluce tedy generuje, ruší a modifikuje prvky, komplexy, subsystémy a systémy tak, že diverzifikovaný celek svou narůstající uspořádaností stále úsporněji využívá svého omezeného evolučního zdroje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Např.: biosféra energii slunečního záření, kultura energii vynakládanou a uvolňovanou člověk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Celkový průběh evoluce biosféry neznáme =&gt; planeta Země tvoří jeden velký organism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Ve vývoji života zjišťujeme dva důležité filosofické momenty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rovnoměrnost v biotickém evolučním proces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1006560" indent="-4572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. J. Gould: "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 tři miliardy let byl nejvyšší formou života povlak prokaryont...pak, zhruba před 600 miliony let, se ve fosilních dokladech náhle objevují prakticky všechny stěžejní formy živočišného života, a to v průběhu několika málo milionů let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„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 mezi uspořádaností informačně předepsanou  a nepředepsano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jednotlivého organism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ekosystémová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Šmajs: „</a:t>
            </a:r>
            <a:r>
              <a:rPr b="0" i="1" lang="cs-CZ" sz="2300" spc="-1" strike="noStrike">
                <a:solidFill>
                  <a:srgbClr val="464653"/>
                </a:solidFill>
                <a:latin typeface="Gill Sans MT"/>
              </a:rPr>
              <a:t>I mnohobuněčný systém totiž nutně vyrůstá z jediné buňky (zygoty) a jeho víceúrovňová organizace včetně procesu ontogeneze musí být proto zapsána ve struktuře jeho dědičné paměti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né uspořádání = rozdílné implikátní a explikátní paměti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nám pomáhá porozumě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řírodní konstr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konst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cxnSp>
        <p:nvCxnSpPr>
          <p:cNvPr id="105" name="Přímá spojovací šipka 4"/>
          <p:cNvCxnSpPr/>
          <p:nvPr/>
        </p:nvCxnSpPr>
        <p:spPr>
          <a:xfrm flipH="1">
            <a:off x="2571480" y="3214440"/>
            <a:ext cx="2160" cy="5007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Kultura x příro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Gill Sans MT"/>
              </a:rPr>
              <a:t>Kultura 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– její uspořádanost organizačně jednodušší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ýhodou vnitřní informace, uložená mimo geny – duchovní kultura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a, jako nebiotický systém, je možný díky vlastní vnitřní informaci – duchovní kultuř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9:20:08Z</dcterms:created>
  <dc:creator>Martin Beleš</dc:creator>
  <dc:description/>
  <dc:language>en-US</dc:language>
  <cp:lastModifiedBy>Marek</cp:lastModifiedBy>
  <dcterms:modified xsi:type="dcterms:W3CDTF">2008-10-01T18:03:44Z</dcterms:modified>
  <cp:revision>72</cp:revision>
  <dc:subject/>
  <dc:title>Přirozená a kulturní evoluce</dc:title>
</cp:coreProperties>
</file>