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75D3-39B4-4B7F-B830-A43BC398C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8DEB-D657-4FF8-9550-5EF97D8B3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D602-F230-477E-AB2D-E7EFF9E2F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4B3C-0B45-46AE-B54E-FDCB77E1A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8482D-9B35-4D09-BF36-E11A7DC10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2A99B-CC8F-47CE-9DA4-71AA82883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78A81-1090-4C03-9363-C241847B3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61DAC-1730-43E5-9791-35A1808D5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4297D-45FC-4751-B39D-199E497A9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78296-F48F-4FD5-9290-A10ADB4ED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95F48-CDDC-4A9D-B5F5-4FC2A7594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5B7B-BCEC-48DA-AF6B-BEC0A2FF1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266CC-824D-4A92-A865-81BD9359A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B0918-F3FF-4C72-AF5F-470C55989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C499F-C31F-4905-AA3F-FA3145595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8C54A-DF09-49FE-9F0D-058CADEF1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5A286-02B7-4835-AF2F-A0F138148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7EEC-E125-4AA6-8A2D-33CDE85A0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A73C-92E6-427D-B445-0E8DDF03A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A985-D3E3-4F86-B9C3-3E318CEA5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3F60-1AD9-4831-B320-A820EB8AE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260E-43D6-41FB-8ACB-7C105F407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46F4-6891-4561-B668-368FAF16B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A18D-A1D4-409D-B520-97031FFA7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9EFE9-C527-43C2-95F8-DD34E10DFDBB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7B1D0-A374-4B46-9D41-17026BE5DCCE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Ekologické aspekty industriální a postindustriální společnosti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Tereza Hurníková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Veronika Moláková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Ludmila Šauerová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řekmit a oscilace (nestabilní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246400" y="2395440"/>
            <a:ext cx="4876560" cy="36576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826920" y="5516640"/>
            <a:ext cx="73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álná možnost – populace ryb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řekmit a kolaps (nestabilní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26920" y="5445000"/>
            <a:ext cx="749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odel i reálný svět – tendence k překmitu a kolapsu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246400" y="2349360"/>
            <a:ext cx="4876560" cy="31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okračování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říznaky překmitu: mizející suroviny, plnící se výpusti, přirozené mechanismy likvidující znečištění selhávají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Kroky proti kolapsu: rychlé ochránění surovin, pokles průtoku energie a materiálu,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změna struktury systému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rhy, technologie a překmi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Jen trhy a technologie nejsou schopny obstarat udržitelnou společnost (slouží společnosti – krátký časový horizont, růstové cíle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dsouvání mezí pomocí trhu a technologií – možnost nárazu na několik mezí současně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ztráta schopnosti zvládat situac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ůvody překročení: signály trhu jsou zkreslené a zpožděné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172360" y="4869000"/>
            <a:ext cx="28728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692360" y="6308640"/>
            <a:ext cx="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972360" y="837000"/>
            <a:ext cx="842472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esty k trvale udržitelnému systému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Změna struktury – změna informačních vazeb, ne kvantitativní změny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truktura: sociální normy, cíle, kulturní předpoklad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ůležité: stabilizace populace, zrychlení odezev, hospodárné využívání zdrojů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Čím delší prodleva v zavedení – tím větší výkyvy v populaci, produktu, objemu potravi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Není nutné snižovat životní úroveň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oč se lidé obklopují materiálními statky – neuspokojení nemateriálních potřeb (úcta, porozumění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řekmit, ne však kolap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3 revoluce: zemědělská, industriální, trvale udržitelná společnos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o změnu společnosti jsou nutní čestní vůdci, lidé mluvící pravdu a lidé, kteří se stále učí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utoři věří v trvale udržitelnou společnost a v přechod k ní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tmosfér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očetnost lidstva a rozvinutost technik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Změna koncentrace jejích základních slože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Základní složky – skleníkové plyny, ozón, vodní pára, </a:t>
            </a: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oxid uhličitý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Vztah Q oxidu uhličitého a výší teploty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Vzrůst Q oxidu uhličitého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→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vzrůst teplot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rcRect l="41556" t="28599" r="17355" b="28919"/>
          <a:stretch/>
        </p:blipFill>
        <p:spPr>
          <a:xfrm>
            <a:off x="3059280" y="3284640"/>
            <a:ext cx="2314440" cy="3240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rcRect l="20658" t="1057" r="384" b="27438"/>
          <a:stretch/>
        </p:blipFill>
        <p:spPr>
          <a:xfrm>
            <a:off x="5364000" y="2421000"/>
            <a:ext cx="316872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lobální oteplování neexistuje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22436" t="52154" r="9393" b="7427"/>
          <a:stretch/>
        </p:blipFill>
        <p:spPr>
          <a:xfrm>
            <a:off x="684360" y="2565360"/>
            <a:ext cx="4248000" cy="259236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838080" y="5445000"/>
            <a:ext cx="76932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Vyšší teploty ve středověku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rcRect l="15442" t="37179" r="9328" b="28013"/>
          <a:stretch/>
        </p:blipFill>
        <p:spPr>
          <a:xfrm>
            <a:off x="4932360" y="2492280"/>
            <a:ext cx="4211640" cy="26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Arial"/>
              </a:rPr>
              <a:t>Hurikány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Zvyšování jejich délky i intenzity i počtu i síly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ouvislost s oteplováním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Dnes versus 70.léta: ½ delší trvání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                  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+50%vyšší intenzita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1125360" y="1927440"/>
            <a:ext cx="7184520" cy="50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Enviromentalismus</a:t>
            </a:r>
            <a:br>
              <a:rPr sz="2800"/>
            </a:b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se zabývá vztahy mezi přírodou a společností. Usiluje o změnu společenských, ekonomických a politických mechanismů, které brání snahám o ochranu životního prostředí. </a:t>
            </a:r>
            <a:br>
              <a:rPr sz="2400"/>
            </a:br>
            <a:br>
              <a:rPr sz="2400"/>
            </a:b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Trvale udržitelná společnost</a:t>
            </a:r>
            <a:br>
              <a:rPr sz="2800"/>
            </a:b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je taková, která uspokojuje potřeby přítomnosti, aniž by ohrozila uspokojení potřeb budoucích generací.</a:t>
            </a:r>
            <a:br>
              <a:rPr sz="2800"/>
            </a:br>
            <a:br>
              <a:rPr sz="2400"/>
            </a:br>
            <a:br>
              <a:rPr sz="2800"/>
            </a:b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ovodně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Zvyšování počtu i intenz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eplejší voda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→ ↑Q vodní páry v bouřkových mracíc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Část v jiných oblastech než obvyk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př.Čína: jedna provincie sucha x sousední povodně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ezinárodní konflikt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SA ¼ světové produkce skleníkových plynů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(6800kg emisí oxidu uhličitého ročně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x Afrika 5%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Vysychání jezer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→ války, genocida, hladomor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ozšiřování pouští (dezertifikace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SA 1970 zákon o čistotě ovzduší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ání permafrostu + požá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ermafrost = území na sever od polárního kruhu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a něm postaveny domy, silnice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→ infrastruktur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Asi 1 000 000 kilometrů čtverečních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↑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teploty → vysušení půdy a porostů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Teplejší vzduch → více blesků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romadný zánik druhů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1000x rychlejší mizení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o zároveň působí negativně na krizi klimatu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ičení amazonského deštného pralesa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→ vyhynutí mnoha druhů + oxid uhličitý do atmosfér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ceány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Změna jejich chemického složení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„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rtvé zóny“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→ důsledek řas, znečištění lidmi, teplejší vodou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Blednutí korálů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Zvyšování mořské hladin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ransformace vztahu civilizace a ekologického systému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OČ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opulační exploze (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↑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 po potravinách, vodě, energiích, výr. zdrojích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Vědeckotechnická revoluce (neočekávané vedlejší účinky – jiné důsledky než se starou technikou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Způsob uvažování o krizi klimatu (dezinformace, cenzura, úpravy, podplácení, znevažování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itát + rady na závě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„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eď mají zelenou ti, kdo zeleně myslí. Přišla doba, kdy zlepšování životního prostředí vede k výnosům“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               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Jeffrey R. Immelt (předseda správní rady General Electric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ady: efektivně svítit, energeticky efektivní spotřebiče, jejich správné používání a udržování, efektivní vytápění domů, izolace domů, šetřit teplou vodou, zelená energie,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↓emise dopravních prostředků, recyklovat, kompostova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           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949320" y="1028160"/>
            <a:ext cx="7702560" cy="127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Václav Klaus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4673520" y="2852280"/>
            <a:ext cx="4013280" cy="18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„</a:t>
            </a: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Modrá, nikoli zelená planeta“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38080" y="692280"/>
            <a:ext cx="76932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Globální oteplování je zásadním ideovým a politickým střetem současnosti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Environmentalismus se stal </a:t>
            </a:r>
            <a:r>
              <a:rPr b="1" lang="cs-CZ" sz="3200" spc="-1" strike="noStrike" u="sng">
                <a:solidFill>
                  <a:srgbClr val="003366"/>
                </a:solidFill>
                <a:uFillTx/>
                <a:latin typeface="Arial"/>
              </a:rPr>
              <a:t>dominantní alternativou ideologií orientovaných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 primárně </a:t>
            </a:r>
            <a:r>
              <a:rPr b="1" lang="cs-CZ" sz="3200" spc="-1" strike="noStrike" u="sng">
                <a:solidFill>
                  <a:srgbClr val="003366"/>
                </a:solidFill>
                <a:uFillTx/>
                <a:latin typeface="Arial"/>
              </a:rPr>
              <a:t>na lidskou svobodu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V.Klaus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838080" y="2492280"/>
            <a:ext cx="7693200" cy="35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3366"/>
                </a:solidFill>
                <a:latin typeface="Arial"/>
              </a:rPr>
              <a:t>„</a:t>
            </a:r>
            <a:r>
              <a:rPr b="0" lang="cs-CZ" sz="2200" spc="-1" strike="noStrike">
                <a:solidFill>
                  <a:srgbClr val="003366"/>
                </a:solidFill>
                <a:latin typeface="Arial"/>
              </a:rPr>
              <a:t>Environmentalismus je politické hnutí podobné socialismu, který </a:t>
            </a:r>
            <a:r>
              <a:rPr b="1" lang="cs-CZ" sz="2200" spc="-1" strike="noStrike" u="sng">
                <a:solidFill>
                  <a:srgbClr val="003366"/>
                </a:solidFill>
                <a:uFillTx/>
                <a:latin typeface="Arial"/>
              </a:rPr>
              <a:t>se snaží omezit svobodu člověka a ekonomický růst</a:t>
            </a:r>
            <a:r>
              <a:rPr b="0" lang="cs-CZ" sz="2200" spc="-1" strike="noStrike">
                <a:solidFill>
                  <a:srgbClr val="003366"/>
                </a:solidFill>
                <a:latin typeface="Arial"/>
              </a:rPr>
              <a:t>, podáváním zkreslených údajů, které jsou prostřednictvím tlaku médií lidem vnucovány.“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„</a:t>
            </a: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Hrozbou jednadvacátého století přestává být socialismus, je jí moderní zelená odnož socialismu, environmnetalismus.“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„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Média neposkytují dostatečný prostor protichůdným názorům, tudíž jde o ovlivňování postojů společnosti zájmovýni skupinami.“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řekročení mezí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formace o změnách životního prostředí a přírodního bohatství, simuluje budoucí stav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naha o rozpoznávání vzájemných vazeb v přírodě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1. kniha 1972, 2. kniha 1991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ůležité je sledování mezí toků (energie, materiály) ne v absolutních hodnotác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mulace budoucích variant – World 3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Jak je to myšleno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900000" y="2421000"/>
            <a:ext cx="769320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Přístup environmentalistů k přírodě je obdobou marxistického přístupu k ekonomickým zákonitoste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 – </a:t>
            </a: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snaží se </a:t>
            </a:r>
            <a:r>
              <a:rPr b="1" lang="cs-CZ" sz="2400" spc="-1" strike="noStrike" u="sng">
                <a:solidFill>
                  <a:srgbClr val="003366"/>
                </a:solidFill>
                <a:uFillTx/>
                <a:latin typeface="Arial"/>
              </a:rPr>
              <a:t>nahradit přirozený vývoj světa „globálním plánováním“ světového vývoj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6666"/>
                </a:solidFill>
                <a:latin typeface="Arial"/>
              </a:rPr>
              <a:t>Jak by to mělo být?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Je třeba </a:t>
            </a:r>
            <a:r>
              <a:rPr b="1" lang="cs-CZ" sz="2400" spc="-1" strike="noStrike" u="sng">
                <a:solidFill>
                  <a:srgbClr val="003366"/>
                </a:solidFill>
                <a:uFillTx/>
                <a:latin typeface="Arial"/>
              </a:rPr>
              <a:t>nechat probíhat přirozenou spontaneitu lidského vývoje</a:t>
            </a: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, „protože jinak vše dopadne daleko hůře.“(V. Klau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roč by měly naše zásahy do spontaneity vývoje dopadnout hůře?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„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každý pokus „poroučet větru a dešti“ se zatím ukázal být dlouhodobě </a:t>
            </a:r>
            <a:r>
              <a:rPr b="0" lang="cs-CZ" sz="2800" spc="-1" strike="noStrike" u="sng">
                <a:solidFill>
                  <a:srgbClr val="003366"/>
                </a:solidFill>
                <a:uFillTx/>
                <a:latin typeface="Arial"/>
              </a:rPr>
              <a:t>neúčinným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, nákladným a k tomu omezoval lidskou svobodu.“ </a:t>
            </a:r>
            <a:r>
              <a:rPr b="0" lang="cs-CZ" sz="2400" spc="-1" strike="noStrike">
                <a:solidFill>
                  <a:srgbClr val="666699"/>
                </a:solidFill>
                <a:latin typeface="Arial"/>
              </a:rPr>
              <a:t>(pozn. aut.:myšleno jako kritika Keynesiánství? Zásahy do ekonomiky snad ano, ale jaké byly globální pokusy chránit životní prostředí v minulosti a jak dopadly??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6666"/>
                </a:solidFill>
                <a:latin typeface="Arial"/>
              </a:rPr>
              <a:t>Al Gore ve své newyorské přednášce (2006)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838080" y="2492280"/>
            <a:ext cx="7693200" cy="35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„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čelíme planetární katastrofě“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a když 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„něco neuděláme během deseti let, nebude možné se vyhnout nezvratné zkáze obyvatelnosti planety pro lidskou civilizaci</a:t>
            </a:r>
            <a:r>
              <a:rPr b="1" lang="cs-CZ" sz="2000" spc="-1" strike="noStrike">
                <a:solidFill>
                  <a:srgbClr val="003366"/>
                </a:solidFill>
                <a:latin typeface="Arial"/>
              </a:rPr>
              <a:t>.“(NewYorkUniverzityLawSchool, 18.9.06 </a:t>
            </a:r>
            <a:r>
              <a:rPr b="1" lang="cs-CZ" sz="1400" spc="-1" strike="noStrike">
                <a:solidFill>
                  <a:srgbClr val="003366"/>
                </a:solidFill>
                <a:latin typeface="Arial"/>
              </a:rPr>
              <a:t>– citováno V.Klaus, Modrá nikoli zelená planeta, s. 19)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6666"/>
                </a:solidFill>
                <a:latin typeface="Arial"/>
              </a:rPr>
              <a:t>V.Klaus: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„Tento výrok je zcela absurdní a má charakter poplašné zprávy.“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Jak ví V. Klaus, že tyhle informace nejsou postavené na vědeckém základě a pravdivé?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Celé dějiny naší planety včetně strukturace jejího povrchu jsou předmětem permanentních změn. V posledních několika tisících let je jedním z faktorů člověk a jeho činnost.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3366"/>
                </a:solidFill>
                <a:latin typeface="Arial"/>
              </a:rPr>
              <a:t>Podle environmmentalistů</a:t>
            </a: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 je člověk „exogenním faktorem“ působícím na přírodní mechanismy. </a:t>
            </a:r>
            <a:r>
              <a:rPr b="0" lang="cs-CZ" sz="2400" spc="-1" strike="noStrike" u="sng">
                <a:solidFill>
                  <a:srgbClr val="003366"/>
                </a:solidFill>
                <a:uFillTx/>
                <a:latin typeface="Arial"/>
              </a:rPr>
              <a:t>Základní příčinu problémů světa vidí v samotném rozšíření druhu Homo Sapien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824760" y="970920"/>
            <a:ext cx="7798680" cy="871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V. Klaus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838080" y="2492280"/>
            <a:ext cx="7693200" cy="35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„</a:t>
            </a: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Environmentalisté, ač vycházejí původně snad i z dobrých úmyslů, snaží se zasahovat prostřednictvím přírodních věd do věd sociálně politických, což má katastrofální důsledky.“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666699"/>
                </a:solidFill>
                <a:latin typeface="Arial"/>
              </a:rPr>
              <a:t>(x návrh autorky k zamyšlení: jak by bylo možné odvrátit negativní ekologické dopady, pokud by se vědecké poznatky držely striktně na poli vědy a političtí reprezentanti podle nich nepřizpůsobili své programy?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Úhyn živočišných druhů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838080" y="2492280"/>
            <a:ext cx="7693200" cy="35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„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ři evolučním vývoji planety přirozeně vznikají a zanikají živočišné druhy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Úhyn živočišných druhů současné doby je normální a není třeba ho dávat za důsledek škodlivé činnosti člověka.“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„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Neexistuje žádný předem daný oprimální stav světa, který jsme povinni chránit.“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Vykácení pralesů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838080" y="2637000"/>
            <a:ext cx="7693200" cy="34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„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Lidskou činností sice byly vykáceny pralesy, na místo nich zde však byly vytvořeny jiné, neméně kvalitní statky.“(technosféra)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666699"/>
                </a:solidFill>
                <a:latin typeface="Arial"/>
              </a:rPr>
              <a:t>(pozn – nejslíš byly myšleny pravěké pralesy, které pokrývaly většinu pevniny, ne deštné pralesy?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Ekologická doporučení Al Gora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838080" y="2492280"/>
            <a:ext cx="7693200" cy="35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„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okud bychom striktně dodrželi veškerá doporučení AlGora, tedy bychom se prakticky vrátili na úroveň před industriální společností, nejvíce patrným výsledkem by bylo, že by se obyvatelé Bangladéše utopili ne v roce 2100 ale až v roce 2115.“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Závěr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4059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6666"/>
                </a:solidFill>
                <a:latin typeface="Arial"/>
              </a:rPr>
              <a:t>V.Klaus: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„Nejlepší politikou dneška je s mírnou změnou klimatu žít a podporovat ekonomický rozvoj, který nám vytvoří budoucí, daleko efektivnější technologi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Jinak řečeno: ochrana přírody ano, environmentalismus ne.“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Náš závěr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roblém je daleko složitější. 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Jak chce V. Klaus chránit přírodu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(zmíněno v jeho závěru)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 efektivněji, než globálním uvedením v realitu některých opatření environmentalistů?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Myslí si snad, že svobodný člověk neomezený ekologickými normami na nějž není vyvíjen tlak médii se bude chovat ekologicky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řekmi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ktuální situace, překročení meze nečekaně a neúmyslně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říčiny: rychlý pohyb, změna, potíže s ovládání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ůsledky: havárie, náprava, zvolnění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o překmitu může dojít k oscilaci, nebo ke kolapsu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ůležité: růst nemůže trvat věčně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827640" y="837000"/>
            <a:ext cx="712764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K zamyšlení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ež se v budoucnu dostaneme k efektivnějším technologiím přirozenou liberálně ekonomickou cestou, kolik živočišných a rostlinných druhů vymizí ze světa? A co když nastanou do té doby mnohem vážnější dopady změn klimatu, než jakých jsme svědky nyní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mezují ekologická opatření opravdu tak drasticky svobodu člověka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oužitá literatur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EADOWS,D. H. et al. Překročení mezí. Praha : Argo, 1995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ORE, A. Nepříjemná pravda. Praha: Argo, 2007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KLAUS, V. Modrá, nikoli zelená planeta. Praha: Dokořán, 2007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Děkujeme za pozornost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838080" y="3141720"/>
            <a:ext cx="7693200" cy="29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Arial"/>
              </a:rPr>
              <a:t>Nyní je prostor pro Vaše otázky!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xponenciální růs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harakterizuje lidskou činnost – pozitivní zpětná vazba (zesilování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votní exp. růst - populace, kapitá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ruhotný exp. růst ostatních veličin - poháněny lidmi a kapitále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ozlišení růstu čeho, pro koho, jak dlouho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X bezvýhradný růst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27640" y="76428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Zřídla a výpust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26560" y="2362320"/>
            <a:ext cx="7704360" cy="41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pojení s mezemi, překračování mezí zřídel a výpustí, tok energií a materiálu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Zřídlo: místo původu (ropné naleziště), výpust: místo vypouštění (odpadní vody, ovzduší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růtok u obnovitelných zdrojů: ne rychlejší než možnosti reprodukc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růtok u neobnovitelných zdrojů: ne rychlejší než rychlost nahrazování novými zdroji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růtok u škodlivin: ne rychlejší než rychlost zneškodnění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Zmenšení průtoku: zvýšení životnosti výrobků, pokles toků ze zříd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nvestice „na konec potrubí“ (ne do nových technologií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olitický problém (která země více znečišťuj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ynamika růstu v konečném světě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mulace programu World 3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harakteristiky modelu: růst, meze, zpoždění, erozní proces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4 modely pro populaci a fyzickou ekonomiku (2 stabilní a 2 nestabilní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tálý růst (stabilní model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246400" y="2395440"/>
            <a:ext cx="48765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ogistický růst (stabilní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246400" y="2395440"/>
            <a:ext cx="48765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4T14:09:03Z</dcterms:created>
  <dc:creator>Liduska</dc:creator>
  <dc:description/>
  <dc:language>en-US</dc:language>
  <cp:lastModifiedBy>snoopy</cp:lastModifiedBy>
  <dcterms:modified xsi:type="dcterms:W3CDTF">2008-10-13T08:59:05Z</dcterms:modified>
  <cp:revision>19</cp:revision>
  <dc:subject/>
  <dc:title>Překročení mezí</dc:title>
</cp:coreProperties>
</file>