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75B15-45DA-4A1C-B9E9-55A7B4991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A5F19-22A9-46D5-B17A-D2770AB49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FA5A1-F0B9-4CCD-AC01-15C5C71E6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0DD3B-5784-4139-ACD7-36C63755F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3FB9E-29F7-4AF7-91C1-38CA9366C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7BF42-99BD-4D36-A433-D878E4C15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9CE0A-6136-4F11-8AE5-8D453F9C5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B3DB7-E71D-41D9-811A-7964D3ACD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C3322-9B28-4473-9EC9-0ED223821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0402B-61E3-4CF0-9E7A-4FE474BB6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B264E-926A-47C0-A91B-091B87D31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21316-EC97-4CBE-80AF-42D84D929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1BC31-5C44-4FAB-B18D-9B79DA3EF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40992-AF44-461A-AEBF-C4A80A316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7D3F4-AEA5-4585-81AD-2EF8AD7B7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ABB34-2D73-400A-8E92-60E9888E0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4C8B9-2395-4C56-A3B9-9100C2122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C64C7-CCD9-4BE3-84AC-B01BCEE0E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42ADA-DF95-4A08-9EC2-D0B8521D0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FDE80-105B-4B8C-976B-997ED79DF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6DC8E-AF78-401B-A945-3E813856B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0D038-C490-4E38-8B68-C31A8AD66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283E8-6879-43BB-9C91-0BEAD555A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9EA06-AC7B-4C9C-AC55-A354ACDE2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33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33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41286-FE97-4066-B9D6-E78898EDDB08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A62BA-4EF9-4689-9DE8-791BC5B24A12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Radikální přeměna podniků: Reengineering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ypracoval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ereza Hurníkov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eronika Molákov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Ludmila Šauerov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Jak začít s reingeneeringem?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me ochotni se k řízení procesu změn postavit pečlivě, odvážně a angažovaně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Podnikový reingeneering = „“dosáhnout obrovských přínosů jediným mocným rozmachem“, nikoli systematicky postupně dosahovat určitých přínos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První krok: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vedení definuje procesy, jichž se v organizaci užív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yto procesy se uspořádají podle významu a současné efektivn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ruhý krok: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ozhodneme se, na kterých procesech chceme pracovat (současně max. 1-2 projekty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 pomocí přiřazení KFÚ k procesů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(kritických faktorů úspěchu – </a:t>
            </a:r>
            <a:r>
              <a:rPr b="0" i="1" lang="cs-CZ" sz="1800" spc="-1" strike="noStrike">
                <a:solidFill>
                  <a:srgbClr val="ff0000"/>
                </a:solidFill>
                <a:latin typeface="Arial"/>
              </a:rPr>
              <a:t>např. spokojenost zákazníků, kvalitní zaměstnanci, vynikající dodavatelé, …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 čím více KFÚ proces ovlivňuje, tím je důležitější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 tým oboduje procesy dle jejich dosavadní výkonnos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menujeme reingeneeringový tým (5-7 lidí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ozdělíme role v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řídící skupin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Řídící skupina: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1) vlastník podnikového procesu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člověk odpovědný za efektivnost proces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(= chápe přání zákazníků – určí správnost práce – řidí lidi kteří ji vykonávají, aby ji vykonávali efektivně) </a:t>
            </a: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(x klasická oddělení: pouze řízení lidí na určitém úseku vykonávání práce – může být vykonána efektivně nesprávná prác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) Lídr týmu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ídr reingeneeringového tým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Částečný úvaz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soba vysoce výkonná a pracovně vytížen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ejlépe manažer oddělení majícího klíčový význam pro reingeneer. Pro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sobní kvality, nadšení pro projek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) zprostředkovate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 oblasti jež není součástí proces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emá znalosti proces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oustředí se na to, „jak“ postupovat, ne „co“ děl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polečenský člově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4) externí konzultatnt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– ano či n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5)koordinátor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uze pokud máme ve firmě více než 1 proces reingeneering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ontakty mezi projek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Částečný pracovní úvaz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dministrativní schopnos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6)Členové reingeneeringového týmu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jejich kolektivním úkolem je zajistit reingeneering procesu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ejlépe lidé ze střední úrovně organiz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bez nadřízených/podřízených vztahů mezi seb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7 členů vč. Líd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bs. i specialistu neúčastnícího se proces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Úkoly reingeneeringového týmu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chopení procesu, který má být podroben reingeneering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tanovení jeho vstupů, výstupů a zákazník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jistit požadavky zákazníků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měřit parametry současného procesu </a:t>
            </a:r>
            <a:r>
              <a:rPr b="0" i="1" lang="cs-CZ" sz="2800" spc="-1" strike="noStrike">
                <a:solidFill>
                  <a:srgbClr val="ff0000"/>
                </a:solidFill>
                <a:latin typeface="Arial"/>
              </a:rPr>
              <a:t>(brainstorming týmu: „nedostatky“ x „přednosti“)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– soustředíme svou pozornost na nedostat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Vize nového procesu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benchmarking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(výkonnostní kriteria – stanovte cíle = </a:t>
            </a:r>
            <a:r>
              <a:rPr b="0" lang="cs-CZ" sz="2000" spc="-1" strike="noStrike">
                <a:solidFill>
                  <a:srgbClr val="ff0000"/>
                </a:solidFill>
                <a:latin typeface="Arial"/>
              </a:rPr>
              <a:t>výsledky dosahované konkurencí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) možno uplatnit i v rámci jednotlivých lokalit poboček podnik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roces musí být v souladu se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strategií podnik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žadavky zákazník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izi formulujte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pozitivně </a:t>
            </a:r>
            <a:r>
              <a:rPr b="0" lang="cs-CZ" sz="2400" spc="-1" strike="noStrike">
                <a:solidFill>
                  <a:srgbClr val="ff0000"/>
                </a:solidFill>
                <a:latin typeface="Arial"/>
              </a:rPr>
              <a:t>(ne:bez jakýchkoli reklamací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ano: snížit počet reklamací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cíl vize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měřiteln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o vize začlenit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činnosti lidí!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říklad z praxe – Jaguár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0. léta x 60. léta (Bo-Car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oblém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tráta konkurenční výho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anažerský styl vede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truktura říze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Firma vydělává x prodělává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Důvody pro vytvoření koncepce reengineeringu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ncipy pro fungování prvků tvořící podnik (struktura, management, výkonnost) – staré 200 l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dmínky se radikálně změn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 základní síly ovlivňující podnik – tzv. 3 C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ákazníci rozhoduj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onku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měna se stává neustál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yklu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ikace problém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rozuměn důsledků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hopit situac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épe zapojit zaměstnance a tak zvýšit jejich loajalit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rčit hl. cíle změ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hodnotit aktivity vedoucí k jejich dosaže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hodnocení a fixace nového stav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Jaguár mimo korporaci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jistěné problém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Finanč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ízká kvalita výrobk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lesající presti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ízká produktivita prá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Špatná pracovní morál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Řešení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tkání se zaměstnanc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kamžitá změna mnoha firemních proces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itivní zrušení firm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akce pracovníků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lepšení kvality výrob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ecné povědomí o fungování firmy a jejich produk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ormační a vzdělávací kampaň zaměstnanců všech organizačních stupň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dentifikace několika hlavních cílů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novuobnovení kv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Zaměstnanci, subdodavatelé a kontroloř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oduktivi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ropouštění, přísné předpisy, technologická modernizace, optimalizace některých procec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ode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řelicencování, nová pravidla pro distributory, koncept nového vizuálního styl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Zhodnocení a fixace dosažených změ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xtrémní kvali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Vysoká produktivi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xkluzivní způsob prodej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eny akcií na burze velký vzestu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oužitá literatur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18992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AMMER, M., CHAMPY, J. 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Reengineering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. Praha: Management Press, 1995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loš Drdla, Karel Rais. 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Řízení změn ve firmě - reengineering : jak vybudovat úspěšnou firmu.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Praha : Computer Press, 20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OBSON, MIKE, ULLAH, PHILIP. 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Praktická příručka podnikového reingeneeringu.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Praha: Management Press, 199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8531280" y="2361960"/>
            <a:ext cx="21744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Pojem reengineering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3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ice: Znamená zásadní přehodnocení a radikální rekonstrukci podnikových procesů tak, aby mohlo být dosaženo dramatického zdokonalení z hlediska kritických měřítek výkonnost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líčová slova: zásadní, radikální, dramatický, pro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vý začátek (jak bychom vytvořili podnik, kdybychom ho zakládali nyní) x pouhá nápra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okračování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ouštění starých pravi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líčové jsou otázky PROČ něco děláme x jak to udělat rychleji, s nižšími náklady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ientace na procesy ne na úkoly nebo útv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ředpokladem je nasazení informačních technologi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Společné rysy reengineerovaných procesů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2349000"/>
            <a:ext cx="7981920" cy="37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ěkolik prací spojeno do jedn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acovníci rozhoduj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roky procesu vykonávány v přirozeném sled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riantní provedení proces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kce kontrolních opatře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ažer případu je jediným kontaktním mí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ombinace centralizace a decentraliz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ruhy změn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80550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acovní jednotky: od funkčních útvarů k procesním týmů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rakter práce: od jednoduchých úkolů k mnohostranné prác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dé získávají větší pravomoc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měna přípravy k práci: od výcviku k vzdělá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ažeři se stávají kouč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plošťuje se organizační struktu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iamant podnikového systému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8126640" cy="39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dnikové proces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acovní funkce a                      Hodnoty a náz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ktu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stémy řízení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dnoce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700000" y="2781360"/>
            <a:ext cx="6476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843280" y="4365720"/>
            <a:ext cx="649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6227640" y="4365360"/>
            <a:ext cx="57636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 flipV="1">
            <a:off x="6516720" y="285228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ole informační technologi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Je součástí každého reengineeringu, je spolutvůr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žadavek induktivního myšle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ové technologie umožňují nasazení nových způsobů prá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ová pravidla pro technologi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ormace jsou přítomny všude, kde jsou potřebn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zalista může vykonávat práci exper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ozní personál může předávat informace kdykoli a kdekol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ěci vám řeknou, kde js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ány se revidují průběžn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15:58:47Z</dcterms:created>
  <dc:creator>Liduska</dc:creator>
  <dc:description/>
  <dc:language>en-US</dc:language>
  <cp:lastModifiedBy>Tereza</cp:lastModifiedBy>
  <dcterms:modified xsi:type="dcterms:W3CDTF">2008-11-10T00:09:01Z</dcterms:modified>
  <cp:revision>25</cp:revision>
  <dc:subject/>
  <dc:title>Reengineering</dc:title>
</cp:coreProperties>
</file>