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B9D-25B4-4C81-9ABB-F0737B9F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CE8A-8500-4B57-925D-18DC24F1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18E-65DA-4EF6-818D-5DA7DF8D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717A-A346-4202-87B1-55218347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BC5-EF59-4169-B895-4EFADEC6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22CA-8D09-4E5E-8B32-88E5CAB3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541-2FDB-40E1-BE6D-C70F80FB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C46-D830-4340-80DD-E6E4E492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DD9-BE55-4FC8-86BE-C7AD3E70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7037-7C77-49BB-9E75-542C0538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229-4103-4306-9174-5F23707F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3DE-251A-4C47-84BB-09EE1AC5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DABF-D6F1-4198-BEDE-495D3397C7E4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Verdana"/>
              </a:rPr>
              <a:t>Etika v postmoderní době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Miroslav Mašlej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ereza Žáčková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aděžda Kalužová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Verdana"/>
              </a:rPr>
              <a:t>Niektoré výsledky prieskum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Poradie preferencií jednotlivých vysvetlení pojmu „korupcia“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Zneužívanie verejnej funkcie na získanie materiálnych a iných výhod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Dávanie a prijímanie fin. alebo nefin. darov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Klientelizmus, známosti, rodinkárstv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4.Uprednostňovanie osoby alebo firmy na základe lojality k polit. stran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Až 80,4% sa vyjadrilo, že korupcia v SR je veľmi vážnym problémom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06440" y="179028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Za najväčší problém pri podnikaní považujú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Klientelizmus, protekcionizmu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Nedostatočný prístup k úverom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Korupc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Príčiny korupčného správan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Známe prípady korupcie vysokých štátnych funkcionárov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Možnosť korupcie politikov, vyšetrovateľov a sudcov nedáva ohlasovateľovi záruku, že tento trestný čin bude potrestaný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Nejasné a nejednoznačné pravidlá v rozhodovaní úradníkov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888920"/>
            <a:ext cx="822960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Dôvod, kde MSP využili korupčné praktik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Registrácia vozidiel a STK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Registrácia podniku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Vybavovanie priestorov na podnikani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Procedúry, pri ktorých využili MSP vplyv priateľov či príbuzných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Vybavovanie stavebného povolen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Získanie pôžičk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Styk s daňovým úradom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4.Urýchlenie súdneho procesu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46,4% respondentov by podalo trestné oznámenie o korupcii, aby nebola ohrozená firma. Až 51,8% by nepodala, z obavy o vlastnú bezpečnosť a z nedôvery o vyriešenie prípadu súdnou cestou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Nástroje boja proti korupcii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1.Zavedenie jasnej a prehľadnej legislatív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2.Prísne potrestanie skorumpovaných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3.Zameranie sa na morálku jednotlivcov a celej spoločnosti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775880"/>
            <a:ext cx="8229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Kto by mal s bojom proti korupcii začať?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Vláda SR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Každý sám u seb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NRSR, súdy a prokuratúr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Až 69,1% si myslí, že zmena situácie ohľadom korupcie musí začať v ľuďoch a až potom v zmene zákonov. 36,4% uprednostňuje najprv zmenu zákonov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Protikorupčná stratégia MSP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Za žiadnych okolností nezobrať žiaden úplatok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Vzdať sa zákazky v prípade nekalých praktík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Na každého mať rovnaký meter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Pre potreby prostredia MSP autori identifikovali nasledovné progresívne prístupy: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Organizované, tzv. „korporatívne“ iniciatív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Budovanie transparentnej firemnej kultúr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Spoločensko-ekonomický audit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4.Medializácia zápasu o transparentnosť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Vytvorenie od štátu nezávislého mechanizmu zberu a spracovania informácií o prípadoch korupcie (profesné združenia, neziskové organizácie)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Verdana"/>
              </a:rPr>
              <a:t>Aktívne prístupy vytesňovania korupci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Verdana"/>
              </a:rPr>
              <a:t>Závery prieskum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Väčšina majiteľov MSP v SR sa nechce zapájať do korupčných afér; pokladajú to za nákladné, neefektívne a často riskantné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Majiteľom a manažérom MSP chýbajú často základné informácie a podpora v znalostiach, ako čeliť korupčným praktikám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Výsledkom je zmierenie sa so situáciou, že korupcia je nevyhnutné zlo, ktoré je súčasťou podnikan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Viera do budúcna, že v komunite MSP existuje motivácia na hľadanie spôsobov v boji proti korupcii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utnová A., Seknička P. (2007)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Etické řízení ve firmě : nástroje a metody, etický a sociální audi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Lipovetsky G. (1999)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 Soumrak povinnosti : bezbolestná etika nových demokratických čas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Šmajs J. a kol (2008)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 Podnikatelská a environmentální etika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Verdana"/>
              </a:rPr>
              <a:t>Podnikatelská etik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ormy a pravidla vyjadřující obecné názory lidí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růnik mezi etikou a ekonomiko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Konflikt mezi vlastním sebezájmem a zájmy ostatních lidí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Možnost vyjádřit se k neřešeným problémům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polečenská objednávka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apodobování světa - global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Ekonomické výhody podnikatelské etik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nížení transakčních náklad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osílení loajality zaměstnanc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Vytváření a posilování image firm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osilování spokojenosti zákazník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řispívání k loajalitě investor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říspěvek k zisk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Kultivace podnikatelského prostředí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Základní přístu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Verdana"/>
              </a:rPr>
              <a:t>Deskriptivní etika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Verdana"/>
              </a:rPr>
              <a:t>Normativní etika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Verdana"/>
              </a:rPr>
              <a:t>Metaetika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Verdana"/>
              </a:rPr>
              <a:t>Aplikovaná etika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Etická horečk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etická horečka bez hrani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vlna obchodní etiky se rozšířila z US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kodexy a charty – nejdříve považovány za překážky ekonomické výkonnosti, nyní za nástroj řízení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Etika v obchodní prax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ocial corporate responsibility (závazky nejen k akcionářům, ale k celému kolektivu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odnik sám musí zformulovat své principy a praktiky – kodexy a prohlášení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Identita podniku -&gt; morální norm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Etika firmu neomezuj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Verdana"/>
              </a:rPr>
              <a:t>Prípadová štúdia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Význam: corruption = community rupture = previnenie proti spoločenstv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Korupcia spoločnosti ubližuje, rozkladá ju, ohrozuje ju ako celok, porušuje etický kódex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podoby: obálky, protislužby, úľavy, „pozornosti“,..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Verdana"/>
              </a:rPr>
              <a:t>Korupcia vo SV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Podľa výskumu Svetovej banky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k. spomaľuje ekonomický rozvoj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k. ohrozuje sociálny systém a budovanie        občianskej spoločnosti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k. pôsobí protí prirodzeným trhovým mechanizmom </a:t>
            </a:r>
            <a:r>
              <a:rPr b="0" lang="sk-SK" sz="2500" spc="-1" strike="noStrike">
                <a:solidFill>
                  <a:srgbClr val="ffffff"/>
                </a:solidFill>
                <a:latin typeface="Verdana"/>
                <a:ea typeface="Arial"/>
              </a:rPr>
              <a:t>→ vysoké cen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  <a:ea typeface="Arial"/>
              </a:rPr>
              <a:t>Rozsiahle korupčné škandály vo SVE upozornili na vážnosť tohto problém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Verdana"/>
              </a:rPr>
              <a:t>Korupcia v prostredí MSP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MSP sú často konfrontovaní na rôznych úrovniach spoločnosti s korupciou a jej formami (úplatky za udelenie rôznych povolení, potvrdení a licencií, provízie, vydieranie, daňové úniky,...)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Nadácia Integra uskutočnila prieskum v prostredí MSP na Slovensku na podporu etického podnikania a na odhalenie korupčných praktík; sledovali sa provízie, vydieranie a rodinkárstvo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Dotazník s otázkami v 3 okruhoch: osobné postoje ku korupčným praktikám, prax s ktorou sa podnikatelia stretávajú, riešenie a východiská z tohoto problému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38Z</dcterms:created>
  <dc:creator>Presentation Helper</dc:creator>
  <dc:description/>
  <dc:language>en-US</dc:language>
  <cp:lastModifiedBy>Miroslav Maslej</cp:lastModifiedBy>
  <dcterms:modified xsi:type="dcterms:W3CDTF">2008-11-03T19:44:44Z</dcterms:modified>
  <cp:revision>12</cp:revision>
  <dc:subject/>
  <dc:title>Business 1 Template</dc:title>
</cp:coreProperties>
</file>