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0C4-3FD3-4372-9F7B-986E87D9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42F-862A-4C85-B6AD-38C9065C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B73-9293-41E1-89F7-628A1DDC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181-417B-41A9-858D-3D3CAA49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7E11-0689-4900-B13B-F55D65F5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5BD7-280E-4A9D-BB49-7499F1A0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2B40-51B7-4696-9EBC-03313D97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E329-5351-4F8E-B9D9-781A9470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2A8C-A6E2-406A-8F0B-66B58D20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FDE2-1B72-4BDB-9EC1-68DC9918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8012-36A4-4615-93D3-756C5E27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E8A7-E03C-40F3-9F6A-0045A352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82D4-C5DE-439D-A44C-04CBCD95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0958-0ABE-458C-A468-F9BE614D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F133-B9E2-4248-B41D-E3666B31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2C10-D2A1-4E6B-B073-7884816C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7FAF-D220-436C-948D-32C94586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6D0-E82E-4A90-A37F-8F48A7AA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3F4-92BB-4515-9757-EE9921FA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A19-FDB4-4372-B9D3-36D15924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42D-9D27-4749-B9B1-939A58A4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45E-C570-4565-9EF0-A7439FE7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6B4-F98D-4CE3-9AE5-08962C67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E8DE-5932-4D5F-81B4-4CC287D2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DB54-61F5-452E-94BF-F3311FC293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E485-CD59-4438-AC4D-435957C265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Od hierarchie k sítí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ategické aliance se zahraničními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pracovaly: Bc. Hana Drozdová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lára Ottichová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c. Kristýna Trnkov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trategické sítě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lová poz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udržet loajalitu partn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partnery musí být výhodné být součástí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e na sítích - obrovské ulehčení s nástupem nových komun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ypy sítí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cenásobné aliance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ultiple allianc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tfolio aliancí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lliance portfoli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vučina aliancí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lliance web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Rozhodovací proces o účelnosti uzavřít SA a jeho rizik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ká orientace rozhodovacího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atelská strategie jako východisko k případnému partnerství (vize, mise, rozbor okolí, vnitřní analýza, zdrojové možnosti a dalš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hodnutí o účelnosti SA (příprava firmy, volba scénáře, typ 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ostupy hledání vhodného zahraničního partner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ce o možném partnerovi (partnere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dnocení informační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Komponenty S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dné s komponentami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, struktura, procesy, lidé a role, IS/I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hranice, vnější sociálně-ekonomické okolí, vnější technologické okol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Podoba SA podle Johnsona se Scholese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dobu ovlivňu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ělitelnost 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vlastnění 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U strategických sítí potom platí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a nepotřebují společný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a nemohou být jednoduše oddělena od společností, resp. nelze to provést bez následk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ud jsou daná aktiva rozdělena do samostatných organizací, existuje velké riziko jejich přivlastnění jinou společnos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Moderní tendence rozvoje alianční spolupráce – MSP v EU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liv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globalizace, digit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ekonomika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-econom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aliance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-allian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 k řízení vztahů se zákazníky, s dodavateli, virtuální organizování spolupráce, elektronické obchodování, elektronické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Použitá literatur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dáček, L. – Vodáčková, O.: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trategické aliance se zahraničními partne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Management Press: 2002. P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dáček, L. – Vodáčková, O.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Malé a střední podniky: konkurence a aliance v Evropské un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Management Press: 2004. P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hnson, G. – Scholes, K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Cesty k úspěšnému podnik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Computer Press: 2000. P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, J.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družování malých a středních podniků po vstupu ČR do E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Studie In: Blažek, L. a kol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Vývojové tendence podniků I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Masarykova univerzita: 2007. B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DĚKUJEME ZA POZORNOS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d hierarchie k sítím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blematika strategických aliancí a sítí jako nový fenomén moderní ekonom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alice a sítě jako nový nástroj strategického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90. léta – dekáda alian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mezení pojmu: Heck (1999), Fry – Stoner – Hattwick (1998) a dal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Příčiny strategických aliancí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toucí dominance zákazníků nad dodavateli, rostoucí informovanost a požada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árůst nečekaných důsledků nespojitých změn v podnikatelském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ále ostřejší konku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izace, intenzita propojení novými prostředky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ědeckotechnický rozvoj a inovační důsled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Další z příčin dle J. Novotné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 jako nástroj odstraněn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úzkých mí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 MSP nejčastěji odby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ále opatřování výrobních faktorů, zejména lidské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Řeš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kooperace nebo konce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Základní formy S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Členění dle intenzity vazbového spoje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lné fo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tegické aliance (v užším poje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oint ventures (obvykle chápány jako strategické aliance v širším poje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sné fo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Klasifikace strategických aliancí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funkčního hle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teritoriálního hle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organizačního hle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vlastnického hle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hlediska cílové ori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hlediska trv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trategické aliance v moderním podnikání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90. lé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KAŽDÁ ALIANCE MUSÍ BÝT ÚSPĚŠNÁ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votní smysl: rozvoj pozitivní kooperace a redukce negativní koope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 dále jako nástroj čelení nejistotě a rizi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Úč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dílení činností a zdrojů, redukce konkurenčních střetů, vznik, přenos a využití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A zaměření na sdílení činností a zdrojů partner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 dvěma či více partnery dochází k systematickému řízení procesu účelného a účinného přiřazování (alokace, případně i realokace) činností a zd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ůže docházet k pozitivním integračním, popř. synergickým efekt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: zajištění vývoje a realizace složitých výrobků, získání potřebných finančních či jiných zdrojů pro náročnou investiční politiku, využití konexí a komunikačních kanálů partnera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A zaměřené na redukci konkurenčních střet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pravidla nejde o spolupráci v rámci jedné národní ekonom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íše obtížně kontrolovatelné nadnárodní vztahy a nadnárodní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ní nahradit negativní kooperaci (boj, soupeření, konkurenci) jejím protipólem, tj. pozitivní kooper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 americká General Motors – japonská Toyota; či korejská Daewoo 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2:31:24Z</dcterms:created>
  <dc:creator>Hani</dc:creator>
  <dc:description/>
  <dc:language>en-US</dc:language>
  <cp:lastModifiedBy>Hani</cp:lastModifiedBy>
  <dcterms:modified xsi:type="dcterms:W3CDTF">2008-11-05T23:04:28Z</dcterms:modified>
  <cp:revision>6</cp:revision>
  <dc:subject/>
  <dc:title>Od hierarchie k sítím</dc:title>
</cp:coreProperties>
</file>