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EB20-02D7-4E65-A53C-13FE032A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6D74-9B1D-4585-AB26-050E5A5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F2EF-2749-442A-B76F-48227308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6231-6A62-4BC9-8FAD-6288EEF4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1401-3860-4FB7-911C-1AC0E75D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1D9D-83C8-4164-97AD-1AA9C281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3B7D-6189-4EE3-8FB6-2F19F723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B3E5-B81B-4977-9D20-BEA5FA8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2891-B3AE-45F6-AA45-3B8CD42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0EF2-294C-4830-AA07-13BB697C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73FC-A483-4D93-9654-2441AF0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B1E6-F7AE-439B-AF14-D3B26D34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0FC-FEF8-47CB-9BCE-2383E97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09AA-F880-40B4-8215-DE1AEBE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DAF-982C-49DA-985C-E5B48FC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61A-F23A-482D-8FC0-6EE042D3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92B1-4B45-40CD-B169-93DF1E9B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D1BA-C661-4D01-B37E-FB51C435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99CB-A3A2-4318-BE98-F01653D0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7E13-4B9E-43F4-AF6D-F9946D0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3AD2-BC15-4234-B560-57DA0C3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6250-B658-4D39-8EA8-0545B6FA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A794-E518-4F10-B43E-7FBF3FF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1331-52D0-4CC9-9BFC-C3C47F7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6A7-1271-43F7-95CC-1C4CB9AC6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5635-BA6E-4C56-8199-E8A4E1483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barevná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cc"/>
                </a:solidFill>
                <a:latin typeface="Arial"/>
              </a:rPr>
              <a:t>Modř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volný trh, síla ekonomiky Západu, inovace, investice, svoboda,účinnost,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ud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socialisti, lupičský kapitalismus (Rusko), nůžky mezi bohatými a chudými,vykořisťování pracu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ele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koncept ekosystému, počet lidí, zahrnutí externalit do nákladů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í: -neodmítají ani nepřijímají žádný koncept, optimismus k lidstvu, integrace, respekt, důvěra, informace, ne ideologi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jótský proto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jednán 11.12.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 180 signat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Účelem je snížit emise skleníkových plynů mezi lety 2008-2012 o 5,2% ve srovnání s rokem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neratifikov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mínky platnosti(od 2/2005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signatářských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mě zodpovědné za více než 55% produkce těchto ply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olf, Ch.: Capitalism, Chinese style, The International Economy, Winter 2002,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1-03T19:05:4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