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B81-BAB4-4F7A-BA10-2B7F7056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6AC-FF56-4B95-ABBD-F15D3D3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1B8-89C9-4E5B-97EC-32B6DC92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212-D4FA-4D5C-90A2-C104E726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E6A4-3888-4495-AA81-79922B5A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ADF5-2C60-46B8-8C84-A9795C4B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B562-7748-4C35-9DA8-F72BA3B8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1C0D-58E8-416B-B2EF-3B7EDA9C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B1C6-DBA5-4A09-BDED-D8C1E8A9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36F7-001E-4FF7-84E5-4F623118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60FE-A879-44D7-A67E-ACDC5642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F60-EBDC-4220-A178-B5912524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6CDE-C2F6-4584-8FF6-4CE82115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0C24-E399-493E-B275-6BD86B9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5425-27F5-4ECD-8149-72D2D864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B264-5C55-4451-96B9-DBCF208C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234-CAB0-4637-9512-842479D2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4E1-F827-452D-8D76-3C65A28A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092-9E00-4560-ABEB-CF34D331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E4A-92E6-47B7-93B0-C75AE17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DE7-595D-4867-A03E-0A6B472B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A0F-FC29-433F-889A-93435BF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355-DDC5-4811-BEB6-B45D5E40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9F2-F195-44D4-BCA9-C25EE90E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CBA-E2D3-4471-960C-82CD794B6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C99-5927-456E-8953-4903405C0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Analýza praxe managementu úspěšných amerických společnost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lení větších cel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tváření Operačních skupin (5-10 členů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„flexibilní, na projekt orientovan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tředí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kteristické rys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rvání skupiny je omez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členství je dobrovol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hromažďuje se rychle bez formáln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ejsou určeni žádní „stálí“ pracovní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okumentace je neformální a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rimentující organiz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důležitějším a nejviditelnějším rysem motivace činnosti je ve špičkových společnostech jejich ochota experimen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s: „Drobná, dokončená činnost, zkouška, kterou lze řídit a která pomáhá něco pozna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líže k zákazníkov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dlost službami (zvláště po prodej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bchod skutečně začíná po prodeji - ne před 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dlost kv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zakládá se na lidském kapitálu spojeném s tradice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ření na segmenty tr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rodukty a služby ušité na mí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nomie a podnik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důležitějším prvkem úspěchu je schopnost být velký a současně jednat jako mal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pičkové společnosti podněcují mezi svými lidmi podnikavost, protože umožňují autonom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ence dobrovolného zaníceného přebor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duktivita prostřednictvím lid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vat se k lidem jako k dospělým, jako k partnerům, chovat se uctiv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plnost orientace na l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zyk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dílení inform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kotvená filozofie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Řízení v přímém dotyku, důraz na hodno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vný soubor hodnot společnosti a věrnost těmto hodnot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tom, že můžeme být nejlep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u detailů prove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ů lidí jako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nejvyšším významu jakosti služ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u neformálnosti pro podporu komunik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lej to, co umíš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i, které se pevně drží, co znají, obvykle podávají nejlepš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úspěšné jsou ty společnosti, které diverzifikují do široké řady obla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dnoduchá forma – nepočetný řídící personá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álá neměnná forma, často výrobková divi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užně a rychle reagují na rychle se měnící podmínky a problé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vidlo stov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ři pilíře strukturní form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pilíř 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pilíř podnikav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pilíř změny starých návy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olné, ale zároveň pevné vede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ce jsou přísně kontrolovány, přestože dovolují autonomii, podnikavost a inovace od řadov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nomie je produktem káz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ačný prospěch organizace přináší vnitřní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teratu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homas J. Peters, Robert H. Waterman Jr.: Hledání dokonalosti, Olomouc 19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zk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2 úspěšných amerických společn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or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s vyspělou techno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se spotřebním zbož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poskytující služ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zabývající se vedením projek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zpracovávající nerostné surov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st ukazatelů – tři týkající se růstu a tři ukazatele návratnosti kapitálu a rentability služe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splnění alespoň čtyř ukazatelů po více než 20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torské výsledky společ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ůstalo 43 společ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naky úspěšných společností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klon od racionálního přístupu k managementu, od příliš podrobných tržních předpovědí a analýz, od přílišného organiz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ost, loajálnost, ztotožnění se s úspěchem společnosti, lidský vztah mezi zaměstnancem a jeho dozorc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měření na kvalitu a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nění experimentátor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ce prostřednictvím nejefektivnějšího kanálu bez ohledu na organizační struk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žití projektových tý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ace ří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ědomění, že lidé nejsou racion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pora sebe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eněžní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 předchozího úspěc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lý person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n několik klíčových hod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podněcování - Ski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Richard Scott – 4 stadia výv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81080"/>
          <a:ext cx="8228880" cy="4114440"/>
        </p:xfrm>
        <a:graphic>
          <a:graphicData uri="http://schemas.openxmlformats.org/drawingml/2006/table">
            <a:tbl>
              <a:tblPr/>
              <a:tblGrid>
                <a:gridCol w="2362680"/>
                <a:gridCol w="2919600"/>
                <a:gridCol w="2946600"/>
              </a:tblGrid>
              <a:tr h="80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Uzavřený systé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Otevřený systé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acionální čin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. 1900-1930  Weber, Tay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. 1960-1970  Chandler, Lawrence, Lors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polečenský čin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. 1930-1960  Mayo a spol., McGregor, Barnard, Slezni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. 1970-?  Weick, M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 jedn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žitost je příčinou letargie a setrvačnosti, v důsledku nichž je mnoho společností nepřístupných nebo reagují příliš poma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us špičkových společností zahrnuje širokou řadu mechanismů jednání, které zjednodušují jejich 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ganizační flexibili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pičkové společnosti jsou rozlehlou sítí neformální, otevřené komunik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ka otevřených dveř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itelný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udržo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pozitivní kri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9:01:55Z</dcterms:created>
  <dc:creator>snoopy</dc:creator>
  <dc:description/>
  <dc:language>en-US</dc:language>
  <cp:lastModifiedBy>Hana Kubicova</cp:lastModifiedBy>
  <dcterms:modified xsi:type="dcterms:W3CDTF">2008-11-10T21:05:31Z</dcterms:modified>
  <cp:revision>13</cp:revision>
  <dc:subject/>
  <dc:title>Analýza praxe managementu úspěšných amerických společností </dc:title>
</cp:coreProperties>
</file>