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D29-31FA-4781-BB5F-55E38B12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443-702A-410C-8CE8-0B9202FD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935-5AD8-4C2F-A8D6-ADC7E74D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54A-5AE6-4FDF-B9F6-23A8A301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11D-B5F6-462E-A7E2-0D8CCC50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BBF-0409-4CDD-9592-D7151D41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FBA-840F-44B6-B0B7-DDDDF245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010-BE7F-4A85-B9C7-342130EE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17D-10EF-4B52-890D-EF7731BD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4A0-D6B8-4B72-997A-191963D2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CED-C9D1-4763-82EA-D9837488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79F-DA03-4C26-8F84-8FD76401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B392-62E3-4AD3-860E-1B423FE74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 masové velkovýroby k inovativnosti a hodnotě pro zákazní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Lucie Bieli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Martin Li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Simona Jakubc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-2 Týmová práce ve výrobě i služb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edinou a nejdůležitější příčinou zpoždění vývojových činností je absence představitelů hlavních, vnitřních i vnějších, funkcí na vývojových projektech, kterých by se měli účastnit od počátku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unkční propojení, „život“ pohromadě, komunikace, připojení vnějších čini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-3 Podporujte pilotní projekt každého nápa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Příliš se nepřipravujte..spousta lidí, kteří chtějí podnikat, se snaží všechno vědět. Nikdy nic neudělají. Moje idea je.. Vyjít na to zatracené hřiště a začít kopat do míče…měl jsem jenom inspiraci. O kopané jsem toho moc nevěděl. Nevěděl jsem ani,že existují dvě velikosti míčů na kopanou.. Takže další inspirace je 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jít a začít něco děl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Don Benne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( první muž s amputovanou nohou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kt. Vylezl na Mount Rainier)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4 „Tvůrčí výměna tvrdých míčů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ýza konkurence : Věci zjevné a skry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ýza konkurence – věcí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š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„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ní to náš vynález, ale pyšníme se tím, že jsem ho ukradli těm nejlepším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léhavé hledání jedin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5 „Jedna paní povídala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mpaň ústním podání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ledání příjemců milujících inovací ( ne nutně velc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6 Podporujte zapálené bojovník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Úspěšný člověk – zaujetí vydrží zesměšň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astnosti přeborníka: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n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osed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deal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ychytra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etrpě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ezdržení překážk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měs lásky a nenávisti s podříze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žeři jako vedoucí bojovní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7 „Vzorová“ inovace-prax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Účelová netrpě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yhledávání a oslavování nováto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aložení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vorany sláv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každé jednot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dmě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ěžování podpůrných od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8 Rychle odstraňujte chy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LOŽITOST + NUTNÁ RYCHLOST = VÍC CHY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vzbuzování k chyb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íň hanby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ychlé chybování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ychle pouče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ytřejší k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é chyby (neřeší 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ranatý kolík do kul. otvoru“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lšování d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3284640"/>
            <a:ext cx="432000" cy="288720"/>
          </a:xfrm>
          <a:prstGeom prst="rightArrow">
            <a:avLst>
              <a:gd name="adj1" fmla="val 50546"/>
              <a:gd name="adj2" fmla="val 37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716280"/>
            <a:ext cx="504720" cy="287280"/>
          </a:xfrm>
          <a:prstGeom prst="rightArrow">
            <a:avLst>
              <a:gd name="adj1" fmla="val 50278"/>
              <a:gd name="adj2" fmla="val 436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4941720"/>
            <a:ext cx="432000" cy="287640"/>
          </a:xfrm>
          <a:prstGeom prst="rightArrow">
            <a:avLst>
              <a:gd name="adj1" fmla="val 56907"/>
              <a:gd name="adj2" fmla="val 375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566100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-9 Stanovte měřitelné cí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10 Vypěstujte v korpora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hopnost ino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ledání nových nápa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ruchy jako příležit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ivníky proměnit v partn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učte se milovat změnu: Nový pohled na roli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doucího – na všech úrovní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lavní předpoklad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Zvládnout paradox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ástroje vedoucího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Vypracovat inspirativní vi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Řídit příklad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raktikovat viditelné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dení pomocí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mocněných lidí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Věnujte pozornost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Skloňte se před řadovými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pracovník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Předávejte odpovědnost a pravomoc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Odbouráním byrokracie usilujte o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„horizontální“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ákladní myšlenka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aždého hodnoťte podle jeho lásky k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změ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ěstujte pocit naléha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: Zvládnout parado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ma – laborato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lavní parado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dpora vnitřní s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stálé zm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kovýr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elkovýrobu umožnilo rozšíření železnice a telegrafu v nejvyspělejších zemích světa v polovině 19. stolet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a přelomu 19. a 20. století začínají vznikat velké společnosti (U.S. Steel, General Electric, General Motors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tandardizace a specializace výroby vedla k výrobě v masových měřítcích(Ford, Baťa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vyšovaní produktivity práce a snižování nákladů na materiál vedlo k zvyšování efektivity plynoucí z velkovýro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: Vypracovat inspirativní viz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á sílu, stane se naším živo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statečně obecn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gující na dnešní a zítřejší potře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irativ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sná a vyzýva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rážející pružnost podni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il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ko majá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postavena na drobnost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ýt v souladu s inovačními c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: Řídit příklad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mocí kalendáře – způsob využití č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o povýší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: Praktikovat viditelné 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ce z terén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celá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čel: omezit zkreslení informací a umožnit lepší rozhod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: Věnujte pozornost! (Více naslouchej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uvení a dávání příkaz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slouc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ažované naslouc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: Skloňte se před řadovými pracovní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rdinové organiz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avomoc jed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: Předávejte odpovědnost a pravomoc (deleguj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člivě zvážit co? a na koh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 předávání opravdov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pálený „delegá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pravdu nezasah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: Odbouráním byrokracie usilujete o „horizontální“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ní horizontální spolupráce řadových pracovní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ažujte se za zničení byrokr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měňte lidi, kteří usilují o zničení byrokr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: Každého hodnoťte podle jeho lásky ke změ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zpoč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 přesně jste změnili?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čera lépe než d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: Pěstujte pocit naléha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íce rychlejších změn – pocit naléhav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stranění strachu: „Být při tom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ters, Tom. Prosperita se rodí z chaosu. Praha: Pragma, 2001. ISBN: 80-7205-816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1989000"/>
            <a:ext cx="3097080" cy="1730520"/>
          </a:xfrm>
          <a:prstGeom prst="wedgeEllipseCallout">
            <a:avLst>
              <a:gd name="adj1" fmla="val 62662"/>
              <a:gd name="adj2" fmla="val 36879"/>
            </a:avLst>
          </a:prstGeom>
          <a:solidFill>
            <a:srgbClr val="d8d4ba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li ti velcí vůbec někdy výkonnější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o je velké je dobré, co je větší je lepší a co je největší je nejlepší. Lepší je hospodaření ve velkém měřítku – americký příst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práva o hospodaření U.S. Steel (1930) konstatovala: Společnost je veliký, roztažený a nečinný kolos. (výrobní operace jsou špatně koordinovány, nejsou dostatečně známy náklady a relativní výnosnost tisíců prodávaných polože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ředseda správní rady General Motors ve 30. letech uved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dá se, že prakticky všechny naše činnosti trpí ochablostí, která je následkem našich velkých rozměrů. Týká se to tolika lidí a vyžaduje to tak ohromné úsilí, když se má zavést něco nového,že nový nápad se pravděpodobně bude považovat za nevýznamný ve srovnání s úsilím, které je nutné vynaložit na jeho prosazení.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Frederic Scherer studoval 15 závodů které dříve vlastnily velké společnosti, závody si později odkoupili manažeři, silný nárůst zisku, až na jeden zá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vody ke zlepš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yužití příležitostí ke snížení nákladů, které dříve byly nepovšimnu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arnotratnost byla nahrazena střídmost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nížení stavu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ahrazení operací počítač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řehodnocení rozhodnutí vyrobit nebo koup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Odstranění složité byrokratické strukt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avedení přísných kontrol inventá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ké podniky X malé podn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ysoké náklady na vnitřní koordina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efektivní využití pracovní s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lé firmy lépe a rychleji reagují na potřeby vybraných skupin zákazníků a zaměřují se na okrajové segmenty trh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olečnosti s hromadnou výrobou se musí zaměřit na široký trh, některé segmenty trhu budou nuceni přenechat konkuren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doba vítě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ochá(organizační struktura má méně úrov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kost je prio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kytovat zákaznický serv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nohem rychlejší v inov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stříc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yužívat dobře vyškolené lidi jako hlavní prostředek ke zvýšení hodnoty a podíl na zisku a spoluúčast lidí, kteří zvyšují hodno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ovace musí probíhat svižným temp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lavní předpoklad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vestujte do aplikací - skromné začát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líčové strategie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rosazujte týmovou práci ve výrob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odporujte každý pilotní projek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ebojte se „tvůrčí výměny tvrdých míčů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„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Jedna paní povídala“ – marketingový systé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ktiky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odporujte zapálené bojo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nagementu               „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zorová“ inovace- prax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dpor. inovaci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Rychle odstraňujte chy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novte měřitelné cíle inov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vá tvář firmy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ypěstujte v korporaci schopnost inov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1 Začátky mohou být skromn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lcí hoši“ – velké, složité projekty – prohráva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í hoši“ – rychle jedou a často také prohrávají – revol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lomte návyk „ velkého myšlen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romný začátek: vyžaduje skutečnou autono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romné financování a jednoduchý apará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é starty – malé ztrá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4:00:41Z</dcterms:created>
  <dc:creator>Lucie Bieliková</dc:creator>
  <dc:description/>
  <dc:language>en-US</dc:language>
  <cp:lastModifiedBy>Lucie</cp:lastModifiedBy>
  <dcterms:modified xsi:type="dcterms:W3CDTF">2008-11-11T06:48:05Z</dcterms:modified>
  <cp:revision>38</cp:revision>
  <dc:subject/>
  <dc:title>Od masové velkovýroby k inovativnosti a hodnotě pro zákazníka</dc:title>
</cp:coreProperties>
</file>