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565-567A-42A8-8C0F-A5C5CF72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FD0-A8CE-48E6-9FD4-21DBE8A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2A0B-0367-44FA-BA78-B4C9831E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DCA7C-F394-4C8B-93AD-91E780D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E5EF3-F681-4C12-9FBF-9F8F5AD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B5CD0-2AA5-45E1-80BC-CA6910D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64616-3527-418D-9581-D1D92C0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C629-C92E-44D8-8E7D-DF0D192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6C459-3C7B-47E2-BDBB-210F065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354CE-A0A9-4004-A5FB-C9BA37EF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A9CA4-6FDF-454F-8174-396D32DC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5CF-C2B2-4524-8F00-69583046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D80-B27A-4B38-8F48-439BC72C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3C9-7FAD-40C5-9F27-F032912A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437D-F622-4DD3-9B07-E8F1C03E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56C4-9332-4772-BBD1-1AC1DCA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819-51C6-4D43-98D5-8CFD2E0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004-C539-4F98-A5D2-9A20098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13D6-A269-4080-9197-4A2DBA10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B112-686C-44ED-9EA2-2DBF4E5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8DD-00F5-47FA-9D7E-F96D6BC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B949-ED3C-4E58-8107-DEA15679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0E3-CED4-46B9-92FE-2CD6043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818-518E-4285-B355-C5668CA3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654-A59D-4176-813B-E99BF8F0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BF1-DF06-486D-838F-D19F85BC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E869-BFE5-4042-9967-C0394687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99EB-C5F1-4AF8-BA0A-178194B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314C-2EB0-4740-AAAD-056BD19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084E-DEC7-4885-B713-4D88F5C0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C285-7575-4341-8C10-472C0F13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E23-2C1B-4B1C-966D-854BFFD4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9B5E-8EC9-4A93-8D14-9B44EC7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1A26-C4CC-4CC8-9EEE-88E9E70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F134-036E-4B0A-9BED-4F0F945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FC2C-5B31-4FF0-8F18-990E197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CFB3-AD19-48F6-861D-E2C91D75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F9FF-DDFC-42DC-B86D-9A13E51E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F1E8-DD23-4E34-87D3-7769AAAB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BD4C-BCD9-4C89-954F-E03DCAE2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AA89-09D3-4E10-9C7D-856D671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9252-7F9F-4826-83B6-B087FD6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BFF-D37F-4CAB-9C56-54A983F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9C22-D23D-43DE-AD2C-B3EB1E4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297F-9477-4DC4-948C-AEA96CC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B90F-9B80-4C8D-AB04-682BFFF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BAD1-6DE0-4AF0-9DD1-5B24524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68FE-28A9-4022-817D-43CDB7E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239C-488A-49F4-97BB-CC1640A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F672-4328-427E-953E-14D76198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860B-EE70-4F39-89C9-86B4A3EF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E767-72C6-4081-BEED-DDF6EF6D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E855-C53E-457D-8633-1FE6C9CE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F3F-C169-4B6D-94EF-C2F8649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71F9-D718-498C-87A5-CB74AD9D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4FAD-E9E5-498E-A452-875591AB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D0BB-55F5-4095-81C5-C9B9EF2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6CAA-A826-44F0-9293-F1153854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B5A2-E015-4A18-9EDB-4EAA0EF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4EE2-DA10-4DC4-8F77-531EAF0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FDAA-A2FC-4B68-A77A-5D5F076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49D7-E086-4C7B-952D-101F6CF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EDB7-485A-410B-9D3D-C2DB7779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DFF9-91BF-4202-AE0C-9B3A7828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56D-8428-4A41-8CEF-BF7311E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96BC-BE3D-43B9-9FB5-10567FFA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B5EA-FC12-4402-85F1-BBE790E5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329A-B8FB-4431-BE64-E46009B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636E-C3C3-4E4D-A1B4-EA38EE8B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1661-37AB-48FF-99B5-D864679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93B4-157C-4BE5-BC96-60BC1A1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418B-9DE8-4ADD-AEAD-519E23C2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EB1A-9368-4D2A-BFE5-BFEE7E1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0AD5-8158-4A49-AF90-BD53E61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674E-8CDD-4C93-8FAB-588EECB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52A-B5DD-49B2-AAA7-229B13F6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50F45-AEE3-4B88-81FF-7C7B82BF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EE0C-EA4C-470A-867A-86644771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0B79-285B-47BA-ACE7-77E5B6DB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1F224-D282-4996-9931-1612D53E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4321-1491-4AD4-831F-B2958F0B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1603-07BB-42E4-8BE4-05829FC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1147D-A42A-4DB4-814B-C8AED46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B7EC-25C2-4C17-A933-2BE5E8B1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E640-0EA4-402F-92E9-62C5C1AF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B074D-00E5-4A16-83FD-0B5954D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A1B-33C0-4C83-BB0D-CEBA3CA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24F8-CA0C-4AB3-9AC6-9DA0F7D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D337-8438-436E-845A-F3B4BCD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DE91-65E4-48DD-9D58-544FED7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2B08-F0CF-483F-B247-202D0BAC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0DFF-7456-4EA4-9381-32C479BC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5AAA9-B65D-464C-B13C-7D4A1DB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271EB-B40F-4D4A-820F-0BA6574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0452-86CE-41D2-A94F-7AFFAD29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4FDC3-AF8D-44B9-9515-ECBB29AC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4E91-7515-4BEF-A983-CAA4206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F8C-B09D-45CE-BA3A-60B7BAAF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C809-C14D-4F99-9287-DDF5EAC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9FB1-3546-4D80-8A1F-48A633A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21F85-6B00-419B-AE6E-BEDA163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E8572-5E46-4B0A-B3EF-D6EB1BE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CBD4-17AB-4831-B831-AE5ECC3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28D3B-FF1D-432F-A6FB-0AA14E24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AD51-A102-4DCA-B13A-17BC63B1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6F221-AB85-4C6C-B9AD-5B876A26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81D39-C3E8-4485-881E-AD5F4AB6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CFDFE-BB47-48AE-887D-A08527AE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B2CA-3F61-43F6-8F84-8CC2356BFB8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93EF-FA13-465F-911A-9558AADD75EA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3A7-4BC3-4C5B-9EDD-88236E922FE7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1A34-6FEF-484B-8301-8C544FBEE0EC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C833-C40F-4682-B3F3-E129251FDA4A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5A98-1380-4F90-A2B6-9D010B3C41B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B66B-E78C-4D03-8265-8D791F9E272D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D1A-524D-4995-AB84-DF20C7478AF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272-D86D-44B1-8CBC-04413B30B4B2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ateriální možnost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Přírodní kapitá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eze prosperity, pokrok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eny komodi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9" descr="C:\Users\admin\Desktop\EIAManufacture1c.gif"/>
          <p:cNvPicPr/>
          <p:nvPr/>
        </p:nvPicPr>
        <p:blipFill>
          <a:blip r:embed="rId2"/>
          <a:stretch/>
        </p:blipFill>
        <p:spPr>
          <a:xfrm>
            <a:off x="4572000" y="1714680"/>
            <a:ext cx="4295880" cy="19904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apitál a jeho ty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generat. proce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lekt. Posu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Diagram 3" descr=""/>
          <p:cNvPicPr/>
          <p:nvPr/>
        </p:nvPicPr>
        <p:blipFill>
          <a:blip r:embed="rId2"/>
          <a:stretch/>
        </p:blipFill>
        <p:spPr>
          <a:xfrm>
            <a:off x="3041640" y="2567160"/>
            <a:ext cx="6108840" cy="4078080"/>
          </a:xfrm>
          <a:prstGeom prst="rect">
            <a:avLst/>
          </a:prstGeom>
          <a:ln w="0">
            <a:noFill/>
          </a:ln>
        </p:spPr>
      </p:pic>
      <p:sp>
        <p:nvSpPr>
          <p:cNvPr id="407" name="Zahnutá šipka dolů 4"/>
          <p:cNvSpPr/>
          <p:nvPr/>
        </p:nvSpPr>
        <p:spPr>
          <a:xfrm rot="20115000">
            <a:off x="3700440" y="3028680"/>
            <a:ext cx="2000160" cy="714240"/>
          </a:xfrm>
          <a:custGeom>
            <a:avLst/>
            <a:gdLst>
              <a:gd name="textAreaLeft" fmla="*/ 433080 w 2000160"/>
              <a:gd name="textAreaRight" fmla="*/ 1477800 w 20001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ahnutá šipka doprava 5"/>
          <p:cNvSpPr/>
          <p:nvPr/>
        </p:nvSpPr>
        <p:spPr>
          <a:xfrm rot="5996400">
            <a:off x="7369200" y="2327760"/>
            <a:ext cx="714600" cy="1785960"/>
          </a:xfrm>
          <a:custGeom>
            <a:avLst/>
            <a:gdLst>
              <a:gd name="textAreaLeft" fmla="*/ 95760 w 714600"/>
              <a:gd name="textAreaRight" fmla="*/ 618840 w 714600"/>
              <a:gd name="textAreaTop" fmla="*/ 379440 h 1785960"/>
              <a:gd name="textAreaBottom" fmla="*/ 131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80" stAng="-5400000" swAng="-5400000"/>
                <a:lnTo>
                  <a:pt x="0" y="11340"/>
                </a:lnTo>
                <a:arcTo wR="21600" hR="9180" stAng="10800000" swAng="-3523212"/>
                <a:lnTo>
                  <a:pt x="16200" y="21308"/>
                </a:lnTo>
                <a:lnTo>
                  <a:pt x="21600" y="19440"/>
                </a:lnTo>
                <a:lnTo>
                  <a:pt x="16200" y="16988"/>
                </a:lnTo>
                <a:lnTo>
                  <a:pt x="16200" y="18068"/>
                </a:lnTo>
                <a:arcTo wR="21600" hR="9180" stAng="7276788" swAng="3350269"/>
                <a:lnTo>
                  <a:pt x="150" y="10260"/>
                </a:lnTo>
                <a:arcTo wR="21600" hR="9180" stAng="-10627057" swAng="5227057"/>
                <a:close/>
              </a:path>
              <a:path fill="darkenLess" w="21600" h="21600">
                <a:moveTo>
                  <a:pt x="21600" y="0"/>
                </a:moveTo>
                <a:arcTo wR="21600" hR="9180" stAng="-5400000" swAng="-5400000"/>
                <a:lnTo>
                  <a:pt x="0" y="9180"/>
                </a:lnTo>
                <a:arcTo wR="21600" hR="9180" stAng="10800000" swAng="-172943"/>
                <a:lnTo>
                  <a:pt x="150" y="10260"/>
                </a:lnTo>
                <a:arcTo wR="21600" hR="9180" stAng="-10627057" swAng="52270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ahnutá šipka doprava 7"/>
          <p:cNvSpPr/>
          <p:nvPr/>
        </p:nvSpPr>
        <p:spPr>
          <a:xfrm rot="8295000">
            <a:off x="6891120" y="3198960"/>
            <a:ext cx="714240" cy="1814400"/>
          </a:xfrm>
          <a:custGeom>
            <a:avLst/>
            <a:gdLst>
              <a:gd name="textAreaLeft" fmla="*/ 95400 w 714240"/>
              <a:gd name="textAreaRight" fmla="*/ 618840 w 714240"/>
              <a:gd name="textAreaTop" fmla="*/ 385200 h 1814400"/>
              <a:gd name="textAreaBottom" fmla="*/ 1334520 h 18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74" stAng="-5400000" swAng="-5400000"/>
                <a:lnTo>
                  <a:pt x="0" y="11300"/>
                </a:lnTo>
                <a:arcTo wR="21600" hR="9174" stAng="10800000" swAng="-3137852"/>
                <a:lnTo>
                  <a:pt x="14863" y="21142"/>
                </a:lnTo>
                <a:lnTo>
                  <a:pt x="21600" y="19410"/>
                </a:lnTo>
                <a:lnTo>
                  <a:pt x="14863" y="16762"/>
                </a:lnTo>
                <a:lnTo>
                  <a:pt x="14863" y="17889"/>
                </a:lnTo>
                <a:arcTo wR="21600" hR="9174" stAng="7662148" swAng="2967662"/>
                <a:lnTo>
                  <a:pt x="146" y="10236"/>
                </a:lnTo>
                <a:arcTo wR="21600" hR="9174" stAng="-10629810" swAng="5229810"/>
                <a:close/>
              </a:path>
              <a:path fill="darkenLess" w="21600" h="21600">
                <a:moveTo>
                  <a:pt x="21600" y="0"/>
                </a:moveTo>
                <a:arcTo wR="21600" hR="9174" stAng="-5400000" swAng="-5400000"/>
                <a:lnTo>
                  <a:pt x="0" y="9174"/>
                </a:lnTo>
                <a:arcTo wR="21600" hR="9174" stAng="10800000" swAng="-170190"/>
                <a:lnTo>
                  <a:pt x="146" y="10236"/>
                </a:lnTo>
                <a:arcTo wR="21600" hR="9174" stAng="-10629810" swAng="522981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působ myšlení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ízká hodnota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přírodních zdroj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Šrafovaná šipka doprava 6"/>
          <p:cNvSpPr/>
          <p:nvPr/>
        </p:nvSpPr>
        <p:spPr>
          <a:xfrm rot="2613000">
            <a:off x="961560" y="2390400"/>
            <a:ext cx="5786640" cy="1785960"/>
          </a:xfrm>
          <a:prstGeom prst="pie">
            <a:avLst/>
          </a:prstGeom>
          <a:solidFill>
            <a:srgbClr val="f0a22e">
              <a:alpha val="68000"/>
            </a:srgbClr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ovéPole 7"/>
          <p:cNvSpPr/>
          <p:nvPr/>
        </p:nvSpPr>
        <p:spPr>
          <a:xfrm>
            <a:off x="607212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Users\admin\Desktop\06.06.15.HolySmokeMir-X.gif"/>
          <p:cNvPicPr/>
          <p:nvPr/>
        </p:nvPicPr>
        <p:blipFill>
          <a:blip r:embed="rId1"/>
          <a:stretch/>
        </p:blipFill>
        <p:spPr>
          <a:xfrm>
            <a:off x="4191120" y="1071720"/>
            <a:ext cx="4952880" cy="3695400"/>
          </a:xfrm>
          <a:prstGeom prst="rect">
            <a:avLst/>
          </a:prstGeom>
          <a:ln w="0">
            <a:noFill/>
          </a:ln>
        </p:spPr>
      </p:pic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stře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Limitující fakto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né ocenění všech forem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admin\Desktop\news5_strategy.jpg"/>
          <p:cNvPicPr/>
          <p:nvPr/>
        </p:nvPicPr>
        <p:blipFill>
          <a:blip r:embed="rId1"/>
          <a:stretch/>
        </p:blipFill>
        <p:spPr>
          <a:xfrm>
            <a:off x="5072040" y="1928880"/>
            <a:ext cx="3591000" cy="3548160"/>
          </a:xfrm>
          <a:prstGeom prst="rect">
            <a:avLst/>
          </a:prstGeom>
          <a:ln w="0">
            <a:noFill/>
          </a:ln>
        </p:spPr>
      </p:pic>
      <p:pic>
        <p:nvPicPr>
          <p:cNvPr id="41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Radikální produktivita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iologické mimik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konomika služe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vestování do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15:24Z</dcterms:created>
  <dc:creator>Heczko Michal</dc:creator>
  <dc:description/>
  <dc:language>en-US</dc:language>
  <cp:lastModifiedBy>Heczko Michal</cp:lastModifiedBy>
  <dcterms:modified xsi:type="dcterms:W3CDTF">2008-11-02T20:35:40Z</dcterms:modified>
  <cp:revision>21</cp:revision>
  <dc:subject/>
  <dc:title>Kapitalismus nové civilizace</dc:title>
</cp:coreProperties>
</file>