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B9D-06C1-41D4-96CB-4843FE05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5DA-BF93-48DB-BBBF-6BF6630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910D-4A20-4254-B45B-8B11ADE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E38E-6027-4E42-B910-5CB750E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40B8D-2CE0-4991-A4D6-AD580D8A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23E57-0DD2-43D0-8E5F-0FE82834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E16B-39F6-498C-9A1F-A068E87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23CDA-43C4-492F-8093-FBA4D35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020DB-F887-4F1E-9BD7-603D6D3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FC50-B65E-44B1-974F-BF2B3209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19971-1715-46E7-A2E3-CC333E58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BE5-0C5E-41F1-84A4-50A27ECB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8EE-689A-46A5-A5F0-A3985678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602E-F15D-4DB9-88B5-F9A2FC8E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CE54-6D4D-43C5-B77D-86E84EE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9BDD-F9ED-441C-A521-0E2D1C3A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033C-6BB5-4D6C-816F-9DF914F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322-3A6D-4985-B938-71D1CD47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50B2-38A1-4F3D-AA1C-98B838BA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30A-9C19-4FD6-912A-1D32C92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A0C-B4C3-4F9D-9EAB-EB349D0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AE74-1200-450D-8FAF-E7A70F5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AAA-482A-4562-B739-1C210F9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7BCF-250B-40C7-B20C-91B2B69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9E65-BE06-46E2-90B8-F9CE0BC9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CA08-5DD8-40B7-BBA4-941DB94E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66C66-2B90-4B8A-B2B4-D83B1A16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EEB4E-2FC2-46F6-80A3-9151EE5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6D83E-7614-4385-8915-C3E3EC0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4768A-5235-4D63-9C94-0093F85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6C091-BDE8-4340-8780-A2FB1F56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206-7658-43EA-A33A-DD03C3D7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7F666-6826-4239-8DD1-2D5A3C29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0DC35-1FF0-466F-BA62-5D90CE8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0B50D-D3E2-46F7-8E73-5FDB1CD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E24DB-B86D-4E3A-82DA-0B1A803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58B99-791E-4710-BA84-3FCB087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94203-D311-44B4-A1B5-197A7AEF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5BEED-DD17-442E-92CA-48CB9709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15B3D-4327-46A9-9014-661746C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57E33-5D98-4C67-AD36-B73221A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97075-2F0B-45CA-91DF-0D73E59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10B-9F4A-49AD-B8D0-67514CE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6A3B1-A3EF-4AD4-A4CB-E53DF21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C1997-A464-46FB-AC78-A0DE9C8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3D46B-FD6F-4C60-8821-5B2C136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63FEC-7542-48D5-B917-883D6AE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3AA88-BD83-4A2D-A83D-180FC0A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F29D5-24AD-4CA6-B0CD-824A1BB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40CE9-7CB5-40B4-A30F-B9A68734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F640C-5617-432E-ADED-650A2039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04967-FD49-40CB-96F3-EED7E01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18FB6-11CF-4FAB-BD85-1998D96B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D7C-8014-43C2-9560-6193B61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49367-1072-4CB9-997C-36D8FCF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B924C-4255-4CDE-893F-0BE16E6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8EA13-5834-4C57-95E8-0C061EE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00CAB-8690-4922-89B9-9E9F09E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DB0BD-5EF0-472C-8340-42C9D9BC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E1F79-5B82-4022-9443-0472EE0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29121-1BF6-41F9-B82D-6A58C0F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3D9B8-9D09-4D05-9E92-1B51767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3D5D9-77D2-4BC2-A549-1810F44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034CF-B9CE-4DE9-A359-4E679A56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587-D71F-4F39-97A2-075A72EB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42930-3DAE-4573-8C11-974A3DE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79BD-4112-4A15-96C8-6E060F05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0D67-5EA9-4BEB-BDD1-24D19F1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A6CA-8FC7-4FB1-B4C2-A8AAFBD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01CE-EF57-4244-A1E4-ACB957A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05819-A404-4A2D-AB16-68D658C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8E072-31A9-4EDC-96DF-68233CC8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6F0F-819C-40E5-8216-7661D43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8BFF-16A4-401C-BA03-9BB7B3A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ACDA-1F70-4A1D-9E60-4C1B3ED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C50-5192-4D46-B97F-581B110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21FEB-F844-46DA-98E5-AFB4E3A4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FD7E-37B0-4392-8598-5E52083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15D2-ED83-47D4-AC03-EAEC2CE5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806B6-317D-4FDA-BB02-DF1323DE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82564-F0BD-43E3-8F7F-C2A0E071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85F8F-000E-4EED-B3DC-34A9FFB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E08A9-8477-460A-99E2-4FCDE7E2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E3014-3252-4614-A98C-F0E3FFFB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18087-66FD-4E19-9926-4D848FE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7DA73-DF28-4184-8EE8-C15DAE6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530-0CAE-4BEC-8B23-A73E7F4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2E608-F96A-4F28-86B3-B4B4AC1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5C5B3-E4B5-4F52-A118-297C9E20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5D26F-D287-440B-9217-4680A9E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0FF49-031C-4F2F-ABE5-5A2A6642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AC80D-687A-43D9-A11B-A9E6A5FE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06A68-C5B9-4FF7-A9AF-B48240A7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D918-F30B-40A7-A905-3AF4E0D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D115C-9A64-46E2-82D1-188DB8D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434C-62BA-464D-B045-D88D815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EFDB4-EBB6-4574-AB44-27EF753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5FD-2A3F-47A2-8F7B-3F4D633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42F5-52C2-4D29-A807-82FD2AF8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FF1E-CC0A-41AC-9CA0-656F0F58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F71B-A5FE-4EBC-A74C-767F77F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FE06-0511-4CCE-B32C-0FA6960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716F-8B01-4558-BDCA-07CFBA9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C9F3B-910F-4267-8E60-14253E29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46B3F-B3A5-4564-BF07-45CAEDB8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6D0E7-07E3-49B7-892D-9B35453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FFD7-0FA8-4E15-A7D5-452999A2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FCC2-FFBB-4A3F-81DA-9D380B5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0A2-2BEE-4485-9598-0CE26051C7F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9EA-123C-4F95-8239-DBDD6238533D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3A2-9D3A-42AE-B367-845C9DAF368E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AD2-61D9-4D87-BBC6-ACAEA910C6E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4AE-4FF5-4F82-931F-1CD70B6911FA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5EF-DDCA-41A1-9A94-81090F186D27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5ED-EB0B-4D41-8752-475964469F64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CA94-FD95-4E9D-9009-A46C8EBA605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FB9C-D47E-4EA4-926B-45597F2CF16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bddc3"/>
                </a:solidFill>
                <a:latin typeface="Tw Cen MT"/>
              </a:rPr>
              <a:t>ANALÝZA PRAXE MANAGEMENTU ÚSPĚŠNÝCH AMERICKÝCH SPOLEČNOSTÍ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General Electric (G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878 – Thomas A. Edison - Edison Electric Light Compan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»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  <a:ea typeface="Arial"/>
              </a:rPr>
              <a:t> General Electr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ržní hodnota z roku 1997 nejvyšší na světě: 300 mld. dolar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ý výběr ved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ekrutování manažerů ze svých řa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lepší a levnější si talenty pěstov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Diagram 16"/>
          <p:cNvGrpSpPr/>
          <p:nvPr/>
        </p:nvGrpSpPr>
        <p:grpSpPr>
          <a:xfrm>
            <a:off x="1220760" y="96480"/>
            <a:ext cx="6703200" cy="6647400"/>
            <a:chOff x="1220760" y="96480"/>
            <a:chExt cx="6703200" cy="6647400"/>
          </a:xfrm>
        </p:grpSpPr>
        <p:sp>
          <p:nvSpPr>
            <p:cNvPr id="415" name="_s1028"/>
            <p:cNvSpPr/>
            <p:nvPr/>
          </p:nvSpPr>
          <p:spPr>
            <a:xfrm flipH="1" flipV="1">
              <a:off x="3396600" y="1655640"/>
              <a:ext cx="847440" cy="13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29"/>
            <p:cNvSpPr/>
            <p:nvPr/>
          </p:nvSpPr>
          <p:spPr>
            <a:xfrm>
              <a:off x="246672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oprav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1030"/>
            <p:cNvSpPr/>
            <p:nvPr/>
          </p:nvSpPr>
          <p:spPr>
            <a:xfrm flipH="1" flipV="1">
              <a:off x="2599200" y="2581200"/>
              <a:ext cx="1423800" cy="64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1"/>
            <p:cNvSpPr/>
            <p:nvPr/>
          </p:nvSpPr>
          <p:spPr>
            <a:xfrm>
              <a:off x="144360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 p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ktrár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032"/>
            <p:cNvSpPr/>
            <p:nvPr/>
          </p:nvSpPr>
          <p:spPr>
            <a:xfrm flipH="1">
              <a:off x="2428200" y="3563280"/>
              <a:ext cx="154692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33"/>
            <p:cNvSpPr/>
            <p:nvPr/>
          </p:nvSpPr>
          <p:spPr>
            <a:xfrm>
              <a:off x="12207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s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 flipH="1">
              <a:off x="2938680" y="3872520"/>
              <a:ext cx="1179360" cy="10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35"/>
            <p:cNvSpPr/>
            <p:nvPr/>
          </p:nvSpPr>
          <p:spPr>
            <a:xfrm>
              <a:off x="1870920" y="4683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0640" rIns="170640" tIns="88920" bIns="88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ysíla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čin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6"/>
            <p:cNvSpPr/>
            <p:nvPr/>
          </p:nvSpPr>
          <p:spPr>
            <a:xfrm flipH="1">
              <a:off x="3966120" y="4054680"/>
              <a:ext cx="438840" cy="14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7"/>
            <p:cNvSpPr/>
            <p:nvPr/>
          </p:nvSpPr>
          <p:spPr>
            <a:xfrm>
              <a:off x="3185640" y="55288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dravotni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8"/>
            <p:cNvSpPr/>
            <p:nvPr/>
          </p:nvSpPr>
          <p:spPr>
            <a:xfrm>
              <a:off x="4744440" y="4054680"/>
              <a:ext cx="441000" cy="14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9"/>
            <p:cNvSpPr/>
            <p:nvPr/>
          </p:nvSpPr>
          <p:spPr>
            <a:xfrm>
              <a:off x="4747320" y="552888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světl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40"/>
            <p:cNvSpPr/>
            <p:nvPr/>
          </p:nvSpPr>
          <p:spPr>
            <a:xfrm>
              <a:off x="5031720" y="3869640"/>
              <a:ext cx="1179000" cy="10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41"/>
            <p:cNvSpPr/>
            <p:nvPr/>
          </p:nvSpPr>
          <p:spPr>
            <a:xfrm>
              <a:off x="6061680" y="468396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ač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2"/>
            <p:cNvSpPr/>
            <p:nvPr/>
          </p:nvSpPr>
          <p:spPr>
            <a:xfrm>
              <a:off x="5171760" y="3559320"/>
              <a:ext cx="1544760" cy="22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43"/>
            <p:cNvSpPr/>
            <p:nvPr/>
          </p:nvSpPr>
          <p:spPr>
            <a:xfrm>
              <a:off x="67089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ůmys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44"/>
            <p:cNvSpPr/>
            <p:nvPr/>
          </p:nvSpPr>
          <p:spPr>
            <a:xfrm flipV="1">
              <a:off x="5121720" y="2574360"/>
              <a:ext cx="141876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45"/>
            <p:cNvSpPr/>
            <p:nvPr/>
          </p:nvSpPr>
          <p:spPr>
            <a:xfrm>
              <a:off x="648648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apitá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6"/>
            <p:cNvSpPr/>
            <p:nvPr/>
          </p:nvSpPr>
          <p:spPr>
            <a:xfrm flipV="1">
              <a:off x="4898880" y="1653480"/>
              <a:ext cx="842040" cy="13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47"/>
            <p:cNvSpPr/>
            <p:nvPr/>
          </p:nvSpPr>
          <p:spPr>
            <a:xfrm>
              <a:off x="546336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á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řebič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48"/>
            <p:cNvSpPr/>
            <p:nvPr/>
          </p:nvSpPr>
          <p:spPr>
            <a:xfrm flipV="1">
              <a:off x="4571280" y="1311480"/>
              <a:ext cx="0" cy="155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49"/>
            <p:cNvSpPr/>
            <p:nvPr/>
          </p:nvSpPr>
          <p:spPr>
            <a:xfrm>
              <a:off x="3963600" y="964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e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50"/>
            <p:cNvSpPr/>
            <p:nvPr/>
          </p:nvSpPr>
          <p:spPr>
            <a:xfrm>
              <a:off x="3963600" y="2870640"/>
              <a:ext cx="1215000" cy="1215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měny General Electri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organizoval od základů obchod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pustil téměř 200 tis. zaměstnanc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ísto malých posunů rovnou skočit“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oncept „tréninku“ jako nový nástroj komunik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bnovení důvěry mezi zaměstnanci a management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lomení bariéry a podpoření kreativ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75f55"/>
                </a:solidFill>
                <a:latin typeface="Tw Cen MT"/>
              </a:rPr>
              <a:t>10 tajemství manažerského stylu Jacka Welch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Investujte do lidí – Na lidech zále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Ovládněte trh nebo ho vykli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Nikdy se nezastav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Myslete na služb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apomeňte na minul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Učte se a ve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Žádné žvaněn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likvidujte byrokraci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ůstaňte u jedné korpora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Řiďte svůj podnik jako obchod na náro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duktivita zásluhou lid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LEXTRON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ezinárodní společnost (Singapu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ední poskytovatel EM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10844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w Cen MT"/>
              </a:rPr>
              <a:t>Vývoj, výroba, logistika, poprodejní serv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OEM a ODM zákazní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vizice společnosti Solectron (2007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ržby $33,6 miliar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bočky ve &gt;30 zemích na 5 kontinente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vojové centrum v Brně (segment Industrial – centrála v Dallasu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- Klíčové hodno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Intenzivní spoluprá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měření na zákazní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á, rychlá a disciplinovaná real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vazek k trvalému zlepš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rvalé směřování k cí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0 zaměstnanců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0 vývojových inžený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90% muži, Ø věk 32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stavení systému odměň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mzdy dle LEV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systému hodnoc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kolení a rozvoj zaměstnanc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flexibilních zaměstnaneckých benefit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ružná pracovní do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evná část 10:00 – 14:30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itelná část 5:00 – 10:00, 14:30 – 22: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z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xní část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sč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plácen nad rámec Z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imořádné odmě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jimečné pracovní výsledky, mimořádné úko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enef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raven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íspěvek na ŽP, P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urzy A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cie společnost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tný reži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ovolená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4+1 týden naví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nájem tělocvič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ngp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remní ak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om Peters, Robert H. Waterman jun., Hledání dokonalosti, ISBN 80-7205-817-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rainer Stuart - Byznys podle Jacka Welche, Pragma 2005, ISBN: 80-7205-947-5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www.businessweek.com/magazine/content/01_49/b3760040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en.wikipedia.org/wiki/In_Search_of_Excell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niha byla vydána v roce 1982 (zastaralost názorů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Široké spektrum společ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jich přísný výběr podle mnoha ukazatelů (musely vykazovat dlouhodobý úspěšný růs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bývají se řízením společností z pohledu celého management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jim vytýká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data byly nepřes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 většinu společností přišla slabší léta, i když byly prezentovány v knize jako „dokonalé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úspěšné společnosti se do hodnocení nedostaly, kvůli striktnímu dodržování ukazatel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Hodnocené společnosti byly velké a měly dominantní postavení na trh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ředpoklady dokonalost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ledání pomocí 7s (strategie, struktura, zaměstnanci, systém řízení, sdílené hodnoty, styl vedení, dovednost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efinují oblasti, které musí management řeš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mocí nich identifikovali klíčové oblasti a vztahy mezi nim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lezli 8 těchto oblastí přispívajících k dokonal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Motivace k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naha udělat doj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alé skupiny pracovníků, kteří přicházeli s řešením bez zbytečného papír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ktické zařízení pro organizační změ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Blíže k zákazníkov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čit se od lidí, kterým slouž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valita, služby a spolehlivost – trvalá hodn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Dobré služby jsou výjimk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Autonomie a podnikav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silování vedoucích a inovátorů v rámci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ná síť malých buněk ve velkých organizacích, bez omezování krea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4. Produktivita zásluhou li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 kapitálové investice, ale postavení a zařazení lidí jako hlavní zdroj kvality a zisku z produk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covníci jako zdroj myšlen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5. Prosazování praktické stránky zaměření na hodno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ákladní filozofie organizace přináší větší úspěch než technologie, kapitál a struktu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. Zůstaňte věrni svému obor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ikdy nevlastněte podnik, který neumíte ří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výsledky dosahují společnosti, které zůstávají blízko činnosti, kterou znaj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. Jednoduchá forma, nepočetný personá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Jednoduchá struktura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pičkový personál málo počet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8. Současně volno-pevné vlastn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společnosti jsou buď centrálně řízené, nebo decentralizova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lačení autonomie k dýmům dílen nebo rozvojovým kolektivů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Centralisté kolem několika základních hodnot,které mají podle společnosti význ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Jack Welch (*1935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doval chemické inženýrstv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0 nastoupil do oddělení plastů General Electric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puje ostře proti byrokraci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8 se stává nejmladším generálním ředite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vzal společnost, která byla modelem moci amerických korporací a moderních manažerských techn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53:57Z</dcterms:created>
  <dc:creator>PC</dc:creator>
  <dc:description/>
  <dc:language>en-US</dc:language>
  <cp:lastModifiedBy>Pafča</cp:lastModifiedBy>
  <dcterms:modified xsi:type="dcterms:W3CDTF">2008-11-05T15:42:03Z</dcterms:modified>
  <cp:revision>29</cp:revision>
  <dc:subject/>
  <dc:title>Hledání dokonalosti – Tom Peters</dc:title>
</cp:coreProperties>
</file>