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BE90-2ECC-4CE9-B7C4-41CB95FD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C62-628A-4347-B372-A517504B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D0E4-E340-4536-8B34-E754B281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533-F01C-4ACA-B59B-32E34D7A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932F-97DB-47EE-A87A-1B39B499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90DD-41AB-4C59-BA42-6F456BFE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7E37-7355-4A76-A7CC-B4628AC7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8D6E-959F-4039-B917-48D8625A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0DD1-97C5-40DA-8FB1-14B8E68C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1DFC-9F5D-4BCB-8E03-CEA56252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9C98-A787-4AE0-B9AD-4E4F01B8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1B3-4986-4265-BC60-D2DA2F52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73FB-F510-4694-9934-1D5A8A66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51B1-F3E2-4549-8215-233049F5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C147-AFE7-4D99-9F3C-7E8A2769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91E2-9EE0-4544-A5E2-2295C805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C44F-9D35-4743-ACDA-5502D4CD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008-A10B-4353-B8EA-647768BA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291-EA6E-4C71-B6A8-46837D5A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9D3-C108-42FD-8434-2EB58A0B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CB04-48B8-4E41-B907-3421CF9B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E68-FBCF-471A-91E1-3882A834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B227-C02D-4980-B510-457AA827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365-E127-4808-B0B3-86F119F0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7DBD-1096-481B-98E2-B0EAF6961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6821-B10E-4E28-BE9C-B0952F72DA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Kapitalismus nové civiliz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280" y="4869000"/>
            <a:ext cx="6008760" cy="13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avel Popel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artin Lošťá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artin Vymyslick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Dokončené projekty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e komerční stav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yklace stavby, materiály, pů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tová výsta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třebič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Příroda a vlák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lesů získáváme výrobky z papíru a stavební dře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ste objem spotřeby papíru (5x rychleji než lidská popula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ční spotřeba na osobu 45-90 kg papí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% vyrobeného objemu přechází do „kulturní paměti“, zbytek odp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ír představuje 2% světového obchodu a 2,5% průmyslové výro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Jak nahrazovat papír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26560" y="141264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íl: nahrazovat „vlákna elektrony a papír pixely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ulturní revoluce – přechod k elektronické kanceláři s vyloučením papí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soká počáteční investice, ale získání trvalé konkurenční výhody (snížení nákladů, rychlejší a inteligentnější informační toky, rozhodování atd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oviny a časopisy – internetové verze, velký potenciál k úsporám (např. nedělní New York Times spotřebují na jedno vydání 75 000 stromů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Kombinace úspo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e úspor v různých částech hodnotového řetězce (od těžby surovin přes zpracování a dopravu až po distribuci služeb), úspory lze mezi sebou násob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ílem je zefektivňovat každý krok cesty od dřeva až ke službě zákazníko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ůraz na úspory, které mají nejblíže k zákazníkovi (kolik uspokojení přinese spotřebiteli každá jednotka služeb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Způsoby zlepšování účinnost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erénní účinnost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k účinně se lesy transformují na primární produk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fektivita transformac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k se primární produkty transformují na meziprodukty jako např. papí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Účinnost pro koncového uživatel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e meziproduktu do distribuovaných služ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unkční účinnost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k finální produkty zvyšují uspokojení potř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aktory zlepšení se budou násobit a poptávka po těžbě dřeva se sníží o 96%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Materiálové smyčky - recykl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169992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řevěné přepravní palety – výroba představuje asi 11% veškerého stavebného dřeva (6 palet na jednoho Američa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opravují se, vyřazují se, odpad by ročně stačil na nosnou konstrukci 300 000 do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ětovné využití přináší nejen úsporu, ale i nová pracovní mí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ná změna ekonomické stimula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Materiálové smyčky - recykl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yklační kopírky – smažou stopy tonerů na papíru tak, že se dá použít až desetkrát po sob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merový inkoust – spláchne se z papíru tím, že se vloží do vody o teplotě 54°C, následně se recykluje i smytý inko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zšíření této techniky sníží spotřebu materiálu pocházejícího přímo z lesa o 9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"/>
              </a:rPr>
              <a:t>Děkujeme za Vaši pozor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Úvo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84428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lší průmyslová revolu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sun z důrazu na lidskou produktivitu na radikální zvýšení produktivity zdroj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ěřování k udržitelnému ekonomickému modelu a ke snahám o zabránění globální ekologické kriz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chod od ovlivňování života technologiemi k ovlivňování technologií živo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lená revoluce – konkurenční výho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Destrukce biosfé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 posledních 30 let spotřebována 1/3 zdrojů plan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dní ekosystémy - úbytek 5% roč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polovina 20. stole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ehodnocení čtvrtiny veškeré orné pů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kácení třetiny lesních porost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íroda je nejenom zdroj materiálů, ale zajišťuje udržování podmínek nezbytných pro život - monetárně neocenitelné a bez možných substitut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Přírodní kapitalism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rod nového typu kapitalis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měna filozofie, cílů a proces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centrace kapitálu vs. úbytek přírodního kapitá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ze prosperity - určovány spíše přírodním kapitálem, než výkony průmys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Přírodní kapitalismus a jeho předpokla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tředí není okrajový fak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votní příčiny úbytku přírodního kapitá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patně navržené obchodní systé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ční rů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šetrná spotře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né oceňování všech forem kapitá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lepšování kvality a toku služeb namísto zvyšování celkových finančních to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Přírodní kapitalismus a jeho předpokla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konomická a environmentální udržitelnost závisí na vyrovnání v globální nerovnosti v příjmu a v materiálním blahoby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jlepší prostředí pro obchod – demokratické systémy založené na uspokojování potřeb lidí spíše, než na busines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„</a:t>
            </a: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Zelené“ projektování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eticky úsporné stavby, vnitřní vybavení, osvětlení, spotřebiče a další zaříz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é aktivní vytápění a chlazení nebo vůbec bez n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ětší vizuální, termální a akustický komfort vytváří prostředí s nízkou úrovní stre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pší kvalita ovzduší v budovách at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Otázka nákladovosti, hospodářské efekty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dpoklad vyšších nákladů za postavení „zelené“ budovy  X snižování jiných náklad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Účinné nové budovy ušetří okolo 80% z tradiční spotřeby ener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elené projekty se rychleji prodáva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ižší úroveň stresu, vyšší produktivita práce (příklad firmy Lockheed, Wall-Ma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Otázka projek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ovaný projekční proces – týmově orientovaný proces, kterého se účastní všechny zainteresované osoby na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orář projektantů - procentuální podíl z ceny budov či vybavení  X  jiný stimulující způso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08:57:48Z</dcterms:created>
  <dc:creator/>
  <dc:description/>
  <dc:language>en-US</dc:language>
  <cp:lastModifiedBy>Popl</cp:lastModifiedBy>
  <dcterms:modified xsi:type="dcterms:W3CDTF">2008-11-03T21:40:09Z</dcterms:modified>
  <cp:revision>19</cp:revision>
  <dc:subject/>
  <dc:title>Kapitalismus nové civilizace</dc:title>
</cp:coreProperties>
</file>