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2BA7-0C27-4131-921F-812513EA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CA7C-1F95-46BE-945D-663FFEBD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BB47-FEB1-4E6B-A9FB-CE3FA2B4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2F0B-A47B-43EC-9281-69A3C7BD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DDDD-EA97-4E4D-8FE0-90AEF455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0BF5-0846-459B-8E89-3C0828BF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F08C-09BA-4BD6-BB6C-475A9EDA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207B-4A99-4A28-BD3A-DC847FA9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7141-CF6E-4EA3-BEDC-4261637B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4F5D-A70C-4FC1-80BF-796FDDD5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B1B0-164F-461C-8730-76E1A6AF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39EE-56F5-4232-9180-EB56783C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A83A-3602-49A1-84E9-1A86F5EF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8537-5A29-43E7-BAC2-A13AC4F3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CA7A-7C1F-42B1-A154-1F20C30E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7CBB-2CA8-4C46-B0A0-2DF44135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AAAC-24FC-4ED9-BFC1-BC88A569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0746-005C-4B1D-9A3D-2EE91FCC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4FC5-963B-42B5-994A-CD194E95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D266-D575-432F-B2D4-6F981334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4C81-1D39-4D0A-AD57-2F46B0E4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384E-BAF0-4182-850C-5C6D028A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3B80-8534-462D-8787-A1985184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1FD6-2E06-4825-912B-6BEA2ECF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67B5-88F4-479A-A4F2-A4535742883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1481-6549-4C7A-9B64-D35752817AC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teligentní projektování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jektování budo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elené dom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ákladová barié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Mudy, služby a tok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tec firmy Toyota Taiichi Ohn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eštihlující myšlení – metoda 4 vzájemně propojených prvk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oskytování komplexních služe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ůst kapitál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xperiment BIOS 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írodní kapitál – ekologický systé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lidské aktivity a tok ekosystémových služe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nvestice do přírodního kapitál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říroda a vlákn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ombinace druhů pro zvýšení úspor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22:06:25Z</dcterms:created>
  <dc:creator>Fido</dc:creator>
  <dc:description/>
  <dc:language>en-US</dc:language>
  <cp:lastModifiedBy>Fido</cp:lastModifiedBy>
  <dcterms:modified xsi:type="dcterms:W3CDTF">2008-11-03T22:38:16Z</dcterms:modified>
  <cp:revision>2</cp:revision>
  <dc:subject/>
  <dc:title>Inteligentní projektování</dc:title>
</cp:coreProperties>
</file>