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E67-B52E-4888-86D8-D4FD4FB3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8F6-D7A0-4C79-9842-B4764703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C64-9428-4F6B-83D3-F88EF774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495-4374-457E-BB1E-06CB658D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701D-D9E5-4603-AB6F-432449AD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1DE8-628A-4EDB-967D-41BF0E20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B542-DFB5-4F9D-B118-D39D3EC3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1118-5275-42C0-9771-8F87D26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87DD-1CB3-4017-A167-B9E448F5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77B7-AF24-4B3A-AB8A-F7158FB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BD2E-AD99-4360-B63B-BA0BF731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F5B-8166-483E-A21D-3778306E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70A0-27DD-4BD3-992F-F2D735D7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288D-B452-4818-85E2-0210996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381-C379-4C89-B6D5-6469D68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6CCD-DDED-44F3-A57C-6D591059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4528-A5AE-49AD-A3C9-FC81C9DE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100-60B8-420C-B373-A2BDC63B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887-FB51-4A19-988E-DD1AB6A3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E16-6CDD-45F1-AECB-067D7F44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D1D-67A9-40AE-AFA5-D6B942ED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2A1-03F0-4149-9E99-B99688A8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068-891A-4925-A4D9-1CA22280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442-28C8-4861-B365-97E33461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0099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DFCE-A40B-4079-8065-6CBD3DEDEE0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982C-F93C-459C-B01F-D0D81AB2C24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Analýza praxe managementu úspěšných amerických společnos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1.11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ublix: Práce potěšení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loridská síť supermarketů založená Georgem Jenkins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em je přístup k pracovní sí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a šedesátiletou existenci nebyl propuštěn ani jeden zaměstnane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ublix: Práce potěšení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 práce se zaměstnanc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áklad v potřásání rouko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šichni začínají jako nosiči pytl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ty na pokladnách o třetinu vyšší než druhý nejlépe platící konkur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oncept společník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ětšina společnosti vlastněna zaměstnanc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láda nad vlastním obchod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nkerton: Lekce z prověřov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inkertonova Národní detektivní agen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braham Lincoln, Jasse James, Butch Cassidy, Sundance Ki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istorický klíčová role náboru zaměstnanc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nkerton: Lekce z prověřov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sady prověřování zaměstnanců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Žádost, pohovo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st zkoumající poctivost a ochotu dodržovat podniková pravidl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lliView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acovní anamnéza, kriminální činnost, dopravní záznamy, zkoumání bankovních účtů, zkoumání likvidity, veřejné regist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99"/>
                </a:solidFill>
                <a:latin typeface="Verdana"/>
              </a:rPr>
              <a:t>V žebříčku nejrespektovanějších firem světa vedou americké společnost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General Electric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Microsoft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IBM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Coca-Cola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Dell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Citigroup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Wal-M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Hewlett-Packard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Procter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&amp;</a:t>
            </a: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 Gambl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218592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znik 1837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robce svíček William Procter a výrobce mýdel James Gamble spojili své síly a založili firmu Procter &amp; Gamb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Verdana"/>
              </a:rPr>
              <a:t>založena v americkém státě Ohio ve městě Cincinnati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de-DE" sz="2600" spc="-1" strike="noStrike">
                <a:solidFill>
                  <a:srgbClr val="ffffff"/>
                </a:solidFill>
                <a:latin typeface="Verdana"/>
              </a:rPr>
              <a:t>o druhé světové válce společnost expandovala do Evropy a dále pak do celého světa.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1296720" cy="12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164360" y="260280"/>
            <a:ext cx="12970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v roce 2005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trhy ve více než 160 zem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íce než 100 000 zaměstnanc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výrobní závod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rakovnická Rakona, rumunský Temešvár, ruský Novomoskov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ukrajinských Borispol, Budapešť a Varša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32720" y="1700280"/>
            <a:ext cx="1807920" cy="160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76500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Procter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&amp;</a:t>
            </a: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 Gam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dzim 2000 šéfem Alan George Lafle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řijdi na to co spotřebitelka chce a dej jí to“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oustředil se na klíčové aktiv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voj značek nejvíce se podílejících na obratu firm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ětšina aktivit kolem Ariel, Pampers, Always, Pantene, Pringles, Lenor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během pěti let třikrát větší zisk a dvakrát vyšší hodnota ak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cílené akvizice – produkty a nápady vyvinuté i cizími zdroj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inovace a nové produk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inspirace u zákazníků - „Zákazník je pán“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amery v prádelná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lehčí otevírání prášků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dominantí pozice = manipulace s cenami dle potřeb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koupě Gillette – trh s výrobky pro muž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020000" y="5205240"/>
            <a:ext cx="1512720" cy="839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řístup k </a:t>
            </a:r>
            <a:r>
              <a:rPr b="1" lang="cs-CZ" sz="2600" spc="-1" strike="noStrike">
                <a:solidFill>
                  <a:srgbClr val="ffffff"/>
                </a:solidFill>
                <a:latin typeface="Verdana"/>
              </a:rPr>
              <a:t>zaměstnancům 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hlavním důvodem, že je firma špičkou ve svém obor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zaměstnanci nejdůležitější součástí podnik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mezinárodní kariéra, povýšení, odpovědnost od prvního dn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nadstandartní péče – nejen mzdy ale i různé benef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99"/>
                </a:solidFill>
                <a:latin typeface="Verdana"/>
              </a:rPr>
              <a:t>Nepeněžní výhod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enzijní připojiště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kupinová životní pojist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jištění na cestová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 roce možnost nákupu akcií s přispění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nadstandartní medicínské centru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masážní centru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 kantýně ze 2/3 dotovaná stra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robky za zvýhodněné ce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cca 1000Kč/rok lístky na sport a kultur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oděkován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ETERS, T. J., WATERMAN, R.H. Hledání dokonalosti. Praha: Svoboda, 1992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ONNELLY, J.H. Jr., GIBSON, J.L., IVANCEVICH, J.M. Management. Praha: Grada Publishing, 2004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ELCH, J., BYRNE, J. A. Jack rovnou k věci. Praha: Pragma, 2006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ttp://www.procter-gamble.cz/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ce jedn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líže zákazníkov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tonomie podnik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duktivita zásluhou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azování praktické stránky, zaměření na hodno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ůstaňte věrni svému obor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ednoduchá forma, nepočetný personá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oučasně volno-pevné vlast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řehodnocení strategie u General Electr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rální ředitel Jack Welc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měny navzdory ziskov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ransformace management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ize sdílených hodno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řehodnocení strategie u General Electr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sady J. Welch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éně řídit znamená lépe říd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ytvořte vizi a pak uhněte z ces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dukujte, dokud není příliš pozdě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rzda: zbavte se svého tuku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dstraňte hranice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užijte e-business jako poslední hřebík do rakve byrokra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11-11T07:32:42Z</dcterms:modified>
  <cp:revision>40</cp:revision>
  <dc:subject/>
  <dc:title>Přirozený a umělý řádc</dc:title>
</cp:coreProperties>
</file>