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902-F619-45CD-A264-B5B9B47B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5F8-8A87-49C9-97CA-77EFF5E7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43A-26B3-45FF-86DF-DBFB73CE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0B5-8047-4B05-8E19-80CAAFD5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362D-4A8F-4E7B-AD99-DEF0C2A2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250E-D4D2-403D-8CBD-BDE2E6B4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FCA7-1090-4E06-AD5C-6A996795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BAE1-57A0-422C-9AEB-42B81840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3208-5E42-43D9-83AE-B0B63A46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F44B-7F0A-452B-963A-665762C8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8409-33FD-40DF-AE2A-FE5A7684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DFE-A4E4-410E-BB8C-BBAFCB05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8302-E76F-4E1D-96F7-8589EF83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BE0E-6ECA-40AF-8A7D-2DA9B7D0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7CE4-96A0-40DC-BBF2-38438F79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C335-30BE-4243-9552-AB32F201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4EF6-23D7-4038-8568-5277F30D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5D0-876B-42B4-A399-75171F09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F04-4F16-4844-B1C1-869B0CBC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E63-2E51-4D67-A08D-EEEF25F8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DCA-B8E9-4B56-8685-ABC4D09F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E89-2D36-4F97-AC05-A55F0A29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B6C-4274-420F-9694-933493F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802-AA26-40F6-AA73-9D61B8E3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BC24-2E4A-452D-A7D6-5C426C6693CE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39C9-C035-439A-8C84-5D10EFF08D5A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05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ociální kořeny a důsledky globaliz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ř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41641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6840" y="4797360"/>
            <a:ext cx="22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arie Adam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onika Kud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František Chur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idský potenciál a práce je zbožím na trzích, tvořivost je produk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padek klasických obor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regulace trhu prá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y organiz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édon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rov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emě jako omezený celek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ek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rodní hodnoty a ide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droj: Lehmannová, Z.:  Aktuální otázky globaliza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ivně optimistická definic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deální nástroj pro řešení sociálních a ekologických problé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ikálně kritická definic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ociální polariz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ěcně sociologická definic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konomické X politické sí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litika už nemá šanci něco ovliv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jistota pro nižší a střední vrstvy společnost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rožení demokraci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ojí zisk nadnárodních fir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ýroba v zemích s nízkou cenou pracovní sí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ej výrobků v zemích s vysokou kupní sil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anění v zemích, kde je to nejvýhodnějš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pad trojího zis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irmy jsou bohatší než stá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odle skeptiků „…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časem dojde k situaci, k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 bohatších evropských zemích bude zaměstnáno zhruba jen 20% populace v ekonomicky aktivním věk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“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Zdroj: Keller, J.: Soumrak sociálního státu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aeaea"/>
                </a:solidFill>
                <a:latin typeface="Tahoma"/>
              </a:rPr>
              <a:t>Politická a ideologická stránka globalizáci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Náš pohľad na problémy globalizácie j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Europocentrický, príp. euroatlantický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Z prostredia liberálnej demokracie – individualistické pojatie ľudských prá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Al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Regionálne a miestne vplyv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Náboženské vplyv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Stretávanie kultúr – súboj s tradíciam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roces globalizácie je chápaný ako centristický proces riadený z oblasti Atlantického oceánu – oblasť najbohatších štáto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Tahoma"/>
              </a:rPr>
              <a:t>Problémy ovplyvnené kultúrnym a sociálnym prostredím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atinskoamerická kritika neoliberalismu – globalizácia vytvára sociálnu nestabili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zijské pojatie demokracie – kolektivizmus, silná rola rodin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slámsky fundamentaliz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frika – tradičné usporiadanie spoločnosti, miestny komunitariz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áboženská otázk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dnoty, ideje a štruktúry sociálneho života v minulosti jasne definované náboženstvom sú naruš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možnosť vytvoriť globálnu náboženskú a politickú jedno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Globalizácia plodí konfli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iec náboženského monopo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Čo z toho vyplýv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nergiu, akú Západ vydáva na šírenie demokracie, by mal vyvinúť aj na pochopenie ostatných kultúrnych a náboženských celkov, s ktorými sa na ideovom poli potýka, pretože iba tak sa dočká nejakého spoločného záveru a vzájomného obohatenia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AUMAN, Zygmunt: Globalizace. Mladá fronta 1999. 157s. ISBN 80-204-0817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ELLER, Jan: Soumrak sociálního státu. Slon 2005. 158s. ISBN 80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429-41-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EHMANNOVÁ, Zuzana a kol. Aktuální otázky globalizace. Oeconomica 2003. 407s. ISB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0-245-0621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HL, Martin: Globalizace pro a proti. Academia 2001. 185s. ISBN 80-200-0897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etí globalizac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nomic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onkrétní příklady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cDonald’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lev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world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hraniční turisté dovnitř i čeští cestovatelé v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obodný 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Arial"/>
              </a:rPr>
              <a:t>Kniha: Globalizace (Bauma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Časoprostorová kompr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Konzum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Mnozí sledují hrstku - celeb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Arial"/>
              </a:rPr>
              <a:t>Kniha: Globalizace (Bauma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Svět se rozděluje na bohaté a chu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Státy tlačeny vyhovět podmínkám investorů – dělat pracovní sílu pružn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ořeny global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16280"/>
            <a:ext cx="754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6. – 19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49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Konec středověku až 18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49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řelom 18. a 19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ropa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merik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ecko-technický rozvoj + průmyslová výroba + export do svět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ální civilizační integračn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24360" y="436572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ředpoklady global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onal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kumulace inform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kt-objektový vztah k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sledky globalizace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16280"/>
            <a:ext cx="7543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Tahoma"/>
              </a:rPr>
              <a:t>Dlouhodobá změna HDP na obyvatel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Tahoma"/>
              </a:rPr>
              <a:t>(v cenách roku 1980, v USD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droj: Angus Maddison, Monitoring the World Economy 1820-199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Development centre of OEC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2920" y="2822400"/>
            <a:ext cx="88930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sledky globalizace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jem odci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člověka jeho vlastním výtvor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společenským silám a vztah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přírod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sobě sam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7:07:13Z</dcterms:created>
  <dc:creator>ucebna</dc:creator>
  <dc:description/>
  <dc:language>en-US</dc:language>
  <cp:lastModifiedBy>snoopy</cp:lastModifiedBy>
  <dcterms:modified xsi:type="dcterms:W3CDTF">2008-10-29T11:16:39Z</dcterms:modified>
  <cp:revision>67</cp:revision>
  <dc:subject/>
  <dc:title>Snímek 1</dc:title>
</cp:coreProperties>
</file>