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FE3-6EFB-4430-9841-CC0F9484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699-9AC4-417E-81FE-E769EEAF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A64-683E-4FC9-A587-A445745E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D3A-8A1E-4E5F-B5B3-17C97942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27FA-C578-419D-B54D-26539918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587A-AEC2-447F-A70F-CDF7DB10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1555-FD2E-4AD2-82DF-F5374525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1C45-FCB6-4B4B-905D-49B1D260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59F1-CD90-40EB-848E-D36564AF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E06A-35A1-4741-A8C9-26930ACB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8CF8-3AFD-4713-BA3A-C8F153F8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4B1-30FB-45E9-B504-B6C8FDBC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F494-EEE3-4549-978B-FEAF8E5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A973-E766-4321-B639-E8F5AACC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1D17-2AE2-4C50-B894-F3B45473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16E1-C9EF-4B94-8D77-B501DA94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7046-A9E0-45CF-AB53-2EDA9A53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427-51E1-4204-93FD-B4DE65E3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5AC-C547-41A4-A8F8-34C94FB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B45-13D0-4507-8995-02EC13EC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512-A598-468A-B77D-C8A76995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056-E097-428F-8A6D-88F438F1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6D2-CD82-4228-A2A0-AF6713B3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C03-BE63-41FB-B2DE-31B44EA7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1D66-728D-4071-B7B5-487F17BC6D3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B692-B14E-4398-B799-6DA7E85C6AF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 – 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i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2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ústredný pojem: diagnostika problém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súčasného človeka            psychické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fyziologické problém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Šípka doprava 4"/>
          <p:cNvSpPr/>
          <p:nvPr/>
        </p:nvSpPr>
        <p:spPr>
          <a:xfrm>
            <a:off x="4572000" y="5357880"/>
            <a:ext cx="642960" cy="102960"/>
          </a:xfrm>
          <a:prstGeom prst="rightArrow">
            <a:avLst>
              <a:gd name="adj1" fmla="val 50000"/>
              <a:gd name="adj2" fmla="val 50103"/>
            </a:avLst>
          </a:prstGeom>
          <a:gradFill rotWithShape="0">
            <a:gsLst>
              <a:gs pos="0">
                <a:srgbClr val="000000"/>
              </a:gs>
              <a:gs pos="100000">
                <a:srgbClr val="fff6d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06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snoopy</cp:lastModifiedBy>
  <dcterms:modified xsi:type="dcterms:W3CDTF">2008-10-27T11:56:49Z</dcterms:modified>
  <cp:revision>12</cp:revision>
  <dc:subject/>
  <dc:title>Vývoj společnosti v pojetí A. Tofflera </dc:title>
</cp:coreProperties>
</file>