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B89-E10A-4EBC-850A-AE2388C5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D30-09EA-4565-958C-1E72532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567-184C-40E7-B426-1281D4F0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3C5-0443-4DB2-9362-CFF5E17D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8F88-DCA5-4EE2-B503-8196E5AB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8253-80AB-4A33-9A43-E4F3884C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9D2-8C12-4FB9-90AE-82C07731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B56-A904-44E6-850F-928F941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C530-D4AD-4E2B-A222-3B8E3C4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599-01AB-4C7D-9872-CD811E1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7E4-36C3-409E-817D-84E6F15D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A5B-0F6D-4792-B0A0-1298649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FA47-8EF4-49AA-BECF-0E41C31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42B-35BB-4971-8A6E-BF4BA89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56EF-EEA8-4701-9110-1B53CB9B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C64-680E-4CC6-84FC-81BC1C8C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16C-138D-4BCD-87E6-67A73EFE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433-C608-4CD7-996C-CC9BC2CF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31D-4132-46B1-8D24-AC0A309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EE3-CE72-4ADF-BA4C-02D71BA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B2F-DA03-4A08-AA71-36BB93B2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FFE-F1DE-4AAC-8277-94E5828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605-9283-4E27-9D74-2366173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79B-BDC8-42F8-B318-586E364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9C2A-9482-4B83-B1C7-6E4553DC5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373-739C-431C-8A23-947911A58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RADIKÁLNÍ PŘEMĚNA PODNIKU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Hudcovský Tomá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Nadim E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BĚR PROCES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át procesům jmé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dej: od předběžného zájmu k obědnáv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m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3 kritéria výběr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NEFUNKČ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symptom, choro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VÝZN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ZVLÁDNUTEL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faktory: rozsah, nákl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+ POROZUMĚNÍ PROCES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zorován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Bench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SAZENÍ (PŘESVĚDČENÍ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ŮVODOVÁ ZPRÁ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problé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roky tržního prostře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tická čá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klady nečin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V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vky - soustřeďuje se na čin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zahrnuje měřitelné cíle a soustavu jeji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ěř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ění základní konkurenční podmínky v odvě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ŮVODOVÁ ZPRÁV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armaceutický podnik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jsme spokojeni s průběžnou dobou, kterou potřebujeme k vývoji a registraci nových léků ve Spojených státech a na hlavních mezinárodních trzí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i hlavní konkurenti mají podstatně kratší vývojové cykly, protože vybudovali rozsáhlé, vysoce pružné a globálně integrované výzkumné a vývojové organizace, které využívají jednotných pracovních postupů a společných informačních systém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kurenční trend nepřeje naší skupině menších a nezávislých výzkumných a vývojových organizací, které jsou umístěny v různých decentralizovaných výrobních podnicích po celém svět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lné konkurenční a ekonomické podněty nás nutí, abychom co nejrychleji přešli ke globálně integrovanému modelu. Každý týden, který ušetříme v procesu vývoje a registrace, prodlužuje komerční životnost naší patentové ochrany a představuje minimálně 1 mil. USD dodatečného zisku před zdaněním ročně, a to pro každý lék v naší nabíd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VIZE-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Federal Expres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ilku doručíme do půl jedenácté následujícího dn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JBĚŽNĚJŠÍ CHYB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žte se proces vylepšit, místo toho abyste ho změn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zaměřujte se na podnikové proce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gnorujte vše s výjimkou redesignu proce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pomíjejte hodnoty a názory li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gažujte se za dílčí, nepodstatné výsled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ončete příliš brz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dem zužte vymezení problému a rozsah reengineeringového projek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pusťte, aby podniková kultura a postoje vedení zabránily zahájení reengineering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ilujte o to, aby reengineering probíhal zdola nah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Do čela reengineeringového projektu postavte člověka, který reengineeringu nerozum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úměrně šetřete na zdrojích určených pro reengine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hřběte reengineering v přívalu každodenních úkol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ptylujte energii na velký počet reengineeringových projekt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usťte se do reengineeringu, když generálnímu řediteli scházejí dva roky do důchod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rozlišujte reengineering od jiných programů zdokonalování podnikových činnost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oustřeďte se výhradně na projektová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nažte se realizovat reengineering tak, aniž byste se někoho dotkl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Ustupujte, když lidé projevují odpor k reengineeringovým změná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eengineeringový projekt protahujte co nejdé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O ČEM TO BU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niha REENGINEERIN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učasná situ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g- cesta ke změ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ové proce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vyvolané reengineering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o provádí reenginee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sazení (přesvědče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jběžnější chy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toři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Michael Ha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James Cham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niha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EENGINEERING – Radikální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               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měna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vznikla koncepce reengineering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ví na vlastnostech: individualismu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éhání na sebe sama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ádro: DISKONTINUÁLNÍ MYŠL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ČASNÁ SITU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 Adama Smithe - paradigma včerejš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 -  3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TOM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rozhoduj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MPETI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se stává intenziv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N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se stává neustálou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ENGINEERING – CESTA KE ZMĚNĚ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engineering= brát vše nebo 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ový začá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ÁLNÍ DEFINIC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líčová slo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ZÁS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ADIK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DRAMATICKÉ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3 druhy podnik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CES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NEJDŮLEŽITĚJŠ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OVÉ PROCES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ISTI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kolik prací je spojeno do jed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ovníci rozhod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oky procesu jsou vykonávány v přirozeném s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y mají variantní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se provádějí tam, kde je to nejrozumně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kují se kontrolní opatření a nást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alizují se smírčí jed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žer případu je jediným kontaktním mí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važují hybridní centralizované/decentralizované oper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ZMĚNY 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vyvolané reengineering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ĚNI 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ACOVNÍ JEDNOT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funkčních útvarů k procesním tým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 JEDNOTLIVÝCH PRACOVNÍCH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jednoduchých úkolů k mnohostranné prá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OLE LID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rolí podléhajících kontrole k rolím s větší pravomo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ŘÍPRAVA K VÝKONU PRÁ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výcviku ke vzděl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ZAMĚŘENÍ NA VÝKONOVÁ KRITERIA A ZMĚNY V ODMĚŇ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činnosti k výsledk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KRITÉRIA POSTUP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výkonnosti ke schopno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HODNO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protektivních k produktiv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MANAŽEŘ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 dohlížečů v kouč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ORGANIZAČNÍ STRUK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hierarchické k ploch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VEDOUC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e zapisovatelů výsledků ve vůdčí osob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KDO BUDE PROVÁDĚT REENGINEER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ŮDČÍ OSOBNOS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„lídr“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LASTNÍK“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Í T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ŘÍDÍCÍ VÝ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Ý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2276640"/>
            <a:ext cx="792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068640"/>
            <a:ext cx="792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581360"/>
            <a:ext cx="7905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4653000"/>
            <a:ext cx="647640" cy="1655640"/>
          </a:xfrm>
          <a:prstGeom prst="downArrow">
            <a:avLst>
              <a:gd name="adj1" fmla="val 50000"/>
              <a:gd name="adj2" fmla="val 6391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36:20Z</dcterms:created>
  <dc:creator>tomas</dc:creator>
  <dc:description/>
  <dc:language>en-US</dc:language>
  <cp:lastModifiedBy>tomas</cp:lastModifiedBy>
  <dcterms:modified xsi:type="dcterms:W3CDTF">2008-11-05T13:28:15Z</dcterms:modified>
  <cp:revision>27</cp:revision>
  <dc:subject/>
  <dc:title>RADIKÁLNÍ PŘEMĚNA PODNIKU</dc:title>
</cp:coreProperties>
</file>