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94F6-F283-4008-B085-7E69EDEE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498D-101C-43F7-89FB-92BC49E9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4E28-458C-489A-A643-FFB8EC2C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0199-E68C-407E-A37C-DBED227B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5F17-318B-471E-A695-3217C347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C8B2-4D28-44E8-AE37-6011D592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80E9-57E4-4D80-96A0-CB56B2DA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84D7-99EE-45C4-B665-740AF5ED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239-3FA8-454F-B94F-E5644AFA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0207-E400-444C-9A9C-4E77B6E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848B-BDF8-4C3F-BCEA-011719AF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4FFC-F72E-4F19-A49D-2B7610D4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A752-0269-48C0-BBFA-28FAC96C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FBAC-209C-4E69-A538-539FE2B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D429-6BAD-4968-98F4-8A8718F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6EEE-1E2D-4ECE-809C-261ADFB8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8FD9-3D8C-480C-BFDB-5452FFD8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3DFA-FA3A-486E-87AB-CEA13B9A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E654-3299-4DF1-9BBB-B1795134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B6D0-950F-47D0-8A00-9C020F89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F628-73BF-4BBA-B225-3A562A0B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243F-F267-4BD0-8AED-EB9D69F3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69ED-DCE1-4ECA-A673-E1C6986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3B8E-7504-4680-AFB4-8324B60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2592f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1153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97B-4E65-4637-B9D6-494A33F0380C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2592f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1153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425A-B3DB-4722-8EE0-04B55FDAB445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d3f1db"/>
                </a:solidFill>
                <a:uFillTx/>
                <a:latin typeface="Tahoma"/>
              </a:rPr>
              <a:t>Strategie trvale udržitelného rozvoje</a:t>
            </a: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Strategie trvalé udržitelnosti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yp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é proces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oskytnou firmě výhody na straně nákladů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é tr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konkurenční výhoda- pomohou firmám odlišit jejich výrobky od konkurenc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Učící se organizace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.F.Schum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sažení drobnosti v rámci velké organ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5 pravi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ko příroda v malých buňká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avač balon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Integrovaný systém managementu životního prostředí (EMS)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ší se v tom, jaké prvky jsou v nich obsaž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žaduje stanovení jasných cílů a postupných cílů, systematické chování firmy vůči životnímu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Smyčka řetězu hodnot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rámec pro diskusi množství nástrojů a procesů, které si myslíme, že jsou potřebné pro vytvoření 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hrnuje primární činnosti, týkající se výroby a prodeje výrobků a podpůrné činnosti, jako management lidských zdrojů, informační systémy, auditing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Analýza životního cyklu (LCA)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ce o ekologických vlivech výrobků a procesů od kolébky ke hrob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vání vstupů na živ.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robní pro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rava a rozesíl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žívání výrob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yklace nebo opětovné použi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ložení výrobku (toxiny, objem…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Strategie trvalé udržitelnosti řízené procesem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gement životního prostředí úplné kvality (TQE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vádí až 60% společn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př. Proc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 Gamble, AT&amp;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sign pro životní prostředí (DF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juje ekologické zájmy firmy, trendy trhu, technologické trendy a kontrolní požadavky do vzhledu výrob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BM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Strategie trvalé udržitelnosti řízené trhem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keting pro životní prostřed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 úko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tvořit zelené výrobk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tvořit v zákaznících představu, že jsou jak vysoké kvality, tak citlivé k životnímu prostřed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é uvádět pouze pravdivé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př. Loblaw a řada G.R.E.E.N., Ben and Jerry´s Homemade Ice Cream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dpůrné činnosti řetězu hodnot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diting životního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čtování plných nákl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xternality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systémy managementu pro životní prostředí (EM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PLIS, DABAWAS, AWIDAT (databá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XIS a Hypertext (zpracov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ování o životním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EAD, W.E., STEAD, J.G. Management pro malou planetu. Praha: GplusG, 1998. ISBN 80-86103-15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EAD, W.E., STEAD, J.G. Management pro malou planetu. Praha: GplusG, 1998. ISBN 80-86103-15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ADOWS,D. H. et al. Překročení mezí. Praha : Argo, 1995. ISBN 80-85794-83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UMACHER E.F., Malé je milé : aneb ekonomie, která by poèítala i s èlovìkem. Brno: Doplněk, 2000. ISBN 80-72390-3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Současná nutnost změny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Globální problé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xponenciální populační rů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čerpávání neobnovitelných zdroj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ečist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kles biodiversity(Teorie Gaia, zákon entropie, průmyslový metabolism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ntalita předpokládaného neomezeného růs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íliš rychlé čeprání obnovitelných zdroj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pa, plyn, uhlí, lesy, (půda, mokřa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3f1db"/>
                </a:solidFill>
                <a:latin typeface="Tahoma"/>
              </a:rPr>
              <a:t>Podmínky trvalé udržitelnosti</a:t>
            </a:r>
            <a:br>
              <a:rPr sz="3800"/>
            </a:br>
            <a:r>
              <a:rPr b="0" lang="cs-CZ" sz="2800" spc="-1" strike="noStrike">
                <a:solidFill>
                  <a:srgbClr val="d3f1db"/>
                </a:solidFill>
                <a:latin typeface="Tahoma"/>
              </a:rPr>
              <a:t>Naplnění potřeb dneška bez omezení budoucnosti</a:t>
            </a:r>
            <a:endParaRPr b="0" lang="en-US" sz="2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plná recyklace materiá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ržitelný energetický systé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trola populační explo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vedení v soulad ekonomických a evolučních proces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a náhledu(konec karteziánstv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íření západu s rozvojovým svě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íslib snížení porodnosti na jedné straně a spotřeby na druh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puštění dluhů a „zelené“ technologie za možnost šetrně využívat přírodních zdroj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díl přírody v organizacích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ílník = osoby, nebo skupiny, které mohou ovlivnit nebo jsou ovlivněny dosažením cílů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Země není osoba ani skup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liv ovšem m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lení podílníci Zem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Zelení podílníci Země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ovníci kontr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lení spotřebite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avní investoř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cké zájmové skup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jčovatelé a pojistite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, kdo určují normy pro živ. prostřed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Trvale udržitelný strategický managemen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všechny procesy potřebné k integraci trvalé udržitelnosti do jádra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í ale také uznat vzájemnou propojenost všech firem a jednotlivců v globálním společenstv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3f1db"/>
                </a:solidFill>
                <a:latin typeface="Tahoma"/>
              </a:rPr>
              <a:t>Paradigma ekocentrického managementu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ul Shriva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emě je základním podílník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 základní předst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centrický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ůmyslové ekosysté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Ekocentrický managemen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ozofický ideál potřebný k propojení managementu organizací a biofyzikálních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surovin, vyloučení emisí, odpadních vod, minimalizace nákladů na životní cyklus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bude upřednostňovat přírodu před lidstvem (karteziánský předpokl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růmyslové ekosystémy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.F. Schum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cept „odpovídající technologi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ich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3 typy průmyslový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- Typ II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většinou přechod mezi Typem I a Typem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1:40:31Z</dcterms:created>
  <dc:creator>mrerror</dc:creator>
  <dc:description/>
  <dc:language>en-US</dc:language>
  <cp:lastModifiedBy>Lukáš Neradilek</cp:lastModifiedBy>
  <dcterms:modified xsi:type="dcterms:W3CDTF">2008-10-26T22:21:15Z</dcterms:modified>
  <cp:revision>44</cp:revision>
  <dc:subject/>
  <dc:title>Seminární práce  Relaunche značky </dc:title>
</cp:coreProperties>
</file>