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22A-CD97-4D4D-9AD1-04A4225D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FC13-8863-4CFC-9B64-46EA203F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44A-C7A8-42F4-A4E4-6E770942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5C53-7C0E-47E3-B3E3-04F11319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DEE7-1432-4BEE-B079-A9C3EF2D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6E13-257B-4F6F-9DB0-F0332220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ECCD-C542-4C7C-BA26-A01588D3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C995-1424-40C3-8378-21EB40C2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77DE-F02B-413D-B320-DD760CC7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0554-2A78-4C18-9A8B-5FA7C7F5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D677-C4D0-449F-8968-BEF052BA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940-2413-4B65-ACE2-72ECAB53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77B6-54FB-4B99-B751-F39AC699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99F8-D4B9-47CF-9EDB-ACAEEC21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78CF-8B9B-4443-B897-F9065241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C608-CDB4-47AE-848D-429261B7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F58F-1262-48F6-A909-0BD12EA1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C25A2-AD7F-494F-A471-F2D4D791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8D988-15DE-476B-B83D-BC440BA7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FF502-1723-4415-B20E-687AD02B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7C025-22CB-4926-8DCC-7FC321D3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1EA62-9543-4643-8DD5-53C49E34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9C59-CDAD-49E1-BAA1-250413A7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C5E87-C8AE-42BC-AEDA-34BDAF3B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84C05-E726-40A6-A536-A7EF7D75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C3A54-CC4E-475A-9DC9-FC2C5650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678A7-94E4-4BE6-9522-D8FEB5DF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1EAB2-30F8-44FB-A3D6-1651E220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D07A5-DA31-4E65-B255-0F9E0B84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22E5E-BB1C-4D33-8EA9-18BD1F97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F4BA4-706C-44D6-B0DD-C21101FC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A7FDC-3A18-411A-AD2F-CA9B914C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24342-60E4-45B2-A8B3-D5C365BA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22C6-C544-429D-80E4-A790AA70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81A5E-4B9A-4357-8A45-53483885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89F04-F54C-400B-9177-C306F6D2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D89A0-D2C0-4E10-B595-8B44BEF5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D1FA7-DF13-408C-A638-89C2DB2C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A082E-160D-44F2-9969-F9E83FD3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C41AB-489B-4196-A5BD-BD2B2FDB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36738-DB95-4F1F-B29D-5752BBBF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7CA06-A069-42A4-90BD-75CE76B3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96D70-005A-4688-9F4A-FAF107FB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4612-3BF0-4EAA-AB52-7C2373E0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4C90-F969-44EE-8F57-4116D0B4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4928-0BF8-4CB4-9C7F-5A9789E7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592-0109-4AA2-A7C2-2D52630A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4636-6D0E-4B8F-8876-C5A02A42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645A-64A8-44CD-8DC2-5990452BF365}" type="slidenum">
              <a:rPr b="0" lang="cs-CZ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Volný tvar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Volný tvar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19EC-D0D8-403E-9824-8528EDFF9E93}" type="slidenum">
              <a:rPr b="0" lang="cs-CZ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Volný tvar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C05D-6216-4068-ABF0-FF7AD54E8D1B}" type="slidenum">
              <a:rPr b="0" lang="cs-CZ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s odříznutým a zakulaceným jedním rohem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ravoúhlý trojúhelní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Volný tvar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Volný tvar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39A5-52A3-4299-8EE3-EA5319FCD502}" type="slidenum">
              <a:rPr b="0" lang="cs-CZ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Etika v postmoderní době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000480" y="4357800"/>
            <a:ext cx="268596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Kincl Pa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Beleš Mart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Beleš Mare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04617b"/>
                </a:solidFill>
                <a:latin typeface="Calibri"/>
              </a:rPr>
              <a:t>Management a etika zodpovědnosti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Řízení fungovalo „na kázni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Taylorovské podnikání = vykořisťování pracovní sí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nes funguje „na etice“ – potlačuje se pohrdání člověk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anagement a etika = vytvářejí dvě zrcadlové tváře téhož fakt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00040" y="2286000"/>
          <a:ext cx="8229600" cy="2747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aylorovský podn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osttaylorovský podn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yramidální a autoritativ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ticipativní a horizontální management (=„kopernikánský obrat“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chanické rozdělení úkol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rzačení lidského potenc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naží se zvýšit iniciativu každého jedince „zmobilizovat inteligenci všech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naží se dynamizovat tvůrčí zdroje všech spolupracovníků a rozvinout kvalitu života v prác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04617b"/>
                </a:solidFill>
                <a:latin typeface="Calibri"/>
              </a:rPr>
              <a:t>Taylorovský podnik vs. Posttaylorovský podnik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Etika v managementu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Zbavuje organizace strnulos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Znovuzrození normativního ideálu hodno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oustředěnější pozornost k psychologickým a relačním ukazatelům pracovní motiva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4617b"/>
                </a:solidFill>
                <a:latin typeface="Calibri"/>
              </a:rPr>
              <a:t>Etika a produktivit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rvní fáze věku konzumu charakteristické binární opoz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Volno-prá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Štěstí-kázeň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Soukromý život – profesiní živo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oučasnost, nové zaměření volného času („neopalovat se do blba“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Cykly kulturního vzdělávání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Semináře duchovní medita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Centra prohlubování vědomí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Nadpis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tika a produkti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pro obsah 3"/>
          <p:cNvSpPr/>
          <p:nvPr/>
        </p:nvSpPr>
        <p:spPr>
          <a:xfrm>
            <a:off x="457200" y="13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Etika zodpově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enastoluje autoritativní normy,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ýbrž činí zodpovědnost předmětem tou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Ruší strohý protiklad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- Profesní 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 Soukromý živ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pomocí autonomie a osobního rozv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Nadpis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tika a produkti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Zástupný symbol pro obsah 3"/>
          <p:cNvSpPr/>
          <p:nvPr/>
        </p:nvSpPr>
        <p:spPr>
          <a:xfrm>
            <a:off x="457200" y="13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Etický přístup ke správě lidských zd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racovat jinak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mená též pracovat víc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Posttaylorovské podnikání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ledá personál připravený na změnu, motivovaný a odhodlaný k zápa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Zrod metod a kurzů tzv. „osobního rozvoje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Nadpis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a úcta k jednotliv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Zástupný symbol pro obsah 3"/>
          <p:cNvSpPr/>
          <p:nvPr/>
        </p:nvSpPr>
        <p:spPr>
          <a:xfrm>
            <a:off x="457200" y="13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Etická jednohlasn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profesní úbytek kvalifikace, sociální rozpolcenost a vytlačování na okraj společ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valozpěv, úcta vede k tajnůstkářským a opovrženíhodným praktik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 těchto podmín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malé nadšení pro posttaylorovskou formu organizace prá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Nadpis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a úcta k jednotliv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obsah 3"/>
          <p:cNvSpPr/>
          <p:nvPr/>
        </p:nvSpPr>
        <p:spPr>
          <a:xfrm>
            <a:off x="457200" y="13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ysem současných společnost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ní pouze touha po spoelčenském a morálním uzná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moderní individualismus ji nevynalézá, avšak šíří ji do oblastí, jichž se kdysi týkala jen málo nebo vů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ztah jednoho člověka k druhém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strukturován vymýcením všech forem segregace, pokořování a ponižová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 etický ohled v řízení zaměstnanců má před sebou skvělou budouc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užité zdroj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Thompson M.: </a:t>
            </a:r>
            <a:r>
              <a:rPr b="0" i="1" lang="cs-CZ" sz="2600" spc="-1" strike="noStrike">
                <a:solidFill>
                  <a:srgbClr val="000000"/>
                </a:solidFill>
                <a:latin typeface="Constantia"/>
              </a:rPr>
              <a:t>Přehled etik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Lipovetsky G.: </a:t>
            </a:r>
            <a:r>
              <a:rPr b="0" i="1" lang="cs-CZ" sz="2600" spc="-1" strike="noStrike">
                <a:solidFill>
                  <a:srgbClr val="000000"/>
                </a:solidFill>
                <a:latin typeface="Constantia"/>
              </a:rPr>
              <a:t>Soumrak povinnost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ikip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Etik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Filosozická disciplí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orálka, normy jednání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odnoty a principy v jednáních, při kterých existuje svobodná vů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zvoj v období antiky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(Sokrates, Platon…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ásadní úloha = potlačit nezodpovědný individualism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Etika na první strá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zrůstající role a moc médií =&gt; roste i krize důvě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édia a informace = symboly manipula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ritika médií – degradace demokracie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Snaha posílit žurnalistické povinnos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Etika médií – dnes v centru zájm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orupce v médiích – dříve a d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nformační a mediální etik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Chvála profesional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žadavek spravedlivé svobody tisku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s. Komerční logik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S pozvednutím kulturní úrovně – „trh s pravdou“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s. „senzační“ tisk</a:t>
            </a:r>
            <a:br>
              <a:rPr sz="2600"/>
            </a:b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=&gt; dualizace tisk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Sňatek etiky s byznys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zmach obchodní etiky -&gt; ve velkých amerických firmá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Vznikaly tak etické kodexy – závazná pravidla náležitého chování uvnitř podniku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Ethics pays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Business is business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Etické kodexy se jevily jako překážka ekonomické výkonnosti = šlo o zis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Business ethics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rvenství morálních hodnot -&gt; etika se stává výkonným pomocníkem ekonomik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nstantia"/>
              </a:rPr>
              <a:t>Ideálem je „spravedlivý střed“ – rovnováha mezi různými protikladnými zájmy ekonomických a společenských činitel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04617b"/>
                </a:solidFill>
                <a:latin typeface="Calibri"/>
              </a:rPr>
              <a:t>Etické kodexy vs. podnikové projekty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dnikové projekty – cílem je vyjádřit záměr firmy a její hlavní snah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42960" y="2786040"/>
          <a:ext cx="7786800" cy="367344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tické kodexy – 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odnikové projekty – Fran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ozdílné zna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ymezuje závazky a práva každého zaměst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anovuje cíle pokroku a širší ideály, které dávají podniku kolektivní smys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silují o zvýšení zodpovědnosti normativní cestou „morální smlouvy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řipoutává zaměstnance výrazem sdílené kolektivní vů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polečné zna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íra manažerů ve výkonnost, postup předávání zodpovědnosti a zapojení personálu „kulturní“ cest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dnik neklade do popředí přejatý a neměnný zákon, nýbrž v principu si své zásady ukládá po proběhnutí kolektivní deba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ývoj obchodní etik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ábožensko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ociální – společenské zodpovědnosti podnik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Snaha uspokojit legitimní očekávání a požadavky společnosti – v diskuzi s nátlakovými skupinami, anebo sám od seb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Business ethi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Podnik musí sám zreformovat své principy a praktiky a nastoupit trvalou stálou cestu úcty k morálním normá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Dopad na manažery podnik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anažerský diskurz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Obsahem je:  manažer by se měl vždy chovat poctivě, nešidit sebe sama a respektovat své závazk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Etik vytyčuje směr „new age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4:30:20Z</dcterms:created>
  <dc:creator>snoopy</dc:creator>
  <dc:description/>
  <dc:language>en-US</dc:language>
  <cp:lastModifiedBy>Marek</cp:lastModifiedBy>
  <dcterms:modified xsi:type="dcterms:W3CDTF">2008-10-30T06:00:52Z</dcterms:modified>
  <cp:revision>2</cp:revision>
  <dc:subject/>
  <dc:title>Etika</dc:title>
</cp:coreProperties>
</file>