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7FD2-AEA1-41E5-A421-94E8E618C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F379-791F-4C9C-8362-3B86170BF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93AE-1587-4BBC-8BA0-DC84551C6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FC27-B8A3-4A7B-878B-75DB06207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DF0DF-E8E3-4FF9-AA52-C0AFAB0A0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58AC0-543D-4250-8D13-BF33C8AE0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E36CF-5259-43B2-B762-2949A45D1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20507-F224-44BD-AAF2-63C025744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CF57D-34A6-4DCD-B34A-24B8A7BC0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D44D5-11AA-4261-AD19-0C7C1148B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8510F-81E5-4EE3-B67C-065C2B50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418B-00CD-490A-8276-25FB0E53B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751B2-B609-4DDF-B2F6-3013EE6C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FE647-67C0-46B8-8CC5-21F15393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2E5C5-D1C2-4892-B6E4-C0976875C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B4C79-A998-4EC0-A78D-2411DE757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D548B-F988-4ADB-9467-E9AE9FE2E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E94A-674F-4979-A4AF-0F6F936FC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FB3A-0381-49A9-A69F-08B4A0B87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9B33-6784-487C-A862-8EF710B06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7606-7CD9-4D46-91C9-C3DD211A3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911C-3ED7-458A-A99E-0C5C669A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E8E1-D3CA-41D7-84F1-C6E6044A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0054-02BD-489C-878F-5B1B8EF4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FE963-C8EC-4E74-A3FE-0ADAC8FDDC6A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2C890-595C-4E04-BBAF-E161D61BAE91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Strategie trvalo udržitelného rozvoj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Linda Khallov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uzana Soókiov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ccecff"/>
                </a:solidFill>
                <a:latin typeface="Arial"/>
              </a:rPr>
              <a:t>Strategickí manažéri a trvalo udržateľný rozvoj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pojenie ekonomického úspechu a zodpovednosti za životné prostredie = </a:t>
            </a:r>
            <a:r>
              <a:rPr b="0" i="1" lang="sk-SK" sz="3200" spc="-1" strike="noStrike">
                <a:solidFill>
                  <a:srgbClr val="ffffff"/>
                </a:solidFill>
                <a:latin typeface="Arial"/>
              </a:rPr>
              <a:t>trvalá udržateľnos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ccecff"/>
                </a:solidFill>
                <a:latin typeface="Arial"/>
              </a:rPr>
              <a:t>Pomocné hodnoty pre založenie trvalej udržateľnosti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Celistv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otomstv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Obe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Kvali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ecff"/>
                </a:solidFill>
                <a:latin typeface="Arial"/>
              </a:rPr>
              <a:t>Štruktúry pre trvalú udržateľnosť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4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Učiace sa organizác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Nové hodnoty, ciele, štruktúry, systémy odmeňova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Úspech v dlhodobej perspektíve = začlenenie sa do príro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ccecff"/>
                </a:solidFill>
                <a:latin typeface="Arial"/>
              </a:rPr>
              <a:t>Systém managementu životného prostredi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Reťaz hodnôt rozšírená o prírodné zdroje a uloženie odpad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Analýza životného cyklu výrobk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ecff"/>
                </a:solidFill>
                <a:latin typeface="Arial"/>
              </a:rPr>
              <a:t>Marketing pre životné prostredi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Dva ciel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Zelené výrobky + presvedčenie spotrebiteľov o vysokej kvalite a citlivosti týchto výrobkov voči životnému prostredi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ccecff"/>
                </a:solidFill>
                <a:latin typeface="Arial"/>
              </a:rPr>
              <a:t>Podpora managementu životného prostredi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34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Auditing životného prostre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Účtovanie plných náklado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Informačné systémy managementu pre životné prostred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Informovanie o životnom prostred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ecff"/>
                </a:solidFill>
                <a:latin typeface="Arial"/>
              </a:rPr>
              <a:t>Použitá literatú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TEAD, W.E., STEAD, J.G. </a:t>
            </a: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Management pro malou planetu.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vyd.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raha: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Nakladatelství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GplusG, 1998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84 s.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ISBN 80-86103-15-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NÍČEK, V. </a:t>
            </a: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Globální problémy ve světové ekonomice  : vybrané problémy .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1. vyd. Praha: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Nakladatelství Vysoká škola ekonomická v Praze, 1995. 118 s.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ISBN 80707942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ffffff"/>
                </a:solidFill>
                <a:latin typeface="Arial"/>
              </a:rPr>
              <a:t>www stránky: http://cs.wikipedia.org/wiki/Trvale_udržitelný_rozvoj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5400" spc="-1" strike="noStrike">
                <a:solidFill>
                  <a:srgbClr val="ccecff"/>
                </a:solidFill>
                <a:latin typeface="Arial"/>
              </a:rPr>
              <a:t>Ďakujeme za pozornosť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ecff"/>
                </a:solidFill>
                <a:latin typeface="Arial"/>
              </a:rPr>
              <a:t>(O čom to bude….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68360" y="22050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Globálne problé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Trv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udržateľný rozvo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trategickí manažéri a trv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udržateľný rozvo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ecff"/>
                </a:solidFill>
                <a:latin typeface="Arial"/>
              </a:rPr>
              <a:t>Globálne problémy intersociál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68360" y="19886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roblém vojny a mier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roblém sociálnej a ekonomickej zaostalosti rozvojových krají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roblém riešenia globálnej zadĺženost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roblém zmien medzinárodných vzťaho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ccecff"/>
                </a:solidFill>
                <a:latin typeface="Arial"/>
              </a:rPr>
              <a:t>Globálne problémy prírodne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sk-SK" sz="4000" spc="-1" strike="noStrike">
                <a:solidFill>
                  <a:srgbClr val="ccecff"/>
                </a:solidFill>
                <a:latin typeface="Arial"/>
              </a:rPr>
              <a:t>-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sk-SK" sz="4000" spc="-1" strike="noStrike">
                <a:solidFill>
                  <a:srgbClr val="ccecff"/>
                </a:solidFill>
                <a:latin typeface="Arial"/>
              </a:rPr>
              <a:t>sociáln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00200"/>
            <a:ext cx="822960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opulačný problé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otravinový problé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urovinový a energetický problé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Ekologický problé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ccecff"/>
                </a:solidFill>
                <a:latin typeface="Arial"/>
              </a:rPr>
              <a:t>Definície trvalo udržateľného rozvoj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ffffff"/>
                </a:solidFill>
                <a:latin typeface="Arial"/>
              </a:rPr>
              <a:t>TUR je taký rozvoj, ktorým ľudstvo naplňuje potreby súčasnosti bez obmedzenia schopnosti budúcich generácií naplniť svoje potreby. (Svetová komisia pre životné prostredie a rozvoj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ffffff"/>
                </a:solidFill>
                <a:latin typeface="Arial"/>
              </a:rPr>
              <a:t>Rozvoj, ktorý súčasným aj budúcim generáciám zachováva možnosť uspokojovať ich základné životné potreby a pritom neznižuje rozmanitosť prírody a zachováva prirodzené funkcie ekosystémov. (</a:t>
            </a: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Zákon o životním prostředí č. 17/1992 Sb.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ccecff"/>
                </a:solidFill>
                <a:latin typeface="Arial"/>
              </a:rPr>
              <a:t>Rozmery trvalo udržateľného rozvoj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95280" y="2060640"/>
            <a:ext cx="8229600" cy="36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Biofyzikálny rozm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ocioekonomický rozm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Morálny rozm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ecff"/>
                </a:solidFill>
                <a:latin typeface="Arial"/>
              </a:rPr>
              <a:t>Biofyzikálne rozme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68360" y="1916280"/>
            <a:ext cx="822960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Dosiahnutie úplnej recyklácie materialo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Vytvorenie trvalo udržateľného energetického systém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Kontrola populačnej explóz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Uviesť v súlad ekonomickú činnosť a evolučné proces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ecff"/>
                </a:solidFill>
                <a:latin typeface="Arial"/>
              </a:rPr>
              <a:t>Socioekonomické rozme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9640" y="220464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Zmierenie rozvinutých a rozvojových krají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Vytvorenie štruktúr rozhodovania založených na obci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ecff"/>
                </a:solidFill>
                <a:latin typeface="Arial"/>
              </a:rPr>
              <a:t>Morálny rozm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68360" y="206028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Environmentálna eti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1T17:27:39Z</dcterms:created>
  <dc:creator>Zuzanka</dc:creator>
  <dc:description/>
  <dc:language>en-US</dc:language>
  <cp:lastModifiedBy>x</cp:lastModifiedBy>
  <dcterms:modified xsi:type="dcterms:W3CDTF">2008-11-03T07:31:27Z</dcterms:modified>
  <cp:revision>24</cp:revision>
  <dc:subject/>
  <dc:title>Strategie trvale udržitelného rozvoje</dc:title>
</cp:coreProperties>
</file>