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421-622E-44ED-9609-78B47065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676-EE12-472F-9A00-AB3FD9D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716-8CC8-4C9C-8DFB-9FC65411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814-4AE1-45B5-B10D-9113D31A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B14-650B-4195-A5E4-919D03FC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81CB-D80E-4F39-BF37-42C63D9F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8A70-A3C3-4F59-895F-521C911C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479A-C88E-4044-AAA0-3B15243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066E-FDD8-4966-8B1C-4959C469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5D37-D70F-45AB-B915-75B0034F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4BD-4C4A-4CA2-8629-EF38BE6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427-AAB2-433D-AD96-8F4711D2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910E-C70A-4646-8270-A6151614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3300-DFE9-49E9-8E6D-B758C6E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3F35-F8F8-4871-BDBE-450457A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2DA7-73A3-48EF-82DA-255B00D8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018D-E2F8-494C-877E-E74DD6FC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C2E-9612-456B-90C9-C1C32D9B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B3D-72C8-4E9D-8364-3137D5B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6C5-B1D6-4586-A9F5-B65BE82F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91D-83EA-441C-9D59-1772BF4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E6A-BF0B-4038-AB32-C23CA8B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93B-54C3-4338-950D-65E3D7E9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1F2-8B78-4BA9-8C74-ECAD907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4E07-09DC-4330-B9D9-5EE0DD040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7630-DF1C-4702-A9AF-8E050BC015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Jana Navrátilová</cp:lastModifiedBy>
  <dcterms:modified xsi:type="dcterms:W3CDTF">2008-10-30T23:34:33Z</dcterms:modified>
  <cp:revision>14</cp:revision>
  <dc:subject/>
  <dc:title>OD MASOVÉ VELKOVÝROBY K INOVATIVNOSTI A HODNOTĚ PRO ZÁKAZNÍKA</dc:title>
</cp:coreProperties>
</file>