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9382-0183-4119-89CB-9DDF5BBC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8D9-9D93-4AA3-AD10-EBAAF207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499-9A4F-4CD4-8AD3-F28842CA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9D3-0045-4253-99A4-57820397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9284-6C9B-4E31-A981-EA5ADA5C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8004-27AC-4295-91A3-2A93C126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7FEA-0E9D-4011-AC9D-3DE7B95B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4978-4000-4B63-937F-1EBD87E1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913F-1275-48D9-9CAB-36E1C386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937E-C938-4D69-9F7C-7979630A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A1D8-8922-4C76-917F-FBE6EF2E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732-F5DF-47AA-BE92-463885B8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3662-03B6-4B1F-95FA-CABB310A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1C28-81C9-4752-803F-2C0DD32D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DF55-65B3-42D4-92EF-302E199D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F1BF-1BBC-4029-AEC9-8B91F320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A7CA-C827-4311-9A4F-75D4CA5C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626-9700-49BD-BBA2-3BBC6CE9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FDE-5002-445F-904A-A2644469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3BF-B38E-4CD5-AA48-F31E4BEB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D94-93C8-4DE3-A26A-F9E9EB81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AC1-981E-44EB-840B-AF04D581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0FC-4420-4117-BE75-A8BE67E8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A429-4CF8-46FD-BEE9-FC8388D9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A15B-7B4F-42F1-89B7-AD16BF16E48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B085-4536-4300-9F95-14295E46E6C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ysoce zhodnocující podnik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Zora Navrátil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ichal Meluzí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omáš Dostá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sí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taré velkovýrobní ekonomiky – produkty s výraznou státní příslušnost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Nové vysoce zhodnocující podniky – původ výrobku více a více nejasn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íklad: </a:t>
            </a:r>
            <a:r>
              <a:rPr b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precizní vybavení pro hokej 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– navrhováno ve Švédsku, financováno v Kanadě, sestavováno v Clevelandu a Dánsku, výzkum slitiny v USA, výroba slitiny v Japonsku, reklamní kampaň v Británii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sí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6920" y="2349360"/>
            <a:ext cx="788832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edmětem mezinárodní obchodní výměny jsou spíše služby související se specializovaným řešením problémů a se zprostředkovatelství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66"/>
                </a:solidFill>
                <a:latin typeface="Arial"/>
              </a:rPr>
              <a:t>Příklad: Když si Američan koupí auto u GM na 20 000 dolarů, tak: 6000 do J. Koreji – práce a montáž, 3500 do Japonska – komponenty, 1500 do Německa – návrhy karoserie a konstrukce, 800 do Tchajwanu a Singapuru – malé komponenty, 500 do Británie – reklama, 100 do Irska a Barbadosu – zpracování dat, 8000 do Detroit, NY, Washington, GM – právníci, lobbisté, stratégové, pojišťovny…</a:t>
            </a:r>
            <a:r>
              <a:rPr b="1" lang="cs-CZ" sz="2200" spc="-1" strike="noStrike" u="sng">
                <a:solidFill>
                  <a:srgbClr val="003366"/>
                </a:solidFill>
                <a:uFillTx/>
                <a:latin typeface="Arial"/>
              </a:rPr>
              <a:t>akcionář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sí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roblémy spojené s globální sítí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Daň z přijm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rostředky k manévrování a obcházení úředních naříz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naha o zvýhodnění v mezinárodním obch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evlékání národního kr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Např. Nařízení Pentagonu pro nákup „amerického“ vojenského vybavení, protesty firmy Hyster, FORD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Konec národního šampio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Státní příslušnost převládajících akcionářů firmy a špičkových manažerů             stále méně spojena s místem, kam se investuje a s jakým partnerem se uzavírají smlouv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Nadnárodní korporace nerespektující státní hranice - globální výroba je optimální způsob, jak „využít nejnovější technologie, kterou může firma použít“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66"/>
                </a:solidFill>
                <a:latin typeface="Arial"/>
              </a:rPr>
              <a:t>Např. firma DuPont – podpora a spolupráce na virologickém výzkumu v československém Ústavu organické chemie a biochemie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Šipka doprava 3"/>
          <p:cNvSpPr/>
          <p:nvPr/>
        </p:nvSpPr>
        <p:spPr>
          <a:xfrm>
            <a:off x="5357880" y="200016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Konec národního šampio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71040" y="233208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Z národního šampiona             globální sí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Model této sítě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elkovýroba standardizovaných produktů v zemíc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 nízkou úrovní mez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soce zhodnocující řešení              všude tam, kde lze najít užitečné nápad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Šipka doprava 3"/>
          <p:cNvSpPr/>
          <p:nvPr/>
        </p:nvSpPr>
        <p:spPr>
          <a:xfrm>
            <a:off x="5076720" y="242100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Šipka doprava 5"/>
          <p:cNvSpPr/>
          <p:nvPr/>
        </p:nvSpPr>
        <p:spPr>
          <a:xfrm>
            <a:off x="5580000" y="429264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ahraniční investice ve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Globalizace investi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Lidský kapitál = nejcennější aktiv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Př. – SON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V r.1989 koupila spol.SONY filmové ateliéry Columbia Pictures.(3,4mld). Získala právo na zisky z mnoha vynikajicích děl Hollywoodu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ALE!!!! Nezískala tímto talent filmařů a scénáristů (Peter Guber, Jon Peters; Batman, Rain Man - Ty získala za 55mil., 2,75mil./rok, podíl na zisku ateliérů, prémie 50mil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ejcenější je lidský kapitál – největší zisky nemají akcionáři a vedoucí osoby, ale talentovaní a schopní lid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ICH, R.B. 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Dílo národů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 Praha : Prostor, 199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NDY, CH. 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Hlad ducha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 Praha : Management Press, 199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d velkovýroby k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nec plánování a realizace velkovýro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schopnost maximalizace zisku, dosahování příjmů z velkovýroby standardního zbož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řesun k výrobkům a službám ušitým na mír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izace a globalizace inves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 produkty, ale specializované znalos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užby a zboží = služ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 základní schopnosti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Řešení problémů spojených se specializac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nalos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vé aplikace a kombin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ředcházení problémů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ákazník chápe své potře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ak je uspokojit individuálním výrobk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 marketing (hledání příležitostí x přesvědčován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ategický zprostředkovat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agement myšlenek ne organiz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oky informací ve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.z.p. nelze organizovat dříve často používaným systémem pyrami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utná provázanost tří klíčových skupin – řešitelé problémů, identifikátoři problémů, strategičtí zprostředkovatel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ychlý tok informac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doba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avoučí sít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vá doba si žádá nová řešen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ítě“ – určující termín nové ekonom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rategické centrum umožňující propojení ostatních bodů sít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líčová je rychlost, flexibilnost, komplex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xní náklady?? Pryč s nimi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xperimentování je žádouc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y podnikových sít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závislá zisková cent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yčleněná partnerstv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řičleněná partnerstv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c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Čisté zprostředkovatelstv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c a pravomoc ve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c se koncentruje v rukou schopný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ální pravomoci ztrácí na význa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líčová rozhodnutí často ve skry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kutečná moc bývá zastřena, i díky odbornému tisk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zek“ bere vš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erozdělování zisku směrem od dělníků a investorů k „mozkům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jcennějším aktivem firem jsou nehmotná akt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lektuální kapitál – největší význ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chodní znač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tenty, vydavatelská prá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ůst závisí na přibývajících zkušenostech klíčových „mozků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sí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ahrazování starých pyramid klíčových velkovýrobních podniků organizačními sítěmi vysoce zhodnocujících podnik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řesun od kontroly shora a centralizovaného vlastnictví do skupin, které jsou schopné řešit a identifikovat problémy a strategicky zprostředkováv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1:21:27Z</dcterms:created>
  <dc:creator>Zora Navrátilová</dc:creator>
  <dc:description/>
  <dc:language>en-US</dc:language>
  <cp:lastModifiedBy>Zora Navrátilová</cp:lastModifiedBy>
  <dcterms:modified xsi:type="dcterms:W3CDTF">2008-11-12T15:48:39Z</dcterms:modified>
  <cp:revision>5</cp:revision>
  <dc:subject/>
  <dc:title>Vysoce zhodnocující podniky</dc:title>
</cp:coreProperties>
</file>