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8A69-9568-4730-B261-81791839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0304-4980-42E1-B5FE-D4E14906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E4B0-AF24-4627-92A3-D53FABDE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8B81-35B1-469E-95AF-2C4515DF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F187-5DFB-44DA-8A49-FCAEF73E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A408-C610-47A8-8B2E-EB32670F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91CA-BB7B-48D5-B625-ECB2DF5F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4C67-59B5-4817-B9B0-271436F0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506E-F8DD-4688-80D4-4300C41A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EA8-4FDC-43D7-A063-CD95803D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0FF4-088F-41BB-B4F6-BAB79AE6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AD5C-42E0-4EA0-B685-C5B39011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60498-4DEC-4065-A160-B256C430518A}" type="slidenum">
              <a:rPr b="0" lang="sk-SK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9640" y="2165400"/>
            <a:ext cx="719928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Stratégia trvalo udržateľného rozvo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623052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Elena Dvoráková, Martin Petrovič, Milan Vdov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ystémy managementu životného prostredia: uzavretie reťaze hodnô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Analýzy životného cyklu: základ pre management od kolísky do hrob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Stratégie trvalej udržateľnosti riadené procesom: predchádzať znečisteniu predtým, než k nemu dôj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Stratégie trvalej udržateľnosti riadené trhom: odlíšiť sa pomocou správy výrobkov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Marketing pre životné prostredi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2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45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Spoločnosť by sa nemala prezentovať ako zodpovednejšia za životné prostredie, než v skutočnosti je. Tí, ktorí sa zaoberajú marketingom pre životné prostredie, majú v popise práce pomáhať, aby skutky spoločnosti zodpovedali jej slovám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r">
              <a:spcBef>
                <a:spcPts val="45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sk-SK" sz="1600" spc="-1" strike="noStrike">
                <a:solidFill>
                  <a:srgbClr val="000000"/>
                </a:solidFill>
                <a:latin typeface="Arial"/>
              </a:rPr>
              <a:t>Frankel, Coddingt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sk-SK" sz="16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Vytváranie systému managementu životného prostre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Vytváranie systému managementu životného prostre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Podpora smyčky reťaze hodnôt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Auditing životného prostredi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Informačné systémy managementu pre životné prostredi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Informovanie o životnom prostredí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Hľadanie trvalej udržateľnosti, ktorá ide za smyčku reťaze hodnô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76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Všeobecné cie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zabezpečenie zdravého životného prostredi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udržanie ekonomickej prosperit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presadzovanie sociálnej spravodlivosti, rovnosti a blahobytu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zachovanie zdrojov a biodiverzit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vytvorenie etiky správy vo všetkých inštitúciách a u všetkých jedincov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rozvinutie trvalo udržateľných komuní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povzbudzovanie občianskej zodpovednost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stabilizácia populáci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propagácia vzdelávania s dôrazom na trvalú udržateľnosť a kvalitu život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r">
              <a:spcBef>
                <a:spcPts val="4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sk-SK" sz="1600" spc="-1" strike="noStrike">
                <a:solidFill>
                  <a:srgbClr val="000000"/>
                </a:solidFill>
                <a:latin typeface="Arial"/>
              </a:rPr>
              <a:t>President´s Council on Sustainable Development, 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76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76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Udržateľnosť</a:t>
            </a:r>
            <a:br>
              <a:rPr sz="4400"/>
            </a:b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sútok troch komponent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História T.U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1972: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Rímsky klub („Medze rastu“), Konferencia OSN o ŽP (Štokho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1987: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ráva Brundtlandovej komisie „Naša spoločná budúcnosť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1992: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ummit Zeme (Konferencia OSN o ŽP a rozvoji),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27 princípov TUR,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kčný plán (Agenda 21), UN CSD (komisia pre T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002: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ummit v Johannesburgu (RIO+10, Konferencia OSN o T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Kritiky T.U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ozporuplnosť poj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eudržateľnosť súčasného sta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Ideológia namierená proti rozvojovým krajinám, ce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prísnejšie podmienky a pravidlá pre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ískanie rozvojovej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moc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ncept ne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nuj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stato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čnú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pozorno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ť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chudobn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ý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ľu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o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ktorí najviac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pia poškodzovan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í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životného prostr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Kritiky T.U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8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bsentujúca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ázka ideológie ekonomického rastu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ektorí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TUR považujú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ideológi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eo-liberaliz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TUR príliš zameraný na člove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írodné zdroje sú bohaté a vzhľadom na tvorivosť človeka nie je TUR potreb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Ideál medzigeneračnej spravodlivosti je nevyvážený a má nedostat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AD, W.E., STEAD, J.G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nagement pro malou planetu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Praha: GplusG, 1998. ISBN 80-86103-15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ttp://www.euractiv.com/en/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ttp://www.tur.gov.s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ttp://www.tur.s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ttp://en.wikipedia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Ďakujeme za pozornos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Centrálne zdroje problémov životného prostr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Ekonomický 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sobný a spoločenský blahoby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Populačný 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alá plané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Kolo problém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40000" y="1844640"/>
            <a:ext cx="446400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Trvalá udržateľnosť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sk-SK" sz="3200" spc="-1" strike="noStrike">
                <a:solidFill>
                  <a:srgbClr val="000000"/>
                </a:solidFill>
                <a:latin typeface="Arial"/>
              </a:rPr>
              <a:t>„miesto, v ktorom ľudstvo napĺňa potreby súčasnosti bez obmedzenia schopnosti budúcich generácií naplniť svoje potreby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sk-SK" sz="1600" spc="-1" strike="noStrike">
                <a:solidFill>
                  <a:srgbClr val="000000"/>
                </a:solidFill>
                <a:latin typeface="Arial"/>
              </a:rPr>
              <a:t>Svetová komisia pre životné prostredie a rozvoj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WCE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, 19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Biofyzikálne a socioekonomické rozmery 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tvorenie úplnej recyklácie materiál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chod na trvalo udržateľný celosvetový energetický syst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tabilizácia alebo zníženie úrovne ľudskej pop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mierenie rozdielov medzi rozvinutými a rozvojovými národmi sv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tvorenie štruktúr rozhodovania založených na obci, ktoré umožnia široké koordinované zapojenie do rozhodovania o spoločných zdrojoch Z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mena vzťahu medzi ekonomickým a evolučným časovým meradl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Morálny rozmer 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sk-SK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sk-SK" sz="3200" spc="-1" strike="noStrike">
                <a:solidFill>
                  <a:srgbClr val="000000"/>
                </a:solidFill>
                <a:latin typeface="Arial"/>
              </a:rPr>
              <a:t>Ľudské bytosti nie sú stredom sveta, ani nestoja v centre Zeme. Je to iba jeden druh, i keď dôležitý, vo svete obývanom tisíckami druhov. Ľudia by bez existencie týchto druhov nemohli prežiť, zatiaľ čo ďalšie rastlinné a živočíšne druhy by mohli bez ľudského zásahu prežiť celkom dobre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sk-SK" sz="1600" spc="-1" strike="noStrike">
                <a:solidFill>
                  <a:srgbClr val="000000"/>
                </a:solidFill>
                <a:latin typeface="Arial"/>
              </a:rPr>
              <a:t>R. A. Buchholz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Vnímanie, hodnoty a strategické rozhodovan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nímanie – primárna úloha v ľudskom chova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existuje objektívna skutočnosť, existuje len vnímanie skutočnosti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Hodnoty – hrajú hlavnú rolu v rozhodovaniach manažér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ústredná hodnota: trvalá udržateľno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mocné hodnoty: celistvosť, potomstvo, drobnosť, obec, kvalita, duchovné napln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250560"/>
            <a:ext cx="8839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Management podielnikov v organizáciách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stakeholder managamen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em: základný podiel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elení podielnic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„zástupcovia Zeme v hospodárstve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acovníci kontr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elení spotrebite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ravn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tick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investo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amestnan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kologické záujmové skupi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eritelia a poistitel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í, ktorí určujú normy pre životné prostredi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Strategický management pre malú planétu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kocentrický management: filozofia trvalej udržateľnosti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nikateľská stratégia: stáť za trvalou udržateľnosť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tratégia trvalej udržateľnosti: naplnenie zelených víz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tratégie trvalej udržateľnosti riadené proces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tratégie trvalej udržateľnosti riadené trh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emyselné ekosystémy: prepojenie výroby s prírod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Učiace sa organizácie: Štruktúry pre trvalú udržateľn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ásadná zmena: Vytváranie trvalo udržateľných kultú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6:50:06Z</dcterms:created>
  <dc:creator>Ján Dvorák</dc:creator>
  <dc:description/>
  <dc:language>en-US</dc:language>
  <cp:lastModifiedBy>snoopy</cp:lastModifiedBy>
  <dcterms:modified xsi:type="dcterms:W3CDTF">2008-10-29T09:12:59Z</dcterms:modified>
  <cp:revision>9</cp:revision>
  <dc:subject/>
  <dc:title>Centrálne zdroje</dc:title>
</cp:coreProperties>
</file>