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C2E2-E1DB-4211-9E10-B7798C1E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B2B4-287D-49C0-8AB0-A400C1BA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5C18-05F5-4315-A58B-2E9D622E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8CC7-99C2-4CDA-AC73-649F0140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56E3-36A4-4792-B49F-0D49F18E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35A2-D552-43FC-89F4-12CC762F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3AEE-9385-4654-94F5-CB018B27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1F45-AEFD-49BE-AD68-57D196FC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4C4A-A641-4C8F-A9CA-3CF50AF5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EA77-B58C-4C8F-B72A-C0CEEAB5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96C2-A4D5-4F0F-BF12-EF5DE0FA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53CE-2C02-442C-80F5-44644375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EA0F-8511-49A7-97BD-6C6BE166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6B28-8D60-471E-BD57-0F678446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14A8-4B4A-4DFD-BF3A-2F3C895A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3655-36B7-4427-AB67-3E043647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531B-2078-4055-AEE4-498FA1E5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2B06-7DA3-470F-A2E6-7CE0A15C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69BE-DF2C-4B23-B422-F84F19D5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368D-FF06-40FB-A121-EE909433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28D7-04FF-48FD-93BB-78234445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3960-8487-42B1-9BCE-F936A121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F75F-52A5-4058-AB03-DD903039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2D2D-A0C6-4C46-97DB-298E96BF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43B5-495A-4D86-B0AD-810E1E2B98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8864-3BDF-4811-8C75-A3635736D6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Strategick</a:t>
            </a:r>
            <a:r>
              <a:rPr b="1" lang="cs-CZ" sz="4400" spc="-1" strike="noStrike">
                <a:solidFill>
                  <a:srgbClr val="b2b2b2"/>
                </a:solidFill>
                <a:latin typeface="Arial"/>
              </a:rPr>
              <a:t>é aliance se zahraničními partnery (Interkulturní management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ypracovali: Michal Bla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omáš Krá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arcela Poulíčkov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Tvorba podnikatelské strateg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zvoj vlastní vnitřní podnikatelské situ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ilné, slabé stránky (klíčové – např. SWOT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ak odstranit slabé, zhodnotit silné strán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hodnocení specifických konkurenčních předností(rozbor konkurenční pozi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zbor zdrojových možností organ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Tvorba podnikatelské strateg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arianty scénářů pro dosažení cíl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ladění zdrojových nároků na dosažení cíl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xtenzivní zdroje – např. strategická a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hodnocení scénář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erspektivnost, zdrojová náročnost, návratnost zdrojů, rizikov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ýsledná podnikatelská strateg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Informace o partnerov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valitní příprava společného podnikání (pracná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ákladem informace o možném partnero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dnikatelský profil, vize, strategické cíle, konkurenční pozice, vztah k partnerům, organizační struktura, kultura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Informace o partnerov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savadní spolupráce, agentury (CzechInvest, Czechtrade),obchodní komory, informace od bank, od firem se kterými partner spolupracuje, jednání na konferencích a veletrzích, tiskové agentury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xistence sporných až nelegálních metod získávání inform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Vhodný partner (partneři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Udržení stálého souladu se zvolenou podnikatelskou strategií(x slaďování záměrů se zájmy partnerů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olečné podnikání – kompromisem zájm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jprospěšnější a nejpevnější partnerství: slabé stránky jednoho partnera kompenzovány silnými stránkami druhé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jistit, že fungování aliance povede k společně dohodnutým cílům a bude respektovat sociální, ekonomické, organizační a kulturní podmínky (strategická kompatibilita partnerů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b2b2b2"/>
                </a:solidFill>
                <a:latin typeface="Arial"/>
              </a:rPr>
              <a:t>Příprava na jednání se zahraničním partnere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ncepci by mělo zajistit vrcholové ved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tvoření tý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terní negativisté“ v tý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dnotná koncepce strategického zámě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sychologická přípr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lézt „správný kompromis zájmů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mluva o utajení „citlivých informací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měla by trvat dlou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Jednání s partner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bl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sobní projednání s partner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duchu vzájemné důvě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jasnění vyjednávací poz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mělo by být konfliktní a zdlouhav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ůběžné vyhodnocování inform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Komu se vyhnout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labým partnerů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ráčům na krátkou dobu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rtnerům se sklonem k autoritativní dominan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rtnerům se špatnou pověs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profesionálně vedeným organizací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b2b2b2"/>
                </a:solidFill>
                <a:latin typeface="Arial"/>
              </a:rPr>
              <a:t>Dokumenty obvyklé při vzniku strategické alianc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polečný „podnikatelský záměr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hoda o vzájemném respektování záj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mlouva o strategické alian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Společný „společenský záměr“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ymezení účelu strategické a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harakteristika pole spol. zájm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lavní cíle a jejich zajiště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dstava o řízení strategické a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vazky partnerů ke zdrojovému zajiště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jištění před důsledky riz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dělení očekávaných zisk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ávní nároky a výjim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dpokládaná organizačně-právní nor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věrečná ustanov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2209680"/>
            <a:ext cx="4876920" cy="3733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2209680"/>
            <a:ext cx="4876920" cy="3733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Pojem „Strategická aliance“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rategická alianc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trategické cí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Operativní cíle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2590920"/>
            <a:ext cx="2514600" cy="1447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rganizační jednotk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čtí partne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4191120"/>
            <a:ext cx="2514600" cy="1447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rganizační jednotk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čtí partne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590920"/>
            <a:ext cx="2514600" cy="1447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rganizační jednotk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čtí partne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2209680"/>
            <a:ext cx="4876920" cy="373392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4191120"/>
            <a:ext cx="2514600" cy="1447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rganizační jednotk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čtí partne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2590920"/>
            <a:ext cx="2514600" cy="1447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rganizační jednotk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čtí partne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590920"/>
            <a:ext cx="2514600" cy="1447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rganizační jednotk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čtí partne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4191120"/>
            <a:ext cx="685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943600" y="3580920"/>
            <a:ext cx="685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b2b2b2"/>
                </a:solidFill>
                <a:latin typeface="Arial"/>
              </a:rPr>
              <a:t>Dohoda o vzájemném respektování zájmů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mezení pole záj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áce smluvních stran na poli záj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ůsledky vyplývající z práce na poli záj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stup v případě neuzavření smlouvy o strategické alian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ávní zabezpečení a doba tr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Smlouva o strategické alianc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časné společné vyprac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věření její právní plat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Úpl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ávně závazný dok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Strategické partnerství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rategické partnerstv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širší pojem, zahrnující více forem spoluprá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4876920"/>
            <a:ext cx="160020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ěsné for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3048120"/>
            <a:ext cx="160020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olné for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3733920"/>
            <a:ext cx="205740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cké a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343400"/>
            <a:ext cx="205740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oint Ven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914400" y="297180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5791320"/>
            <a:ext cx="525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4880" y="5827680"/>
            <a:ext cx="38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íra spolu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Sítě strategických aliancí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istoricky více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bilaterálních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dohod mezi partne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ový trend vytváření sítí strategických aliancí (boom v 90. lete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omogenní x heterogenní sít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jsilnější firmy jsou v pozici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líčové fi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Situace v Č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2. pol. 90. let začíná mohutná vlna přísunu zahraničního kapitálu. (v 90. letech přesáhl objem investic 20 mld. US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současnosti v ČR zhruba 55 000 firem, na nichž se podílí zahraniční kapitál (vytváří asi 65-70% export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městnávají asi 300 000 lid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hraniční firmy jako Volkswagen, Siemens, Phillip Morris, Nestlé, Renault aj. budují systematicky sítě Strategických alianc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íce informací na www.czechinvest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SA v moderním podnikání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zitivní x negativní koope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ři základní druhy S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aměřené na sdílení činností a zdroj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ytváření pozitivních integračních a synergických efektů spoluprá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edukci konkurenčních střet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hrazení negativní kooperace pozitivní koopera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znik, přenos a využití znal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ískávat a zhodnocovat data pro podnikatelskou čin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Rozhodovací proc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 úvahu o strategické alianci nutný hlubší rozbor podmínek a širokého spektra vari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utnost dostatečného manažerského promyšlení a zdůvodnění budoucího sociálně-ekonomického rozv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astou chyb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náhlenost (rychlé a snadné řešení záměrů a problémů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nadný výběr 1 či několika málo partnerů (nedocenění rizi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Podnikatelská strateg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rategická aliance – jedno z mnoha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ýchodiskem pro rozhodování: vytvoření podnikatelské strate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asivní přístupy (opatrné hledání příležitostí, adaptivní chování vůči prostředí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aktivní přístupy (vytváření perspektiv, možností budoucího podnikání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Tvorba podnikatelské strateg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tvoření vize, popř. posl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činná vize(J.P.Kotter): snadno představitelná, přitažlivá, uskutečnitelná, má jasné zaměření, flexibilní, srozumiteln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louhodobé vodítk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zbor vnějšího okol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ecný rozvoj podstatného okol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ecifický rozbor z hlediska potenciálních zákazníků i konku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44:54Z</dcterms:created>
  <dc:creator>Tommy King</dc:creator>
  <dc:description/>
  <dc:language>en-US</dc:language>
  <cp:lastModifiedBy>Tommy King</cp:lastModifiedBy>
  <dcterms:modified xsi:type="dcterms:W3CDTF">2008-11-11T10:34:20Z</dcterms:modified>
  <cp:revision>7</cp:revision>
  <dc:subject/>
  <dc:title>Strategické aliance se zahraničními partnery</dc:title>
</cp:coreProperties>
</file>