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771-13C6-4E6A-AA65-F2249016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76F-5514-467A-8228-A8CE3F55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910-59E4-4D1D-8928-57345BCB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647-177A-4058-A6F9-EA883AFC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45BF-D81D-4A7D-8C47-A9AAE13E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C96E-B041-4753-87CD-7086719B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D37F-1DD2-49C8-83A1-2A94074A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CEA2-B946-4DC4-B636-1930C2EA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03CF-DFB5-45B4-A9DC-931EDC1C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26BB-00D9-4CB7-A252-3967E80C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9FE5-AA52-46B2-9745-F006A038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5B6-4054-4F1F-80CE-5AA7B951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2726-7531-44EB-8514-D4D675D9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6DE9-6926-4E39-BCC5-A05599CB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D33B-F9F4-4E67-9645-4D9AEFBD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E264-7AEC-4DC7-9BF1-3C9872AF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0C7B-B3F5-4E03-A3FA-6BA887EA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255-3456-4C3C-A438-907759EB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511-1A3D-4308-8E26-73C7478C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408-C806-4FF0-8936-A20F7BC9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D35-2D15-4481-9736-765AD226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E3CA-4334-4A19-AE15-F6F37EA4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7B5E-DEBC-436E-9D6B-DED57959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781-11A9-46DA-8183-2502487C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1663-5DE3-4457-BDD4-B4EEAB6898D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FD04-BD31-48B1-82DF-0D8ECA00BDA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b9efee"/>
                </a:solidFill>
                <a:latin typeface="Garamond"/>
              </a:rPr>
              <a:t>Stakeholderský přístup k pojetí podniku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ančúch Zbyně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rejčí Mich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avlík Mich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Zaměstnanci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nejtěsnější a nejstabilnější vztah k podniku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tendence k rozvolňování a dynamizování vztahu k podniku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prostředky vlivu zaměstnanců</a:t>
            </a: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chopnost pracova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možnost práci odmítnout ( individuálně X kolektivně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vyjednávací pozice podle stupně kvalifikovanosti   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zasahování do řízení podniku prostřednictvím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dborových organizac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zastoupením zaměstnanců v dozorčí rad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ebeřízení pracovních týmů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Věřitelé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áno situací na finančním trh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bonita podniku → zájem o poskytnutí úvěr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yspělé západní zem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ostatek finančních prostředků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nízké riziko nesplacení úvěru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věřitelé do správy podniku nezasahují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transformující se ekonomik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převis poptávky po úvěrech nad nabídkou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při vysokém zadlužení: věřitelé → postavení vlastníků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Dodavatelé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Garamond"/>
              </a:rPr>
              <a:t>jejich moc ovlivněna postavením na trhu Va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Garamond"/>
              </a:rPr>
              <a:t>nabízející strana zpravidla ve slabším postavení než poptávající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Garamond"/>
              </a:rPr>
              <a:t>různá obtížnost zrušitelnosti vazeb → transakční náklad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specifičnost produktu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přizpůsobení technologií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sdílené společné know-how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Garamond"/>
              </a:rPr>
              <a:t>riziko převahy moci na jedná straně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Veřejná správ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át, region, ob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středky vliv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ydávání právních předpis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zice zákazník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rozdělování různých forem pomoci podnikatelské sféř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Vztahy stakeholderů a organizační blahoby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ST, James E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Redefining the corporation: stakeholder management and organizational weal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Členění stakeholderů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229360"/>
            <a:ext cx="194436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oint ven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amp; a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3284640"/>
            <a:ext cx="194436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n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08720" y="177336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8000" y="285264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88000" y="393372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64000" y="486900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odběr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4920" y="479736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yvatelst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0920" y="134136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oř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378936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lá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270828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ul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170028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krom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40360" y="2494080"/>
            <a:ext cx="502920" cy="647640"/>
          </a:xfrm>
          <a:prstGeom prst="upDownArrow">
            <a:avLst>
              <a:gd name="adj1" fmla="val 50000"/>
              <a:gd name="adj2" fmla="val 2563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40360" y="4437000"/>
            <a:ext cx="502920" cy="647640"/>
          </a:xfrm>
          <a:prstGeom prst="upDownArrow">
            <a:avLst>
              <a:gd name="adj1" fmla="val 50000"/>
              <a:gd name="adj2" fmla="val 2563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112600">
            <a:off x="5651640" y="314064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7418600">
            <a:off x="5580720" y="379008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9525200">
            <a:off x="5005440" y="429408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56800">
            <a:off x="5005080" y="263664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656800">
            <a:off x="3204720" y="429372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4064400">
            <a:off x="2627640" y="364428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6447600">
            <a:off x="2698920" y="299628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8869400">
            <a:off x="3349080" y="2564280"/>
            <a:ext cx="502920" cy="647640"/>
          </a:xfrm>
          <a:prstGeom prst="upDownArrow">
            <a:avLst>
              <a:gd name="adj1" fmla="val 50000"/>
              <a:gd name="adj2" fmla="val 2563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nvestoř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ělím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lastníc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ěřitel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starání kapitálu, vlastního jmění a/nebo půjčk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tut a jméno na finančním trhu (snížení nákladů půjčky a rizik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Zaměstnanc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hrnuje každou osobu, která v organizaci pracuj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ag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bslužný personá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ělníci (sdružení v odborech i mimo ně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ozvoj lidského kapitál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ýmová práce a zvyky založené na pochopení a důvěř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polupráce na pracovišt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dbor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de jsou odbory, tam je zapotřebí vzájemně příznivých vztahů mezi nimi a organizac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bilita zaměstnanců a řešení konflikt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Zákazníci / uživatelé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zná forma a velik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ddanost značce a reput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akované / příbuzné náku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ávrhy a rozvoj spolupráce, řešení problém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bsah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mezení pojmu stakehol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ztah stakeholderů, organizační blahoby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onkurenční chování stakeholder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Dodavatelé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&amp;</a:t>
            </a: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 odběratelé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Účastníci „hodnotového řetězu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fektivita sítě a „hodnotového řetězu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nížení nákladů technologií a běžných postup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Joint venture a alian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pojeno s různorodostí hmotných i nehmotných zdroj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trategické zdroje a schop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Možnosti pro budoucí vývoj (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&amp;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, technologie,…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byvatelstv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ocial license to operate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zájemná podpora a přizpůsobe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lánování, komunální služby, „License to operate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Vlád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láda má vliv n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dmínky podnikán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ukturu zdaně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kroekonomickou politik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ciální zájm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kroekonomická a sociální politik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dpora vztahů se zákonodárc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gulační autorit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gulační systémy mohou sloužit jako punc kvality – lepší než rekla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tvrzení specifických vlastností produktu / služby a úrovně kv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bré jméno – dodržování, integrita, nejlepší zacháze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oukromé společnost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chodní asociace, nezávislé skupiny tvořící standardy, aktivist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nstruktivní spolupráce mezi jednotlivými organizacemi a skupina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íznivé veřejné mí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vobodné (nezávislé) standard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O 9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Konkurenční chování stakeholderů</a:t>
            </a:r>
            <a:br>
              <a:rPr sz="4000"/>
            </a:b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Moc stakeholderů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ložena na možnosti rozhodovat se o navázání nebo odmítnutí vztahu vůči podni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ký tržní vzta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robky a služby (dodavatelé x odběratelé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h práce (zaměstnanc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anční trh (věřitelé, vlastníc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Moc stakeholderů</a:t>
            </a:r>
            <a:br>
              <a:rPr sz="4000"/>
            </a:b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Vlastníci a stá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ad rámec vlastníci a stát – příme ovlivňování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lastníci – rozhodování pomocí řídících orgánů společ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át – orgány veřejné správy pomocí řídících zásahů na základě právních předpis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ržní vztah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chází z teorie her – hra s nenulovým souč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U stakeholderů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ud je součet </a:t>
            </a: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kladný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snaha o navázání, udržení a rozvoji vztahu s podnikem – vidina vyšší získané hodnoty, než kterou stakeholder vloži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ud je součet </a:t>
            </a: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záporný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snaha o navázání vztahu s jiným podnikem, kde bude vidina příznivějších podmínek, popř. ukončit vztah se stávajícím podnik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Stakeholdeři a konkurenti podnik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050920" y="1284120"/>
            <a:ext cx="502308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Východisk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dnik není izolován od svého okol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ivá práce stále významněji určuje hodnotu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dnik jako společenství lid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eho dlouhodobá úspěšnost závisí na vztahu s: vlastníky, investory, zaměstnanci, zákazníky, dodavateli, okolní komunitou a dalšími zainteresovanými skupinami neboli stakeholde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Stakeholdeři a konkurenti podnik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onkurence je vnímána mnohostranně =&gt; ne jen na trhu výrobků a služeb, ale na všech trzí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dnik se setkává v konkurenčním boji o přízeň jednotlivých skupin stakeholderů s ostatními podni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nkurenční trh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kciový tr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mise akci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držení investorů – snaha top managementu, jistota jejich mís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h prá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ájem o získání a udržení kvalitní pracovní sí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nční tr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naha o získání úvěru – přesvědčit věřitele o tom, že podnik je důvěryhodnější partner než konkur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nkurenční trh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h výrobků a služe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ztah k odběratelům – klasické tržní chování – snaha o získání a udržení zákaz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ztah k dodavatelům – boj o spolehlivé dodavate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ztah ke stá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átní zakázk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vilegia – daňové prázdniny, státní podpora, garance za úvěr, poskytnutí pozemku, právní úpravy, at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nkurenční chování podnik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efenzivní: Obrana vztahu ke stávajícím stakeholderům proti konkurenčním podnik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fenzivní: Snaha přilákat stakeholdery jiných podni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ombinací těchto strategií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Růst počtu stakeholderů nebo jejich obměna (platí i pro vztah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Úspěšnost závisí i na chování konkur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Konkurenční chování stakeholderů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e obdobné jako u podni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akeholdeři si snaží udržt nebo získat nové podniky (dodavatelé, věřitelé) a uzavírat s nimi co nejvýhodnější smlouv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naha nahrazovat méně výhodné smlouvy těmi výhodnějším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iteratur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OST, James E. </a:t>
            </a:r>
            <a:r>
              <a:rPr b="0" i="1" lang="cs-CZ" sz="2400" spc="-1" strike="noStrike">
                <a:solidFill>
                  <a:srgbClr val="ffffff"/>
                </a:solidFill>
                <a:latin typeface="Garamond"/>
              </a:rPr>
              <a:t>Redefining the corporation: stakeholder management and organizational wealth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. Stanford: Stanford University Press, 2002. ISBN 0-8047-4310-X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BLAŽEK, Ladislav. </a:t>
            </a:r>
            <a:r>
              <a:rPr b="0" i="1" lang="cs-CZ" sz="2400" spc="-1" strike="noStrike">
                <a:solidFill>
                  <a:srgbClr val="ffffff"/>
                </a:solidFill>
                <a:latin typeface="Garamond"/>
              </a:rPr>
              <a:t>Výzkum konkurenceschopnosti podniku.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Viz studijní materiály I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BERLE, A., MEANS, G. </a:t>
            </a:r>
            <a:r>
              <a:rPr b="0" i="1" lang="cs-CZ" sz="2400" spc="-1" strike="noStrike">
                <a:solidFill>
                  <a:srgbClr val="ffffff"/>
                </a:solidFill>
                <a:latin typeface="Garamond"/>
              </a:rPr>
              <a:t>The Modern Corporation and Private Property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. New York: Macmillan, 193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ěkujeme za pozornos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Stakeholde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vlivňují organizaci a organizace ovlivňuje j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ejich zájem o firmu přesahuje finanční dimenz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ojí s firmou v přímé nebo nepřímé výměně a mají materiální nebo nemateriální požadavky (Stake) na firm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odavatelé, obchodní partneři, zákazníci, zaměstnanci a nepřímo také komunita, veřejnost, média a vlá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Shareholde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užší skupina zainteresovaných aktér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akcionáři, vlastníci a všechny osoby, které mají finanční zájem na úspěchu firmy a které se na firmě jako vlastníci podílů bezprostředně podílej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Členění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Primární: 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lastníci a investoři, zaměstnanci, zákazníci (stávající i potenciální), obchodní partneři (zejména dodavatelé), místní komunita, environmentální neziskové organizace a další mluvčí za životní prostřed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Sekundární: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eřejnost, vládní instituce a samosprávní orgány, lobbisté  a různé nátlakové skupiny, konkurenti, media, občanská obchodní sdruž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Analýza zainteresovaných stra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do jsou naši stakeholdeř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Jaký mají vliv na firmu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o od nás očekávají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teří z nich jsou opravdu klíčoví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Které vztahy jsou pro podnik klíčové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9" name="Zástupný symbol pro obsah 3" descr=""/>
          <p:cNvPicPr/>
          <p:nvPr/>
        </p:nvPicPr>
        <p:blipFill>
          <a:blip r:embed="rId2"/>
          <a:stretch/>
        </p:blipFill>
        <p:spPr>
          <a:xfrm>
            <a:off x="-73080" y="1352520"/>
            <a:ext cx="92901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Vlastníci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moc plyne z jejich podílu na kapitá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uplatňování moc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ystému vo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ystém ex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0:42:48Z</dcterms:created>
  <dc:creator>Michal</dc:creator>
  <dc:description/>
  <dc:language>en-US</dc:language>
  <cp:lastModifiedBy>Michal Pavlík</cp:lastModifiedBy>
  <dcterms:modified xsi:type="dcterms:W3CDTF">2008-11-10T11:46:39Z</dcterms:modified>
  <cp:revision>38</cp:revision>
  <dc:subject/>
  <dc:title>Stakeholderský přístup k pojetí podniku</dc:title>
</cp:coreProperties>
</file>