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503-7F3E-4795-9A19-8B1CEF30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766-F6BE-4B89-9B5C-12144487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FFEF6-B8E4-4F0A-B010-57912AB0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AABBE-2441-4098-A8A4-79B58D35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0B1E4-442D-4ACB-AD97-E3A06B8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1CABE-0CEA-43D4-8CDE-C439EF1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E1DBD-180E-4090-8E45-551CAADA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8FEDE-9875-4876-AA90-4F3BDEF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EC219-370E-4338-BE57-544CEF3F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AD15A-46D6-4F76-96DF-286A87BA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115D0-34B6-43C9-84AA-3A951B1A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60758-5EE7-4BF1-9AD4-53D9CF6F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472-5AE2-440E-89E6-4D910CA8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00D29-BFDD-43CD-B300-A8EC5FCD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25F61-41DA-41C7-88AE-59D17295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F6BF9-4CBA-49EC-A24E-A89619D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E66A6-D74C-4E7C-A416-1D881FFD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73DEB-1D4C-419C-9F2E-D8B7CE83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DEE91-9B9A-4191-A51D-A4A6DBA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B9BC7-35C3-4D93-A08E-ABD4B2E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EBB8B-35A4-4F5B-B7FE-167AC309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868BD-CD2F-487A-827D-4B035C4F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65068-FA1D-411C-BE64-5AC617DB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6A0-54A0-41F1-9A5D-9F4E98CE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E537B-8F58-462C-A6DB-73BABE5D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46A53-B297-4490-AB96-E03C9A74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C5742-9212-48EC-AC86-C89C1F9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02830-71F4-4ABB-A7D8-BEAC3858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C4F81-0C68-4B9B-AC34-26EE7922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ACD4D-E10B-4F67-A224-BF407459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CCE29-6748-46BE-ABC1-01668B38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DD842-82D9-4333-86C0-58B460A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B14D6-B451-4B88-9480-81B32E9B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56427-995B-4FD2-AE23-5DE6E5FE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414-37EF-4A07-8DF1-2DD8A2A7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1D2E0-3FAA-4C90-97CF-767FC840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36273-0112-48D7-B3D7-16E1DBA6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BC591-BFF3-4EE8-BD85-62D453B9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C5F18-594C-48F8-B55A-095B19B5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6DA45-A7D0-4D59-BA94-2273544C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B5C20-720E-4A02-948C-16B834F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B392E-096F-4DCE-8114-4AEB043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CC5F6-F85A-49E0-A7E2-B6B38A7C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19FE5-70F5-4392-8E79-826B76A9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022B3-2ACB-42E9-8DE5-EEA3ADD7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A17E-D38B-44DF-BB47-192094CD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E3E18-F638-4775-B106-A5BF828B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5BC3B-D882-4ECC-86C8-77CAF3B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83878-7D2B-4022-B67A-A7727A53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35F25-251E-4279-94B9-4290CCF4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72AAA-E08A-4729-A222-74B018A3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1E06-BBC8-4AA5-8BD7-84872498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BA52-56CC-425F-AD83-2140954D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CBEB-6105-41CB-B8F9-6B6435A3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E750-42B5-4310-9ECB-D555AC53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2FAB-E44E-4DFC-B866-EA9CB80B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03D-035C-447E-9CC4-48AD6EB7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654D-FFFE-44ED-90A4-E321E87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9802-A013-4D46-BD78-B543DEE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2CA2-CCEF-4B79-89F2-4FD91445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A69E-9C90-4025-82CB-5420F827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7443-7213-4130-BECD-AE13EAC3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B8C9-406E-420C-A09C-F48D4355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1518-2590-48D9-909B-7BCB772E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2030-8FB6-4EBE-911B-C3A5AFE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9631-FE1C-4067-BF3A-08540CC3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3C99-1AE1-48D4-898E-DB3A2E31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085-9995-4543-A233-6236D767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FC61-05EE-468E-8158-4C07ABE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FE35-0002-48C5-B6A6-CB611BF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EA2C-235E-433B-923F-7BACE9D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AF41-148B-4AE0-9860-5DFF448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B55C-C547-41AB-B058-C7B88C0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508E-79D7-44F5-BF51-5DBEEEBB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F513-8E7D-413E-B6D8-CD5A3B73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1697-BB16-4745-AC6C-509BB717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4399-F8E6-4B45-A448-3279780E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0858A-BE6B-4746-9654-07FA4514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E68-69E7-4E5E-B2F7-EB0512B7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A503-EAC6-4990-9E6C-8685651F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54F2-30BE-4FDA-A9B9-688E1B90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BB4E-5A02-440D-BA17-8956EF64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8E82-4C43-4901-902C-04DA4B0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AC7D-2BB1-4A7C-B9F1-4336340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E3D1-E095-4776-B09B-2F62D7B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8C0A-85B5-4998-9B8C-D4C23671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33A0-CA46-4126-BF24-0647785F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6BDC-F35F-48E7-A5B4-5D08892D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005AD-FF92-4B23-A933-5DA6E197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DDB-D2DF-4280-8DC3-7C097429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4ABD-71EC-4A04-8293-C610981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371D-E921-4200-B409-7D59A3EE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607D-13C6-4E24-B857-906AC9F0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04B5-36E5-4FD8-8E48-3224A93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302C0-95EF-483B-8BB1-19A6C2AA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BAC8E-4F93-45FF-94B2-0D03630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778E-3277-44AF-954A-E93459EB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BCD05-4859-4E74-BFEB-9B780971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2C14-ABE0-4E10-A1DE-34C74D73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E6E6-76BD-4521-A7A2-D7125E75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3B1-310B-4360-927C-B4F0875B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C619-B952-4452-87DC-81FBE6B3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814E3-F06F-414A-95F5-7D1B65FD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84689-F3B2-45FE-A63C-5955A534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4FEF-DA33-4F90-AF98-01E7EB2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4857-5D53-460D-AD3F-82307A22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C2F2C-B25E-4FC1-B88E-30518D11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4FD4C-9E44-47DB-A608-0383BF78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6F04B-4385-41FD-98A2-3986BACE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A7AA4-87D6-415E-ABCC-5D38AF8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0247-C9CE-4AC3-A120-F6E7E88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1EC-64D2-42B4-8A6C-84E77A4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223D8-5F70-464C-9C1F-3B710C21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1637-BC52-4337-905C-E5980C5B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4377F-50CE-4ED7-B56B-31A44A48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D474C-2B95-4A16-8F01-010290CC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E29E3-6800-4F4C-B1AB-49C37BF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A61D-7EF3-4A32-81FF-E176C1DA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8E1EF-1D32-4DBB-9EEE-6A8E02B4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E0E1-07C1-468B-BA0B-2E163325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B6E4-CFD2-4209-B4A0-8B0AA6B4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2DD54-ACC9-4C33-81A8-D61FEEC5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72D-E4B2-4798-B487-57A2F37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B1790-3C3E-4354-AF26-D6AAA14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B7158-6624-4990-A0F6-A0ED799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FE66-0B84-45B4-BB8B-30D563ED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8F3D-B238-47C0-9612-DA015277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C599-C8A7-41DE-B483-0ED46E39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E5D75-8CF8-4695-98DF-BD320314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40E1C-CC46-477F-BF8F-700EAB34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8C26-AA45-4A66-969A-B4CB300D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0699E-91CB-4658-BEE1-8A2A55FD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6116F-449A-4B72-B590-747A698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538-EB30-46C5-B07A-33997FE2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593D-EEF1-4F11-A61C-1DB2C9A2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A7D30-2AA0-4D32-B1A2-D505B8B5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39B9-019E-4DB8-8EB8-639F727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B1317-E30D-4CCA-9CA3-CCB41D5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E98B-7BF5-4EC2-80F2-95F55A84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AA9C-009D-4781-BA5D-FCC07771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62F56-FF8F-4F1E-A222-82890278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F3132-AFC3-443A-9693-17AFAF19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5D795-F28A-4FD5-8FEB-94B37FA4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5C27C-BA5C-47A9-8856-CB13E5E3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2B00-983B-4057-B11B-412F48E1B130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BD0-C62D-4F2C-B38E-5323831BABC8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4F55-C4B7-4C73-ABFB-0D860959271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B2EF-103F-4866-B0E7-20D182B6D12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D5EC-6DDA-469A-B25B-73A7024F7AED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A823-917A-4ADD-8451-84FAF036AAA0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55F2-698C-4194-BBBD-42671BF9E132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82BD-A1B3-44A8-A8DA-D25D6A92F600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7AB-7D57-4626-BCEF-BF67C7B6008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A402-9F64-422B-BB71-D16B83DC2F7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824-F6B2-48AD-9FED-AF14F216A009}" type="slidenum"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B840-D0BB-4422-882A-60006C1B4F8D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Globalizace" TargetMode="External"/><Relationship Id="rId2" Type="http://schemas.openxmlformats.org/officeDocument/2006/relationships/hyperlink" Target="http://dumfinanci.cz/ekonomika/franchisin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Sociální kořeny a důsledky globalizac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nald Clemmer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zení jako škol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jvíce lidí ve věznicích „ze dna“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ěstské ghet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 Ghetta slušnému člověku vstup zakázá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Lokální nikoli globální zločinnos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trategi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„odmítání odmítačů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elmi jemný závě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Globalizace je společenský proces, který nejde zastavit, obejít, či ho ignorova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Globalizace není ani dobrá ani špatná. Globalizace je taková, jakou ji lidé udělají. Jako každý systém musí sloužit lidské osobě. Musí sloužit solidaritě a lidskému dobru.“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Jan Pavel I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Efektiv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vantifikace a kalkul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dvídatel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trol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Vědecký management  a fordismus jako předchůdce McDonaldizac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„ </a:t>
            </a: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Jakýkoliv zákazník může mít naše auto jakékoliv barvy, kterou chce, pokud je to černá.“  H.For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McDonaldizace v byrokracii – standardizace procesů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 společnost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entist, McDoctors, McPaper atd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proces ovlivňuje nejen restaurační stravování, ale také vzdělání, zaměstnání, cestování, volný čas, politiku, rodinu a potenciálně všechny sektory společnost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onal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 jako známka globaliz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ať si dáte hamburger v New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Yorku, Londýně nebo v Praze, McDonal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’</a:t>
            </a: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s vám zaručí, že ve vaše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oblíbeném jídle bude přesně to, co chcete a na co máte chuť, a také vás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budou obsluhovat lidé ve stejných uniformách a budete v tak totožné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podniku tomu vašemu oblíbenému, že můžete nabýt dojmu, že jste ani svoji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rodnou zemi neopustili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Franchising (z francouzského franchis osvobodit) je smluvní vztah mezi partnery, ve kterém poskytovatel franšízy (franchisor) poskytuje svou značku a právo užívat předmět podnikání své společnosti, tj. poskytuje své know-how, včetně systému řízení a zabezpečování služeb, a nabyvatel franšízy (někdy označován jako franšízant) se zavazuje zaplatit smluvně stanovenou odměnu a dodržovat komerční politiku poskytovate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Mezi hlavní výhody franchisingu patří to, že dovoluje podnikat v daném oboru bez počátečních znalostí, bez dlouhého získávání zkušeností a praxe a snižuje riziko krachu. Dále dovoluje používat provozní systém a postupy, chráněné receptury a strategii marketingu franchisor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’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s a 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Dnes můžeme výrobky McDonald’s nalézt ve více jak 100 zemích všech kontinentů. 30 000 restaurací po celém světě vycházejí ze společných základů, pravidel a zásad podnikán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ranšízant si kupuje vybavení restaurace a zároveň samotnou franchise, která ho opravňuje po dobu 20ti let používat obchodní známku a další práva společnosti McDonald‘s. Na druhé straně je povinen dodržovat standardy společnosti v oblasti kvality, servisu a čistoty a odvádět poplatky z pronájmu prostor a za poskytnutí franchise, které odpovídají určitému procentu z obratu restaura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? Kam to směřuje 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aha o sjednocení ať už Evropy či celého světa by mohla znamenat zánik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noha kultur, čímž by se člověk naprosto zbavil fascinující barevnosti a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exotiky na této planetě. Pravděpodobně by po tomto kulturním sjednoc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oupila jakási jednotná „kultura“, která by nás zahrnovala řado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ekvalitních, ale pro konzumní společnost velmi snadno stravitelných, filmů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nih, řadou konzumní hudby a další spoustou věcí, které by měli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uspokojit naší kulturní potřebu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Literatura a další zdro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BAUMAN, Z. Globalizace. Praha: Mladá fronta, 1999. ISBN 80-204-0817-7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Wikipedie: Globaliza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cs.wikipedia.org/wiki/Globaliz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anšíza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dumfinanci.cz/ekonomika/franchis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itzer, G. McDonaldizace společnosti. Praha: Academia, 1996. ISBN 80-200-0571-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V nejobecnější rovině slovo globalizace znamená zvyšující se propojování světa ve všech oblastech života lidí. Globalizace je souborem mnoha různorodých procesů, které obsahují aspekty ekonomické, sociální, kulturní a politické. Tyto procesy jsou vzájemně provázané a navzájem se podmiňují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Zygmunt Bauman - 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Ať je tomu, jak chce, proces globalizace resp. lokalizace je neodvratný a jeho důsledky postihnou všechny bez rozdílu. Někomu přinesou nové netušené možnosti, jiným jen zpečetí krutý osu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 resp. lok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olný pohyb kapitálu (mobilita kapitálu) → svoboda od starostí a odpovědnosti -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”Každý, kdo může utéct z lokality, může utéct od důsledků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měna ve vnímání “vzdálenosti” – hlavní požadavek je rychlost – v dopravě, v přenosu informa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Technologické zrušení časoprostorových vzdáleností lidskou situaci spíše polarizuje, než homogenizuje.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álka s prost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vorba přísně racionálního, funkčního, městského prostoru, vede k rozpadu ochranných sítí utkaných z lidských vazeb a vede neomylně k osamělosti a intoleran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Funkce měst, jako ochrany před nepřítelem “zvenčí” ztratila na významu a naopak byla nahrazena obavou z nepřítele “uvnitř”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aždodenní hromadění dat o každém z ná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Co dál po národním státě?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ýznam národního hospodářství klesá díky neomezené schopnosti pohybu kapitál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tvořil se 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nový světový neřád“ = globální zmat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Pokusy o nalezení nadnárodní svrchovanosti a kontroly naopak vedly k ještě větší členitosti a roztříštěnosti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lamování „opory třínožky svrchovanosti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Globalizace je prospěšná velmi malému množství lidí, dvě třetiny světové populace vynechává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Ideální typ konzumenta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p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řilne k věc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sb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rač požitk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Uspokojování požitků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éměř okamžitě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Příslib uspokojení předchází potřebě, jež se slibuje uspokojit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Touha netouží  po uspokojení, touha touží po touze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 (2)</a:t>
            </a:r>
            <a:r>
              <a:rPr b="0" lang="cs-CZ" sz="3300" spc="-1" strike="noStrike">
                <a:solidFill>
                  <a:srgbClr val="7b9899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člověk v pohybu – turis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em však nemůže být každ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naději, že se požadované touze může přiblížit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ít dostatečné prostředky aby mohl volit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yčleňují se tak dvě skupiny – turisté vs. tulác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risté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chtějí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mlouvá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lác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la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e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asto ilegálně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jsou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žádoucí (podezřelé) činnost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álepk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lád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Potírání klasické formy zločinu -</a:t>
            </a: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&gt; p</a:t>
            </a: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římo ohrožu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Upozorňuje na fyzické bezpečí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ateriální zabezpečení a jistotu nemůže (globál. tlaky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íce jsou postihování „chudí“ než „bohatí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9:24:17Z</dcterms:created>
  <dc:creator>Vajcka</dc:creator>
  <dc:description/>
  <dc:language>en-US</dc:language>
  <cp:lastModifiedBy>Vajcka</cp:lastModifiedBy>
  <dcterms:modified xsi:type="dcterms:W3CDTF">2008-10-27T09:39:32Z</dcterms:modified>
  <cp:revision>2</cp:revision>
  <dc:subject/>
  <dc:title>Sociální kořeny a důsledky globalizace</dc:title>
</cp:coreProperties>
</file>