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0F2-B39A-4DE8-B93C-A67FB705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724-036D-45AE-8B12-44C62AFC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7C6C1-824D-4525-B288-B15F1929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32CEA-6E24-4551-8F4D-43FD78BE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0F4E3-6D54-410D-AF1A-393CE183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BEEB5-53BF-45C0-860D-8166B4D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56308-ABCC-40AA-A71D-24F37F9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027F-2ACA-496E-AC70-99024C5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D6BDC-C7C3-4BA1-99FB-307DE25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7C3DD-9AB6-4709-AD8F-051C5E84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88CF4-8BD3-44CF-B028-BEC93AFD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9D3-1FAE-47F5-A527-CCB58C28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446-8624-41C5-83A9-E0508214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4D87-C087-4D43-951C-32E74073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3A16-6B2C-4B22-99F1-25C36DC5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5EF9-E127-408C-A16A-7C18B072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5B52-73A4-4984-9CB9-BFAE84FA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3C29-F034-4A11-81F3-12ABA0BB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D066-A670-4EA0-AF67-46E06D37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C1A9-E270-46B0-B8CE-BA36D8D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568-F4FF-4658-86F3-ADA14515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29F3-1866-45EA-85C9-3FCFFF4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1047-56C0-4D3D-B871-A244CA6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B99C-050D-4F3C-9E8A-67B946BD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9347-70DA-40E8-95F9-B0E0F0B3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4071-6553-4FE2-8120-A369F9F5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4446-8AF8-4EA8-91C3-647D124E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D0E7-6699-4082-97E8-DDF465A0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C83DD-07AA-4A8B-90B7-D1F94185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80AE-F327-4776-98AE-7C6910F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658A-2F5D-4D15-ABD5-363256AD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433-DDC9-4E2B-9EC5-5344C08D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FB6C-BC8A-4CF0-B6AF-928926C9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6FB6-0D38-4796-8F1E-322865E3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12B4-16B6-427E-AC0E-40925808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88E7-09FA-4F78-B710-52809E4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2EE7-492A-466C-8D50-6C7442A4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1DBF-4631-450B-9055-332E2556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1C7E-990C-45AA-BBB1-AA47F83C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517B-1EB7-4159-8DEE-5153507C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2D532-287D-44D3-ABCF-1B7D4893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2A528-928B-47E7-89C8-3A205BA8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9FA-43CC-422C-9D16-3EB40E2F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E746C-D430-485F-BCB8-2524FD61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06863-92D8-4B2F-B721-F41210FE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2893-C920-45DA-B117-750BD180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72CD-5F8D-4FE3-9820-1568A56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7CAAC-5ADE-4D1D-9FA3-B84C7FB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31B2-5170-499B-845F-1C9FD461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59182-06A5-40E3-95EC-408FD69F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CFE7-D9F1-48B7-85E7-486EC777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536B-06AE-45B8-8074-A289A765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B170-6893-471F-85CF-F3A1C4CA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C8C-0BF4-4900-9A9D-84D4CFAD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AD819-557E-4DDA-BBBD-0D46B36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C28A2-069C-48D2-AE8F-9086F5F3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AF600-1230-4824-9B22-0DD59A1D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2F8C-7A89-45D7-93DD-BA97711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A5001-8E91-4433-9A65-C0566E11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CF8D-6944-4407-A39C-D0CD3059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9B15A-4B6B-48DB-9ED7-195D26E4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0DEFC-E88B-4D95-9DEC-803C16C2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437F-EFDA-4224-92DA-81DE8637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E4E84-028A-4B57-985A-5D162BD4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247-21B5-4CBB-BE39-D446E16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7737-A109-421E-8876-0221F148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FCAC-931F-44CB-83F4-04D8F632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EE08-50DD-45B8-BC2A-8E08E0FE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F4FC-559E-450D-9F7A-BEC1CA83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E07F-6BE6-460C-A1A6-B61222D5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DA1EC-10B8-4AD2-9213-172347EF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73C92-3E19-4E0D-85FA-C32A37D6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E98A-3CCA-4724-8C96-AE0BC324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02B71-46D8-43EB-BC8E-C891CC2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5CC1-3CE7-46C1-AC83-433BC8C1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3C3-DC1E-48A2-A6BE-1F89CDBE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CEBE-4288-4B89-A2D2-15C1BD60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8650-6E23-4D5A-BC61-73E9BEA2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E823B-11CA-430B-B48C-996F9EC9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996CC-79ED-4F2F-B48C-68E4649F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17128-7EC6-4E08-AB90-0711DD12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FE645-A657-4582-9CA7-8CC271E4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C361E-1E31-4EDE-A2FA-28E388A2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FE31B-7030-4A7E-9E59-71ECBD15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C4F66-8323-4BA0-B707-BD99450D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93EA8-E227-41CA-B192-04E328F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182-5645-4C67-87C5-C87E5258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581D-128B-4DA2-8F38-9D50550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AD2D5-0B3E-4D09-818C-B70CD52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7729-060C-485B-B77F-6AC1ABFB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BB138-D208-494E-8A5E-F80F265B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59ABD-DF88-4CDD-AD48-01AB8AC6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ABA5-C774-450B-8BA4-51BD5E8C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71CDE-07C4-42EE-BD0F-4B178946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16238-CB90-45BF-A7C5-A181BD94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4B0D7-F754-40FE-9499-091EC33A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135E5-3ADD-49D2-89CE-452AA37A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055-D4B3-424A-86C2-E0167C0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44278-BFB9-438F-B1DD-67410704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E0BEF-FDE8-4006-9DC7-5821A47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D924A-A207-4BCA-BC3A-2EFB9DD3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D7E4E-F34E-4CCA-B7EA-CE778AD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FBD35-72A7-4B71-AE04-BD6FAD8A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44050-F858-48EC-8123-0E5127F1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B5A64-CFA2-414F-A822-58DFD086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552D4-FCF0-42A3-BB28-83FD65A8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8977F-15A2-453B-B377-B7DC53DF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C844D-EA3F-4BC3-833B-13E12F65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0D1B-521B-436A-B5CE-EC59BB10BF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978C-5B9B-4732-9ABA-1FFF692C21E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A128-346C-49B1-92D4-BEF65C7A44A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954B-F21A-4123-8B05-33003425F7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BF19-6C6C-44CA-870A-54BAFA9651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ED05-EF7A-4CB8-895D-38D0325FB6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C1E1-AD6C-461C-A8B5-0A3C99A647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2EA2-8917-4895-BEAD-1A98B63635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9785-4E34-4233-87F8-301617AEB1B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2"/>
          <a:stretch/>
        </p:blipFill>
        <p:spPr>
          <a:xfrm>
            <a:off x="85680" y="2475000"/>
            <a:ext cx="866160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Franklin Gothic Book"/>
              </a:rPr>
              <a:t>Monika Lemonová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Franklin Gothic Book"/>
              </a:rPr>
              <a:t>Jozef Barnia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ejedná se o klasické pyramidy 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(Ředitel- manažeři- dělníci…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ZP - pro byrokracii není mís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rychlost, žřetelnost, informační tok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vůrčí týmy, skupin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-  </a:t>
            </a:r>
            <a:r>
              <a:rPr b="0" lang="cs-CZ" sz="3600" spc="-1" strike="noStrike">
                <a:solidFill>
                  <a:srgbClr val="4e3b30"/>
                </a:solidFill>
                <a:latin typeface="Franklin Gothic Book"/>
              </a:rPr>
              <a:t>Pavoučí síť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34" name="Volný tvar 3"/>
          <p:cNvGrpSpPr/>
          <p:nvPr/>
        </p:nvGrpSpPr>
        <p:grpSpPr>
          <a:xfrm>
            <a:off x="6248520" y="5181480"/>
            <a:ext cx="1761840" cy="1225800"/>
            <a:chOff x="6248520" y="5181480"/>
            <a:chExt cx="1761840" cy="1225800"/>
          </a:xfrm>
        </p:grpSpPr>
        <p:pic>
          <p:nvPicPr>
            <p:cNvPr id="435" name="Volný tvar 3" descr=""/>
            <p:cNvPicPr/>
            <p:nvPr/>
          </p:nvPicPr>
          <p:blipFill>
            <a:blip r:embed="rId3"/>
            <a:stretch/>
          </p:blipFill>
          <p:spPr>
            <a:xfrm>
              <a:off x="6248520" y="5181480"/>
              <a:ext cx="176184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357960" y="5214960"/>
              <a:ext cx="16430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37" name="Picture 2" descr="C:\Program Files (x86)\Microsoft Office 2007\MEDIA\CAGCAT10\j0233018.wmf"/>
          <p:cNvPicPr/>
          <p:nvPr/>
        </p:nvPicPr>
        <p:blipFill>
          <a:blip r:embed="rId4"/>
          <a:stretch/>
        </p:blipFill>
        <p:spPr>
          <a:xfrm>
            <a:off x="6715080" y="2786040"/>
            <a:ext cx="2214720" cy="224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dstranění zbytečných nákladů velkovýrob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ontrola FN není důležitá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nájem hal, kanceláří, továren, sklad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aměstnanci na dočasný prac. poměr (účetní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álo fix. pracovník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otivace pracovníků místo kontrol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xperimentován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ak se mění odměn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jvětší podíl na zisku mají řešitelé a zprostředkovatelé, ne vlastníci V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dnota podniku = nehmotná aktiv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ZP nelze zakoupit o nic snadněji než kvalifikované a talentované jedin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jde o pobočk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Ztrácí význam země původu zbož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anční i intelektuální kapitál odkudkoliv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dukt           práce lidí v mnoha zemí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lužby  související se specializovaným řešením problému  (marketing, konzultace, finance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Je rovno 3"/>
          <p:cNvSpPr/>
          <p:nvPr/>
        </p:nvSpPr>
        <p:spPr>
          <a:xfrm>
            <a:off x="2571840" y="3500280"/>
            <a:ext cx="571320" cy="28584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Američan si koupí automobil Pontiac – General Motors = 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20 000Usd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Z toho: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ižní korea 6000Usd Jižní Korea – práce, montá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aponsko 3500 (motor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ěmecko 1500 ( návrh karoserie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Tchajwan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Singapur         800 (malé komponenty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aponsko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Británie 500 (reklama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Irsko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Barbados      100 (zpracování dat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Zbytek: 8000 - právníci, bankéři, stratégové, lobbisté, pojišťovny, akcionáři po celé Ameri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47" name="Pravá složená závorka 3"/>
          <p:cNvGrpSpPr/>
          <p:nvPr/>
        </p:nvGrpSpPr>
        <p:grpSpPr>
          <a:xfrm>
            <a:off x="2262240" y="3170160"/>
            <a:ext cx="474480" cy="1116000"/>
            <a:chOff x="2262240" y="3170160"/>
            <a:chExt cx="474480" cy="1116000"/>
          </a:xfrm>
        </p:grpSpPr>
        <p:pic>
          <p:nvPicPr>
            <p:cNvPr id="448" name="Pravá složená závorka 3" descr=""/>
            <p:cNvPicPr/>
            <p:nvPr/>
          </p:nvPicPr>
          <p:blipFill>
            <a:blip r:embed="rId3"/>
            <a:stretch/>
          </p:blipFill>
          <p:spPr>
            <a:xfrm>
              <a:off x="2262240" y="3170160"/>
              <a:ext cx="4744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357280" y="3220920"/>
              <a:ext cx="1018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0" name="Pravá složená závorka 4"/>
          <p:cNvSpPr/>
          <p:nvPr/>
        </p:nvSpPr>
        <p:spPr>
          <a:xfrm>
            <a:off x="2428920" y="3143160"/>
            <a:ext cx="285840" cy="9288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928800"/>
              <a:gd name="textAreaBottom" fmla="*/ 921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ravá složená závorka 5"/>
          <p:cNvSpPr/>
          <p:nvPr/>
        </p:nvSpPr>
        <p:spPr>
          <a:xfrm>
            <a:off x="2357280" y="4643280"/>
            <a:ext cx="214560" cy="500400"/>
          </a:xfrm>
          <a:custGeom>
            <a:avLst/>
            <a:gdLst>
              <a:gd name="textAreaLeft" fmla="*/ 0 w 214560"/>
              <a:gd name="textAreaRight" fmla="*/ 77400 w 214560"/>
              <a:gd name="textAreaTop" fmla="*/ 5400 h 500400"/>
              <a:gd name="textAreaBottom" fmla="*/ 49500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00040" y="1500120"/>
            <a:ext cx="4284720" cy="3786120"/>
          </a:xfrm>
          <a:prstGeom prst="rect">
            <a:avLst/>
          </a:prstGeom>
          <a:ln w="0">
            <a:noFill/>
          </a:ln>
        </p:spPr>
      </p:pic>
      <p:pic>
        <p:nvPicPr>
          <p:cNvPr id="453" name="Nadpis 4" descr=""/>
          <p:cNvPicPr/>
          <p:nvPr/>
        </p:nvPicPr>
        <p:blipFill>
          <a:blip r:embed="rId3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Ovál 5"/>
          <p:cNvSpPr/>
          <p:nvPr/>
        </p:nvSpPr>
        <p:spPr>
          <a:xfrm>
            <a:off x="500040" y="2071800"/>
            <a:ext cx="3000240" cy="1428480"/>
          </a:xfrm>
          <a:prstGeom prst="ellipse">
            <a:avLst/>
          </a:prstGeom>
          <a:noFill/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Ovál 6"/>
          <p:cNvSpPr/>
          <p:nvPr/>
        </p:nvSpPr>
        <p:spPr>
          <a:xfrm>
            <a:off x="500040" y="3643200"/>
            <a:ext cx="3571920" cy="1643040"/>
          </a:xfrm>
          <a:prstGeom prst="ellipse">
            <a:avLst/>
          </a:prstGeom>
          <a:noFill/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BlokTextu 7"/>
          <p:cNvSpPr/>
          <p:nvPr/>
        </p:nvSpPr>
        <p:spPr>
          <a:xfrm>
            <a:off x="571680" y="535788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Franklin Gothic Book"/>
              </a:rPr>
              <a:t>Celkový pohľad na Zlín a spoločnosť Baťa, 193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BlokTextu 8"/>
          <p:cNvSpPr/>
          <p:nvPr/>
        </p:nvSpPr>
        <p:spPr>
          <a:xfrm>
            <a:off x="5572080" y="1643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Franklin Gothic Book"/>
              </a:rPr>
              <a:t>Koncern Baťa, a.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BlokTextu 9"/>
          <p:cNvSpPr/>
          <p:nvPr/>
        </p:nvSpPr>
        <p:spPr>
          <a:xfrm>
            <a:off x="5643720" y="25718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Franklin Gothic Book"/>
              </a:rPr>
              <a:t>Domy pre zamestnanco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4"/>
          <a:stretch/>
        </p:blipFill>
        <p:spPr>
          <a:xfrm>
            <a:off x="5072040" y="4143240"/>
            <a:ext cx="2643120" cy="2452680"/>
          </a:xfrm>
          <a:prstGeom prst="rect">
            <a:avLst/>
          </a:prstGeom>
          <a:ln w="0">
            <a:noFill/>
          </a:ln>
        </p:spPr>
      </p:pic>
      <p:sp>
        <p:nvSpPr>
          <p:cNvPr id="460" name="Rovná spojnica 15"/>
          <p:cNvSpPr/>
          <p:nvPr/>
        </p:nvSpPr>
        <p:spPr>
          <a:xfrm flipV="1">
            <a:off x="3500280" y="1999800"/>
            <a:ext cx="2071800" cy="78588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ovná spojnica 17"/>
          <p:cNvSpPr/>
          <p:nvPr/>
        </p:nvSpPr>
        <p:spPr>
          <a:xfrm flipV="1">
            <a:off x="4071960" y="2999880"/>
            <a:ext cx="1643040" cy="146556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Obláčik 27"/>
          <p:cNvSpPr/>
          <p:nvPr/>
        </p:nvSpPr>
        <p:spPr>
          <a:xfrm>
            <a:off x="7358040" y="4500720"/>
            <a:ext cx="1571760" cy="1000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Obláčik 28"/>
          <p:cNvSpPr/>
          <p:nvPr/>
        </p:nvSpPr>
        <p:spPr>
          <a:xfrm>
            <a:off x="6357960" y="3000240"/>
            <a:ext cx="2643120" cy="1500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BlokTextu 29"/>
          <p:cNvSpPr/>
          <p:nvPr/>
        </p:nvSpPr>
        <p:spPr>
          <a:xfrm>
            <a:off x="6572160" y="3214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vy, to sú hromady tehál a betónu. Stroje, to je hromada železa a ocele. Život tomu dávajú až ľudia.“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BlokTextu 30"/>
          <p:cNvSpPr/>
          <p:nvPr/>
        </p:nvSpPr>
        <p:spPr>
          <a:xfrm>
            <a:off x="7500960" y="464328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š zákazník,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š pán.“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Osobná zodpovednosť za vykonanú prác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Samospráva a účasť pracovníkov na zisku podnik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ocit hrdosti a príslušnosti k podnik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ozornosť ku mladej generácii a permanentné vzdelávani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Nákup základných surovín priamo od výrobcu a nakupovalo sa vtedy, keď to bolo cenovo najvýhodnejši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redaj obuvi sa realizoval vo vlastných predajniach, teda bez sprostredkovateľov (obchodníkov), aby zbytočne nenavyšovali cenu pre zákazník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Na vedúce posty sa neprijímali ľudia zvonku, ale len vlastní „odchovanci“ – napr. po absolvovaní 3-ročnej prax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Ešte pred výrobou, museli byť jednotlivé dielce dopravené do dieln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Komponenty boli do dielní rozvážané lanovou dráhou, ktorá obopínala väčšinu budov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Dielne boli za niekoľko minút zásobené materiálom bez toho, aby doprava niekomu prekážal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tretch/>
        </p:blipFill>
        <p:spPr>
          <a:xfrm>
            <a:off x="5357880" y="457200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Hlavný zreteľ na nižšiu cenu ako je konkurenčná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Stanovenie ceny = služba verejnosti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Baťovské ceny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Organizácia predaja: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- celosvetová sieť 2 500 predajní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- hlavný cieľ predajnej skupiny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4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edpoklad – vzájomné súperenie dieln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Zisk a odmena sú podmienené plnením vopred stanoveného plánu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ystém postavený na 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umení šetriť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”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incíp - hospodárska autonómia každého článku a výrob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Oddelenia nakupovali a predávali za vnútropodnikové cen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 systéme vystupovalo oddelenie ako samostatný podnikateľský subjekt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7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V civilizované společnosti jsme všichni navzájem závislí. 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( Samuel Johnson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ůvodní myšlenka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bčané jednoho státu mají společnou odpovědnost za svůj hospodářský blahoby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285840" y="192852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ystém odmeňovania zamestnancov založený na úsilí a kvalite prác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incíp systému : každý pracovník si mohol okamžite vypočítať svoj podiel na zisku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edúci pracovník participoval ako na zisku tak aj na strat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Akumulácia likvidity = nevyužívanie úverov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Operatívne riadenie a rýchla výmena informácií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chopnosť promptne reagovať na vzniknuté problém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Baťa zaviedol pre odmeňovanie záväzné kritériá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logan mal budiť v zúčastnených pocit, že sú spolumajiteľmi firm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  <p:sp>
        <p:nvSpPr>
          <p:cNvPr id="481" name="Šípka dolu 6"/>
          <p:cNvSpPr/>
          <p:nvPr/>
        </p:nvSpPr>
        <p:spPr>
          <a:xfrm>
            <a:off x="3203640" y="429264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Dôležité posty = vlastní zamestnanci a odchovanci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Preferencia mladých ľudí pri prijímaní do zamestnania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Bývanie zamestnancov zabezpečené vo firemných rodinných domoch za nízke nájomné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V podniku bolo zabezpečené stravovanie a možnosti na osobný rast, štúdium, zdravotnú starostlivosť, športové a kultúrne vyžiti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Mzdové ohodnotenie bolo v porovnaní s celoštátnym priemerom skoro o 100% vyšši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Zastával názor, že ako majiteľ a šéf musí byť pre ostaných podriadených osobným príkladom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4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Základnou formou mzdového odmeňovania bola pôvodne úkolová - akordná mzd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 roku 1927sa zaviedla akordná mzda skupiny – t.j. diel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Ustálený mzdový systé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Špeciálne odmeny a prémie najiniciatívnejším pracovníko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Mzdy sa vyplácali týžden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Termín výplaty bol určený na pondelok alebo utoro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Základom: polročné plány, zostavené na zimnú a letnú sezón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ýsledkom plánovania bolo prepojenie výroby a predaj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Diverzifikácia polročných plánov na týždenné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Týždenný plán sa skladal z čiastkových denných plánov, ktoré predpisovali plánovaný denný objem výroby každej dielni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ýsledok: Pracovný rok pozostával z 253 pracovných dní, pre ktoré spracovalo rozpočtové oddelenie 253 denných plánov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stavba zamestnaneckých domov, študentských internátov, obchodných domov s lacným tovarom, kín, hotelov, športovísk, knižníc a nemocníc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Cena domu = maximálne jednoročný plat zamestnanca, ktorý mal záujem si dom sám postaviť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3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robná divízia Dolní Němč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Na rozdiel od skôr vyrábaných veľkých sérií, ktoré sa nemenili i po viac ako 12 mesiacoch, sú dnešní zamestnanci schopní vyrábať niekoľko náročných vzorov za deň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roba vzorku podľa priania zákazník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4e3b30"/>
                </a:solidFill>
                <a:latin typeface="Franklin Gothic Book"/>
              </a:rPr>
              <a:t>"Od vyrobenia vzorku podľa želania zákazníka, spracovania technickej dokumentácie, po finálny výrobok, mnohokrát neubehne ani týždeň„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6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Nadpis 1" descr=""/>
          <p:cNvPicPr/>
          <p:nvPr/>
        </p:nvPicPr>
        <p:blipFill>
          <a:blip r:embed="rId2"/>
          <a:stretch/>
        </p:blipFill>
        <p:spPr>
          <a:xfrm>
            <a:off x="450720" y="281160"/>
            <a:ext cx="8699760" cy="1060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285840" y="1285920"/>
            <a:ext cx="86868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Kudzbel, M: Baťa – hospodársky zázra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Kudzbel, M: Baťov systém riadeni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Střitesky, M.: Tvůrčí odkaz T. Baťu současným podnikatelů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Zelený, M.: Cesty k úspěchu: Trvalé hodnoty soustavy řízení Bať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Nadpis 1" descr=""/>
          <p:cNvPicPr/>
          <p:nvPr/>
        </p:nvPicPr>
        <p:blipFill>
          <a:blip r:embed="rId2"/>
          <a:stretch/>
        </p:blipFill>
        <p:spPr>
          <a:xfrm>
            <a:off x="450720" y="2567160"/>
            <a:ext cx="86997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dea národního stát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árodní bohatství = bohatství vladaře X ne blaho obyčejných lid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vantitativní teorie peněz ( zlata, stříbr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8. st. Anglie  -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vlastenectví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„oběť pro vlastní národ“               19. st. - 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cl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Šipka doprava 4"/>
          <p:cNvSpPr/>
          <p:nvPr/>
        </p:nvSpPr>
        <p:spPr>
          <a:xfrm>
            <a:off x="2143080" y="514368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nálezy ( železnice, telegraf, doprava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elkovýroba              průmyslová nadvýroba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&gt; D               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ln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ý protekcionismus = vysoká cl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Vysoká konkurence na domácím trhu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Malý zisk (nízké cen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Šipka doprava 3"/>
          <p:cNvSpPr/>
          <p:nvPr/>
        </p:nvSpPr>
        <p:spPr>
          <a:xfrm>
            <a:off x="3071880" y="292896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Šipka doprava 4"/>
          <p:cNvSpPr/>
          <p:nvPr/>
        </p:nvSpPr>
        <p:spPr>
          <a:xfrm>
            <a:off x="2500200" y="3571920"/>
            <a:ext cx="285840" cy="46080"/>
          </a:xfrm>
          <a:prstGeom prst="rightArrow">
            <a:avLst>
              <a:gd name="adj1" fmla="val 50000"/>
              <a:gd name="adj2" fmla="val 496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Šipka dolů 5"/>
          <p:cNvSpPr/>
          <p:nvPr/>
        </p:nvSpPr>
        <p:spPr>
          <a:xfrm>
            <a:off x="3071880" y="3429000"/>
            <a:ext cx="71280" cy="28584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mezení domácí konkurence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Soustředění výroby do velkých národních korporací – hrozba zneužití hospodářské moc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1890 Shermanův protitrustový zákon x dohodám o rozdělení trh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ptimistické vidění – moc a prosperita z gigantických korporac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soká výdělečnost amerických korporac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ýznamný partner mezinár. obchod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elikost a technologická nadřazenos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nikání am. Průmyslu do Evrop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onec 20. st. Amerika ztrácí svoje postavení, konkurencischopnost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Nadpis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onec 20. s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pokojení potřeb konkrétních zákazník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elkovýroba                 vysoká hodnota zbož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ř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celárny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 5000zaměstnanců, ale speciální použití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lekomunikace : dálkové spoje „na míru“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Šipka doprava 3"/>
          <p:cNvSpPr/>
          <p:nvPr/>
        </p:nvSpPr>
        <p:spPr>
          <a:xfrm>
            <a:off x="3214800" y="35719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římá spojovací čára 5"/>
          <p:cNvSpPr/>
          <p:nvPr/>
        </p:nvSpPr>
        <p:spPr>
          <a:xfrm>
            <a:off x="1071720" y="3429000"/>
            <a:ext cx="1571400" cy="42876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římá spojovací čára 8"/>
          <p:cNvSpPr/>
          <p:nvPr/>
        </p:nvSpPr>
        <p:spPr>
          <a:xfrm flipH="1">
            <a:off x="1071720" y="3428280"/>
            <a:ext cx="1357200" cy="50004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Objem výroby              správný vztah mezi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ena                         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  technologiemi a trh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1581f"/>
                </a:solidFill>
                <a:latin typeface="Franklin Gothic Book"/>
              </a:rPr>
              <a:t>Zisky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plynou z průběžného objevování nových spojení mezi různými řešeními a potřebam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římá spojovací čára 4" descr=""/>
          <p:cNvPicPr/>
          <p:nvPr/>
        </p:nvPicPr>
        <p:blipFill>
          <a:blip r:embed="rId3"/>
          <a:stretch/>
        </p:blipFill>
        <p:spPr>
          <a:xfrm>
            <a:off x="822240" y="2724120"/>
            <a:ext cx="2347920" cy="1433520"/>
          </a:xfrm>
          <a:prstGeom prst="rect">
            <a:avLst/>
          </a:prstGeom>
          <a:ln w="0">
            <a:noFill/>
          </a:ln>
        </p:spPr>
      </p:pic>
      <p:pic>
        <p:nvPicPr>
          <p:cNvPr id="423" name="Přímá spojovací čára 8" descr=""/>
          <p:cNvPicPr/>
          <p:nvPr/>
        </p:nvPicPr>
        <p:blipFill>
          <a:blip r:embed="rId4"/>
          <a:stretch/>
        </p:blipFill>
        <p:spPr>
          <a:xfrm>
            <a:off x="963720" y="2590920"/>
            <a:ext cx="17128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424" name="Volný tvar 9"/>
          <p:cNvGrpSpPr/>
          <p:nvPr/>
        </p:nvGrpSpPr>
        <p:grpSpPr>
          <a:xfrm>
            <a:off x="6188040" y="2773440"/>
            <a:ext cx="2528640" cy="1944360"/>
            <a:chOff x="6188040" y="2773440"/>
            <a:chExt cx="2528640" cy="1944360"/>
          </a:xfrm>
        </p:grpSpPr>
        <p:pic>
          <p:nvPicPr>
            <p:cNvPr id="425" name="Volný tvar 9" descr=""/>
            <p:cNvPicPr/>
            <p:nvPr/>
          </p:nvPicPr>
          <p:blipFill>
            <a:blip r:embed="rId5"/>
            <a:stretch/>
          </p:blipFill>
          <p:spPr>
            <a:xfrm>
              <a:off x="6188040" y="2822760"/>
              <a:ext cx="251640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301800" y="2773440"/>
              <a:ext cx="2414880" cy="19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Zástupný symbol pro obsah 2" descr=""/>
          <p:cNvPicPr/>
          <p:nvPr/>
        </p:nvPicPr>
        <p:blipFill>
          <a:blip r:embed="rId3"/>
          <a:stretch/>
        </p:blipFill>
        <p:spPr>
          <a:xfrm>
            <a:off x="231840" y="1474920"/>
            <a:ext cx="8766000" cy="4608360"/>
          </a:xfrm>
          <a:prstGeom prst="rect">
            <a:avLst/>
          </a:prstGeom>
          <a:ln w="0">
            <a:noFill/>
          </a:ln>
        </p:spPr>
      </p:pic>
      <p:sp>
        <p:nvSpPr>
          <p:cNvPr id="429" name="Je rovno 4"/>
          <p:cNvSpPr/>
          <p:nvPr/>
        </p:nvSpPr>
        <p:spPr>
          <a:xfrm>
            <a:off x="5072040" y="2214720"/>
            <a:ext cx="500040" cy="35712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Je rovno 5"/>
          <p:cNvSpPr/>
          <p:nvPr/>
        </p:nvSpPr>
        <p:spPr>
          <a:xfrm>
            <a:off x="2143080" y="4214880"/>
            <a:ext cx="428760" cy="35712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Je rovno 6"/>
          <p:cNvSpPr/>
          <p:nvPr/>
        </p:nvSpPr>
        <p:spPr>
          <a:xfrm>
            <a:off x="2786040" y="5286240"/>
            <a:ext cx="500040" cy="35748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10:49Z</dcterms:created>
  <dc:creator>Meloun</dc:creator>
  <dc:description/>
  <dc:language>en-US</dc:language>
  <cp:lastModifiedBy>snoopy</cp:lastModifiedBy>
  <dcterms:modified xsi:type="dcterms:W3CDTF">2008-11-10T13:06:55Z</dcterms:modified>
  <cp:revision>101</cp:revision>
  <dc:subject/>
  <dc:title>Vysoce zhodnocující podniky</dc:title>
</cp:coreProperties>
</file>