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B0A-32E9-495D-A26B-686E0A68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562-3202-40C0-A4C7-2B8EC48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87F-8499-437F-BF76-A333D14C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665-A07C-46FE-BC34-581C461B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813-D5B3-4C6B-AAE6-A92E1E3D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A52-6A4B-4542-A33B-8C93AE9C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EF4-402A-4AD0-9951-6110E910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BDC-BEFE-4043-B3BE-083E92FB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868-3792-47D8-8F15-6E4E503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B54-EAF4-4ED4-925E-50FDED7C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F8C-2EA8-4D24-8C06-D0CFAC36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AE8-46F0-4F89-B923-4E66B96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387DC-28F0-4DFB-B344-8742B85EBFFD}" type="slidenum"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76360" y="2123640"/>
            <a:ext cx="8569440" cy="16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STRATEGIE TRVALE UDRŽITELNÉHO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ROZVOJE</a:t>
            </a:r>
            <a:r>
              <a:rPr b="0" lang="cs-CZ" sz="44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152360" y="4067280"/>
            <a:ext cx="5148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4c1900"/>
                </a:solidFill>
                <a:latin typeface="Times New Roman"/>
              </a:rPr>
              <a:t>Autoři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Natália Čech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Tomáš Jelíne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Renáta Kaszper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2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MANAGEMENT A EKOMARKET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 algn="ctr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DejaVu San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e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omanagement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nvironmental management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, green managem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mana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žerská koncepce pro trvale udržitelný rozvoj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- aplikace ekologických metod, postup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ů, zásad a hodnot 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edení podniku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MS – environmental management syst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HS – environmental health and safety management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1.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DejaVu Sans"/>
              </a:rPr>
              <a:t>Snižování nebezpečí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z průmyslových a jiných činnost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pro životní prostředí a zároveň přispívat ke zvyš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efektivity podnikání a zachování trvale udržitelného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rozvoj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íská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konkurenční výhod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nad ostatními konkurent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RKETING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ekomarketing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 marketing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marketingová strategie, která staví na koncepci ekologicky přátelských (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y friendl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) hodnot, výrobků, postupů a služeb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ytvoř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„zelené“ výrobky/služb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kde je v efektivní výkon, cena, vhodnost a slučitelnost s principy ochrany životního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ytvořit ve spotřebitelích představu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že tyto výrobky/služby jsou jak vysoké kvality,tak citlivé vůči životnímu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MARKETING pro životní prostřed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Meffert a Kirchgeorge</a:t>
            </a:r>
            <a:r>
              <a:rPr b="1" lang="cs-CZ" sz="2400" spc="-1" strike="noStrike">
                <a:solidFill>
                  <a:srgbClr val="000000"/>
                </a:solidFill>
                <a:latin typeface="DejaVu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Marketing pro živ. prostředí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základním předpo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kladem pro proměnu konzumní společnosti na společnost trvale udržitelnou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Jackie Ottman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Zelená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nová přidaná hodnota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e svět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16120"/>
            <a:ext cx="907272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THE BODY SHOP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ATAGONI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SEVENTH GENERATI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DejaVu Sans"/>
              </a:rPr>
              <a:t>L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OBLAW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77080" y="1332000"/>
            <a:ext cx="2697120" cy="119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87640" y="2700360"/>
            <a:ext cx="2100240" cy="1028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985080" y="2771640"/>
            <a:ext cx="1673280" cy="2386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879640" y="4859280"/>
            <a:ext cx="31082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6120" y="1557360"/>
            <a:ext cx="94759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DejaVu Sans"/>
              </a:rPr>
              <a:t>ČESKÉ EKOLOGICKÉ MANAŽERSKÉ CENTRUM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iří Dostá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generální ředitel, Kovohutě Příbram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Zdeněk Hradi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odborný ředitel, ORGREZ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osef Petr Ph.Dr., 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vedoucí odboru proces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bezpečnosti, inspekce a ostrahy, Hexion Specialt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Chemicals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72360" y="466560"/>
            <a:ext cx="25398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3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MMIT ZEMĚ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S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UMMIT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ZEMĚ 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60360" y="1260000"/>
            <a:ext cx="936000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řadatel: OS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ísto konání: Johannesburg (JA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čet zúčastněných zemí: 178 (i Č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íl: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hodnocení naplňování závazků Z Ria (1992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chválení Implementačního plán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Teorie trvale udržitelného rozvoj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Ekomanagement a ekomarketing 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Sumit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LÍČOVÉ BODY SCHVÁLENÉHO IMPLEMENTAČNÍHO PLÁNU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. VODA/SANITÁRNÍ ZAŘÍZEN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2. ENER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3. RYB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4. CHEMICKÉ LÁTK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5. ZDRAV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6. ŽEN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7. POMOC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8. GLOBALIZAC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9. OBCHOD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0. BIOLOGICKÁ DIVERZIT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1. VLÁDNUT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2. STRATE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3. CHUDOB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4. PŘEDBĚŽNÁ OPATR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5. SPOLEČNÁ, ALE DIFERENCOVANÁ ODPOVĚD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MISE CO</a:t>
            </a:r>
            <a:r>
              <a:rPr b="0" lang="en-GB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cs-CZ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A OBYVATELE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6480000" cy="43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730520"/>
            <a:ext cx="9252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rvalý sociální a ekonomický rozvoj, který zabezpeč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zbytné potřeb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aspektů životního prostředí d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konomic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řechod k udržitelnému systému hospodaře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nergií, co největší podíl recyklace materiál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přírodě blízkého hospodaření v krajině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achování a rozvíjení harmonické, plošně úsporné sídelní struktur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místním Agendám 21, demokratickým a participativním formám rozhodová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vzdělávání, výchovy a osvěty k udržitelnému rozvoji do společens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YSVĚDČENÍ GREENPEAC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440" y="18352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Energi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Diverzita pralesů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Zemědělství a genetické inženýrstv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Jed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ce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bchod a rozvojová pomo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RTEL: </a:t>
            </a:r>
            <a:r>
              <a:rPr b="1" lang="en-US" sz="3200" spc="-1" strike="noStrike">
                <a:solidFill>
                  <a:srgbClr val="ff0000"/>
                </a:solidFill>
                <a:latin typeface="DejaVu Sans"/>
              </a:rPr>
              <a:t>NEPROSPĚ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332000"/>
            <a:ext cx="90680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STEAD, W.E., STEAD, J.G. Management pro malou planetu. Praha: GplusG, 1998. ISBN 80-86103-15-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Practical Guide to Environmental Managemen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books.google.com/books?id=seUVusy2uw8C&amp;printsec=frontcover&amp;dq=environmental+management&amp;hl=sk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patagonia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bodyshop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seventhgeneration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loblaw.c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cemc.cz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www.mzp.cz/AIS/web-news.nsf/f896d23fe2b34882c1256e87005c6603/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313b71288700dabc1256bd5002f4fd4?OpenDocumen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 www.ekolist.Cz/summit.st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ekolist.cz/sum-about.s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hnutiduha.cz/publikace/WSSD.pdf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archive.greenpeace.org/earthsummit/report_card/index.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500"/>
                            </p:stCondLst>
                            <p:childTnLst>
                              <p:par>
                                <p:cTn id="6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3239640"/>
            <a:ext cx="6048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Děkujeme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ám za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pozor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1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ORIE UDRŽITELNÉHO ROZVOJE (STEAD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emě jako živý systé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nímání lid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Manažerské rozhod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55640" y="1476360"/>
            <a:ext cx="6121440" cy="5864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OLO PROBLÉMŮ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NOMICKÝ RŮ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Schumacher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Jak si může někdo myslet, že růst je (vždy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obrá věc? Pokud rostou mé děti, je to velmi dobré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kdybych já začal najednou růst, byla by to katastrofa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Proto je kvalitativní rozlišování hlavní věcí; je mnohem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ůležitější než tajemné přičítání všeho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RVALE UDRŽITELNÝ ROZVOJ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6000" y="2124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: místo, ve kterém lidstvo naplňuje potřeb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učasnosti bez omezení schopnosti budoucích generac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lňovat své potřeb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ažení trvale udržitelné rovnováhy znamená udrže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rovně využívání zdrojů, průmyslové činnost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emědělství, populačního růstu a dalších na takové výš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terá může být zachována i v příštích generacích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možné docílit trvale udržitelnosti v dlouhém období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 je k tomu potřeba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1357200" y="1914480"/>
            <a:ext cx="615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31640" indent="-21564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ŘI POHLEDY na trvalou udržitel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1. Biofyzikální pohled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Socioekonomický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3. Morální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ÁVRHY A DOPORUČEN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6000" y="2340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Rovnováha mezi podnikáním a ekosystém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bjekt: Manaže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ahrnout Přírodu do hodnot a myšlenkových procesů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chopení trvalého rozvoje ve všech oblastech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ýtus planetární společno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ktické návrhy“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</dc:creator>
  <dc:description/>
  <dc:language>en-US</dc:language>
  <cp:lastModifiedBy> </cp:lastModifiedBy>
  <dcterms:modified xsi:type="dcterms:W3CDTF">2008-11-04T01:04:13Z</dcterms:modified>
  <cp:revision>24</cp:revision>
  <dc:subject/>
  <dc:title>Roman Kaszper</dc:title>
</cp:coreProperties>
</file>