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DD4-7196-4D3B-AFB5-D996BC85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242-208E-4AE7-88C1-E58758B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EDA-916C-4803-A38B-12F4C59C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E4E-C93C-4ABC-97A3-877F3A73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A8B-B86F-4683-9209-766E6495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9EC-73EB-4F92-B145-84ECBD67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685-B188-4736-A825-0148F53F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2E7-A38A-4B5A-BA6D-4E8D70BF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732-3FC0-4777-84C1-737F5C8E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3AB-C99D-4EBE-B722-AEA24B90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9CC-99EA-4190-80A6-FF550CAF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8E7-C073-46ED-8950-F914AE8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A0FC-B2DC-4B76-BFE4-985277123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rava pre ž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posledných 30 rokov sa množstvo kalórii, ktoré sú k dispozícii každému zvýšilo o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adičná agrárna kultúra je nahradená managerskou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íroda ako učiteľ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io-intenzívne mini f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vrat k tradíciá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hlboká 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kompostov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rastliny blízko seba ale v širokých záhon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zmes druhov rastlín ako och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y 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 keď vody sú ¾ plochy Zeme, sladkej vody je má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iadna stratégia ponuky nedokáže držať krok s rastom dopy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yba spočíva vo využívaní kvalitnej vody vš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iné riešenie: šetriť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ógia úsp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ľnohospodárstvo využíva 2 x toľko čo iné odvet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ôležité je vzdel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okrok v zavlaž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ývoj plod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á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anie úsporných systé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zdelenie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íma – ako uchovať zmysel vecí a ešte aj zarobi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tepľovanie Z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ftárske spoločnosti investujú do obnoviteľ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znamenali výrazný roz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terná (26% /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olárna  (23-42% /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iný spôsob ako budú rozv. krajiny schopné reálne zvyšovať svoje štandardy, je vyhnúť sa hýrivým praktikám industriálnych kraj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Ľudský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está veľmi často zisťujú, že príčinou ich problémov sú zlé rozhodnutia z minu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xperiment Curiti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s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emysel a miestne spoloč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eti, zdravie, odpad a výž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zdelanie, družiny a zamest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dentita a ľudská dôstoj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pohľady na základné ľudské problé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Modr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túpenci voľného trhu vykazujú technologický optim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Červen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zastupujú rôzne formy socializmu (ich názor podporuje chaos a hospod. výsled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elen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ústreďujú sa na ekosystém a lepšie porozumenie nakoľko ekonomika ešte môže rá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iely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ú syntetizátory a aplikujú všetky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3:34:22Z</dcterms:created>
  <dc:creator>Maťo</dc:creator>
  <dc:description/>
  <dc:language>en-US</dc:language>
  <cp:lastModifiedBy>Maťo</cp:lastModifiedBy>
  <dcterms:modified xsi:type="dcterms:W3CDTF">2008-11-03T23:55:38Z</dcterms:modified>
  <cp:revision>2</cp:revision>
  <dc:subject/>
  <dc:title>Potrava pre život</dc:title>
</cp:coreProperties>
</file>