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F573-B405-409D-B81A-BE4C6F3E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0AEE-CDA8-4C6E-84AE-BD8A6F04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ADAC-AF06-4FD7-BC32-16D8D8F7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3CF85-79FA-4397-9539-3840095E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7E55-C511-4E2B-88B9-3803591B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FF75-9AD5-43FE-A6BF-48EE48A4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AC2-8716-4B9D-83E5-FF180D18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77AD-145B-4EF1-B126-A663DFD0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575C-D658-45DF-927A-B5ADB702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6934-C103-40C6-8D2D-0E48C023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3159-15E5-4D16-BDE5-A8BB4BD3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A6CE4-F860-4C1D-9CA3-6EAA4E4D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39CC-2C2A-4D3E-964D-88CDDC58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4097-77E8-409E-A0AD-7050F82E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845A-B47F-460B-B44E-0D0F809A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7BDE-9FB0-4275-8F2E-80C19989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0C38-CD9D-4865-B601-40F488A0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36AAE-423C-4F23-9BAF-E4825E3F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74BD-E300-480E-8217-2CBE26A5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C9A0F-1AC6-4583-93BF-12E73863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E8B4C-1A25-416C-ABBA-20298817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BDF4-A24D-4BEC-9732-ECB0090A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B460-1843-464E-AB92-0E219F52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841E-31C8-4163-9A5C-B5218FF8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4386-F012-4423-9B05-9DE38741CA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CB30-0EFD-437A-ABE6-DFDE40DAE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takeholderský přístup k pojetí podniku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79700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el Br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 Sedlá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a Tome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dcházející situace – dva či více podniků má zájem o daného stakeholdera a tento subjekt má možnost volby, se kterým z daných podniků naváže vz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ná situace – dva či více stakeholderů mají zájem o daný podnik nebo o vztah k danému podn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tahy SME se stakeholdery v Jihomoravském kr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ára Kašparová, Alena Klapal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tahový marketing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↓investice, ↑switching costs, vytěžení max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e výzku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kterými stakeholdery navazují české mikro podniky a malé podniky dlouhodobé 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ůležitost vztahů se stakehold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kážky budování a udržování dlouhodobých vztahů se stakehold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itá metoda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ízený rozhovor (5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koumaný sou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ikro firem a 10 malých fi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mět činnosti – výroba, obchod,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enti – nejvyšší představitelé firmy (17), střední management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kty, s nimiž mají stakeholdeři vybudovány dlouhodobé vzt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1960560"/>
          <a:ext cx="8712000" cy="4348080"/>
        </p:xfrm>
        <a:graphic>
          <a:graphicData uri="http://schemas.openxmlformats.org/drawingml/2006/table">
            <a:tbl>
              <a:tblPr/>
              <a:tblGrid>
                <a:gridCol w="2314440"/>
                <a:gridCol w="2087640"/>
                <a:gridCol w="2233440"/>
                <a:gridCol w="2076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souhlasných odpově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souhlasných odpově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kazní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d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é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ziskové or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í instit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odářská  / obchodní kom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stá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 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mís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adenské for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c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ku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č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ční cen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2298600"/>
          <a:ext cx="8785080" cy="3291120"/>
        </p:xfrm>
        <a:graphic>
          <a:graphicData uri="http://schemas.openxmlformats.org/drawingml/2006/table">
            <a:tbl>
              <a:tblPr/>
              <a:tblGrid>
                <a:gridCol w="2314440"/>
                <a:gridCol w="2087640"/>
                <a:gridCol w="2367000"/>
                <a:gridCol w="201600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hodnoc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hodnoc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d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mís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kazní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í instit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adenské fir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é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ku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stá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odářská kom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č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ěry hodnocení významu jednotlivých stakeholderů na škále 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onální přínos vztahů s jednotlivými typy stakehold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ěrnost a loajalita zákazníků (16), získání nových zákazníků (5), zajištění stability a důvěryhodnosti (4), minimalizace rizika (4), nutnost pro zachování podnikání (4), vytvoření dobrého jména a získání prestiže (4), snazší komunikace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vate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ískání nefinančních výhod (13), výhodnější podmínky – snížení nákladů (6), zajištění stability (5), nutnost pro zachování podnikání (4), minimalizace rizika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ovanost a loajalita zaměstnanců (12), získání nefinančních výhod (6), snížení nákladů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častěji uváděné překážky budování vztahu s jednotlivými typy stakehold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pacita na straně firmy (4), negativní lidské vlastnosti – u zákazníků (4),komunikační problémy (3), nekorektní jednání (3), nekvalita služeb na straně firmy (3), nedostatek vzdělání a inteligence na straně zákazníků (2), přehnaná očekávání zákazníků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vate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unikační problémy (6), nekvalita poskytovaných výrobků a služeb (4), rozdílnost zájmů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unikační problémy (5), nekvalitní práce (2), rozdílnost zájmů (2), věkový rozdíl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820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olečenská odpovědnost fir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R Corporate Social Respons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349360"/>
            <a:ext cx="7343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R dobrovolně integruje sociální a ekologické ohledy do podnikatelské činnosti firmy, a to ve spolupráci se zainteresovanými stranami podniku nebo stakeholdery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ři pilíře: ekonomický, sociální a environment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nosy C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ětší transparentnost a posílení důvěryhod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ětší přitažlivost pro inve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lišení od konku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výšená loajalita a produktivita zaměstnanc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žnost přilákat a udržet kvalitní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dování vztahů důvěry s okolí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R ak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ytvoření etického kodex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draví a bezpeč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yklační progr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zdělávání a rozvo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Úspora energie, v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mítání korup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mezení používání nebezpečných chemikáli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R ak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časné placení fakt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zmanitost na pracoviš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pora kvality živ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pora propuštěný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rodejní serv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kologická výro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klamní e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keholderské x shareholderské poje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pol.minulého století, v podmínkách rozkvětu hromadné výroby, byl nejdůležitější finanční a hmotný kapitá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ční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holders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jetí vnímá podnik jako množinu věcí, které je možno vlast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závěru 20.st. i v současnosti nabývá na významnosti tvůrčí lidská práce, mezilidské vztahy uvnitř podniku a zejména pak vztahy podniku vůči jeho okol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důsledků těchto trendů je podnik vnímán jako množina vztahů a tomu odpovídá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keholders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jetí podni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D, a.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iný producent černého uhlí v České republ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y v jižní části Hornoslezské uhelné pánve – v Ostravsko-karvinském reví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ický kodex – www.ok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ace OK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ložena v lednu 200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roce 2007 firma rozdělila mezi potřebné celkem 35 milionů kor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ace OKD, a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zdraví – zdraví, sociální pé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radost – kulturní vyžití, tradice a vzájemnost, vzděl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budoucnost – kulturní a přírodní dědictví, ekologie, veřejný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Evro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1471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ŽEK, L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ýzkum konkurenceschopnosti podniku. Aplikace stakeholderského přístupu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. Vývojové tendence podniků. Svazek I. Brno: Masarykova univerzita 2005. ISBN 80-210-3847-0. s.13-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ŠPAROVÁ, K. – KLAPALOVÁ, A. Vztahy se stakeholdery.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ývojové tendence podniků III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vyd.Brno: Ekonomicko-správní fakulta, Masarykova univerzita Brno, 2007. od s.717-730, 14.s. ISBN 978-80-210-4466-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olečenská odpovědnost podniku – móda nebo nutnos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nanční management, 12.06.2008, s. 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ww.okd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keholderské pojetí podni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nímá podnik jako střet zájmů různých zúčastněných subjektů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zv.stakeholder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teří do vztahu vůči podniku dávají určit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„vklad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stní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ěstnanci (včetně odborových organizac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ěřitelé (banky, jiní poskytovatelé finančních prostředk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ěratelé (zákazní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ři navazují s podnikem vztah na základě určitý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čekává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Ve vyjednávání mohou uplatňovat určit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čekávání stakeholde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450800"/>
          <a:ext cx="8229600" cy="5073840"/>
        </p:xfrm>
        <a:graphic>
          <a:graphicData uri="http://schemas.openxmlformats.org/drawingml/2006/table">
            <a:tbl>
              <a:tblPr/>
              <a:tblGrid>
                <a:gridCol w="2386080"/>
                <a:gridCol w="5843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lizace zúročení vloženého kapitá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konávání zajímavé a dobře placené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ěři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lizace zúročení úvěrů a jistoty jejich návrat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ního a solventního zákazní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běr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třícného a spolehlivého partn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á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Řádné odvádění daní, zajišťování zaměstnanosti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c stakeholde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773360"/>
          <a:ext cx="8229600" cy="4776840"/>
        </p:xfrm>
        <a:graphic>
          <a:graphicData uri="http://schemas.openxmlformats.org/drawingml/2006/table">
            <a:tbl>
              <a:tblPr/>
              <a:tblGrid>
                <a:gridCol w="2386080"/>
                <a:gridCol w="584352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plývá z jejich podílu na kapitálu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pnost pracovat, možnost práci odmítn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ěři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ána situací na finančním trhu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ána postavením na trhu výrobků a služe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běr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ána postavením na trhu výrobků a služe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á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omoc vydávat právní předpis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kurenční c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kurenceschop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dniku je vlastnost (potenciál), která podniku umožňuje uspět v soutěži s jinými podniky (nejenom na trhu výrobků a služeb, ale i na jiných trzí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kuren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ikterak nesplňují definici stakeholdera. Ti s daným podnikem soutěží na trhu a žádný vklad do daného podniku nepřinášej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keholdeři a konkurenti podni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86080" y="1413000"/>
            <a:ext cx="4370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kurenční c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 všech skupin je založena na možnosti rozhodovat se o navázání nebo odmítnutí vztahu vůči podni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de o typický tržní vztah, realizovaný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u výrobků a služeb (dodavatelé a odběratel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u práce (zaměstnan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u finančním (věřitelé, vlastní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 přímého ovlivňování pod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stníci (rozhodování v řídících orgánech podni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t (řídící zásahy na základě právních předpis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kurenční chování předmětného podni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ůči jinému podniku spočívá jednak 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nzivní konkurenční strateg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obrana svých stávajících stakeholderů či vztahů se stávajícími stakehold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enzivní konkurenční strateg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naha získat nové stakeholdery či nové vztahy se stakehold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Úspěš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hoto usilování předmětného podniku bude záviset na chování konkurenčního podniku vůči danému stakeholdero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5:20:14Z</dcterms:created>
  <dc:creator>user</dc:creator>
  <dc:description/>
  <dc:language>en-US</dc:language>
  <cp:lastModifiedBy>user</cp:lastModifiedBy>
  <dcterms:modified xsi:type="dcterms:W3CDTF">2008-11-12T18:58:19Z</dcterms:modified>
  <cp:revision>10</cp:revision>
  <dc:subject/>
  <dc:title>Stakeholderský přístup k pojetí podniku.</dc:title>
</cp:coreProperties>
</file>