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AE2-B7B1-4A6C-A9FF-B15836DA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BB4-F09A-467E-A95D-4B587207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38C-048C-424C-AE25-9455E1C5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843-56A0-471F-9941-CE6222E2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D5E1-0820-47EA-9956-AA62F433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2B5-AB95-4B63-914A-86B85285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5642-C244-4479-BC99-52A54111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DA4B-D517-41CD-B7BB-28B191D4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4562-51CB-4FFB-8A5F-3EB7E488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FB8F-C08D-43A8-9C0F-EFB1F866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B6D8-5A8E-4EDA-A0BF-E341E5A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D2E-DE17-49F2-B67F-3985193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A099-97B0-4A0C-847E-A7E075C0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3584-F569-4204-962D-071894D2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73451-35DE-4137-949C-2C1485C1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C479-67BB-4DAC-8595-6A649B1E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6B9-BA50-4234-BBB5-2C251BB0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EF7-8721-463D-9FB6-C0D9F45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F18-876D-427E-9FD4-2EFE0B42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396C-D6B3-4397-8E6D-E6165C82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0BE1-B8B2-441A-808B-B6528EE7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386-2F7E-4E41-B77B-27A32610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B365-F223-4873-B4D7-47CA9A98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BF6-038F-435B-96D4-0159AAC4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845-DD26-4AAD-A465-B068949C7F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8E78-3413-4F07-9180-FF08E8B465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rategick</a:t>
            </a:r>
            <a:r>
              <a:rPr b="1" lang="cs-CZ" sz="4400" spc="-1" strike="noStrike">
                <a:solidFill>
                  <a:srgbClr val="b2b2b2"/>
                </a:solidFill>
                <a:latin typeface="Arial"/>
              </a:rPr>
              <a:t>é aliance se zahraničními partnery (Interkulturní management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pracovali: Michal Bla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omáš Kr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cela Poulíčkov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voj vlastní vnitřní podnikatelské situ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ilné, slabé stránky (klíčové – např. SWOT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ak odstranit slabé, zhodnotit silné strá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pecifických konkurenčních předností(rozbor konkurenční poz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zdrojových možností organiz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arianty scénářů pro dosažení cíl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ladění zdrojových nároků na dosažení cíl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xtenzivní zdroje – např. strategická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hodnocení scénář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erspektivnost, zdrojová náročnost, návratnost zdrojů, rizikov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ýsledná podnikatelská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valitní příprava společného podnikání (pracn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ákladem informace o možném partner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dnikatelský profil, vize, strategické cíle, konkurenční pozice, vztah k partnerům, organizační struktura, kultur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Informace o partnerov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osavadní spolupráce, agentury (CzechInvest, Czechtrade),obchodní komory, informace od bank, od firem se kterými partner spolupracuje, jednání na konferencích a veletrzích, tiskové agentur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xistence sporných až nelegálních metod získá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Vhodný partner (partneři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Udržení stálého souladu se zvolenou podnikatelskou strategií(x slaďování záměrů se zájmy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olečné podnikání – kompromisem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ejprospěšnější a nejpevnější partnerství: slabé stránky jednoho partnera kompenzovány silnými stránkami druhé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stit, že fungování aliance povede k společně dohodnutým cílům a bude respektovat sociální, ekonomické, organizační a kulturní podmínky (strategická kompatibilita partner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Příprava na jednání se zahraničním partner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oncepci by mělo zajistit vrcholové ved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nterní negativisté“ v tý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Jednotná koncepce strategického zámě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sychologická přípr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alézt „správný kompromis zájmů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mluva o utajení „citlivých informací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a by trvat dlou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Jednání s partner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sobní projednání s partner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 duchu vzájemné důvě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jasnění vyjednávací poz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mělo by být konfliktní a zdlouhav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ůběžné vyhodnocování inform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Komu se vyhnou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labým partner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ráčům na krátkou dobu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sklonem k autoritativní domin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artnerům se špatnou pověst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profesionálně vedeným organizac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kumenty obvyklé při vzniku strategické alianc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polečný „podnikatelský záměr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ohoda o vzájemném respektování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mlouva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polečný „společenský záměr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mezení účelu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harakteristika pole spol. zájm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Hlavní cíle a jejich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stava o řízení strategické a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azky partnerů ke zdrojovému zajiště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jištění před důsledky riz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Rozdělení očekávaných zis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ávní nároky a výjim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ředpokládaná organizačně-právní nor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ávěrečná ustanov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jem „Strategická aliance“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Strategická alian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rategické cí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Operativní cíle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209680"/>
            <a:ext cx="4876920" cy="3733920"/>
          </a:xfrm>
          <a:prstGeom prst="ellipse">
            <a:avLst/>
          </a:prstGeom>
          <a:solidFill>
            <a:srgbClr val="0101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41911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590920"/>
            <a:ext cx="2514600" cy="1447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Organizační jednotk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čtí partneř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41911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3580920"/>
            <a:ext cx="6858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b2b2b2"/>
                </a:solidFill>
                <a:latin typeface="Arial"/>
              </a:rPr>
              <a:t>Dohoda o vzájemném respektování zájmů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mezení pole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ce smluvních stran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Důsledky vyplývající z práce na poli záj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ostup v případě neuzavření smlouvy o strategické alian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í zabezpečení a doba tr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mlouva o strategické alianci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časné společné vyprac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Ověření její právní plat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pl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ávně závazný dok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trategické partnerstv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Strategické partnerství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– širší pojem, zahrnující více forem spoluprá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8769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ěs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048120"/>
            <a:ext cx="16002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olné for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73392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é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43400"/>
            <a:ext cx="2057400" cy="3808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914400" y="297180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579132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4880" y="5827680"/>
            <a:ext cx="38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íra spolu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ítě strategických alianc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istoricky více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bilaterálních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dohod mezi partne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ový trend vytváření sítí strategických aliancí (boom v 90. lete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omogenní x heterogenní sít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silnější firmy jsou v pozici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klíčové fir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ituace v Č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2. pol. 90. let začíná mohutná vlna přísunu zahraničního kapitálu. (v 90. letech přesáhl objem investic 20 mld. US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 současnosti v ČR zhruba 55 000 firem, na nichž se podílí zahraniční kapitál (vytváří asi 65-70% expor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městnávají asi 300 000 lid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ahraniční firmy jako Volkswagen, Siemens, Phillip Morris, Nestlé, Renault aj. budují systematicky sítě Strategických aliancí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íce informací na www.czechinves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SA v moderním podnikání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zitivní x negativní koope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kladní druhy S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Zaměřené na sdílení činností a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tváření pozitivních integračních a synergických efektů spoluprá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Redukci konkurenčních stře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ahrazení negativní kooperace pozitivní koopera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Vznik, přenos a využití znal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ískávat a zhodnocovat data pro podnikatelskou činn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Rozhodovací proc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 úvahu o strategické alianci nutný hlubší rozbor podmínek a širokého spektra var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utnost dostatečného manažerského promyšlení a zdůvodnění budoucího sociálně-ekonomického rozv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Častou chyb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Unáhlenost (rychlé a snadné řešení záměrů a problémů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nadný výběr 1 či několika málo partnerů (nedocenění rizi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Podnikatelská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trategická aliance – jedno z mnoha řeš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ýchodiskem pro rozhodování: vytvoření podnikatelské strate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sivní přístupy (opatrné hledání příležitostí, adaptivní chování vůči prostřed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roaktivní přístupy (vytváření perspektiv, možností budoucího podnikání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b2b2b2"/>
                </a:solidFill>
                <a:latin typeface="Arial"/>
              </a:rPr>
              <a:t>Tvorba podnikatelské strategi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Vytvoření vize, popř. posl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činná vize(J.P.Kotter): snadno představitelná, přitažlivá, uskutečnitelná, má jasné zaměření, flexibilní, srozumiteln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Dlouhodobé vodít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Rozbor vnějšího okol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becný rozvoj podstatného okol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pecifický rozbor z hlediska potenciálních zákazníků i konku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44:54Z</dcterms:created>
  <dc:creator>Tommy King</dc:creator>
  <dc:description/>
  <dc:language>en-US</dc:language>
  <cp:lastModifiedBy>Tommy King</cp:lastModifiedBy>
  <dcterms:modified xsi:type="dcterms:W3CDTF">2008-11-11T10:34:20Z</dcterms:modified>
  <cp:revision>7</cp:revision>
  <dc:subject/>
  <dc:title>Strategické aliance se zahraničními partnery</dc:title>
</cp:coreProperties>
</file>