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8EB-6B0E-4DED-A247-5C0A489C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04C-79BE-4CC3-82DC-30C8CDF2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510F6-5B06-4372-8B06-A851E6E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BFF05-DD2F-4518-88A7-0C1A5F5C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396EF-4E52-439C-A2A4-6CF565EB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05B84-1907-403E-A022-1F4F1ADC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2B761-7465-4A92-9B13-EE3A562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5BC22-2B2A-4D2D-B16D-CCAA37BE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51E5C-8B9D-4CDD-B5DE-EA26246C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85145-F535-4BF6-964C-D60B5D3D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9A9F5-807B-4FE0-8869-46D529F5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51F-F2F2-46A9-90CA-A8AE6878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1C51-BCEA-468E-8458-0791BA51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87F6-6055-4213-AFCC-D5775A6F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9476-B251-4263-AB0A-C8A7D5BC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68B8-4AA6-4414-B461-C7C0D9E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F03D-5DF9-4DAD-A8CB-FB87B53B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806F-FAF5-4CFA-985E-753A6F33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3013-CA27-4612-8426-3BDEFDA4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6161-3E1E-4B1C-9CDA-93A2B0C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5EE6-DFC3-4A19-BFDB-F5B78F9F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8937-5DA1-4429-90B3-2F32DA45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64B4-E241-42C4-882E-805F428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5492-96AE-4963-A8B8-BCA3138A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090C-91C8-494B-98D1-E73929EA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2AAE-5F16-413D-8876-8FA52AE50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160E1-CC4D-45D0-91E6-7E86E9C3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92E6D-CAFD-42CC-8B69-D21852F8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745A4-8266-4927-99CF-6B22BE2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1855F-D2FA-4D0A-BFF3-E10E46D1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797EB-06E0-4F83-90C5-8BA7E6E6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8E4-7032-4FFD-B9BC-E8A8576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78643-D31A-4583-8095-41990A3A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879ED-81DE-4D9A-8A9A-4A652036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87D97-0421-4D89-BE9B-BC9EA79B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76773-2E22-464A-985B-58B5C830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D68D73-88E0-4D87-9BA8-15CBD4E9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4FA94-146D-49D9-A19C-7F993467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65B88-0B53-415E-9A2B-5B8FD9B5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763FF6-B3D6-4D06-91E9-DA8F24E67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1E661D-2252-48E7-8251-26D24ABF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8234D-10D0-4795-825B-A23AA9F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5B54-8DEA-4D83-9C7D-0D02D5C5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ECB8B5-F0EA-43AB-B0F7-6550AE59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C4BB9-CA7F-4EBE-BBCB-82B24967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2C9F8-30C1-4609-BAC4-6D536824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D1E6B-8288-4D80-B531-54CA5E89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2FDF7-FCFC-4CEC-BDA5-A75D951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54101-8E12-4BFA-852B-E507D5D6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4CAC83-C133-4073-9265-28ECBC6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365239-1C2C-4ECE-8D9E-1E0657B4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195F7-0B85-401D-9775-05C9D735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35DCB-4387-432D-A086-BFBFFBD3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7E7-415B-48EF-AFE6-CBCF8669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E1B4B-EBCA-43ED-9579-7E99C87F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FE3CD6-832F-4685-A408-0815BDE7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6C618-573F-496B-B33E-CEE5313E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43481-C022-4C7B-998C-2E60C45E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22B10-FB8F-4CD8-BAC0-CA4B3544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B4B31-4A0C-4820-963D-85389F3C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AAD52-31D0-4E03-A4DF-15E95D5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3805D-5E03-415F-8ACD-E056869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4C413-B9B3-4549-8ABF-A09BA0DB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0A5BA-4F7C-4122-9F99-4E6986964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4863-85B3-4FF4-A364-4B5CBD99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C7581-8A3F-4052-A55C-01556CF0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E40D0-E099-458F-BC87-40422B25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779AD-5B10-4766-B676-632CF095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CE2B1-E1BB-42FA-8A90-7A97F7D1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A2F62-6A86-4BB6-9F20-5F8C519F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5C86-3C04-48A8-A4E7-052EC7C1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C3978-8085-4DE3-87BD-CAC6BE5F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2011E-E06A-4C5B-90A6-0C007D84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31E88-2E2D-4BA1-976D-37C2CA1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2B23D-163C-4AF4-8828-066FCDB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D9F4-DA73-452F-9312-3B96C030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D57C3-9033-4467-85A4-B669BD73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2A20-8171-4B23-BEA0-417B4137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AFDA4-9E51-4417-8755-863B95C4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374C8F-DA5D-4A61-8873-CFD9C897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DD440-A4BA-4DF8-9C78-E55C0EBD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04AD2-7484-44B0-A1B2-BCC027A0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76C2C-D923-434A-9646-2F70D9D8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83395D-3F81-4733-B525-18825E4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7BEB5-C253-4421-B6D8-76084875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91717-7A9A-4A36-9E0F-3E4A8AFA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C7D-7C00-41BA-BC09-AF8D3A63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5596B8-C4D5-4D64-A576-CBBA852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F85A23-98C7-4575-BE9F-3C951F1E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6D3FC-0C8E-4239-8B60-C242D60A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EFB00E-E3F9-4002-BF01-224CD7E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06475-E2D6-4E8C-B663-6851BEF0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8447B-0891-4E86-AFD1-FBB5796A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1F0C2-447B-4C22-B69B-9DDE7C2C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A3548-4D8A-4DD0-9454-97F56947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C6F64-8933-44FD-AF7F-D768E84F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BECB9-8AC5-4BA9-B35C-34475CA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CA37-F71B-4643-8B20-721CE7A8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2B7E8-272D-44AE-AA4E-2E7CA0A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DBE5C-176A-46F1-B246-44C4E51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733FD-A8E0-4D02-B71C-2BF6A1A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BF30C-66DE-4563-8766-C870F7AB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5C9FD-5FCA-4AFF-8977-F70A2C43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7EC87-C9D1-44ED-BABC-EE25C23E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887F6-0D27-4210-A53D-C23EA4DD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11968-4C3C-404E-A0AD-6EFA0DF2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BD284-CCE3-4D69-8110-83097001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423D3-3A82-42E0-8677-7987076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FF60-54A9-4BB5-ACFE-29CF732D22E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délní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F06-C9EE-474C-A36A-7812B29919FC}" type="slidenum">
              <a:rPr b="1" lang="cs-C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bdélní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bdélní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440D-839A-4771-820F-D1B5FBDF458B}" type="slidenum"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11F7-2160-44E1-A571-8425A07C0CF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CCC2-1217-4C2D-A8B5-E53648403EC7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A2EF-716A-4454-9579-5D786956F0A2}" type="slidenum">
              <a:rPr b="1" lang="cs-C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Obdélní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A722-9B6E-4CFA-9238-558290517F40}" type="slidenum"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bdélní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bdélní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bdélní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BB86-8A15-4288-83CB-DB9DD4F4E83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Obdélní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bdélní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bdélní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508-03BB-4A60-BE98-F28432267749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ebddc3"/>
                </a:solidFill>
                <a:latin typeface="Tw Cen MT"/>
              </a:rPr>
              <a:t>ANALÝZA PRAXE MANAGEMENTU ÚSPĚŠNÝCH AMERICKÝCH SPOLEČNOSTÍ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Tw Cen MT"/>
              </a:rPr>
              <a:t>Pavel Hasoň, Zuzana Jurková, Milan Kedroň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General Electric (GE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878 – Thomas A. Edison - Edison Electric Light Company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ial"/>
              </a:rPr>
              <a:t>»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  <a:ea typeface="Arial"/>
              </a:rPr>
              <a:t> General Electric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ržní hodnota z roku 1997 nejvyšší na světě: 300 mld. dolar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ý výběr vede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Rekrutování manažerů ze svých řa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lepší a levnější si talenty pěstov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Diagram 16"/>
          <p:cNvGrpSpPr/>
          <p:nvPr/>
        </p:nvGrpSpPr>
        <p:grpSpPr>
          <a:xfrm>
            <a:off x="1220760" y="96480"/>
            <a:ext cx="6703200" cy="6647400"/>
            <a:chOff x="1220760" y="96480"/>
            <a:chExt cx="6703200" cy="6647400"/>
          </a:xfrm>
        </p:grpSpPr>
        <p:sp>
          <p:nvSpPr>
            <p:cNvPr id="415" name="_s1028"/>
            <p:cNvSpPr/>
            <p:nvPr/>
          </p:nvSpPr>
          <p:spPr>
            <a:xfrm flipH="1" flipV="1">
              <a:off x="3396600" y="1655640"/>
              <a:ext cx="847440" cy="131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29"/>
            <p:cNvSpPr/>
            <p:nvPr/>
          </p:nvSpPr>
          <p:spPr>
            <a:xfrm>
              <a:off x="246672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Doprav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1030"/>
            <p:cNvSpPr/>
            <p:nvPr/>
          </p:nvSpPr>
          <p:spPr>
            <a:xfrm flipH="1" flipV="1">
              <a:off x="2599200" y="2581200"/>
              <a:ext cx="1423800" cy="64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31"/>
            <p:cNvSpPr/>
            <p:nvPr/>
          </p:nvSpPr>
          <p:spPr>
            <a:xfrm>
              <a:off x="144360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 pr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lektrár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1032"/>
            <p:cNvSpPr/>
            <p:nvPr/>
          </p:nvSpPr>
          <p:spPr>
            <a:xfrm flipH="1">
              <a:off x="2428200" y="3563280"/>
              <a:ext cx="154692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33"/>
            <p:cNvSpPr/>
            <p:nvPr/>
          </p:nvSpPr>
          <p:spPr>
            <a:xfrm>
              <a:off x="12207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las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4"/>
            <p:cNvSpPr/>
            <p:nvPr/>
          </p:nvSpPr>
          <p:spPr>
            <a:xfrm flipH="1">
              <a:off x="2938680" y="3872520"/>
              <a:ext cx="1179360" cy="102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_s1035"/>
            <p:cNvSpPr/>
            <p:nvPr/>
          </p:nvSpPr>
          <p:spPr>
            <a:xfrm>
              <a:off x="1870920" y="4683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0640" rIns="170640" tIns="88920" bIns="88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ysíla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čin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36"/>
            <p:cNvSpPr/>
            <p:nvPr/>
          </p:nvSpPr>
          <p:spPr>
            <a:xfrm flipH="1">
              <a:off x="3966120" y="4054680"/>
              <a:ext cx="438840" cy="149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_s1037"/>
            <p:cNvSpPr/>
            <p:nvPr/>
          </p:nvSpPr>
          <p:spPr>
            <a:xfrm>
              <a:off x="3185640" y="55288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Zdravotni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1038"/>
            <p:cNvSpPr/>
            <p:nvPr/>
          </p:nvSpPr>
          <p:spPr>
            <a:xfrm>
              <a:off x="4744440" y="4054680"/>
              <a:ext cx="441000" cy="149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39"/>
            <p:cNvSpPr/>
            <p:nvPr/>
          </p:nvSpPr>
          <p:spPr>
            <a:xfrm>
              <a:off x="4747320" y="552888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světl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40"/>
            <p:cNvSpPr/>
            <p:nvPr/>
          </p:nvSpPr>
          <p:spPr>
            <a:xfrm>
              <a:off x="5031720" y="3869640"/>
              <a:ext cx="1179000" cy="1022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41"/>
            <p:cNvSpPr/>
            <p:nvPr/>
          </p:nvSpPr>
          <p:spPr>
            <a:xfrm>
              <a:off x="6061680" y="4683960"/>
              <a:ext cx="121428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rmač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2"/>
            <p:cNvSpPr/>
            <p:nvPr/>
          </p:nvSpPr>
          <p:spPr>
            <a:xfrm>
              <a:off x="5171760" y="3559320"/>
              <a:ext cx="1544760" cy="222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43"/>
            <p:cNvSpPr/>
            <p:nvPr/>
          </p:nvSpPr>
          <p:spPr>
            <a:xfrm>
              <a:off x="6708960" y="326196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ůmys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stém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44"/>
            <p:cNvSpPr/>
            <p:nvPr/>
          </p:nvSpPr>
          <p:spPr>
            <a:xfrm flipV="1">
              <a:off x="5121720" y="2574360"/>
              <a:ext cx="141876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45"/>
            <p:cNvSpPr/>
            <p:nvPr/>
          </p:nvSpPr>
          <p:spPr>
            <a:xfrm>
              <a:off x="6486480" y="17146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apitálov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luž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46"/>
            <p:cNvSpPr/>
            <p:nvPr/>
          </p:nvSpPr>
          <p:spPr>
            <a:xfrm flipV="1">
              <a:off x="4898880" y="1653480"/>
              <a:ext cx="842040" cy="1311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47"/>
            <p:cNvSpPr/>
            <p:nvPr/>
          </p:nvSpPr>
          <p:spPr>
            <a:xfrm>
              <a:off x="5463360" y="535680"/>
              <a:ext cx="1215000" cy="121464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ác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otřebič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48"/>
            <p:cNvSpPr/>
            <p:nvPr/>
          </p:nvSpPr>
          <p:spPr>
            <a:xfrm flipV="1">
              <a:off x="4571280" y="1311480"/>
              <a:ext cx="0" cy="1558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49"/>
            <p:cNvSpPr/>
            <p:nvPr/>
          </p:nvSpPr>
          <p:spPr>
            <a:xfrm>
              <a:off x="3963600" y="96480"/>
              <a:ext cx="1215000" cy="1215000"/>
            </a:xfrm>
            <a:prstGeom prst="ellipse">
              <a:avLst/>
            </a:prstGeom>
            <a:solidFill>
              <a:srgbClr val="fbc8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teck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50"/>
            <p:cNvSpPr/>
            <p:nvPr/>
          </p:nvSpPr>
          <p:spPr>
            <a:xfrm>
              <a:off x="3963600" y="2870640"/>
              <a:ext cx="1215000" cy="121500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3520" rIns="173520" tIns="86760" bIns="86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ELECTRIC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měny General Electric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organizoval od základů obchody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pustil téměř 200 tis. zaměstnanců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„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Místo malých posunů rovnou skočit“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oncept „tréninku“ jako nový nástroj komunik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Obnovení důvěry mezi zaměstnanci a managementem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rolomení bariéry a podpoření kreativ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75f55"/>
                </a:solidFill>
                <a:latin typeface="Tw Cen MT"/>
              </a:rPr>
              <a:t>10 tajemství manažerského stylu Jacka Welche: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Investujte do lidí – Na lidech zále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Ovládněte trh nebo ho vykli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Nikdy se nezastav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Myslete na služby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apomeňte na minulos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Učte se a veďte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Žádné žvaněn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likvidujte byrokracii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Zůstaňte u jedné korporac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w Cen MT"/>
              </a:rPr>
              <a:t>Řiďte svůj podnik jako obchod na nároží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roduktivita zásluhou lidí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FLEXTRON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ezinárodní společnost (Singapur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ední poskytovatel EMS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1108440" indent="-221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w Cen MT"/>
              </a:rPr>
              <a:t>Vývoj, výroba, logistika, poprodejní servi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OEM a ODM zákazníc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vizice společnosti Solectron (2007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Tržby $33,6 miliar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bočky ve &gt;30 zemích na 5 kontinentec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vojové centrum v Brně (segment Industrial – centrála v Dallasu)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- Klíčové hodnot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Intenzivní spoluprá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měření na zákazník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ečlivá, rychlá a disciplinovaná realiza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ávazek k trvalému zlepš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trvalé směřování k cíl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8080" indent="-4780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0 zaměstnanců </a:t>
            </a:r>
            <a:r>
              <a:rPr b="0" lang="cs-CZ" sz="29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0 vývojových inženýrů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90% muži, Ø věk 32 le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Nastavení systému odměňov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mzdy dle LEVE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systému hodnoce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kolení a rozvoj zaměstnanc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anovení flexibilních zaměstnaneckých benefit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ružná pracovní dob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evná část 10:00 – 14:30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itelná část 5:00 – 10:00, 14:30 – 22: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zd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xní částk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Přesč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plácen nad rámec Z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Mimořádné odměn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ýjimečné pracovní výsledky, mimořádné úko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Flextronics a H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6091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Benef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ravenk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říspěvek na ŽP, PP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urzy AJ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Akcie společnosti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tný reži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Tw Cen MT"/>
              </a:rPr>
              <a:t>Dovolená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4+1 týden naví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ick day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onájem tělocvič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ingpo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Firemní ak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Zdroj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Tom Peters, Robert H. Waterman jun., Hledání dokonalosti, ISBN 80-7205-817-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Crainer Stuart - Byznys podle Jacka Welche, Pragma 2005, ISBN: 80-7205-947-5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www.businessweek.com/magazine/content/01_49/b3760040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ttp://en.wikipedia.org/wiki/In_Search_of_Excell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o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www.flextronics.cz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Kniha byla vydána v roce 1982 (zastaralost názorů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Široké spektrum společnost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jich přísný výběr podle mnoha ukazatelů (musely vykazovat dlouhodobý úspěšný růst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Zabývají se řízením společností z pohledu celého management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775f55"/>
                </a:solidFill>
                <a:latin typeface="Tw Cen MT"/>
              </a:rPr>
              <a:t>Hledání dokonalosti – Tom Peters a Robert Waterman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Je jim vytýká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data byly nepřes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a většinu společností přišla slabší léta, i když byly prezentovány v knize jako „dokonalé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ěkteré úspěšné společnosti se do hodnocení nedostaly, kvůli striktnímu dodržování ukazatelů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Hodnocené společnosti byly velké a měly dominantní postavení na trh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Předpoklady dokonalost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Hledání pomocí 7s (strategie, struktura, zaměstnanci, systém řízení, sdílené hodnoty, styl vedení, dovednosti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Definují oblasti, které musí management řeši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omocí nich identifikovali klíčové oblasti a vztahy mezi nim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Nalezli 8 těchto oblastí přispívajících k dokonal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. Motivace k jednán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naha udělat doj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Malé skupiny pracovníků, kteří přicházeli s řešením bez zbytečného papírován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ktické zařízení pro organizační změ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2. Blíže k zákazníkov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Učit se od lidí, kterým slouž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Kvalita, služby a spolehlivost – trvalá hodno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Dobré služby jsou výjimkou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3. Autonomie a podnikavo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osilování vedoucích a inovátorů v rámci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Volná síť malých buněk ve velkých organizacích, bez omezování krea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4. Produktivita zásluhou lid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 kapitálové investice, ale postavení a zařazení lidí jako hlavní zdroj kvality a zisku z produktiv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Pracovníci jako zdroj myšlenek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5. Prosazování praktické stránky zaměření na hodno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Základní filozofie organizace přináší větší úspěch než technologie, kapitál a struktur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6. Zůstaňte věrni svému oboru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ikdy nevlastněte podnik, který neumíte řídi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výsledky dosahují společnosti, které zůstávají blízko činnosti, kterou znají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8 základních atributů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7. Jednoduchá forma, nepočetný personá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Jednoduchá struktura organiza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Špičkový personál málo početný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8. Současně volno-pevné vlastnost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Nejlepší společnosti jsou buď centrálně řízené, nebo decentralizované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Stlačení autonomie k dýmům dílen nebo rozvojovým kolektivů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Tw Cen MT"/>
              </a:rPr>
              <a:t>Centralisté kolem několika základních hodnot,které mají podle společnosti význa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775f55"/>
                </a:solidFill>
                <a:latin typeface="Tw Cen MT"/>
              </a:rPr>
              <a:t>Jack Welch (*1935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doval chemické inženýrství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0 nastoupil do oddělení plastů General Electric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Vystupuje ostře proti byrokracii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1968 se stává nejmladším generálním ředite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Tw Cen MT"/>
              </a:rPr>
              <a:t>Převzal společnost, která byla modelem moci amerických korporací a moderních manažerských techni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2:53:57Z</dcterms:created>
  <dc:creator>PC</dc:creator>
  <dc:description/>
  <dc:language>en-US</dc:language>
  <cp:lastModifiedBy>Pafča</cp:lastModifiedBy>
  <dcterms:modified xsi:type="dcterms:W3CDTF">2008-11-05T15:42:03Z</dcterms:modified>
  <cp:revision>29</cp:revision>
  <dc:subject/>
  <dc:title>Hledání dokonalosti – Tom Peters</dc:title>
</cp:coreProperties>
</file>