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26E-88CB-4966-88C5-618AF53AB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915-D28F-4A7F-8F4B-B0157C3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B67-8A56-47EF-9BE4-E92ABB86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2702-85A6-42D4-92CC-D9143331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FCAC-CF53-4047-BF55-B42E08DC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A0BC-F302-4F5E-9272-31A625DC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8BCC-35DD-4E6B-B2CC-1CC645E8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4E0B-6368-479C-A211-255818D2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AD24-8078-49BC-8EA7-5F016BA8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8AA2-5EF8-4B44-B9E1-C64F230C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F68A-F84D-4FD1-8F58-CABBA0A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D3F7-8539-4060-BEBE-EB71BE6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4DF5-A326-41E2-ACBE-BB0FB47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B48D-8758-4B52-B8DD-9C34934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2F0B-BF14-401D-9458-3B096B32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51D9-DF58-4B31-9FB8-327F4DE4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9704-C790-4101-97F0-F2E381F5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F9D1-F330-4754-B944-75BB344F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6DB7-468D-428E-B35E-C76BF04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500C-D350-4A01-94F4-28CFC216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9AF-01E9-40A3-B77F-D56E3ED0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FCAF-DF1A-490D-BC93-C24489D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869-5409-44F4-B9F1-2FBD1CD9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AB25-6F1D-4282-BFE4-A118827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434E-976A-4BDB-AC56-5B4036773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3EE-F61B-4BE3-AEB6-F27F5BEAC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Analýza praxe managementu úspěšných amerických společnost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ena Košíčk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a Kubicov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byněk R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ní větších celků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ytváření Operačních skupin (5-10 členů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„flexibilní, na projekt orientované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středí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akteristické rys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vání skupiny je omez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členství je dobrovol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shromažďuje se rychle bez formál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ejsou určeni žádní „stálí“ pracovní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dokumentace je neformální a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xperimentující organiz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a nejviditelnějším rysem motivace činnosti je ve špičkových společnostech jejich ochota experimen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kus: „Drobná, dokončená činnost, zkouška, kterou lze řídit a která pomáhá něco poznat.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líže k zákazníkov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službami (zvláště po prodej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bchod skutečně začíná po prodeji - ne před 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dlost kvalit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zakládá se na lidském kapitálu spojeném s tradice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měření na segmenty tr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produkty a služby ušité na mí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onomie a podnik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důležitějším prvkem úspěchu je schopnost být velký a současně jednat jako mal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podněcují mezi svými lidmi podnikavost, protože umožňují autonom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ence dobrovolného zaníceného přeborní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duktivita prostřednictvím lid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vat se k lidem jako k dospělým, jako k partnerům, chovat se uctiv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Úplnost orientace na l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zyk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dílení informac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kotvená filozofie společ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Řízení v přímém dotyku, důraz na hodno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vný soubor hodnot společnosti a věrnost těmto hodnotá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tom, že můžeme být nejlepš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detailů provede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ů lidí jako jednotlivc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nejvyšším významu jakosti služ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řesvědčení o významu neformálnosti pro podporu komunik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ělej to, co umíš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olečnosti, které se pevně drží, co znají, obvykle podávají nejlepší výk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jméně úspěšné jsou ty společnosti, které diverzifikují do široké řady obla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Jednoduchá forma – nepočetný řídící personá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álá neměnná forma, často výrobková divi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užně a rychle reagují na rychle se měnící podmínky a problém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avidlo stov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ři pilíře strukturní form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pilíř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pilíř podnikavo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pilíř změny starých návyk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olné, ale zároveň pevné vede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e jsou přísně kontrolovány, přestože dovolují autonomii, podnikavost a inovace od řadových pracovník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nomie je produktem kázn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načný prospěch organizace přináší vnitřní konkur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teratu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Thomas J. Peters, Robert H. Waterman Jr.: Hledání dokonalosti, Olomouc 199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Výzk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2 úspěšných amerických společnos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ory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 vyspělou technologi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se spotřebním zbož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poskytující služ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abývající se vedením projekt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olečnosti zpracovávající nerostné surov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est ukazatelů – tři týkající se růstu a tři ukazatele návratnosti kapitálu a rentability služe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řeba splnění alespoň čtyř ukazatelů po více než 20 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vátorské výsledky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ůstalo 43 společno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Znaky úspěšných společností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dklon od racionálního přístupu k managementu, od příliš podrobných tržních předpovědí a analýz, od přílišného organizov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dskost, loajálnost, ztotožnění se s úspěchem společnosti, lidský vztah mezi zaměstnancem a jeho dozorc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aměření na kvalitu a hodno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nění experimentátorstv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unikace prostřednictvím nejefektivnějšího kanálu bez ohledu na organizační struktu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žití projektových tým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centralizace říz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ědomění, že lidé nejsou racionál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dpora sebedůvě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peněžní cí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yužití  předchozího úspěc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Malý personá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Jen několik klíčových hod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zitivní podněcování - Ski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e5ffff"/>
                </a:solidFill>
                <a:latin typeface="Tahoma"/>
              </a:rPr>
              <a:t>Richard Scott – 4 stadia vývoj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57200" y="1981080"/>
          <a:ext cx="8228880" cy="4114440"/>
        </p:xfrm>
        <a:graphic>
          <a:graphicData uri="http://schemas.openxmlformats.org/drawingml/2006/table">
            <a:tbl>
              <a:tblPr/>
              <a:tblGrid>
                <a:gridCol w="2362680"/>
                <a:gridCol w="2919600"/>
                <a:gridCol w="2946600"/>
              </a:tblGrid>
              <a:tr h="808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Uza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Otevřený systé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2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acionální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. 1900-1930  Weber, Tayl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3. 1960-1970  Chandler, Lawrence, Lors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polečenský činit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2. 1930-1960  Mayo a spol., McGregor, Barnard, Sleznic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4. 1970-?  Weick, M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otivace jednání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ožitost je příčinou letargie a setrvačnosti, v důsledku nichž je mnoho společností nepřístupných nebo reagují příliš pomal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hanismus špičkových společností zahrnuje širokou řadu mechanismů jednání, které zjednodušují jejich systé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rganizační flexibilit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Špičkové společnosti jsou rozlehlou sítí neformální, otevřené komunik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ka otevřených dveř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ditelný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ie udržo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la pozitivní kritik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09:01:55Z</dcterms:created>
  <dc:creator>snoopy</dc:creator>
  <dc:description/>
  <dc:language>en-US</dc:language>
  <cp:lastModifiedBy>Hana Kubicova</cp:lastModifiedBy>
  <dcterms:modified xsi:type="dcterms:W3CDTF">2008-11-10T21:05:31Z</dcterms:modified>
  <cp:revision>13</cp:revision>
  <dc:subject/>
  <dc:title>Analýza praxe managementu úspěšných amerických společností </dc:title>
</cp:coreProperties>
</file>