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EB5-4E3A-471C-B06C-F7D63DB72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D7B-F8E9-4A79-920E-21240214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F66-7BD2-4D45-B7D2-59F22150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F82-9C61-4AFB-98A2-70A16E21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32C9-7803-42D1-95C4-2184DD6B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1660-36B2-41DD-8717-ABCFF57D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E25-2072-43A7-AFDC-FD08197E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92D-24EA-4A7A-8476-6AA013AD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AE89-344F-4E35-BE43-DDC478FB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3FF-08B3-4E45-88B5-2F0FFAE9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7406-3B3C-47C1-BA4B-3F70B130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945-FA02-4C43-895F-331BE9B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7280" indent="-21600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8920" indent="-215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CFDDE-1DDD-422D-A62F-60A5E8A2D486}" type="slidenum">
              <a:rPr b="0" lang="en-US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576360" y="2123640"/>
            <a:ext cx="8569440" cy="16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DejaVu Sans"/>
              </a:rPr>
              <a:t>STRATEGIE TRVALE UDRŽITELNÉHO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DejaVu Sans"/>
              </a:rPr>
              <a:t>ROZVOJE</a:t>
            </a:r>
            <a:r>
              <a:rPr b="0" lang="cs-CZ" sz="44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"/>
          <p:cNvSpPr/>
          <p:nvPr/>
        </p:nvSpPr>
        <p:spPr>
          <a:xfrm>
            <a:off x="1152360" y="4067280"/>
            <a:ext cx="514836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4c1900"/>
                </a:solidFill>
                <a:latin typeface="Times New Roman"/>
              </a:rPr>
              <a:t>Autoři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4c1900"/>
                </a:solidFill>
                <a:latin typeface="Times New Roman"/>
              </a:rPr>
              <a:t>Natália Čechová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4c1900"/>
                </a:solidFill>
                <a:latin typeface="Times New Roman"/>
              </a:rPr>
              <a:t>Tomáš Jelínek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4c1900"/>
                </a:solidFill>
                <a:latin typeface="Times New Roman"/>
              </a:rPr>
              <a:t>Renáta Kaszperová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2. ČÁ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 algn="ctr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EKOMANAGEMENT A EKOMARKETIN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 algn="ctr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 PRAX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DejaVu San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NAGEMEN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375480" indent="-2815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o j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DejaVu Sans"/>
              </a:rPr>
              <a:t>e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DejaVu Sans"/>
              </a:rPr>
              <a:t>k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DejaVu Sans"/>
              </a:rPr>
              <a:t>omanagement</a:t>
            </a: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- nebo </a:t>
            </a: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environmental management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, green managem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mana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žerská koncepce pro trvale udržitelný rozvoj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- aplikace ekologických metod, postup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ů, zásad a hodnot ve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vedení podniku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-2815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EMS – environmental management system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-2815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DejaVu Sans"/>
              </a:rPr>
              <a:t>EHS – environmental health and safety management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754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HLAVNÍ CÍL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1.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 u="sng">
                <a:solidFill>
                  <a:srgbClr val="000000"/>
                </a:solidFill>
                <a:uFillTx/>
                <a:latin typeface="DejaVu Sans"/>
              </a:rPr>
              <a:t>Snižování nebezpečí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 z průmyslových a jiných činnost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pro životní prostředí a zároveň přispívat ke zvyšová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efektivity podnikání a zachování trvale udržitelného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rozvoje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2. 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Získán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konkurenční výhody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nad ostatními konkurenty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57276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RKETING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Co je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DejaVu Sans"/>
              </a:rPr>
              <a:t>ekomarketing</a:t>
            </a: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- nebo 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environmental marketing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- marketingová strategie, která staví na koncepci ekologicky přátelských (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environmentaly friendly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) hodnot, výrobků, postupů a služeb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4000" spc="-1" strike="noStrike">
                <a:solidFill>
                  <a:srgbClr val="4c1900"/>
                </a:solidFill>
                <a:latin typeface="Times New Roman"/>
              </a:rPr>
              <a:t>HLAVNÍ CÍL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90720" indent="-53352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DejaVu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Vytvoř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„zelené“ výrobky/služby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, kde je v efektivní výkon, cena, vhodnost a slučitelnost s principy ochrany životního prostředí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99072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990720" indent="0">
              <a:lnSpc>
                <a:spcPct val="90000"/>
              </a:lnSpc>
              <a:spcAft>
                <a:spcPts val="1137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990720" indent="-53352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DejaVu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Vytvořit ve spotřebitelích představu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, že tyto výrobky/služby jsou jak vysoké kvality,tak citlivé vůči životnímu prostředí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MARKETING pro životní prostředí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9068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DejaVu Sans"/>
              </a:rPr>
              <a:t>Meffert a Kirchgeorge</a:t>
            </a:r>
            <a:r>
              <a:rPr b="1" lang="cs-CZ" sz="2400" spc="-1" strike="noStrike">
                <a:solidFill>
                  <a:srgbClr val="000000"/>
                </a:solidFill>
                <a:latin typeface="DejaVu Sans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DejaVu Sans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DejaVu Sans"/>
              </a:rPr>
              <a:t>Marketing pro živ. prostředí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je základním předpo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kladem pro proměnu konzumní společnosti na společnost trvale udržitelnou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DejaVu Sans"/>
              </a:rPr>
              <a:t>Jackie Ottman: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„</a:t>
            </a:r>
            <a:r>
              <a:rPr b="1" lang="cs-CZ" sz="2800" spc="-1" strike="noStrike">
                <a:solidFill>
                  <a:srgbClr val="000000"/>
                </a:solidFill>
                <a:latin typeface="DejaVu Sans"/>
              </a:rPr>
              <a:t>Zelená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 je nová přidaná hodnota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NAGEMENT ve svět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720" y="1716120"/>
            <a:ext cx="9072720" cy="50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THE BODY SHOP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PATAGONI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SEVENTH GENERATIO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DejaVu Sans"/>
              </a:rPr>
              <a:t>L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OBLAW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977080" y="1332000"/>
            <a:ext cx="2697120" cy="1190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887640" y="2700360"/>
            <a:ext cx="2100240" cy="1028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985080" y="2771640"/>
            <a:ext cx="1673280" cy="2386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879640" y="4859280"/>
            <a:ext cx="310824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96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MANAGEMENT v Č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6120" y="1557360"/>
            <a:ext cx="9475920" cy="516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418680" indent="-31392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DejaVu Sans"/>
              </a:rPr>
              <a:t>ČESKÉ EKOLOGICKÉ MANAŽERSKÉ CENTRUM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Prezid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Ing. Jiří Dostál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, generální ředitel, Kovohutě Příbram, a.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Viceprezid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Ing. Zdeněk Hradil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, odborný ředitel, ORGREZ, a.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DejaVu Sans"/>
              </a:rPr>
              <a:t>Viceprezide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1" lang="sk-SK" sz="2800" spc="-1" strike="noStrike">
                <a:solidFill>
                  <a:srgbClr val="000000"/>
                </a:solidFill>
                <a:latin typeface="DejaVu Sans"/>
              </a:rPr>
              <a:t>Ing. Josef Petr Ph.Dr., 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vedoucí odboru proces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bezpečnosti, inspekce a ostrahy, Hexion Specialty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18680"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DejaVu Sans"/>
              </a:rPr>
              <a:t>Chemicals, a.s.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272360" y="466560"/>
            <a:ext cx="253980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500"/>
                            </p:stCondLst>
                            <p:childTnLst>
                              <p:par>
                                <p:cTn id="3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00"/>
                            </p:stCondLst>
                            <p:childTnLst>
                              <p:par>
                                <p:cTn id="3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3. ČÁ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 algn="ctr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MMIT ZEMĚ 200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00789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4c1900"/>
                </a:solidFill>
                <a:latin typeface="Times New Roman"/>
                <a:ea typeface="Lucida Sans Unicode"/>
              </a:rPr>
              <a:t>S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  <a:ea typeface="Lucida Sans Unicode"/>
              </a:rPr>
              <a:t>UMMIT 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ZEMĚ </a:t>
            </a:r>
            <a:r>
              <a:rPr b="1" lang="en-GB" sz="4000" spc="-1" strike="noStrike">
                <a:solidFill>
                  <a:srgbClr val="4c1900"/>
                </a:solidFill>
                <a:latin typeface="Times New Roman"/>
                <a:ea typeface="Lucida Sans Unicode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60360" y="1260000"/>
            <a:ext cx="9360000" cy="57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řadatel: OSN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Místo konání: Johannesburg (JAR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čet zúčastněných zemí: 178 (i ČR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Cíl: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Zhodnocení naplňování závazků Z Ria (1992)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chválení Implementačního plán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OBSAH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749160" indent="-53316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78000"/>
              <a:buFont typeface="DejaVu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Teorie trvale udržitelného rozvoj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-53316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78000"/>
              <a:buFont typeface="DejaVu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Ekomanagement a ekomarketing v prax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9160" indent="-53316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78000"/>
              <a:buFont typeface="DejaVu Sans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Sumit 200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KLÍČOVÉ BODY SCHVÁLENÉHO IMPLEMENTAČNÍHO PLÁNU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. VODA/SANITÁRNÍ ZAŘÍZENÍ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2. ENERGIE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3. RYBY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4. CHEMICKÉ LÁTKY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5. ZDRAVÍ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6. ŽENY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7. POMOC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8. GLOBALIZACE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9. OBCHOD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0. BIOLOGICKÁ DIVERZITA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1. VLÁDNUTÍ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2. STRATEGIE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3. CHUDOBA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4. PŘEDBĚŽNÁ OPATRNOST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DejaVu Sans"/>
              </a:rPr>
              <a:t>15. SPOLEČNÁ, ALE DIFERENCOVANÁ ODPOVĚDNOST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500"/>
                            </p:stCondLst>
                            <p:childTnLst>
                              <p:par>
                                <p:cTn id="4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500"/>
                            </p:stCondLst>
                            <p:childTnLst>
                              <p:par>
                                <p:cTn id="4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6000"/>
                            </p:stCondLst>
                            <p:childTnLst>
                              <p:par>
                                <p:cTn id="4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0"/>
                            </p:stCondLst>
                            <p:childTnLst>
                              <p:par>
                                <p:cTn id="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7500"/>
                            </p:stCondLst>
                            <p:childTnLst>
                              <p:par>
                                <p:cTn id="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MISE CO</a:t>
            </a:r>
            <a:r>
              <a:rPr b="0" lang="en-GB" sz="4000" spc="-1" strike="noStrike" baseline="-33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cs-CZ" sz="4000" spc="-1" strike="noStrike" baseline="-33000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NA OBYVATELE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2160720"/>
            <a:ext cx="6480000" cy="430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HLAVNÍ STRATEGICKÉ CÍLE Č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730520"/>
            <a:ext cx="9252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trvalý sociální a ekonomický rozvoj, který zabezpeč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ezbytné potřeb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ntegrace aspektů životního prostředí d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ekonomického systém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řechod k udržitelnému systému hospodařen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</a:t>
            </a: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energií, co největší podíl recyklace materiál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dpora přírodě blízkého hospodaření v krajině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500"/>
                            </p:stCondLst>
                            <p:childTnLst>
                              <p:par>
                                <p:cTn id="5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3000"/>
                            </p:stCondLst>
                            <p:childTnLst>
                              <p:par>
                                <p:cTn id="5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HLAVNÍ STRATEGICKÉ CÍLE ČR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zachování a rozvíjení harmonické, plošně úsporné sídelní struktur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odpora místním Agendám 21, demokratickým a participativním formám rozhodován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DejaVu San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ntegrace vzdělávání, výchovy a osvěty k udržitelnému rozvoji do společenského systému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VYSVĚDČENÍ GREENPEACE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09440" y="18352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Energi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Diverzita pralesů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Zemědělství a genetické inženýrství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Jed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Oceán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Obchod a rozvojová pomo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ORTEL: </a:t>
            </a:r>
            <a:r>
              <a:rPr b="1" lang="en-US" sz="3200" spc="-1" strike="noStrike">
                <a:solidFill>
                  <a:srgbClr val="ff0000"/>
                </a:solidFill>
                <a:latin typeface="DejaVu Sans"/>
              </a:rPr>
              <a:t>NEPROSPĚ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3500"/>
                            </p:stCondLst>
                            <p:childTnLst>
                              <p:par>
                                <p:cTn id="5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1007892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80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4360" y="1332000"/>
            <a:ext cx="9068040" cy="59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STEAD, W.E., STEAD, J.G. Management pro malou planetu. Praha: GplusG, 1998. ISBN 80-86103-15-3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Practical Guide to Environmental Management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books.google.com/books?id=seUVusy2uw8C&amp;printsec=frontcover&amp;dq=environmental+management&amp;hl=sk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patagonia.co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bodyshop.co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seventhgeneration.co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loblaw.ca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8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DejaVu Sans"/>
              </a:rPr>
              <a:t>http://www.cemc.cz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http://www.mzp.cz/AIS/web-news.nsf/f896d23fe2b34882c1256e87005c6603/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0">
              <a:lnSpc>
                <a:spcPct val="6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e313b71288700dabc1256bd5002f4fd4?OpenDocumen</a:t>
            </a: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http:// www.ekolist.Cz/summit.stm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http://www.ekolist.cz/sum-about.shtm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DejaVu Sans"/>
              </a:rPr>
              <a:t>http://www.hnutiduha.cz/publikace/WSSD.pdf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401400" indent="-300960">
              <a:lnSpc>
                <a:spcPct val="6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http://archive.greenpeace.org/earthsummit/report_card/index.htm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0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500"/>
                            </p:stCondLst>
                            <p:childTnLst>
                              <p:par>
                                <p:cTn id="6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6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3500"/>
                            </p:stCondLst>
                            <p:childTnLst>
                              <p:par>
                                <p:cTn id="6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4000"/>
                            </p:stCondLst>
                            <p:childTnLst>
                              <p:par>
                                <p:cTn id="6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0" dur="5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500"/>
                            </p:stCondLst>
                            <p:childTnLst>
                              <p:par>
                                <p:cTn id="6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000"/>
                            </p:stCondLst>
                            <p:childTnLst>
                              <p:par>
                                <p:cTn id="6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0" dur="500"/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3239640"/>
            <a:ext cx="6048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Děkujeme</a:t>
            </a:r>
            <a:r>
              <a:rPr b="1" lang="en-GB" sz="4000" spc="-1" strike="noStrike">
                <a:solidFill>
                  <a:srgbClr val="4c1900"/>
                </a:solidFill>
                <a:latin typeface="Times New Roman"/>
              </a:rPr>
              <a:t> </a:t>
            </a: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Vám za</a:t>
            </a:r>
            <a:r>
              <a:rPr b="1" lang="en-GB" sz="4000" spc="-1" strike="noStrike">
                <a:solidFill>
                  <a:srgbClr val="4c1900"/>
                </a:solidFill>
                <a:latin typeface="Times New Roman"/>
              </a:rPr>
              <a:t> pozorno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1. ČÁ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 algn="ctr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ORIE UDRŽITELNÉHO ROZVOJE (STEAD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ÚVOD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Země jako živý systém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Vnímání lid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Manažerské rozhodová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55640" y="1476360"/>
            <a:ext cx="6121440" cy="5864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KOLO PROBLÉMŮ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EKONOMICKÝ RŮ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>
              <a:lnSpc>
                <a:spcPct val="6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Schumacher: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Jak si může někdo myslet, že růst je (vždy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dobrá věc? Pokud rostou mé děti, je to velmi dobré;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kdybych já začal najednou růst, byla by to katastrofa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Proto je kvalitativní rozlišování hlavní věcí; je mnohem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DejaVu Sans"/>
              </a:rPr>
              <a:t>důležitější než tajemné přičítání všeho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TRVALE UDRŽITELNÝ ROZVOJ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6000" y="212400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92000"/>
          </a:bodyPr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efinice: místo, ve kterém lidstvo naplňuje potřeby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oučasnosti bez omezení schopnosti budoucích generac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aplňovat své potřeby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osažení trvale udržitelné rovnováhy znamená udržení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rovně využívání zdrojů, průmyslové činnosti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zemědělství, populačního růstu a dalších na takové výši,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která může být zachována i v příštích generacích.“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 možné docílit trvale udržitelnosti v dlouhém období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28480" indent="0">
              <a:lnSpc>
                <a:spcPct val="6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 je k tomu potřeba?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7" name=""/>
          <p:cNvSpPr/>
          <p:nvPr/>
        </p:nvSpPr>
        <p:spPr>
          <a:xfrm>
            <a:off x="1357200" y="1914480"/>
            <a:ext cx="615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31640" indent="-215640">
              <a:lnSpc>
                <a:spcPct val="6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TŘI POHLEDY na trvalou udržitelnost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54764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1. Biofyzikální pohled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2. Socioekonomický pohle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3. Morální pohled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0" y="0"/>
            <a:ext cx="10079280" cy="7559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3959280"/>
            <a:ext cx="54007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4c1900"/>
                </a:solidFill>
                <a:latin typeface="Times New Roman"/>
              </a:rPr>
              <a:t>NÁVRHY A DOPORUČENÍ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6000" y="2340000"/>
            <a:ext cx="89280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Rovnováha mezi podnikáním a ekosystémem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ubjekt: Manaže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DejaVu Sans"/>
              </a:rPr>
              <a:t>Zahrnout Přírodu do hodnot a myšlenkových procesů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chopení trvalého rozvoje ve všech oblastech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ýtus planetární společnos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-358560">
              <a:lnSpc>
                <a:spcPct val="83000"/>
              </a:lnSpc>
              <a:spcAft>
                <a:spcPts val="1137"/>
              </a:spcAft>
              <a:buSzPct val="100000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raktické návrhy“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574560" indent="0">
              <a:lnSpc>
                <a:spcPct val="8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man</dc:creator>
  <dc:description/>
  <dc:language>en-US</dc:language>
  <cp:lastModifiedBy> </cp:lastModifiedBy>
  <dcterms:modified xsi:type="dcterms:W3CDTF">2008-11-04T01:04:13Z</dcterms:modified>
  <cp:revision>24</cp:revision>
  <dc:subject/>
  <dc:title>Roman Kaszper</dc:title>
</cp:coreProperties>
</file>