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DA58E-A8FA-45C3-9B3E-87C48500A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B2AC9-5C70-4C5A-85B1-DE2F1225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F1A62-2BC1-4A2A-85EB-FEED548B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0D42-B886-4839-A26A-B957A2DA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A670-8719-404F-BDC5-CCC727E0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F051-F892-40DA-9486-2B86893E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1369-D07A-42E5-A3C2-DAEA82C7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FE96-7E07-4252-AC33-A17E27E5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B8C5-2D5E-44C3-842F-56AAB5A6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4ECD-960C-4E06-96A2-1007BADB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6B89-EACE-435E-BEF1-C0410DF1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80E9-59D6-48C1-9E5B-454FC608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FDA8-A946-4300-B5DC-AFA6CA4B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BC63-2CB6-44E8-8600-CF4C9561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43B52-E50B-4CD0-A5CE-75789A7C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52FB-85A3-4EA0-BFF3-03C85FD6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3D41-C469-4586-BE0B-D8783BF7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35C4-7B1E-4000-B6C5-9A334314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AD3A-271A-4A03-9C87-61E66E8A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EFFE-19C3-4E57-AF81-089622E5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D313F-715E-4D13-B063-1FD361A8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93674-8B7B-4B31-9F84-126FB227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1392-DDAD-497E-95CD-942CFC82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8A50-D3CA-443B-AE79-D852A1E1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8E19-C222-4692-AD5B-A99BF0757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2680-2A56-411C-9C8E-F314B326A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lean.org/" TargetMode="External"/><Relationship Id="rId2" Type="http://schemas.openxmlformats.org/officeDocument/2006/relationships/hyperlink" Target="http://www.lean.org/" TargetMode="External"/><Relationship Id="rId3" Type="http://schemas.openxmlformats.org/officeDocument/2006/relationships/hyperlink" Target="http://www.lean.org/" TargetMode="External"/><Relationship Id="rId4" Type="http://schemas.openxmlformats.org/officeDocument/2006/relationships/hyperlink" Target="http://www.lean.org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Kapitalismus nové civilizac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ichaela Kaprál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nika Kovář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Sedl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Mud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ean Think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hno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mu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plýtvání, ma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lcuje zdroje, nevytváří hodno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nes, Womack: </a:t>
            </a:r>
            <a:r>
              <a:rPr b="1" lang="cs-CZ" sz="3200" spc="-1" strike="noStrike">
                <a:solidFill>
                  <a:srgbClr val="00007d"/>
                </a:solidFill>
                <a:latin typeface="Arial"/>
              </a:rPr>
              <a:t>lean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eštíhlující myšl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ék na hýřivé prakt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inuální tok hod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y zeštíhlujícího myšl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y value from the standpoint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y all the steps in the value stream – eliminate everything that does not creat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grate the sequence so the product will flow smoothly toward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et customers pull value from the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ursue perfection through continuou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užby a t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 nenabízí produkt, ale přímo službu, kterou daný produkt posky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umí nestabilitu - vyrovnává výkyvy, protože produkty jsou dodávány plyn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ynulý tok služe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ální podni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Trh-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Je oblast ekonomiky v níž se střetává nabídka s poptávkou a výsledkem tohoto střetu je nákup resp. prodej určitého množství zboží za určitou cen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Kapitalismus- „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Kapitalismus je ekonomický systém, v němž jsou výrobní prostředky v soukromém vlastnictví a provozovány za účelem dosažení zisku. Ekonomické parametry (např. ceny) jsou určovány prostřednictvím volného trhu (nabídkou a poptávkou), a to i ceny práce, nikoli řízeny pouze zásahy stát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okonalá konkurence-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„Teoretický model trhu, v němž platí: existuje velký počet kupujících a prodávajících, žádný z nich nemůže ovlivnit cenu, produkceje homoggenní, neexistují překážky vstupu do odvětví, všichni mají dokonalé informace o cenách a množství zboží na trh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činy nefunkčnosti trh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Špatná alokace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selh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zika hodnotových řetěz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ravdivé a chybějící cenové signá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úplné trhy a vlastnická prá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osti trhu napomáhají spravedlivá pravidla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Čína: Země, kde se kapitalismus s komunismem snoub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ční růst HDP okolo 9% (již od 70.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,53 bilionů zahraničních měnových rez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větší producent textilu, oceli, zlata a c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roce 2006 dokončilo VŠ 2,4 mil. Studen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2011 – největší spotřebitel e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zitivní kro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ější a svobodnější zem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cest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rušení registrač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6% číňanů je spokojeno s ekonomikou a jejím směřová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voboda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evřenost zahraničním investorů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ohatství a velký rozvoj mě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n malý posun v poli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pírání svobody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iskriminace menšin (tibeťané, Sin-ťia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znění aktivistů v pracovních táborech, mu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oni zablokováno přes 2500 www strá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račující monopol komunistické str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az nezávislých odborů a některých círk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patné pracovní podmínky (postavení zaměstnanc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pitalističtější než U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ém hrazení zdravotnictví a sociální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tní zásahy do ekonomiky v období nynější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de kapitalismus nevyhnutelně k demokraci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izace a zeštíhlující myš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hy a jejich fung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barevná plan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99cc"/>
                </a:solidFill>
                <a:latin typeface="Arial"/>
              </a:rPr>
              <a:t>Modř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volný trh, síla ekonomiky Západu, inovace, investice, svoboda,účinnost,produkti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Rud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socialisti, lupičský kapitalismus (Rusko), nůžky mezi bohatými a chudými,vykořisťování pracují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ff00"/>
                </a:solidFill>
                <a:latin typeface="Arial"/>
              </a:rPr>
              <a:t>Zelení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koncept ekosystému, počet lidí, zahrnutí externalit do nákladů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ílí: -neodmítají ani nepřijímají žádný koncept, optimismus k lidstvu, integrace, respekt, důvěra, informace, ne ideologií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jótský protok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jednán 11.12.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 180 signatář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Účelem je snížit emise skleníkových plynů mezi lety 2008-2012 o 5,2% ve srovnání s rokem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 neratifikova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mínky platnosti(od 2/2005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 signatářských zem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mě zodpovědné za více než 55% produkce těchto ply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wken, P., Lovins, A., Lovins, L.H. 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Přírodní kapitalismus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aha: Mladá fronta, 2003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„</a:t>
            </a:r>
            <a:r>
              <a:rPr b="0" i="1" lang="cs-CZ" sz="1600" spc="-1" strike="noStrike">
                <a:solidFill>
                  <a:srgbClr val="666699"/>
                </a:solidFill>
                <a:latin typeface="Arial"/>
              </a:rPr>
              <a:t>Principles of Lean Thinking“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Womack, J. and Jones, D., 1996. Lean Enterprise Institute. 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lean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cs.wikipedia.org/wik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s://ekonom.feld.cvut.cz/materialy/ekocz/EK02.pd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asopis Euro, č.38/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Wolf, Ch.: Capitalism, Chinese style, The International Economy, Winter 2002, Washing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je dnes vzác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átek průmyslové re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éně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ální zásoby bezmezné a nevyčerpa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mezeným zdrojem jsou lid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íroda se stává vzácn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tyři typy kapitá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yroben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ský kapit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venč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čně zisková avšak neudržitelná forma lidského výv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rodní a lidský kapitál má malou hodno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ý zájem o odpad při produkci i staré výrob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al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ředí není jen okrajovým faktorem vý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oucí rozvoj je limitován dostupností a funkčností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radikálního zvýšení produktivity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ální strate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kální produktivita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ké mimik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konomika služeb a to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ování do přírodního kapitá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rodní kapitá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ědomovaný, ovšem nezastupiteln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bytek a snížení kv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hraditelné a nezastupitelné přírodní služ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ce do přírodního kapitá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řeba revidovat systém daní a dot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erzn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anění plynu, užívání všech vozidel a letadel,odpadů, umělých hnoj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k se provrtat nákladovou bariér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spora energi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ostní systémové inženýrstv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k jako systém, ne jen suma čá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ání mu tradiční sché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šlení opačným smě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lim</cp:lastModifiedBy>
  <dcterms:modified xsi:type="dcterms:W3CDTF">2008-11-03T19:05:4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