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841C-9E56-4797-A7E6-0AC66188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A50-1B29-40CC-ACEF-4AC2106E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24E0-1E98-4808-ABE7-5FE8E5E7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E19-BC0A-4DCA-BCF4-7F32B32A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2454-2B61-4C5F-B83D-DBD9C9F3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AD67-A3E2-4551-BF7D-2989C7F0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8D68-7908-4E77-8535-71C07EA7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0560-2D3C-49B8-84DA-05012ECE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CB3-872C-4ED4-97B3-ADC8BB4F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F961-AB57-4DFB-81F2-E0C571F3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ADBB-A6FA-4E36-8862-43FCE2F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3B52-0F83-45D0-9915-F01613F0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7825-4278-4533-A2BB-8C5CCA18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B623-64D0-483C-839D-7C7C9817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F6E9-5D0B-4545-97D7-5ED9C97F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B11A-CACA-4591-83CF-27D6E625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B10B-EED7-4C98-9F06-E8174A8B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F2AB-64DF-4348-9F15-DC1ADD4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CF0-E3B9-494D-A43C-56548FD6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B4B7-4B8A-44C0-92CD-C3BC996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BFF-2833-4483-8397-9E3135D0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74A-92AF-4179-9330-8CBFBDB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0E03-84D5-474C-B36F-0481FE6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D71B-DD51-4628-B9E2-25357760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631A-CFA1-447D-B5A8-31DFB571A744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2F5-0A63-49E8-8EFE-88765C3D44D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800" spc="-1" strike="noStrike">
                <a:solidFill>
                  <a:srgbClr val="cc3300"/>
                </a:solidFill>
                <a:latin typeface="Garamond"/>
              </a:rPr>
              <a:t>Vývoj společnosti v pojetí A. Tofflera</a:t>
            </a: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Monika Lemonov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Jozef Barnia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Vzdelanie v budúcom čas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obrátenie k systému, ktorý už umie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výrob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industriálneho človek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činnosť intelektuálnu a kreatívn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Model školy založený na továrni“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zameraný na minulos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vybavenosť do prax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Obrázok 3" descr="42-16032510.jpg"/>
          <p:cNvPicPr/>
          <p:nvPr/>
        </p:nvPicPr>
        <p:blipFill>
          <a:blip r:embed="rId1"/>
          <a:stretch/>
        </p:blipFill>
        <p:spPr>
          <a:xfrm>
            <a:off x="6858000" y="3857760"/>
            <a:ext cx="17146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Šok z budúcnosti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Fyzická dimenzia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adaptácia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hranice množstva zme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eakcia na nadmernú stimuláci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cká dimenzi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pravidelné fungovanie mys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eschopnosť racionálne jednať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Obrázok 3" descr="shock_sign.jpg"/>
          <p:cNvPicPr/>
          <p:nvPr/>
        </p:nvPicPr>
        <p:blipFill>
          <a:blip r:embed="rId1"/>
          <a:stretch/>
        </p:blipFill>
        <p:spPr>
          <a:xfrm>
            <a:off x="6572160" y="4714920"/>
            <a:ext cx="19828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Střet civilizací – Samuel 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vět po studené válce je světem 7 nebo 8 zem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přátelství a spojenectví jsou určeny kultur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ápad ztrácí dominantní postave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 21.st. Čína jako rival Západ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Huntingto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.H. vyzývá k utváření budoucnosti, doporučuje Západu přehodnotit zahraniční pol, prohloubit jednotu, rozšířit součinnost s Ruskem, Japonskem a Indií a stáhnout vojska z muslimské a čínské civiliz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Západ se má sjednotit a uznat i ostatní civilizac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Fukuyama</a:t>
            </a: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 – Konec dějin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ažený komunismus a fašism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padní liberální demokracie jako konečná podoba vlá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onec děj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Použitá literatura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TOFFLER, A. Šok z budoucnosti. Praha : Práce, 1992. ISBN 80-208-0160-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Huntington, S. Střet civilizací. Praha : Rybka Publishers, 2001. ISBN 80-86182-49-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Fukuyama, F. Konec dějin a poslední člověk. Praha : Rybka Publishers 2002. ISBN 80-86182-27-4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800" spc="-1" strike="noStrike">
                <a:solidFill>
                  <a:srgbClr val="cc3300"/>
                </a:solidFill>
                <a:latin typeface="Garamond"/>
              </a:rPr>
              <a:t>Děkujeme za pozornost.</a:t>
            </a:r>
            <a:endParaRPr b="0" lang="en-US" sz="58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tiklad pojmu barbarství (18.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polečnost usedlá, urbanizovaná a gramotn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ivilizace - celkový způsob života národa,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je kultura ve velké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- komplexní celky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boženství, generace, děiiny, zvyky, instituce, objektivní prvky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…</a:t>
            </a: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Civilizac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mrteln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louhověk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izpůsobují a vyvíjí 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liší se celkový počet civilizac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lavní: Čínská,Japonská, Hinduistická, Islámská, Západní, Latinskoamerická, Africk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Garamond"/>
              </a:rPr>
              <a:t>Západ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= Evropa + Severní Amerika + země osídleny Evropany (Austrálie, Nový Zélan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19.st. Evropa x Amerika  (zpátečnictví, útlak, hierarchie x svoboda, rovnost, budoucnos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20.st. Amerika součást západu, první mocno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77454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200" spc="-1" strike="noStrike">
                <a:solidFill>
                  <a:srgbClr val="cc3300"/>
                </a:solidFill>
                <a:latin typeface="Garamond"/>
              </a:rPr>
              <a:t>A. Toffler – Šok z budúcnosti</a:t>
            </a:r>
            <a:endParaRPr b="0" lang="en-US" sz="52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85840" y="164304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Veci, miesta, ľudia,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yšlienky a organizačné štruktúry sa v životoch ľudí ,spotrebovávaj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3000" spc="-1" strike="noStrike">
                <a:solidFill>
                  <a:srgbClr val="000000"/>
                </a:solidFill>
                <a:latin typeface="Verdana"/>
              </a:rPr>
              <a:t>rýchlejšie“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29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odnadpis 2"/>
          <p:cNvSpPr/>
          <p:nvPr/>
        </p:nvSpPr>
        <p:spPr>
          <a:xfrm>
            <a:off x="357120" y="3571920"/>
            <a:ext cx="8572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kultúrny šo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ústredný pojem: diagnostika problém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súčasného človeka            psychické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fyziologické problém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Šípka doprava 4"/>
          <p:cNvSpPr/>
          <p:nvPr/>
        </p:nvSpPr>
        <p:spPr>
          <a:xfrm>
            <a:off x="4572000" y="5357880"/>
            <a:ext cx="642960" cy="102960"/>
          </a:xfrm>
          <a:prstGeom prst="rightArrow">
            <a:avLst>
              <a:gd name="adj1" fmla="val 50000"/>
              <a:gd name="adj2" fmla="val 50103"/>
            </a:avLst>
          </a:prstGeom>
          <a:gradFill rotWithShape="0">
            <a:gsLst>
              <a:gs pos="0">
                <a:srgbClr val="000000"/>
              </a:gs>
              <a:gs pos="100000">
                <a:srgbClr val="fff6da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“</a:t>
            </a:r>
            <a:r>
              <a:rPr b="1" lang="sk-SK" sz="4000" spc="-1" strike="noStrike">
                <a:solidFill>
                  <a:srgbClr val="cc3300"/>
                </a:solidFill>
                <a:latin typeface="Garamond"/>
              </a:rPr>
              <a:t>Super - industrializmus</a:t>
            </a:r>
            <a:r>
              <a:rPr b="1" lang="en-US" sz="4000" spc="-1" strike="noStrike">
                <a:solidFill>
                  <a:srgbClr val="cc3300"/>
                </a:solidFill>
                <a:latin typeface="Garamond"/>
              </a:rPr>
              <a:t>”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bielych golierov oproti modrý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minanta éry je pomíjivosť, dočasnosť a zm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sychologizácia produk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riemysel zážitk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bývanie oceán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nové genetické varianty člove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dočasné manželstv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čiatok masového konzumu vysoko štandardizovaných produkt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Zástupný symbol obsahu 3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662800"/>
          </a:xfrm>
          <a:prstGeom prst="rect">
            <a:avLst/>
          </a:prstGeom>
          <a:ln w="0">
            <a:noFill/>
          </a:ln>
        </p:spPr>
      </p:pic>
      <p:pic>
        <p:nvPicPr>
          <p:cNvPr id="105" name="Obrázok 4" descr="P0115b398_s_praca_zamestnanie.jpg"/>
          <p:cNvPicPr/>
          <p:nvPr/>
        </p:nvPicPr>
        <p:blipFill>
          <a:blip r:embed="rId2"/>
          <a:stretch/>
        </p:blipFill>
        <p:spPr>
          <a:xfrm>
            <a:off x="7358040" y="3143160"/>
            <a:ext cx="1571760" cy="884160"/>
          </a:xfrm>
          <a:prstGeom prst="rect">
            <a:avLst/>
          </a:prstGeom>
          <a:ln w="0">
            <a:noFill/>
          </a:ln>
        </p:spPr>
      </p:pic>
      <p:pic>
        <p:nvPicPr>
          <p:cNvPr id="106" name="Obrázok 5" descr="1_Tokyo_quer_miki.jpg"/>
          <p:cNvPicPr/>
          <p:nvPr/>
        </p:nvPicPr>
        <p:blipFill>
          <a:blip r:embed="rId3"/>
          <a:stretch/>
        </p:blipFill>
        <p:spPr>
          <a:xfrm>
            <a:off x="7358040" y="1643040"/>
            <a:ext cx="15717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Obrázok 6" descr="ekopestovanie_1.jpg"/>
          <p:cNvPicPr/>
          <p:nvPr/>
        </p:nvPicPr>
        <p:blipFill>
          <a:blip r:embed="rId4"/>
          <a:stretch/>
        </p:blipFill>
        <p:spPr>
          <a:xfrm>
            <a:off x="7358040" y="457200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Pomíjivosť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rýchlosť s akou sa menia naše vzťa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Verdana"/>
              </a:rPr>
              <a:t>Spoločnosť na jedno použiti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expanzia dopytu a ponuky po spotrebných statko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Šípka dolu 3"/>
          <p:cNvSpPr/>
          <p:nvPr/>
        </p:nvSpPr>
        <p:spPr>
          <a:xfrm>
            <a:off x="4429080" y="1214280"/>
            <a:ext cx="285840" cy="5004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Diagram 6" descr=""/>
          <p:cNvPicPr/>
          <p:nvPr/>
        </p:nvPicPr>
        <p:blipFill>
          <a:blip r:embed="rId1"/>
          <a:stretch/>
        </p:blipFill>
        <p:spPr>
          <a:xfrm>
            <a:off x="1494000" y="4206960"/>
            <a:ext cx="67960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cc3300"/>
                </a:solidFill>
                <a:latin typeface="Garamond"/>
              </a:rPr>
              <a:t>Nové národy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ok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významu vzdialenos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spotrebovávame miesta a zbavujeme sa ich veľm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k-SK" sz="2400" spc="-1" strike="noStrike">
                <a:solidFill>
                  <a:srgbClr val="000000"/>
                </a:solidFill>
                <a:latin typeface="Verdana"/>
              </a:rPr>
              <a:t>podobným spôsobom ako odhadzujeme papierové vreckovky alebo plechovky od piv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k-SK" sz="1200" spc="-1" strike="noStrike">
                <a:solidFill>
                  <a:srgbClr val="000000"/>
                </a:solidFill>
                <a:latin typeface="Verdana"/>
              </a:rPr>
              <a:t>Toffler A., Šok z budúcnosti, str. 43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Obrázok 3" descr="1903-lietadlo-lissovam.gif"/>
          <p:cNvPicPr/>
          <p:nvPr/>
        </p:nvPicPr>
        <p:blipFill>
          <a:blip r:embed="rId1"/>
          <a:stretch/>
        </p:blipFill>
        <p:spPr>
          <a:xfrm>
            <a:off x="5940360" y="4500720"/>
            <a:ext cx="2867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8:02Z</dcterms:created>
  <dc:creator>Monika</dc:creator>
  <dc:description/>
  <dc:language>en-US</dc:language>
  <cp:lastModifiedBy>snoopy</cp:lastModifiedBy>
  <dcterms:modified xsi:type="dcterms:W3CDTF">2008-10-27T11:56:49Z</dcterms:modified>
  <cp:revision>12</cp:revision>
  <dc:subject/>
  <dc:title>Vývoj společnosti v pojetí A. Tofflera </dc:title>
</cp:coreProperties>
</file>