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94E-EC49-4233-9228-1F44EF40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1FD-03EF-4517-9338-3B2397F4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6CC-1CB1-49BA-85D1-3517A1AF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AD22-1E08-4429-A22E-8EF74626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3509-B805-44BA-B3D3-8CEC6C9F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DDD0-2358-4BE7-9F32-3CE5B0BA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6220-90E2-47DD-9765-8DAE7717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E7B5-1D5E-482E-850C-5DCE2109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00B3-A992-487D-B8C1-F2A1B864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B36B-FB98-4CCC-8083-27B74720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1CEB-C1A3-4D23-86D3-3C20C35E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1DD-3B0C-48C6-A24F-7EE7416A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53CA-1436-4EF8-B1B0-509DD74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D4CB-A5F0-4330-9937-EBDE727E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0994-0AF2-4213-95B7-69A27FAD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7830-7D70-4206-B065-2D4B686E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28D4-0F14-40B2-B359-058D995A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0E0-EEE3-412B-AA9B-EA444EE8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03E-BC8B-49BA-8BB8-D2970248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DCC-7113-4623-860A-53158B0E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A87-9AA3-4754-9063-2EB81EA2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C2E-F412-4973-92B8-329AD075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384-43AC-4F3A-97C0-7BACE3F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8E3E-DBB4-4EBC-A7C0-C60BC26A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97FF-52ED-4A57-B7C2-55C5C9F535BE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8399-6690-470B-BF85-4322CF9EB4F8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Arial"/>
              </a:rPr>
              <a:t>Strategie trvalo udržitelného rozvoj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Linda Khall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Zuzana Soóki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trategickí manažéri a trvalo udržateľný rozvoj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jenie ekonomického úspechu a zodpovednosti za životné prostredie = </a:t>
            </a:r>
            <a:r>
              <a:rPr b="0" i="1" lang="sk-SK" sz="3200" spc="-1" strike="noStrike">
                <a:solidFill>
                  <a:srgbClr val="ffffff"/>
                </a:solidFill>
                <a:latin typeface="Arial"/>
              </a:rPr>
              <a:t>trvalá udržateľnos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mocné hodnoty pre založenie trvalej udržateľnosti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Celistv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om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Ob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vali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Štruktúry pre trvalú udržateľnosť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čiace sa organizác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ové hodnoty, ciele, štruktúry, systémy odmeňov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spech v dlhodobej perspektíve = začlenenie sa do prír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ystém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Reťaz hodnôt rozšírená o prírodné zdroje a uloženie odp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nalýza životného cyklu výrob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arketing pre životné prostred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a cie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elené výrobky + presvedčenie spotrebiteľov o vysokej kvalite a citlivosti týchto výrobkov voči životnému prostred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Podpora managementu životného prostred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Auditing životného prostr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Účtovanie plných náklad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ačné systémy managementu pre životné prostred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nformovanie o životnom prostred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Použitá literatú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EAD, W.E., STEAD, J.G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Management pro malou planetu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. vyd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raha: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akladatelstv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GplusG, 1998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84 s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ISBN 80-86103-15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ÍČEK, V.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</a:rPr>
              <a:t>Globální problémy ve světové ekonomice  : vybrané problémy 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1. vyd. Praha: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Nakladatelství Vysoká škola ekonomická v Praze, 1995. 118 s.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ISBN 80707942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400" spc="-1" strike="noStrike">
                <a:solidFill>
                  <a:srgbClr val="ffffff"/>
                </a:solidFill>
                <a:latin typeface="Arial"/>
              </a:rPr>
              <a:t>www stránky: http://cs.wikipedia.org/wiki/Trvale_udržitelný_rozvoj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5400" spc="-1" strike="noStrike">
                <a:solidFill>
                  <a:srgbClr val="ccecff"/>
                </a:solidFill>
                <a:latin typeface="Arial"/>
              </a:rPr>
              <a:t>Ďakujeme za pozornosť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(O čom to bude…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Globálne problé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trategickí manažéri a trv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udržateľný rozvo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Globálne problémy intersociál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19886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vojny a mier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sociálnej a ekonomickej zaostalosti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riešenia globálnej zadĺženost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roblém zmien medzinárodných vzťah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Globálne problémy prírodn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sociál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pulačn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otravinov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urovinový a energet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kologický problé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Definície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TUR je taký rozvoj, ktorým ľudstvo naplňuje potreby súčasnosti bez obmedzenia schopnosti budúcich generácií naplniť svoje potreby. (Svetová komisia pre životné prostredie a rozvoj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ffffff"/>
                </a:solidFill>
                <a:latin typeface="Arial"/>
              </a:rPr>
              <a:t>Rozvoj, ktorý súčasným aj budúcim generáciám zachováva možnosť uspokojovať ich základné životné potreby a pritom neznižuje rozmanitosť prírody a zachováva prirodzené funkcie ekosystémov. (</a:t>
            </a:r>
            <a:r>
              <a:rPr b="0" lang="cs-CZ" sz="3000" spc="-1" strike="noStrike">
                <a:solidFill>
                  <a:srgbClr val="ffffff"/>
                </a:solidFill>
                <a:latin typeface="Arial"/>
              </a:rPr>
              <a:t>Zákon o životním prostředí č. 17/1992 Sb.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ccecff"/>
                </a:solidFill>
                <a:latin typeface="Arial"/>
              </a:rPr>
              <a:t>Rozmery trvalo udržateľného rozvoj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20606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Biofyzik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ocioekonomický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Morálny roz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Biofyzikálne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9162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osiahnutie úplnej recyklácie materialo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trvalo udržateľného energetického systé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Kontrola populačnej explóz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Uviesť v súlad ekonomickú činnosť a evolučné proce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Socioekonomické rozm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640" y="2204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Zmierenie rozvinutých a rozvojových krají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ytvorenie štruktúr rozhodovania založených na obci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ecff"/>
                </a:solidFill>
                <a:latin typeface="Arial"/>
              </a:rPr>
              <a:t>Morálny rozm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360" y="206028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Environmentálna e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7:27:39Z</dcterms:created>
  <dc:creator>Zuzanka</dc:creator>
  <dc:description/>
  <dc:language>en-US</dc:language>
  <cp:lastModifiedBy>x</cp:lastModifiedBy>
  <dcterms:modified xsi:type="dcterms:W3CDTF">2008-11-03T07:31:27Z</dcterms:modified>
  <cp:revision>24</cp:revision>
  <dc:subject/>
  <dc:title>Strategie trvale udržitelného rozvoje</dc:title>
</cp:coreProperties>
</file>