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130-DE0C-428E-9DEA-9A7637EB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80FB-75D2-4761-B79E-670F7FCC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B1E-2374-472D-A0CD-D54AAF48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1F3-6E85-40C5-8C25-2F4F8313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14A-512C-4455-98B9-4580070A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2EE1-3380-4FA6-B3B4-99C66B5E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7F4-238A-4894-B9D9-4F83A483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98C-0951-4522-AFB9-2235A97F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5BC-DFA1-4532-8DEF-5A266CD0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D7E-1BEF-401B-9FB2-903C354B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64E1-7BE0-48F9-90F5-1473B049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B426-680A-4880-82B5-9BAB090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1F1CC-A545-4A64-9AEB-2F48DDB3AC98}" type="slidenum">
              <a:rPr b="0" lang="sk-SK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79640" y="2165400"/>
            <a:ext cx="7199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Stratégia trvalo udržateľného rozvo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623052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Elena Dvoráková, Martin Petrovič, Milan Vdov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ystémy managementu životného prostredia: uzavretie reťaze hodnô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Analýzy životného cyklu: základ pre management od kolísky do hrob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tratégie trvalej udržateľnosti riadené procesom: predchádzať znečisteniu predtým, než k nemu dôj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Stratégie trvalej udržateľnosti riadené trhom: odlíšiť sa pomocou správy výrobkov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Marketing pre životné prostred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25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ctr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Spoločnosť by sa nemala prezentovať ako zodpovednejšia za životné prostredie, než v skutočnosti je. Tí, ktorí sa zaoberajú marketingom pre životné prostredie, majú v popise práce pomáhať, aby skutky spoločnosti zodpovedali jej slovám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r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Frankel, Coddingt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Vytváranie systému managementu životného prostr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Vytváranie systému managementu životného prostr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Podpora smyčky reťaze hodnô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Auditing životného prostredi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Informačné systémy managementu pre životné prostred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Informovanie o životnom prostredí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1900" spc="-1" strike="noStrike">
                <a:solidFill>
                  <a:srgbClr val="000000"/>
                </a:solidFill>
                <a:latin typeface="Arial"/>
              </a:rPr>
              <a:t>Hľadanie trvalej udržateľnosti, ktorá ide za smyčku reťaze hodnô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76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Všeobecné cie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5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zabezpečenie zdravého životného prostredi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udržanie ekonomickej prosper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presadzovanie sociálnej spravodlivosti, rovnosti a blahobyt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zachovanie zdrojov a biodiverzity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vytvorenie etiky správy vo všetkých inštitúciách a u všetkých jedincov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rozvinutie trvalo udržateľných komuní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povzbudzovanie občianskej zodpovednost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stabilizácia populáci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propagácia vzdelávania s dôrazom na trvalú udržateľnosť a kvalitu život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 algn="r">
              <a:spcBef>
                <a:spcPts val="400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President´s Council on Sustainable Development, 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76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76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816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Udržateľnosť</a:t>
            </a:r>
            <a:br>
              <a:rPr sz="4400"/>
            </a:b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sútok troch komponent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História T.U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972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Rímsky klub („Medze rastu“), Konferencia OSN o ŽP (Štokho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987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ráva Brundtlandovej komisie „Naša spoločná budúcnosť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1992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ummit Zeme (Konferencia OSN o ŽP a rozvoji),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27 princípov TUR,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akčný plán (Agenda 21), UN CSD (komisia pre T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ummit v Johannesburgu (RIO+10, Konferencia OSN o TU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Kritiky T.U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Rozporuplnosť poj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eudržateľnosť súčasného stav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deológia namierená proti rozvojovým krajinám, ce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rísnejšie podmienky a pravidlá pre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ískanie rozvojovej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o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cept ne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nuj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stato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čn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zornos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ť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hudob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ý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ľ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ktorí najviac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pia poškodzovan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í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životného prostr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4400" spc="-1" strike="noStrike">
                <a:solidFill>
                  <a:srgbClr val="000000"/>
                </a:solidFill>
                <a:latin typeface="Arial"/>
              </a:rPr>
              <a:t>Kritiky T.U.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8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Absentujúc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tázka ideológie ekonomického rastu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ektorí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UR považuj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za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v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ideológ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eo-liberaliz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TUR príliš zameraný na člove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írodné zdroje sú bohaté a vzhľadom na tvorivosť človeka nie je TUR potreb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Ideál medzigeneračnej spravodlivosti je nevyvážený a má nedostat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3284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EAD, W.E., STEAD, J.G.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agement pro malou planetu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aha: GplusG, 1998. ISBN 80-86103-15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www.euractiv.com/en/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www.tur.gov.s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www.tur.s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ttp://en.wikipedi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Ďakujeme za pozornos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Centrálne zdroje problémov životného prostr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Ekonomický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sobný a spoločenský blahoby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Populačný r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alá plané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Kolo problém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464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Trvalá udržateľnos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sk-SK" sz="3200" spc="-1" strike="noStrike">
                <a:solidFill>
                  <a:srgbClr val="000000"/>
                </a:solidFill>
                <a:latin typeface="Arial"/>
              </a:rPr>
              <a:t>„miesto, v ktorom ľudstvo napĺňa potreby súčasnosti bez obmedzenia schopnosti budúcich generácií naplniť svoje potreby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Svetová komisia pre životné prostredie a rozvoj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WCED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, 1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Biofyzikálne a socioekonomické rozmery 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tvorenie úplnej recyklácie materiá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chod na trvalo udržateľný celosvetový energetický systé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abilizácia alebo zníženie úrovne ľudskej pop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ierenie rozdielov medzi rozvinutými a rozvojovými národmi sv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tvorenie štruktúr rozhodovania založených na obci, ktoré umožnia široké koordinované zapojenie do rozhodovania o spoločných zdrojoch Z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6600" indent="-606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606600"/>
                <a:tab algn="l" pos="711360"/>
                <a:tab algn="l" pos="1160640"/>
                <a:tab algn="l" pos="1609560"/>
                <a:tab algn="l" pos="2058840"/>
                <a:tab algn="l" pos="2508120"/>
                <a:tab algn="l" pos="2957400"/>
                <a:tab algn="l" pos="3406680"/>
                <a:tab algn="l" pos="3855960"/>
                <a:tab algn="l" pos="4305240"/>
                <a:tab algn="l" pos="4754520"/>
                <a:tab algn="l" pos="5203800"/>
                <a:tab algn="l" pos="5653080"/>
                <a:tab algn="l" pos="6102360"/>
                <a:tab algn="l" pos="6551640"/>
                <a:tab algn="l" pos="7000920"/>
                <a:tab algn="l" pos="7450200"/>
                <a:tab algn="l" pos="7899480"/>
                <a:tab algn="l" pos="8348760"/>
                <a:tab algn="l" pos="8798040"/>
                <a:tab algn="l" pos="9247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mena vzťahu medzi ekonomickým a evolučným časovým merad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Morálny rozmer 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sk-SK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sk-SK" sz="3200" spc="-1" strike="noStrike">
                <a:solidFill>
                  <a:srgbClr val="000000"/>
                </a:solidFill>
                <a:latin typeface="Arial"/>
              </a:rPr>
              <a:t>Ľudské bytosti nie sú stredom sveta, ani nestoja v centre Zeme. Je to iba jeden druh, i keď dôležitý, vo svete obývanom tisíckami druhov. Ľudia by bez existencie týchto druhov nemohli prežiť, zatiaľ čo ďalšie rastlinné a živočíšne druhy by mohli bez ľudského zásahu prežiť celkom dobre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sk-SK" sz="1600" spc="-1" strike="noStrike">
                <a:solidFill>
                  <a:srgbClr val="000000"/>
                </a:solidFill>
                <a:latin typeface="Arial"/>
              </a:rPr>
              <a:t>R. A. Buchholz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Vnímanie, hodnoty a strategické rozhodovan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nímanie – primárna úloha v ľudskom chov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existuje objektívna skutočnosť, existuje len vnímanie skutočnosti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Hodnoty – hrajú hlavnú rolu v rozhodovaniach manažér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ústredná hodnota: trvalá udržateľnos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mocné hodnoty: celistvosť, potomstvo, drobnosť, obec, kvalita, duchovné napln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50560"/>
            <a:ext cx="8839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Management podielnikov v organizáciách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stakeholder managamen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em: základný podiel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elení podielnic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„zástupcovia Zeme v hospodárstve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acovníci kontro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elení spotrebite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ravn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tick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investo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mestnan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kologické záujmové skupi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eritelia a poistitel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í, ktorí určujú normy pre životné prostred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Strategický management pre malú planétu</a:t>
            </a:r>
            <a:r>
              <a:rPr b="1" lang="sk-SK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kocentrický management: filozofia trvalej udržateľnosti</a:t>
            </a: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nikateľská stratégia: stáť za trvalou udržateľnosť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tratégia trvalej udržateľnosti: naplnenie zelených víz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ratégie trvalej udržateľnosti riadené proce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2240" indent="-279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tratégie trvalej udržateľnosti riadené trh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emyselné ekosystémy: prepojenie výroby s prírod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čiace sa organizácie: Štruktúry pre trvalú udržateľ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ásadná zmena: Vytváranie trvalo udržateľných kultú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601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240" indent="0">
              <a:spcBef>
                <a:spcPts val="799"/>
              </a:spcBef>
              <a:buNone/>
              <a:tabLst>
                <a:tab algn="l" pos="0"/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6:50:06Z</dcterms:created>
  <dc:creator>Ján Dvorák</dc:creator>
  <dc:description/>
  <dc:language>en-US</dc:language>
  <cp:lastModifiedBy>snoopy</cp:lastModifiedBy>
  <dcterms:modified xsi:type="dcterms:W3CDTF">2008-10-29T09:12:59Z</dcterms:modified>
  <cp:revision>9</cp:revision>
  <dc:subject/>
  <dc:title>Centrálne zdroje</dc:title>
</cp:coreProperties>
</file>