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2E94-FD87-478D-880F-C7F79AB2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E2D1-F819-4834-B20A-F0E5206B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5F3-8434-4A6F-9410-582278B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F511-ED5E-4E0D-A457-68376F6DB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4986-DC49-46E3-B131-A469D8C7E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0F9-E501-4944-AFAC-200AE129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BFAD-92C8-4817-A4F0-5F57502E1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D96-4DBE-4ACC-A3BD-FF5411A1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6216-8AA5-4455-A474-9F3C9277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D897-732A-4B12-A57B-218E7EF6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396C-64D0-40C7-8930-727A1C5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8429-2E99-46DA-8169-A69ED2BD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D9B9-1BCF-4FA8-85E0-6BF1D34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706C-0F5C-4AA5-A75C-EFD42DC9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A4C2-786E-4022-BE3A-0346E404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03DF-EB0C-4743-B85A-40AF5DE4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BF05-131F-4692-8E5C-0F5E9953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397-015B-4FF1-A98E-DAF25B76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627C-CA21-430E-A7A8-AF5C808E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8DF-2CE4-4AF1-967A-A6190F0B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F18-2FBD-4395-B01C-334A8A87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0FD-E5FC-4D53-BCE4-D86FF539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9DD-5DE0-4284-8BD5-E8B6C256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3CD-DCCA-4680-B2FB-15187A7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F3BB-978F-443C-9F0C-87F1DD7E71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7F8C-074C-4369-9460-D1BAFDFD6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RADIKÁLNÍ PŘEMĚNA PODNIKU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76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Hudcovský Tomáš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            </a:t>
            </a: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Bc. Nadim E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BĚR PROCESU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át procesům jmé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dej: od předběžného zájmu k obědnáv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cesní ma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3 kritéria výběru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NEFUNKČ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symptom, chorob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VÝZN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Tahoma"/>
              </a:rPr>
              <a:t>ZVLÁDNUTELNOS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(faktory: rozsah, nákl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+ POROZUMĚNÍ PROCESŮ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ozorování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Benchmarke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SAZENÍ (PŘESVĚDČENÍ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ŮVODOVÁ ZPRÁ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kontex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dnikatelský problé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roky tržního prostře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gnostická čá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áklady nečin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V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vky - soustřeďuje se na činno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zahrnuje měřitelné cíle a soustavu jeji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ěře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mění základní konkurenční podmínky v odvětv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ŮVODOVÁ ZPRÁVA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armaceutický podnik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jsme spokojeni s průběžnou dobou, kterou potřebujeme k vývoji a registraci nových léků ve Spojených státech a na hlavních mezinárodních trzí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i hlavní konkurenti mají podstatně kratší vývojové cykly, protože vybudovali rozsáhlé, vysoce pružné a globálně integrované výzkumné a vývojové organizace, které využívají jednotných pracovních postupů a společných informačních systém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kurenční trend nepřeje naší skupině menších a nezávislých výzkumných a vývojových organizací, které jsou umístěny v různých decentralizovaných výrobních podnicích po celém svět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lné konkurenční a ekonomické podněty nás nutí, abychom co nejrychleji přešli ke globálně integrovanému modelu. Každý týden, který ušetříme v procesu vývoje a registrace, prodlužuje komerční životnost naší patentové ochrany a představuje minimálně 1 mil. USD dodatečného zisku před zdaněním ročně, a to pro každý lék v naší nabíd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VIZE-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Federal Expres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ásilku doručíme do půl jedenácté následujícího dne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JBĚŽNĚJŠÍ CHYB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nažte se proces vylepšit, místo toho abyste ho změni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zaměřujte se na podnikové proce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Ignorujte vše s výjimkou redesignu proces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pomíjejte hodnoty a názory lid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gažujte se za dílčí, nepodstatné výsled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ončete příliš brz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dem zužte vymezení problému a rozsah reengineeringového projek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ipusťte, aby podniková kultura a postoje vedení zabránily zahájení reengineering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silujte o to, aby reengineering probíhal zdola naho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Do čela reengineeringového projektu postavte člověka, který reengineeringu nerozum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úměrně šetřete na zdrojích určených pro reengineer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ohřběte reengineering v přívalu každodenních úkol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ozptylujte energii na velký počet reengineeringových projektů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Pusťte se do reengineeringu, když generálnímu řediteli scházejí dva roky do důchodu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Nerozlišujte reengineering od jiných programů zdokonalování podnikových činnost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oustřeďte se výhradně na projektování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Snažte se realizovat reengineering tak, aniž byste se někoho dotkl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Ustupujte, když lidé projevují odpor k reengineeringovým změná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ffff"/>
                </a:solidFill>
                <a:latin typeface="Tahoma"/>
              </a:rPr>
              <a:t>Reengineeringový projekt protahujte co nejdél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ĚKUJEME ZA POZORNOS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ahoma"/>
              </a:rPr>
              <a:t>O ČEM TO BU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niha REENGINEERIN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učasná situ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g- cesta ke změ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Reengineerinové proces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y vyvolané reengineering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do provádí reenginee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ýběr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sazení (přesvědče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jběžnější chy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toři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Michael Hamm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James Cham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niha :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EENGINEERING – Radikální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                                   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měna fi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k vznikla koncepce reengineering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ví na vlastnostech: individualismu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éhání na sebe sama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ádro: DISKONTINUÁLNÍ MYŠLEN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OUČASNÁ SITU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vět Adama Smithe - paradigma včerejš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 -  3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STOM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ákazníci rozhoduj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MPETI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kurence se stává intenzivnějš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(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HAN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a se stává neustálou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REENGINEERING – CESTA KE ZMĚNĚ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eengineering= brát vše nebo 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nový začát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FORMÁLNÍ DEFINIC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líčová slov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ZÁSAD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RADIK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DRAMATICKÉ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- 3 druhy podnik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003366"/>
                </a:solidFill>
                <a:latin typeface="Tahoma"/>
              </a:rPr>
              <a:t>PROCES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NEJDŮLEŽITĚJŠ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ENGINEERINGOVÉ PROCES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ISTIK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ěkolik prací je spojeno do jed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covníci rozhoduj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oky procesu jsou vykonávány v přirozeném s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cesy mají variantní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áce se provádějí tam, kde je to nejrozumněj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kují se kontrolní opatření a nástro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malizují se smírčí jedn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žer případu je jediným kontaktním mí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važují hybridní centralizované/decentralizované opera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ZMĚNY </a:t>
            </a:r>
            <a:br>
              <a:rPr sz="4000"/>
            </a:br>
            <a:r>
              <a:rPr b="0" lang="cs-CZ" sz="4000" spc="-1" strike="noStrike">
                <a:solidFill>
                  <a:srgbClr val="e5ffff"/>
                </a:solidFill>
                <a:latin typeface="Tahoma"/>
              </a:rPr>
              <a:t>vyvolané reengineeringe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ĚNI S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ACOVNÍ JEDNOT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funkčních útvarů k procesním tým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CHARAKTER JEDNOTLIVÝCH PRACOVNÍCH ČINNOST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jednoduchých úkolů k mnohostranné prá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OLE LID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rolí podléhajících kontrole k rolím s větší pravomo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ŘÍPRAVA K VÝKONU PRÁ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d výcviku ke vzdělá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ZAMĚŘENÍ NA VÝKONOVÁ KRITERIA A ZMĚNY V ODMĚŇOV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činnosti k výsledk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KRITÉRIA POSTUP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výkonnosti ke schopno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HODNO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protektivních k produktivní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MANAŽEŘ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 dohlížečů v kouč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ORGANIZAČNÍ STRUK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d hierarchické k ploch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2000" spc="-1" strike="noStrike">
                <a:solidFill>
                  <a:srgbClr val="003366"/>
                </a:solidFill>
                <a:latin typeface="Tahoma"/>
              </a:rPr>
              <a:t>VEDOUC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e zapisovatelů výsledků ve vůdčí osob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KDO BUDE PROVÁDĚT REENGINEERING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ŮDČÍ OSOBNOST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(„lídr“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VLASTNÍK“ PROCES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Í TÝ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ŘÍDÍCÍ VÝB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Tahoma"/>
              </a:rPr>
              <a:t>REENGINEERINGOVÝ 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5724360" y="2276640"/>
            <a:ext cx="79236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068640"/>
            <a:ext cx="79236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4581360"/>
            <a:ext cx="79056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04000" y="4653000"/>
            <a:ext cx="647640" cy="1655640"/>
          </a:xfrm>
          <a:prstGeom prst="downArrow">
            <a:avLst>
              <a:gd name="adj1" fmla="val 50000"/>
              <a:gd name="adj2" fmla="val 6391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4:36:20Z</dcterms:created>
  <dc:creator>tomas</dc:creator>
  <dc:description/>
  <dc:language>en-US</dc:language>
  <cp:lastModifiedBy>tomas</cp:lastModifiedBy>
  <dcterms:modified xsi:type="dcterms:W3CDTF">2008-11-05T13:28:15Z</dcterms:modified>
  <cp:revision>27</cp:revision>
  <dc:subject/>
  <dc:title>RADIKÁLNÍ PŘEMĚNA PODNIKU</dc:title>
</cp:coreProperties>
</file>