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4AB8-D347-4E9B-BEE2-591783FE6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6FD6-85C5-41AB-9A96-ADFA2A72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25A2-FE13-47EC-8A70-58312C46E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1EF7-23D5-4EDE-B316-08F78C049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0CC1-CEE2-471E-8D41-CCE985F03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EA7E-7055-4B5B-8648-A9739FCD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5F87-8235-4871-9FCC-5EF40D24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7D8B-3649-4888-9D61-00F0BD5D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F107-078B-4372-858C-09B94681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309F-46D5-400A-9559-11874CD4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506F-33A9-4CF5-B326-241E6B76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08CE-B2E0-4B44-BEDC-6F743B3E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AB38-5F86-438E-A040-0FEF9054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1DF7-A6D3-41C4-8B01-5D6E8804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2BD8-2C38-494D-901A-A7A70127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E5A2-34DB-465E-B989-6C89E07F1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819F4-00FA-47D1-8668-EC48BED7B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0DF86-68B1-462A-8F38-DABF9CCD5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53DF7-5CE7-4676-B465-C7770FD3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44DFB-EED3-48D7-9D40-C5239271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D77F6-6115-4CA0-9BE2-AF95006F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179F8-F946-4718-B2BD-6CE7829A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F234-E465-47F0-B2EA-FA5ABD064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9FE0B-8C19-44C5-8271-E168ACDB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C3506-99AF-4DAF-ADD2-9381A864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6D3E7-E877-403F-82F9-73ABA7BF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D4F48-BA4B-4E1A-AE1D-EBAECAB2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ED4EA-86C2-4097-93EF-292E1A61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457DC-3450-4F9C-9BB4-E520F0404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DDDAF-2267-4E48-B53E-579ECBB92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9A4F-E8B6-4C6C-A2BB-4ACDC4E4E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7A02-883B-4812-8F02-B1E6650D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4097-34BF-4D53-9D74-1DA7B430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93ED-B69E-4420-ADF3-57FBCAA9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FAB7-0473-4F00-A8C0-9B960AD4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4AFE-B01B-4F6D-B5A3-EFBE7CEB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D9D3-B2A9-4DE8-A1F6-3177048818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8703-55C0-42D6-BE51-C21064F884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B3EF-D914-4F2C-8CE7-CB35A7470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RADIKÁLNA PREMENA PODNIKU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8436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Tereza Koklarov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Martin Ďub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Michal Dančiš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Reengineering v súčasnosti</a:t>
            </a: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400"/>
            </a:br>
            <a:br>
              <a:rPr sz="2400"/>
            </a:br>
            <a:r>
              <a:rPr b="0" lang="sk-SK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Agenda 21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Podľa Hammera kniha predstavuje pragmaticky zameranú reakciu na udalosti, ktoré zmenili tvár dnešného sveta podnikania 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poskytuje manažérom niečo ako návody a pravidlá na to, ako prežiť v ekonomike dvadsiateho prvého storočia, v ktorej už nerozhodujú podniky ponúkajúce svoje výrobky a služby ale zákazníci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 rot="1891200">
            <a:off x="7596000" y="1052640"/>
            <a:ext cx="10062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Reengineering v súčasnost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odľa rozsahu, ktorý reštrukturalizačné aktivity v podniku zasiahnu, rozlišuje J. Veber nasledujúce úrovne reengineeringu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200" spc="-1" strike="noStrike">
                <a:solidFill>
                  <a:srgbClr val="000000"/>
                </a:solidFill>
                <a:latin typeface="Tahoma"/>
              </a:rPr>
              <a:t>WPR – Work Process Reengine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(zásadné zmeny, ktoré sa dotýkajú určitej časti podniku (projekcie, výroby v jednej prevádzke), ale ktoré podstatne neprekračujú hranice daného útvaru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200" spc="-1" strike="noStrike">
                <a:solidFill>
                  <a:srgbClr val="000000"/>
                </a:solidFill>
                <a:latin typeface="Tahoma"/>
              </a:rPr>
              <a:t>BPR – </a:t>
            </a:r>
            <a:r>
              <a:rPr b="0" i="1" lang="sk-SK" sz="2200" spc="-1" strike="noStrike">
                <a:solidFill>
                  <a:srgbClr val="ff0000"/>
                </a:solidFill>
                <a:latin typeface="Tahoma"/>
              </a:rPr>
              <a:t>Business Process Reenginee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(zmeny, ktoré sa dotýkajú celého podniku; v tomto prípade ide o realizáciu zásadných zmien, ktoré menia organizačnú architektúru firmy s cieľom posilniť integračné a synergické efekty v jej chovaní, obzvlášť tak vo vzťahu k zákazníkovi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200" spc="-1" strike="noStrike">
                <a:solidFill>
                  <a:srgbClr val="000000"/>
                </a:solidFill>
                <a:latin typeface="Tahoma"/>
              </a:rPr>
              <a:t>TBR – Total Business Reenginee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(iniciovanie a realizácia zmien, ktoré sa týkajú nielen daného podniku ale aj jeho relevantného okolia, obzvlášť tak potom dodávateľov, poprípade i odberateľov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Riadenie zmeny:</a:t>
            </a:r>
            <a:br>
              <a:rPr sz="4000"/>
            </a:b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Kto uskutočňuje reengineering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174760"/>
            <a:ext cx="7772400" cy="39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ODCOVSKÁ OSOBNOSŤ („líder“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VLASTNÍK“ PROCES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EENGINEERINGOVÝ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IADIACI VÝB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EENGINEERINGOVÝ CÁ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7236000" y="2492280"/>
            <a:ext cx="790560" cy="3600720"/>
          </a:xfrm>
          <a:prstGeom prst="downArrow">
            <a:avLst>
              <a:gd name="adj1" fmla="val 50000"/>
              <a:gd name="adj2" fmla="val 11386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Lov na reengineeringové príležitost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ôkladný výber procesov – 3 kritériá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NEFUNKČNOSŤ: Ktoré procesy majú najväčšie problémy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VÝZNAM: Ktoré procesy majú najväčší vplyv na zákazníkov firm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ZVLÁDNUTEĽNOSŤ: Ktoré z procesov sú v súčasnosti pre úspešný redesign najvhodnejši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Odpoveď: N E F U N K Č N É  P R O C E S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...definované pojmy ako </a:t>
            </a:r>
            <a:r>
              <a:rPr b="0" lang="sk-SK" sz="2000" spc="-1" strike="noStrike">
                <a:solidFill>
                  <a:srgbClr val="ff0000"/>
                </a:solidFill>
                <a:latin typeface="Tahoma"/>
              </a:rPr>
              <a:t>symptómy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 nefunkčnosti a porúch procesov a </a:t>
            </a:r>
            <a:r>
              <a:rPr b="0" lang="sk-SK" sz="2000" spc="-1" strike="noStrike">
                <a:solidFill>
                  <a:srgbClr val="ff0000"/>
                </a:solidFill>
                <a:latin typeface="Tahoma"/>
              </a:rPr>
              <a:t>choroby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, ktoré sú obvykle ich príčinam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1042920" y="4869000"/>
            <a:ext cx="1008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íležitosti pre re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95280" y="765000"/>
          <a:ext cx="8229600" cy="5743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2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ptó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rob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zívna výmena informácií, nadbytočnosť údajov a ich prepisovan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dôvodná fragmentarizácia prirodzeného procesu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ásoby, rezervy a ďalšie aktív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émová neschopnosť čeliť neisto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soký podiel previerkových a kontrolných činností v porovnaní s činnosťami, v ktorých sa vytvárajú hodnot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gmentarizác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avy a opakované prá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dostatočná spätná väzba medzi jednotlivými článkam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ložitosť, výnimky a špeciálne príp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loženie rozvoja na príliš jednoduchom základ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333399"/>
                </a:solidFill>
                <a:latin typeface="Tahoma"/>
              </a:rPr>
              <a:t>Informačné technológie a ich význam pri reengineeringu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súčasť každého reengineeringového úsil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umožňuje previesť reengineering podnikových proceso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ri nesprávnom použití iba posilní staré schémy a nesprávny zaužívaný spôsob myslen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k efektívnemu využitiu – potreba myslieť induktívn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Miesto: „Ako využiť novú informačnú technológiu na zlepšenie,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zefektívnenie danej činnosti alebo daného procesu, ktorý už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vykonávame?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je potrebné pýtať sa: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Ako využiť informačnú technológiu na to aby sme mohli 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vykonávať veci, ktoré sme doteraz nevykonávali?“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371628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ýznamná rola informačnej technoló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57200" y="620640"/>
          <a:ext cx="8229600" cy="60595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é pravid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lomová technológ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é pravid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ácie môžu byť v jednom čase dostupné na jedinom mies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ieľané databáz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ácie môžu byť súčasne prítomné všade kde sú potrebn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a experti môžu zvládnuť komplexnú prácu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tné systém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verzalista môže vykonávať prácu expert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žéri rozhodujú o všetko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stroje na podporu rozhodovania (databázový prístup, software pre modelovani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hodovanie je súčasťou každej pracovnej funkc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jlepší kontakt s potenciálnym zákazníkom je osobný kontak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aktívny videodisk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jlepší kontakt s potenciálnym zákazníkom je efektívny kontak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ológia je jedným z najviac využívaných dátových formátov pri uskutočňovaní vnútroštátnych či medzinárodných elektronických obchodných transakcií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pierová dokumentáci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ektronické dokumen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ynulá komunikácia medzi aplikáciami rôznych nezávislých obchodných spoločností, organizácií či vládnych útvarov prostredníctvom vzájomnej výmeny štandardných štruktúrovaných dokladov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4140360" y="3933720"/>
            <a:ext cx="86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rínosy E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íženie objemu papierovania (vytváranie a zakladanie dokumento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ššia presnosť vzhľadom k obmedzeniu manuálneho spracov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ššia rýchlosť prenosu objednávok a ďalších dá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medzenie kancelárskej práce/administratívy pri zadávaní dát, zakladaní, zasielaní dokumentov poštou  a pri súvisiacich činnosti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žnosť zaoberať sa strategickými záležitosťami v oblasti nákupu (pretože administratívnym úkonom je možné venovať menej čas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ížené náklady na podávanie faktúr, objednávok a ich spracova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lepšená dostupnosť informácií vzhľadom k urýchleniu avizovania a oznamovania o zásielk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kové zníženie objemu práce a zvýšená informovanosť i iných oddelení prostredníctvom napojení EDI na ďalšie systémy, ako napríklad systém sledovania zásob pomocou čiarových kódov alebo elektronický prevod peňaz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íženie stavu zásob vzhľadom k zlepšenej presnosti a skráteniu doby cyklu objednáv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oužité zdroj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BLAŽEK, L., LANDA, M. </a:t>
            </a:r>
            <a:r>
              <a:rPr b="0" i="1" lang="sk-SK" sz="1600" spc="-1" strike="noStrike">
                <a:solidFill>
                  <a:srgbClr val="000000"/>
                </a:solidFill>
                <a:latin typeface="Tahoma"/>
              </a:rPr>
              <a:t>Ekonomika a řízení podniku. </a:t>
            </a: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1. vyd. Brno : Masarykova univerzita, 2006. 96 s. ISBN 80-210-3960-4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ČÁSTEK, O. Materiály Procesní analýza k předmětu Provozní management. Brno : Ekonomicko-správní fakulta, 2006. 19 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DRDLA, M., RAIS, K. </a:t>
            </a:r>
            <a:r>
              <a:rPr b="0" i="1" lang="sk-SK" sz="1600" spc="-1" strike="noStrike">
                <a:solidFill>
                  <a:srgbClr val="000000"/>
                </a:solidFill>
                <a:latin typeface="Tahoma"/>
              </a:rPr>
              <a:t>Řízení změn ve firmě - reengineering: jak vybudovat úspěšnou firmu.</a:t>
            </a: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 1. vyd. Praha : Computer Press, 2001. 144 s. ISBN 8072264117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HAMMER, M. </a:t>
            </a:r>
            <a:r>
              <a:rPr b="0" i="1" lang="sk-SK" sz="1600" spc="-1" strike="noStrike">
                <a:solidFill>
                  <a:srgbClr val="000000"/>
                </a:solidFill>
                <a:latin typeface="Tahoma"/>
              </a:rPr>
              <a:t>Agenda 21: Co musí každý podnik udělat pro úspěch v 21. století</a:t>
            </a: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. Překl. Hana Škapová. 1. vyd. Praha : Management Press, 2002. 62 s. ISBN 8072610740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HAMMER, M., CHAMPY, J. </a:t>
            </a:r>
            <a:r>
              <a:rPr b="0" i="1" lang="sk-SK" sz="1600" spc="-1" strike="noStrike">
                <a:solidFill>
                  <a:srgbClr val="000000"/>
                </a:solidFill>
                <a:latin typeface="Tahoma"/>
              </a:rPr>
              <a:t>Reengineering - radikální proměna firmy: manifest revoluce v podnikání.</a:t>
            </a: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 3. vyd. Praha : Management Press, 2000. 212 s. ISBN 8072610287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LAMBERT, D. M., STOCK, J. R., ELLRAM, L. M.: </a:t>
            </a:r>
            <a:r>
              <a:rPr b="0" i="1" lang="sk-SK" sz="1600" spc="-1" strike="noStrike">
                <a:solidFill>
                  <a:srgbClr val="000000"/>
                </a:solidFill>
                <a:latin typeface="Tahoma"/>
              </a:rPr>
              <a:t>Logistika</a:t>
            </a: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, Praha: Computer Press, 2000, 589 s. ISBN 80-7226-2221-1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VEBER, J. a kol. </a:t>
            </a:r>
            <a:r>
              <a:rPr b="0" i="1" lang="sk-SK" sz="1600" spc="-1" strike="noStrike">
                <a:solidFill>
                  <a:srgbClr val="000000"/>
                </a:solidFill>
                <a:latin typeface="Tahoma"/>
              </a:rPr>
              <a:t>Management: základy, prosperita, globalizace.</a:t>
            </a: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 1. vyd. Praha : Management Press, 2000. 700 s. ISBN 8072610295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sah prezentáci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Základné pojmy  (reengineering, proc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Reengineering podnikových procesov v súčasnost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Michael Hammer a jeho publikác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Kto uskutočňuje re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Reengineeringové príležit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plyv informačných technológi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lnSpc>
                <a:spcPct val="90000"/>
              </a:lnSpc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Technológia E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ĎAKUJEME ZA POZORNOSŤ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Podnikový proces je logicky a sekvenčne usporiadaný súbor transformácií majúcích spoločný cieľ (technologických operácií, riadiacich aktivít, postupových krokov, činností) kde výstup z predošlej transformácie je prepojený so vstupom do nasledujúcej transformácie.“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Vstupným signálom je nejaká zákaznícka potreba, ta spustí onú postupnosť sekvenčných aktivít, ktorá podľa daných pravidiel využije či spotrebuje určité podnikové zdroje a vytvorí produkt alebo službu, ktorý/ktorá na výstupe uspokojí počiatočnú zákazníkovu potrebu.“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sy v podnik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adiace / hlavné / vedľajšie / podporné / zdieľan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árne / kľúčové / podporné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Vstup proces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objekt, resp. jeho stav pred pôsobením skúmaného procesu. Stáva sa predmetom pôsobenia proces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Výstup proces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objekt, resp. jeho stav po pôsobení tohto proces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Reenginee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Definícia Hammera &amp; Champyh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Reengineering v podstate znamená </a:t>
            </a:r>
            <a:r>
              <a:rPr b="0" lang="sk-SK" sz="2400" spc="-1" strike="noStrike">
                <a:solidFill>
                  <a:srgbClr val="ff0000"/>
                </a:solidFill>
                <a:latin typeface="Tahoma"/>
              </a:rPr>
              <a:t>zásadné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prehodnotenie a </a:t>
            </a:r>
            <a:r>
              <a:rPr b="0" lang="sk-SK" sz="2400" spc="-1" strike="noStrike">
                <a:solidFill>
                  <a:srgbClr val="ff0000"/>
                </a:solidFill>
                <a:latin typeface="Tahoma"/>
              </a:rPr>
              <a:t>radikálnu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rekonštrukciu (redesign) podnikových </a:t>
            </a:r>
            <a:r>
              <a:rPr b="0" lang="sk-SK" sz="2400" spc="-1" strike="noStrike">
                <a:solidFill>
                  <a:srgbClr val="ff0000"/>
                </a:solidFill>
                <a:latin typeface="Tahoma"/>
              </a:rPr>
              <a:t>procesov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tak, aby mohlo byť dosiahnuté </a:t>
            </a:r>
            <a:r>
              <a:rPr b="0" lang="sk-SK" sz="2400" spc="-1" strike="noStrike">
                <a:solidFill>
                  <a:srgbClr val="ff0000"/>
                </a:solidFill>
                <a:latin typeface="Tahoma"/>
              </a:rPr>
              <a:t>dramatické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zdokonalenie z hľadiska kritických meradiel výkonnosti ako sú náklady, kvalita, služby a rýchlosť.“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...previesť reengineering znamená odhodiť staré systémy  a začať odznovu. Jeho súčasťou je návrat k počiatku a nájdenie lepších spôsobov prá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k-SK" sz="3600" spc="-1" strike="noStrike">
                <a:solidFill>
                  <a:srgbClr val="333399"/>
                </a:solidFill>
                <a:latin typeface="Tahoma"/>
              </a:rPr>
              <a:t>Reengineering – radikálna premena </a:t>
            </a:r>
            <a:r>
              <a:rPr b="0" lang="sk-SK" sz="3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k-SK" sz="3600" spc="-1" strike="noStrike">
                <a:solidFill>
                  <a:srgbClr val="333399"/>
                </a:solidFill>
                <a:latin typeface="Tahoma"/>
              </a:rPr>
              <a:t>firm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728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-50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Michael Hammer -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ôvodca koncepcie reengineeringu podnikových činností a zakladateľ reengineeringového hnu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5800" indent="-50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Hammerova formálna definícia reengineeringu sa opiera o štyri charakteristické kľúčové slová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5800" indent="-50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0000"/>
                </a:solidFill>
                <a:latin typeface="Tahoma"/>
              </a:rPr>
              <a:t>zásadné</a:t>
            </a:r>
            <a:r>
              <a:rPr b="0" i="1" lang="sk-SK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 ako zásadné prehodnotenie podnikových proceso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5800" indent="-50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0000"/>
                </a:solidFill>
                <a:latin typeface="Tahoma"/>
              </a:rPr>
              <a:t>radikálna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, ako radikálna rekonštrukcia podnikových proceso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5800" indent="-50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0000"/>
                </a:solidFill>
                <a:latin typeface="Tahoma"/>
              </a:rPr>
              <a:t>dramatické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, ako dramatické zdokonalen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5800" indent="-50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0000"/>
                </a:solidFill>
                <a:latin typeface="Tahoma"/>
              </a:rPr>
              <a:t>procesy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, ako najdôležitejšie slovo tejto definíci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333399"/>
                </a:solidFill>
                <a:latin typeface="Tahoma"/>
              </a:rPr>
              <a:t>Čo nie je reengineering</a:t>
            </a:r>
            <a:br>
              <a:rPr sz="4000"/>
            </a:br>
            <a:r>
              <a:rPr b="0" lang="sk-SK" sz="3200" spc="-1" strike="noStrike">
                <a:solidFill>
                  <a:srgbClr val="333399"/>
                </a:solidFill>
                <a:latin typeface="Tahoma"/>
              </a:rPr>
              <a:t>(negatívne vymedzenie reengineeringu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stotožňovanie reengineeringu s rôznymi formami vylepšovania už existujúcich podnikových činností a procesov (reštrukturalizácia týchto činností, ich automatizácia, zmena rozsahu výrobnej kapacity alebo aj zvyšovanie kvality vyrábaných produktov či ponúkaných služie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stotožňovanie s reorganizáciou organizačných štruktúr, či s obmedzovaním byrokratickej moci v podnik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333399"/>
                </a:solidFill>
                <a:latin typeface="Tahoma"/>
              </a:rPr>
              <a:t>Reengineering – cesta k zmene.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roblémy v podniku nevyplývajú z jeho zlých organizačných štruktúr ale zo štruktúr procesných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...preto je pri prevádzaní reengineeringu potrebné zabudnúť na predpoklady vychádzajúce z paradigmy Adama Smitha, ako sú hierarchické riadenie či úspory z rozsahu a deľba práce a začať hľadať úplné nové možnosti organizácie prá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1916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" y="2349360"/>
            <a:ext cx="718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d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Michaelo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C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 S T O M E R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zákazníci rozhodujú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C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 M P E T I T I O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konkurencia sa stáva intenzivnejšo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87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C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 A N G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1304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zmena sa stáva neustálou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475080" cy="42386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148360" y="260280"/>
            <a:ext cx="3538440" cy="4176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067280" y="2565360"/>
            <a:ext cx="93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258920" y="4653000"/>
            <a:ext cx="158436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18:27Z</dcterms:created>
  <dc:creator>Administrator</dc:creator>
  <dc:description/>
  <dc:language>en-US</dc:language>
  <cp:lastModifiedBy>Administrator</cp:lastModifiedBy>
  <dcterms:modified xsi:type="dcterms:W3CDTF">2008-11-11T02:13:28Z</dcterms:modified>
  <cp:revision>9</cp:revision>
  <dc:subject/>
  <dc:title>Rdikálna premena podniku</dc:title>
</cp:coreProperties>
</file>