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6CF-CA8A-4083-B48A-B9281AC5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487-DAF4-44A9-8607-DB07BEBE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243-E5E0-4ACA-9D86-7FFD57FF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502-9411-4723-B97C-EFF6C3F9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15A-F55D-4476-BCE9-8666D3D0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7B0-97F8-4959-A9FF-D5DF7ADF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2C1-D7BD-405E-BA4D-F0B5FD03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CBD8-23EA-4BDC-95AE-F70EEDB6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2B1-38B4-46F5-B31C-8CF25DA0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B18-DE32-436D-AFBD-2DE0A2C4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0B4-217E-4C63-B17D-9E9A7C2F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3F5-8D0D-4FC3-9CCD-7D87A1FF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5C26-C33F-4DD7-8824-F12F04D9B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rava pre ž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76280"/>
            <a:ext cx="6400800" cy="33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 posledných 30 rokov sa množstvo kalórii, ktoré sú k dispozícii každému zvýšilo o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radičná agrárna kultúra je nahradená managerskou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íroda ako učiteľ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Bio-intenzívne mini f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ávrat k tradíciá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hlboká or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kompostov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rastliny blízko seba ale v širokých záhono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- zmes druhov rastlín ako ochr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émy 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 keď vody sú ¾ plochy Zeme, sladkej vody je má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Žiadna stratégia ponuky nedokáže držať krok s rastom dopy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yba spočíva vo využívaní kvalitnej vody vš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diné riešenie: šetriť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ógia úsp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ľnohospodárstvo využíva 2 x toľko čo iné odvet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ôležité je vzdel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okrok v zavlažo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ývoj plod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ác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využívanie úsporných systém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ozdelenie v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líma – ako uchovať zmysel vecí a ešte aj zarobi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tepľovanie Z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aftárske spoločnosti investujú do obnoviteľ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aznamenali výrazný rozm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eterná (26% /r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olárna  (23-42% /r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Jediný spôsob ako budú rozv. krajiny schopné reálne zvyšovať svoje štandardy, je vyhnúť sa hýrivým praktikám industriálnych krají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Ľudský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Mestá veľmi často zisťujú, že príčinou ich problémov sú zlé rozhodnutia z minu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Experiment Curiti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ist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emysel a miestne spoločen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eti, zdravie, odpad a výž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zdelanie, družiny a zamestn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Identita a ľudská dôstoj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 pohľady na základné ľudské problé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Modr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túpenci voľného trhu vykazujú technologický optimiz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Červen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zastupujú rôzne formy socializmu (ich názor podporuje chaos a hospod. výsled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elený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ústreďujú sa na ekosystém a lepšie porozumenie nakoľko ekonomika ešte môže rá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Biely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– sú syntetizátory a aplikujú všetky systém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3:34:22Z</dcterms:created>
  <dc:creator>Maťo</dc:creator>
  <dc:description/>
  <dc:language>en-US</dc:language>
  <cp:lastModifiedBy>Maťo</cp:lastModifiedBy>
  <dcterms:modified xsi:type="dcterms:W3CDTF">2008-11-03T23:55:38Z</dcterms:modified>
  <cp:revision>2</cp:revision>
  <dc:subject/>
  <dc:title>Potrava pre život</dc:title>
</cp:coreProperties>
</file>