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C499-590E-4371-B7F0-57ACB67F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068-C2BF-4AF0-92C5-7B8463D9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7CA9F-23A0-4EC0-BBBE-5327CFFF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92739-A818-4569-9832-352F1521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37848-88B0-4F6B-A274-FA848F9B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A8B35-1434-4ABE-9B12-D4E9046E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635F5-CACE-40AD-960A-CA40DD7C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EBE99-7AE4-4D1E-AA29-FAD9C513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7B0F2-EA47-4C05-8EC2-7FF2EF27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B1675-525B-4772-B5AB-7C6FE536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9FFC8-92E5-421A-927F-F8646CDE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1C4-EC2A-4162-8295-41C8445B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6C9-16B9-4360-ABF7-07988314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D24E-3791-4CF8-8C57-04F2278C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DF15-F9B7-4188-A15F-3ABA5F32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A387-C793-48BF-9214-94A33611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6494-E8CE-41D0-92CF-D734E1E2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AB8E-F68C-4E25-A2C0-F179FB33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99DB-3118-4B9E-A361-96701A88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EBCE-CD20-4F5A-9119-FE53AD6C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BB4E-2E80-45B5-A741-B3196F0D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B384-8759-4C4B-91FE-6DFFFF3C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8781-2CC3-4DEF-80A4-AD9E5681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5C69-82EC-4D97-87EC-4BEA690A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C590-4016-452C-8EBA-2ABB4059E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067E-692F-48FF-AA1C-FC676941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5621B-97F2-4011-B22A-C7C325A3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24DDF-E558-4733-9F4F-DFDE5967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AF3CD-18B7-4837-908D-EFDB3307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87CB8-50FA-4F97-AA51-E5BA4E8E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51A88-9873-4519-A43C-FA66EB1F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E75-9C3E-469F-8DD0-4804E7AA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DB59D-70DA-40D5-9B6D-EA517255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538D-9EB8-4DDC-B782-DD59289A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65BAB-02CA-4075-A791-A4969A6D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32CD4-E40F-4F90-9E60-6031B07F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82EEF-565F-461E-B2EF-92800A1F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B5700-1455-463B-A611-F8E1FEC5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8FF66-A76E-484D-AA45-43AB0F82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18673-2CCD-4DC0-BF65-DA66B3E7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E467F-D20E-426F-ADE4-D0994B17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EC93A-D96B-4E64-BED7-8E5E7A22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5F27-726C-4FAA-8115-F2FFDE2E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3944B-869A-4AB3-A2FE-D3C02DC2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3A9CF-0E26-43BF-BCDF-22A81F90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65AF-EDA3-4554-83BC-1F274C27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E81AB-AD97-4B66-B295-A60B281A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99845-FEEC-4F50-A349-10E1EE11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1C432-BFAC-4427-873F-BD21763F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B737A-1DD2-409E-9D1C-E490A3F3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6F319-A2ED-4FEC-93A7-5A7F5295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4CB78-A6A6-4EA5-B41B-3FA2168FC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D970A-2F1B-42D4-832B-FAC99611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CAE-197A-46C8-B306-D20CCD5A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4332D-B271-4D18-9FA1-F49A3D06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AFDE7-3D95-470E-BA44-B186CE47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EE6A5-8285-44B1-A806-8F6D1C89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11006-5482-4B23-8B52-B8CF93B0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8182A-12B6-4131-ABC5-47CBA36B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1F549-24BF-41EF-A7BE-B4180FE0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4E6AF-D973-47B7-8714-D7E0AB47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DA3D2-034A-47FA-A522-FE33B0F8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68EAE-F0EA-49B0-8D2B-70C98C3A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730C6-65F2-441E-9BF5-E1CED639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D42-3D25-40EF-B2AD-C1530C5E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92772-3660-42AE-9998-05D2964E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367A8-2051-4388-AF79-BA012195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891E4-021B-4A8D-843F-822AD290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C083F-79DF-427C-8749-24129485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32BA2-86EE-42E2-BEA8-D02B5D8E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3851C-25A4-4D1B-80DB-2834A2CE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B8B8B-FA2C-4C4B-A405-D3A8C7EF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B7402-C280-4721-9D91-75F22FE7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4E46F-D59B-45C7-A7D2-9B9B1F26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48BF3-D9C7-4BEC-A2B2-05FCB4CA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E34-B27B-49A7-9A42-5AC22DB5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2161E-8832-4A04-94FC-8F340012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20A00-C9A6-490E-A778-005DD280A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EF041-4C76-4A91-85DD-3D301585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0C1FB-4840-4F7F-85CD-69792C14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819A0-F4D2-434B-A668-863FB4B1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E7681-D05D-4FAB-AAC9-BE4AA01C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6610C-73B3-42E9-ACF6-44C53B50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FD55C-1B07-4FB9-B0F0-8EFE460D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9BA47-B48F-4DC8-A5F7-27AA63F7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6434D-E5FC-4663-A38E-2E57B7D7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5F8-BA48-4F72-84F9-16F9455F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62FCC-C85A-4DE5-A73B-A30D1629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7EFA0-EF45-4BA1-A138-419FB354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C6A68-7F3F-4E4C-96CE-683F9062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E6F9D-852D-4191-AECC-5C466CCA2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3C767-6B5A-45BF-AAEE-E6C3042F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8F409-FF97-418F-AAE9-1909DCB0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756A2-50EE-49DE-8005-6C0A70C4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E7504-EE61-4610-BAF9-98CC7F8D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EB583-AA3B-4073-9770-153C2F49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19E40-8CD5-49B1-A09A-3984CA46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1F6-B207-4744-A454-C7327746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F6544-A4E6-45BE-9AFC-FA9E95ED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F3CAC-BADE-442B-B1BA-D1A9617E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E3400-EAAA-4C20-B6E5-3A8C41BF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4D945-EBC1-4095-953A-6A2E6B14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DB542-AF75-4424-A9D4-192255E9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5346E-461B-4955-932D-03FE98C2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E45F0-3A21-4D27-84D0-7DD22D59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73B4B-3569-4522-B2B6-31A5F2DE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2FC71-8280-4144-883C-288D1ABA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C77D1-B3B3-430D-9EF1-3B6E5FBC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7482-4DF9-4D40-8578-6CE4BABCB573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ovací čára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11CF-D132-4FC3-8839-21D432D31E08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E018-EDD9-4A2B-81A8-039039F47ABE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ovací čára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7162-4615-4143-A770-CC2B0DB88888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Přímá spojovací čára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2B55-CF8F-4755-887F-B00424B0918F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E768-3DB8-4A91-BFE1-A2D44F8B2E81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Přímá spojovací čára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Přímá spojovací čára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1924-46CE-43AA-AEF0-BA547C5BD1C6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9273-9513-4557-957B-1A0EB415989E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5EF1-27B4-44A6-861F-B6DBFA0954B1}" type="slidenum">
              <a:rPr b="0" lang="cs-CZ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443329"/>
              </a:solidFill>
              <a:latin typeface="Franklin Gothic Book"/>
            </a:endParaRPr>
          </a:p>
        </p:txBody>
      </p:sp>
    </p:spTree>
  </p:cSld>
  <p:transition>
    <p:pull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5717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ůmyslová revolu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Materiální možnosti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Přírodní kapitá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ová průmyslová revoluc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Meze prosperity, pokrok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Ceny komodit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9" descr="C:\Users\admin\Desktop\EIAManufacture1c.gif"/>
          <p:cNvPicPr/>
          <p:nvPr/>
        </p:nvPicPr>
        <p:blipFill>
          <a:blip r:embed="rId2"/>
          <a:stretch/>
        </p:blipFill>
        <p:spPr>
          <a:xfrm>
            <a:off x="4572000" y="1714680"/>
            <a:ext cx="4295880" cy="199044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Kapitál a jeho typ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Degenerat. proces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telekt. Posun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Diagram 3" descr=""/>
          <p:cNvPicPr/>
          <p:nvPr/>
        </p:nvPicPr>
        <p:blipFill>
          <a:blip r:embed="rId2"/>
          <a:stretch/>
        </p:blipFill>
        <p:spPr>
          <a:xfrm>
            <a:off x="3041640" y="2567160"/>
            <a:ext cx="6108840" cy="4078080"/>
          </a:xfrm>
          <a:prstGeom prst="rect">
            <a:avLst/>
          </a:prstGeom>
          <a:ln w="0">
            <a:noFill/>
          </a:ln>
        </p:spPr>
      </p:pic>
      <p:sp>
        <p:nvSpPr>
          <p:cNvPr id="407" name="Zahnutá šipka dolů 4"/>
          <p:cNvSpPr/>
          <p:nvPr/>
        </p:nvSpPr>
        <p:spPr>
          <a:xfrm rot="20115000">
            <a:off x="3700440" y="3028680"/>
            <a:ext cx="2000160" cy="714240"/>
          </a:xfrm>
          <a:custGeom>
            <a:avLst/>
            <a:gdLst>
              <a:gd name="textAreaLeft" fmla="*/ 433080 w 2000160"/>
              <a:gd name="textAreaRight" fmla="*/ 1477800 w 200016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54" hR="21600" stAng="10800000" swAng="5400000"/>
                <a:lnTo>
                  <a:pt x="11283" y="0"/>
                </a:lnTo>
                <a:arcTo wR="9354" hR="21600" stAng="-5400000" swAng="3551650"/>
                <a:lnTo>
                  <a:pt x="21303" y="16200"/>
                </a:lnTo>
                <a:lnTo>
                  <a:pt x="19672" y="21600"/>
                </a:lnTo>
                <a:lnTo>
                  <a:pt x="17446" y="16200"/>
                </a:lnTo>
                <a:lnTo>
                  <a:pt x="18410" y="16200"/>
                </a:lnTo>
                <a:arcTo wR="9354" hR="21600" stAng="-1848350" swAng="-3397426"/>
                <a:lnTo>
                  <a:pt x="10318" y="115"/>
                </a:lnTo>
                <a:arcTo wR="9354" hR="21600" stAng="-5554224" swAng="-5245776"/>
                <a:close/>
              </a:path>
              <a:path fill="darkenLess" w="21600" h="21600">
                <a:moveTo>
                  <a:pt x="0" y="21600"/>
                </a:moveTo>
                <a:arcTo wR="9354" hR="21600" stAng="10800000" swAng="5400000"/>
                <a:lnTo>
                  <a:pt x="9354" y="0"/>
                </a:lnTo>
                <a:arcTo wR="9354" hR="21600" stAng="-5400000" swAng="154224"/>
                <a:lnTo>
                  <a:pt x="10318" y="115"/>
                </a:lnTo>
                <a:arcTo wR="9354" hR="21600" stAng="-5554224" swAng="-5245776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ahnutá šipka doprava 5"/>
          <p:cNvSpPr/>
          <p:nvPr/>
        </p:nvSpPr>
        <p:spPr>
          <a:xfrm rot="5996400">
            <a:off x="7369200" y="2327760"/>
            <a:ext cx="714600" cy="1785960"/>
          </a:xfrm>
          <a:custGeom>
            <a:avLst/>
            <a:gdLst>
              <a:gd name="textAreaLeft" fmla="*/ 95760 w 714600"/>
              <a:gd name="textAreaRight" fmla="*/ 618840 w 714600"/>
              <a:gd name="textAreaTop" fmla="*/ 379440 h 1785960"/>
              <a:gd name="textAreaBottom" fmla="*/ 131724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80" stAng="-5400000" swAng="-5400000"/>
                <a:lnTo>
                  <a:pt x="0" y="11340"/>
                </a:lnTo>
                <a:arcTo wR="21600" hR="9180" stAng="10800000" swAng="-3523212"/>
                <a:lnTo>
                  <a:pt x="16200" y="21308"/>
                </a:lnTo>
                <a:lnTo>
                  <a:pt x="21600" y="19440"/>
                </a:lnTo>
                <a:lnTo>
                  <a:pt x="16200" y="16988"/>
                </a:lnTo>
                <a:lnTo>
                  <a:pt x="16200" y="18068"/>
                </a:lnTo>
                <a:arcTo wR="21600" hR="9180" stAng="7276788" swAng="3350269"/>
                <a:lnTo>
                  <a:pt x="150" y="10260"/>
                </a:lnTo>
                <a:arcTo wR="21600" hR="9180" stAng="-10627057" swAng="5227057"/>
                <a:close/>
              </a:path>
              <a:path fill="darkenLess" w="21600" h="21600">
                <a:moveTo>
                  <a:pt x="21600" y="0"/>
                </a:moveTo>
                <a:arcTo wR="21600" hR="9180" stAng="-5400000" swAng="-5400000"/>
                <a:lnTo>
                  <a:pt x="0" y="9180"/>
                </a:lnTo>
                <a:arcTo wR="21600" hR="9180" stAng="10800000" swAng="-172943"/>
                <a:lnTo>
                  <a:pt x="150" y="10260"/>
                </a:lnTo>
                <a:arcTo wR="21600" hR="9180" stAng="-10627057" swAng="5227057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Zahnutá šipka doprava 7"/>
          <p:cNvSpPr/>
          <p:nvPr/>
        </p:nvSpPr>
        <p:spPr>
          <a:xfrm rot="8295000">
            <a:off x="6891120" y="3198960"/>
            <a:ext cx="714240" cy="1814400"/>
          </a:xfrm>
          <a:custGeom>
            <a:avLst/>
            <a:gdLst>
              <a:gd name="textAreaLeft" fmla="*/ 95400 w 714240"/>
              <a:gd name="textAreaRight" fmla="*/ 618840 w 714240"/>
              <a:gd name="textAreaTop" fmla="*/ 385200 h 1814400"/>
              <a:gd name="textAreaBottom" fmla="*/ 1334520 h 18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74" stAng="-5400000" swAng="-5400000"/>
                <a:lnTo>
                  <a:pt x="0" y="11300"/>
                </a:lnTo>
                <a:arcTo wR="21600" hR="9174" stAng="10800000" swAng="-3137852"/>
                <a:lnTo>
                  <a:pt x="14863" y="21142"/>
                </a:lnTo>
                <a:lnTo>
                  <a:pt x="21600" y="19410"/>
                </a:lnTo>
                <a:lnTo>
                  <a:pt x="14863" y="16762"/>
                </a:lnTo>
                <a:lnTo>
                  <a:pt x="14863" y="17889"/>
                </a:lnTo>
                <a:arcTo wR="21600" hR="9174" stAng="7662148" swAng="2967662"/>
                <a:lnTo>
                  <a:pt x="146" y="10236"/>
                </a:lnTo>
                <a:arcTo wR="21600" hR="9174" stAng="-10629810" swAng="5229810"/>
                <a:close/>
              </a:path>
              <a:path fill="darkenLess" w="21600" h="21600">
                <a:moveTo>
                  <a:pt x="21600" y="0"/>
                </a:moveTo>
                <a:arcTo wR="21600" hR="9174" stAng="-5400000" swAng="-5400000"/>
                <a:lnTo>
                  <a:pt x="0" y="9174"/>
                </a:lnTo>
                <a:arcTo wR="21600" hR="9174" stAng="10800000" swAng="-170190"/>
                <a:lnTo>
                  <a:pt x="146" y="10236"/>
                </a:lnTo>
                <a:arcTo wR="21600" hR="9174" stAng="-10629810" swAng="5229810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Nadpis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působ myšlení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ízká hodnota přírodního kapitál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výšení produktivity přírodních zdrojů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2" name="Šrafovaná šipka doprava 6"/>
          <p:cNvSpPr/>
          <p:nvPr/>
        </p:nvSpPr>
        <p:spPr>
          <a:xfrm rot="2613000">
            <a:off x="961560" y="2390400"/>
            <a:ext cx="5786640" cy="1785960"/>
          </a:xfrm>
          <a:prstGeom prst="pie">
            <a:avLst/>
          </a:prstGeom>
          <a:solidFill>
            <a:srgbClr val="f0a22e">
              <a:alpha val="68000"/>
            </a:srgbClr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ovéPole 7"/>
          <p:cNvSpPr/>
          <p:nvPr/>
        </p:nvSpPr>
        <p:spPr>
          <a:xfrm>
            <a:off x="6072120" y="5572080"/>
            <a:ext cx="214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e3b30"/>
                </a:solidFill>
                <a:latin typeface="Franklin Gothic Book"/>
              </a:rPr>
              <a:t>Nová průmyslová revol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4" dur="1000" fill="hold"/>
                                        <p:tgtEl>
                                          <p:spTgt spid="4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5" descr="C:\Users\admin\Desktop\06.06.15.HolySmokeMir-X.gif"/>
          <p:cNvPicPr/>
          <p:nvPr/>
        </p:nvPicPr>
        <p:blipFill>
          <a:blip r:embed="rId1"/>
          <a:stretch/>
        </p:blipFill>
        <p:spPr>
          <a:xfrm>
            <a:off x="4191120" y="1071720"/>
            <a:ext cx="4952880" cy="3695400"/>
          </a:xfrm>
          <a:prstGeom prst="rect">
            <a:avLst/>
          </a:prstGeom>
          <a:ln w="0">
            <a:noFill/>
          </a:ln>
        </p:spPr>
      </p:pic>
      <p:pic>
        <p:nvPicPr>
          <p:cNvPr id="415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ostřed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Limitující faktor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výšení produktivity zdroj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lné ocenění všech forem kapitál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C:\Users\admin\Desktop\news5_strategy.jpg"/>
          <p:cNvPicPr/>
          <p:nvPr/>
        </p:nvPicPr>
        <p:blipFill>
          <a:blip r:embed="rId1"/>
          <a:stretch/>
        </p:blipFill>
        <p:spPr>
          <a:xfrm>
            <a:off x="5072040" y="1928880"/>
            <a:ext cx="3591000" cy="3548160"/>
          </a:xfrm>
          <a:prstGeom prst="rect">
            <a:avLst/>
          </a:prstGeom>
          <a:ln w="0">
            <a:noFill/>
          </a:ln>
        </p:spPr>
      </p:pic>
      <p:pic>
        <p:nvPicPr>
          <p:cNvPr id="418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Radikální produktivita zdroj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Biologické mimik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Ekonomika služeb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Investování do přírodního kapitál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07:15:24Z</dcterms:created>
  <dc:creator>Heczko Michal</dc:creator>
  <dc:description/>
  <dc:language>en-US</dc:language>
  <cp:lastModifiedBy>Heczko Michal</cp:lastModifiedBy>
  <dcterms:modified xsi:type="dcterms:W3CDTF">2008-11-02T20:35:40Z</dcterms:modified>
  <cp:revision>21</cp:revision>
  <dc:subject/>
  <dc:title>Kapitalismus nové civilizace</dc:title>
</cp:coreProperties>
</file>