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C271-6EE9-474C-BAA6-45BCCBE77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86663-93AF-4C13-835B-67ACCEC4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FCAD-4A01-4DBF-AC15-DA7C8291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1CE5F-3EA0-4240-BC06-4AE6CEC3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AEE0-0259-4F6E-8530-DB5EA79D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CCA5-489A-46D0-B639-7337AF70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49C-DAA5-4711-AEB3-D81BA69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428C-6E52-41AC-88D4-FC7FC144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B5C-11CC-49EE-8B9B-40A76D0A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3985-4DC2-4F66-8206-CF61A327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0039-6471-42FA-97B4-39F96E0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EBF4-DCF8-417F-A52B-5732A2E9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685F-BF53-44BE-B708-DA59FA6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35B4-428B-4CD8-9667-B07A632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4BDF-B87E-4D3B-AF62-BE225A1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1C88-22AF-4F70-A9B7-A076365D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9208-EEAC-4994-B997-9FFD61DE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F0B0-0410-4D31-8F32-F8DE351B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110B-D5AC-4A65-A1E8-E4605275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56F36-8B8F-4F84-9EFC-7F364CA2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90C26-235A-4CAD-98A2-07C81B6C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89C71-0159-4D92-AC29-246BDD67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5EB0-C684-4678-BD45-ED05AF17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5075-9D0D-424E-9F89-E86A4DBC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FD44-0A0C-4B38-9241-4CDC3287FF4B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2d3e35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2592f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11532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16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13329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50000">
                  <a:srgbClr val="156636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166a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166a38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21332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213329"/>
                </a:gs>
                <a:gs pos="50000">
                  <a:srgbClr val="27392f"/>
                </a:gs>
                <a:gs pos="100000">
                  <a:srgbClr val="2133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2A24-5C02-41F4-8D2D-2E5E9591DE79}" type="slidenum">
              <a:rPr b="0" lang="cs-CZ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d3f1db"/>
                </a:solidFill>
                <a:uFillTx/>
                <a:latin typeface="Tahoma"/>
              </a:rPr>
              <a:t>Strategie trvale udržitelného rozvoje</a:t>
            </a:r>
            <a:r>
              <a:rPr b="0" lang="en-US" sz="4800" spc="-1" strike="noStrike">
                <a:solidFill>
                  <a:srgbClr val="d3f1db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pracovali: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Jindřich Hovor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ukáš Neradil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trategie trvalé udržitelnosti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typ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proces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poskytnou firmě výhody na straně nákladů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řízené tr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konkurenční výhoda- pomohou firmám odlišit jejich výrobky od konkuren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Učící se organizace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sažení drobnosti v rámci velké organiz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5 pravi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ako příroda v malých buňkác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davač balon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Integrovaný systém managementu životního prostředí (EMS)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ší se v tom, jaké prvky jsou v nich obsaže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yžaduje stanovení jasných cílů a postupných cílů, systematické chování firmy vůči životnímu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Smyčka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= rámec pro diskusi množství nástrojů a procesů, které si myslíme, že jsou potřebné pro vytvoření 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ahrnuje primární činnosti, týkající se výroby a prodeje výrobků a podpůrné činnosti, jako management lidských zdrojů, informační systémy, auditing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Analýza životního cyklu (LCA)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e o ekologických vlivech výrobků a procesů od kolébky ke hrob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ískávání vstupů na živ.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ýrobní proc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prava a rozesílán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užívání výrobku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yklace nebo opětovné použit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ložení výrobku (toxiny, objem…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proces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nagement životního prostředí úplné kvality (TQE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avádí až 60% společnost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př. Proc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amp; Gamble, AT&amp;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esign pro životní prostředí (DF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juje ekologické zájmy firmy, trendy trhu, technologické trendy a kontrolní požadavky do vzhledu výrobku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BM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d3f1db"/>
                </a:solidFill>
                <a:latin typeface="Tahoma"/>
              </a:rPr>
              <a:t>Strategie trvalé udržitelnosti řízené trhem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rketing pro životní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úkol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zelené výrobk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ytvořit v zákaznících představu, že jsou jak vysoké kvality, tak citlivé k životnímu prostředí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utné uvádět pouze pravdivé inform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apř. Loblaw a řada G.R.E.E.N., Ben and Jerry´s Homemade Ice Cream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půrné činnosti řetězu hodnot 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uditing životního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čtování plných náklad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xternality,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ační systémy managementu pro životní prostředí (EM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MPLIS, DABAWAS, AWIDAT (databáz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LEXIS a Hypertext (zpracová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formování o životním prostřed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užitá 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Literatura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EAD, W.E., STEAD, J.G. Management pro malou planetu. Praha: GplusG, 1998. ISBN 80-86103-15-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ADOWS,D. H. et al. Překročení mezí. Praha : Argo, 1995. ISBN 80-85794-83-7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HUMACHER E.F., Malé je milé : aneb ekonomie, která by poèítala i s èlovìkem. Brno: Doplněk, 2000. ISBN 80-72390-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Současná nutnost změn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Globální problém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xponenciální populační rů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čerpávání ne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nečist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kles biodiversity(Teorie Gaia, zákon entropie, průmyslový metabolism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Mentalita předpokládaného neomezeného růs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3710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íliš rychlé čeprání obnovitelných zdroj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opa, plyn, uhlí, lesy, (půda, mokřad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odmínky trvalé udržitelnosti</a:t>
            </a:r>
            <a:br>
              <a:rPr sz="3800"/>
            </a:br>
            <a:r>
              <a:rPr b="0" lang="cs-CZ" sz="2800" spc="-1" strike="noStrike">
                <a:solidFill>
                  <a:srgbClr val="d3f1db"/>
                </a:solidFill>
                <a:latin typeface="Tahoma"/>
              </a:rPr>
              <a:t>Naplnění potřeb dneška bez omezení budoucnosti</a:t>
            </a:r>
            <a:endParaRPr b="0" lang="en-US" sz="2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plná recyklace materiá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držitelný energetický systé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Kontrola populační explo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Uvedení v soulad ekonomických a evolučních proces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a náhledu(konec karteziánstv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b1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míření západu s rozvojovým svě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íslib snížení porodnosti na jedné straně a spotřeby na druh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3f1db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dpuštění dluhů a „zelené“ technologie za možnost šetrně využívat přírodních zdroj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odíl přírody v organizacích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dílník = osoby, nebo skupiny, které mohou ovlivnit nebo jsou ovlivněny dosažením cílů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Země není osoba ani skup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liv ovšem m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podílníci Zem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Zelení podílníci Země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acovníci kontro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elení spotřeb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avní investoř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stna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kologické zájmové skupi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ůjčovatelé a pojistite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, kdo určují normy pro živ. prostředí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Trvale udržitelný strateg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= všechny procesy potřebné k integraci trvalé udržitelnosti do jádra organiz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í ale také uznat vzájemnou propojenost všech firem a jednotlivců v globálním společenství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d3f1db"/>
                </a:solidFill>
                <a:latin typeface="Tahoma"/>
              </a:rPr>
              <a:t>Paradigma ekocentrického managementu </a:t>
            </a:r>
            <a:endParaRPr b="0" lang="en-US" sz="38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aul Shrivast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emě je základním podílník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 základní představ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ekocentrický manage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37103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ůmyslové ekosystém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d3f1db"/>
                </a:solidFill>
                <a:latin typeface="Tahoma"/>
              </a:rPr>
              <a:t>Ekocentrický management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lozofický ideál potřebný k propojení managementu organizací a biofyzikálních proces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alizace používání neobnovitelných surovin, vyloučení emisí, odpadních vod, minimalizace nákladů na životní cyklus výrobků a služeb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 bude upřednostňovat přírodu před lidstvem (karteziánský předpokla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3f1db"/>
                </a:solidFill>
                <a:latin typeface="Tahoma"/>
              </a:rPr>
              <a:t>Průmyslové ekosystémy</a:t>
            </a:r>
            <a:endParaRPr b="0" lang="en-US" sz="4200" spc="-1" strike="noStrike">
              <a:solidFill>
                <a:srgbClr val="d3f1d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.F. Schum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cept „odpovídající technologie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ich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3 typy průmyslových ekosysté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deál- Typ I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0b1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nes: většinou přechod mezi Typem I a Typem 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1:40:31Z</dcterms:created>
  <dc:creator>mrerror</dc:creator>
  <dc:description/>
  <dc:language>en-US</dc:language>
  <cp:lastModifiedBy>Lukáš Neradilek</cp:lastModifiedBy>
  <dcterms:modified xsi:type="dcterms:W3CDTF">2008-10-26T22:21:15Z</dcterms:modified>
  <cp:revision>44</cp:revision>
  <dc:subject/>
  <dc:title>Seminární práce  Relaunche značky </dc:title>
</cp:coreProperties>
</file>