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595E-14E5-4D7E-827E-B0C6AC32E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1A9B-2043-4F52-802B-AFB06C5A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C254-30BF-495D-9AC3-4BA18258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E507-E6FE-40BB-8367-4CE0A35B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C83A-D612-4F25-98C9-CBCEA5B4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107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6B67-E86F-4F43-9998-92E8E9C2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C618-4DE4-48C2-9949-67CE74AA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5303-371A-4AE3-81C5-9CCE4E03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ADE0-1500-4826-8B2C-A6E536F3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E19F-9313-44A3-BE6B-4B9BC8E0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107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F141-3D30-47C2-80A3-E386EAD7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107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3B08-4C04-462F-A8FC-82CA9BE1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D8B7-3C7C-4CBF-83DD-A1704EB75AC3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7640" y="56386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Verdana"/>
              </a:rPr>
              <a:t>Etika v postmoderní době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Miroslav Mašlej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Tereza Žáčková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Naděžda Kalužová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ff"/>
                </a:solidFill>
                <a:latin typeface="Verdana"/>
              </a:rPr>
              <a:t>Niektoré výsledky prieskumu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Poradie preferencií jednotlivých vysvetlení pojmu „korupcia“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1.Zneužívanie verejnej funkcie na získanie materiálnych a iných výhod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2.Dávanie a prijímanie fin. alebo nefin. darov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3.Klientelizmus, známosti, rodinkárstvo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4.Uprednostňovanie osoby alebo firmy na základe lojality k polit. stran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Až 80,4% sa vyjadrilo, že korupcia v SR je veľmi vážnym problémom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06440" y="179028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Za najväčší problém pri podnikaní považujú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1.Klientelizmus, protekcionizmu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2.Nedostatočný prístup k úverom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3.Korupci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Príčiny korupčného správani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1.Známe prípady korupcie vysokých štátnych funkcionárov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2.Možnosť korupcie politikov, vyšetrovateľov a sudcov nedáva ohlasovateľovi záruku, že tento trestný čin bude potrestaný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3.Nejasné a nejednoznačné pravidlá v rozhodovaní úradníkov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888920"/>
            <a:ext cx="8229600" cy="42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Dôvod, kde MSP využili korupčné praktiky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1.Registrácia vozidiel a STK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2.Registrácia podniku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3.Vybavovanie priestorov na podnikanie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Procedúry, pri ktorých využili MSP vplyv priateľov či príbuzných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1.Vybavovanie stavebného povoleni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2.Získanie pôžičky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3.Styk s daňovým úradom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4.Urýchlenie súdneho procesu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46,4% respondentov by podalo trestné oznámenie o korupcii, aby nebola ohrozená firma. Až 51,8% by nepodala, z obavy o vlastnú bezpečnosť a z nedôvery o vyriešenie prípadu súdnou cestou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Nástroje boja proti korupcii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1.Zavedenie jasnej a prehľadnej legislatív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2.Prísne potrestanie skorumpovaných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3.Zameranie sa na morálku jednotlivcov a celej spoločnosti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775880"/>
            <a:ext cx="82296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Kto by mal s bojom proti korupcii začať?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1.Vláda SR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2.Každý sám u seb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3.NRSR, súdy a prokuratúr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Až 69,1% si myslí, že zmena situácie ohľadom korupcie musí začať v ľuďoch a až potom v zmene zákonov. 36,4% uprednostňuje najprv zmenu zákonov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Protikorupčná stratégia MSP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1.Za žiadnych okolností nezobrať žiaden úplatok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2.Vzdať sa zákazky v prípade nekalých praktík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3.Na každého mať rovnaký meter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Pre potreby prostredia MSP autori identifikovali nasledovné progresívne prístupy: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1.Organizované, tzv. „korporatívne“ iniciatívy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2.Budovanie transparentnej firemnej kultúry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3.Spoločensko-ekonomický audit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4.Medializácia zápasu o transparentnosť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Vytvorenie od štátu nezávislého mechanizmu zberu a spracovania informácií o prípadoch korupcie (profesné združenia, neziskové organizácie)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ffffff"/>
                </a:solidFill>
                <a:latin typeface="Verdana"/>
              </a:rPr>
              <a:t>Aktívne prístupy vytesňovania korupci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ff"/>
                </a:solidFill>
                <a:latin typeface="Verdana"/>
              </a:rPr>
              <a:t>Závery prieskumu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Väčšina majiteľov MSP v SR sa nechce zapájať do korupčných afér; pokladajú to za nákladné, neefektívne a často riskantné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Majiteľom a manažérom MSP chýbajú často základné informácie a podpora v znalostiach, ako čeliť korupčným praktikám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Výsledkom je zmierenie sa so situáciou, že korupcia je nevyhnutné zlo, ktoré je súčasťou podnikania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ffffff"/>
                </a:solidFill>
                <a:latin typeface="Verdana"/>
              </a:rPr>
              <a:t>Viera do budúcna, že v komunite MSP existuje motivácia na hľadanie spôsobov v boji proti korupcii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Literatu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utnová A., Seknička P. (2007) </a:t>
            </a:r>
            <a:r>
              <a:rPr b="0" i="1" lang="cs-CZ" sz="2500" spc="-1" strike="noStrike">
                <a:solidFill>
                  <a:srgbClr val="ffffff"/>
                </a:solidFill>
                <a:latin typeface="Verdana"/>
              </a:rPr>
              <a:t>Etické řízení ve firmě : nástroje a metody, etický a sociální audi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Lipovetsky G. (1999)</a:t>
            </a:r>
            <a:r>
              <a:rPr b="0" i="1" lang="cs-CZ" sz="2500" spc="-1" strike="noStrike">
                <a:solidFill>
                  <a:srgbClr val="ffffff"/>
                </a:solidFill>
                <a:latin typeface="Verdana"/>
              </a:rPr>
              <a:t> Soumrak povinnosti : bezbolestná etika nových demokratických časů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Šmajs J. a kol (2008)</a:t>
            </a:r>
            <a:r>
              <a:rPr b="0" i="1" lang="cs-CZ" sz="2500" spc="-1" strike="noStrike">
                <a:solidFill>
                  <a:srgbClr val="ffffff"/>
                </a:solidFill>
                <a:latin typeface="Verdana"/>
              </a:rPr>
              <a:t> Podnikatelská a environmentální etika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Verdana"/>
              </a:rPr>
              <a:t>Podnikatelská etik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Normy a pravidla vyjadřující obecné názory lidí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růnik mezi etikou a ekonomikou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Konflikt mezi vlastním sebezájmem a zájmy ostatních lidí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Možnost vyjádřit se k neřešeným problémům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Společenská objednávka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Napodobování světa - globalizac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Verdana"/>
              </a:rPr>
              <a:t>Ekonomické výhody podnikatelské etiky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Snížení transakčních nákladů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osílení loajality zaměstnanců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Vytváření a posilování image firm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osilování spokojenosti zákazníků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řispívání k loajalitě investorů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říspěvek k zisku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Kultivace podnikatelského prostředí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Základní přístup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ff"/>
                </a:solidFill>
                <a:latin typeface="Verdana"/>
              </a:rPr>
              <a:t>Deskriptivní etika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ff"/>
                </a:solidFill>
                <a:latin typeface="Verdana"/>
              </a:rPr>
              <a:t>Normativní etika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ff"/>
                </a:solidFill>
                <a:latin typeface="Verdana"/>
              </a:rPr>
              <a:t>Metaetika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ffffff"/>
                </a:solidFill>
                <a:latin typeface="Verdana"/>
              </a:rPr>
              <a:t>Aplikovaná etika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Etická horečk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ffffff"/>
                </a:solidFill>
                <a:latin typeface="Verdana"/>
              </a:rPr>
              <a:t>etická horečka bez hranic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ffffff"/>
                </a:solidFill>
                <a:latin typeface="Verdana"/>
              </a:rPr>
              <a:t>vlna obchodní etiky se rozšířila z US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900" spc="-1" strike="noStrike">
                <a:solidFill>
                  <a:srgbClr val="ffffff"/>
                </a:solidFill>
                <a:latin typeface="Verdana"/>
              </a:rPr>
              <a:t>kodexy a charty – nejdříve považovány za překážky ekonomické výkonnosti, nyní za nástroj řízení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Verdana"/>
              </a:rPr>
              <a:t>Etika v obchodní praxi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Social corporate responsibility (závazky nejen k akcionářům, ale k celému kolektivu)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Podnik sám musí zformulovat své principy a praktiky – kodexy a prohlášení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Identita podniku -&gt; morální norm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ffffff"/>
                </a:solidFill>
                <a:latin typeface="Verdana"/>
              </a:rPr>
              <a:t>Etika firmu neomezuje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ff"/>
                </a:solidFill>
                <a:latin typeface="Verdana"/>
              </a:rPr>
              <a:t>Prípadová štúdia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Význam: corruption = community rupture = previnenie proti spoločenstvu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Korupcia spoločnosti ubližuje, rozkladá ju, ohrozuje ju ako celok, porušuje etický kódex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podoby: obálky, protislužby, úľavy, „pozornosti“,..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ff"/>
                </a:solidFill>
                <a:latin typeface="Verdana"/>
              </a:rPr>
              <a:t>Korupcia vo SV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Podľa výskumu Svetovej banky: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k. spomaľuje ekonomický rozvoj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k. ohrozuje sociálny systém a budovanie        občianskej spoločnosti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</a:rPr>
              <a:t>k. pôsobí protí prirodzeným trhovým mechanizmom </a:t>
            </a:r>
            <a:r>
              <a:rPr b="0" lang="sk-SK" sz="2500" spc="-1" strike="noStrike">
                <a:solidFill>
                  <a:srgbClr val="ffffff"/>
                </a:solidFill>
                <a:latin typeface="Verdana"/>
                <a:ea typeface="Arial"/>
              </a:rPr>
              <a:t>→ vysoké cen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ffffff"/>
                </a:solidFill>
                <a:latin typeface="Verdana"/>
                <a:ea typeface="Arial"/>
              </a:rPr>
              <a:t>Rozsiahle korupčné škandály vo SVE upozornili na vážnosť tohto problému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ff"/>
                </a:solidFill>
                <a:latin typeface="Verdana"/>
              </a:rPr>
              <a:t>Korupcia v prostredí MSP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</a:rPr>
              <a:t>MSP sú často konfrontovaní na rôznych úrovniach spoločnosti s korupciou a jej formami (úplatky za udelenie rôznych povolení, potvrdení a licencií, provízie, vydieranie, daňové úniky,...)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</a:rPr>
              <a:t>Nadácia Integra uskutočnila prieskum v prostredí MSP na Slovensku na podporu etického podnikania a na odhalenie korupčných praktík; sledovali sa provízie, vydieranie a rodinkárstvo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ffffff"/>
                </a:solidFill>
                <a:latin typeface="Verdana"/>
              </a:rPr>
              <a:t>Dotazník s otázkami v 3 okruhoch: osobné postoje ku korupčným praktikám, prax s ktorou sa podnikatelia stretávajú, riešenie a východiská z tohoto problému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10:29:38Z</dcterms:created>
  <dc:creator>Presentation Helper</dc:creator>
  <dc:description/>
  <dc:language>en-US</dc:language>
  <cp:lastModifiedBy>Miroslav Maslej</cp:lastModifiedBy>
  <dcterms:modified xsi:type="dcterms:W3CDTF">2008-11-03T19:44:44Z</dcterms:modified>
  <cp:revision>12</cp:revision>
  <dc:subject/>
  <dc:title>Business 1 Template</dc:title>
</cp:coreProperties>
</file>