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4C9-42CB-4BD6-883E-B2FA15AF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1589-8425-4117-B671-527D573B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EFAB-A1E3-49C0-93BC-023CCB0D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1D35-1313-42F7-8EC6-501CE608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0FAD-6F9E-4967-8C81-BA12B9EBA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2553-C905-4A87-A744-AAF5DB3D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783D-35C4-43E7-A160-925B093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A149-5400-4387-8CFE-5863DF52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21F1-6030-4CF5-9358-5056804B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4950-B773-4A17-B724-1E77F478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22D6-C4A7-47AA-958A-71C0700D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646-DECA-4A0C-BDD9-7BFFD296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2A38-0AEA-420A-994A-0665601C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8172-E960-4071-854F-CE94393D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C0B8-27F6-4BCF-A8AA-C2232B77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74F9-5B73-4404-B071-21A1ED29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4160-8BD0-43A4-95A8-95A3680B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77F-6746-4A6B-ACDA-1ECC3899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4F3-7418-4170-9137-F31804F7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D01-46A6-40E0-B801-4BD01919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5F5E-945F-42ED-9B37-3ED7B7CB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E05-1B8A-4FCE-88F4-D73B020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8E78-2652-45B1-85AA-2FD71F68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F2C0-65B4-4DEE-8657-C2D4DD25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F513-3002-48B0-91C0-B76165A44B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5CAC-AAEB-47B4-955E-87327DF9FD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10920" y="1844640"/>
            <a:ext cx="806292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D MASOVÉ VELKOVÝROBY K INOVATIVNOSTI A HODNOTĚ PRO ZÁKAZNÍ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411280" y="4508640"/>
            <a:ext cx="64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etra Břenk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Tereza Kalandr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ana Navrátilov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zapálené bojovní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ychle odstraňujte chy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měřitelné cíle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ujte schopnost inov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pracovat strategii inovace,která se vyznačuje velkým množstvím bleskově rychlých, ale skromných začátk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užívat multifunkční týmy pro všechny vývojové činnost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ahradit návrhy pilotními projekty a prototyp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menout,že jste to nevynalezli a naučit se kopírovat od těch nejlepší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rganizujte marketingové úsilí při zavádění nových výrobků na základě výrazných kampaní rozšiřovaných ústním podán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řitahovat přeborníky  a bojovníky z personálu i z projekce k velkým projektům i k nezávislým ak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ami osobně se svou každodenní činností staňte symbolem novátorstv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bírejte neúspě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ovaci proměňte na zaběhnutý způsob života firm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ichni se zajímají o všech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tavte týmy a dejte jim pravom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slouchejte-oslavujte-uznávejte a chval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ěnujte dostatek času nábo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dělávejte a doškoluj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3. DOSAŽENÍ PRUŽNOSTI PŘEDÁNÍM PRAVOMOCÍ LIDE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šem pracovníkům stanovte pobídkovou mz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jte záruku trvalého zaměstná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ednodušte a zredukujte strukturu fi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é pojetí úlohy středních manažer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straňte byrokratická pravidla a pokořující podmín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pojte veškerý personál na všech úrovních a ve všech funkcích úplně do všeh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šechno organizovat pomocí týmů,abychom dosáhli zvýšeného soustředění a zaměření na úkol,novátorského přístupu a zaujetí jednotlivc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ustavně naslouchat, shromažďovat nebo sdílet nápady a informace a uznávat úspěchy,oslavovat formálně i neformálně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ydatně investovat do náboru čas řadových pracovníků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ovat do lidského kapitálu tolik jako do hardwar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Každému opatřit tučné finanční podně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Zajistit, aby velice zřídka nebo vůbec nedocházelo k propou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novte radikálně vyšší poměr řadových pracovníků k vedoucí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řední management = zařizovatel a ničitel funkčních barié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dikálně snížit a zjednodušit papírování a zbytečné procedu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ovat inspirativní v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Řídit příkla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ktikovat viditelné říz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nujte pozornost (více naslouchej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4. Naučte se milovat změnu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dávejte odpovědnost a pravom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dbouráním byrokracie usilujte o horizontální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ždého hodnoťte podle jeho lásky ke změ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ěstujte pocit naléhav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vizi, která vám dá sílu a mož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ďte především svým osobním příkladem – zejména pomocí množství ča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ktikujte viditelné řízení a snažte se o snížené zkreslování informa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vinně se staňte posluchač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gujte a každé předání pravomoci zkoumejte, aby jste se opravdu pravomoci vzdali a znovu ji neodejmuli a pečlivě stanovili podmínky jejího před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aci řiďte horizontálně, trvejte na tom aby vertikální řízení bylo nahrazeno horizontální spoluprác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ři hodnocení vedoucích se zaměřit na otázky okolo počtu změn o které se vedoucí zaslouž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5. Budování systémů ve světě vzhůru noha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ěřte to co je důležit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řepracujte hlavní řídící nástro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ntralizace informací, pravomocí a strategického plánov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ovte splnitelné cí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žadujte naprostou integri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UH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ypracujte jednoduché podpůrné systémy, které budou pobídkou k účasti, kterým budou všichni rozumět a proto budou podporovat iniciativní jedná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jednodušte všechny tři primární způsoby řízení – hodnocení výkonnosti, stanovení cílů a popis pracovní nápln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šemi se dělte o všechny inform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ovte konzervativní cíle růstu a zejména trvejte na tom, že vývoj infrastruktury předchází projektovanému růstu příjmů a nezaostává za n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žadujte naprostou integritu ve všech jednáních s lidmi i systémy, uvnitř i mimo firm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SA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měny ve vývoji ekonomi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5 předpisů pro úspěšnou fir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říklad General Elect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Od roku 1981 - Jack Welch v General Elec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rcholový management utváří vizi a formuluje ji do podnikového poslání, které klade zvýšený důraz na podnikavost, invenci, inovaci a lidský kapitá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Tři zásady strategie změn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oborech kde GE podniká, bude první nebo druhá na svět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 výzkumu investovat tolik, kolik je na prví nebo druhé místo tře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t naplno tvořivých sil všech lid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říklad 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stupný ústup od hierarchické pyramidy k ploché organizační struktuř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působ řízení založen na sdílení informac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tvoření pocitu důvěry a sdílno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V řízení musí vládnout rychlost a jednoduc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Školení lidského faktoru – školící středisko Crotonville – výzva: osvoboďte se a důvěřujte, místo plánuj, organizuj, integruj, změ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chat si poradit zvenku prostřednictvím nejlepších poradenských firem, ale využívat vlastní zkušenosti a prosazovat vlastní přís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OUŽITÁ LITERATUR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ETERS, T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Prosperita se rodí z chaos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. Praha: Pragma, 2001. ISBN 80720581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KISLINGEROVÁ, E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Chování podniku v globalizujícím se prostředí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Praha: C. H. Beck, 2005. ISBN 80717984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TRUNEČEK, J. </a:t>
            </a:r>
            <a:r>
              <a:rPr b="0" i="1" lang="cs-CZ" sz="3200" spc="-1" strike="noStrike">
                <a:solidFill>
                  <a:srgbClr val="ffffff"/>
                </a:solidFill>
                <a:latin typeface="Arial"/>
              </a:rPr>
              <a:t>Znalostní podnik ve znalostní společnosti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Profesional Publishing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Děkujeme za pozornos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ZMĚNY VE VÝVOJI EKONOMIKY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Ústup od masové výroby pro neznámého zákazníka ve prospěch zakázkové produk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Slučování a opětovné oddělování, rozdělování, joint ventur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Technická revolu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enší a pružnější továrn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Nová konkurence (zahraniční, domácí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Měnící se vkus a požadavky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PŘEDPISY PRO ÚSPĚŠNOU FIRMU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ěstovat absolutní vstřícnost k zákazníků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ovace ve svižném temp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sažení pružnosti předáním pravomocí lid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učte se milovat změn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ování systémů ve světě vzhůru noh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762120" indent="-762120" algn="ctr"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erenciace. Specializace. Tvorba tématických sektor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nejvyšší jakost, ale tak, jak ji vnímá zákazní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jistěte vynikající služby. Zdůrazněte nehmotné služ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KONCEPCE ABSOLUTNÍHO VÝROBK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7138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1. VYPĚSTOVAT ABSOLUTNÍ VSTŘÍCNOST K ZÁKAZNÍKŮ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mimořádně vstříc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ďte světovým podnik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vořte jedineč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ědomě podlehněte posedlosti naslouchání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výroby udělejte tržní zbra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dělejte hrdiny z pracovníků prodeje a služ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zpoutejte zákaznickou revolu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2. INOVACE VE SVIŽNÉM TEMPU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ujte do aplikac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azujte týmovou prá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dporujte pilotní projekt každého ná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dna paní povídala“ jako marketingový syst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14:45Z</dcterms:created>
  <dc:creator>Tereza Kalandrová</dc:creator>
  <dc:description/>
  <dc:language>en-US</dc:language>
  <cp:lastModifiedBy>Jana Navrátilová</cp:lastModifiedBy>
  <dcterms:modified xsi:type="dcterms:W3CDTF">2008-10-30T23:34:33Z</dcterms:modified>
  <cp:revision>14</cp:revision>
  <dc:subject/>
  <dc:title>OD MASOVÉ VELKOVÝROBY K INOVATIVNOSTI A HODNOTĚ PRO ZÁKAZNÍKA</dc:title>
</cp:coreProperties>
</file>