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1703-29E6-4710-BD54-24B362552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D58E-9BEB-4D64-B5C8-F839BB39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B7FE-06B3-4590-9B53-20C76AD1B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BAAD-4D4F-4D6E-ACAC-0C4521FA7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24D0-0B11-4C0C-9B4E-89AA865C4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1678-A79C-410A-A41F-108D2E65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945A-D00C-469D-8BDB-D2E2839B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D15E-8D9A-4170-920D-AB3C789E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B55D-CE26-43FD-999F-1FBF97CC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2BE3-2E78-4A5D-9741-4C513B36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12E3-2AE8-44DC-BE13-EB571C7C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67D7-36C0-46D3-B281-8496F425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42C0-5761-4508-99E8-471BB8A6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37C3-555B-450C-9149-5A20DC2C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C11F-BCBB-47A9-A2E5-1BB99ACF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0F73-BE43-4AEA-B4E8-F17B00F18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CAE5-A71C-4ADD-999B-C1C74A513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AECD-9DCB-4373-9426-F314DC56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9666-4AA0-4248-90C1-E3AA7CFA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8A97-42AD-45CD-A7CC-A40A6D1D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F551-B4F6-4753-8B37-BD115BF4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D8EC-4D4B-4043-B11C-9DF1EFF5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32D6-A61C-4A2C-BDDE-06F5DEB8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8972-3926-4578-AD7D-DB2AB73F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99EB-BD6C-4615-9689-FA622B1ECFE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35C0-11FC-42E7-A5A9-21B17585756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b9efee"/>
                </a:solidFill>
                <a:latin typeface="Garamond"/>
              </a:rPr>
              <a:t>Stakeholderský přístup k pojetí podniku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Jančúch Zbyně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Krejčí Mich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avlík Mich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Zaměstnanci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Garamond"/>
              </a:rPr>
              <a:t>nejtěsnější a nejstabilnější vztah k podniku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Garamond"/>
              </a:rPr>
              <a:t>tendence k rozvolňování a dynamizování vztahu k podniku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Garamond"/>
              </a:rPr>
              <a:t>prostředky vlivu zaměstnanců</a:t>
            </a:r>
            <a:r>
              <a:rPr b="0" lang="cs-CZ" sz="27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schopnost pracovat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možnost práci odmítnout ( individuálně X kolektivně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Garamond"/>
              </a:rPr>
              <a:t>vyjednávací pozice podle stupně kvalifikovanosti   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75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ffffff"/>
                </a:solidFill>
                <a:latin typeface="Garamond"/>
              </a:rPr>
              <a:t>zasahování do řízení podniku prostřednictvím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odborových organizací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zastoupením zaměstnanců v dozorčí rad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sebeřízení pracovních týmů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Věřitelé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dáno situací na finančním trhu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bonita podniku → zájem o poskytnutí úvěr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yspělé západní země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ostatek finančních prostředků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nízké riziko nesplacení úvěru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věřitelé do správy podniku nezasahují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transformující se ekonomik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převis poptávky po úvěrech nad nabídkou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při vysokém zadlužení: věřitelé → postavení vlastníků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646200" indent="-248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Dodavatelé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Garamond"/>
              </a:rPr>
              <a:t>jejich moc ovlivněna postavením na trhu Va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Garamond"/>
              </a:rPr>
              <a:t>nabízející strana zpravidla ve slabším postavení než poptávající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Garamond"/>
              </a:rPr>
              <a:t>různá obtížnost zrušitelnosti vazeb → transakční náklady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specifičnost produktu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přizpůsobení technologií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Garamond"/>
              </a:rPr>
              <a:t>sdílené společné know-how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Garamond"/>
              </a:rPr>
              <a:t>riziko převahy moci na jedná straně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Veřejná správ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tát, region, ob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rostředky vliv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ydávání právních předpis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zice zákazník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rozdělování různých forem pomoci podnikatelské sféř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9efee"/>
                </a:solidFill>
                <a:latin typeface="Garamond"/>
              </a:rPr>
              <a:t>Vztahy stakeholderů a organizační blahobyt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droj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ST, James E. </a:t>
            </a:r>
            <a:r>
              <a:rPr b="0" i="1" lang="cs-CZ" sz="3200" spc="-1" strike="noStrike">
                <a:solidFill>
                  <a:srgbClr val="ffffff"/>
                </a:solidFill>
                <a:latin typeface="Garamond"/>
              </a:rPr>
              <a:t>Redefining the corporation: stakeholder management and organizational weal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Členění stakeholderů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5229360"/>
            <a:ext cx="194436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Joint ventu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amp; ali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19640" y="3284640"/>
            <a:ext cx="194436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dni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08720" y="1773360"/>
            <a:ext cx="194472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aměstnan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88000" y="2852640"/>
            <a:ext cx="194472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88000" y="3933720"/>
            <a:ext cx="194472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ákazní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64000" y="4869000"/>
            <a:ext cx="194472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davatel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odběr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4920" y="4797360"/>
            <a:ext cx="194472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yvatelst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90920" y="1341360"/>
            <a:ext cx="194472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stoř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3789360"/>
            <a:ext cx="194472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lá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2708280"/>
            <a:ext cx="194472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ulač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o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3280" y="1700280"/>
            <a:ext cx="1944720" cy="1008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krom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40360" y="2494080"/>
            <a:ext cx="502920" cy="647640"/>
          </a:xfrm>
          <a:prstGeom prst="upDownArrow">
            <a:avLst>
              <a:gd name="adj1" fmla="val 50000"/>
              <a:gd name="adj2" fmla="val 2563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40360" y="4437000"/>
            <a:ext cx="502920" cy="647640"/>
          </a:xfrm>
          <a:prstGeom prst="upDownArrow">
            <a:avLst>
              <a:gd name="adj1" fmla="val 50000"/>
              <a:gd name="adj2" fmla="val 2563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5112600">
            <a:off x="5651640" y="3140640"/>
            <a:ext cx="503280" cy="647640"/>
          </a:xfrm>
          <a:prstGeom prst="upDownArrow">
            <a:avLst>
              <a:gd name="adj1" fmla="val 50000"/>
              <a:gd name="adj2" fmla="val 2561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7418600">
            <a:off x="5580720" y="3790080"/>
            <a:ext cx="503280" cy="647640"/>
          </a:xfrm>
          <a:prstGeom prst="upDownArrow">
            <a:avLst>
              <a:gd name="adj1" fmla="val 50000"/>
              <a:gd name="adj2" fmla="val 2561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9525200">
            <a:off x="5005440" y="4294080"/>
            <a:ext cx="503280" cy="647640"/>
          </a:xfrm>
          <a:prstGeom prst="upDownArrow">
            <a:avLst>
              <a:gd name="adj1" fmla="val 50000"/>
              <a:gd name="adj2" fmla="val 2561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056800">
            <a:off x="5005080" y="2636640"/>
            <a:ext cx="503280" cy="647640"/>
          </a:xfrm>
          <a:prstGeom prst="upDownArrow">
            <a:avLst>
              <a:gd name="adj1" fmla="val 50000"/>
              <a:gd name="adj2" fmla="val 2561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2656800">
            <a:off x="3204720" y="4293720"/>
            <a:ext cx="503280" cy="647640"/>
          </a:xfrm>
          <a:prstGeom prst="upDownArrow">
            <a:avLst>
              <a:gd name="adj1" fmla="val 50000"/>
              <a:gd name="adj2" fmla="val 2561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4064400">
            <a:off x="2627640" y="3644280"/>
            <a:ext cx="503280" cy="647640"/>
          </a:xfrm>
          <a:prstGeom prst="upDownArrow">
            <a:avLst>
              <a:gd name="adj1" fmla="val 50000"/>
              <a:gd name="adj2" fmla="val 2561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6447600">
            <a:off x="2698920" y="2996280"/>
            <a:ext cx="503280" cy="647640"/>
          </a:xfrm>
          <a:prstGeom prst="upDownArrow">
            <a:avLst>
              <a:gd name="adj1" fmla="val 50000"/>
              <a:gd name="adj2" fmla="val 2561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8869400">
            <a:off x="3349080" y="2564280"/>
            <a:ext cx="502920" cy="647640"/>
          </a:xfrm>
          <a:prstGeom prst="upDownArrow">
            <a:avLst>
              <a:gd name="adj1" fmla="val 50000"/>
              <a:gd name="adj2" fmla="val 2563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Investoř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ělím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lastníc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ěřitel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spěve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bstarání kapitálu, vlastního jmění a/nebo půjčk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tut a jméno na finančním trhu (snížení nákladů půjčky a rizika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Zaměstnanc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ahrnuje každou osobu, která v organizaci pracuj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nagem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bslužný personá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ělníci (sdružení v odborech i mimo ně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říspěvek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ozvoj lidského kapitálu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ýmová práce a zvyky založené na pochopení a důvěř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polupráce na pracovišt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Odbor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de jsou odbory, tam je zapotřebí vzájemně příznivých vztahů mezi nimi a organizac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spěve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bilita zaměstnanců a řešení konflikt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Zákazníci / uživatelé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ůzná forma a velik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spěve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ddanost značce a reput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pakované / příbuzné nákup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ávrhy a rozvoj spolupráce, řešení problém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Obsah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mezení pojmu stakehol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ztah stakeholderů, organizační blahoby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Konkurenční chování stakeholder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Dodavatelé 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&amp;</a:t>
            </a: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 odběratelé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Účastníci „hodnotového řetězu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spěve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fektivita sítě a „hodnotového řetězu“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nížení nákladů technologií a běžných postup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Joint venture a alianc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pojeno s různorodostí hmotných i nehmotných zdroj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říspěve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trategické zdroje a schopnost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Možnosti pro budoucí vývoj (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&amp;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D, technologie,…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Obyvatelstvo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ocial license to operate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říspěve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Vzájemná podpora a přizpůsobe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lánování, komunální služby, „License to operate“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Vlád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láda má vliv n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odmínky podnikání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rukturu zdaněn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kroekonomickou politik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ociální zájmy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spěve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kroekonomická a sociální politik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odpora vztahů se zákonodárc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Regulační autorit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gulační systémy mohou sloužit jako punc kvality – lepší než rekla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spěve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tvrzení specifických vlastností produktu / služby a úrovně kva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bré jméno – dodržování, integrita, nejlepší zacháze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oukromé společnost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chodní asociace, nezávislé skupiny tvořící standardy, aktivist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spěve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onstruktivní spolupráce mezi jednotlivými organizacemi a skupinam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říznivé veřejné míně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vobodné (nezávislé) standard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SO 90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9efee"/>
                </a:solidFill>
                <a:latin typeface="Garamond"/>
              </a:rPr>
              <a:t>Konkurenční chování stakeholderů</a:t>
            </a:r>
            <a:br>
              <a:rPr sz="4000"/>
            </a:br>
            <a:r>
              <a:rPr b="1" lang="cs-CZ" sz="4000" spc="-1" strike="noStrike">
                <a:solidFill>
                  <a:srgbClr val="b9efee"/>
                </a:solidFill>
                <a:latin typeface="Garamond"/>
              </a:rPr>
              <a:t>Moc stakeholderů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aložena na možnosti rozhodovat se o navázání nebo odmítnutí vztahu vůči podnik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pický tržní vzta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ýrobky a služby (dodavatelé x odběratelé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h práce (zaměstnanci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nanční trh (věřitelé, vlastníci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9efee"/>
                </a:solidFill>
                <a:latin typeface="Garamond"/>
              </a:rPr>
              <a:t>Moc stakeholderů</a:t>
            </a:r>
            <a:br>
              <a:rPr sz="4000"/>
            </a:br>
            <a:r>
              <a:rPr b="1" lang="cs-CZ" sz="4000" spc="-1" strike="noStrike">
                <a:solidFill>
                  <a:srgbClr val="b9efee"/>
                </a:solidFill>
                <a:latin typeface="Garamond"/>
              </a:rPr>
              <a:t>Vlastníci a stát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ad rámec vlastníci a stát – příme ovlivňování podnik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lastníci – rozhodování pomocí řídících orgánů společnos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tát – orgány veřejné správy pomocí řídících zásahů na základě právních předpis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ržní vztah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ychází z teorie her – hra s nenulovým součt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U stakeholderů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kud je součet </a:t>
            </a: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kladný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snaha o navázání, udržení a rozvoji vztahu s podnikem – vidina vyšší získané hodnoty, než kterou stakeholder vloži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39000" indent="-2455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kud je součet </a:t>
            </a: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záporný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 – snaha o navázání vztahu s jiným podnikem, kde bude vidina příznivějších podmínek, popř. ukončit vztah se stávajícím podnik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9efee"/>
                </a:solidFill>
                <a:latin typeface="Garamond"/>
              </a:rPr>
              <a:t>Stakeholdeři a konkurenti podniku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050920" y="1284120"/>
            <a:ext cx="502308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Východisk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dnik není izolován od svého okolí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živá práce stále významněji určuje hodnotu podnik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dnik jako společenství lidí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jeho dlouhodobá úspěšnost závisí na vztahu s: vlastníky, investory, zaměstnanci, zákazníky, dodavateli, okolní komunitou a dalšími zainteresovanými skupinami neboli stakeholde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9efee"/>
                </a:solidFill>
                <a:latin typeface="Garamond"/>
              </a:rPr>
              <a:t>Stakeholdeři a konkurenti podniku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Konkurence je vnímána mnohostranně =&gt; ne jen na trhu výrobků a služeb, ale na všech trzí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Podnik se setkává v konkurenčním boji o přízeň jednotlivých skupin stakeholderů s ostatními podnik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Konkurenční trh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kciový tr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mise akci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držení investorů – snaha top managementu, jistota jejich mís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h prá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ájem o získání a udržení kvalitní pracovní sí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anční tr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naha o získání úvěru – přesvědčit věřitele o tom, že podnik je důvěryhodnější partner než konkur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Konkurenční trh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h výrobků a služe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ztah k odběratelům – klasické tržní chování – snaha o získání a udržení zákazník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ztah k dodavatelům – boj o spolehlivé dodavate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ztah ke stát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átní zakázk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vilegia – daňové prázdniny, státní podpora, garance za úvěr, poskytnutí pozemku, právní úpravy, at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Konkurenční chování podniku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efenzivní: Obrana vztahu ke stávajícím stakeholderům proti konkurenčním podniků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Ofenzivní: Snaha přilákat stakeholdery jiných podnik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Kombinací těchto strategií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Růst počtu stakeholderů nebo jejich obměna (platí i pro vztah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Úspěšnost závisí i na chování konkur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9efee"/>
                </a:solidFill>
                <a:latin typeface="Garamond"/>
              </a:rPr>
              <a:t>Konkurenční chování stakeholderů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Je obdobné jako u podnik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takeholdeři si snaží udržt nebo získat nové podniky (dodavatelé, věřitelé) a uzavírat s nimi co nejvýhodnější smlouv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naha nahrazovat méně výhodné smlouvy těmi výhodnějším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iteratur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POST, James E. </a:t>
            </a:r>
            <a:r>
              <a:rPr b="0" i="1" lang="cs-CZ" sz="2400" spc="-1" strike="noStrike">
                <a:solidFill>
                  <a:srgbClr val="ffffff"/>
                </a:solidFill>
                <a:latin typeface="Garamond"/>
              </a:rPr>
              <a:t>Redefining the corporation: stakeholder management and organizational wealth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. Stanford: Stanford University Press, 2002. ISBN 0-8047-4310-X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BLAŽEK, Ladislav. </a:t>
            </a:r>
            <a:r>
              <a:rPr b="0" i="1" lang="cs-CZ" sz="2400" spc="-1" strike="noStrike">
                <a:solidFill>
                  <a:srgbClr val="ffffff"/>
                </a:solidFill>
                <a:latin typeface="Garamond"/>
              </a:rPr>
              <a:t>Výzkum konkurenceschopnosti podniku.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 Viz studijní materiály IS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BERLE, A., MEANS, G. </a:t>
            </a:r>
            <a:r>
              <a:rPr b="0" i="1" lang="cs-CZ" sz="2400" spc="-1" strike="noStrike">
                <a:solidFill>
                  <a:srgbClr val="ffffff"/>
                </a:solidFill>
                <a:latin typeface="Garamond"/>
              </a:rPr>
              <a:t>The Modern Corporation and Private Property</a:t>
            </a: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. New York: Macmillan, 1932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ěkujeme za pozornos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Stakeholde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ovlivňují organizaci a organizace ovlivňuje j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jejich zájem o firmu přesahuje finanční dimenz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tojí s firmou v přímé nebo nepřímé výměně a mají materiální nebo nemateriální požadavky (Stake) na firmu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odavatelé, obchodní partneři, zákazníci, zaměstnanci a nepřímo také komunita, veřejnost, média a vlá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Shareholde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užší skupina zainteresovaných aktérů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akcionáři, vlastníci a všechny osoby, které mají finanční zájem na úspěchu firmy a které se na firmě jako vlastníci podílů bezprostředně podílej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Členění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Garamond"/>
              </a:rPr>
              <a:t>Primární: 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lastníci a investoři, zaměstnanci, zákazníci (stávající i potenciální), obchodní partneři (zejména dodavatelé), místní komunita, environmentální neziskové organizace a další mluvčí za životní prostředí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Garamond"/>
              </a:rPr>
              <a:t>Sekundární: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veřejnost, vládní instituce a samosprávní orgány, lobbisté  a různé nátlakové skupiny, konkurenti, media, občanská obchodní sdružen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Analýza zainteresovaných stra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Kdo jsou naši stakeholdeři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Jaký mají vliv na firmu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Co od nás očekávají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71640" indent="-514440">
              <a:spcBef>
                <a:spcPts val="7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Kteří z nich jsou opravdu klíčoví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b9efee"/>
                </a:solidFill>
                <a:latin typeface="Garamond"/>
              </a:rPr>
              <a:t>Které vztahy jsou pro podnik klíčové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9" name="Zástupný symbol pro obsah 3" descr=""/>
          <p:cNvPicPr/>
          <p:nvPr/>
        </p:nvPicPr>
        <p:blipFill>
          <a:blip r:embed="rId2"/>
          <a:stretch/>
        </p:blipFill>
        <p:spPr>
          <a:xfrm>
            <a:off x="-73080" y="1352520"/>
            <a:ext cx="929016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Vlastníci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moc plyne z jejich podílu na kapitál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uplatňování moci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ystému vot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ystém ex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0:42:48Z</dcterms:created>
  <dc:creator>Michal</dc:creator>
  <dc:description/>
  <dc:language>en-US</dc:language>
  <cp:lastModifiedBy>Michal Pavlík</cp:lastModifiedBy>
  <dcterms:modified xsi:type="dcterms:W3CDTF">2008-11-10T11:46:39Z</dcterms:modified>
  <cp:revision>38</cp:revision>
  <dc:subject/>
  <dc:title>Stakeholderský přístup k pojetí podniku</dc:title>
</cp:coreProperties>
</file>