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31B8-05D0-4A4A-A49C-DDCA4FC39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F6F7-8E2E-4160-9935-E0595D138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E9DF-4753-41FF-A55A-F18B5F669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B0B2-D1C0-4E4B-8577-58875C1EA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CB739-178D-4FF3-8564-752DDB1C8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1916B-0FF4-45DC-A30A-7083C7FB6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0FB4B-21AC-4134-99F1-C2D86EAF3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0D00D-A72E-4D29-8640-5E653774B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9C137-5BFD-4976-8869-542CF4997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D4387-00A8-4C42-9724-7A2606C14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A08CE-C66E-4525-9DF2-D902E6707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39B5-4D99-459B-9E91-93AA73E24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9BEA4-467C-4843-BBD1-17D791E0C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40596-A522-4605-9D2A-0BF174B65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898AD-61E1-4EE1-AAAC-CBB781BEF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059A7-E527-409C-92B5-F469A801C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97502-7748-48C2-A534-FFB920F47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EB7A-85D3-44DC-BEA8-2CCE4253C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6A66-E40B-4651-A3F9-7CBC27AE4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841C-9588-4CFB-84D1-28CAD6E17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BB04-8329-4E2B-A43C-BAF6F456A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C201-A217-4EB5-811E-E0E094197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4242-5AD9-4CFE-9A89-65DEE9DB8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AEF4-D2F9-46EE-93D7-3B40E162E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B8FC6-323E-4DC1-BF4E-11A1590055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33741-DA6C-4288-BCF9-FAF96256846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"/>
              </a:rPr>
              <a:t>Kapitalismus nové civilizac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71280" y="4869000"/>
            <a:ext cx="6008760" cy="13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avel Popelk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Martin Lošťá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Martin Vymyslick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"/>
              </a:rPr>
              <a:t>Dokončené projekty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nsformace komerční stavb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cyklace stavby, materiály, pů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tová výstavb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otřebič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"/>
              </a:rPr>
              <a:t>Příroda a vlákn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 lesů získáváme výrobky z papíru a stavební dřev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ste objem spotřeby papíru (5x rychleji než lidská populac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ční spotřeba na osobu 45-90 kg papír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% vyrobeného objemu přechází do „kulturní paměti“, zbytek odp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pír představuje 2% světového obchodu a 2,5% průmyslové výrob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"/>
              </a:rPr>
              <a:t>Jak nahrazovat papír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26560" y="141264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Cíl: nahrazovat „vlákna elektrony a papír pixely“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Kulturní revoluce – přechod k elektronické kanceláři s vyloučením papír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Vysoká počáteční investice, ale získání trvalé konkurenční výhody (snížení nákladů, rychlejší a inteligentnější informační toky, rozhodování atd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Noviny a časopisy – internetové verze, velký potenciál k úsporám (např. nedělní New York Times spotřebují na jedno vydání 75 000 stromů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"/>
              </a:rPr>
              <a:t>Kombinace úspor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lizace úspor v různých částech hodnotového řetězce (od těžby surovin přes zpracování a dopravu až po distribuci služeb), úspory lze mezi sebou násob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ílem je zefektivňovat každý krok cesty od dřeva až ke službě zákazníkov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ůraz na úspory, které mají nejblíže k zákazníkovi (kolik uspokojení přinese spotřebiteli každá jednotka služeb?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"/>
              </a:rPr>
              <a:t>Způsoby zlepšování účinnosti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75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erénní účinnost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ak účinně se lesy transformují na primární produk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75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Efektivita transformace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ak se primární produkty transformují na meziprodukty jako např. papí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75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Účinnost pro koncového uživatele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formace meziproduktu do distribuovaných služe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75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unkční účinnost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ak finální produkty zvyšují uspokojení potře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75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aktory zlepšení se budou násobit a poptávka po těžbě dřeva se sníží o 96%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"/>
              </a:rPr>
              <a:t>Materiálové smyčky - recyklac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4360" y="1699920"/>
            <a:ext cx="80071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řevěné přepravní palety – výroba představuje asi 11% veškerého stavebného dřeva (6 palet na jednoho Američan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opravují se, vyřazují se, odpad by ročně stačil na nosnou konstrukci 300 000 dom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pětovné využití přináší nejen úsporu, ale i nová pracovní mís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utná změna ekonomické stimulac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"/>
              </a:rPr>
              <a:t>Materiálové smyčky - recyklac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cyklační kopírky – smažou stopy tonerů na papíru tak, že se dá použít až desetkrát po sob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lymerový inkoust – spláchne se z papíru tím, že se vloží do vody o teplotě 54°C, následně se recykluje i smytý inkou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zšíření této techniky sníží spotřebu materiálu pocházejícího přímo z lesa o 90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b7"/>
                </a:solidFill>
                <a:latin typeface="Arial"/>
              </a:rPr>
              <a:t>Děkujeme za Vaši pozornos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"/>
              </a:rPr>
              <a:t>Úvod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844280"/>
            <a:ext cx="800748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lší průmyslová revoluc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řesun z důrazu na lidskou produktivitu na radikální zvýšení produktivity zdroj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měřování k udržitelnému ekonomickému modelu a ke snahám o zabránění globální ekologické kriz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řechod od ovlivňování života technologiemi k ovlivňování technologií živo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Zelená revoluce – konkurenční výho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"/>
              </a:rPr>
              <a:t>Destrukce biosfér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Za posledních 30 let spotřebována 1/3 zdrojů plane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odní ekosystémy - úbytek 5% ročn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polovina 20. stolet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znehodnocení čtvrtiny veškeré orné půd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ykácení třetiny lesních porost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říroda je nejenom zdroj materiálů, ale zajišťuje udržování podmínek nezbytných pro život - monetárně neocenitelné a bez možných substitut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"/>
              </a:rPr>
              <a:t>Přírodní kapitalismu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rod nového typu kapitalism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změna filozofie, cílů a proces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oncentrace kapitálu vs. úbytek přírodního kapitál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ze prosperity - určovány spíše přírodním kapitálem, než výkony průmysl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"/>
              </a:rPr>
              <a:t>Přírodní kapitalismus a jeho předpoklad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středí není okrajový fakt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votní příčiny úbytku přírodního kapitál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špatně navržené obchodní systém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pulační růs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šetrná spotřeb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né oceňování všech forem kapitál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lepšování kvality a toku služeb namísto zvyšování celkových finančních tok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"/>
              </a:rPr>
              <a:t>Přírodní kapitalismus a jeho předpoklad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Ekonomická a environmentální udržitelnost závisí na vyrovnání v globální nerovnosti v příjmu a v materiálním blahobyt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Nejlepší prostředí pro obchod – demokratické systémy založené na uspokojování potřeb lidí spíše, než na business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"/>
              </a:rPr>
              <a:t>„</a:t>
            </a:r>
            <a:r>
              <a:rPr b="1" lang="en-US" sz="4400" spc="-1" strike="noStrike">
                <a:solidFill>
                  <a:srgbClr val="ffffb7"/>
                </a:solidFill>
                <a:latin typeface="Arial"/>
              </a:rPr>
              <a:t>Zelené“ projektování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ergeticky úsporné stavby, vnitřní vybavení, osvětlení, spotřebiče a další zařízen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lé aktivní vytápění a chlazení nebo vůbec bez ni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ětší vizuální, termální a akustický komfort vytváří prostředí s nízkou úrovní stres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pší kvalita ovzduší v budovách atd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Arial"/>
              </a:rPr>
              <a:t>Otázka nákladovosti, hospodářské efekty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ředpoklad vyšších nákladů za postavení „zelené“ budovy  X snižování jiných náklad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Účinné nové budovy ušetří okolo 80% z tradiční spotřeby energ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Zelené projekty se rychleji prodávaj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Nižší úroveň stresu, vyšší produktivita práce (příklad firmy Lockheed, Wall-Mar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"/>
              </a:rPr>
              <a:t>Otázka projekc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grovaný projekční proces – týmově orientovaný proces, kterého se účastní všechny zainteresované osoby na projekt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norář projektantů - procentuální podíl z ceny budov či vybavení  X  jiný stimulující způsob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1T08:57:48Z</dcterms:created>
  <dc:creator/>
  <dc:description/>
  <dc:language>en-US</dc:language>
  <cp:lastModifiedBy>Popl</cp:lastModifiedBy>
  <dcterms:modified xsi:type="dcterms:W3CDTF">2008-11-03T21:40:09Z</dcterms:modified>
  <cp:revision>19</cp:revision>
  <dc:subject/>
  <dc:title>Kapitalismus nové civilizace</dc:title>
</cp:coreProperties>
</file>