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77E-C524-474E-99BE-4D41EB20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4E6-A4FA-49B0-A1D1-FE305E05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D36-CAA7-4808-B314-CE6C1BA2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E94-5EC8-4573-8D71-8F8F9E8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FFBA-9BC3-4ED9-BEC6-CE299E9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6226-5C03-46CB-8753-401DE188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8AB3-C27D-40FF-9F81-681A88DB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E508-BF0F-4B57-9F3F-93613907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615F-3912-4A4A-816F-62D99C67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A176-6C02-4832-BD85-E292F22B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BDF3-D96F-44B4-8F89-8DF7762A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3B90-0864-4260-82EA-8BA959EB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CD90-2207-4EB7-BF1E-1AE408A8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0464-015B-492D-9C34-7D76666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39CA-3A2B-48E1-9081-11335EF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3D82-B379-462D-BBCE-13E2C50C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E3C2-C6C3-4109-B56D-D8FF41DD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1A8-2ED5-409D-BBE4-1FCFE99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715-015C-431E-A96E-68105E2C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A1EF-552F-4D3F-912F-A3BD95E1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EE2A-9125-4E71-AD79-A0F8FA28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4C3-2BDD-4927-B59F-0E03057E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46D0-ADD0-4A5C-B8B0-BA85373E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3EC6-5689-4A14-926C-2B27DA4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73F1-C092-4AA4-B8FA-049475FAB5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8557-42D7-4FBD-8080-1310155064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eligentní projektování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jektování budo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elené do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kladová bariér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Mudy, služby a to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tec firmy Toyota Taiichi Oh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eštihlující myšlení – metoda 4 vzájemně propojených prvk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oskytování komplexní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Růst kapitál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xperiment BIOS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írodní kapitál – ekologický systé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lidské aktivity a tok ekosystémových služe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nvestice do přírodního kapitá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říroda a vlák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ombinace druhů pro zvýšení úspornos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2:06:25Z</dcterms:created>
  <dc:creator>Fido</dc:creator>
  <dc:description/>
  <dc:language>en-US</dc:language>
  <cp:lastModifiedBy>Fido</cp:lastModifiedBy>
  <dcterms:modified xsi:type="dcterms:W3CDTF">2008-11-03T22:38:16Z</dcterms:modified>
  <cp:revision>2</cp:revision>
  <dc:subject/>
  <dc:title>Inteligentní projektování</dc:title>
</cp:coreProperties>
</file>