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138-E6F1-4417-8329-901CE354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544D-C4CE-4D7E-8E3D-5E6ED9F3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04B-7422-434E-830B-5D4E9A83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520A-DEAB-4C8E-BA2B-7FD2D53D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EED-ABB8-4522-827E-3ABCF45A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6EC-6219-43F4-B445-FD39E1B5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CD85-6F77-4E2B-A608-ED6C983B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843-C1CA-4A5B-AC1F-5AC0EA0E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3D59-8B19-4D6D-88FB-D504A443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42F-1D84-452E-BBBC-7F7079BC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16B8-9162-46B4-8FD3-53385654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2885-ECCC-4CF2-ACBD-DC9CC5E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A095-49DF-4088-A798-F02121645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 masové velkovýroby k inovativnosti a hodnotě pro zákazní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Lucie Bieli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Martin Liz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Simona Jakubc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2 Týmová práce ve výrobě i služb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edinou a nejdůležitější příčinou zpoždění vývojových činností je absence představitelů hlavních, vnitřních i vnějších, funkcí na vývojových projektech, kterých by se měli účastnit od počátku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funkční propojení, „život“ pohromadě, komunikace, připojení vnějších čini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-3 Podporujte pilotní projekt každého nápad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„ </a:t>
            </a: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Příliš se nepřipravujte..spousta lidí, kteří chtějí podnikat, se snaží všechno vědět. Nikdy nic neudělají. Moje idea je.. Vyjít na to zatracené hřiště a začít kopat do míče…měl jsem jenom inspiraci. O kopané jsem toho moc nevěděl. Nevěděl jsem ani,že existují dvě velikosti míčů na kopanou.. Takže další inspirace je  </a:t>
            </a: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jít a začít něco děl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Calibri"/>
              </a:rPr>
              <a:t>Don Benne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( první muž s amputovanou nohou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r>
              <a:rPr b="1" i="1" lang="cs-CZ" sz="1400" spc="-1" strike="noStrike">
                <a:solidFill>
                  <a:srgbClr val="000000"/>
                </a:solidFill>
                <a:latin typeface="Calibri"/>
              </a:rPr>
              <a:t>kt. Vylezl na Mount Rainier)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4 „Tvůrčí výměna tvrdých míčů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: Věci zjevné a skry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ýza konkurence – věcí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še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„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ní to náš vynález, ale pyšníme se tím, že jsem ho ukradli těm nejlepším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léhavé hledání jedin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5 „Jedna paní povídala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ampaň ústním podáním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ledání příjemců milujících inovací ( ne nutně velc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6 Podporujte zapálené bojovník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spěšný člověk – zaujetí vydrží zesměšň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lastnosti přeborníka: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en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osed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dealism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vychytral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nezdržení překážk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měs lásky a nenávisti s podřízený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žeři jako vedoucí bojovní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-7 „Vzorová“ inovace-prax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Účelová netrpěliv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hledávání a oslavování novátor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aložení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vorany sláv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 každé jednot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dmě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ěžování podpůrných od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8 Rychle odstraňujte chyb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LOŽITOST + NUTNÁ RYCHLOST = VÍC CHY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vzbuzování k chyb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íň hanby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é chybování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ychle poučení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ytřejší kr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chyby (neřeší 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ranatý kolík do kul. otvoru“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alšování d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987640" y="3284640"/>
            <a:ext cx="432000" cy="288720"/>
          </a:xfrm>
          <a:prstGeom prst="rightArrow">
            <a:avLst>
              <a:gd name="adj1" fmla="val 50546"/>
              <a:gd name="adj2" fmla="val 374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3716280"/>
            <a:ext cx="504720" cy="287280"/>
          </a:xfrm>
          <a:prstGeom prst="rightArrow">
            <a:avLst>
              <a:gd name="adj1" fmla="val 50278"/>
              <a:gd name="adj2" fmla="val 436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8000" y="4941720"/>
            <a:ext cx="432000" cy="287640"/>
          </a:xfrm>
          <a:prstGeom prst="rightArrow">
            <a:avLst>
              <a:gd name="adj1" fmla="val 56907"/>
              <a:gd name="adj2" fmla="val 375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0" y="5661000"/>
            <a:ext cx="576360" cy="360360"/>
          </a:xfrm>
          <a:prstGeom prst="rightArrow">
            <a:avLst>
              <a:gd name="adj1" fmla="val 50000"/>
              <a:gd name="adj2" fmla="val 399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-9 Stanovte měřitelné cí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0 Vypěstujte v korporac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hopnost ino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ledání nových nápad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ruchy jako příležit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ivníky proměnit v partne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aučte se milovat změnu: Nový pohled na roli 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doucího – na všech úrovní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vládnout paradox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ástroje vedoucího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Vypracovat inspirativní viz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Řídit příklad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aktikovat viditelné říz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dení pomocí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mocněných lidí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Věnujte pozornost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Skloňte se před řadovými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racovník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Předávejte odpovědnost a pravomoc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Odbouráním byrokracie usilujte o 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alibri"/>
              </a:rPr>
              <a:t>„horizontální“ manag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ákladní myšlenka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aždého hodnoťte podle jeho lásky k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změn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ěstujte pocit naléha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: Zvládnout parado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rma – laborato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lavní parad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dpora vnitřní st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stálé zm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ovýr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064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elkovýrobu umožnilo rozšíření železnice a telegrafu v nejvyspělejších zemích světa v polovině 19. stole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 přelomu 19. a 20. století začínají vznikat velké společnosti (U.S. Steel, General Electric, General Motors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tandardizace a specializace výroby vedla k výrobě v masových měřítcích(Ford, Baťa,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vyšovaní produktivity práce a snižování nákladů na materiál vedlo k zvyšování efektivity plynoucí z velkovýro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: Vypracovat inspirativní viz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Viz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á sílu, stane se naším živo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statečně obecn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agující na dnešní a zítřejší potřeb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irativ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sná a vyzývav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drážející pružnost podnik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il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ako majá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postavena na drobnoste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ýt v souladu s inovačními c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: Řídit příkla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mocí kalendáře – způsob využití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o povýšít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bo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: Praktikovat viditelné 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ormace z terén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ncelá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čel: omezit zkreslení informací a umožnit lepší rozh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5: Věnujte pozornost! (Více naslouche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luvení a dávání příkazů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x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ažované naslouch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6: Skloňte se před řadovými pracovní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rdinové organiz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avomoc jedn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7: Předávejte odpovědnost a pravomoc (deleguj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600200"/>
            <a:ext cx="8258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člivě zvážit co? a na koh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 předávání opravdov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álený „delegá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pravdu nezasah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8: Odbouráním byrokracie usilujete o „horizontální“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ní horizontální spolupráce řadových pracov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ažujte se za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dměňte lidi, kteří usilují o zničení byrokr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: Každého hodnoťte podle jeho lásky ke změ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ozpoč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 přesně jste změnili?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čera lépe než dn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0: Pěstujte pocit naléha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íce rychlejších změn – pocit naléhav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dstranění strachu: „Být při tom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Peters, Tom. Prosperita se rodí z chaosu. Praha: Pragma, 2001. ISBN: 80-7205-816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556000" y="1989000"/>
            <a:ext cx="3097080" cy="1730520"/>
          </a:xfrm>
          <a:prstGeom prst="wedgeEllipseCallout">
            <a:avLst>
              <a:gd name="adj1" fmla="val 62662"/>
              <a:gd name="adj2" fmla="val 36879"/>
            </a:avLst>
          </a:prstGeom>
          <a:solidFill>
            <a:srgbClr val="d8d4ba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yli ti velcí vůbec někdy výkonnější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o je velké je dobré, co je větší je lepší a co je největší je nejlepší. Lepší je hospodaření ve velkém měřítku – americký přístu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práva o hospodaření U.S. Steel (1930) konstatovala: Společnost je veliký, roztažený a nečinný kolos. (výrobní operace jsou špatně koordinovány, nejsou dostatečně známy náklady a relativní výnosnost tisíců prodávaných polož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002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dseda správní rady General Motors ve 30. letech uved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dá se, že prakticky všechny naše činnosti trpí ochablostí, která je následkem našich velkých rozměrů. Týká se to tolika lidí a vyžaduje to tak ohromné úsilí, když se má zavést něco nového,že nový nápad se pravděpodobně bude považovat za nevýznamný ve srovnání s úsilím, které je nutné vynaložit na jeho prosazení.“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Frederic Scherer studoval 15 závodů které dříve vlastnily velké společnosti, závody si později odkoupili manažeři, silný nárůst zisku, až na jeden závo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Důvody ke zlepšen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Využití příležitostí ke snížení nákladů, které dříve byly nepovšimnu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arnotratnost byla nahrazena střídmost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nížení stavu zaměstnanc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ahrazení operací počítač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Přehodnocení rozhodnutí vyrobit nebo koupi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Odstranění složité byrokratické struktu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Zavedení přísných kontrol inventář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0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lké podniky X malé podn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ysoké náklady na vnitřní koordina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eefektivní využití pracovní sí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lé firmy lépe a rychleji reagují na potřeby vybraných skupin zákazníků a zaměřují se na okrajové segmenty trh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olečnosti s hromadnou výrobou se musí zaměřit na široký trh, některé segmenty trhu budou nuceni přenechat konkuren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doba vítě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ochá(organizační struktura má méně úrovn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kost je prior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skytovat zákaznický ser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nohem rychlejší v inova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stříc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yužívat dobře vyškolené lidi jako hlavní prostředek ke zvýšení hodnoty a podíl na zisku a spoluúčast lidí, kteří zvyšují hodnot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ovace musí probíhat svižným temp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lavní předpoklad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vestujte do aplikací - skromné začát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Klíčové strategie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rosazujte týmovou práci ve výrob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každý pilotní projek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ebojte se „tvůrčí výměny tvrdých míčů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Jedna paní povídala“ – marketingový systé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ktiky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odporujte zapálené bojovní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anagementu               „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zorová“ inovace- prax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odpor. inovaci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Rychle odstraňujte chy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Stanovte měřitelné cíle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vá tvář firmy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Vypěstujte v korporaci schopnost inov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3c5df"/>
            </a:gs>
            <a:gs pos="100000">
              <a:srgbClr val="d8d4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-1 Začátky mohou být skromn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lcí hoši“ – velké, složité projekty – prohrávaj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í hoši“ – rychle jedou a často také prohrávají – revolu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Zlomte návyk „ velkého myšlení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ý začátek: vyžaduje skutečnou autonom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kromné financování a jednoduchý apará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lé starty – malé ztrá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14:00:41Z</dcterms:created>
  <dc:creator>Lucie Bieliková</dc:creator>
  <dc:description/>
  <dc:language>en-US</dc:language>
  <cp:lastModifiedBy>Lucie</cp:lastModifiedBy>
  <dcterms:modified xsi:type="dcterms:W3CDTF">2008-11-11T06:48:05Z</dcterms:modified>
  <cp:revision>38</cp:revision>
  <dc:subject/>
  <dc:title>Od masové velkovýroby k inovativnosti a hodnotě pro zákazníka</dc:title>
</cp:coreProperties>
</file>