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EFED-E957-4379-A79B-B2EA6053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F53-91FD-4C0D-B726-EC6542CD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62A87-4970-4159-A8AE-742CC062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41F20-849B-43D1-8313-F254F486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1DF9BB-D14D-4A6D-9875-F58160BE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DF1CE-8A03-4E41-878D-67ABE4D2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6141D8-D755-4F67-8E70-7C92075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5D0D13-A232-49B4-B3F6-053F7A6E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C4C727-E63C-4551-A951-90CAECFE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372625-DB3A-4461-8DBA-7078BC8D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6AE896-5AB4-4333-9241-34EE3CBF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9E76D3-06DE-4039-8E08-3005D626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02C-4C22-4E6A-96BC-348D507D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74464-D7DC-4EEE-912B-5443DD72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E87F4-9ACC-4769-99F5-219AD54B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FDF4C-B135-42E4-A21A-1988855F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4634B3-DF59-4A85-98D8-4EFF6E5F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CC8DF6-30C8-4220-BDDE-FC77B43F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4BD1F-A096-43C9-9522-4609BFE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76518B-EED9-4ECE-AA59-BC88B5E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806E20-A622-45A7-942D-4069A7D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41E63-A476-4925-8A32-A8B04E43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C2DCA-EB4D-48A8-8AC0-C50A7C1A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443-B156-44A3-8DBB-A89FD2F2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0EDF5A-064B-4227-A5DC-F5F16EA5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0E214-0EAA-4A22-A8B6-084ACEF1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118A7-8F65-4895-8D45-F503DCF2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ABBE2-9F3F-4B3F-907D-E80C37EE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A6E0B-220C-4572-913A-6B8164AF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FCA8B-A5D2-49E6-B368-8B3BA820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86585-359B-4008-86FC-80D91E80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A5FD8-8F25-413F-9A38-F41BB3DC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FDBF3-2EA5-4A2E-B130-BF2ABFC5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75454-A8B4-40A2-87B5-CCCC212A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A1C2-9C58-424D-BAC1-81F8F751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6858D-186D-414D-BCCF-6F1BB27B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B8AD5-F00F-4B6F-B1AD-624C04AA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363E5-8B5F-465E-A774-F21C0CD2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8A8D9-36A1-48BB-9BE6-53DE0573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44B2A2-EE41-4518-B545-36AFF4CC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F7CBB5-6B00-4893-B01E-A2EDDE2D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491907-B244-4374-82BD-2CC7C3B2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3D8A3-CBFA-48EE-975F-14E8D607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C80F95-C3C1-4A9D-A453-C06D493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2230E-8961-4C79-A47D-D6C5E1E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30CB-9B55-4F61-AD88-5AF8D5C0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6FC1D-7082-472C-A348-98726A2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6B564-A3E7-4F19-8FE7-79861F6D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F0038-E700-481F-A775-DE83AAF7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957E3-436E-4FA6-AC6B-0AA2D123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6F7F9-9368-4C4E-B901-D0DC4EFF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AFA8-D02E-4448-BCA8-D315195E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250E-A217-43D3-AA2A-0BFFAF6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94F0-FC08-4210-8346-3523CA43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F495-12DF-4A90-99FE-0A371CBE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0B1-9CFE-4464-BF68-40204019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A39-BD25-4423-B219-B8A90330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5C30-4113-4500-A3DA-89F0607C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A0A-2F4A-4323-B1C7-4FA9B888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19C-11D1-4103-B9E4-359B942B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880A-E609-4182-B00A-8F1A4012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E9F2-6C7A-4346-BC1B-ED26FE38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D681C-F2EA-4C1B-884A-FA86FA54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2C25-E49B-4579-A74F-ECBB9D6A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5BB0-8D5C-40DF-BEAE-B50008E3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8153-4948-451D-BBA4-E7A9E814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BE6C-23D0-4ABF-B6B1-976928E7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965-FFE8-4339-892F-266B8F45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0A2E-BDDC-48D6-9D19-377F79C1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418ED-AFD3-4023-A93D-3925C9E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1C26-FD15-4B9F-B609-11C1F7CF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CC00-0BD1-4C05-AD21-C4667976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30336-F30E-4EAA-9011-46D7B39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F4D1-694F-4893-A878-CF72017B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05730-544E-4FEC-8D63-60A7B7F8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C13D2-840F-4B3B-BE91-B273D91B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839E-314A-4F14-AEFA-16078594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D9DD-A760-4B23-B880-9A4337B1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DD79-3FEA-4917-A365-958E183B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C3F1E-2520-49BF-B741-476445AC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4C497-CD3C-42D1-9DA8-BF63E82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AF9FD-9A09-4C33-BF68-2A40110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57F9-CC93-4E40-AD35-2699805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CF11C-BE12-4E02-8648-F54AB9E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0D1F5-AFD0-41BC-8679-005AE6F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8833-587C-4D01-AD0A-D58FB980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9687C-098E-4711-9DD0-C7B6D691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ECED-BD5C-4446-A6A6-7B19C9ED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D34E8-752D-41EC-826A-161E2F4D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E309-EB22-4F3F-A37E-5D4C86F8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C79EB-4E23-4582-B384-96A9811F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7BB13-D7D9-49A5-83A8-8CA46D1B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C41B-7D1D-4E10-B816-E68B190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3FB3-42D7-4ED2-84F3-21B9DEAC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81354-83AD-425F-B64D-FCFD2A3C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200AD-7596-43A1-AE88-98922B26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4711D-721A-4359-B0E6-3DAACAA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325B5-6DF8-455B-B52F-AB2C921A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D015-C516-4E6B-B1E8-1DF27E8A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A471-BC73-4DB8-8C9E-B609AEEB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9DD-8C15-4FC8-A6E0-8A3E3313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74111-229A-4E9D-936F-30055308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BA9FA-8398-492D-9236-93965BAE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F8C5F-982E-4522-BB9B-6705A260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5FDCD-5F76-446E-8D3A-0E408E3E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1D404-6CEA-439E-BC3A-85FC536F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23A2F-3E7D-48C3-9CCF-6A4FD1C2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35ED2-64FB-404B-9346-BB0F69AA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74F1-F8ED-4DF4-A4CD-EBC108D7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A3E77-0D60-43D1-99C5-897B59C8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BCE31-1DC2-49DF-8641-44FA79CF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770-FF2C-4DEA-A5C2-51E1158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64FCA-6544-4564-B673-10DC0E6E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3F7D3-6F6D-4C7F-A2C0-5554501EA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FF4C-A9B7-4E4E-B20C-1FD27B12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735A8-1D2C-48B6-BC63-3974C850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B5C2-44E3-41B8-AE2A-ADAE9440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15AA5-1E0F-4E05-9F57-1CCA12EF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C0D35-814C-4EEB-A9B7-9E10EFC8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2E4BE-3EC3-4BEB-ABE6-1DD99552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4D5AF-8DE7-4AE4-9140-33E2327B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865C6-4929-48DD-AD87-9D9ACF6D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034D-4D63-4B81-AD6C-E329C05D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BCEDC-35D0-4BB9-9743-CFACA5F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36372-8C65-4474-9876-A26F0CB5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79DAF-AB55-411D-BAB1-598DFBA2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8FD4D-4659-4735-831F-010675E7E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9C651-87CD-453E-8804-7D6FA237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26835-B208-4F59-B7EC-115E00B4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EBECE-353E-497A-9C1C-ACCC39D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AD9F7-B130-4224-A2F4-10997C3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99679-E6CF-49CE-B893-DECA2E65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46031-3A5D-4A87-9EF2-18B16C1A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EA7-6C8C-4B9D-A073-1772ED09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E1B0F-ABB6-46B4-A06B-5E0280B6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E7420-FFF1-46F0-A156-AE578045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7382B-AF09-4554-A748-BBE8476B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B389A-93F8-4BBD-8749-6F110C9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1D97D-6BC1-4D69-8884-84D61C6A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901C7-3C59-47D9-9849-6D5B1B5B6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27299-ED53-4973-BACF-B9EA9F65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4A8C7D-6528-44BE-BCE3-EA4F4297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0D430-1B72-40BB-84F8-FE0146C8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42D04D-C875-40CF-8817-1EE4C7A9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1D5D-F3CA-4E39-B16F-E09E0023718E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římá spojovací čára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Obdélní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Obdélník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Obdélník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Obdélník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7E9E-84E6-476A-A9B1-4D20AB4A8B9F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C65B-6AD1-44AA-8670-31E18DF33658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Obdélní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Obdélní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Obdélník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římá spojovací čára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Elipsa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Elipsa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E451-5A18-4EFB-AB4A-B73E39A78A6B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Obdélní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Obdélní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Obdélní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Elipsa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CB2C-87F1-4C07-AE85-C1B4F9ECAE53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D361-B0F0-4C50-BA6A-3CC8FEBA1572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Obdélní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Obdélní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Obdélní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Obdélní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Obdélník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Obdélník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římá spojovací čára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Elipsa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Elipsa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45B0-9CE0-486D-8CE6-A065C9326975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římá spojovací čára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53FA-E904-42D7-BC81-672C7483F54C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římá spojovací čára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Obdélní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Obdélní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Obdélní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Obdélník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Obdélník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římá spojovací čára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Obdélník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Elipsa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Elipsa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4C0-99A6-4F17-8BF4-F0FCAE3B70B5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Obdélní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Obdélní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Obdélní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Obdélní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Obdélní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Obdélní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římá spojovací čára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Elipsa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Elipsa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5EC6-CE48-4461-B950-BD45B45DF5F1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Obdélní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Obdélní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Obdélník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Obdélník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21B8-0BE1-46FC-9724-D4AE87D993FD}" type="slidenum"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Obdélník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Obdélní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Obdélní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Obdélní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Obdélní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Obdélník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Obdélník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římá spojovací čára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Elipsa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Elipsa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Obdélník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4A0-19A0-4785-A5F6-E705DEE380A7}" type="slidenum">
              <a:rPr b="0" lang="cs-C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s.wikipedia.org/wiki/Globalizace" TargetMode="External"/><Relationship Id="rId2" Type="http://schemas.openxmlformats.org/officeDocument/2006/relationships/hyperlink" Target="http://dumfinanci.cz/ekonomika/franchising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57200" y="37857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ŠIMEČE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JAN UHL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Georgia"/>
              </a:rPr>
              <a:t>MARTIN KARLÍK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d16349"/>
                </a:solidFill>
                <a:latin typeface="Georgia"/>
              </a:rPr>
              <a:t>Sociální kořeny a důsledky globalizace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 (2)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nald Clemmer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zení jako škol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jvíce lidí ve věznicích „ze dna“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ěstské ghet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Do Ghetta slušnému člověku vstup zakázá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Lokální nikoli globální zločinnos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trategi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„odmítání odmítačů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elmi jemný závěr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Globalizace je společenský proces, který nejde zastavit, obejít, či ho ignorova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Globalizace není ani dobrá ani špatná. Globalizace je taková, jakou ji lidé udělají. Jako každý systém musí sloužit lidské osobě. Musí sloužit solidaritě a lidskému dobru.“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Jan Pavel II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Efektiv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vantifikace a kalkul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dvídatelno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trol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Vědecký management  a fordismus jako předchůdce McDonaldizac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spcBef>
                <a:spcPts val="499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„ </a:t>
            </a:r>
            <a:r>
              <a:rPr b="0" lang="cs-CZ" sz="2000" spc="-1" strike="noStrike">
                <a:solidFill>
                  <a:srgbClr val="646b86"/>
                </a:solidFill>
                <a:latin typeface="Georgia"/>
              </a:rPr>
              <a:t>Jakýkoliv zákazník může mít naše auto jakékoliv barvy, kterou chce, pokud je to černá.“  H.Ford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McDonaldizace v byrokracii – standardizace procesů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izace společnosti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entist, McDoctors, McPaper atd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646b86"/>
                </a:solidFill>
                <a:latin typeface="Georgia"/>
              </a:rPr>
              <a:t>proces ovlivňuje nejen restaurační stravování, ale také vzdělání, zaměstnání, cestování, volný čas, politiku, rodinu a potenciálně všechny sektory společnosti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McDonald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s jako známka globaliza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451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ať si dáte hamburger v New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Yorku, Londýně nebo v Praze, McDonald</a:t>
            </a:r>
            <a:r>
              <a:rPr b="0" lang="en-US" sz="1800" spc="-1" strike="noStrike">
                <a:solidFill>
                  <a:srgbClr val="646b86"/>
                </a:solidFill>
                <a:latin typeface="Georgia"/>
              </a:rPr>
              <a:t>’</a:t>
            </a: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s vám zaručí, že ve vaše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oblíbeném jídle bude přesně to, co chcete a na co máte chuť, a také vás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budou obsluhovat lidé ve stejných uniformách a budete v tak totožném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podniku tomu vašemu oblíbenému, že můžete nabýt dojmu, že jste ani svoji </a:t>
            </a:r>
            <a:br>
              <a:rPr sz="1800"/>
            </a:br>
            <a:r>
              <a:rPr b="0" lang="cs-CZ" sz="1800" spc="-1" strike="noStrike">
                <a:solidFill>
                  <a:srgbClr val="646b86"/>
                </a:solidFill>
                <a:latin typeface="Georgia"/>
              </a:rPr>
              <a:t>rodnou zemi neopustili</a:t>
            </a:r>
            <a:endParaRPr b="0" lang="en-US" sz="18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Franchising (z francouzského franchis osvobodit) je smluvní vztah mezi partnery, ve kterém poskytovatel franšízy (franchisor) poskytuje svou značku a právo užívat předmět podnikání své společnosti, tj. poskytuje své know-how, včetně systému řízení a zabezpečování služeb, a nabyvatel franšízy (někdy označován jako franšízant) se zavazuje zaplatit smluvně stanovenou odměnu a dodržovat komerční politiku poskytovate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Georgia"/>
              </a:rPr>
              <a:t>Mezi hlavní výhody franchisingu patří to, že dovoluje podnikat v daném oboru bez počátečních znalostí, bez dlouhého získávání zkušeností a praxe a snižuje riziko krachu. Dále dovoluje používat provozní systém a postupy, chráněné receptury a strategii marketingu franchisora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McDonald</a:t>
            </a: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’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s a Franchis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Dnes můžeme výrobky McDonald’s nalézt ve více jak 100 zemích všech kontinentů. 30 000 restaurací po celém světě vycházejí ze společných základů, pravidel a zásad podnikání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ranšízant si kupuje vybavení restaurace a zároveň samotnou franchise, která ho opravňuje po dobu 20ti let používat obchodní známku a další práva společnosti McDonald‘s. Na druhé straně je povinen dodržovat standardy společnosti v oblasti kvality, servisu a čistoty a odvádět poplatky z pronájmu prostor a za poskytnutí franchise, které odpovídají určitému procentu z obratu restaurace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? Kam to směřuje 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aha o sjednocení ať už Evropy či celého světa by mohla znamenat zánik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noha kultur, čímž by se člověk naprosto zbavil fascinující barevnosti a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exotiky na této planetě. Pravděpodobně by po tomto kulturním sjednocení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astoupila jakási jednotná „kultura“, která by nás zahrnovala řadou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ekvalitních, ale pro konzumní společnost velmi snadno stravitelných, filmů,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nih, řadou konzumní hudby a další spoustou věcí, které by měli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uspokojit naší kulturní potřebu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Literatura a další zdroj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BAUMAN, Z. Globalizace. Praha: Mladá fronta, 1999. ISBN 80-204-0817-7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Georgia"/>
              </a:rPr>
              <a:t>Wikipedie: Globalizace</a:t>
            </a: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cs.wikipedia.org/wiki/Globaliza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Fanšíza, </a:t>
            </a:r>
            <a:r>
              <a:rPr b="0" lang="cs-CZ" sz="20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http://dumfinanci.cz/ekonomika/franchisi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itzer, G. McDonaldizace společnosti. Praha: Academia, 1996. ISBN 80-200-0571-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V nejobecnější rovině slovo globalizace znamená zvyšující se propojování světa ve všech oblastech života lidí. Globalizace je souborem mnoha různorodých procesů, které obsahují aspekty ekonomické, sociální, kulturní a politické. Tyto procesy jsou vzájemně provázané a navzájem se podmiňují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Zygmunt Bauman - Glob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Ať je tomu, jak chce, proces globalizace resp. lokalizace je neodvratný a jeho důsledky postihnou všechny bez rozdílu. Někomu přinesou nové netušené možnosti, jiným jen zpečetí krutý osu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Globalizace resp. lokaliza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olný pohyb kapitálu (mobilita kapitálu) → svoboda od starostí a odpovědnosti -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”Každý, kdo může utéct z lokality, může utéct od důsledků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Změna ve vnímání “vzdálenosti” – hlavní požadavek je rychlost – v dopravě, v přenosu informa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Technologické zrušení časoprostorových vzdáleností lidskou situaci spíše polarizuje, než homogenizuje.“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Válka s prostore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Tvorba přísně racionálního, funkčního, městského prostoru, vede k rozpadu ochranných sítí utkaných z lidských vazeb a vede neomylně k osamělosti a intoleranci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Funkce měst, jako ochrany před nepřítelem “zvenčí” ztratila na významu a naopak byla nahrazena obavou z nepřítele “uvnitř”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Každodenní hromadění dat o každém z ná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Co dál po národním státě?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ýznam národního hospodářství klesá díky neomezené schopnosti pohybu kapitálu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vytvořil se </a:t>
            </a: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„nový světový neřád“ = globální zmate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Georgia"/>
              </a:rPr>
              <a:t>Pokusy o nalezení nadnárodní svrchovanosti a kontroly naopak vedly k ještě větší členitosti a roztříštěnosti.</a:t>
            </a: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podlamování „opory třínožky svrchovanosti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Globalizace je prospěšná velmi malému množství lidí, dvě třetiny světové populace vynechává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Ideální typ konzumenta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p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řilne k věc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sb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ěrač požitků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Uspokojování požitků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éměř okamžitě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Příslib uspokojení předchází potřebě, jež se slibuje uspokojit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„</a:t>
            </a:r>
            <a:r>
              <a:rPr b="0" i="1" lang="cs-CZ" sz="2700" spc="-1" strike="noStrike">
                <a:solidFill>
                  <a:srgbClr val="000000"/>
                </a:solidFill>
                <a:latin typeface="Georgia"/>
              </a:rPr>
              <a:t>Touha netouží  po uspokojení, touha touží po touze.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Turisté, tuláci (2)</a:t>
            </a:r>
            <a:r>
              <a:rPr b="0" lang="cs-CZ" sz="3300" spc="-1" strike="noStrike">
                <a:solidFill>
                  <a:srgbClr val="7b9899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 člověk v pohybu – turista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onzumentem však nemůže být každý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naději, že se požadované touze může přiblížit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ít dostatečné prostředky aby mohl volit.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yčleňují se tak dvě skupiny – turisté vs. tulác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risté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chtějí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přemlouvá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Tulác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tla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en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často ilegálně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ejsou v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ítán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ob</a:t>
            </a:r>
            <a:r>
              <a:rPr b="0" lang="cs-CZ" sz="3300" spc="-1" strike="noStrike">
                <a:solidFill>
                  <a:srgbClr val="7b9899"/>
                </a:solidFill>
                <a:latin typeface="Georgia"/>
              </a:rPr>
              <a:t>ální zákony, lokální řád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85480" y="19288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Nežádoucí (podezřelé) činnosti -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&gt; n</a:t>
            </a: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álepka zločinu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Kriminalizace chudo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láda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Potírání klasické formy zločinu -</a:t>
            </a: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&gt; p</a:t>
            </a: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římo ohrožuje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Upozorňuje na fyzické bezpečí 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lvl="1" marL="743040" indent="-285840">
              <a:spcBef>
                <a:spcPts val="5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646b86"/>
                </a:solidFill>
                <a:latin typeface="Georgia"/>
              </a:rPr>
              <a:t>Materiální zabezpečení a jistotu nemůže (globál. tlaky)</a:t>
            </a:r>
            <a:endParaRPr b="0" lang="en-US" sz="23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Georgia"/>
              </a:rPr>
              <a:t>Více jsou postihování „chudí“ než „bohatí“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9:24:17Z</dcterms:created>
  <dc:creator>Vajcka</dc:creator>
  <dc:description/>
  <dc:language>en-US</dc:language>
  <cp:lastModifiedBy>Vajcka</cp:lastModifiedBy>
  <dcterms:modified xsi:type="dcterms:W3CDTF">2008-10-27T09:39:32Z</dcterms:modified>
  <cp:revision>2</cp:revision>
  <dc:subject/>
  <dc:title>Sociální kořeny a důsledky globalizace</dc:title>
</cp:coreProperties>
</file>