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FEBB-585A-4C02-BC1F-169AEA1BC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F214-7CBD-4363-866E-4D7C1755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7608-E774-4E03-9945-6D70A8C66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9EE9-3153-4C12-8A8D-3F3554584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8879-A86A-4778-8F44-E0EB9087C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4084-5AC2-4DC1-9C4E-D9C89DD4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D9D7-7913-4D28-B5FF-5D574FDE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C3B8-EDB4-4AAC-A7B5-268F1B9B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3E2D-864A-49F4-9DBB-78A77AEC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7C10-E20F-4443-8818-2D5CA68B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DC65-8657-4FCA-A750-41C4973A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A86E-4809-470B-9C16-EF19653E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BAC4-955C-4C7E-96EC-F658A335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3907-9575-44BC-88CE-FFDC4B83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A880-45C8-46F0-923B-FA0D5BC0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0014-0A1C-402D-8DC1-5CE287565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B696-05DC-4E19-9AF7-6BD4182F8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EC09-AF10-490D-AA19-7914F13F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BD91-8E20-484E-A03B-22B7B1D7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3BA9-E676-42DB-A181-ECA3F940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74A7-76C2-40F7-9DEE-9527AC8C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A120-E9CD-463D-833C-DFBB2FB1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F9E0-8059-4DAE-8843-C9077EB5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3381-EC57-4E1E-BBA6-33E1C394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FB1F-5C88-4C97-9CD1-546B8B1E5F46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AE83-5136-44DD-A8F3-CAC13C9D8BA7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5640" y="404280"/>
            <a:ext cx="77058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Sociální kořeny a důsledky globalizace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5148360" y="4797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utoř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64200" y="4164120"/>
            <a:ext cx="196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67480" y="4092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06840" y="4797360"/>
            <a:ext cx="228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Bc. Marie Adamov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Bc. Monika Kudlov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Bc. František Chur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ociální důsledky 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Lidský potenciál a práce je zbožím na trzích, tvořivost je produk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Úpadek klasických obor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eregulace trhu prá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měny organiz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Hédonism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rovn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emě jako omezený celek </a:t>
            </a:r>
            <a:r>
              <a:rPr b="0" lang="cs-CZ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ekolog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árodní hodnoty a ideolog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ahoma"/>
              </a:rPr>
              <a:t>Zdroj: Lehmannová, Z.:  Aktuální otázky globalizac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ociální důsledky I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15920"/>
            <a:ext cx="75438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ivně optimistická definice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deální nástroj pro řešení sociálních a ekologických problém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dikálně kritická definice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ociální polariz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ěcně sociologická definice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ekonomické X politické síl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olitika už nemá šanci něco ovlivn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jistota pro nižší a střední vrstvy společnosti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hrožení demokraci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708360" y="378936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ociální důsledky II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rojí zisk nadnárodních fir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ýroba v zemích s nízkou cenou pracovní sí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dej výrobků v zemích s vysokou kupní silo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danění v zemích, kde je to nejvýhodnější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opad trojího zisk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Firmy jsou bohatší než stá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Podle skeptiků „…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časem dojde k situaci, k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v bohatších evropských zemích bude zaměstnáno zhruba jen 20% populace v ekonomicky aktivním věk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“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Zdroj: Keller, J.: Soumrak sociálního státu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eaeaea"/>
                </a:solidFill>
                <a:latin typeface="Tahoma"/>
              </a:rPr>
              <a:t>Politická a ideologická stránka globalizácie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Náš pohľad na problémy globalizácie je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Europocentrický, príp. euroatlantický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Z prostredia liberálnej demokracie – individualistické pojatie ľudských práv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Ale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Regionálne a miestne vplyv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Náboženské vplyv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Stretávanie kultúr – súboj s tradíciami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ahoma"/>
              </a:rPr>
              <a:t>Proces globalizácie je chápaný ako centristický proces riadený z oblasti Atlantického oceánu – oblasť najbohatších štátov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aeaea"/>
                </a:solidFill>
                <a:latin typeface="Tahoma"/>
              </a:rPr>
              <a:t>Problémy ovplyvnené kultúrnym a sociálnym prostredím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atinskoamerická kritika neoliberalismu – globalizácia vytvára sociálnu nestabilit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Ázijské pojatie demokracie – kolektivizmus, silná rola rodiny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Islámsky fundamentalizm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frika – tradičné usporiadanie spoločnosti, miestny komunitarizm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Náboženská otázka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Hodnoty, ideje a štruktúry sociálneho života v minulosti jasne definované náboženstvom sú naruše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možnosť vytvoriť globálnu náboženskú a politickú jednot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Globalizácia plodí konflik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oniec náboženského monopol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aeaea"/>
                </a:solidFill>
                <a:latin typeface="Tahoma"/>
              </a:rPr>
              <a:t>Čo z toho vyplýva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Energiu, akú Západ vydáva na šírenie demokracie, by mal vyvinúť aj na pochopenie ostatných kultúrnych a náboženských celkov, s ktorými sa na ideovom poli potýka, pretože iba tak sa dočká nejakého spoločného záveru a vzájomného obohatenia.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Zdroje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BAUMAN, Zygmunt: Globalizace. Mladá fronta 1999. 157s. ISBN 80-204-0817-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ELLER, Jan: Soumrak sociálního státu. Slon 2005. 158s. ISBN 80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6429-41-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LEHMANNOVÁ, Zuzana a kol. Aktuální otázky globalizace. Oeconomica 2003. 407s. ISB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0-245-0621-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EHL, Martin: Globalizace pro a proti. Academia 2001. 185s. ISBN 80-200-0897-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ojetí globalizace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konomick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itick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ultur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onkrétní příklady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cDonald’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elevi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world mus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ahraniční turisté dovnitř i čeští cestovatelé v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vobodný intern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aeaea"/>
                </a:solidFill>
                <a:latin typeface="Arial"/>
              </a:rPr>
              <a:t>Kniha: Globalizace (Bauman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Bauman: Časoprostorová kompre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Bauman: Konzumní společ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Bauman: Mnozí sledují hrstku - celeb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aeaea"/>
                </a:solidFill>
                <a:latin typeface="Arial"/>
              </a:rPr>
              <a:t>Kniha: Globalizace (Bauman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Bauman: Svět se rozděluje na bohaté a chud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Bauman: Státy tlačeny vyhovět podmínkám investorů – dělat pracovní sílu pružn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ořeny globaliza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16280"/>
            <a:ext cx="7543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6. – 19. století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spcBef>
                <a:spcPts val="649"/>
              </a:spcBef>
              <a:buClr>
                <a:srgbClr val="ffffff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Konec středověku až 18. století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spcBef>
                <a:spcPts val="649"/>
              </a:spcBef>
              <a:buClr>
                <a:srgbClr val="ffffff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řelom 18. a 19. století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vropa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merik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97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ědecko-technický rozvoj + průmyslová výroba + export do světa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obální civilizační integrační proces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24360" y="4365720"/>
            <a:ext cx="21603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ředpoklady globaliza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ě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chn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cionali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kumulace informa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jekt-objektový vztah k prostřed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ůsledky globalizace 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16280"/>
            <a:ext cx="75438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ff"/>
                </a:solidFill>
                <a:latin typeface="Tahoma"/>
              </a:rPr>
              <a:t>Dlouhodobá změna HDP na obyvatele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ff"/>
                </a:solidFill>
                <a:latin typeface="Tahoma"/>
              </a:rPr>
              <a:t>(v cenách roku 1980, v USD)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Zdroj: Angus Maddison, Monitoring the World Economy 1820-1992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Development centre of OEC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2920" y="2822400"/>
            <a:ext cx="889308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ůsledky globalizace II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jem odciz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dcizení člověka jeho vlastním výtvorů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dcizení společenským silám a vztahů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dcizení přírod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dcizení sobě samém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07:07:13Z</dcterms:created>
  <dc:creator>ucebna</dc:creator>
  <dc:description/>
  <dc:language>en-US</dc:language>
  <cp:lastModifiedBy>snoopy</cp:lastModifiedBy>
  <dcterms:modified xsi:type="dcterms:W3CDTF">2008-10-29T11:16:39Z</dcterms:modified>
  <cp:revision>67</cp:revision>
  <dc:subject/>
  <dc:title>Snímek 1</dc:title>
</cp:coreProperties>
</file>