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937-736B-4E92-8256-3210B5F8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AA0-8F3D-466C-AC22-E83AC802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0F5-03A5-482B-BFE3-BB7FC2BA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69D-691F-44C8-9B84-EE100DAD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E216-7A6C-4FCC-8AFA-D980CABE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1730-70EA-4B09-BF4A-CEA72FE2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3B2D-F1C6-4F4E-B869-8E3D096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C78-EA98-4072-A6B5-A2F69EED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187-0C45-473E-9B25-EFBE024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90D4-F331-4944-BD36-F781FF02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C1C-808F-4E29-8DA8-39AE3294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E76-8827-4FBD-8E12-15AC6544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FDD7-66CF-42AC-9AF9-274D8150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D6ED-3E1E-455F-A603-F00AC53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07D0-9D25-4389-929D-42A6E07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96B9-C42A-4AC8-BD3C-DC350F2C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88AB-1596-4112-B6A3-BB4A4BFF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6A60-A1DA-436B-923B-331D4CF1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B5D-F62E-4589-8EE6-4A7294C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D6D-C2C9-46A3-9640-4250486C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3BE-DB00-48E1-818F-E28DF428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EC09-DE31-404F-B57B-4AA9929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171-0023-4237-ABA3-9A17A306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9225-DDE3-4377-BAFA-30EE8679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000099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43DD-7BD0-4E1F-9D76-BDA010C894B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9FEC-774D-4C4F-90CE-F52B9A482C1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0099"/>
          </a:solidFill>
          <a:ln w="9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Analýza praxe managementu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ucie Netíková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iří Richter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osef Trubačí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1.11.2008 Brn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loridská síť supermarketů založená Georgem Jenkinse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kladem je přístup k pracovní sí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a šedesátiletou existenci nebyl propuštěn ani jeden zaměstnanec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ublix: Práce potěšení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incipy práce se zaměstnanci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Základ v potřásání rouko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šichni začínají jako nosiči pytl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ty na pokladnách o třetinu vyšší než druhý nejlépe platící konkuren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Koncept společník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ětšina společnosti vlastněna zaměstnanc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láda nad vlastním obchodem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inkertonova Národní detektivní agen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braham Lincoln, Jasse James, Butch Cassidy, Sundance Kid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istorický klíčová role náboru zaměstnanců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Pinkerton: Lekce z prověřován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prověřování zaměstnanců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Žádost, pohovor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est zkoumající poctivost a ochotu dodržovat podniková pravidl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elliView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racovní anamnéza, kriminální činnost, dopravní záznamy, zkoumání bankovních účtů, zkoumání likvidity, veřejné registr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99"/>
                </a:solidFill>
                <a:latin typeface="Verdana"/>
              </a:rPr>
              <a:t>V žebříčku nejrespektovanějších firem světa vedou americké společnosti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General Electric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Microsoft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IBM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oca-Cola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Dell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Citigroup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Wal-Mar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ffff"/>
                </a:solidFill>
                <a:latin typeface="Verdana"/>
              </a:rPr>
              <a:t>Hewlett-Packard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218592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znik 1837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ce svíček William Procter a výrobce mýdel James Gamble spojili své síly a založili firmu Procter &amp; Gam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založena v americkém státě Ohio ve městě Cincinnati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de-DE" sz="2600" spc="-1" strike="noStrike">
                <a:solidFill>
                  <a:srgbClr val="ffffff"/>
                </a:solidFill>
                <a:latin typeface="Verdana"/>
              </a:rPr>
              <a:t>o druhé světové válce společnost expandovala do Evropy a dále pak do celého světa.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4360" y="189000"/>
            <a:ext cx="1296720" cy="1276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7164360" y="260280"/>
            <a:ext cx="1297080" cy="11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 roce 2005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trhy ve více než 160 zemích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íce než 100 000 zaměstnanců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výrobní závody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rakovnická Rakona, rumunský Temešvár, ruský Novomoskov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ukrajinských Borispol, Budapešť a Varš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32720" y="1700280"/>
            <a:ext cx="1807920" cy="160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765000"/>
            <a:ext cx="82296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Procter </a:t>
            </a: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&amp;</a:t>
            </a: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 Gamb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dzim 2000 šéfem Alan George Lafle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ijdi na to co spotřebitelka chce a dej jí to“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oustředil se na klíčové aktiv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voj značek nejvíce se podílejících na obratu firm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většina aktivit kolem Ariel, Pampers, Always, Pantene, Pringles, Lenor!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během pěti let třikrát větší zisk a dvakrát vyšší hodnota ak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ílené akvizice – produkty a nápady vyvinuté i cizími zdroji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ovace a nové produk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inspirace u zákazníků - „Zákazník je pán“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kamery v prádelnách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Verdana"/>
              </a:rPr>
              <a:t>lehčí otevírání prášků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dominantí pozice = manipulace s cenami dle potřeb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koupě Gillette – trh s výrobky pro muž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020000" y="5205240"/>
            <a:ext cx="1512720" cy="839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řístup k </a:t>
            </a:r>
            <a:r>
              <a:rPr b="1" lang="cs-CZ" sz="2600" spc="-1" strike="noStrike">
                <a:solidFill>
                  <a:srgbClr val="ffffff"/>
                </a:solidFill>
                <a:latin typeface="Verdana"/>
              </a:rPr>
              <a:t>zaměstnancům </a:t>
            </a: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hlavním důvodem, že je firma špičkou ve svém obo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zaměstnanci nejdůležitější součástí podnik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ezinárodní kariéra, povýšení, odpovědnost od prvního dne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65040" indent="-36504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péče – nejen mzdy ale i různé benefi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000099"/>
                </a:solidFill>
                <a:latin typeface="Verdana"/>
              </a:rPr>
              <a:t>Managemen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000099"/>
                </a:solidFill>
                <a:latin typeface="Verdana"/>
              </a:rPr>
              <a:t>Nepeněžní výhody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enzijní připojiště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skupinová životní pojistk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jištění na cestování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po roce možnost nákupu akcií s přispění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nadstandartní medicínské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masážní centrum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 kantýně ze 2/3 dotovaná strav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výrobky za zvýhodněné cen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cca 1000Kč/rok lístky na sport a kulturu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Verdana"/>
              </a:rPr>
              <a:t>Poděkován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ěkujeme za pozornost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tor pro vaše dotazy, náměty a připomínky. A rovněž pro další zcela jistě natěšené prezentující…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Literatur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TERS, T. J., WATERMAN, R.H. Hledání dokonalosti. Praha: Svoboda, 1992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ONNELLY, J.H. Jr., GIBSON, J.L., IVANCEVICH, J.M. Management. Praha: Grada Publishing, 2004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ELCH, J., BYRNE, J. A. Jack rovnou k věci. Praha: Pragma, 2006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ttp://www.procter-gamble.cz/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otivace jedn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Blíže zákazníkov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utonomie podnik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duktivita zásluhou lid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99"/>
                </a:solidFill>
                <a:latin typeface="Verdana"/>
              </a:rPr>
              <a:t>Osm atributů vynikajících společností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sazování praktické stránky, zaměření na hodnot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ůstaňte věrni svému obor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Jednoduchá forma, nepočetný personá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000099"/>
              </a:buClr>
              <a:buSzPct val="6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oučasně volno-pevné vlastn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Verdana"/>
              </a:rPr>
              <a:t>Obsah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sm atributů vynikajících společnost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99"/>
                </a:solidFill>
                <a:latin typeface="Verdana"/>
              </a:rPr>
              <a:t>Minipřípadovk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Verdana"/>
              </a:rPr>
              <a:t>General Electric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blix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inkerton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rocter &amp; Gambl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oděkování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Generální ředitel Jack Welc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měny navzdory ziskovost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ransformace management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Vize sdílených hodno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Verdana"/>
              </a:rPr>
              <a:t>Přehodnocení strategie u General Electr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00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Zásady J. Welche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Méně řídit znamená lépe řídit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ytvořte vizi a pak uhněte z cest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dukujte, dokud není příliš pozdě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Brzda: zbavte se svého tuku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dstraňte hranice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0000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oužijte e-business jako poslední hřebík do rakve byrokra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7:51:10Z</dcterms:created>
  <dc:creator>Jiří Richter</dc:creator>
  <dc:description/>
  <dc:language>en-US</dc:language>
  <cp:lastModifiedBy>Jiří Richter</cp:lastModifiedBy>
  <dcterms:modified xsi:type="dcterms:W3CDTF">2008-11-11T07:32:42Z</dcterms:modified>
  <cp:revision>40</cp:revision>
  <dc:subject/>
  <dc:title>Přirozený a umělý řádc</dc:title>
</cp:coreProperties>
</file>