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5082-8B3C-45D1-A9A9-C4E0A5413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2852-4BF7-4400-891C-5CDDE8235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15A0-D6C2-4866-9876-B9A50F9D2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0307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38756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35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60307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738756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0215-3D90-4EF5-8A6A-563458EE5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4B22D-0A01-40E4-BB9C-7A320F373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B5219-5B18-4A8F-BEF2-3F5B91481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16D28-4A78-47DF-9352-8C41E5E23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6CA3F-A7E9-4366-A96A-1E973F2AB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532F3-B514-4B14-97F2-A66AFEC45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64800" y="1269360"/>
            <a:ext cx="7671600" cy="62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0E048-8F82-4504-940A-2B2C48666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7F6C8-6354-4B15-A95B-4BA0179A6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E408-EB03-4165-B6F6-94245C74C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9213C-C1F4-45FD-8AB8-3F7F32B0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A25FC-1BBE-498E-830C-2D15CCDE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36DBB-50BF-4745-B03D-90E890E14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C915D-21F3-42F3-A03F-AFAB5D8FA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03072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7387560" y="292752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35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603072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7387560" y="3879360"/>
            <a:ext cx="129204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BD4C2-4574-44A6-8487-AEE09B0E3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C9A0-2743-4A7E-91B4-222DC1C4D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E5CD-C5A0-4AF3-B840-147BE1082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B935-4A54-473D-B037-9D2D08CDC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64800" y="1269360"/>
            <a:ext cx="7671600" cy="624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F96B-6D14-4B57-AF9C-D64E78044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486A-BEC6-4A9E-B3FE-43E9F369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30200" y="387936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6004-44CE-4F8A-B2CB-1C34A6E7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730200" y="2927520"/>
            <a:ext cx="19584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40132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3BE9-0393-4597-8E7D-9DB5D522C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46EE3-7302-4830-BDCE-BFF2AA42F34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DA1D2-E466-428F-B4E1-88679D92D91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Vysoce zhodnocující podniky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Zora Navrátilová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Michal Meluzín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Tomáš Dostál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lobální síť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Staré velkovýrobní ekonomiky – produkty s výraznou státní příslušností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Nové vysoce zhodnocující podniky – původ výrobku více a více nejasný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 algn="just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Příklad: </a:t>
            </a:r>
            <a:r>
              <a:rPr b="1" lang="cs-CZ" sz="2400" spc="-1" strike="noStrike" u="sng">
                <a:solidFill>
                  <a:srgbClr val="003366"/>
                </a:solidFill>
                <a:uFillTx/>
                <a:latin typeface="Arial"/>
              </a:rPr>
              <a:t>precizní vybavení pro hokej </a:t>
            </a: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– navrhováno ve Švédsku, financováno v Kanadě, sestavováno v Clevelandu a Dánsku, výzkum slitiny v USA, výroba slitiny v Japonsku, reklamní kampaň v Británii…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lobální síť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826920" y="2349360"/>
            <a:ext cx="7888320" cy="42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Předmětem mezinárodní obchodní výměny jsou spíše služby související se specializovaným řešením problémů a se zprostředkovatelstvím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3366"/>
                </a:solidFill>
                <a:latin typeface="Arial"/>
              </a:rPr>
              <a:t>Příklad: Když si Američan koupí auto u GM na 20 000 dolarů, tak: 6000 do J. Koreji – práce a montáž, 3500 do Japonska – komponenty, 1500 do Německa – návrhy karoserie a konstrukce, 800 do Tchajwanu a Singapuru – malé komponenty, 500 do Británie – reklama, 100 do Irska a Barbadosu – zpracování dat, 8000 do Detroit, NY, Washington, GM – právníci, lobbisté, stratégové, pojišťovny…</a:t>
            </a:r>
            <a:r>
              <a:rPr b="1" lang="cs-CZ" sz="2200" spc="-1" strike="noStrike" u="sng">
                <a:solidFill>
                  <a:srgbClr val="003366"/>
                </a:solidFill>
                <a:uFillTx/>
                <a:latin typeface="Arial"/>
              </a:rPr>
              <a:t>akcionáři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564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lobální síť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Problémy spojené s globální sítí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Daň z přijm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Prostředky k manévrování a obcházení úředních nařízení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Snaha o zvýhodnění v mezinárodním obchod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Převlékání národního kroj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Např. Nařízení Pentagonu pro nákup „amerického“ vojenského vybavení, protesty firmy Hyster, FORD…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Konec národního šampion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3366"/>
                </a:solidFill>
                <a:latin typeface="Arial"/>
              </a:rPr>
              <a:t>Státní příslušnost převládajících akcionářů firmy a špičkových manažerů             stále méně spojena s místem, kam se investuje a s jakým partnerem se uzavírají smlouvy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3366"/>
                </a:solidFill>
                <a:latin typeface="Arial"/>
              </a:rPr>
              <a:t>Nadnárodní korporace nerespektující státní hranice - globální výroba je optimální způsob, jak „využít nejnovější technologie, kterou může firma použít“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3366"/>
                </a:solidFill>
                <a:latin typeface="Arial"/>
              </a:rPr>
              <a:t>Např. firma DuPont – podpora a spolupráce na virologickém výzkumu v československém Ústavu organické chemie a biochemie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Šipka doprava 3"/>
          <p:cNvSpPr/>
          <p:nvPr/>
        </p:nvSpPr>
        <p:spPr>
          <a:xfrm>
            <a:off x="5357880" y="2000160"/>
            <a:ext cx="928800" cy="28584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33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Konec národního šampion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71040" y="2332080"/>
            <a:ext cx="8472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Z národního šampiona             globální síť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Model této sítě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velkovýroba standardizovaných produktů v zemích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s nízkou úrovní mez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vysoce zhodnocující řešení              všude tam, kde lze najít užitečné nápady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Šipka doprava 3"/>
          <p:cNvSpPr/>
          <p:nvPr/>
        </p:nvSpPr>
        <p:spPr>
          <a:xfrm>
            <a:off x="5076720" y="2421000"/>
            <a:ext cx="928800" cy="28584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33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Šipka doprava 5"/>
          <p:cNvSpPr/>
          <p:nvPr/>
        </p:nvSpPr>
        <p:spPr>
          <a:xfrm>
            <a:off x="5580000" y="4292640"/>
            <a:ext cx="928800" cy="28584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33cc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Zahraniční investice ve v.z.p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Globalizace investic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Lidský kapitál = nejcennější aktiv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3366"/>
                </a:solidFill>
                <a:latin typeface="Arial"/>
              </a:rPr>
              <a:t>Př. – SON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3366"/>
                </a:solidFill>
                <a:latin typeface="Arial"/>
              </a:rPr>
              <a:t>V r.1989 koupila spol.SONY filmové ateliéry Columbia Pictures.(3,4mld). Získala právo na zisky z mnoha vynikajicích děl Hollywoodu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3366"/>
                </a:solidFill>
                <a:latin typeface="Arial"/>
              </a:rPr>
              <a:t>ALE!!!! Nezískala tímto talent filmařů a scénáristů (Peter Guber, Jon Peters; Batman, Rain Man - Ty získala za 55mil., 2,75mil./rok, podíl na zisku ateliérů, prémie 50mil.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Nejcenější je lidský kapitál – největší zisky nemají akcionáři a vedoucí osoby, ale talentovaní a schopní lidé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užitá literatu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REICH, R.B.  </a:t>
            </a:r>
            <a:r>
              <a:rPr b="0" i="1" lang="cs-CZ" sz="2800" spc="-1" strike="noStrike">
                <a:solidFill>
                  <a:srgbClr val="003366"/>
                </a:solidFill>
                <a:latin typeface="Arial"/>
              </a:rPr>
              <a:t>Dílo národů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. Praha : Prostor, 199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HANDY, CH.  </a:t>
            </a:r>
            <a:r>
              <a:rPr b="0" i="1" lang="cs-CZ" sz="2800" spc="-1" strike="noStrike">
                <a:solidFill>
                  <a:srgbClr val="003366"/>
                </a:solidFill>
                <a:latin typeface="Arial"/>
              </a:rPr>
              <a:t>Hlad ducha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. Praha : Management Press, 1999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Děkujeme za pozornos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d velkovýroby k v.z.p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onec plánování a realizace velkovýrob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eschopnost maximalizace zisku, dosahování příjmů z velkovýroby standardního zboží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řesun k výrobkům a službám ušitým na mír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pecializace a globalizace investi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e produkty, ale specializované znalost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lužby a zboží = služb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3 základní schopnosti v.z.p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Řešení problémů spojených se specializací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Znalost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ové aplikace a kombina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ředcházení problémů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Zákazník chápe své potřeb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Jak je uspokojit individuálním výrobke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X marketing (hledání příležitostí x přesvědčování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rategický zprostředkovat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anagement myšlenek ne organiza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oky informací ve v.z.p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v.z.p. nelze organizovat dříve často používaným systémem pyramid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utná provázanost tří klíčových skupin – řešitelé problémů, identifikátoři problémů, strategičtí zprostředkovatelé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rychlý tok informací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odoba 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pavoučí sítě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ová doba si žádá nová řešení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ítě“ – určující termín nové ekonomik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trategické centrum umožňující propojení ostatních bodů sítě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klíčová je rychlost, flexibilnost, komplexno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ixní náklady?? Pryč s nimi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experimentování je žádoucí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ypy podnikových sítí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ezávislá zisková centr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yčleněná partnerství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řičleněná partnerství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ic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Čisté zprostředkovatelství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oc a pravomoc ve v.z.p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c se koncentruje v rukou schopný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rmální pravomoci ztrácí na význam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líčová rozhodnutí často ve skryt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kutečná moc bývá zastřena, i díky odbornému tisk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„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ozek“ bere vš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řerozdělování zisku směrem od dělníků a investorů k „mozkům“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jcennějším aktivem firem jsou nehmotná aktiv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telektuální kapitál – největší význa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bchodní značk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tenty, vydavatelská práv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ůst závisí na přibývajících zkušenostech klíčových „mozků“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lobální síť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Nahrazování starých pyramid klíčových velkovýrobních podniků organizačními sítěmi vysoce zhodnocujících podniků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řesun od kontroly shora a centralizovaného vlastnictví do skupin, které jsou schopné řešit a identifikovat problémy a strategicky zprostředkovávat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11:21:27Z</dcterms:created>
  <dc:creator>Zora Navrátilová</dc:creator>
  <dc:description/>
  <dc:language>en-US</dc:language>
  <cp:lastModifiedBy>Zora Navrátilová</cp:lastModifiedBy>
  <dcterms:modified xsi:type="dcterms:W3CDTF">2008-11-12T15:48:39Z</dcterms:modified>
  <cp:revision>5</cp:revision>
  <dc:subject/>
  <dc:title>Vysoce zhodnocující podniky</dc:title>
</cp:coreProperties>
</file>