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4453-7971-48F3-B8F7-5810E2B8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EDF-011D-46CD-B284-B82B364B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023F-154E-461F-B3BC-79D984AD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2EB-A8B9-4C6A-8861-6F4675FA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15DB-793D-4754-BE4C-61B87723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33CC-4D9D-4A4C-A7D1-EFA23779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D8C6-D3CD-4CCB-8FA5-41D1FB01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90D4-6527-472E-B19F-8B12096E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8E40-D588-47F5-9FC2-99FB97D3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AECA-0396-49A7-9C0D-D477C1B1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8D39-90DC-4DBF-B458-04555E8D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783-6C05-45A8-B7A7-DB1DD6E0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D565-9770-4B5E-9575-5ECC6366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BC52-8748-4428-BB61-CCDE522E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3547-5817-4D35-BE25-CA148766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F552-D045-4A06-AB08-A79EDDE4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33FC-3DB7-40E6-8D1E-FD21293B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A22-3FFC-4C67-AE4C-0A85BFF1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7D1-780C-4639-95BF-A7D758A7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51FC-C35E-4FAC-ACEF-3990B952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7082-6B81-4B8E-90C6-1A183716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3E5-77F1-4EC6-9BBA-B28A5BB5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A19-64B5-4610-B305-D81C795D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E3BF-8304-4517-A41E-FF71E1D1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3827-9958-406E-9248-78D897AA564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6BDE-4D94-4B61-9505-C4E33B02A0C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apitalismus nové civiliza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666880" y="4876560"/>
            <a:ext cx="6477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etra Krupov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Lenka Valentov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Simona Doubkov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6.11.200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3. Ekonomika služeb a tok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un od ekonomiky zboží k ekonomice služe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rmy neprodávají zboží, ale služby – výrobek prostředkem, nikoli cíl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. koberec – leasing tepla, krásy a pohodl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ýrobce vlastníkem výrobku - údrž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4. Investování do přírodního kapitálu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čínáme pocítíme velký nedostatek zdrojů, který se bude prohlubovat – ovlivňuje výrobu a zvyšuje náklad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noží se škody způsobené vlivy počas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sá množství vody, orné půdy, ryb na hlavu,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rozí konflikty kvůli přístupu ke zdrojů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třeba reinvestic do udržitelných, obnovujících se a zvyšujících se zásob přírodního kapitá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Vyčerpání zdrojů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kvěle prodejný mýt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jmír Hamp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Kontroverze ohledně vyčerpání zdrojů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kepti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ostoucí spotřeba fyzicky omezených přírodních zdrojů →zpomalení hospodářského růs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ěšitel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atastrofické vize nemají teoretické ani empirické opodstatně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keptici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homas Malth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ůsledky růstu popula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David Ricar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Hospodářské dopady omezené zásoby zdroj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Limity růst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Do 100 let vyčerpání klíčových zdroj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arciální řešení nemohou být úspěšná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Kolapsu zabrání pouze zbrzdění hospodářského růst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althusiánství a ekolog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124"/>
              </a:spcBef>
              <a:spcAft>
                <a:spcPts val="4538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kologie x Ekologism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124"/>
              </a:spcBef>
              <a:spcAft>
                <a:spcPts val="4538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cialismus se zelenou tvář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124"/>
              </a:spcBef>
              <a:spcAft>
                <a:spcPts val="4538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íla katastrofických scénář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3124"/>
              </a:spcBef>
              <a:spcAft>
                <a:spcPts val="4538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ypotéza o globálním oteplová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č by vyčerpání nemělo děsi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974"/>
              </a:spcBef>
              <a:spcAft>
                <a:spcPts val="5389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ěřené zásoby x Celkové záso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974"/>
              </a:spcBef>
              <a:spcAft>
                <a:spcPts val="5389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poznání  relativizuje fyzickou omezenost zdroj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974"/>
              </a:spcBef>
              <a:spcAft>
                <a:spcPts val="5389"/>
              </a:spcAft>
              <a:buClr>
                <a:srgbClr val="00ff99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ůst hojnosti zdroj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2130120"/>
            <a:ext cx="8496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Šok z ekologie </a:t>
            </a:r>
            <a:br>
              <a:rPr sz="44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aneb politické systémy v rozpacích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547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an Kell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iberal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Hlavní zásady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: všem lidem stejnou svobodu a práva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echat věcem volný průběh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říroda je bezprávný materiál, něco, co patří člověku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x ohrožení životních zájmů dosud nenarozených generací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řešení ekologických problémů – tržní mechanismus (privatizace přírody x zásahy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kritika liberalismu – člověk je částí celku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říroda nepatří člověku, ale člověk přírodě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hlubinná ekologie – domyšlení ústřední liberální teze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Omezíme-li svobodu člověka jen málo, nebo vůbec, stěží jako biologický druh přečkáme; omezíme-li ji výrazněji, nemusí to ve zdraví přežít liberalismus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b9efee"/>
                </a:solidFill>
                <a:latin typeface="Garamond"/>
              </a:rPr>
              <a:t>Konzervat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Původní cíl</a:t>
            </a: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: uchování hodnot ohrožených nástupem průmyslové revoluce, obhajoba tradice, zavedených zvyků a institucí  x  přizpůsobiv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neochota zaregistrovat vážné ekologické hrozby           x  nutnost popřít základní principy svého učen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hierarchii ve společnosti nelze udržovat nezávisle na tempu změn; je-li nevratně poškozována příroda kolem nás, působí riziko ohrožení zpětně na lidi výrazně demokratickým až rovnostářským dopadem (negativní externali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Obsah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rodní kapitalism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yčerpání zdrojů : skvěle prodejný mýt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Šok z ekologie aneb Politické systémy v rozpací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Social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znik zásluhou kapitalismu jako nezamýšlený ale zcela logický důsledek; vzniká v situaci, kdy je sociální spravedlnost nedostatková, zatímco zdroje se zdají být neomezen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éče o životní prostředí – neslučitelné rys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vzájemná solidarita mezi všemi skupinami lidí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zvyšování výrobní expanze společnosti jako celk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yšlenka solidarity - za socialismu přenesena do rodin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rozšíření na ostatní živé tv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Literatur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WKEN, P. Přírodní kapitalism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MPL, M. Vyčerpání zdrojů - skvěle prodejný mýtu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LLER, J. Šok z ekologie aneb Politické systémy v rozpací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ěkujeme za pozornost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řírodní kapital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odtitul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cs-CZ" sz="2800" spc="-1" strike="noStrike">
                <a:solidFill>
                  <a:srgbClr val="ffffff"/>
                </a:solidFill>
                <a:latin typeface="Garamond"/>
              </a:rPr>
              <a:t>Jak se rodí další průmyslová revolu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aramond"/>
              </a:rPr>
              <a:t>Paul Hawken, Amory a L. Hunter Lovinsonov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25560" y="1341360"/>
            <a:ext cx="3227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řírodní kapitalismu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řírodní kapitá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zdroje, které poskytuje příroda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oda, nerosty, ropa, stromy, ryby, půda, vzduch,… ale i živé systémy: pastviny, mokřady, ústí řek, oceány, deštné pralesy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konomika potřebuje 4 typy kapitálu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idsk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inanční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yrobený (stroje, továrny,…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řírodní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doposud podceňová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Koncepce přírodního kapitalism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řírodní kapitál se vyčerpáv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šetření přírodního kapitálu nikoli pomocí sankcí, zákazů a limitů, ale na základě aktivního a vynalézavého využívání, které bude i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konomicky výhodn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íření ekologických cílů s ekonomickými – nesoupeří spolu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plňují 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→ integrované projektován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Změny v myšlení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měna firem – zodpovědnější k životnímu prostřed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měna myšlení lidí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blémy se nedají řešit způsobem myšlení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terý je vytvořil.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A. Einstei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4 principy přírodního kapitalismu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Radikální produktivita zdroj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Biologické mimik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Ekonomika služeb a tok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Investování do přírodního kapitál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. Radikální produktivita zdrojů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třeba zvýšit produktivitu zdrojů, resp. snížit materiálovou a energetickou náročnost výro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úspora zdrojů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úspora peněz (snížení nákladů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lepšení kvality život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vá zlepšení otevřou i nový prostor pro vynalézavost, růst a rozvoj v oblasti obchod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ktor deset, faktor čtyř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lší průmyslová revolu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2. Biologické mimikr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změna podstaty průmyslových procesů a materiál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inspirace v biologických systéme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snížení, resp. úplné vymizení odpad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→ </a:t>
            </a: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trvalé znovuvyužívání materiálů v kontinuálně uzavřených cykle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0:33:30Z</dcterms:created>
  <dc:creator>172114</dc:creator>
  <dc:description/>
  <dc:language>en-US</dc:language>
  <cp:lastModifiedBy>snoopy</cp:lastModifiedBy>
  <dcterms:modified xsi:type="dcterms:W3CDTF">2008-11-05T18:03:17Z</dcterms:modified>
  <cp:revision>13</cp:revision>
  <dc:subject/>
  <dc:title>Kapitalismus nové civilizace</dc:title>
</cp:coreProperties>
</file>