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8D4E-31A5-47E8-8EDF-2C5B89E5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CEE6-DD3B-4216-B8E5-D13256D6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9E5-5C79-4C07-AD68-67708ED1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9B4-56EE-46F0-85E6-99073453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E19A-25C4-495A-844E-8B73EC9D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7AEA-1628-418F-9AB1-ED3CC8AA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543F-4199-473F-A89E-55541871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AF94-E4FD-422E-AC52-8C260224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E4EA-8489-40A0-BDE3-1F48D4C1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D2C4-1B76-42BF-8FCF-6871DC2B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BDA2-A50C-46DD-AEF2-1BF876DF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BCF-F6A5-4594-B32B-E5E4D658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4832-35B1-48C0-8DE1-41E65007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EFF9-2BE9-43BA-84F5-8180D734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1422F-3F5C-4D4E-B747-9F242CC2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8180-7CD8-4072-9F8D-2BCE4F85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0804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549400" y="344124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32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0804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549400" y="4317120"/>
            <a:ext cx="213444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B321-EC8A-4BA3-AEE9-052213C2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591-535F-4DF1-9FD7-2EC7D922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F92-91B2-4BEA-9F72-188C0F1B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23A-1EF9-40B4-846A-A91FC127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1427040"/>
            <a:ext cx="8077320" cy="74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05B-9978-480F-8748-B4FC314E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D2CF-4065-4AE2-A8DA-370C5696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63280" y="431712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BBA-13C7-44E6-9A64-EED6135D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63280" y="3441240"/>
            <a:ext cx="323496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4317120"/>
            <a:ext cx="6629400" cy="7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0D7-5FFF-4E80-9281-1B962D42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42BC-5C5E-4A7C-B499-C2A27FC6A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5FB5-3D54-464C-ACE7-5A7376933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Od hierarchie k sítím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cké aliance se zahraničními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y: Bc. Hana Drozdová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lára Ottichová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c. Kristýna Trnk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Strategické sítě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lová poz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udržet loajalitu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partnery musí být výhodné být součástí sí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unikace na sítích - obrovské ulehčení s nástupem nových komunikačních technolog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ypy sít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ícenásobné alian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ultiple allianc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tfolio aliancí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liance portfolio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vučina aliancí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alliance web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Rozhodovací proces o účelnosti uzavřít SA a jeho rizik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ká orientace rozhodo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nikatelská strategie jako východisko k případnému partnerství (vize, mise, rozbor okolí, vnitřní analýza, zdrojové možnosti a dalš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hodnutí o účelnosti SA (příprava firmy, volba scénáře, typ 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ostupy hledání vhodného zahraničního partner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e o možném partnerovi (partnere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ční zdr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dnocení informační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omponenty S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dné s komponentami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, struktura, procesy, lidé a role, IS/I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ční hranice, vnější sociálně-ekonomické okolí, vnější technologické okol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ffffff"/>
                </a:solidFill>
                <a:latin typeface="Arial"/>
              </a:rPr>
              <a:t>Podoba SA podle Johnsona se Scholesem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dobu ovlivňu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ělitelnost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vlastnění akt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U strategických sítí potom platí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a nepotřebují společný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a nemohou být jednoduše oddělena od společností, resp. nelze to provést bez následk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kud jsou daná aktiva rozdělena do samostatných organizací, existuje velké riziko jejich přivlastnění jinou společnos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Moderní tendence rozvoje alianční spolupráce – MSP v EU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liv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globalizace, digit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ekonomika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-econom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aliance (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e-allian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k řízení vztahů se zákazníky, s dodavateli, virtuální organizování spolupráce, elektronické obchodování, elektronické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oužitá literatur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áček, L. – Vodáčková, O.: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trategické aliance se zahraničními partne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nagement Press: 2002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odáček, L. – Vodáčková, O.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alé a střední podniky: konkurence a aliance v Evropské un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nagement Press: 2004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hnson, G. – Scholes, K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Cesty k úspěšnému podnik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Computer Press: 2000. Pra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, J.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družování malých a středních podniků po vstupu ČR do E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Studie In: Blažek, L. a kol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ývojové tendence podniků 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Masarykova univerzita: 2007. B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DĚKUJEME ZA POZORNOS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d hierarchie k sítím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blematika strategických aliancí a sítí jako nový fenomén moderní ekonom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alice a sítě jako nový nástroj strategického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90. léta – dekáda alia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mezení pojmu: Heck (1999), Fry – Stoner – Hattwick (1998) 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Příčiny strategických aliancí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stoucí dominance zákazníků nad dodavateli, rostoucí informovanost a požada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árůst nečekaných důsledků nespojitých změn v podnikatelském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ále ostřejší konku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izace, intenzita propojení novými prostředky komun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ědeckotechnický rozvoj a inovační důsledk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alší z příčin dle J. Novotné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A jako nástroj odstraněn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úzkých mí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 MSP nejčastěji odb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le opatřování výrobních faktorů, zejména lidské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Řeš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kooperace nebo konce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Základní formy S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Členění dle intenzity vazbového spojen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olné fo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egické aliance (v užším poj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oint ventures (obvykle chápány jako strategické aliance v širším poje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sné fo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Klasifikace strategických alianc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funkč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teritoriál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organizační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vlastnického hledis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hlediska cílové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hlediska trva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trategické aliance v moderním podnikání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oo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90. lé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 KAŽDÁ ALIANCE MUSÍ BÝT ÚSPĚŠNÁ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votní smysl: rozvoj pozitivní kooperace a redukce negativní koope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 dále jako nástroj čelení nejistotě a rizi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č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dílení činností a zdrojů, redukce konkurenčních střetů, vznik, přenos a využití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A zaměření na sdílení činností a zdrojů partner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i dvěma či více partnery dochází k systematickému řízení procesu účelného a účinného přiřazování (alokace, případně i realokace) činností a zdro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ůže docházet k pozitivním integračním, popř. synergickým efekt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: zajištění vývoje a realizace složitých výrobků, získání potřebných finančních či jiných zdrojů pro náročnou investiční politiku, využití konexí a komunikačních kanálů partnera a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SA zaměřené na redukci konkurenčních střetů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pravidla nejde o spolupráci v rámci jedné národní ekonom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íše obtížně kontrolovatelné nadnárodní vztahy a nadnárodní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ní nahradit negativní kooperaci (boj, soupeření, konkurenci) jejím protipólem, tj. pozitivní koope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: americká General Motors – japonská Toyota; či korejská Daewoo 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2:31:24Z</dcterms:created>
  <dc:creator>Hani</dc:creator>
  <dc:description/>
  <dc:language>en-US</dc:language>
  <cp:lastModifiedBy>Hani</cp:lastModifiedBy>
  <dcterms:modified xsi:type="dcterms:W3CDTF">2008-11-05T23:04:28Z</dcterms:modified>
  <cp:revision>6</cp:revision>
  <dc:subject/>
  <dc:title>Od hierarchie k sítím</dc:title>
</cp:coreProperties>
</file>