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6.jpeg" ContentType="image/jpeg"/>
  <Override PartName="/ppt/media/image4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6DA-AA4B-4E6C-BCD1-44B11476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8A8-725D-40BE-9B54-4D1058F3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619AC-09B1-46B4-A61C-1748DB42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1F3EB-0E18-4D24-BDC7-B5ECD4A4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203AC-B742-4E2A-BF24-46203C13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F7372-7C54-4861-A48C-4FD32352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B4686-2E75-4062-AC56-CB6D63DB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50EFD-C5EA-48D7-9E9C-13A8D6BC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DCDFA-93EC-4BA1-A946-4D354197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DD7A7-4488-4097-83DD-94E0C431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51561-D78C-4ADE-9685-A896F260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5BB-14F5-40D5-8993-AE69BF1B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325A-F5D1-4B23-82C8-BB4EE6DB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B757-A65D-4A58-AF6F-4CE7C166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2230B-707C-47E3-96BF-771F2E6D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06B8-1063-40AA-A069-1F42F675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2850-EC4C-4381-8448-3EC77FA4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4CE8-49CE-4684-9A32-D32C9059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C110-2E8F-4323-A954-236C8514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CBA6-089D-41D6-A619-DE2D4D95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CBD-7B81-4BBA-9FD0-47F1D96A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9A0D-0D11-4E59-8D5D-C6816319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C32D-4E33-404C-B5DB-D00AE1F1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A1CD-1B83-49FB-A6D7-5FFEEE54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57F7-570A-4173-8D1E-DA88FEA1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3BDD-F0E5-46C4-A7A0-DEE9E87B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E6D25-4049-4E90-9B5E-F3C33C88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E113-9C84-4046-A370-3FF6994A0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8EDC1-9133-4758-B298-1A92F809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B64A8-5F73-403D-91A7-A0CDF807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0B286-D366-414F-97BE-7E224539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5C7-01CE-4696-9F13-96B20E2B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0E410-DB23-423D-8669-2645A503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5B51B-25C8-44CD-8ABC-74D9C5AF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02434-7F52-46C4-BC29-94D39AD1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5082F-CA4D-4AC0-A8FF-AFE2FB35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335F-354D-41A3-BF98-8516557B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13E5C-8001-4DB1-B68F-EC8733A4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FB4D1-B2D7-4B0B-9B0B-F9F5471B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F7FB6-540A-4D76-ADC8-AFF9D6E5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67BB1-921D-46F3-9815-2E4BBA00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DB8E0-2567-4EC4-8C77-5A66BF7B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CAA-F3AD-4457-A441-9D248987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DC7F9-BA5C-4B4A-AC0D-834DF006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E98DB-203A-450D-B032-8805B4B8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C1208-2F3C-43F8-B2F0-66879C3F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9875B-A169-4AA8-8BC8-2BBA2560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228D3-0D82-44AE-8D91-4171B865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40638-0116-4738-95A8-8653CF7D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61538-6403-4DC3-BB0A-89C5BE04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3AA5D-26A7-4159-9759-6FF037CE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76A3D-43FE-4D15-A693-A411C2B93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9DF7E-39AD-4CD3-9CC0-045DDF75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9341-66D0-45D1-A878-E75168DF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B0CCF-D06A-49D4-9CAD-085FE743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4B456-6D35-4F61-A9FF-9C976C82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AD85F-E16D-4801-93BC-0C8FA354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67D11-83E8-43F3-A69B-F5722B81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49B34-E3B8-4BFC-B8EE-2ABC4804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3ECAF-77A3-4890-B449-750D92EB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2B489-7EEE-49AD-8AA2-A234C702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98D85-1401-42F5-9425-BD171B18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024FF-B0C6-42D3-A8BC-F188C038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B3D12-14FD-4B2E-852B-4FF0A9F9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D3DA-C1D0-4067-8139-53EEB2CC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5E11C-A801-410B-96D6-4B89D322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B1300-7538-4C3A-9F06-F7360D1E9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E218D-E8C6-44B7-9F72-3C2B80A2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6B2CC-384B-4946-AD98-1D7148C2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E14E1-D24C-4790-852C-24403F97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C64B7-F8DC-40A6-ACC3-C84BF269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7A156-2B84-4F65-9CD7-E4FE8F10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0C397-A3F9-4398-BE8F-D65F75CA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57B0A-7601-42EE-B215-6646BB63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04A2A-300B-4962-9622-FBDB4FAB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138-2E0F-4115-A6DF-F5ED03BC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F05DC-1103-4530-BB22-A85E1FCF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AC1E7-4B48-43DF-80D2-A73B79C1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DFCE4-659A-4B62-9714-637709F0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670D3-E2B8-4000-BC8F-90EE7236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9BAFD-9E99-46F0-B9AA-D3E54C48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1D6B8-07B3-4C40-8CB2-0F5FFF14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61D41-5F54-4545-83B0-5F314378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3DFEF-D486-4734-AD81-604A5957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0689E-9110-405A-A5F4-57A9674B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7DFF8-8B8E-4757-AF0A-8A9596B7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0B3-2621-469E-BD3C-90642FB5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E7A1B-253B-437A-A4AF-CF09ACD4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51C9C-5801-4F3F-BF90-902E1BBE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4363E-AC11-412C-9697-D843C88B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AE6E1-02E7-4B83-BA09-A870A3E0F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0DB8E-C1D1-4E28-B508-A59C1A81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01933-7192-4D2D-B7EC-49A665B5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70D07-687A-4B5E-BB9F-B82DE985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67B6A-17E5-467E-934B-34974E3B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B042F-BFCF-4AFE-8B07-C1C02668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C5626-3DF9-4B96-A930-C1383308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DDB-2FA2-4DF9-A869-F7BAD157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D0300-71D2-44F0-BDBA-79D9ACB6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CE0A1-1B5E-4F16-87EE-AED40A57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6AE47-F3F0-47EF-AA44-21D8EBD9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42DA4-D4AC-408E-A425-E1857D37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8DA02-23E3-4BED-A86B-F7652F06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B221E-2CE5-4059-A488-35701B7F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B2B25-527C-4115-8C42-AA2FA297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4531D-6FCB-4A7C-81FB-731C9CEE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3498B-9A80-45E4-B537-56C63804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6F06A-F93A-48CC-BE56-3470E9CD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9FFB-A59E-41D5-94C0-FC8A59A66B5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ovací čára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477F-558D-4A7A-BDBA-C214A64D0A3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Přímá spojovací čára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Přímá spojovací čára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Přímá spojovací čára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Přímá spojovací čára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Přímá spojovací čára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6588-2A2E-4125-8B2D-B71AE7B3F55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Přímá spojovací čára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Přímá spojovací čára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65D4-C3CE-4D45-B2AF-6D75A1801CF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Přímá spojovací čára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Přímá spojovací čára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DADD-9B05-4C84-85CA-33A985AC4F0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CEC3-0307-4F6E-8DBF-1688C257A45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Přímá spojovací čára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Přímá spojovací čára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F688-2E35-4884-B354-C9626328109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8BF2-59A1-49F5-823D-4EE9B16465F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3825-A903-4925-87C4-148F029E0F3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2"/>
          <a:stretch/>
        </p:blipFill>
        <p:spPr>
          <a:xfrm>
            <a:off x="85680" y="2475000"/>
            <a:ext cx="866160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43329"/>
                </a:solidFill>
                <a:latin typeface="Franklin Gothic Book"/>
              </a:rPr>
              <a:t>Monika Lemonová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43329"/>
                </a:solidFill>
                <a:latin typeface="Franklin Gothic Book"/>
              </a:rPr>
              <a:t>Jozef Barniak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Nejedná se o klasické pyramidy 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(Ředitel- manažeři- dělníci…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ZP - pro byrokracii není míst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rychlost, žřetelnost, informační tok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Tvůrčí týmy, skupiny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800" spc="-1" strike="noStrike">
                <a:solidFill>
                  <a:srgbClr val="4e3b30"/>
                </a:solidFill>
                <a:latin typeface="Franklin Gothic Book"/>
              </a:rPr>
              <a:t>-  </a:t>
            </a:r>
            <a:r>
              <a:rPr b="0" lang="cs-CZ" sz="3600" spc="-1" strike="noStrike">
                <a:solidFill>
                  <a:srgbClr val="4e3b30"/>
                </a:solidFill>
                <a:latin typeface="Franklin Gothic Book"/>
              </a:rPr>
              <a:t>Pavoučí síť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34" name="Volný tvar 3"/>
          <p:cNvGrpSpPr/>
          <p:nvPr/>
        </p:nvGrpSpPr>
        <p:grpSpPr>
          <a:xfrm>
            <a:off x="6248520" y="5181480"/>
            <a:ext cx="1761840" cy="1225800"/>
            <a:chOff x="6248520" y="5181480"/>
            <a:chExt cx="1761840" cy="1225800"/>
          </a:xfrm>
        </p:grpSpPr>
        <p:pic>
          <p:nvPicPr>
            <p:cNvPr id="435" name="Volný tvar 3" descr=""/>
            <p:cNvPicPr/>
            <p:nvPr/>
          </p:nvPicPr>
          <p:blipFill>
            <a:blip r:embed="rId3"/>
            <a:stretch/>
          </p:blipFill>
          <p:spPr>
            <a:xfrm>
              <a:off x="6248520" y="5181480"/>
              <a:ext cx="1761840" cy="122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6357960" y="5214960"/>
              <a:ext cx="16430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37" name="Picture 2" descr="C:\Program Files (x86)\Microsoft Office 2007\MEDIA\CAGCAT10\j0233018.wmf"/>
          <p:cNvPicPr/>
          <p:nvPr/>
        </p:nvPicPr>
        <p:blipFill>
          <a:blip r:embed="rId4"/>
          <a:stretch/>
        </p:blipFill>
        <p:spPr>
          <a:xfrm>
            <a:off x="6715080" y="2786040"/>
            <a:ext cx="2214720" cy="2249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dstranění zbytečných nákladů velkovýrob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Kontrola FN není důležitá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onájem hal, kanceláří, továren, sklad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Zaměstnanci na dočasný prac. poměr (účetní)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Málo fix. pracovník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Motivace pracovníků místo kontrol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experimentován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Jak se mění odměny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jvětší podíl na zisku mají řešitelé a zprostředkovatelé, ne vlastníci VF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Hodnota podniku = nehmotná aktiv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ZP nelze zakoupit o nic snadněji než kvalifikované a talentované jedinc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ejde o pobočk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Ztrácí význam země původu zbož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nanční i intelektuální kapitál odkudkoliv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dukt           práce lidí v mnoha zemích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lužby  související se specializovaným řešením problému  (marketing, konzultace, finance…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Je rovno 3"/>
          <p:cNvSpPr/>
          <p:nvPr/>
        </p:nvSpPr>
        <p:spPr>
          <a:xfrm>
            <a:off x="2571840" y="3500280"/>
            <a:ext cx="571320" cy="285840"/>
          </a:xfrm>
          <a:prstGeom prst="pi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Američan si koupí automobil Pontiac – General Motors = 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20 000Usd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Z toho: 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Jižní korea 6000Usd Jižní Korea – práce, montáž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Japonsko 3500 (motor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Německo 1500 ( návrh karoserie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Tchajwan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Singapur         800 (malé komponenty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Japonsko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Británie 500 (reklama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Irsko 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Barbados      100 (zpracování dat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e3b30"/>
                </a:solidFill>
                <a:latin typeface="Franklin Gothic Book"/>
              </a:rPr>
              <a:t>Zbytek: 8000 - právníci, bankéři, stratégové, lobbisté, pojišťovny, akcionáři po celé Americ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grpSp>
        <p:nvGrpSpPr>
          <p:cNvPr id="447" name="Pravá složená závorka 3"/>
          <p:cNvGrpSpPr/>
          <p:nvPr/>
        </p:nvGrpSpPr>
        <p:grpSpPr>
          <a:xfrm>
            <a:off x="2262240" y="3170160"/>
            <a:ext cx="474480" cy="1116000"/>
            <a:chOff x="2262240" y="3170160"/>
            <a:chExt cx="474480" cy="1116000"/>
          </a:xfrm>
        </p:grpSpPr>
        <p:pic>
          <p:nvPicPr>
            <p:cNvPr id="448" name="Pravá složená závorka 3" descr=""/>
            <p:cNvPicPr/>
            <p:nvPr/>
          </p:nvPicPr>
          <p:blipFill>
            <a:blip r:embed="rId3"/>
            <a:stretch/>
          </p:blipFill>
          <p:spPr>
            <a:xfrm>
              <a:off x="2262240" y="3170160"/>
              <a:ext cx="47448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357280" y="3220920"/>
              <a:ext cx="10188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50" name="Pravá složená závorka 4"/>
          <p:cNvSpPr/>
          <p:nvPr/>
        </p:nvSpPr>
        <p:spPr>
          <a:xfrm>
            <a:off x="2428920" y="3143160"/>
            <a:ext cx="285840" cy="92880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928800"/>
              <a:gd name="textAreaBottom" fmla="*/ 921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16200" y="10800"/>
                  <a:pt x="21600" y="10800"/>
                </a:cubicBezTo>
                <a:cubicBezTo>
                  <a:pt x="162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ravá složená závorka 5"/>
          <p:cNvSpPr/>
          <p:nvPr/>
        </p:nvSpPr>
        <p:spPr>
          <a:xfrm>
            <a:off x="2357280" y="4643280"/>
            <a:ext cx="214560" cy="500400"/>
          </a:xfrm>
          <a:custGeom>
            <a:avLst/>
            <a:gdLst>
              <a:gd name="textAreaLeft" fmla="*/ 0 w 214560"/>
              <a:gd name="textAreaRight" fmla="*/ 77400 w 214560"/>
              <a:gd name="textAreaTop" fmla="*/ 5400 h 500400"/>
              <a:gd name="textAreaBottom" fmla="*/ 495000 h 5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6"/>
                  <a:pt x="10800" y="771"/>
                </a:cubicBezTo>
                <a:lnTo>
                  <a:pt x="10800" y="10029"/>
                </a:lnTo>
                <a:cubicBezTo>
                  <a:pt x="10800" y="10415"/>
                  <a:pt x="16200" y="10800"/>
                  <a:pt x="21600" y="10800"/>
                </a:cubicBezTo>
                <a:cubicBezTo>
                  <a:pt x="16200" y="10800"/>
                  <a:pt x="10800" y="11186"/>
                  <a:pt x="10800" y="11571"/>
                </a:cubicBezTo>
                <a:lnTo>
                  <a:pt x="10800" y="20829"/>
                </a:lnTo>
                <a:cubicBezTo>
                  <a:pt x="10800" y="21215"/>
                  <a:pt x="5400" y="21600"/>
                  <a:pt x="0" y="21600"/>
                </a:cubicBezTo>
              </a:path>
            </a:pathLst>
          </a:custGeom>
          <a:noFill/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00040" y="1500120"/>
            <a:ext cx="4284720" cy="3786120"/>
          </a:xfrm>
          <a:prstGeom prst="rect">
            <a:avLst/>
          </a:prstGeom>
          <a:ln w="0">
            <a:noFill/>
          </a:ln>
        </p:spPr>
      </p:pic>
      <p:pic>
        <p:nvPicPr>
          <p:cNvPr id="453" name="Nadpis 4" descr=""/>
          <p:cNvPicPr/>
          <p:nvPr/>
        </p:nvPicPr>
        <p:blipFill>
          <a:blip r:embed="rId3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54" name="Ovál 5"/>
          <p:cNvSpPr/>
          <p:nvPr/>
        </p:nvSpPr>
        <p:spPr>
          <a:xfrm>
            <a:off x="500040" y="2071800"/>
            <a:ext cx="3000240" cy="1428480"/>
          </a:xfrm>
          <a:prstGeom prst="ellipse">
            <a:avLst/>
          </a:prstGeom>
          <a:noFill/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Ovál 6"/>
          <p:cNvSpPr/>
          <p:nvPr/>
        </p:nvSpPr>
        <p:spPr>
          <a:xfrm>
            <a:off x="500040" y="3643200"/>
            <a:ext cx="3571920" cy="1643040"/>
          </a:xfrm>
          <a:prstGeom prst="ellipse">
            <a:avLst/>
          </a:prstGeom>
          <a:noFill/>
          <a:ln w="381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BlokTextu 7"/>
          <p:cNvSpPr/>
          <p:nvPr/>
        </p:nvSpPr>
        <p:spPr>
          <a:xfrm>
            <a:off x="571680" y="5357880"/>
            <a:ext cx="42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Franklin Gothic Book"/>
              </a:rPr>
              <a:t>Celkový pohľad na Zlín a spoločnosť Baťa, 1935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BlokTextu 8"/>
          <p:cNvSpPr/>
          <p:nvPr/>
        </p:nvSpPr>
        <p:spPr>
          <a:xfrm>
            <a:off x="5572080" y="16430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Franklin Gothic Book"/>
              </a:rPr>
              <a:t>Koncern Baťa, a.s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8" name="BlokTextu 9"/>
          <p:cNvSpPr/>
          <p:nvPr/>
        </p:nvSpPr>
        <p:spPr>
          <a:xfrm>
            <a:off x="5643720" y="257184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Franklin Gothic Book"/>
              </a:rPr>
              <a:t>Domy pre zamestnancov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9" name="Picture 3" descr=""/>
          <p:cNvPicPr/>
          <p:nvPr/>
        </p:nvPicPr>
        <p:blipFill>
          <a:blip r:embed="rId4"/>
          <a:stretch/>
        </p:blipFill>
        <p:spPr>
          <a:xfrm>
            <a:off x="5072040" y="4143240"/>
            <a:ext cx="2643120" cy="2452680"/>
          </a:xfrm>
          <a:prstGeom prst="rect">
            <a:avLst/>
          </a:prstGeom>
          <a:ln w="0">
            <a:noFill/>
          </a:ln>
        </p:spPr>
      </p:pic>
      <p:sp>
        <p:nvSpPr>
          <p:cNvPr id="460" name="Rovná spojnica 15"/>
          <p:cNvSpPr/>
          <p:nvPr/>
        </p:nvSpPr>
        <p:spPr>
          <a:xfrm flipV="1">
            <a:off x="3500280" y="1999800"/>
            <a:ext cx="2071800" cy="785880"/>
          </a:xfrm>
          <a:prstGeom prst="line">
            <a:avLst/>
          </a:prstGeom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Rovná spojnica 17"/>
          <p:cNvSpPr/>
          <p:nvPr/>
        </p:nvSpPr>
        <p:spPr>
          <a:xfrm flipV="1">
            <a:off x="4071960" y="2999880"/>
            <a:ext cx="1643040" cy="1465560"/>
          </a:xfrm>
          <a:prstGeom prst="line">
            <a:avLst/>
          </a:prstGeom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Obláčik 27"/>
          <p:cNvSpPr/>
          <p:nvPr/>
        </p:nvSpPr>
        <p:spPr>
          <a:xfrm>
            <a:off x="7358040" y="4500720"/>
            <a:ext cx="1571760" cy="10000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Obláčik 28"/>
          <p:cNvSpPr/>
          <p:nvPr/>
        </p:nvSpPr>
        <p:spPr>
          <a:xfrm>
            <a:off x="6357960" y="3000240"/>
            <a:ext cx="2643120" cy="1500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6c782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BlokTextu 29"/>
          <p:cNvSpPr/>
          <p:nvPr/>
        </p:nvSpPr>
        <p:spPr>
          <a:xfrm>
            <a:off x="6572160" y="32148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ovy, to sú hromady tehál a betónu. Stroje, to je hromada železa a ocele. Život tomu dávajú až ľudia.“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BlokTextu 30"/>
          <p:cNvSpPr/>
          <p:nvPr/>
        </p:nvSpPr>
        <p:spPr>
          <a:xfrm>
            <a:off x="7500960" y="464328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š zákazník,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áš pán.“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Osobná zodpovednosť za vykonanú prác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Samospráva a účasť pracovníkov na zisku podnik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Pocit hrdosti a príslušnosti k podnik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Pozornosť ku mladej generácii a permanentné vzdelávani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Nákup základných surovín priamo od výrobcu a nakupovalo sa vtedy, keď to bolo cenovo najvýhodnejši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Predaj obuvi sa realizoval vo vlastných predajniach, teda bez sprostredkovateľov (obchodníkov), aby zbytočne nenavyšovali cenu pre zákazník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Na vedúce posty sa neprijímali ľudia zvonku, ale len vlastní „odchovanci“ – napr. po absolvovaní 3-ročnej prax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Ešte pred výrobou, museli byť jednotlivé dielce dopravené do dielní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Komponenty boli do dielní rozvážané lanovou dráhou, ktorá obopínala väčšinu budov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Dielne boli za niekoľko minút zásobené materiálom bez toho, aby doprava niekomu prekážala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0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832960" cy="974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4"/>
          <a:stretch/>
        </p:blipFill>
        <p:spPr>
          <a:xfrm>
            <a:off x="5357880" y="4572000"/>
            <a:ext cx="32004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Hlavný zreteľ na nižšiu cenu ako je konkurenčná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Stanovenie ceny = služba verejnosti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Baťovské ceny 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Organizácia predaja: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- celosvetová sieť 2 500 predajní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sk-SK" sz="2300" spc="-1" strike="noStrike">
                <a:solidFill>
                  <a:srgbClr val="4e3b30"/>
                </a:solidFill>
                <a:latin typeface="Franklin Gothic Book"/>
              </a:rPr>
              <a:t>- hlavný cieľ predajnej skupiny</a:t>
            </a:r>
            <a:endParaRPr b="0" lang="en-US" sz="2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4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83296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Predpoklad – vzájomné súperenie dielní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Zisk a odmena sú podmienené plnením vopred stanoveného plánu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Systém postavený na </a:t>
            </a: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umení šetriť</a:t>
            </a:r>
            <a:r>
              <a:rPr b="0" lang="en-US" sz="2100" spc="-1" strike="noStrike">
                <a:solidFill>
                  <a:srgbClr val="4e3b30"/>
                </a:solidFill>
                <a:latin typeface="Franklin Gothic Book"/>
              </a:rPr>
              <a:t>”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Princíp - hospodárska autonómia každého článku a výroby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Oddelenia nakupovali a predávali za vnútropodnikové ceny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 systéme vystupovalo oddelenie ako samostatný podnikateľský subjekt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7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83296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i="1" lang="cs-CZ" sz="3200" spc="-1" strike="noStrike">
                <a:solidFill>
                  <a:srgbClr val="4e3b30"/>
                </a:solidFill>
                <a:latin typeface="Franklin Gothic Book"/>
              </a:rPr>
              <a:t>V civilizované společnosti jsme všichni navzájem závislí. </a:t>
            </a:r>
            <a:r>
              <a:rPr b="0" lang="cs-CZ" sz="1800" spc="-1" strike="noStrike">
                <a:solidFill>
                  <a:srgbClr val="4e3b30"/>
                </a:solidFill>
                <a:latin typeface="Franklin Gothic Book"/>
              </a:rPr>
              <a:t>( Samuel Johnson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ůvodní myšlenka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bčané jednoho státu mají společnou odpovědnost za svůj hospodářský blahoby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285840" y="192852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Systém odmeňovania zamestnancov založený na úsilí a kvalite práce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Princíp systému : každý pracovník si mohol okamžite vypočítať svoj podiel na zisku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edúci pracovník participoval ako na zisku tak aj na strate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Akumulácia likvidity = nevyužívanie úverov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Operatívne riadenie a rýchla výmena informácií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schopnosť promptne reagovať na vzniknuté problémy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Baťa zaviedol pre odmeňovanie záväzné kritériá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Slogan mal budiť v zúčastnených pocit, že sú spolumajiteľmi firmy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0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  <p:sp>
        <p:nvSpPr>
          <p:cNvPr id="481" name="Šípka dolu 6"/>
          <p:cNvSpPr/>
          <p:nvPr/>
        </p:nvSpPr>
        <p:spPr>
          <a:xfrm>
            <a:off x="3203640" y="4292640"/>
            <a:ext cx="285840" cy="35712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Dôležité posty = vlastní zamestnanci a odchovanci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Preferencia mladých ľudí pri prijímaní do zamestnania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Bývanie zamestnancov zabezpečené vo firemných rodinných domoch za nízke nájomné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V podniku bolo zabezpečené stravovanie a možnosti na osobný rast, štúdium, zdravotnú starostlivosť, športové a kultúrne vyžitie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Mzdové ohodnotenie bolo v porovnaní s celoštátnym priemerom skoro o 100% vyššie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900" spc="-1" strike="noStrike">
                <a:solidFill>
                  <a:srgbClr val="4e3b30"/>
                </a:solidFill>
                <a:latin typeface="Franklin Gothic Book"/>
              </a:rPr>
              <a:t>Zastával názor, že ako majiteľ a šéf musí byť pre ostaných podriadených osobným príkladom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4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Základnou formou mzdového odmeňovania bola pôvodne úkolová - akordná mzd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V roku 1927sa zaviedla akordná mzda skupiny – t.j. dieln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Ustálený mzdový systé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Špeciálne odmeny a prémie najiniciatívnejším pracovníko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Mzdy sa vyplácali týždenne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Termín výplaty bol určený na pondelok alebo utorok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87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Základom: polročné plány, zostavené na zimnú a letnú sezón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Výsledkom plánovania bolo prepojenie výroby a predaj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Diverzifikácia polročných plánov na týždenné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Týždenný plán sa skladal z čiastkových denných plánov, ktoré predpisovali plánovaný denný objem výroby každej dielni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4e3b30"/>
                </a:solidFill>
                <a:latin typeface="Franklin Gothic Book"/>
              </a:rPr>
              <a:t>Výsledok: Pracovný rok pozostával z 253 pracovných dní, pre ktoré spracovalo rozpočtové oddelenie 253 denných plánov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0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ýstavba zamestnaneckých domov, študentských internátov, obchodných domov s lacným tovarom, kín, hotelov, športovísk, knižníc a nemocníc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Cena domu = maximálne jednoročný plat zamestnanca, ktorý mal záujem si dom sám postaviť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3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Nadpis 1" descr=""/>
          <p:cNvPicPr/>
          <p:nvPr/>
        </p:nvPicPr>
        <p:blipFill>
          <a:blip r:embed="rId2"/>
          <a:stretch/>
        </p:blipFill>
        <p:spPr>
          <a:xfrm>
            <a:off x="285840" y="281160"/>
            <a:ext cx="8864640" cy="106020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285840" y="1928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ýrobná divízia Dolní Němčí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Na rozdiel od skôr vyrábaných veľkých sérií, ktoré sa nemenili i po viac ako 12 mesiacoch, sú dnešní zamestnanci schopní vyrábať niekoľko náročných vzorov za deň. 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4e3b30"/>
                </a:solidFill>
                <a:latin typeface="Franklin Gothic Book"/>
              </a:rPr>
              <a:t>Výroba vzorku podľa priania zákazníka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spcAft>
                <a:spcPts val="1199"/>
              </a:spcAft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100" spc="-1" strike="noStrike">
                <a:solidFill>
                  <a:srgbClr val="4e3b30"/>
                </a:solidFill>
                <a:latin typeface="Franklin Gothic Book"/>
              </a:rPr>
              <a:t>"Od vyrobenia vzorku podľa želania zákazníka, spracovania technickej dokumentácie, po finálny výrobok, mnohokrát neubehne ani týždeň„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6" name="Nadpis 1" descr=""/>
          <p:cNvPicPr/>
          <p:nvPr/>
        </p:nvPicPr>
        <p:blipFill>
          <a:blip r:embed="rId3"/>
          <a:stretch/>
        </p:blipFill>
        <p:spPr>
          <a:xfrm>
            <a:off x="450720" y="853920"/>
            <a:ext cx="86202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Nadpis 1" descr=""/>
          <p:cNvPicPr/>
          <p:nvPr/>
        </p:nvPicPr>
        <p:blipFill>
          <a:blip r:embed="rId2"/>
          <a:stretch/>
        </p:blipFill>
        <p:spPr>
          <a:xfrm>
            <a:off x="450720" y="281160"/>
            <a:ext cx="8699760" cy="10602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285840" y="1285920"/>
            <a:ext cx="86868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Franklin Gothic Book"/>
              </a:rPr>
              <a:t>Kudzbel, M: Baťa – hospodársky zázrak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Franklin Gothic Book"/>
              </a:rPr>
              <a:t>Kudzbel, M: Baťov systém riadeni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Franklin Gothic Book"/>
              </a:rPr>
              <a:t>Střitesky, M.: Tvůrčí odkaz T. Baťu současným podnikatelům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Franklin Gothic Book"/>
              </a:rPr>
              <a:t>Zelený, M.: Cesty k úspěchu: Trvalé hodnoty soustavy řízení Baťa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Nadpis 1" descr=""/>
          <p:cNvPicPr/>
          <p:nvPr/>
        </p:nvPicPr>
        <p:blipFill>
          <a:blip r:embed="rId2"/>
          <a:stretch/>
        </p:blipFill>
        <p:spPr>
          <a:xfrm>
            <a:off x="450720" y="2567160"/>
            <a:ext cx="8699760" cy="10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Nadpis 1" descr=""/>
          <p:cNvPicPr/>
          <p:nvPr/>
        </p:nvPicPr>
        <p:blipFill>
          <a:blip r:embed="rId2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dea národního stát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árodní bohatství = bohatství vladaře X ne blaho obyčejných lid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Kvantitativní teorie peněz ( zlata, stříbra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8. st. Anglie  -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vlastenectví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„oběť pro vlastní národ“               19. st. - 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cl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Šipka doprava 4"/>
          <p:cNvSpPr/>
          <p:nvPr/>
        </p:nvSpPr>
        <p:spPr>
          <a:xfrm>
            <a:off x="2143080" y="5143680"/>
            <a:ext cx="9288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ynálezy ( železnice, telegraf, doprava…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elkovýroba              průmyslová nadvýroba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S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 &gt; D               P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iln</a:t>
            </a: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ý protekcionismus = vysoká cl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Vysoká konkurence na domácím trhu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e3b30"/>
                </a:solidFill>
                <a:latin typeface="Franklin Gothic Book"/>
              </a:rPr>
              <a:t>Malý zisk (nízké ceny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 algn="ctr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Šipka doprava 3"/>
          <p:cNvSpPr/>
          <p:nvPr/>
        </p:nvSpPr>
        <p:spPr>
          <a:xfrm>
            <a:off x="3071880" y="2928960"/>
            <a:ext cx="928800" cy="35712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Šipka doprava 4"/>
          <p:cNvSpPr/>
          <p:nvPr/>
        </p:nvSpPr>
        <p:spPr>
          <a:xfrm>
            <a:off x="2500200" y="3571920"/>
            <a:ext cx="285840" cy="46080"/>
          </a:xfrm>
          <a:prstGeom prst="rightArrow">
            <a:avLst>
              <a:gd name="adj1" fmla="val 50000"/>
              <a:gd name="adj2" fmla="val 4962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Šipka dolů 5"/>
          <p:cNvSpPr/>
          <p:nvPr/>
        </p:nvSpPr>
        <p:spPr>
          <a:xfrm>
            <a:off x="3071880" y="3429000"/>
            <a:ext cx="71280" cy="28584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mezení domácí konkurence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Soustředění výroby do velkých národních korporací – hrozba zneužití hospodářské moc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1890 Shermanův protitrustový zákon x dohodám o rozdělení trh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Optimistické vidění – moc a prosperita z gigantických korporac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ysoká výdělečnost amerických korporac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ýznamný partner mezinár. obchodu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Velikost a technologická nadřazenos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Pronikání am. Průmyslu do Evrop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e3b30"/>
                </a:solidFill>
                <a:latin typeface="Franklin Gothic Book"/>
              </a:rPr>
              <a:t>Konec 20. st. Amerika ztrácí svoje postavení, konkurencischopnost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Nadpis 1" descr=""/>
          <p:cNvPicPr/>
          <p:nvPr/>
        </p:nvPicPr>
        <p:blipFill>
          <a:blip r:embed="rId2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Konec 20. st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Uspokojení potřeb konkrétních zákazníků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elkovýroba                 vysoká hodnota zboží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ř.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Ocelárny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e 5000zaměstnanců, ale speciální použití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elekomunikace : dálkové spoje „na míru“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Šipka doprava 3"/>
          <p:cNvSpPr/>
          <p:nvPr/>
        </p:nvSpPr>
        <p:spPr>
          <a:xfrm>
            <a:off x="3214800" y="357192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římá spojovací čára 5"/>
          <p:cNvSpPr/>
          <p:nvPr/>
        </p:nvSpPr>
        <p:spPr>
          <a:xfrm>
            <a:off x="1071720" y="3429000"/>
            <a:ext cx="1571400" cy="428760"/>
          </a:xfrm>
          <a:prstGeom prst="line">
            <a:avLst/>
          </a:prstGeom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Přímá spojovací čára 8"/>
          <p:cNvSpPr/>
          <p:nvPr/>
        </p:nvSpPr>
        <p:spPr>
          <a:xfrm flipH="1">
            <a:off x="1071720" y="3428280"/>
            <a:ext cx="1357200" cy="500040"/>
          </a:xfrm>
          <a:prstGeom prst="line">
            <a:avLst/>
          </a:prstGeom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Objem výroby              správný vztah mezi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ena                         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   technologiemi a trhy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1581f"/>
                </a:solidFill>
                <a:latin typeface="Franklin Gothic Book"/>
              </a:rPr>
              <a:t>Zisky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 plynou z průběžného objevování nových spojení mezi různými řešeními a potřebami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římá spojovací čára 4" descr=""/>
          <p:cNvPicPr/>
          <p:nvPr/>
        </p:nvPicPr>
        <p:blipFill>
          <a:blip r:embed="rId3"/>
          <a:stretch/>
        </p:blipFill>
        <p:spPr>
          <a:xfrm>
            <a:off x="822240" y="2724120"/>
            <a:ext cx="2347920" cy="1433520"/>
          </a:xfrm>
          <a:prstGeom prst="rect">
            <a:avLst/>
          </a:prstGeom>
          <a:ln w="0">
            <a:noFill/>
          </a:ln>
        </p:spPr>
      </p:pic>
      <p:pic>
        <p:nvPicPr>
          <p:cNvPr id="423" name="Přímá spojovací čára 8" descr=""/>
          <p:cNvPicPr/>
          <p:nvPr/>
        </p:nvPicPr>
        <p:blipFill>
          <a:blip r:embed="rId4"/>
          <a:stretch/>
        </p:blipFill>
        <p:spPr>
          <a:xfrm>
            <a:off x="963720" y="2590920"/>
            <a:ext cx="1712880" cy="1706400"/>
          </a:xfrm>
          <a:prstGeom prst="rect">
            <a:avLst/>
          </a:prstGeom>
          <a:ln w="0">
            <a:noFill/>
          </a:ln>
        </p:spPr>
      </p:pic>
      <p:grpSp>
        <p:nvGrpSpPr>
          <p:cNvPr id="424" name="Volný tvar 9"/>
          <p:cNvGrpSpPr/>
          <p:nvPr/>
        </p:nvGrpSpPr>
        <p:grpSpPr>
          <a:xfrm>
            <a:off x="6188040" y="2773440"/>
            <a:ext cx="2528640" cy="1944360"/>
            <a:chOff x="6188040" y="2773440"/>
            <a:chExt cx="2528640" cy="1944360"/>
          </a:xfrm>
        </p:grpSpPr>
        <p:pic>
          <p:nvPicPr>
            <p:cNvPr id="425" name="Volný tvar 9" descr=""/>
            <p:cNvPicPr/>
            <p:nvPr/>
          </p:nvPicPr>
          <p:blipFill>
            <a:blip r:embed="rId5"/>
            <a:stretch/>
          </p:blipFill>
          <p:spPr>
            <a:xfrm>
              <a:off x="6188040" y="2822760"/>
              <a:ext cx="2516400" cy="18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301800" y="2773440"/>
              <a:ext cx="2414880" cy="191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Nadpis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8" name="Zástupný symbol pro obsah 2" descr=""/>
          <p:cNvPicPr/>
          <p:nvPr/>
        </p:nvPicPr>
        <p:blipFill>
          <a:blip r:embed="rId3"/>
          <a:stretch/>
        </p:blipFill>
        <p:spPr>
          <a:xfrm>
            <a:off x="231840" y="1474920"/>
            <a:ext cx="8766000" cy="4608360"/>
          </a:xfrm>
          <a:prstGeom prst="rect">
            <a:avLst/>
          </a:prstGeom>
          <a:ln w="0">
            <a:noFill/>
          </a:ln>
        </p:spPr>
      </p:pic>
      <p:sp>
        <p:nvSpPr>
          <p:cNvPr id="429" name="Je rovno 4"/>
          <p:cNvSpPr/>
          <p:nvPr/>
        </p:nvSpPr>
        <p:spPr>
          <a:xfrm>
            <a:off x="5072040" y="2214720"/>
            <a:ext cx="500040" cy="357120"/>
          </a:xfrm>
          <a:prstGeom prst="pi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Je rovno 5"/>
          <p:cNvSpPr/>
          <p:nvPr/>
        </p:nvSpPr>
        <p:spPr>
          <a:xfrm>
            <a:off x="2143080" y="4214880"/>
            <a:ext cx="428760" cy="357120"/>
          </a:xfrm>
          <a:prstGeom prst="pi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Je rovno 6"/>
          <p:cNvSpPr/>
          <p:nvPr/>
        </p:nvSpPr>
        <p:spPr>
          <a:xfrm>
            <a:off x="2786040" y="5286240"/>
            <a:ext cx="500040" cy="357480"/>
          </a:xfrm>
          <a:prstGeom prst="pie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5:10:49Z</dcterms:created>
  <dc:creator>Meloun</dc:creator>
  <dc:description/>
  <dc:language>en-US</dc:language>
  <cp:lastModifiedBy>snoopy</cp:lastModifiedBy>
  <dcterms:modified xsi:type="dcterms:W3CDTF">2008-11-10T13:06:55Z</dcterms:modified>
  <cp:revision>101</cp:revision>
  <dc:subject/>
  <dc:title>Vysoce zhodnocující podniky</dc:title>
</cp:coreProperties>
</file>