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19F3-75FC-44FF-97B3-A94091E1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0C51-3993-4057-B6E3-08B4AD49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D159-78B4-4040-96A1-263F605B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B56-6B69-48A3-91F2-46E3F3B7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6347-9FA6-4918-80DC-F2430065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75AA-C8D6-4986-A989-D1FC5008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637C-BE71-4F5D-9CEC-1AACE363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08DF-051A-48A7-ADF0-FB127F8D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2658-6023-42E6-BD01-D2F6AE83F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2D53-62EA-4559-95E4-4FFD80A5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AC39-55E6-4878-8111-4AE32A28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2C23-2031-474A-A90F-41DAC7AB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E9FB-B764-4B1F-8E9F-9374BE77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5232-90D5-4EA0-933F-9BDF280B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104C-5C25-4E19-B3BE-C9BE3F5F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71F0-121F-4BD3-9F6F-93F4938B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8299-15FD-4357-8380-1289B106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9AE1A-6192-410A-B2DD-208288245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20DF5-4265-445D-859C-49283285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7989-1825-4231-9F90-40B6A99E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9B261-5EC5-41D4-BA78-22FCA045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E3E6F-05E2-4679-9D9D-37D45039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914D-3DE5-42E8-AA2D-522D8316B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D450F-F947-4ABA-8882-67B3CC8D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18A0-41DC-4D90-8BEC-C1EE02CF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5C47D-85B3-4CE1-B665-78927BEB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915C-32A8-4754-B767-036FA1B2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8AB10-D749-40EB-9E7A-44ED5DC6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942B-D4EE-40B0-B5C4-C34CDAED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7D10C-B53A-4FC0-A037-7B44F990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A054A-2F01-495B-A15C-18BE2911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C447E-5162-47A8-A3DB-D6DC782C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7AF7-5D68-4AA5-8C10-86C444F4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723-2B82-4251-BA6B-EF3A35DC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D7A26-5002-41E6-986C-4E8866F6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19253-2EA8-420E-B583-947BE2B1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593C5-5E33-4C0F-8FBE-84DF579C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553E4-4618-40ED-9485-A0972C1F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25AF-7A57-44EF-A737-41FD4292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5BCA6-6E93-4282-9535-0241566C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9D32D-64E3-4474-AACD-B4D5FB96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68478-2091-4268-8C73-910E1BF7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FE041-8798-4DD0-88BA-721B5CEA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A8E-DE65-49A3-92B3-C6FC1765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004-5D06-45FA-A23F-1FD673AF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063-EF31-43BD-BD1E-EE0ABF54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19A4-1A21-46B5-A738-EFD84651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E409-8A4B-4B2D-BE51-22E9CFD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EA6E-398F-4025-A62B-345532A225AA}" type="slidenum">
              <a:rPr b="0" lang="cs-CZ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BE3F-434E-4026-B129-F23046259647}" type="slidenum">
              <a:rPr b="0" lang="cs-CZ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olný tvar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Volný tvar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Skupina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olný tvar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Volný tvar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Volný tvar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Volný tvar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DF60-A662-4DED-86EE-C175CF74D801}" type="slidenum">
              <a:rPr b="0" lang="cs-CZ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bdélník s odříznutým a zakulaceným jedním rohem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ravoúhlý trojúhelní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Volný tvar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Volný tvar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B128-961D-453C-833D-08CC7B559EE4}" type="slidenum">
              <a:rPr b="0" lang="cs-CZ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Etika v postmoderní době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000480" y="4357800"/>
            <a:ext cx="2685960" cy="17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Kincl Pa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Beleš Marti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Beleš Mare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Management a etika zodpovědnosti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Řízení fungovalo „na kázni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Taylorovské podnikání = vykořisťování pracovní sí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Dnes funguje „na etice“ – potlačuje se pohrdání člověk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anagement a etika = vytvářejí dvě zrcadlové tváře téhož fakt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500040" y="2286000"/>
          <a:ext cx="8229600" cy="2747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Taylorovský pod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sttaylorovský pod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yramidální a autoritativ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rticipativní a horizontální management (=„kopernikánský obrat“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chanické rozdělení úko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rzačení lidského potenciál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naží se zvýšit iniciativu každého jedince „zmobilizovat inteligenci všech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naží se dynamizovat tvůrčí zdroje všech spolupracovníků a rozvinout kvalitu života v prác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Taylorovský podnik vs. Posttaylorovský podnik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ika v managementu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bavuje organizace strnulos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Znovuzrození normativního ideálu hodno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ustředěnější pozornost k psychologickým a relačním ukazatelům pracovní motiva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4617b"/>
                </a:solidFill>
                <a:latin typeface="Calibri"/>
              </a:rPr>
              <a:t>Etika a produktivit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vní fáze věku konzumu charakteristické binární opoz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Volno-prá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Štěstí-kázeň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Soukromý život – profesiní živo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učasnost, nové zaměření volného času („neopalovat se do blba“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Cykly kulturního vzděláván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Semináře duchovní medit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Centra prohlubování vědomí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tika a produ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tika zodpově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nastoluje autoritativní normy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ýbrž činí zodpovědnost předmětem tou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Ruší strohý protiklad 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- Profesní </a:t>
            </a:r>
            <a:r>
              <a:rPr b="0" lang="cs-CZ" sz="1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 Soukromý živ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omocí autonomie a osobního rozv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tika a produ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tický přístup ke správě lidských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acovat jinak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mená též pracovat ví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nstantia"/>
              </a:rPr>
              <a:t>Posttaylorovské podnikání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edá personál připravený na změnu, motivovaný a odhodlaný k zápa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Zrod metod a kurzů tzv. „osobního rozvoje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a úcta k jednotliv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nstantia"/>
              </a:rPr>
              <a:t>Etická jednohlas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nstantia"/>
              </a:rPr>
              <a:t>profesní úbytek kvalifikace, sociální rozpolcenost a vytlačování na okraj společ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valozpěv, úcta vede k tajnůstkářským a opovrženíhodným praktik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 těchto podmín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malé nadšení pro posttaylorovskou formu organizace prá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Nadpis 1"/>
          <p:cNvSpPr/>
          <p:nvPr/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a úcta k jednotliv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obsah 3"/>
          <p:cNvSpPr/>
          <p:nvPr/>
        </p:nvSpPr>
        <p:spPr>
          <a:xfrm>
            <a:off x="457200" y="1357200"/>
            <a:ext cx="82296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ysem současných společnos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ní pouze touha po spoelčenském a morálním uznán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moderní individualismus ji nevynalézá, avšak šíří ji do oblastí, jichž se kdysi týkala jen málo nebo vů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ztah jednoho člověka k druhém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strukturován vymýcením všech forem segregace, pokořování a ponižová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etický ohled v řízení zaměstnanců má před sebou skvělou budoucn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Použité zdroj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Thompson M.: </a:t>
            </a:r>
            <a:r>
              <a:rPr b="0" i="1" lang="cs-CZ" sz="2600" spc="-1" strike="noStrike">
                <a:solidFill>
                  <a:srgbClr val="000000"/>
                </a:solidFill>
                <a:latin typeface="Constantia"/>
              </a:rPr>
              <a:t>Přehled eti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Lipovetsky G.: </a:t>
            </a:r>
            <a:r>
              <a:rPr b="0" i="1" lang="cs-CZ" sz="2600" spc="-1" strike="noStrike">
                <a:solidFill>
                  <a:srgbClr val="000000"/>
                </a:solidFill>
                <a:latin typeface="Constantia"/>
              </a:rPr>
              <a:t>Soumrak povinností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Wikiped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Etik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Filosozická disciplí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orálka, normy jednání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hodnoty a principy v jednáních, při kterých existuje svobodná vů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zvoj v období antiky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(Sokrates, Platon…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Zásadní úloha = potlačit nezodpovědný individualism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Etika na první strá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zrůstající role a moc médií =&gt; roste i krize důvě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édia a informace = symboly manipul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ritika médií – degradace demokracie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naha posílit žurnalistické povinnos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ika médií – dnes v centru zájm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Korupce v médiích – dříve a d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Informační a mediální et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Chvála profesionalit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žadavek spravedlivé svobody tisku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s. Komerční logik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S pozvednutím kulturní úrovně – „trh s pravdou“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s. „senzační“ tisk</a:t>
            </a:r>
            <a:br>
              <a:rPr sz="2600"/>
            </a:b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=&gt; dualizace tisk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Sňatek etiky s byznys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Rozmach obchodní etiky -&gt; ve velkých amerických firmá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Vznikaly tak etické kodexy – závazná pravidla náležitého chování uvnitř podniku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hics pays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Business is business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Etické kodexy se jevily jako překážka ekonomické výkonnosti = šlo o zis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„</a:t>
            </a: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Business ethics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Prvenství morálních hodnot -&gt; etika se stává výkonným pomocníkem ekonomi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onstantia"/>
              </a:rPr>
              <a:t>Ideálem je „spravedlivý střed“ – rovnováha mezi různými protikladnými zájmy ekonomických a společenských činitelů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500" spc="-1" strike="noStrike">
                <a:solidFill>
                  <a:srgbClr val="04617b"/>
                </a:solidFill>
                <a:latin typeface="Calibri"/>
              </a:rPr>
              <a:t>Etické kodexy vs. podnikové projekt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Podnikové projekty – cílem je vyjádřit záměr firmy a její hlavní snah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42960" y="2786040"/>
          <a:ext cx="7786800" cy="367344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Etické kodexy – 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odnikové projekty – Fran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ozdílné zna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ymezuje závazky a práva každého zaměstn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anovuje cíle pokroku a širší ideály, které dávají podniku kolektivní smy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silují o zvýšení zodpovědnosti normativní cestou „morální smlouvy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řipoutává zaměstnance výrazem sdílené kolektivní vů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polečné zna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íra manažerů ve výkonnost, postup předávání zodpovědnosti a zapojení personálu „kulturní“ cesto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odnik neklade do popředí přejatý a neměnný zákon, nýbrž v principu si své zásady ukládá po proběhnutí kolektivní deba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Vývoj obchodní etik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Nábožensko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Sociální – společenské zodpovědnosti podnik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Snaha uspokojit legitimní očekávání a požadavky společnosti – v diskuzi s nátlakovými skupinami, anebo sám od seb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Business ethic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nstantia"/>
              </a:rPr>
              <a:t>Podnik musí sám zreformovat své principy a praktiky a nastoupit trvalou stálou cestu úcty k morálním normá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4617b"/>
                </a:solidFill>
                <a:latin typeface="Calibri"/>
              </a:rPr>
              <a:t>Dopad na manažery podnik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Manažerský diskur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nstantia"/>
              </a:rPr>
              <a:t>Obsahem je:  manažer by se měl vždy chovat poctivě, nešidit sebe sama a respektovat své závazk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nstantia"/>
              </a:rPr>
              <a:t>Etik vytyčuje směr „new age“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4:30:20Z</dcterms:created>
  <dc:creator>snoopy</dc:creator>
  <dc:description/>
  <dc:language>en-US</dc:language>
  <cp:lastModifiedBy>Marek</cp:lastModifiedBy>
  <dcterms:modified xsi:type="dcterms:W3CDTF">2008-10-30T06:00:52Z</dcterms:modified>
  <cp:revision>2</cp:revision>
  <dc:subject/>
  <dc:title>Etika</dc:title>
</cp:coreProperties>
</file>