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B31-0EA1-420C-9070-4005F7BC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0AC5-C29B-4F5C-A120-D6C604B8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31F-818F-42F4-A7C2-06A1604C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F26-8D97-4E52-8BFB-CA5F03C8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8165-F403-4851-A8F3-B8B5E87A4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AB61-D581-4D34-BB76-4385E155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2AC6-CF00-411A-912B-73B8E178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AE0D-7A90-476E-8862-7DBAD5A6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A438-5DE7-4845-A511-F400651E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DA4D-0F42-47E2-B3EC-82F17DEE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9565-3AE7-4D08-A3EA-2D0125F1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F289-C152-453F-B846-721148C1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7813-5613-4762-99B9-92D101BE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48B8-E54A-4DC6-8589-3C9B5D1F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DA2D-FDAF-4624-B3FA-43DE4A9D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D0D2-D9A5-4426-B791-A31E6519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A39A-9D9D-4912-9468-7CE8E488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1563-FD12-4796-AF27-336C6A16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19E-FA59-417F-9D83-823CB7F1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1CC3-BC97-4613-B1E9-255F2500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73C-4A34-45FA-9C8A-FF86A1DF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534-0A37-4BCE-9801-8EE2DAEB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D425-7001-42F0-B8ED-15491797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CAB-8CBA-49E7-BB2D-409385DC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B6CE-1164-4B38-A5B9-E915065C891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E5B4-3FEA-4102-AA39-48B9EAF545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adikální přeměna podniků: Reengine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racov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reza Hurní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ronika Molá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udmila Šau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Jak začít s reingeneeringem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me ochotni se k řízení procesu změn postavit pečlivě, odvážně a angažovaně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dnikový reingeneering = „“dosáhnout obrovských přínosů jediným mocným rozmachem“, nikoli systematicky postupně dosahovat určitých přínos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vní krok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edení definuje procesy, jichž se v organizaci uží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to procesy se uspořádají podle významu a současné efektiv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uhý krok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odneme se, na kterých procesech chceme pracovat (současně max. 1-2 projek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pomocí přiřazení KFÚ k procesů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ritických faktorů úspěchu –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</a:rPr>
              <a:t>např. spokojenost zákazníků, kvalitní zaměstnanci, vynikající dodavatelé,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čím více KFÚ proces ovlivňuje, tím je důležitější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tým oboduje procesy dle jejich dosavadní výkon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menujeme reingeneeringový tým (5-7 lid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dělíme role v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řídící skup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Řídící skupin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) vlastník podnikového proces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lověk odpovědný za efektivnost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= chápe přání zákazníků – určí správnost práce – řidí lidi kteří ji vykonávají, aby ji vykonávali efektivně)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(x klasická oddělení: pouze řízení lidí na určitém úseku vykonávání práce – může být vykonána efektivně nesprávná prá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Lídr tým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ídr reingeneeringového tý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ástečný úva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a vysoce výkonná a pracovně vytížen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lépe manažer oddělení majícího klíčový význam pro reingeneer.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í kvality, nadšení pro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zprostředkovat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oblasti jež není součástí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má znalosti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í se na to, „jak“ postupovat, ne „co“ dě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ý člo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4) externí konzultatn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ano či 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)koordiná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ze pokud máme ve firmě více než 1 proces reingeneer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akty mezi proj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ástečný pracovní úvaz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ministrativní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6)Členové reingeneeringového tým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jich kolektivním úkolem je zajistit reingeneering proces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lépe lidé ze střední úrovně organ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ez nadřízených/podřízených vztahů mezi seb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 členů vč. Lí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. i specialistu neúčastnícího se proce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Úkoly reingeneeringového tým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chopení procesu, který má být podroben reingeneerin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jeho vstupů, výstupů a zákaz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jistit požadavky zákaz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měřit parametry současného procesu </a:t>
            </a:r>
            <a:r>
              <a:rPr b="0" i="1" lang="cs-CZ" sz="2800" spc="-1" strike="noStrike">
                <a:solidFill>
                  <a:srgbClr val="ff0000"/>
                </a:solidFill>
                <a:latin typeface="Arial"/>
              </a:rPr>
              <a:t>(brainstorming týmu: „nedostatky“ x „přednosti“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– soustředíme svou pozornost na nedosta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ze nového proces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nchmarking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ýkonnostní kriteria – stanovte cíle =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výsledky dosahované konkurenc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možno uplatnit i v rámci jednotlivých lokalit poboček podn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ces musí být v souladu 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trategií pod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zákaz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i formuluj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zitivně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(ne:bez jakýchkoli reklama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no: snížit počet reklam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 viz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ěřitel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vize začlen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činnosti lidí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říklad z praxe – Jaguá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. léta x 60. léta (Bo-C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tráta konkurenční výh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nažerský styl ved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vydělává x prodělává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ůvody pro vytvoření koncepce reengineering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y pro fungování prvků tvořící podnik (struktura, management, výkonnost) – staré 200 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mínky se radikálně změn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základní síly ovlivňující podnik – tzv. 3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kazníci rozhod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ku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se stává neustá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ykl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kace probl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zuměn důsledk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hopit situ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épe zapojit zaměstnance a tak zvýšit jejich loajal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čit hl. cíle změ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odnotit aktivity vedoucí k jejich dosaž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hodnocení a fixace nového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guár mimo korporac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jistěné problém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nan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ízká kvalita výrob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lesající presti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ízká produktivita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á pracovní morá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kání se zaměstnan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amžitá změna mnoha firemních proce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vní zrušení fi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kce pracovník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lepšení kvality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cné povědomí o fungování firmy a jejich produ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ční a vzdělávací kampaň zaměstnanců všech organizačních stupň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ntifikace několika hlavních cíl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ovuobnov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městnanci, subdodavatelé a kontroloř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ti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uštění, přísné předpisy, technologická modernizace, optimalizace některých proce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licencování, nová pravidla pro distributory, koncept nového vizuálního sty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hodnocení a fixace dosažených změ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émní kval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ysoká produktiv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kluzivní způsob prode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y akcií na burze velký vzes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189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AMMER, M., CHAMPY, J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eengineer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: Management Press, 199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loš Drdla, Karel Rais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Řízení změn ve firmě - reengineering : jak vybudovat úspěšnou firmu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 : Computer Press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BSON, MIKE, ULLAH, PHILIP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aktická příručka podnikového reingeneeringu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Management Press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531280" y="2361960"/>
            <a:ext cx="2174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jem reenginee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e: Znamená zásadní přehodnocení a radikální rekonstrukci podnikových procesů tak, aby mohlo být dosaženo dramatického zdokonalení z hlediska kritických měřítek výkon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íčová slova: zásadní, radikální, dramatický,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ý začátek (jak bychom vytvořili podnik, kdybychom ho zakládali nyní) x pouhá ná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kračová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ouštění starých pravi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líčové jsou otázky PROČ něco děláme x jak to udělat rychleji, s nižšími náklady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ce na procesy ne na úkoly nebo út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pokladem je nasazení informačních technolo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čné rysy reengineerovaných proces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98192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ěkolik prací spojeno do jed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ci rozhod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oky procesu vykonávány v přirozeném sl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ní provedení proces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kce kontrolních opat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žer případu je jediným kontaktním mí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mbinace centralizace a decentr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uhy změn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 jednotky: od funkčních útvarů k procesním tým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kter práce: od jednoduchých úkolů k mnohostranné prá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dé získávají větší prav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měna přípravy k práci: od výcviku k vzděl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žeři se stávají kou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plošťuje se organizační 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amant podnikového systému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12664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nikové proce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ovní funkce a                      Hodnoty a náz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k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émy řízení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700000" y="278136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4365720"/>
            <a:ext cx="649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227640" y="436536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516720" y="285228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le informační technolo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 součástí každého reengineeringu, je spolutvů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žadavek induktivního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é technologie umožňují nasazení nových způsobů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vá pravidla pro technolog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ce jsou přítomny všude, kde jsou potřeb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zalista může vykonávat práci exp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ozní personál může předávat informace kdykoli a kdek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ci vám řeknou, kde js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ány se revidují průběž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5:58:47Z</dcterms:created>
  <dc:creator>Liduska</dc:creator>
  <dc:description/>
  <dc:language>en-US</dc:language>
  <cp:lastModifiedBy>Tereza</cp:lastModifiedBy>
  <dcterms:modified xsi:type="dcterms:W3CDTF">2008-11-10T00:09:01Z</dcterms:modified>
  <cp:revision>25</cp:revision>
  <dc:subject/>
  <dc:title>Reengineering</dc:title>
</cp:coreProperties>
</file>