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F954-192D-4E67-83BA-E3F0218E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36BA-B95A-4B30-B753-1B1E412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4691-A892-45A8-AA5A-50E59EE9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1786-0106-4888-B8A3-30FBE63D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436E-99B0-4892-A830-F505AE85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2406-552B-4C93-B312-B63E68BF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D203-583A-4239-ADF3-80BCF2D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352-D735-4202-9B45-D5166CF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2607-533F-4766-BFD0-B5C0AD7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3B72-0DE2-4241-BCDF-8F29263C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978-9B5F-41CE-8BFE-0BD425A6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D1F1-9037-483E-9150-83ACFC3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72BE-1A5C-4576-8518-CB52690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8934-657F-468C-BA30-52E9D38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E048-0648-4E81-A8A8-6E312CB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A56C-A887-4969-B638-D25A6F93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001D-183C-43ED-AC42-8A25B805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170F-1ED1-46BF-8553-592DF68B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2C4B-78CA-48FE-8397-10132E0F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E53A-A387-4E2F-9F14-5FB2FF0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3026-2323-4BBB-A164-EDE4DB3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72E9-8A26-4C59-A414-19E8EB50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3D7E-BC58-4FA5-A2F4-A4531D3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1B5E-C151-4B10-8649-6F12AED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35B-17F6-4CEA-975A-D51907D95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4AE-0805-4193-852C-1227B9D81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ožadavky na podnik a jeho řízení na prahu postindustriálního věku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řenková Pet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landrová Tere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vrátilová Ja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munik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o zlepšení spokojenosti zákazníků – základní kriterium – hodnota poskytovaných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 oddělení služeb zákazníkům – hodnocen na základě osobní produktivity ( počet tel. hovorů během d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ispečer – hodnocen na základě míry využívání technických pracovníků (kolik doby stráví u zákazníka a ne na cestě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chnik – hodnocen podle produktivity (kolik zakázek denně vyřídi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2472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azník – okamžitá oprava tel. spojení, spolehlivé tel. spoj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ovník oddělení služeb – vyřídit telefonát co nejrychleji, i když nezískal veškeré potřebné inform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ečer – vysílat techniky do sousedních oblastí bez ohledu na dobu čekání zákazní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k – maximálně zkrátit čas strávený u zákazníka, kvalita práce druhořad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hy  o zlepšení služeb podkopávány vlastním systémem měř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Formální, strukturovaný a kvantitativní model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cí manažerům mobilizovat zdroje nutné k dosažení celkových cíl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jující celkové podnikové cíle s jejich kontrolovatelnými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kazuje , že zatažením této páky se otevřou tyto dveř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Promyšlený proces využívání naměřených údajů 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lepšování podnikové výkonnos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ívající údaje k odhalení příčin a určení nápravných opa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konnostní kriteria a žádoucí úrovně výsledků pro klíčové prv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riteria – objektivní, aktuální, snadno spočitatelná a snadno pochopiteln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Zaměřte se na konečného zákazní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5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niky netuší kdo jsou jejich skuteční 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 od zákazníků odděleni distribučními řetězci (velko-, maloobchody,dealeři, distributoři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lká většina výrobků se dostane k zákazníkovi až projde rukama 1 a více prostřed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 distribuční kanály se dostává velmi málo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robci – vědí o vše o výrobku málo o zákazník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toři – vědí vše o zákazníkovi málo o výrob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ční distribuční kanály – nevýkonné, vysoké nákla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ždá transakce zvyšuje cenu x nepřidává hodn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madění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travinové zbož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ené trvanlivé výrob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zi tím než výrobek opustí linku a než se dostane do obchodu uplyne více než 100 d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íce než 40 % zboží projde minimálně 2ma zastávk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okaždé musí být zboží vyskladněno, uloženo a opět vybíráno a nalož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elkové náklady spojené s toky zásob jsou více než 100 miliard dola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63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Výrobci i zprostředkovatelé musí společně usilovat o to, aby vzájemně umocnily své specifické schop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Maximalizovat hodnotu z pohledu konečného zákazní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Minimalizovat vlast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Přetvořit distribuční kanály ve společenství, která usilují o společné cí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Každý člen společenství dělá to, co umí nejlé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Využívat internetu ke sdílení informací a zefektivnění transak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 2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internetové stránky – pro distributory (zboží) a pro zákazníky (doplňk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plňky – snadno se balí, posílají, nepotřebují návod ani instal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aler – podíl na zisku podle oblasti, ze které si zákazník doplněk objed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né pro všech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101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vnější zdroje režijních, skladovacích a ji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jte své procesy s procesy dodavatelů a zákazní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rozdělte činnosti mez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evřeně sdílejte informace se všemi zúčastněnými podn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321000">
            <a:off x="6012000" y="36450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7010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Přetvořte a zjednodušte mezipodnikov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ijte příležitost ke spolupráci se spoluzákazníky a spoludodavate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měřujte firemní kulturu směrem k důvě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36000">
            <a:off x="3995640" y="37159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žerská pravidla pro úspěšnou firmu v 21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oporu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ma není soběstačný celek, ale součást uskupení, které vytváří hodnotu pro zákazní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kterizujte podnik pomocí procesů, ne výrobků či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čete procesy ve kterých vynik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Chopte se možností virtuální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statní činnosti přenechte někomu, kdo je dělá lé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upracujte s ostatními a nedělejte jen sami na se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uďte připraveni zásadně přehodnotit identitu a strategii svého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Dejte se do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ud chcete uspět musíte patřit k nejlepším ve všem. Dnes už nelze být dobrý jen v něč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klad 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ři zásady strategi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, ostatní zruší nebo prod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 výzkumu investovat tolik, kolik je na první nebo druhé místo tře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akonec: 6 doporučení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etržitě provádějte změ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klopte se kvalitními lid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lete pozitiv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ále se uč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ánujte co bude po 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ělejte chy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16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528480"/>
            <a:ext cx="7010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UŽITÁ LITERETU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AMMER, M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Agenda 21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 Praha: Management Press, 2002. ISBN 80726107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rainer, S. Byznys podle Jacka Welche. Praha: PRAGMA, 1999. ISBN 8072059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ěkujeme za pozorno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OVÁ EKONOMIK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šlo k nahrazení nedostatku nadbytk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azníci se stali mnohem zkušenějšími a informovanějšími kupující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robků se staly v podstatě nediferencovanými produ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vět jemuž vládnou zákazní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Přizpůsobte podnik svým zákazníkům – staňte se PSNSD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ažte svým zákazníkům jedinou tvá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způsobte své postupy potřebám konkrétního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edvídejte potřeby zákaz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ídněte zákazníkům hladkou a bezproblémovou komunikaci během všech transakcí s vaším podni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užijte možnosti nechat zákazníka, ať se obslouží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ejte měřítka výkonu soustředěná na zákazní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Dejte svým zákazníkům, co pravdu chtějí - poskytujte VPH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zlišujte mezi tím, co prodáváte a co vaši zákazníci kupují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ápejte sami sebe jako poskytovatele řešení spíše než dodavatele výrobků či služeb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nažte se pochopit širší  potřeby a problémy zákazníků, přesahující vás a vaše produk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ledujt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 vaši klienti dělají s tím, co od vás dostanou, a buď to udělejte za ně, nebo jim s tím pomozt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Vytvořte řád tam, kde vládne cha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azníci už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ejsou loaj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znova a znova přesvědčovat o kou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ratší život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voj nových a nových výrobků, inov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dej a vývoj nových výrobk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ci pracují tvrdě x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iště jako celek =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a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nevědomky pracují na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protichůdnýc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úkol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á situace se řeší ji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idé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improvizuj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romýšlejí věci za pocho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Arial"/>
                <a:ea typeface="Arial"/>
              </a:rPr>
              <a:t>To, že se něco podaří je vlastně zázr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říklad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Chemický závo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keting – koncept nového výrobk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roba – výroba zamítla jako neproveditelný (moc prá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ýzkum – návrh nové technolog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 – nepraktické ( nerozumí ji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dyž už byl nový produkt náhodou protlač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finance – navrhovaná cena bude stejně ztrá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obchodní oddělení - stejně si to nikdo nekoup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aždé pracoviště vyvíjí obrovské úsilí, ale izolovaně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21654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Klíč k úspěch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ORDINACE a DISCIPLÍ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de o to činnosti pouze vykonat, ale sladit j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dohrom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vykonat je v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ém pořad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rčit přesnou posloupnost kroků a rozdělit odpovědnost za jejich plně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=&gt; Opakovatelnost, předvídatelnost a řiditel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&gt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lidé nebudou muset vynakládat úsilí, aby zjistili, jak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mají pracovat,mohou se soustředit na podstatu své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užívejte správná měřítka výko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 Krutá )Reali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ové systémy měření poskytují spoustu prakticky bezcenných údajů, které kvantifikují téměř vš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tom postrádají konkrétní záměr či d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jich takové množství, že se nedají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sou dodávány tak pozdě, že už jsou v podstatě zbyteč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žívat při řízení podniku finanční ukazatele je jako řídit auto s pohledem upřeným do zpětného zrcátka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05:14Z</dcterms:created>
  <dc:creator>Tereza Kalandrová</dc:creator>
  <dc:description/>
  <dc:language>en-US</dc:language>
  <cp:lastModifiedBy>snoopy</cp:lastModifiedBy>
  <dcterms:modified xsi:type="dcterms:W3CDTF">2008-11-20T13:38:15Z</dcterms:modified>
  <cp:revision>16</cp:revision>
  <dc:subject/>
  <dc:title>Požadavky na podnik a jeho řízení na prahu postindustriálního věku</dc:title>
</cp:coreProperties>
</file>