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E3A-0961-45C1-A881-4A56CA55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738-17E0-4B84-B64A-2BDD00C6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E1D7F-29DB-4827-869B-A08C1BC9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C5607-137F-4156-8344-A3D1E1F5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BD2C9-5ECE-4118-8858-AEFF4D65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AEB18-3650-4063-BE2E-0CBD35BC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5B15-4D65-4A90-9813-E810E8D8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1A4AF-79F0-42EC-908F-460312E7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140ED-7167-4585-BCB3-D4D0693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C7FF4-660C-40EB-A2E4-89A45EBB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564CC-B263-4492-89FA-C50474C1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5A55C-CF28-4153-A6D2-A3AF22EB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AEF-D543-4CEA-B31B-3D0E782B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F1F7E-E859-46B5-995F-263275A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72AEA-6D1E-4A29-8EFD-9A1CBDD3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FEB42-80A3-4A03-9BDE-23E1707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15FD7-9525-4C96-AABA-65903CD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E808F-9DA3-48BE-9F9B-1D17485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95551-8D2F-4F19-A779-518A79B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A5896-E1AB-4C51-8CF3-EEE6CE0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87B0-13E0-457D-B684-ECF6B8B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536E8-BA9C-4022-8660-18DCFE2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11C47-7744-40F9-B7F1-27D9670B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1B2-09F7-43C9-80A0-B897915C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186BF-C98A-4EFA-88B4-EA92E5BE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C2A3-1334-4599-ADD2-9E8AA651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6BCA-D929-4460-B7FB-0B8B33F7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DED30-7648-4BE1-9925-95CF8940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41DD1-E865-47E6-BDEC-77CC47C1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FF5AA-503A-4851-A68D-EDA96C46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0373-9144-4989-9FF7-037B2603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67F35-1510-4756-99E0-FF5CE31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B22F2-F3F2-4E8C-9FB6-30E8B22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59D1-9E32-46B7-B15E-AA0BCC8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CDF6-1D0D-4D0F-B98A-B4E6FC41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EFBFF-0BAB-43AD-839F-096068D0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620D8-699A-4A02-90B5-C6F214A2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7E09F-20D4-470B-AF08-7C2917E5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876EE-D49B-4270-BC89-B7739E28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06754-4A32-4E22-AE74-790409CC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288E-92B9-4E32-B590-F5A49729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300C4-1DF4-4B7D-B475-2981576A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4849C-872A-4155-AFC4-AAB205A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52D20-A003-446A-80F2-05D0430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71DB4-2D24-499D-80A2-4AEBC9D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9243-B5E5-4AC9-98BD-6C36BD54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73677-74C2-4D78-9BA1-AF69160F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F829F-B307-4BE2-9432-678AB81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A5680-3832-4FC1-B361-31CB626A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EB3F2-C4B2-47FA-B2A1-CB2E23DE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AF627-3BAA-4122-A6E8-4AEC517C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93BD-2600-4DAA-B2E4-4A50713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1AD2-2827-44A5-8F13-FD4286DB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5D51-9A16-4285-AD6A-B42FFA1D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05CE-2B76-426F-9CC1-FDD29D8D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940-6F92-4466-845D-19C4125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3F7-DE95-4DC6-91AE-D5B7DA02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C597-F89A-4EA2-B1C6-C049CB2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6DC7-A80F-42CF-8676-F268C5E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7CCA-54B3-472E-BD82-0A9879F1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6121-CAC8-475D-96B7-9E7CE026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A48E-0CA1-419B-9E1A-B7040232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5B16-0CFD-441C-8D4F-C57F7850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AB68-0308-495D-A87B-0050B0CE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C047-D6DA-48ED-8BCC-1D4D5AD9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477F-D1D0-42E6-85CB-3A3BC715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B81C-EEE3-4561-91D3-8B2FE67E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20E-8222-42ED-A272-B70CBED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E312-0079-4F48-BD8F-EA79ABC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760D-FC63-401A-87B6-B795064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82A7-A447-4E8B-98B7-1D2AB274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D5A6-FC5E-4DC0-B29E-4628B2DB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2D66-057A-4DE6-B7EF-D8FA27EF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FE9E-EFC5-4A47-9AF6-875E46DD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4847-5A70-497D-9779-4C4B9889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89D9-2A65-4868-B2C9-9C5004EE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6A38-EB4F-4100-83CD-4621C152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542C-02C4-49F3-B28B-F978C8AB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EE3-3B04-4469-9EB5-A2DF89CF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DD588-8854-44D3-9236-2644E771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4E85-29F5-40A7-883B-EE9E6AC0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6D6F-207E-4267-8235-49CD3C2C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2829-046C-492A-94E4-E6B5CE6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841A-752D-49AA-8CD5-B0CF1890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79A6E-80FC-46C7-A39B-AE459D8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7273-B8AB-449B-8747-97C4644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2D1B-7FF0-4EAA-A051-4E442D92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0A94-E9CE-470C-A74D-53628848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B9E09-6C1B-4D26-8E00-AE1D91DD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EB3-11BE-4F8D-BBB0-3211816A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FA731-B8BE-4638-BB8A-37F5807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9CD8-BAD7-46DE-B5C9-BF99C511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730D1-4821-431C-97BC-21028BC6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9A50-2ED8-4418-B7EC-01C3C9D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C584-7FD6-4387-8C22-30F8E671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E4F4-CE1C-4E1D-97E6-BF34D93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6A4E-5B8B-459B-881E-458A0B4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4C9A-E8CB-4B56-88EE-96D9A47D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250C-6239-4B78-A6C5-E056D419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FA3B-80A1-41F6-A063-4EC92088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BBF-9481-4079-8C52-B648B01A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3695-A24F-4F07-8123-A8926238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B063-10CD-420E-8B9B-B80B5D3E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93AC-7D8B-42AF-9B9E-9137A7A0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C380-AB01-4700-AC20-5D568C38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6D83-FB97-4B44-B5CE-A3E944F9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D721-CD84-40DC-9774-0C046791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C7EE-B7F0-4449-BC3D-AB39120B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AC74A-C527-42FA-A687-A85839F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1336E-BC15-4420-B5DD-4589D8AD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C9730-9880-4076-A601-D7A4B7F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A81-82B1-46F0-9367-F73A0E2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D617-6CFC-423E-9FF2-E67CC09B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D0C8-A9A7-4522-B6DB-BAF34EA4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137FD-A5E1-4B9C-AD15-77B43A18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BD50-8026-4EAC-AA58-4660F95F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0AF6D-1900-4795-B4DD-A74977FE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65A3-0488-40AB-ADD6-FF03A2C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CE170-B092-489F-9CB4-7F82226E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41AD-E263-49B2-BA7D-7994A541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BB40-9503-488C-8897-57C4F794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60EA-221E-443C-869B-9A59B12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FB3-CE9D-409B-A0FA-F2E115B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6377-B78F-46FB-A4FB-503DD5E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7A1A-9F48-4A06-BAA3-F9BA3EB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1BCF4-7E5E-4F4E-804F-0DA47D43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FF431-5588-4FBC-B33D-668D8260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DCD6-8932-4745-BC30-31154945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C91AC-D496-4A70-BD42-18F927BD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DA2DF-E7F2-4CDA-8AD9-0F045BD0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42362-B284-4410-9CFE-C89D50BC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33F8-D351-433F-9E28-3414349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0529-DA95-4146-87B1-7B4E0C26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BBF-328E-482F-8751-8CF5F34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65F9E-CA5C-4ADD-906D-76DB29E7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FC87-1201-4EA9-A4CF-F41A5683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EB6D-35E7-44ED-B7BE-C16C520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DD3FF-ADAC-4DA5-AA58-5CB8D29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A4F8-E159-4D5B-991C-59C755F8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B5AD1-C1EE-4F57-BD16-43F71105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5B2EA-546B-4087-BB56-028FF5DD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5AAE0-C0A5-4035-AE43-6D0B20BB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718A2-670A-410A-BAB3-BFC8D738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E8DD5-8A26-48FA-BEBA-FAD2A82A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CA7-BE1E-4842-87A8-B8F01EDF2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2A18-CC04-4471-8451-36C9F94C8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9322-54F2-4FEF-A1FC-B0D43EF50D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43F-9C09-4F05-91AF-60B27D8D46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BCC0-75AC-4AC4-872A-B1B69AF06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49E1-DCCB-47CC-83D3-2C85BF4D9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6CA3-4D7E-45DB-B51D-923BD9165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836-8B35-4AAC-8AA0-7F8E08BEC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FDA-D98D-481D-AE1D-71D70A9A5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65F7-B31A-4499-866E-9C68821A1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92D-15A4-4AB0-8263-3723526F0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FE8-4C2C-46D4-B906-C2B9B78EE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ps.zcu.cz/materials/fikult.rtf" TargetMode="External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Lucie Bieli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Simona Jakubc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Arial"/>
              </a:rPr>
              <a:t>Martin Liz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e jako nástroj naplňování očekávání zájmových stran v určité organizační struk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Otázk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k se kultura, struktura a strategie navzájem ovlivňuj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a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Dlouhodobý rámec a směr, který sjednocuje ve firmě její hlavní cíle, priority a ak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cké 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Tvorb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Implementace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Vliv na obě fáze strategického říz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S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trategická myopie“ – co fungovalo v minulosti, bude fungovat i nadá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Výběr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Determinace svými postoji a hodnotami - „filtr“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alibri"/>
              </a:rPr>
              <a:t>Zpracování informac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ilná kultura – stejná interpretace – omezené množství alternativ strategi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kultury na strateg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vorba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žerská subkul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ční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ální  hodn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mplementace strateg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ie jako podpora nebo bariéra kult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11280" y="2421000"/>
          <a:ext cx="8280360" cy="3921120"/>
        </p:xfrm>
        <a:graphic>
          <a:graphicData uri="http://schemas.openxmlformats.org/drawingml/2006/table">
            <a:tbl>
              <a:tblPr/>
              <a:tblGrid>
                <a:gridCol w="1890720"/>
                <a:gridCol w="2914560"/>
                <a:gridCol w="1736640"/>
                <a:gridCol w="173844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strate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Organizační k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lab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11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ág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třed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il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aprostý sou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Soulad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Vliv firemní strategie na kultur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8080" y="2633400"/>
            <a:ext cx="76932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bsah“ strategie jako „způsob, jak věci děláme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Strategie jako informace, kam společnost směř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kulturní artefakt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Šipka doprava 5"/>
          <p:cNvSpPr/>
          <p:nvPr/>
        </p:nvSpPr>
        <p:spPr>
          <a:xfrm>
            <a:off x="1979640" y="4508640"/>
            <a:ext cx="500040" cy="269640"/>
          </a:xfrm>
          <a:prstGeom prst="rightArrow">
            <a:avLst>
              <a:gd name="adj1" fmla="val 50000"/>
              <a:gd name="adj2" fmla="val 501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rganizační kultura jako „zástupce“ strateg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8080" y="2572920"/>
            <a:ext cx="769320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ísemná neexistence strategie, ale realizovaná pracovník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Předpokladem je silná firemní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Extrémní situace: žádná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Řízení odrazem firem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Upevňování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Výběr vhodn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eliminace uchazeči, kteří nezaručují akceptování hlavních hodn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abízení vzorů žádoucího chován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na příkladu kariérového postupu úspěšných pracovníků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daptace nových pracovníků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jsou programově seznamováni s historií, tradicemi, hodnotami a normami organiz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Čtyři varianty vztahu jedince </a:t>
            </a:r>
            <a:br>
              <a:rPr sz="2800"/>
            </a:br>
            <a:r>
              <a:rPr b="1" lang="cs-CZ" sz="2800" spc="-1" strike="noStrike">
                <a:solidFill>
                  <a:srgbClr val="99cc00"/>
                </a:solidFill>
                <a:latin typeface="Arial"/>
              </a:rPr>
              <a:t>        k organizační kultuře</a:t>
            </a:r>
            <a:r>
              <a:rPr b="1" lang="cs-CZ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99cc00"/>
                </a:solidFill>
                <a:latin typeface="Arial"/>
              </a:rPr>
              <a:t>(K.A. Golden, 1992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Jednoznačn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ování zcela koresponduje s normami dominantní organizační kultur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Napjaté 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se chovají ve shodě s direktivami kultury. Mají však výhrady. Typickým projevem jsou vtipy na úkor organizace. Pomáhají tlumit konflik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Utaj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inec vyslovuje souhlas s normami, skrytě je však neakceptuje a nedodržuje. Když to není nebezpečné, demonstrují svůj opoziční posto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Otevřené nedodržo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ci otevřeně neuznává hodnoty a normy dané organizace. Chovají se tak, pokud vědí, že je nestihnou žádné sank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ganizační kultura v mezinárodních společnostec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ztahy mezi národní a organizační kulturou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ovníka organizace mohou ovlivnit 2 kultur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je reprezentantem národní kultury např.: americké, německé nebo japonské podniky,  jejichž podnikové kultury jsou převážně odvozeny od národních kulturních tradic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niková kultura určitého podniku je samostatná a nezávislá.V rámci jedné národní kultury může existova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íce podnikových kultu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Mezi firemními kulturami organizací a dceřiných společností existují tři typy vztahů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obální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ycentrická podniková kultu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ocentrická podniková kultur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Obsa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(definice, prv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a výkon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Firemní kultura a strate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Upevňová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Vztah jedince k organizační kultuř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alibri"/>
              </a:rPr>
              <a:t>Organizační kultura v mezinárodních společnost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lobální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a kultura pro všechny, často jde o hodnoty platné v zemi, kde je ústředí nebo organizace vznikla. Posilují se centralistické tenden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kční, rychlá a spolehlivá komunikační síť (shodné významy, pojetí, interpretace), jednotná symbolika (značky, loga), mezinárodní identifikace, shodnost základních priorit a cílů firmy, nízké náklady na vzájemnou koordin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ěkd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álo citlivé na místní podmínky, nemusí umožňovat rychlou reakci na dílčí změny trhu, vysoké náklady na  mobilitu vedoucích pracovníků z mateřské firm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olycentrická podniková k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ytvoření specifické subkultury v každé jednotlivé zemi, značné osamostatnění dceřiných společností, vlastní systém řízení, vycházející  z místních tradic, zkušeností a odpovídající národní mentalitě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ozšíření základny zkušeností, při řešení problémů, omezení neproduktivních střetů a konfliktů, lepší zachycení změn v místním okolí a rychlá reakce na n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xistence jednotné kultury, a tedy i vědomí vzájemné provázanosti složek a jednotnosti organizac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Geocentrická podniková kultu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820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organizační kultura, vytvořena spojením příznivých stránek kultur jednotlivých zemí. Problematické rozeznat teritorium sídla a „národní charakter“ firmy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Výhodou: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dnotná kultura organizace respektující zvláštnosti jednotlivých zemí. Podmínkou existence je tolerance jedinců k jiným kulturám, schopnost jim porozumě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Nevýhodou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nejednoznačnost výsledku a nutné úsilí, spojené  s vytvářením této kultur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Zdroj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LUKÁŠOVÁ, R., 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kultura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Od sdílených hodnot k vyšší výkonnosti. Praha: Grada Publishing, 2004. ISBN 80-247-0648-2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BĚLOHLÁVEK, F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Organizační chování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Učebnice pro každého. Olomouc: Rubico, 1996. ISBN 80-85839-09–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NOVÝ, I. aj. </a:t>
            </a:r>
            <a:r>
              <a:rPr b="0" i="1" lang="cs-CZ" sz="1800" spc="-1" strike="noStrike">
                <a:solidFill>
                  <a:srgbClr val="003366"/>
                </a:solidFill>
                <a:latin typeface="Arial"/>
              </a:rPr>
              <a:t>Interkulturní management</a:t>
            </a:r>
            <a:r>
              <a:rPr b="0" lang="cs-CZ" sz="1800" spc="-1" strike="noStrike">
                <a:solidFill>
                  <a:srgbClr val="003366"/>
                </a:solidFill>
                <a:latin typeface="Arial"/>
              </a:rPr>
              <a:t>. Lidé, kultura a management. Praha: Grada Publishing, 1996. ISBN 80-7169-260-3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kps.zcu.cz/materials/fikult.rt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Calibri"/>
              </a:rPr>
              <a:t>https://is.muni.cz/auth/tema/?issexppar=1&amp;isshlret=michal+mar%C4%8D%C3%ADk&amp;isssubm=Najdi&amp;isshlv=tthesis&amp;issu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Definice organizační kultu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Jak se věci u nás dělají“ … 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, co je pro organizaci typické, její zvyky, převládající postoje, vytvořené vzorce akceptovaného a neakceptovaného chování.“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cs-CZ" sz="2000" spc="-1" strike="noStrike">
                <a:solidFill>
                  <a:srgbClr val="003366"/>
                </a:solidFill>
                <a:latin typeface="Arial"/>
              </a:rPr>
              <a:t>Drennan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rvky organizační kultu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Základ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z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ástroj utváření organizační kult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sady chování v organiza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st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tefak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materiální pova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486900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5300640"/>
            <a:ext cx="505080" cy="360360"/>
          </a:xfrm>
          <a:custGeom>
            <a:avLst/>
            <a:gdLst>
              <a:gd name="textAreaLeft" fmla="*/ 208080 w 505080"/>
              <a:gd name="textAreaRight" fmla="*/ 297000 w 5050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Schei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Artefak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Hodnoty, pravidla a normy chová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Calibri"/>
              </a:rPr>
              <a:t>Základní předpokla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4360" y="3284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24360" y="4797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716360" y="4797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716360" y="328464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cc00"/>
                </a:solidFill>
                <a:latin typeface="Calibri"/>
              </a:rPr>
              <a:t>Organizační kultura dle </a:t>
            </a:r>
            <a:r>
              <a:rPr b="1" i="1" lang="cs-CZ" sz="3200" spc="-1" strike="noStrike">
                <a:solidFill>
                  <a:srgbClr val="99cc00"/>
                </a:solidFill>
                <a:latin typeface="Calibri"/>
              </a:rPr>
              <a:t>Hofste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43440" y="2729160"/>
            <a:ext cx="3489120" cy="3051000"/>
            <a:chOff x="3043440" y="2729160"/>
            <a:chExt cx="3489120" cy="3051000"/>
          </a:xfrm>
        </p:grpSpPr>
        <p:sp>
          <p:nvSpPr>
            <p:cNvPr id="522" name="_s121869"/>
            <p:cNvSpPr/>
            <p:nvPr/>
          </p:nvSpPr>
          <p:spPr>
            <a:xfrm>
              <a:off x="3043440" y="3164040"/>
              <a:ext cx="2616120" cy="2616120"/>
            </a:xfrm>
            <a:prstGeom prst="donut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_s121870"/>
            <p:cNvSpPr/>
            <p:nvPr/>
          </p:nvSpPr>
          <p:spPr>
            <a:xfrm>
              <a:off x="6008760" y="377208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Symbol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_s121867"/>
            <p:cNvSpPr/>
            <p:nvPr/>
          </p:nvSpPr>
          <p:spPr>
            <a:xfrm>
              <a:off x="3370320" y="3490920"/>
              <a:ext cx="1962360" cy="1962360"/>
            </a:xfrm>
            <a:prstGeom prst="donut">
              <a:avLst>
                <a:gd name="adj" fmla="val 16666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_s121868"/>
            <p:cNvSpPr/>
            <p:nvPr/>
          </p:nvSpPr>
          <p:spPr>
            <a:xfrm>
              <a:off x="6008760" y="342432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rdinové ( Hero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_s121865"/>
            <p:cNvSpPr/>
            <p:nvPr/>
          </p:nvSpPr>
          <p:spPr>
            <a:xfrm>
              <a:off x="3697560" y="3818160"/>
              <a:ext cx="1307880" cy="1307880"/>
            </a:xfrm>
            <a:prstGeom prst="donut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_s121866"/>
            <p:cNvSpPr/>
            <p:nvPr/>
          </p:nvSpPr>
          <p:spPr>
            <a:xfrm>
              <a:off x="6008760" y="3076560"/>
              <a:ext cx="523800" cy="34776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Rituály ( Ritual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_s121863"/>
            <p:cNvSpPr/>
            <p:nvPr/>
          </p:nvSpPr>
          <p:spPr>
            <a:xfrm>
              <a:off x="4024440" y="4145040"/>
              <a:ext cx="654120" cy="654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_s121864"/>
            <p:cNvSpPr/>
            <p:nvPr/>
          </p:nvSpPr>
          <p:spPr>
            <a:xfrm>
              <a:off x="6008760" y="2729160"/>
              <a:ext cx="523800" cy="3474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3366"/>
                  </a:solidFill>
                  <a:latin typeface="Calibri"/>
                  <a:ea typeface="Arial"/>
                </a:rPr>
                <a:t>Hodnoty ( Value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4586600">
            <a:off x="4074120" y="4789800"/>
            <a:ext cx="1206360" cy="642960"/>
          </a:xfrm>
          <a:prstGeom prst="flowChartOnlineStorage">
            <a:avLst/>
          </a:prstGeom>
          <a:solidFill>
            <a:srgbClr val="ff99ff">
              <a:alpha val="87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/>
          <p:nvPr/>
        </p:nvSpPr>
        <p:spPr>
          <a:xfrm>
            <a:off x="6300720" y="4311720"/>
            <a:ext cx="1366920" cy="609480"/>
          </a:xfr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Arial"/>
                <a:ea typeface="Arial"/>
              </a:rPr>
              <a:t>Practi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alibri"/>
              </a:rPr>
              <a:t>Organizační kultura a výkonno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bsah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íla kultury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3059280" y="3429000"/>
            <a:ext cx="86508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42920" y="3429000"/>
            <a:ext cx="1225800" cy="144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3419640" y="5157720"/>
            <a:ext cx="1871640" cy="1008000"/>
          </a:xfrm>
          <a:prstGeom prst="ellipse">
            <a:avLst/>
          </a:prstGeom>
          <a:solidFill>
            <a:srgbClr val="99cc00">
              <a:alpha val="87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  <a:ea typeface="Arial"/>
              </a:rPr>
              <a:t>Výkon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obsahu organizační kultury na výkonnost organizace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Dvojí účinek na výkonnost organiza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Aktivuje (neaktivuje)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v závislosti na konkrétních hodnotách a normách chování, které zahrnu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Calibri"/>
              </a:rPr>
              <a:t>Směruje pracovníky</a:t>
            </a:r>
            <a:r>
              <a:rPr b="0" lang="cs-CZ" sz="2400" spc="-1" strike="noStrike">
                <a:solidFill>
                  <a:srgbClr val="003366"/>
                </a:solidFill>
                <a:latin typeface="Calibri"/>
              </a:rPr>
              <a:t> – k naplňování těch hodnot a cílů, které jsou kultuře daného obsahu vlast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alibri"/>
              </a:rPr>
              <a:t>Vliv síly kultury na výkonnost organizac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souladu ve vnímání a myšlení pracovníků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snadňování komunikace a redukce konfliktů uvnitř organizac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usměrňování chování jedinců v organizac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+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sdílení společných hodnot a cílů</a:t>
            </a:r>
            <a:r>
              <a:rPr b="0" lang="en-US" sz="1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jedinci pociťují sounáležitost k organizaci, pozitivní postoj ke spoluprác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fixace organizace na minulou zkušenos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uzavřenost, ignorance signálu z vnějšku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bránění myšlení v alternativác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(snaha o vyhnutí se kritice a konfliktům, podpora konform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Calibri"/>
              </a:rPr>
              <a:t>tvorba rezistence vůči změná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55:53Z</dcterms:created>
  <dc:creator>Lucie Bieliková</dc:creator>
  <dc:description/>
  <dc:language>en-US</dc:language>
  <cp:lastModifiedBy>admin</cp:lastModifiedBy>
  <dcterms:modified xsi:type="dcterms:W3CDTF">2008-12-01T19:49:34Z</dcterms:modified>
  <cp:revision>21</cp:revision>
  <dc:subject/>
  <dc:title>Organizační kultura a strategie</dc:title>
</cp:coreProperties>
</file>