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0B5-7666-43DA-96BE-8942048A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E7C-F313-4559-8389-0D649F9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AD7-AAD3-457B-BA96-50D1D8E0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E71-4754-4F1D-B32C-057EAA4F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067-6F0E-4488-9CF5-4330C00B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E7B-F2A8-402D-8EA2-12E8E39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526-1EC6-4EA1-8988-4C4876F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1A1-DC65-456E-A78E-A82CF22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BD5-4EFB-4DB8-9693-C496331F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AA-A02B-4952-A954-47F06244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7C2-2182-41A8-B4F4-118825D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2B5-B399-4095-9A56-1A85593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875-6FA8-4554-A095-DBAB89E8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y manaž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na Dvoráková, Martin Petrovič, Milan V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998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úz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a voľný čas, Racionalita a emocionalita, pracovná rola a osobnosť, formálne a neformálne štruktú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ôsledné oddeľovanie jednotlivých oblastí živ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áca x voľný čas, racionalita x emocionalita, pracovná rola x osobnosť, formálne x neformálne vzťah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ný komunikačný kontext, ne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ôležitosť neverbálnej komunikácie, sociálneho statusu, kontextu situác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bý komunikačný kontext, priama komuniká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vorenosť, „to, čo nebolo vyslovené, neplatí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ísavé sebavedomie a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ceňovanie či preceňovanie schopností, nevýrazní prejav, pochybnosti o sebe sam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valá sebaisto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pnosť prejavovať názory, priebojnosť, schopnosť kritiky, dôvera vo vlastné schopnost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ípustnosť malých zmien v časovom pláne, voľnejšie zaobchádzanie s termínmi, paralelné vykonávanie pracovných činnost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chrónia ča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né časové plány, rozvrhy práce, dochvíľnosť, sekvenčné vykonávanie pracovných činností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formačné a trhové štandar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484280"/>
          <a:ext cx="8353440" cy="4971960"/>
        </p:xfrm>
        <a:graphic>
          <a:graphicData uri="http://schemas.openxmlformats.org/drawingml/2006/table">
            <a:tbl>
              <a:tblPr/>
              <a:tblGrid>
                <a:gridCol w="4105440"/>
                <a:gridCol w="424800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čné štandardy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. a vých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é štandardy (USA, záp. Európa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6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formizmus voči systému a autorit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výsledo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73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e ku kolektiviz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individuálny výk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ia iniciatí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trn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istá interak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začný t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eranie na kvalit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  <a:tr h="68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ové nepres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 sú penia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c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Arabské štá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lujú“ obchod – radi vyjednávaj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ne sľuby nie sú závä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eny vylúčené z obchodného i verejného života, nepýtame sa na rod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verbálna komunikácia veľmi dôleži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čný kont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dochvíľnosti si nepotr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di jednajú so známymi oso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á organizovanosť – dobrí organizátori, zlí improvizá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 – vyhýbavé odpo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 podnikateľskej sfére len mu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mimoverbálne prejavy (smi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soké národné uvedom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mysl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evern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bre pripravení na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dochvíľni – nemajú radi zbytočné naťahovanie, radi veci vyriešia rých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prejavujú emócie a nestrácajú čas zbytočnými fráz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ndividualizmus, sebadôvera, národná hrd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ôležité sú krátkodobé výsled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Latinská Ame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formálne jed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rodzení, bezprostre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radi hovoria „n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Živá gestikul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eľmi nedochvíľ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é konta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Je nevhodné sa vyvyšova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vý, I., Schroll-Machl, S. a kol. Interkulturni komunikace v řízení a podnikání. Praha : Management Press, 1999. ISBN 80-7261-009-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roněk, I.: Kultura v mezinárodním podnikání. Praha: Grada Publishing, 2001. ISBN 80-247-00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ociálna percepcia a komunik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percepcia – vzájomné vnímanie ľu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.komunikácia – prenos informácií medzi ľuď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plyv soc.pozície, skúseností, kultúry, emócií, vlastností vnímanej osoby, situ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ltúrne dimen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fektívnosť komunikácie závisí na poznaní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fsted, 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Arial"/>
              </a:rPr>
              <a:t>Trompenaa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 Th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niverzal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ikular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lektivizmu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vidual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utrál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mocioná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fúzny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pech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sudz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ásledný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ež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ia ori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Interkultúrne uč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udziu kultúru je treba poznať, rešpektovať a učiniť k nej ústretové kroky = interkultúrna k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lepšenie tréning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informá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terakcia a komun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ímov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ultúrny asimil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iešenie bikultu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1219320"/>
            <a:ext cx="7391160" cy="5029200"/>
            <a:chOff x="457200" y="1219320"/>
            <a:chExt cx="7391160" cy="5029200"/>
          </a:xfrm>
        </p:grpSpPr>
        <p:sp>
          <p:nvSpPr>
            <p:cNvPr id="51" name=""/>
            <p:cNvSpPr/>
            <p:nvPr/>
          </p:nvSpPr>
          <p:spPr>
            <a:xfrm>
              <a:off x="1301760" y="53172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Odmietnut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1219320"/>
              <a:ext cx="211176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25640" y="5875920"/>
              <a:ext cx="23227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ULTÚRA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1760" y="1591920"/>
              <a:ext cx="0" cy="42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01760" y="5875920"/>
              <a:ext cx="63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4040" y="270936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Domina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14320" y="49446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rispôsobe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36600" y="177804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ov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6680" y="47584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prom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79920" y="419940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Kombin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3520" y="3640680"/>
              <a:ext cx="1900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7520" bIns="47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ntegrá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69760" y="2336760"/>
              <a:ext cx="1478160" cy="33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724040" y="2336760"/>
              <a:ext cx="4223520" cy="20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ypológia českej kultú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ypické vzorce jednania 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stata mo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flikt nadriadeného s podriaden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avidlá komunik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ytmus pracovného dň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rátkodobosť orientá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askulinita kultú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ytváranie sku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ácia ľudského jedn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1916280"/>
            <a:ext cx="3600360" cy="2950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609300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ameň: Literárny zdroj č.1, str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2745800">
            <a:off x="2835000" y="2291400"/>
            <a:ext cx="5461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4941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tú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517200">
            <a:off x="4032360" y="30297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zácia a flexibil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ôvera voči pravidlám, normám, formalizovaným postupom, vynaliezavosť, improvizácia, adaptabilita, schopnosť učiť sa, veľkorysosť, „byť nad vec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a snaha vyhnúť sa riz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ľuba v organizácii, zameranie na detail, akcent na funkčnú hierarchi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ovnanie českých a nemeckých kultúrnych štandar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ácia na sociálne vzťa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ízke sociálne schopnosti pri zachádzaním s negatívnymi informáciami, neriešenie sociálnych konfliktov, partikularizm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fornian FB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ná orient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schopnosti pri zachádzaní s negatívnymi informáciami, riešenie sociálnych konfliktov, univerzaliz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39:28Z</dcterms:created>
  <dc:creator>Martin Petrovič</dc:creator>
  <dc:description/>
  <dc:language>en-US</dc:language>
  <cp:lastModifiedBy>El Mino</cp:lastModifiedBy>
  <dcterms:modified xsi:type="dcterms:W3CDTF">2008-12-03T17:05:42Z</dcterms:modified>
  <cp:revision>52</cp:revision>
  <dc:subject/>
  <dc:title>Porovnanie českých a nemeckých kultúrnych štandardov </dc:title>
</cp:coreProperties>
</file>