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27E-9190-4828-9AE3-91B547C8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46D-774D-4A41-994F-5ABDDCA5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D8B-F198-4A6C-BC24-BDFB7BF6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D58-3FF6-4A40-96E4-AAFE6201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F450-6F98-40D8-9439-B2139E99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543B-89A9-4692-A146-DACE00B5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35BD-C42C-4A07-BC39-29C4785B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065D-5FA8-45B1-8301-29CA7C6C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E1A6-549A-4FC5-A350-C9C81AE1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6AFA-AC09-4A34-93D8-085BF738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8154-FB49-46C5-9AEF-F1BA527B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C37-7642-4F7E-B72D-00FA67B9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CFA2-52AF-406F-9C60-4C3F6315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5853-F774-43D7-9E09-50FA093F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AF89-15BC-4661-97A2-761DD210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B237-7568-4886-9B54-03E222FA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B58A-42BF-41F2-A723-0A1ACB20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E52-2B2F-428A-A895-E15B9271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E9C-F2AE-4302-85E3-6B939CD2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0CE-A10C-4960-A3A6-1B4ABD03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27D-0C87-4ACB-8D61-E27477CB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DBD-E0CB-415A-BB2D-05A064EF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BFC-8D84-43A8-86E4-909CEE7E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161-F9AE-47C8-83D4-509288D0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3F7D-A7D7-4A2E-A958-BFD8385A2BB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C03C-5A81-42B4-874B-C359709AA87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tika podnikání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ena Košíčk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a Kubic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byněk 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řízení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s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 tvorby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dělování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vody pro etické chování podni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výšení kvality živ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arativní výhoda na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povědnost podniku za č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rální rozvoj podnik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tupeň – amoráln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stupeň – formálně-právn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stupeň – společensky odpovědná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stupeň – eticky se rodíc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stupeň – etická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Teorie Stakehold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nikatelská organizace má širší odpovědnost než jen vůči svým vlast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současnosti se zvyšuje tlak na sociální (společenskou) odpovědnost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keholders“ je skupina těch, kteří mají zájem na činnosti firmy, nebo-li skupiny participující na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Primární stakeholdeř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lo/velkoobc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Sekundární stakeholdeř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ístní společen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řejní aktivi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chodní asoci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hraniční vlá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át a místní zastupitel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řej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ciální odpovědnost podniku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(CSR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pohledu podniku je třeba dbát nikoli o dosažení maximálního zisku, ale optimálního zisku, který vezme v úvah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chny principy udržitelného roz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arentnost v rozhodování, finančním hospodaření a personální poli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vný postoj v otázce lidských prá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členění etických norem nad rámec norem právních – „odpovědný občan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vody přijetí CSR firmam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aha vyhnout se vládním zásah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třeba seberegulace byznysu jako odpověď na jeho vzrůstající ekonomickou 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měňující se vnímání byznysu ze strany veřej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kteristika CS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ři základní pilíř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konomická oblast (etický kodex, protikorupční politika, ochrana duševního vlastnictv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ociální oblast (rozvoj lidského kapitálu, rovné příležitosti, lidská prá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nvironmentální oblast (ochrana přírodních zdrojů, ekologická výrob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utnová, A., Seknička, P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tické řízení ve firmě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 : Grada, 2007. ISBN 978-80-247-1621-3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uknič, A. Štvrtý rozmer podnikania – etika. Bratislava : Slovak Academic Press, 1994. ISBN 80-85665-30-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ěkujeme za pozor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dnikatelská eti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profesní, aplikovaná, normativní e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vod vzniku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zinárodní obc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y zdravého a dynamického rozv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: po 2. světové válce v západních zemích – zlepšení kvality živ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ČR hlavně 90. léta např. Čisté r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konomické důvody naplňování podnikatelské etik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nížení transakční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ílení loajality zaměstna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a posilování image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ilování spokojenosti zákazní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spěvek k loajalitě inves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ivace podnikatelské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spěvek k zis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líčové hodnoty pro tržní ekonomiku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laté pravidlo morálky: Co nechceš, aby jiní dělali tobě, nedělej ani ty j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uroamerický  systém hodnot pro ekonomickou praxi pro řešení složitých etických problé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bsahuje tyto hodnoty: svoboda, spravedlnost, odpovědnost, důvěra, pokrok, prosperita, raciona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onomická svoboda: klíč k výkonné ekonomice, efektivnímu řízení, správě podniků a udržitelné míře růs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avedlnost: za stejných nebo podobných podmínek bude se všemi bytostmi jednáno stej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povědnost jednajících osob či organizací, jež se vztahuje následky takových činů, jimiž nebyla porušena právní forma, ale přesto došlo k narušení etických norem a hod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ástroje etického říz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ční nást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dexy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é vz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cvik a vzdělávání v oblasti podnikatelské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í nást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ý a sociální au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řad ombudsmana pro etiku ve firm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é výb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ncipy etického říz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povědnost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onomický a sociální vliv na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nikatelské ch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ktování pravi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a mezinárodního podnik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varování se nezákonných oper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kodex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jvýznamnější a nejpoužívanější nástroje e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ká Británie – 50-60% společnost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R – 20% společ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vádění v době změ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plňuje zákonnou úpr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ozumitelnost a jednozna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eší vztahy se zákazníky, akcionáři, zaměstnanci, dodavateli, konkurencí, vlád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tické kodex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ké obsahové okruh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ktování prá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estnost a fér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zpečnost a kvalita produk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mítnutí diskrimin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tahy s dodavate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rup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ální odpověd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32:32Z</dcterms:created>
  <dc:creator>Hana Kubicova</dc:creator>
  <dc:description/>
  <dc:language>en-US</dc:language>
  <cp:lastModifiedBy>snoopy</cp:lastModifiedBy>
  <dcterms:modified xsi:type="dcterms:W3CDTF">2008-11-24T12:47:31Z</dcterms:modified>
  <cp:revision>8</cp:revision>
  <dc:subject/>
  <dc:title>Etika podnikání</dc:title>
</cp:coreProperties>
</file>