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5327-007A-4920-BA2E-FB8BBCE57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2B65-C311-44A7-97E5-B4350A1A0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B165-4695-425D-A840-DC94724FC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15F6-FD2D-4958-AE28-B7006552C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056CA1-F4CB-4EB8-BC02-92BE0D0FE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1914C5-D31F-4F60-B399-1C57A560F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21B44D-8AC0-4A7E-97A1-E43D93CE2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622D5A-B460-4FA0-85C1-FB8A62E0A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D9665E-37BE-47AB-9716-750F34184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AA7D63-BAB3-463C-A6A9-1ACF27952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8518C2-3E5C-4AEC-9DA6-CFA92EEAF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7BEF-3CE6-4943-B574-AA019A725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6A4961-962C-4A9A-BEF1-FB70A0AF3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7D4C99-493A-4286-B61E-6E460F236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44C4A1-5367-4298-BB0D-6D36D8EF5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2FA890-8082-4EA3-BF73-3E1A992B8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BE5712-69DA-47B8-AC9F-B9FC8B0EC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7DC35C-68C1-4A7F-93A1-CC4898E16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E6427A-C694-4E20-B83F-FFAEE7FB9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140B1E-ED13-4525-9445-D99EE7D0D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397EA3-1099-494B-AE18-054B91257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00B996-F771-4914-BB19-7572B59D6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FEDD-21C6-4BAF-AE22-A80F4E5FD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BD8A63-C104-4915-8CE8-C23587A4F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90071F-E63E-4A73-948E-7271C9BE4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3DDFB7-5B04-4E6F-BF0A-AB7EF4420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9C9985-1D37-490D-9474-00E960DB0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D69BA4-4B1B-4089-901E-4296E5B6F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2EDD10-5543-4C3A-8E76-9F22894A2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3A8A24-5535-45AC-9604-421868C1F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4BCF-E50B-4925-8730-2D9F6D5D6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5298-F9FC-4FD8-83E8-632E46B4E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28CF-9848-4A87-ABE1-AA04EB4F4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9CD1-4193-4FD1-A66F-B6148D180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C266-BF3E-4786-B4B3-73D2E2878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1719-BAD1-48D6-9D62-12445525B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CD956-C535-483E-92AB-339BAA72042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7408C-F1BA-46B6-AFB3-07EBDF9170D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64AEF-320A-44CE-86AB-C92E72AB23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gate2biotech.cz/podnikova-kultura/" TargetMode="External"/><Relationship Id="rId2" Type="http://schemas.openxmlformats.org/officeDocument/2006/relationships/hyperlink" Target="http://www.gate2biotech.cz/podnikova-kultura/" TargetMode="External"/><Relationship Id="rId3" Type="http://schemas.openxmlformats.org/officeDocument/2006/relationships/hyperlink" Target="http://www.gate2biotech.cz/podnikova-kultura/" TargetMode="External"/><Relationship Id="rId4" Type="http://schemas.openxmlformats.org/officeDocument/2006/relationships/hyperlink" Target="http://www.gate2biotech.cz/podnikova-kultura/" TargetMode="External"/><Relationship Id="rId5" Type="http://schemas.openxmlformats.org/officeDocument/2006/relationships/hyperlink" Target="http://www.gate2biotech.cz/podnikova-kultura/" TargetMode="External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000" spc="-1" strike="noStrike">
                <a:solidFill>
                  <a:srgbClr val="ffffff"/>
                </a:solidFill>
                <a:latin typeface="Arial"/>
              </a:rPr>
              <a:t>Interkulturní management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000000"/>
                </a:solidFill>
                <a:latin typeface="Arial"/>
              </a:rPr>
              <a:t>Michaela Kaprálová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000000"/>
                </a:solidFill>
                <a:latin typeface="Arial"/>
              </a:rPr>
              <a:t>Monika Kovářová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000000"/>
                </a:solidFill>
                <a:latin typeface="Arial"/>
              </a:rPr>
              <a:t>Tomáš Sedláček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8" descr="MCj04347500000[1]"/>
          <p:cNvPicPr/>
          <p:nvPr/>
        </p:nvPicPr>
        <p:blipFill>
          <a:blip r:embed="rId1"/>
          <a:stretch/>
        </p:blipFill>
        <p:spPr>
          <a:xfrm>
            <a:off x="7086600" y="5105520"/>
            <a:ext cx="990720" cy="99036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mezená platnost motivačních teorií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 různých kulturách si lidé spojují potřeby s různými hodnotami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as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olektivismus x individualism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ob enrichment m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olektivism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elká snaha vyhnout se riziku a nejistot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zdálenost mocenských poz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onflik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lká mocenská vzdáleno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kryté konflikty jsou normál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olupracovníci nejsou ochotni si navzájem věř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lá mocenská vzdáleno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monické vztah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ředpokládá se, že kolegové jsou ochotni spolupracov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lká snaha vyhnout se nejistotě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onflikty nežádoucí, soutěživost vnitřně neschvaluj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mají zájem na kompromis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lá snaha vyhnout nejistot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onflikty přirozené, soutěžení jako spravedlivé a správn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chotnější ke kompromisů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edná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i interkulturním jednání musíme zvážit následující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litický a právní pluralism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ole zahraničních vlá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litcké a ekonomické změ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ideologické a kulturní rozdí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Čím dlouhodobější je spolupráce, tím podrobnější informace potřebujem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ávní, politické a ekonomické inform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infrastruk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acovní sí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ulturní da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kolnosti vlastního jednání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d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d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České podnikové prostředí jako součást interkulturního managementu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1403280" y="49413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Česká organizační a pracovní kult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základě výzkumu VŠ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2 základní dimenz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1) racionalita X emocionalita v podnikové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interak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2) vnitřní X vnější přijetí org. nor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ákladní nedostat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eochota přijímat odpověd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rátkodobá orient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ypologie českého zaměstn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536040" indent="-536040">
              <a:lnSpc>
                <a:spcPct val="16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acovitý furiant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16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nda oboru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16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ravý kamarád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16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nformní suchar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16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ypočítavý konformista“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dřízený X podřízen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aptační problé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ula“ – nesebevědomí, podřízený, pasiv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ritický komentátor“-respekt, pomlouvá, více sebevědom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peř“ – sebevědomý, konfrontace, hledá řeš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yby nadřízenýc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dmítání návrh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dceňování dobrých vztah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rana osobních poz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dostatek sebekriti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erativní jedn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schopnost naslouc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rátkodobá orientace v českém prostřed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ány a sny – většinou v osobní rovině (dovolená, kariéra, moc, profi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ýdenní, roční cy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áce = příležitost X zdroj problém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3 rovin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1) osobní klid a stabil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) krátkodobost časových horizont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) rozporuplný vztah k práci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nervozita, nejistot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ažerům je vytýkána neschopnost řídit se vzdálenějšími vizemi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dniková kultu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468360" y="3933720"/>
            <a:ext cx="4038480" cy="218772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4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539640" y="1773360"/>
            <a:ext cx="388800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Dlouhé komunikační kaná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Špatná integrace zaměstnanc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nagement nejde příklad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ysoká adaptabil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chopnost improviz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716360" y="1628640"/>
            <a:ext cx="40323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jí význam narostl koncem 70.l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říliv konkurenčních produktů ze zahranič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ientace na úspě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sažení cíl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dentifikace se společnost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716360" y="4005360"/>
            <a:ext cx="3816360" cy="256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ysoká produktivita prá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ovace v technologií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ůraz na kvalitu a výk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↑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iremní identita (dlouhodobo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Konsenzus, loajal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amová odpověd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68360" y="4005360"/>
            <a:ext cx="4103640" cy="20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ituály ve styku se zaměstnan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125"/>
              </a:spcBef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Zásady jednotného vedení a postup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125"/>
              </a:spcBef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Zvyklosti v obléká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125"/>
              </a:spcBef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Jednotné ztvárnění pros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125"/>
              </a:spcBef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ituály ve styku se zákazní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dniková kultura mezinárodních fir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ycentrick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V každé zemi specifická subkul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obál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diná podniková kul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ocentrick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sazení hodnotových systémů společných vš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ultu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Systém hodnot, postojů a názorů, které jsou specifické pro danou zemi/skupinu obyvat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livňuje chování lidí v předvídatelných směre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 naučená, předávaná rodiči a společnos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ři rozhodování nadnárodních společností ovšem není jediným faktorem: poptávka, ekonomické faktory, právo, technolog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ciální vzta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4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539640" y="1773360"/>
            <a:ext cx="38880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Opatrné, dlouhé navazování s.v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Osobní a pracovní vztahy se prolínají (zvýhodňování, korup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ztahy mají své lim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áruka dodržování smlu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9640" y="4005360"/>
            <a:ext cx="403236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Odměřenost ve vzájemných vztazí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Striktní oddělení prac. a osob vztah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Nerovnost mezi nadřízeným a podřízený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716360" y="1628640"/>
            <a:ext cx="38880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lká otevřenost (neupřímná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éně formální vzta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itlivost na problematiku sexuálního obtěžová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716360" y="4005360"/>
            <a:ext cx="388800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Relativně dlouhé navazování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partnerských vztah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třeba získání důvě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rizontální možnost rozvo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Široká superv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amostatnost a prezentování úspěch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3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4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539640" y="1773360"/>
            <a:ext cx="3888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716360" y="1628640"/>
            <a:ext cx="39592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ividuální nezávisl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stor pro plnění cíl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luví o svých úspěší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ysoké sebevědom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39640" y="1647720"/>
            <a:ext cx="38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39640" y="1628640"/>
            <a:ext cx="38880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Více direktivní způsob vedení lid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Kontrola samostatné iniciativ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Tendence nechat si věci schvalov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Čekají až je pochvál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Malé sebeprosazován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716360" y="4005360"/>
            <a:ext cx="38880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áce v týme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polečná odpovědnost i prezentace úspěchů (ne já ale m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konomie čas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4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539640" y="1773360"/>
            <a:ext cx="3888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716360" y="1628640"/>
            <a:ext cx="3959280" cy="25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lak na efektivi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ychlá rozhodnut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dnání a porady zbytečně neprotahuj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dlišné pojetí pracovní doby (24/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39640" y="1647720"/>
            <a:ext cx="38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39640" y="1628640"/>
            <a:ext cx="3888000" cy="21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také poměrně dochvil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tolerované zpoždění 5-10 m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příp. „akademická čtvrthodinka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zpoždění nad půl hodiny- již nespěch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Tendence o(vy)mlouvat 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Nadmíra spěchu = st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39640" y="4005360"/>
            <a:ext cx="3888000" cy="25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Velmi přesní (puntičkář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Na schůzku se dostaví spíše s předstih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Striktně ohraničená prac. do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Všeobecně rigidní pracovní trh (E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716360" y="4005360"/>
            <a:ext cx="3888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prům. 2000 h za rok (Korea 239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Nízká omezení prac. do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Perfektní dochvil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Hlavní devíza ekon. rozvoj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vé úkoly a jejich delegová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4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539640" y="1773360"/>
            <a:ext cx="3888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716360" y="1628640"/>
            <a:ext cx="3959280" cy="20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Nové úkoly vnímají jako výzv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ysoká přizpůsobivost zákazníků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Cíl:získat prac. příležit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Nic není problém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Běžná delegace úkolů - control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39640" y="1647720"/>
            <a:ext cx="38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39640" y="1628640"/>
            <a:ext cx="3888000" cy="20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ava z nejisto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eferují mít všechny prostředky, dovednosti a znalosti ke splně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áhavost = malá přizpůsobiv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idí jen překáž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68360" y="3933720"/>
            <a:ext cx="40323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ádi postupují podle ověřených met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716360" y="4005360"/>
            <a:ext cx="3816360" cy="25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kolektivní odpovědnost prac. skup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Vzájemná kontrola ve skupin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Postupná delegace podle zaběhnutých model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nažerské praktik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Rectangle 15" descr=""/>
          <p:cNvPicPr/>
          <p:nvPr/>
        </p:nvPicPr>
        <p:blipFill>
          <a:blip r:embed="rId1"/>
          <a:srcRect l="0" t="6381" r="0" b="1276"/>
          <a:stretch/>
        </p:blipFill>
        <p:spPr>
          <a:xfrm>
            <a:off x="1908000" y="1197000"/>
            <a:ext cx="554364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orie „Z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Rectangle 15" descr=""/>
          <p:cNvPicPr/>
          <p:nvPr/>
        </p:nvPicPr>
        <p:blipFill>
          <a:blip r:embed="rId1"/>
          <a:srcRect l="0" t="13943" r="0" b="9295"/>
          <a:stretch/>
        </p:blipFill>
        <p:spPr>
          <a:xfrm>
            <a:off x="1174680" y="1628640"/>
            <a:ext cx="79693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dro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OVÝ, I., SCHROLL-MACHL, S. a kol. Interkulturni komunikace v řízení a podnikání. Praha : Management Press, 1999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EAD, R. International management: cross-cultural dimensions.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ambridge : Blackwell, 199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FSTEDE, G. Kultury a organizace: software lidské mysli. Praha : Linde, 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www.gate2biotech.</a:t>
            </a:r>
            <a:r>
              <a:rPr b="0" lang="cs-CZ" sz="14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cz</a:t>
            </a:r>
            <a:r>
              <a:rPr b="0" lang="cs-CZ" sz="14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/</a:t>
            </a:r>
            <a:r>
              <a:rPr b="0" lang="cs-CZ" sz="14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podnikova</a:t>
            </a:r>
            <a:r>
              <a:rPr b="0" lang="cs-CZ" sz="14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-kultura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http://www.e-vzdelavani.cz/public/demo_pk.p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http://www.mesec.cz/clanky/pracovni-doba-v-cesku-a-ve-svete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Důležitost interkulturního managemen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upající počet nadnárodních společnos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25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davatelé i odběratelé z celého svě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Kulturní standardy podle Gerta Hofstedeh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lká, resp. malá snaha vyhnout se rizi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zdálenost mocenských poz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íra individualismu, resp. kolektivis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řevaha maskulinních, resp. femininních hod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átkodobá, resp. dlouhodobá orient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Úskalí koncepce kulturních standard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kce složité sociální a kulturní re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akcí dvou kultur může vznikat specifická forma nové společné kultu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utečnosti které kulturní standardy neobsahují – doba trvání, intenzita, dobrovolnost vzájemného kontaktu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Řešení a zvládání interkulturních rozdíl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bře znát cizí kultu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pektovat cizí kultu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Činit vstřícné kro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Diversity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 mezinárodních organizacích téměř nezbytn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áročný na čas a peníze, vyžaduje hodně úsilí a určité schopnosti manaž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dy je lepší ignorov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dyž manažer nemá dostatek schopnost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řízení nepřinese žádné, popř. minimum pozitivních důsledků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ultura ovlivňuj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ukturu společnosti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ganizační kulturu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ztahy, komunikaci, motivování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dnán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4191120" y="466236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ní jediným faktor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tivová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ké pobídky odráží hodnoty v dané kultuř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jišťování potřeb vždy založit na analý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ultura je opět jen jedním faktorů působících na motivační struktur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ědičnost, ranný vývo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hlaví, věk, vzdělání, ekonomický sta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kuše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zační kul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acovní faktory a specifika sekto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árodní kul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Navrhování motivátor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nomie, individuální rozvoje a postup - individualistická kultur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náležitost – kolektivistická kul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álost pracovního prostředí a jistota práce - kultura s velkou snahou vyhnout se nejistotě a rizi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říležitosti k týmové spolupráci - kultura s menší vzdáleností mocenských pozi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acovní podmínky, vyhovující pracovní doba - femininní kul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avádění odměn za individuální úspěchy nevhodné v kolektivistické kultuř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výšení ženy na vedoucí pozici v silně maskulinní kultuře - problé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lim</cp:lastModifiedBy>
  <dcterms:modified xsi:type="dcterms:W3CDTF">2008-12-01T11:21:43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