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79DA-497E-4968-9927-E6C0497E5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A981-8E8C-45CB-8D4C-24BE4537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0862-180F-42F5-8986-FB6270B8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419B-1EF6-4BCE-B08B-A807E4414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186D-3222-4121-B1BA-288F37CFC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2DB4-7C19-495C-8CB4-011933DF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06B0-073F-422F-9425-F3797C1F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9EF4-CBA7-4C72-844D-0D4C21F7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F1BF-9DD6-472C-A2D9-9F8FEE26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5BD5-E5A0-410F-9F1F-7D62AF18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BFC6-EE54-4942-A296-639A3C6B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0D1E-AC48-4781-A43E-E0DF55CA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B766-09BB-4AEF-8721-0DA924E1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1C75-CC76-4E9B-9DFA-C1C39EC9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EA9F-0779-42C2-9C73-D6670D6C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0622-94EA-4EA3-98EE-ED09BBD7E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7605-0500-43A0-A120-C4551A6B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84F2-33A4-4E61-9257-FBFD0D88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A544-95E9-4856-894B-EC80ED85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D199-1FC1-4AD8-80F1-960700C3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FA1C-EF0B-41F3-BC87-E120E100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D7D8-FE12-4A86-B227-11542D5D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2DB2-0633-40C7-A30E-8F418233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4A9B-F0BE-4D58-BA75-6BD9468A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B320-9330-4590-AFB5-519136FBAE08}" type="slidenum">
              <a:rPr b="0" lang="sk-SK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BFE0-6164-47CF-AE50-A77C6FBC8912}" type="slidenum">
              <a:rPr b="0" lang="sk-SK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5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dbbd71"/>
                </a:solidFill>
                <a:latin typeface="Arial"/>
              </a:rPr>
              <a:t>Požadavky na manažery na prahu postindustriálního věku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adežda Kaluž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iroslav Mašle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ereza Žáčk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finice problému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dstata problém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ční past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ástupné problém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řešitelné problém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jednoznačné problém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vě práva uplatnitelná před řešením problém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sem ten, kdo by měl problém řeši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 problém jednoznačný, řešitelný a skutečný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nalýza problému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zbytná k odhalení vnitřní podstaty problému, jeho příčin a různých souvislos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odely reality (teorie vitality, funkční model firmy, balanced scorecar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běr d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ůvěryhodn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Relevance (zahlcení daty malé či nejasné užitečnost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suzování souvislostí (systematické myšlení ubývá, především přírodní vědy, např. matemati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osuzování souvislostí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ásled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Časová posloupnost – vyskytuje se samostatně nebo spolu s nějakou další souvislostí? (pomůcka: kalendář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kční vztahy – D je smyslem C nebo C umožňuje/usnadňuje D -&gt; není možné/žádoucí, aby proběhlo D -&gt; 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auzální řetězce – mat.implik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uřad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storové vztahy (pomůcka: map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apacitní vztahy – hospodaření s omezenými zdroji (časové, finanční, lidské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osuzování souvislostí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Interak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nfliktní vztahy – „palivo do motoru vývoje“ – při neexistenci stagnace, při neřešení krize, při úspěšném řešení pozvolný vývoj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pětné vazby – pozitivní zpětná vazba je základem individuálního učení, negativní z.v. základem stability dynamických systém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lupráce a synergie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– podmínky rozhodnou o tom, zda budou lidé soutěžit nebo spolupracovat; měli by sdílet cesty a cíle, vhodná diverzita v rolí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spořádanost – vztahy mezi lidmi,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jistota – pravděpodobnost a riziko, proměnliv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Generování možností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luvené form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rainstorming – nápady se v průběhu zásadně nehodnotí, vytváření neobvyklých asociací, vhodná rozmanitá skupi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ystém 365 – vytvořte skupiny po pěti lidech a dejte jim šest minut na to, aby se dohodli na třech řešeních problém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ísemné form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lující papí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Infoban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elfská meto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Generování možností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ledání inspir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ledání analogi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oda přehledného pátr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apojení laik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řídění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liminace zjevných nesmysl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mysluplné x „smysluprázdné“ možnosti (např. podle konsensuálního pravidla, podle stupně příslušnost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spořádání skupiny možných řeš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edukce počtu možno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ýběr skup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dělování bod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Hodnocení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va přístup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Relativní – nutně potřebujeme vybrat nebo může být řešení uplatněno jen jedno a jedno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Absolutní – více než pořadí nás zajímá, do jaké míry hodnocené možnosti vyhovují kritérií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Ďáblův advokát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– ne personifikace či celkové soud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eznamy plusů a mínus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rovná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námková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odová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ystém DDB – distributivně delegativní bodová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Multikriteriální hodnoce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ozhodování a realizac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zhodov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utoritativ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articipativ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elegativ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ealiz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lán – tabulka, mapa ap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onitoro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yhodnoc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bbd71"/>
                </a:solidFill>
                <a:latin typeface="Arial"/>
              </a:rPr>
              <a:t>Použitá literatúr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i KAMP, Manažer 21. století. Praha: Grada, 2000. ISBN 80-247-0005-0.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LAŽEK, L. Management II – průvodce studiem. Brn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LAMÍNEK, J., Řešení problémů a rozhodování. Praha: Grada, 200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bbd71"/>
                </a:solidFill>
                <a:latin typeface="Arial"/>
              </a:rPr>
              <a:t>Vývojové trend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áverečné tri dekády 20. st. i začiatok 21. storočia sú v znamení rozmachu manažerskej eti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anažér nie je len zamestnancom slúžiaci vlastníkom, ale aj individualitou s ďalšími záväzkami voči rodine, komunitám i voči vlastnému svedomiu (M. Friedman)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bbd71"/>
                </a:solidFill>
                <a:latin typeface="Arial"/>
              </a:rPr>
              <a:t>Motivácia zamestnancov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ajdôležitejšia súčasť práce manažé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namená uvádzanie sa do pohyb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otivácia je vždy seba- motiváci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otivujúce faktory: 1. úcta k ľuď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2. prejavy uznania ľuď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3. poskytnutie zodpovedn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4. zába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bbd71"/>
                </a:solidFill>
                <a:latin typeface="Arial"/>
              </a:rPr>
              <a:t>Prečo si prajeme motiváciu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Tahoma"/>
              </a:rPr>
              <a:t>Motivovaní ľudia uskutočňujú zmen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Tahoma"/>
              </a:rPr>
              <a:t>Uľahčovanie riaden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bbd71"/>
                </a:solidFill>
                <a:latin typeface="Arial"/>
              </a:rPr>
              <a:t>Faktory motiváci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cta k ľuď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Jednať s každým zásadovo a spravodliv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držovať všeobecné zásady sluš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iať na vedomie individualitu ľudí a rešpektovať rozdiely medzi ni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yjadrovať úctu a vďačnosť za to, že dotyčný prispel k dosiahnutiu vašich cieľo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ejavy uznania ľuď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dmena za prác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aždodenná politika a správan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oskytovanie zodpoved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sobná zodpovednos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ová zodpovednosť pri nevyťažení pracovní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áb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dbbd71"/>
                </a:solidFill>
                <a:latin typeface="Arial"/>
              </a:rPr>
              <a:t>Motivačné vzorc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oaktivní – reaktiv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Interne – externe motivova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rentovaní na rovnakosť – odlišnos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závislí - kooperativ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Základní pojmy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roblém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vnáší do systémů typu firem, rodin či společností nerovnováhu nebo nestabilitu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Stabilita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schopnost systému hledat rovnováhu, dosahovat jí, nebo k ní směřova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Rovnováha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takový stav systému, při němž se působení různých vlivů navzájem ruší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Spor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také vnáší do systému nerovnováhu nebo nestabilitu; souvisí ovšem s přístupem lidí, kteří mají problémy či spory řešit – snaží se prosadit určitý výsledek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Konflikt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nadřazený pojem pro problém i spo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Fáze řešitelského procesu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fini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nalýz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Generová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řídě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dnoc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ozhodová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aliza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08:50:36Z</dcterms:created>
  <dc:creator>Tereza Žáčková</dc:creator>
  <dc:description/>
  <dc:language>en-US</dc:language>
  <cp:lastModifiedBy>Tereza Žáčková</cp:lastModifiedBy>
  <dcterms:modified xsi:type="dcterms:W3CDTF">2008-11-24T00:35:09Z</dcterms:modified>
  <cp:revision>10</cp:revision>
  <dc:subject/>
  <dc:title>Základní pojmy a fáze řešitelského procesu</dc:title>
</cp:coreProperties>
</file>