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671-7DB3-4349-AE01-611B5113BB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533-37E5-45E5-99AC-98FF07C796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2436-5D8F-4CA5-83CA-B89471221D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1F2-29DA-420F-B12D-25A4163A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D78-D54A-4B24-AEA5-D7AD6EE8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EB9-C4D8-4FC8-AF9A-DB7D2EFD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CCE-1A62-40F9-B2EC-6CEFA4EA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A28F-1D7D-423C-BD61-8A0DF1D9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F5F0-ABFE-4618-84AB-497293B4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4972-100D-4DEB-9E10-5D3202A8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17E-7D9D-4091-9553-9A79B6D7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FE88-2E6D-44F8-B2C4-B3892778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E45D-00DF-44B1-AB2C-29B36EE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C49B-3461-451E-B327-36DF9F7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83C-C42B-46A6-8B7A-DF9950C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F14E-9CF3-43BC-89F8-5A507AA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4EE7-38D7-40FF-A879-04E5EC4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8D95-EBBC-45A7-BFE1-611AFF6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C387-64DB-44FC-A2BB-43D5668A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CF59-6D59-4FDE-A94A-8144CD2A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F7BD-00DB-4135-AFCF-98810E4B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0517-47C2-443D-810C-32E5CE47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F3B0-4CB5-4C2A-87BB-09F0DFDA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1FDB-2E67-42F4-8231-72230C2A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5356-EBB9-4662-808C-57DE687E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AC4-9EB1-4EEF-8D75-7C3DEA7C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11B4-8E1A-41D8-895C-CD0564A9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5E2A-4310-4BAE-8714-7F68256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C6F6-EE04-4DF6-804E-4640A79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9A81-00E4-477D-A005-5A3B4F5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B50F-F2D8-4707-B4FE-F8933409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7E79-EF4F-4E5C-BBDB-F14E5DF0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AE61-BFE0-4717-A863-D4896AE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6B4F-116F-4079-8E36-A5686569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74A99-80B8-4B6D-B36E-1B1F8CC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33DC9-3C7D-47BD-B8E8-DE19F8DE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D4F-8C16-41D0-997A-5F724356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8F87-F58B-4C62-B88F-793BE679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08DF-DBAA-43E0-9398-F0BD0958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7A5D-6C76-40EC-B80D-AF376407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D8A7-60C6-4555-B9F8-195796B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F198-5738-4DD0-A845-53C3BDA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DF92-0538-423F-BA1A-293375F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8746-41C2-4A2E-B20C-9D40391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9BD9-8E1D-441B-A76C-B703D7B0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A4BE-E7DA-459D-A8E6-8F087D6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0E5-288F-436C-9881-F4D87AED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739-460B-4CAD-BF46-DA325EA9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BDC-5B60-4FD7-BD4E-0290C589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F5A-D6B5-4BA4-A07D-133C562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35C-69C7-4195-9F34-E9C06D4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DACA-BF9A-4764-8ABE-37F311D0D1CA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ED03-8077-49E7-835E-958C6C118A27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090-92C0-4A03-96A9-3A840B7ECC77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EC27-161E-4A7F-A1BC-7085FB9D263B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Nadpis 1" descr=""/>
          <p:cNvPicPr/>
          <p:nvPr/>
        </p:nvPicPr>
        <p:blipFill>
          <a:blip r:embed="rId1"/>
          <a:stretch/>
        </p:blipFill>
        <p:spPr>
          <a:xfrm>
            <a:off x="706320" y="633240"/>
            <a:ext cx="8212320" cy="1536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00480" y="4571640"/>
            <a:ext cx="2414520" cy="170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Kincl Pavel</a:t>
            </a: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e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nstantia"/>
              </a:rPr>
              <a:t>Beleš Mart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oskytování informací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Selektivní poskytování informací</a:t>
            </a:r>
            <a:r>
              <a:rPr b="1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na základě rozhodnutí, co kdo potřebuje vědě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Tím, že sami rozhodujete, co je důležité, aby vaši podřízení věděli, ji upíráte jejich právo sami rozhodovat o tom, co je pro ně důležité a užitečn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všech možných informací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, které vytváří zahlcení a přetížení informacem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ožnost zahlcení, pak přestaneme naslouchat a opomineme důležité informac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oskytování přiměřených informací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mezi dvěma extrémy existuje určitá rovnováh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, aby vaši podřízení věděli, jaké informace jsou k dispozici, aby se mohli sami rozhodnout, zda potřebují vědět více. Musíte však filtrovat informace, které poskytujeme, abychom zabezpečili, že budou užitečné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ynikající manaž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Mít pod kontrolou sami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Rozvíjí své komunikační dovednost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ste význam těchto doved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Šipka dolů 3"/>
          <p:cNvSpPr/>
          <p:nvPr/>
        </p:nvSpPr>
        <p:spPr>
          <a:xfrm>
            <a:off x="3500280" y="3429000"/>
            <a:ext cx="771840" cy="128592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4857840" y="378612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stup do 21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57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žadavky na manaž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7120" y="1600200"/>
          <a:ext cx="4286160" cy="4105440"/>
        </p:xfrm>
        <a:graphic>
          <a:graphicData uri="http://schemas.openxmlformats.org/drawingml/2006/table">
            <a:tbl>
              <a:tblPr/>
              <a:tblGrid>
                <a:gridCol w="565200"/>
                <a:gridCol w="372096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993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mění vést l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gr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dšení pro prá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edstaviv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usilovně prac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chopení pro dru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vyhmátnout pří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řešit nepříjemné situ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686480" y="1571760"/>
          <a:ext cx="4114800" cy="4105080"/>
        </p:xfrm>
        <a:graphic>
          <a:graphicData uri="http://schemas.openxmlformats.org/drawingml/2006/table">
            <a:tbl>
              <a:tblPr/>
              <a:tblGrid>
                <a:gridCol w="542880"/>
                <a:gridCol w="3571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01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– Vlastnosti dle důležit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lastní mo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ientace na c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pracovat v tý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munikační doved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snášet zátě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alytické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chota se uč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Řídící schop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exibi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pnost rozhodo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Říze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ování lid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pora a pomoc lid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a 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skytnout lidem pros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tivace je vždy sebe-motivac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roveň motivování lidí je jednou z nejdůležitějších součástí práce manažer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aktory motiva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Úcta k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ojevy uznání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oskytnutí odpovědnosti lid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ábav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ravá složená závorka 3"/>
          <p:cNvSpPr/>
          <p:nvPr/>
        </p:nvSpPr>
        <p:spPr>
          <a:xfrm>
            <a:off x="6000840" y="3786120"/>
            <a:ext cx="285840" cy="17859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785960"/>
              <a:gd name="textAreaBottom" fmla="*/ 17787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5"/>
          <p:cNvSpPr/>
          <p:nvPr/>
        </p:nvSpPr>
        <p:spPr>
          <a:xfrm>
            <a:off x="6715080" y="4286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tomnost všech fa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Motivování lid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oč motivova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21.st. -&gt; Organizace musí být dynamická </a:t>
            </a:r>
            <a:r>
              <a:rPr b="0" lang="cs-CZ" sz="2400" spc="-1" strike="noStrike">
                <a:solidFill>
                  <a:srgbClr val="7f7f7f"/>
                </a:solidFill>
                <a:latin typeface="Constantia"/>
              </a:rPr>
              <a:t>(musí  se vyrovnávat se stálými změnami v technice, technologii a také v podnikatelském prostředí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=&gt;Potřeba lidí, kteří s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chtěj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učit, měnit, rozvíjet a   přispívat ke změnám a inova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Usnadňuje řízení li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dividuální pozornost =&gt; přispívá k pracovnímu výkonu jednotlivce a tím i celému tým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y individuální práce s lidm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Čestnost a poctivost účelu a úmysl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ůvěrnost jedná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asnost cí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dování dobrých vztah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výšení hodnoty a významu daného jed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dpora a pomoc lid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ypy individuální práce s lid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ormální přezkoumání dosavadního výkon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(hodnotící rozhovory,  hodnocení projektů apod.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formální rozhovor mezi čtyřma oč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Konzultování a koučování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nzultování na pracoviš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uč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ravá složená závorka 3"/>
          <p:cNvSpPr/>
          <p:nvPr/>
        </p:nvSpPr>
        <p:spPr>
          <a:xfrm>
            <a:off x="5572080" y="2571840"/>
            <a:ext cx="357120" cy="785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072120" y="2786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upy se kombin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743040" indent="-743040">
              <a:buClr>
                <a:srgbClr val="04617b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skytnout lidem pros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nstantia"/>
              </a:rPr>
              <a:t>Delegován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třeba znát: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Výsled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Standar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 Paramet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elegovanou odpovědnost monitoruj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Je profilem manažera 21. stole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i Kam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eta (GB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rogram Journey to Mastery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(Cesta k dokonalosti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Di Kamp"/>
          <p:cNvPicPr/>
          <p:nvPr/>
        </p:nvPicPr>
        <p:blipFill>
          <a:blip r:embed="rId1"/>
          <a:stretch/>
        </p:blipFill>
        <p:spPr>
          <a:xfrm>
            <a:off x="5846760" y="1484280"/>
            <a:ext cx="2763720" cy="352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Bez názvu"/>
          <p:cNvPicPr/>
          <p:nvPr/>
        </p:nvPicPr>
        <p:blipFill>
          <a:blip r:embed="rId2"/>
          <a:stretch/>
        </p:blipFill>
        <p:spPr>
          <a:xfrm>
            <a:off x="3184560" y="3429000"/>
            <a:ext cx="1531800" cy="23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fvbd"/>
          <p:cNvPicPr/>
          <p:nvPr/>
        </p:nvPicPr>
        <p:blipFill>
          <a:blip r:embed="rId3"/>
          <a:stretch/>
        </p:blipFill>
        <p:spPr>
          <a:xfrm>
            <a:off x="900000" y="4005360"/>
            <a:ext cx="11541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sfg"/>
          <p:cNvPicPr/>
          <p:nvPr/>
        </p:nvPicPr>
        <p:blipFill>
          <a:blip r:embed="rId4"/>
          <a:stretch/>
        </p:blipFill>
        <p:spPr>
          <a:xfrm>
            <a:off x="1712880" y="4437000"/>
            <a:ext cx="1174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i Kamp: Manažer 21. století.</a:t>
            </a:r>
            <a:br>
              <a:rPr sz="2600"/>
            </a:b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Grafologie pro personalisty a manaž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aha: Grada Publish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ww.metapositive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o bude jinak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ěnící se prostředí =&gt; manažeři = efektivní řízení lid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X normy a zvyklost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odkud vycházet?  &gt;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Constantia"/>
              </a:rPr>
              <a:t>Historie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příkazy + kontrola, autokratické řízen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- do 20. stol. – benefity, ale stále autokratism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=&gt; postupně respekt lidského potenciálu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lavní charakteristi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ideálního manažera…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Ideální manaž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46400" y="1599840"/>
            <a:ext cx="5781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Hrát roli vzoru pro ostat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Znát sebe sa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oustavně se vzdělá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potěšení ze změ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iz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lně si uvědomovat součastnou realit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ít vysokou úroveň etiky a hodno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Myslet systémově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Správně komunikov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Pozitivně mysl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Umět se nadchnou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Být opravdový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Komunika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ačíná tím, jaký vztah máme k ostatním lid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emůžeme uměle vytvořit dobrý vzta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Je důležité mít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vky, které nám umožní budovat dobré vzt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Úmys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Jak chceme vycházet s jinými lidmi – jednání s nimi. Řídí to naše postoje k nim, vzájemné působení. Náš postoj, poměr k lidem silně ovlivňuje to jak na nás reagují = je důležité jej promyslet a zváž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ědomá volba užitečných a pozitivních postojů k lidem = větší naděje pro vytváření dobrých vztah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ozpoložen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V jakém rozpoložení jsme, ovlivňuje všechno, co děláme. Pozitivní rozpoložení – dobře se cítíme, věříme s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ýsledk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Zda dosáhneme výsledku, závisí na tom, zda jsme si vytvořili dobrý vztah. Existuje dlouhodobý výsledek – jestliže budujeme dobré vztahy a zlepšujeme vztahy s jinými lidmi, styky s těmito lidmi budou stále snadnější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alezení správné rovin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hadnout náladu - neměli bychom rovnou konverzovat. Je třeba zjistit, co se s ním stane, co to s člověkem udělá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právný jazy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. podnikový, manažerský, technický, zákaznický, dodavatelský, praktick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719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Efektivní komuniková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ážit si lidí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dyž si viditelně vážíme lidí = dobré vztah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dy je to obtížné = budování důvěr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Nebezpečí plynoucí  z dobrých vztahů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ěkteří manažeři se domnívají, že ztratí respekt a kontrolu, a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Dobrý vztah   x   tajné srozumění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Dobrý vztah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přátelská úcta k jinému, která v něm vyvolává podobnou reakc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nstantia"/>
              </a:rPr>
              <a:t>Tajné srozumění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polupráce s ostatními, která má přesvědčit, že jsme na jejich straně, i když vás to kompromituje = slevujeme ze svých zás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Máme sklon přemýšlet o komunikaci jako o mluvení, ale komunikujeme i když naslouchá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Vynikající schopnost přijímat informace spočívá v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Přání či potřeba být informován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První krok, zájem o věci co se kolem nás děje. Měli bychom být otevření přijímat informace od jiných lidí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nstantia"/>
              </a:rPr>
              <a:t>Věnovat informacím pozornost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– „Nevypínat se“ – nenaslouchat selektivně. Skutečná pozornost má 5 rovin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slovům, víme co bylo řečen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Naslouchání významu skrytému za slovy (tzn. důrazů na slova, váháni atd.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zorování toho , jak řeč těla doplňuje význam slov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užívání intuice – vaší „vnitřní reakce“ – ke čtení mezi řádk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dvědomé, citové vnímání toho, co se děj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Poskytování a přijímaní informac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Skutečná pozornost je poté účinná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Umožňuje nám slyšet to, co se říká, ve své úplnosti a tak vhodněji reagova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oskytuje nám dodatečnou informaci o tom, jak partner „funguje“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artner má pocit, že si jej vážíte = zlepšuje vaše dobré vztahy s ní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užívat informace dobře 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– informace mají nějaký účel. (krom klepů, zákeřných informacích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idé co nám je poskytují, chtějí, aby se jim dostalo důkazu o tom, že jsme tyto informace dobře použili=zlepšuje dobré vztah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3:19:55Z</dcterms:created>
  <dc:creator>Marek</dc:creator>
  <dc:description/>
  <dc:language>en-US</dc:language>
  <cp:lastModifiedBy>Martin Beleš</cp:lastModifiedBy>
  <dcterms:modified xsi:type="dcterms:W3CDTF">2008-11-26T19:19:06Z</dcterms:modified>
  <cp:revision>30</cp:revision>
  <dc:subject/>
  <dc:title>Požadavky na manažery na prahu postindustriálního věku</dc:title>
</cp:coreProperties>
</file>