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93C-2326-4326-A0FD-EE7A6ED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0E9-6FCF-42ED-91CB-E236500F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E8C-B1A3-4CEE-94EB-F9C9EE1C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254-5466-4008-8F4D-0722C69D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93A3-6DC5-4ED8-A9E0-7365E41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8DEB-08F1-43AF-96C0-F09053C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D74F-5997-47B9-85EB-4F4C839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DCDA-840D-402B-B047-2205C1AA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A106-EC97-4C69-8BB8-F0E37C8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2C0-FA5B-4FAF-A385-E87D21D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902-416D-4904-9E9B-56DC199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EA6-6D56-4078-9AE5-C5F6806F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B63-DB04-49EB-82AA-AB0980A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8D7-EE1C-4284-AAB2-7D36320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E9C-7DA0-494A-B0F8-7B3C118D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22A-D8ED-466E-9C02-DB86B7A2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9460-DBC0-4196-88AC-E9AA412B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902-D32A-4801-BA8B-CF4F2AA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2F4-22FA-45DD-A8B4-347DF6B8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A56-59B0-420B-A962-684187CB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F63-BCC6-4C75-B72D-A6139C5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0F2-7F8B-48E7-8A4C-6FDC009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C2C-2394-4B7C-8E70-B9D44999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7BD-8913-44E5-A7E3-7D3EBBE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8B19-7C73-4333-9E5A-44DB012377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929-1D98-4C95-8418-E1B414C81F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nvironmentalism" TargetMode="External"/><Relationship Id="rId2" Type="http://schemas.openxmlformats.org/officeDocument/2006/relationships/hyperlink" Target="http://ukinczechrepublic.fco.gov.uk/resources/cs/pdf/sternova-studie" TargetMode="External"/><Relationship Id="rId3" Type="http://schemas.openxmlformats.org/officeDocument/2006/relationships/hyperlink" Target="http://www.stuz.cz/view.php?cisloclanku=2007090010" TargetMode="External"/><Relationship Id="rId4" Type="http://schemas.openxmlformats.org/officeDocument/2006/relationships/hyperlink" Target="http://www.stuz.cz/view.php?cisloclanku=2007090010" TargetMode="External"/><Relationship Id="rId5" Type="http://schemas.openxmlformats.org/officeDocument/2006/relationships/hyperlink" Target="http://www.stuz.cz/view.php?cisloclanku=2007090010" TargetMode="External"/><Relationship Id="rId6" Type="http://schemas.openxmlformats.org/officeDocument/2006/relationships/hyperlink" Target="http://www.stuz.cz/view.php?cisloclanku=2007090010" TargetMode="External"/><Relationship Id="rId7" Type="http://schemas.openxmlformats.org/officeDocument/2006/relationships/hyperlink" Target="http://www.stuz.cz/view.php?cisloclanku=2007090010" TargetMode="External"/><Relationship Id="rId8" Type="http://schemas.openxmlformats.org/officeDocument/2006/relationships/hyperlink" Target="http://www.stuz.cz/view.php?cisloclanku=2007090010" TargetMode="External"/><Relationship Id="rId9" Type="http://schemas.openxmlformats.org/officeDocument/2006/relationships/hyperlink" Target="http://www.stuz.cz/view.php?cisloclanku=2007090010" TargetMode="External"/><Relationship Id="rId10" Type="http://schemas.openxmlformats.org/officeDocument/2006/relationships/hyperlink" Target="http://www.stuz.cz/view.php?cisloclanku=2007090010" TargetMode="External"/><Relationship Id="rId11" Type="http://schemas.openxmlformats.org/officeDocument/2006/relationships/hyperlink" Target="http://www.stuz.cz/view.php?cisloclanku=2007090010" TargetMode="External"/><Relationship Id="rId12" Type="http://schemas.openxmlformats.org/officeDocument/2006/relationships/hyperlink" Target="http://cs.wikipedia.org/wiki/V&#225;clav_Klaus" TargetMode="External"/><Relationship Id="rId13" Type="http://schemas.openxmlformats.org/officeDocument/2006/relationships/hyperlink" Target="http://cs.wikipedia.org/wiki/V&#225;clav_Klaus" TargetMode="External"/><Relationship Id="rId14" Type="http://schemas.openxmlformats.org/officeDocument/2006/relationships/hyperlink" Target="http://cs.wikipedia.org/wiki/V&#225;clav_Klaus" TargetMode="External"/><Relationship Id="rId15" Type="http://schemas.openxmlformats.org/officeDocument/2006/relationships/hyperlink" Target="http://cs.wikipedia.org/wiki/V&#225;clav_Klaus" TargetMode="External"/><Relationship Id="rId16" Type="http://schemas.openxmlformats.org/officeDocument/2006/relationships/hyperlink" Target="http://cs.wikipedia.org/wiki/V&#225;clav_Klaus" TargetMode="External"/><Relationship Id="rId17" Type="http://schemas.openxmlformats.org/officeDocument/2006/relationships/hyperlink" Target="http://cs.wikipedia.org/wiki/NGOismus" TargetMode="External"/><Relationship Id="rId18" Type="http://schemas.openxmlformats.org/officeDocument/2006/relationships/hyperlink" Target="http://www.reflex.cz/Clanek21556.html" TargetMode="External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voboda, ekonomika, příroda, eti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onika Kudl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ie Adam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rantišek Chur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goizmus naprieč generáciami – budúce generácie budú iste bohatš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e vyspělém světe zemědělství a lesnictví obvykle nevytváří víc než 3% celkového národního produktu. Ostatní odvětví ale klimatickými změnami výrazně ovlivněny nejso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Hranie si so štatistickými číslami (pesticídy, úmrtia vplyvom teplo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Časová hodnota peňazí a životné prostred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Že jsme překročili  ekologickou kapacitu území, ještě nemusí být tragické. Je to jako půjčka na dům, ve kterém chceme bydlet a vybavit si jej. Jen si musíme být vědomi, že dříve nebo později budeme tuto půjčku splácet. A čím později, tím to bude pro nás nebo pro naše děti dražší a bolestivější.“ (Matthis Wackernagel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 = Non governmental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. (?): feministky, radikální ekologové, anarchisté, odbory, Al-Ka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: prosazují věci demokraticky neprosaditelné (př. Greenpe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le Klaus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A: zrušme parl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GOismus typu B: vedle parlamentu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Filipíny, Afr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laus: demokracie vs. vláda skup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GOismus (druhý pohl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GO vštěpující názory jsou potřebné kvůli prosazování rovných práv menšin (př. vozíčkář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ální neznalost ostat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KLAUS, V. Modrá, nikoli zelená planeta. Praha: Dokořán, 2007. ISBN 978-80-7363-152-9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Environmentalism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6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en.wikipedia.org/wiki/Environmentalism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konomické aspekty změny klimatu – Sternova zpráva.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ukinczechrepublic.fco.gov.uk/resources/cs/pdf/sternova-studi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OVÁČEK, P.: Živá planeta: Sto omyl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  <a:ea typeface="Tahoma"/>
              </a:rPr>
              <a:t>ů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Václava Klause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stuz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.cz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iew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8"/>
              </a:rPr>
              <a:t>php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9"/>
              </a:rPr>
              <a:t>?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0"/>
              </a:rPr>
              <a:t>cisloclanku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1"/>
              </a:rPr>
              <a:t>=2007090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Wikipedia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08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dostupné z: 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2"/>
              </a:rPr>
              <a:t>http:/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3"/>
              </a:rPr>
              <a:t>cs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4"/>
              </a:rPr>
              <a:t>.wikipedia.org/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5"/>
              </a:rPr>
              <a:t>wiki</a:t>
            </a:r>
            <a:r>
              <a:rPr b="0" lang="cs-CZ" sz="1400" spc="-1" strike="noStrike" u="sng">
                <a:solidFill>
                  <a:srgbClr val="ffffcc"/>
                </a:solidFill>
                <a:uFillTx/>
                <a:latin typeface="Tahoma"/>
                <a:hlinkClick r:id="rId16"/>
              </a:rPr>
              <a:t>/V%C3%A1clav_Klaus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NGOism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7"/>
              </a:rPr>
              <a:t>http://cs.wikipedia.org/wiki/NGOism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Václav Klaus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citováno 2008-12-10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cs-CZ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500" spc="-1" strike="noStrike" u="sng">
                <a:solidFill>
                  <a:srgbClr val="ffffcc"/>
                </a:solidFill>
                <a:uFillTx/>
                <a:latin typeface="Tahoma"/>
                <a:hlinkClick r:id="rId18"/>
              </a:rPr>
              <a:t>http://www.reflex.cz/Clanek21556.html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krize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limatická změn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nožství protichůdných d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zorová různost, Klaus X G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mo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znamnost do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drá, nikoli zelená plane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kologická krize neexist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roda se přizpůsob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najde nové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alismus je ideolo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munismus – environmentalismu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nosy a nákla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droj je vždy funkcí ceny a technologie.“ (str. 4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ké náklady na ochranu (plus faktor diskontu) vs. malé výno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oucnost je méně významná než přítomnost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ce není potř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16360" y="4160880"/>
            <a:ext cx="3619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lobální oteplov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eplování začalo před průmyslovou revolucí, pro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livem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k němu ale přispí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o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zba mezi CO2 a globálním oteplování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Řeše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nepolitická, nikým neorganizovaná aktivita miliónů svéprávných a – ve svém vlastním zájmu – racionálně se chovajících lidí.“ (str. 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chrana přírody ano, environmentalismus ne“ (str. 1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blahobytu =&gt; lepší stav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bojovat se změnou klimatu, ale přizpůsobit se 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Odkaz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4.správa Medzivládneho panelu OSN p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klimatické zmeny (únor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Otepľovanie klimatického systému je jednoznačn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Bez zvýšeného úsilia v znižovaní emisií skleníkových plynov dojde k ďalšiemu zvýšeniu teploty, ktoré povedie k nevratným zmenám na klí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Sternova správa (duben 2007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Jeden z podkladov pre závery Európskej rady, ktorá definovala ciele a politiku transformácie Euró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Vyčísluje dopady zmien klímy a ekonomiku a potvrdzuje ekonomickú výhodnosť okamžitého zása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Boj proti vedeckému konsenz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 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odléhejme klamu vědeckého konsenzu, který je stejně docilován jen hlasitou menšinou a nikoli mlčící většino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Je nám vnucována jedna jediná pravda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Kritika kni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áclav Klaus v postavení prezidenta prezentuje menšinové náz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rešpektuje oficiálne stanoviská vlády ČR a EU o klimatických zmená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Jednostrannosť, dezinterpretácia, chyby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kologická nevzdelanosť (kácanie pralesov, biomasa x uhlie, pojmy klima a počasie,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uský preklad financoval Luko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1:05:23Z</dcterms:created>
  <dc:creator>Uživatel</dc:creator>
  <dc:description/>
  <dc:language>en-US</dc:language>
  <cp:lastModifiedBy>F Ch</cp:lastModifiedBy>
  <dcterms:modified xsi:type="dcterms:W3CDTF">2008-12-10T19:37:00Z</dcterms:modified>
  <cp:revision>17</cp:revision>
  <dc:subject/>
  <dc:title>Svoboda, ekonomika, příroda, etika</dc:title>
</cp:coreProperties>
</file>