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03320" y="695160"/>
            <a:ext cx="484488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03320" y="695160"/>
            <a:ext cx="48481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03320" y="695160"/>
            <a:ext cx="48466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447-F8E6-46B5-999C-B299EF7B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615-1E6D-4D4E-8DBB-D61DE4D2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33B-4FE2-452A-AAF0-29F7D4F3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468-ECB1-4379-A8B9-D43137A4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495B-1E54-4545-AF8E-2C0A747E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B7F5-39B5-4E7B-806F-093A9A1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1E2D-B9B5-4702-9F31-986D4376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0F59-9F08-45D4-9803-3241DA46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EB82-E670-4563-AD0D-46CE4262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0960" cy="9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6332-7FE1-4A03-BF6E-10288130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6138-B88F-4C34-AFFC-94234A74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911-C2DB-4449-B50D-3D8FA60D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B132-6E20-447F-8F30-62B66664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D3D9-2224-4EC9-9389-09EB8A1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8439-089E-4B19-B38B-3B590E53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00A8-37A9-4DE8-ABE4-15A36248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A71D-BA46-452E-85BE-E5790A1C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9AB-6725-40B9-B1DA-857CF48E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DC0-9FE1-40A8-AAD8-F09C954A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7C0-8ACD-4A8F-8CB0-4A008D06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0960" cy="9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539-2E05-43B0-9B8F-78FB66AA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627-F646-4D5C-971F-27DE71C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6CE-45FB-497C-B97B-6764624E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385-5323-4045-8C92-94FF161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98040" y="-96840"/>
            <a:ext cx="9068040" cy="9063720"/>
            <a:chOff x="-1598040" y="-96840"/>
            <a:chExt cx="9068040" cy="9063720"/>
          </a:xfrm>
        </p:grpSpPr>
        <p:grpSp>
          <p:nvGrpSpPr>
            <p:cNvPr id="1" name=""/>
            <p:cNvGrpSpPr/>
            <p:nvPr/>
          </p:nvGrpSpPr>
          <p:grpSpPr>
            <a:xfrm>
              <a:off x="-1598040" y="-96840"/>
              <a:ext cx="9068040" cy="9063720"/>
              <a:chOff x="-1598040" y="-96840"/>
              <a:chExt cx="9068040" cy="90637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1598040" y="-96840"/>
                <a:ext cx="9068040" cy="9063720"/>
                <a:chOff x="-1598040" y="-96840"/>
                <a:chExt cx="9068040" cy="906372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36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1598040" y="-96840"/>
                  <a:ext cx="9068040" cy="9063720"/>
                  <a:chOff x="-1598040" y="-96840"/>
                  <a:chExt cx="9068040" cy="906372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560" y="1227240"/>
                    <a:ext cx="629280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92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72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1598040" y="-96840"/>
                    <a:ext cx="9068040" cy="9063720"/>
                    <a:chOff x="-1598040" y="-96840"/>
                    <a:chExt cx="9068040" cy="906372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5840" cy="602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1598040" y="-96840"/>
                      <a:ext cx="9068040" cy="9063720"/>
                      <a:chOff x="-1598040" y="-96840"/>
                      <a:chExt cx="9068040" cy="906372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8840"/>
                        <a:ext cx="6538680" cy="580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1598040" y="-96840"/>
                        <a:ext cx="9068040" cy="9063720"/>
                        <a:chOff x="-1598040" y="-96840"/>
                        <a:chExt cx="9068040" cy="906372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37760" y="931320"/>
                          <a:ext cx="321840" cy="3604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0800" y="2611800"/>
                          <a:ext cx="241128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200" y="2224440"/>
                          <a:ext cx="2404800" cy="234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3040" y="1740960"/>
                          <a:ext cx="2415960" cy="2815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37800" y="1171080"/>
                          <a:ext cx="2406240" cy="337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8080" y="769680"/>
                          <a:ext cx="1400760" cy="376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5200" y="2975760"/>
                          <a:ext cx="2388960" cy="1618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19800" y="3286440"/>
                          <a:ext cx="2390760" cy="132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7080" y="4745520"/>
                          <a:ext cx="178956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1240" y="4523040"/>
                          <a:ext cx="223344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3040" y="3819960"/>
                          <a:ext cx="239364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4480" y="4821480"/>
                          <a:ext cx="975600" cy="135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2640" y="4832640"/>
                          <a:ext cx="85644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1440" y="4832640"/>
                          <a:ext cx="74232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1760" y="4837320"/>
                          <a:ext cx="6199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79360" y="4848480"/>
                          <a:ext cx="482400" cy="176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26960" y="4851720"/>
                          <a:ext cx="34272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1640" y="4872240"/>
                          <a:ext cx="7920" cy="192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2520" y="4875480"/>
                          <a:ext cx="16956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1600" y="4884840"/>
                          <a:ext cx="331200" cy="189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2120" y="4886280"/>
                          <a:ext cx="511920" cy="19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1200" y="4886280"/>
                          <a:ext cx="69300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2360" y="4886280"/>
                          <a:ext cx="893160" cy="189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7560" y="4890960"/>
                          <a:ext cx="1102320" cy="189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5200" y="4884840"/>
                          <a:ext cx="134676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7160" y="4880160"/>
                          <a:ext cx="1622520" cy="19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58320" y="4864320"/>
                          <a:ext cx="19414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4440" y="4851720"/>
                          <a:ext cx="235728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7040" y="4842360"/>
                          <a:ext cx="2858760" cy="1950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3520" y="4824720"/>
                          <a:ext cx="349632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3520" y="4807440"/>
                          <a:ext cx="3954960" cy="178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6760" y="4789800"/>
                          <a:ext cx="3991320" cy="1394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77040" y="4746960"/>
                          <a:ext cx="3907440" cy="658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39240" y="3797640"/>
                          <a:ext cx="3216960" cy="88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6640" y="3278880"/>
                          <a:ext cx="2920680" cy="137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720"/>
                          <a:ext cx="2445840" cy="280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1598040" y="-96840"/>
                          <a:ext cx="9068040" cy="9063720"/>
                          <a:chOff x="-1598040" y="-96840"/>
                          <a:chExt cx="9068040" cy="906372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303640" y="4719960"/>
                            <a:ext cx="500760" cy="492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130840" y="449316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1868400" y="4121280"/>
                            <a:ext cx="1464840" cy="14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1663200" y="3828600"/>
                            <a:ext cx="1937520" cy="1985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1445040" y="3432600"/>
                            <a:ext cx="2444760" cy="2579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217880" y="3146400"/>
                            <a:ext cx="3022920" cy="3127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941760" y="2824560"/>
                            <a:ext cx="3629520" cy="3681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696600" y="2502360"/>
                            <a:ext cx="4186080" cy="4215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397800" y="2208240"/>
                            <a:ext cx="4861440" cy="4740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81800" y="1870200"/>
                            <a:ext cx="5321880" cy="530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20000">
                            <a:off x="-30960" y="1554840"/>
                            <a:ext cx="5848200" cy="5880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780000">
                            <a:off x="-250560" y="1207080"/>
                            <a:ext cx="6373080" cy="6455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2120" y="1780200"/>
                          <a:ext cx="1318320" cy="281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4720" y="2132640"/>
                          <a:ext cx="1765440" cy="246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6520" y="1936080"/>
                          <a:ext cx="1552680" cy="2648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4440" y="2291400"/>
                          <a:ext cx="1974960" cy="2315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2360" y="2467800"/>
                          <a:ext cx="2212560" cy="214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1440" y="2883600"/>
                          <a:ext cx="2534400" cy="175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4040" y="3094920"/>
                          <a:ext cx="270612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6360" y="3556080"/>
                          <a:ext cx="3028320" cy="111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47160" y="4041720"/>
                          <a:ext cx="3370680" cy="649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1840" y="4376880"/>
                          <a:ext cx="354528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0040" y="4702680"/>
                          <a:ext cx="370080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7680" y="4724640"/>
                          <a:ext cx="3826080" cy="31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4960" y="4769280"/>
                          <a:ext cx="398664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2360" y="4862880"/>
                          <a:ext cx="1742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4680" y="4810320"/>
                          <a:ext cx="1064160" cy="1255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3800" y="4797720"/>
                          <a:ext cx="116568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6080" y="4789800"/>
                          <a:ext cx="127692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3120" y="4778640"/>
                          <a:ext cx="1373400" cy="96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6920" y="4772520"/>
                          <a:ext cx="14659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3880" y="4761360"/>
                          <a:ext cx="157500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0120" y="4751640"/>
                          <a:ext cx="16826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2680" y="4734360"/>
                          <a:ext cx="188784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0280" y="4724640"/>
                          <a:ext cx="2003400" cy="18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5360" y="4712040"/>
                          <a:ext cx="212040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4800" y="4295880"/>
                          <a:ext cx="236520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3040" y="4061160"/>
                          <a:ext cx="2398680" cy="609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1600" y="3557880"/>
                          <a:ext cx="2392200" cy="108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59280" y="972360"/>
                          <a:ext cx="2097000" cy="35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1080" y="831240"/>
                          <a:ext cx="1757520" cy="37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3000" y="786600"/>
                          <a:ext cx="1021320" cy="374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4000" y="838800"/>
                          <a:ext cx="688320" cy="369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4360" y="1042200"/>
                          <a:ext cx="4320" cy="349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4880" y="1166400"/>
                          <a:ext cx="304560" cy="3381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6040" y="1310400"/>
                          <a:ext cx="585000" cy="324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0440" y="1459800"/>
                          <a:ext cx="845280" cy="310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3040" y="1626480"/>
                          <a:ext cx="1094400" cy="294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440" y="2679840"/>
                <a:ext cx="5016600" cy="4109040"/>
                <a:chOff x="28440" y="2679840"/>
                <a:chExt cx="5016600" cy="410904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5680" y="2679840"/>
                  <a:ext cx="2349360" cy="194904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3280" y="6049800"/>
                  <a:ext cx="357120" cy="73764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440" y="4281480"/>
                  <a:ext cx="2088720" cy="2507400"/>
                  <a:chOff x="28440" y="4281480"/>
                  <a:chExt cx="2088720" cy="25074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28960" y="6052320"/>
                    <a:ext cx="2772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0960" y="5043600"/>
                    <a:ext cx="1593720" cy="174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2240" y="6647760"/>
                    <a:ext cx="12492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3400" y="5754240"/>
                    <a:ext cx="8460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399960" y="4856400"/>
                    <a:ext cx="163080" cy="9010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440" y="4710960"/>
                    <a:ext cx="375120" cy="1490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3760" y="4856760"/>
                    <a:ext cx="288000" cy="310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6560" y="545220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32760" y="4281480"/>
                    <a:ext cx="2196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160960" cy="4678200"/>
              <a:chOff x="25560" y="2104920"/>
              <a:chExt cx="5160960" cy="46782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5600"/>
                <a:ext cx="2260440" cy="256752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040"/>
                <a:ext cx="2625840" cy="319608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080000">
                <a:off x="3121200" y="3047400"/>
                <a:ext cx="212364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00000">
                <a:off x="3063960" y="4150080"/>
                <a:ext cx="351792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0000">
                <a:off x="1576080" y="427608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0000">
                <a:off x="1080360" y="277452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615560" y="2104920"/>
                <a:ext cx="570960" cy="520560"/>
                <a:chOff x="4615560" y="2104920"/>
                <a:chExt cx="570960" cy="520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0000">
                  <a:off x="4641480" y="2325240"/>
                  <a:ext cx="3279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732560" y="2232000"/>
                  <a:ext cx="303840" cy="257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831560" y="2220480"/>
                  <a:ext cx="218160" cy="1800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09320" y="2112840"/>
                  <a:ext cx="271800" cy="2293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080320" y="2104920"/>
                  <a:ext cx="106200" cy="860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6153CA-78E5-4F49-ADEE-9AD42E78C17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1622160" y="-61200"/>
            <a:ext cx="9069120" cy="9065160"/>
            <a:chOff x="-1622160" y="-61200"/>
            <a:chExt cx="9069120" cy="9065160"/>
          </a:xfrm>
        </p:grpSpPr>
        <p:grpSp>
          <p:nvGrpSpPr>
            <p:cNvPr id="166" name=""/>
            <p:cNvGrpSpPr/>
            <p:nvPr/>
          </p:nvGrpSpPr>
          <p:grpSpPr>
            <a:xfrm>
              <a:off x="-1622160" y="-61200"/>
              <a:ext cx="9069120" cy="9065160"/>
              <a:chOff x="-1622160" y="-61200"/>
              <a:chExt cx="9069120" cy="906516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1622160" y="-61200"/>
                <a:ext cx="9069120" cy="9065160"/>
                <a:chOff x="-1622160" y="-61200"/>
                <a:chExt cx="9069120" cy="90651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600" y="194004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1622160" y="-61200"/>
                  <a:ext cx="9069120" cy="9065160"/>
                  <a:chOff x="-1622160" y="-61200"/>
                  <a:chExt cx="9069120" cy="9065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3160" cy="55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1160" y="148284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720" cy="511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1622160" y="-61200"/>
                    <a:ext cx="9069120" cy="9065160"/>
                    <a:chOff x="-1622160" y="-61200"/>
                    <a:chExt cx="9069120" cy="906516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080" y="798480"/>
                      <a:ext cx="6766200" cy="602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1622160" y="-61200"/>
                      <a:ext cx="9069120" cy="9065160"/>
                      <a:chOff x="-1622160" y="-61200"/>
                      <a:chExt cx="9069120" cy="906516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080" y="1015200"/>
                        <a:ext cx="6539400" cy="580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1622160" y="-61200"/>
                        <a:ext cx="9069120" cy="9065160"/>
                        <a:chOff x="-1622160" y="-61200"/>
                        <a:chExt cx="9069120" cy="906516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4360" y="967320"/>
                          <a:ext cx="321840" cy="360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600" y="2648160"/>
                          <a:ext cx="2411280" cy="196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720" y="2260800"/>
                          <a:ext cx="2405160" cy="234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-360" y="1776600"/>
                          <a:ext cx="2415960" cy="28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4040" y="1206720"/>
                          <a:ext cx="2406240" cy="337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4320" y="805680"/>
                          <a:ext cx="1400760" cy="37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1080" y="3011400"/>
                          <a:ext cx="2388960" cy="1618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3600" y="3321000"/>
                          <a:ext cx="2390760" cy="132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3320" y="4781520"/>
                          <a:ext cx="178956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77480" y="4559400"/>
                          <a:ext cx="223344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-360" y="3856320"/>
                          <a:ext cx="239364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0360" y="4857840"/>
                          <a:ext cx="975600" cy="135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58880" y="4869000"/>
                          <a:ext cx="856440" cy="1449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78040" y="4869000"/>
                          <a:ext cx="74232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08000" y="4873680"/>
                          <a:ext cx="619920" cy="1650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5600" y="4884840"/>
                          <a:ext cx="482400" cy="17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3200" y="4888080"/>
                          <a:ext cx="342720" cy="187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67520" y="4908600"/>
                          <a:ext cx="7560" cy="192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0200" y="4911840"/>
                          <a:ext cx="16956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7840" y="4921200"/>
                          <a:ext cx="33120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8360" y="4923000"/>
                          <a:ext cx="512280" cy="1905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7440" y="4923000"/>
                          <a:ext cx="693000" cy="190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58600" y="4921200"/>
                          <a:ext cx="892800" cy="1890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3800" y="4927680"/>
                          <a:ext cx="1102320" cy="18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1440" y="4921200"/>
                          <a:ext cx="1346760" cy="191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3400" y="4916520"/>
                          <a:ext cx="1623240" cy="19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4560" y="4900680"/>
                          <a:ext cx="19418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1040" y="4888080"/>
                          <a:ext cx="2357280" cy="193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3640" y="4878360"/>
                          <a:ext cx="2858760" cy="1950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0120" y="4861080"/>
                          <a:ext cx="349632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0120" y="4843440"/>
                          <a:ext cx="3954600" cy="178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3360" y="4826160"/>
                          <a:ext cx="3991320" cy="1395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3640" y="4782960"/>
                          <a:ext cx="3907080" cy="65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5480" y="3833640"/>
                          <a:ext cx="3217320" cy="88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2880" y="3314880"/>
                          <a:ext cx="2920320" cy="137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080" y="4015080"/>
                          <a:ext cx="2446200" cy="280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1622160" y="-61200"/>
                          <a:ext cx="9069120" cy="9065160"/>
                          <a:chOff x="-1622160" y="-61200"/>
                          <a:chExt cx="9069120" cy="90651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279520" y="4756680"/>
                            <a:ext cx="500760" cy="492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106720" y="452664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1844640" y="4157280"/>
                            <a:ext cx="1464840" cy="14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1639440" y="3864600"/>
                            <a:ext cx="1937520" cy="1985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1421280" y="3469320"/>
                            <a:ext cx="2444760" cy="2579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194120" y="3179160"/>
                            <a:ext cx="3022920" cy="3128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917640" y="2860200"/>
                            <a:ext cx="3629880" cy="36817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672840" y="2535480"/>
                            <a:ext cx="4186080" cy="4216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373320" y="2244240"/>
                            <a:ext cx="4862160" cy="4740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57680" y="1903320"/>
                            <a:ext cx="5321880" cy="53028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20000">
                            <a:off x="-54360" y="1591200"/>
                            <a:ext cx="5847480" cy="5881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780000">
                            <a:off x="-274320" y="1243080"/>
                            <a:ext cx="6373800" cy="6456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28360" y="1816920"/>
                          <a:ext cx="1317960" cy="281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0960" y="2169360"/>
                          <a:ext cx="1765440" cy="2466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2760" y="1972440"/>
                          <a:ext cx="1553040" cy="2648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0680" y="2327760"/>
                          <a:ext cx="1974960" cy="2315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58600" y="2504160"/>
                          <a:ext cx="2212560" cy="214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77680" y="2919600"/>
                          <a:ext cx="2534760" cy="1750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0280" y="3130560"/>
                          <a:ext cx="27064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2600" y="3592800"/>
                          <a:ext cx="3028320" cy="1117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3400" y="4078800"/>
                          <a:ext cx="3371040" cy="648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28440" y="4411440"/>
                          <a:ext cx="354528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6640" y="4737240"/>
                          <a:ext cx="370116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4280" y="4761000"/>
                          <a:ext cx="3826080" cy="315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1560" y="4805280"/>
                          <a:ext cx="398664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88960" y="4898880"/>
                          <a:ext cx="17424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0560" y="4846680"/>
                          <a:ext cx="106452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09680" y="4834080"/>
                          <a:ext cx="1166040" cy="1161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2320" y="4826160"/>
                          <a:ext cx="1276920" cy="106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89360" y="4815000"/>
                          <a:ext cx="137376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3160" y="4808520"/>
                          <a:ext cx="1465920" cy="85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0480" y="4797360"/>
                          <a:ext cx="157536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6000" y="4788000"/>
                          <a:ext cx="1683000" cy="620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38920" y="4770360"/>
                          <a:ext cx="188784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6520" y="4761000"/>
                          <a:ext cx="2003400" cy="18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1240" y="4746600"/>
                          <a:ext cx="212112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1040" y="4331880"/>
                          <a:ext cx="236520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-360" y="4097160"/>
                          <a:ext cx="2398680" cy="60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-1440" y="3594600"/>
                          <a:ext cx="2391840" cy="1080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5880" y="1006920"/>
                          <a:ext cx="2097360" cy="35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7680" y="867240"/>
                          <a:ext cx="1757520" cy="370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79600" y="822600"/>
                          <a:ext cx="1021680" cy="374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0600" y="875160"/>
                          <a:ext cx="688320" cy="369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0600" y="1078560"/>
                          <a:ext cx="4320" cy="349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1120" y="1202040"/>
                          <a:ext cx="304560" cy="3382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2280" y="1346400"/>
                          <a:ext cx="585000" cy="3247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6680" y="1495800"/>
                          <a:ext cx="845280" cy="310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09280" y="1661400"/>
                          <a:ext cx="1094400" cy="2946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840"/>
                <a:ext cx="5016960" cy="4109760"/>
                <a:chOff x="4320" y="2715840"/>
                <a:chExt cx="5016960" cy="410976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1920" y="2715840"/>
                  <a:ext cx="2349360" cy="19494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79520" y="6086880"/>
                  <a:ext cx="357120" cy="73728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7840"/>
                  <a:ext cx="2089080" cy="2507760"/>
                  <a:chOff x="4320" y="4317840"/>
                  <a:chExt cx="2089080" cy="250776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5200" y="6089400"/>
                    <a:ext cx="27720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560" y="5079960"/>
                    <a:ext cx="1593000" cy="174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68120" y="6684840"/>
                    <a:ext cx="12528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39640" y="5791320"/>
                    <a:ext cx="84564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6920" y="4892400"/>
                    <a:ext cx="162720" cy="9010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960"/>
                    <a:ext cx="375480" cy="148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90360" y="4892400"/>
                    <a:ext cx="288000" cy="310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3160" y="548856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9360" y="4317840"/>
                    <a:ext cx="2160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440" y="2141640"/>
              <a:ext cx="5161320" cy="4677840"/>
              <a:chOff x="1440" y="2141640"/>
              <a:chExt cx="5161320" cy="4677840"/>
            </a:xfrm>
          </p:grpSpPr>
          <p:sp>
            <p:nvSpPr>
              <p:cNvPr id="277" name=""/>
              <p:cNvSpPr/>
              <p:nvPr/>
            </p:nvSpPr>
            <p:spPr>
              <a:xfrm>
                <a:off x="1440" y="4251960"/>
                <a:ext cx="2260440" cy="256752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40" y="3623400"/>
                <a:ext cx="2626200" cy="319608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080000">
                <a:off x="3097080" y="3083400"/>
                <a:ext cx="21240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00000">
                <a:off x="3040200" y="4186440"/>
                <a:ext cx="35182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0000">
                <a:off x="1552320" y="431244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0000">
                <a:off x="1056600" y="281124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591440" y="2141640"/>
                <a:ext cx="571320" cy="520560"/>
                <a:chOff x="4591440" y="2141640"/>
                <a:chExt cx="571320" cy="520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0000">
                  <a:off x="4617360" y="2361600"/>
                  <a:ext cx="32832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08800" y="2268360"/>
                  <a:ext cx="303840" cy="257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07440" y="2256840"/>
                  <a:ext cx="218160" cy="1800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85560" y="2149560"/>
                  <a:ext cx="271800" cy="2293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056560" y="2141640"/>
                  <a:ext cx="106200" cy="856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F00762-A235-4AD6-A318-0F11DDDEF1A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Globální kapitalismus </a:t>
            </a:r>
            <a:br>
              <a:rPr sz="4700"/>
            </a:b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versus </a:t>
            </a:r>
            <a:br>
              <a:rPr sz="4700"/>
            </a:br>
            <a:r>
              <a:rPr b="1" lang="cs-CZ" sz="4700" spc="-1" strike="noStrike">
                <a:solidFill>
                  <a:srgbClr val="c4c3aa"/>
                </a:solidFill>
                <a:latin typeface="Arial"/>
              </a:rPr>
              <a:t>demokracie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imona Doub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etra Krup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enka Valent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1.12.200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hiquita Fruit Company (US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EU jí přidělila kvótu pro dovoz banánů (&lt;10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iquita – sponzor Republikánské i Demokratické stra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test americké administrativy u WTO (diskrimina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WTO rozhodlo o změně kvóty, ale EU nevyhově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467720" indent="-56268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52440"/>
                <a:tab algn="l" pos="2166840"/>
                <a:tab algn="l" pos="3081240"/>
                <a:tab algn="l" pos="3995640"/>
                <a:tab algn="l" pos="4910040"/>
                <a:tab algn="l" pos="5824440"/>
                <a:tab algn="l" pos="6738840"/>
                <a:tab algn="l" pos="7653240"/>
                <a:tab algn="l" pos="8567640"/>
                <a:tab algn="l" pos="9482040"/>
                <a:tab algn="l" pos="1039644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SA zavedla sankční cla (na koupelové soli, kabelky,..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říkla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Guatema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54 demokraticky zvolen J. A. Guzmá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vlastnil 80% plantáží (amerických společností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1837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292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ojenská diktatura podporovaná 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olitika na prodej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blematika financování volebních kampa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bsence jasného ideového vyme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odlišení jen marketingovou strate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Arial"/>
              </a:rPr>
              <a:t>značné finanční prostřed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na to vzít?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soukromý sek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o za to?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liv? Přímluv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důsledky: lidé se obrací k politice zá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hy omezit zákonem financování soukromým sektorem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→ roste vliv méd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Vsuvka: krajské volby 2008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jdražší kampaň v historii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rlamentní strany: 180 mil. K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DS – 40 – 60 mil. Kč (4700 billboard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SSD – 56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SČM – 15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DU-ČSL – 24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elení – 12,5 mil.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r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zdroj: Lidové noviny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Nevolte, radši nakupujt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bčané „obcházejí“ vlády, obrací se přímo na korpor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hrozby bojkotu a negativní rekla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konzumerismus = nástroj spotřebitel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posuzují mimoekonomická krité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vět byznysu je pružnější než svět politi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kcionářský aktivism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  <a:ea typeface="Arial"/>
              </a:rPr>
              <a:t>lidé-spotřebitelé mají větší vliv než polit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Není všechno zlato…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édia komercializována – obsah ovlivněn vlastníky média, zadavateli reklamy,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blém získat důvěryhodné inform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rporace již sponzorují i univerzitní centra, veřejně prospěšné organizace, think-tanky,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-aktivismus -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ternet = nový zdroj informac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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ychlost, dostupnost, každý může sdělit svůj náz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tázka důvěryhodnosti, zveličování problému, zneužit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blém: naše optika nazírá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idumilní podnikatelé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 Soros – „muž, který položil Bank of England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litická filantrop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 Monaghan, Mike Milken, Michael Sayl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ill Gates, Ted Tur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ůno byznys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rporace – maska peč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yznys začíná hrát roli státu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ískání výhod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zákazní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zaměstnan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losvětově závažná tém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mý vl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do ohlídá hlídače?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ERTZOVÁ, N. Plíživý převrat: Globální kapitalismus a smrt demokrac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LÁŘ, P. Nejdražší kampaň v historii. Volby začínají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(dostupné na http://www.lidovky.cz/nejdrazsi-kampan-v-historii-volby-zacinaji-fk3-/ln_noviny.asp?c=A081017_000005_ln_noviny_sko&amp;klic=228128&amp;mes=081017_0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UTLOVÁ, H. Globaliza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Verdana"/>
              </a:rPr>
              <a:t>(dostupné na http://dumfinanci.cz/zajimavosti/globalizac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5100" spc="-1" strike="noStrike">
                <a:solidFill>
                  <a:srgbClr val="c4c3aa"/>
                </a:solidFill>
                <a:latin typeface="Arial"/>
              </a:rPr>
              <a:t>Děkujeme za pozornost!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v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jem globaliz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reena Hertzová: Plíživý převr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Globalizac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měny projevující se jak ve společnosti, tak ve světové ekonomice, které jsou zapříčiněny rozvojem mezinárodního obchodu, vzájemnou spoluprací mezi jednotlivými státy, a tím i propojováním a sbližováním jednotlivých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vní projevy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SA - začátek 2. pol. 20. století – pronikání do Evrop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aponsko - pronikání do Evropy a US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jována s globálním ekonomickým růste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dpůrci vs. přízniv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c4c3aa"/>
                </a:solidFill>
                <a:latin typeface="Arial"/>
              </a:rPr>
              <a:t>Noreena Hertzová: </a:t>
            </a:r>
            <a:br>
              <a:rPr sz="4000"/>
            </a:br>
            <a:r>
              <a:rPr b="0" lang="cs-CZ" sz="4000" spc="-1" strike="noStrike">
                <a:solidFill>
                  <a:srgbClr val="c4c3aa"/>
                </a:solidFill>
                <a:latin typeface="Arial"/>
              </a:rPr>
              <a:t>Plíživý převr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51280" y="155736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dtitu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lobální kapitalismus a smrt demokracie (200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nepokojivé změny posledních 20 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ád obchodních barié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liv nadnárodních korporac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→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ohrožení základů moderní demokratické společ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4360" y="1700280"/>
            <a:ext cx="2930400" cy="4478400"/>
            <a:chOff x="684360" y="1700280"/>
            <a:chExt cx="2930400" cy="447840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84360" y="1700280"/>
              <a:ext cx="2930400" cy="44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84360" y="1700280"/>
              <a:ext cx="2930400" cy="447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S-26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emonstrace 26. 9. 2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aha MMF a Světová ban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test proti globálnímu kapitalism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987"/>
              </a:spcBef>
              <a:spcAft>
                <a:spcPts val="341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dnárodní společnosti mají příliš velkou mo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Koncernové oblud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603440"/>
            <a:ext cx="8227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láda korpor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00 největších nadnárodních společností kontroluje 20% globálních zahraničních aktiv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51 největších ekonomik jsou korporace a 49 národní stá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brat firem General Motors a Ford je větší než HDP celé subsaharské Afr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Úloha stát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8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nes – infrastruktura, veřejné služby a ochrana volného obcho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konomika má větší význam než polit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rporace důležitější než stá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137"/>
              </a:spcBef>
              <a:spcAft>
                <a:spcPts val="2563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čast v politice nahrazena účastí na tr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Vznik nové pravic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400" y="1603080"/>
            <a:ext cx="822780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79 britská premiérk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. Thatch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81 americký prezident R. Rea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72480" indent="-672480">
              <a:spcBef>
                <a:spcPts val="1426"/>
              </a:spcBef>
              <a:spcAft>
                <a:spcPts val="2837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astánci volného trhu, proti státním zásahům, odmítali keynesovskou ekonom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314280"/>
            <a:ext cx="8227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Polarizace společnost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603440"/>
            <a:ext cx="822780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radiční indikátory (HDP na hlavu) zamlžují prav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íl globální politiky - sbližovat životní úroveň bohatých a chudých zemí - opak je pravd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fituje pouze menš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79320" indent="-67932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US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79600" indent="-56520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3,7% obyvatel žije v chudob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79600" indent="-565200"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% obyvatel vlastní 40% majet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1:25:32Z</dcterms:created>
  <dc:creator>snoopy</dc:creator>
  <dc:description/>
  <dc:language>en-US</dc:language>
  <cp:lastModifiedBy>doma</cp:lastModifiedBy>
  <dcterms:modified xsi:type="dcterms:W3CDTF">2008-12-10T18:38:38Z</dcterms:modified>
  <cp:revision>33</cp:revision>
  <dc:subject/>
  <dc:title>Snímek 1</dc:title>
</cp:coreProperties>
</file>