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E57-8BC4-427B-AA45-630C3F11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087-8001-4C73-A5AD-6691D69F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26C-877B-4236-8D7E-865902B4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AA2-4827-4504-870B-AB13FA7F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542F-8890-47EC-8157-9CE4D000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732B-6CC6-4F83-9995-7344F896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B355-4941-4758-A64E-268ACD98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88DA-2465-41BD-8E96-E3BD114C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4C54-8B4C-4093-B7D4-7EAF523E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9845-44F7-4CA6-A796-1B00A857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23EA-3BB7-4050-A608-3F8FFC45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5AF-CE9D-4C7B-9E6F-69EEEF7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008F-1B7F-40E0-8B13-674BDA6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3A14-2A59-47AD-B5B1-48196291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9E2F-2256-4067-AECD-3A0469B4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84EA-56AA-41BF-9ABD-7EAA2E66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2F85-B61D-4FCC-81C3-4673269F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A94-495E-48C6-A997-E71019E5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DE9-04E4-4A6F-8DF2-49366310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7E6-7D70-417F-AA71-7D8B6023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6DC-C883-4D99-80A1-02CF9422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67A-060A-412E-A778-A8D6B99F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61D-7CA4-43E5-934E-CB2A26C9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AEF-9C48-445C-97E9-46516C95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7A25-2FE9-4558-8E87-6B054F9116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8DB5-CB0B-456C-82DA-E502AB481B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lobální kapitalismus versus demokrac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59000"/>
            <a:ext cx="640080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rtin Lošť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vel Popel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rtin Vymyslic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ostoj občanů k současné politice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dalování se politickým stranám (bojkot politiky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stiky ze Západních mocností, ale i středoevropských států nabývají obdobných výsledk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án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Homo economicus x korporace „přinucené“ jednat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vita v rukou spotřebite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 nástroj konzumer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Informační asymetrie – korporace x spotřebitel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cionářský aktivismus jako další možná „regulátor“ nadnárodních korpora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šemocná média?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 kterých rukou spočívá moc médií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íklad televizní stanice F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tráta svobody médií je smrtící. Nevědomost znamená bezmocnost jakékoli kritik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ástup internetu = nástup svobody k informací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litická filantrop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schopnost vlád reagovat, v kontrastu potřeba vůdců businessu tuto roli zastoup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ůst HDP – generování obrovských zisků – co s těmito penězi jednotlivec může uděl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dace Billa Gatese hodlá věnovat 21 mld. USD na nákup vakcín a vzdělávací programy pro třetí svět – historicky bezprecedentní část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radce pro filantropii pro bohaté zaměstnance v úspěšných firmách, např. v odvětví high-te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dnikatelé - nevolení státníc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opnost získat přístup ke světovým lídrům a prosazovat různorodé cí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vlivňování politického i sociálního života v nevídaném rozsa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ální vlastnosti – agresivita, sebejistota, bystrý rozum + finanční prostřed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pojení i do oblastí, ve kterých diplomaté opakovaně selháv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„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čovatelské organizace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čátek uvědomování si faktu, že sociální a ekologickou problematiku nelze pojímat okrajově – při zhroucení systému ponesou následky i korpo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z podnikatelského hlediska je rozumné, aby korporace přispěly k rozvoji sociální obl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ce na sociálním dně = nedostatek kvalifikované a inteligentní pracovní síly, vysoká kriminalita, problémy s odbytem zbož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znys potřebuje stabilizovanou společnost k tomu, abych chránil vlastní stabilitu – to je prostě fak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0" y="4797360"/>
            <a:ext cx="50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ir John Brow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edseda představenstva General Elec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…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ální hodnoty zaměstnanců a manažerů (zejména vysoce kvalifikovaná pracovní sí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ost ovlivnění dotace konkrétní oblasti zákazníkem (narozdíl od platby da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kurenční výh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tačí neškodit, ale je nutné začít pomáh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ost řešení úkolů snáze a rychleji, než vlá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žnosti selh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místění aktivit jinam – konec závazků korporace k dané lokali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íslušné instituce jsou ponechány nerozvinuté – vláda se před odchodem neměla důvod angažov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á změna priorit zákazníků – orientace na cenu – nutné snižování nákl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žná závislost společenského pokroku na tvorbě zis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kujeme za pozorno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íživý převr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číná vládou Margaret Thatcherové a Ronalda Reag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 rámci kapitalismu přešla nepřiměřená moc do rukou korporací, které získaly politickou moc a ohrožují demokrac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ologie volného trhu ohrožena – nárůst sociálních problémů, ignorace voleb, demonst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znik Nové prav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1979 – britskou premiérkou zvolena Margaret Thatcherová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1981 – americkým prezidentem zvolen Ronald Reaga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Oba politici odmítali státní zásahy do ekonomiky, přijali názory Miltona Friedmana a Friedricha Hayeka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rh dokáže alokovat zboží a služby efektivněji než stá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úkolem státu je vytvořit příznivé podnikatelské prostředí (rozsáhlá privatizace, snížení daní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Odmítnutí sociálního myšlen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edni na kolo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osun tradičního politického spektra – pravice i levice se přibližuj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ozšíření do kontinentální Evropy – přesvědčení, že podniky jsou schopny generovat bohatství efektivněji než vlád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rpor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¼ světových aktiv spravují nadnárodní společnost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uze 21 států světa má vyšší HDP, než činí roční obrat každé z 6 největších korporací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Obrat firem General Motors a Ford je větší než HDP celé subsaharské Afrik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Tržby korporací představují 2/3 světového obchodu a 1/3 světové výrob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římé zahraniční investice explodovaly z 2,35 miliardy USD v 70. letech na 80 miliard USD v roce 19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 čem spočívá moc korporací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rporace jsou schopny vládám nabídnout nová pracovní místa, investice do infrasktruktury, proto se je politici snaží udržet ve svém státě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kud by bylo příliš vysoké zdanění, přísné normy, malá státní podpora, pak pohrozí odchodem ze země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orporace operují globálně, odcházejí do zemí s nízkými výrobními náklady, pracovní sílu hledají u „sociálního dna“, pokud možno ve státě, kde neexistují odbory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k se chová vlád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ystém „já na bráchu, brácha na mě“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Maximální snaha udržet korporace v zemi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ižování daňových saz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ňová zvýhod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ňové rá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ropad ve výběru daní ovšem způsobuje neschopnost fungování veřejného sektoru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Zvyšování daní je neprůchodné, hledání alternativních cest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krácení sociálních dávek bohatý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anění penzijních fond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výšení nepřímých da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ciální důsled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Nejen v nízkých, ale i vysokých vrstvách společnosti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šší počet lidí se stresovým onemocně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ůst prodeje antidepres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odiče se nevěnují dětem z důvodu dlouhé pracovní do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vyšující se počet sebevraž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Nejlepšímu zdraví se těší lidé v zemích, kde existuje co nejrovnoměrnější přerozdělování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ahoma"/>
              </a:rPr>
              <a:t>Při zmírnění příjmové diferenciace dochází ke snížení úmrtnosti na následky vážných nemocí, snížení kriminality nebo vražd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íme, že průmyslové společnosti námi manipulují, ale v samotné povaze byznysu je jít za každým dolarem, který lze legálně získat. Nedávejte vinu firmám, nýbrž státu. Hloupý je stá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harles Horn, senátor státu Oh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pojitost vlád a soukromého sektor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itika na prodej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inancování politických st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Štědrý „sponzoring“ politickým straná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klad USA(sponzoring úzkými elitami)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klady v Evropě i za oceán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ěmecko (Kohl), Británie(Ecclesto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A(zdanění pi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5:46Z</dcterms:created>
  <dc:creator>test</dc:creator>
  <dc:description/>
  <dc:language>en-US</dc:language>
  <cp:lastModifiedBy>Popl</cp:lastModifiedBy>
  <dcterms:modified xsi:type="dcterms:W3CDTF">2008-12-01T22:18:12Z</dcterms:modified>
  <cp:revision>33</cp:revision>
  <dc:subject/>
  <dc:title>Globální kapitalismus versus demokracie</dc:title>
</cp:coreProperties>
</file>