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B49-7DDF-4562-868D-B2BC9E22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74A-87C1-4299-A767-EED2E863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58E-0BCE-4E23-9AF1-C361559D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3BF-9EC0-481B-B229-20DC22D7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2207-05A0-4C27-9EA5-B1C47805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9F94-FC23-435A-9684-AAC0A814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9166-83A5-442F-916F-7DE4F67C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720F-7F73-4E4E-B287-4D7D3ED3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3335-CF78-4750-9331-55F33FA4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74D7-30AA-47A7-9BE4-1C92BC53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12B3-ADF6-4EF5-B9FE-48D1BA3D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1F1-117C-45E5-B36D-FF16BC80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203C-D52E-4B72-8C9F-00B26557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292D-7137-4BA6-8C1A-54E82FA4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D7FA-68A4-491E-86E1-01EE732F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FBDA-D377-4945-9A6C-FAC85A04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EBCC-B5B7-4C4D-BDBE-73E5AEF9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247-A8D6-40A7-8EED-1D428983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0E7-35B3-40C8-8A59-73D7B493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462-328D-4EA3-82FB-E751C625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8EA-69D3-419A-A04A-C7727A71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61D-CB09-43FF-AEA2-D8336B57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191-D54C-477F-805F-F014B0BE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79D-9CFB-4CCA-B9E9-9EB2B0D0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41E6-4790-45E9-A3F8-777B4A6CA10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4FBC-3323-4A20-AEAC-981158AD28C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trukturalni-fondy.cz/" TargetMode="External"/><Relationship Id="rId2" Type="http://schemas.openxmlformats.org/officeDocument/2006/relationships/hyperlink" Target="http://www.strukturalni-fondy.cz/" TargetMode="External"/><Relationship Id="rId3" Type="http://schemas.openxmlformats.org/officeDocument/2006/relationships/hyperlink" Target="http://www.strukturalni-fondy.cz/" TargetMode="External"/><Relationship Id="rId4" Type="http://schemas.openxmlformats.org/officeDocument/2006/relationships/hyperlink" Target="http://www.strukturalni-fondy.cz/" TargetMode="External"/><Relationship Id="rId5" Type="http://schemas.openxmlformats.org/officeDocument/2006/relationships/hyperlink" Target="http://www.strukturalni-fondy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ývojové trendy podniků a jejich řízení na prahu postindustriálního věku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ora Navrátilová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ichal Meluzín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omáš Dostál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ýkonnostní motivační systém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e 21.století zvítězí firma se zaujatými, odhodlanými a odpovědnými zaměstnanci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motné i nehmotné formy odměňová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jsilnější motivační faktor – mz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vé tendence – volný čas, zajímavá práce, samostatnost, dekolektivizace mzdových jednání (individuální sjednává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jlepší firmy vs. motivační systé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íce peněz na mzdy a zam.výh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K obsazení nové pozice využívají více interní zdr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ledují pravidelně spokojenost zaměstnanc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íce využívají mzdová pás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esně definované a propracované personální proces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orální kode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rd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entace na zákazní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zákazníci jsou největším aktivem podniku“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P. Kot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Globální převaha nabídky nad poptávkou – vznik zákaznické ekonomi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náš zákazník – náš pán“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T. Bať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ostavení zákazníka ještě posílí nové směrnice E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entace na zákazní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Uvědomění si orientace na zákazníka všemi pracovníky podni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Rozpoznání hodnot a tuže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volávání nových potře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mýšlení nových produktů šitých na mír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Klíčová je loajalita stávajících zákazní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užití feedbac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ovativ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y a modernizace všech podnikových aktiv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mý či nepřímý profit pro zákazní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tné zvažování zaměření inovac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ex inovací – u produktových změ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ovace – pojetí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ovace je úspěšné využívání nových myšlenek“ </a:t>
            </a:r>
            <a:r>
              <a:rPr b="1" i="1" lang="cs-CZ" sz="2400" spc="-1" strike="noStrike">
                <a:solidFill>
                  <a:srgbClr val="003366"/>
                </a:solidFill>
                <a:latin typeface="Arial"/>
              </a:rPr>
              <a:t>Ministerstvo obchodu a průmyslu G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iciativa Equal (2004 – 2006), OP Podnikání a inov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ovace není jen nápad samotný, ale především jeho implement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 ČR nízký stav inovační výkonno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ktivní vytváření poptávk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ahlcenost trhů zbožím a služba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zbytnost aktivně vytvářené poptáv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vůrčí přístup, fantazie, hledání nových produlktů – Superproduk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vídav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ychlost a pruž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eed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užnost společnosti –prodej X výro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nížení rizika – sezónnost, simultánnost, způsob kontroly kvality, organizace distribučních sítí, informační technolo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lný top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edvídav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rategie, mise, vize fir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vádění radikálních změ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ma jako cel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tivace, stimu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ledání “správných“ pracovník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oncepční iniciátoři i mediátoř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ČEK, Z. Firma 21. století. Praha : Profesional Publishing. ISBN 80-86419-88-6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strukturalni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-fondy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ttp://www.equalcr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kteristika prostřed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lké změny ve světové ekonom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ůdčí rol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sivní nástup firem z asijských stát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astaralé rigidní metody manažerského řízení v Evrop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třeba změny firemní strate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867280" y="364500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ozvojové tendence světa 21.stolet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69436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uperkonku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uperturbul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format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lektual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litantnost a terorism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zmanit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niaturiz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sou jen dva druhy firem. Ty, které se změní a ty, které zmizí.“ </a:t>
            </a: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P.Kot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2720" y="2362320"/>
            <a:ext cx="32418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incipy úspěšné firmy 21.stolet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Absolutní orientace na zákazní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ilný top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Aktivní vytváření poptávky a hledání nových trh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soká výkon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Rychlost a pruž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ýkonnostní motivační systé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Inovativ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oderní informační technolo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ysoká výkonnost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ektivnost – vztah hodnoty výstupu k hodnotě vstup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ktivita – výkon za určitou časovou jednotk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ýkonnost – schopnost subjektu vyprodukovat za určité období souhrn statků a služ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ysoká výkon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vé ukazate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valifikovaná strateg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valita vztahů se zákazníky – spokojenost zákazníků, počet ztracených zákazníků, C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Nehmotná aktiva – odbornost, inteligence, mobilita, osobní zaujet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hareholders – majitelé – ROI, E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                    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zákazníci – kvalita produktu, ce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2096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dnocení výkon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díl na trhu – BCG ma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idaná hodn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tmanův inde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ýkonnost zákazník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zhodující činitelé mající vliv na výkonnost: rychlost, jednoduchost procesů, transparentnost, jasně definované cíle, zpětná vazba, vzdělávání pracovní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ýkonnost českých fir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lné stránky – infrastruktura, relativně nízké náklady, geografická poloh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abé stránky – daňový systém, soudy, staré technolo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ležitosti – příliv technologií, E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izika – nedostatek pracovní síly, konkurence EU, As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1:09:01Z</dcterms:created>
  <dc:creator>čtenář</dc:creator>
  <dc:description/>
  <dc:language>en-US</dc:language>
  <cp:lastModifiedBy>Zora Navrátilová</cp:lastModifiedBy>
  <dcterms:modified xsi:type="dcterms:W3CDTF">2008-12-03T09:46:17Z</dcterms:modified>
  <cp:revision>7</cp:revision>
  <dc:subject/>
  <dc:title>Vývojové trendy podniků a jejich řízení na prahu postindustriálního věku</dc:title>
</cp:coreProperties>
</file>