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948488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6600" y="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sk-SK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sk-SK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660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sk-SK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03D7E4AD-A941-46A4-A22A-B3C84C9E8671}" type="slidenum"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Vložte obrázok zaujímavého miesta, ktoré sa nachádza vo vašej krajin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Vložte mapu svojej krajiny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Vložte obrázok niektorého zemepisného prvku vašej krajiny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Vložte obrázok, ktorý zobrazuje ročné obdobie vo vašej krajin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Vložte obrázok zvieraťa alebo rastliny, ktoré sa vyskytujú vo vašej krajin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Na časovú os pridajte významné míľniky v histórii vašej krajiny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Sem vložte obrázok znázorňujúci určitý zvyk alebo tradíciu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Vložte obrázok hlavy štátu vašej krajin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Vložte obrázok ilustrujúci niektorú oblasť ekonomiky vašej krajin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1371-EAC1-439B-87E6-D869E503A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42560" y="386172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50FE-AD3F-4C3C-B199-80A0A33EA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9104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928F-899D-4EE3-8714-331DCD473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824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356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4256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824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356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0D01-B3C0-4B51-9FA6-D03B1C5FB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0251A-4483-42C5-BD13-1EDFDA930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EA868-B187-4884-9F37-5A35B1C41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76B4A-4162-4986-ADF3-3DC4137B0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D3011-F003-498A-840D-9C2E7B2B5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0CD3A-0262-40AE-BD88-1953EE9CF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42560" y="225000"/>
            <a:ext cx="77058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107CB-E727-42C1-9643-1AD95553A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08A81-0764-41C5-BD6C-66AEF1E0C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C483-9B9B-41F4-9C05-9B71C94F4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9104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D7351-A296-48BB-BB28-1DAE5670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02191-DBC2-40B2-B86A-56DA74548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42560" y="386172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D1E8C-50F3-4F62-BB77-DD96595B2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9104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B426D-7C33-4D81-B943-09191F2EC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824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5356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4256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824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5356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E70AC-B6DD-4C5D-B6CC-78FA747E9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96BD-408B-4CE5-96F8-EC00CCB94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8FEC-7385-498C-8098-E42FE2D64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0878-105E-4F9D-8306-EFD1FDAE3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42560" y="225000"/>
            <a:ext cx="77058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62AC-7258-41AB-B2E6-E9E5B9B6B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C9F7-1B8F-487D-AB95-C0164980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9104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12CA-071A-4019-AAA1-69E67C655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B83A-345A-4474-8745-7BC76011E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42560" y="6308640"/>
            <a:ext cx="183852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entury School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53880" y="6308640"/>
            <a:ext cx="363708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entury Schoolbook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43600" y="6308640"/>
            <a:ext cx="190512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A5BAC-163B-461C-AD4F-1A098959ED8C}" type="slidenum">
              <a:rPr b="0" lang="sk-SK" sz="10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19280" y="1828800"/>
            <a:ext cx="5343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1225440" y="6200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entury School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303720" y="6200640"/>
            <a:ext cx="3636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entury Schoolbook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92720" y="62006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9C309-40CB-4462-8C26-0C1868B8CA4F}" type="slidenum">
              <a:rPr b="0" lang="sk-SK" sz="10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708000" y="189000"/>
            <a:ext cx="543564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entury Schoolbook"/>
              </a:rPr>
              <a:t>Interkulturní management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816000" y="4184280"/>
            <a:ext cx="49467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Michal Dančiši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Martin Ďubek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Tereza Koklarová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042560" y="1304640"/>
            <a:ext cx="6265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Holandský manažer s mezinárodními zkušenostmi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na základě modelů G. Hofsteda, E.T.Halla a dalších autorů a s ohledem na své vlastní zkušenosti rozvinul vlastní model kulturních dimenzí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kulturní rozdíly vznikají ve třech základních oblastech života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80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postoji lidí k času,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jejich postoji k přírodě 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jejich postoji k ostatním lidem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80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 těchto oblastí odvodil následující dimenze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1042560" y="11556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entury Schoolbook"/>
              </a:rPr>
              <a:t>Fons Trompenaar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Universalismus/partikularismu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Neutrální/afektivn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Specifické/difuzn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Dosažený status/připisovaný statu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Orientace na přírodu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Orientace v ča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entury Schoolbook"/>
              </a:rPr>
              <a:t>Kulturní standardy podle Alexandra Thomas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standardy představují konkrétní sociální normy, které jsou příslušníky kultury sdíleny a závazně respektovány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jsou měřítkem toho, co je v určité kultuře považováno za normální, obvyklé, typické a akceptovatelné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určují přípustnou míru tolerance od jiných standardů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zřetelnými se stávají až v interakci s příslušníky jiné kultury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lze je proto identifikovat a interpretovat až v procesu konfrontace dvou nebo více konkrétních kultur (jejich charakteristiky platí opět jen pro tyto srovnávané kultury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nepředstavují univerzální škálu, ale výsledky porovnávání konkrétních kultur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entury Schoolbook"/>
              </a:rPr>
              <a:t>Řešení a zvládání interkulturních rozdílů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rozdíly v kulturních standardech se stávají zdrojem mnoha nedorozumění a často i bariérou vzájemné spoluprác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lze nabídnout poměrně jednoduchý postup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izí kulturu je třeba dobře zná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izí kulturu je třeba respektov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e vztahu k cizí kultuře je třeba učinit vstřícné krok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entury Schoolbook"/>
              </a:rPr>
              <a:t>Strategie řešení podnikové multikulturality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Dominance – přizpůsoben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Součinnost – komprom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Součinnost – kombinace a integrac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Inovace, synergi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Odmítnut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entury Schoolbook"/>
              </a:rPr>
              <a:t>Interkulturní managemen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Vedení pracovníků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měření na pracovníky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měření na úkoly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38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anovení a sjednání cílů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zhodován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ešení problémů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tváření motivujících pracovních   podmínek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entury Schoolbook"/>
              </a:rPr>
              <a:t>České kulturní standardy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Orientace na vztah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Podceňování struktur / láska k improvizac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Simultánnos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Kontrola orientovaná na lid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Vzájemné prolínání různých oblastí života a aspektů osobnost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Silný komunikační kontex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Vyhýbání se konfliktů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Kolísavá sebejistot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92000" y="2781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entury Schoolbook"/>
              </a:rPr>
              <a:t>Děkujeme za pozornost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entury Schoolbook"/>
              </a:rPr>
              <a:t>Použitá literatura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42560" y="2060640"/>
            <a:ext cx="7705800" cy="41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Nový, I.,Schroll-Machl, S. a kol.: Interkulturní komunikace v řízení a podnikání, Praha 2003, Management Pres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Nový, I., Schroll-Machl, S. a kol.: Spolupráce přes hranice kultu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entury Schoolbook"/>
              </a:rPr>
              <a:t>Obsah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6697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entury Schoolbook"/>
              </a:rPr>
              <a:t>Základní literatura, autoři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entury Schoolbook"/>
              </a:rPr>
              <a:t>Interkulturní komunikac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entury Schoolbook"/>
              </a:rPr>
              <a:t>Kulturní dimenze a standardy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entury Schoolbook"/>
              </a:rPr>
              <a:t>Řešení a zvládání interkulturních rozdílů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entury Schoolbook"/>
              </a:rPr>
              <a:t>Interkulturní managemen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entury Schoolbook"/>
              </a:rPr>
              <a:t>České kulturní standardy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33520" y="2438280"/>
            <a:ext cx="4495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6707160" y="26668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560" y="225360"/>
            <a:ext cx="810108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entury Schoolbook"/>
              </a:rPr>
              <a:t>Interkulturní komunikace v říze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entury Schoolbook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entury Schoolbook"/>
              </a:rPr>
              <a:t>podnikání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42920" y="1304640"/>
            <a:ext cx="727416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Ivan Nový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fesor na VŠE v Praz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rientuje se na problematiku psychologických a sociologických aspektů podnikového a personálního řízení a interkulturního managementu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bývá se poradenskou a vzdělávací činností (Škoda Auto, Volkswagen, Bosch…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Sylvia Schroll-Mach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náší interkulturní komunikaci na Wirtschaftsunivers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ä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 ve Vídni a v Regensburgu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měřuje se na interkulturní poradenství a na vzdělávání a výcvik manažerů (Siemens, Hewlett-Packard, Audi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lektorkou v Hernstein International Management Institut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entury Schoolbook"/>
              </a:rPr>
              <a:t>Interkulturní komunikac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2971800"/>
            <a:ext cx="4495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5041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problém interkurturní komunikace nespočívá jen v dokonalé znalosti cizího jazyka a schopnosti orientovat se v jeho odborné terminologii. Úspěch závisí i na dobré vzájemné znalosti kultury a zejména kulturních odlišností partnerů….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…</a:t>
            </a: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..podmínkou uvědomění si kulturních rozdílů je však i dokonalá znalost sebe sama, tedy kultury vlastní,…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775480" y="2631960"/>
            <a:ext cx="138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505320"/>
            <a:ext cx="26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entury Schoolbook"/>
              </a:rPr>
              <a:t>Sociální percepc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42920" y="1304640"/>
            <a:ext cx="540072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entury Schoolbook"/>
              </a:rPr>
              <a:t>Percepce – proces vnímaní, ve kterém lidé prostřednictvím svých smys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lang="sk-SK" sz="2000" spc="-1" strike="noStrike">
                <a:solidFill>
                  <a:srgbClr val="000000"/>
                </a:solidFill>
                <a:latin typeface="Century Schoolbook"/>
              </a:rPr>
              <a:t> přijímají informace z okolního prostředí a zpracovávají je za účelem jejich interpretac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entury Schoolbook"/>
              </a:rPr>
              <a:t>V rozvoji vlastních percepčních dovedností člověka je porozumění procesu interpersonální percepce, v kt. se uplatňují především 3 komponenty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entury Schoolbook"/>
              </a:rPr>
              <a:t>Vnímajíci osob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entury Schoolbook"/>
              </a:rPr>
              <a:t>Vnímaná osob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entury Schoolbook"/>
              </a:rPr>
              <a:t>Situační kontext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entury Schoolbook"/>
              </a:rPr>
              <a:t>Vnímající osoba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55280" y="1341360"/>
            <a:ext cx="77058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entury Schoolbook"/>
              </a:rPr>
              <a:t>Ov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k-SK" sz="2000" spc="-1" strike="noStrike">
                <a:solidFill>
                  <a:srgbClr val="000000"/>
                </a:solidFill>
                <a:latin typeface="Century Schoolbook"/>
              </a:rPr>
              <a:t>vněna zkušenostmi, motivačními zaměřeními a emocionáln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Century Schoolbook"/>
              </a:rPr>
              <a:t>m stavem jedinc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entury Schoolbook"/>
              </a:rPr>
              <a:t>Percepční obrana – jedinec „nevidí, neslyší“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entury Schoolbook"/>
              </a:rPr>
              <a:t>Vnímaná osoba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"/>
          <p:cNvSpPr/>
          <p:nvPr/>
        </p:nvSpPr>
        <p:spPr>
          <a:xfrm>
            <a:off x="5867280" y="304812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42920" y="1304640"/>
            <a:ext cx="5113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entury Schoolbook"/>
              </a:rPr>
              <a:t>Vnímaní druhého člověka je ov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k-SK" sz="2000" spc="-1" strike="noStrike">
                <a:solidFill>
                  <a:srgbClr val="000000"/>
                </a:solidFill>
                <a:latin typeface="Century Schoolbook"/>
              </a:rPr>
              <a:t>vněno těmito faktory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entury Schoolbook"/>
              </a:rPr>
              <a:t>Fyzický vzhled, vnější úprav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entury Schoolbook"/>
              </a:rPr>
              <a:t>Verbální/neverbální projevy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entury Schoolbook"/>
              </a:rPr>
              <a:t>Sociální statu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entury Schoolbook"/>
              </a:rPr>
              <a:t>Chování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entury Schoolbook"/>
              </a:rPr>
              <a:t>Domnělá či skutečná shoda s pozorovatelem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entury Schoolbook"/>
              </a:rPr>
              <a:t>Míra nejednoznačnosti či „nečitelnosti“ pozorovaného člověk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entury Schoolbook"/>
              </a:rPr>
              <a:t>Sociální a kulturní prostředí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entury Schoolbook"/>
              </a:rPr>
              <a:t>Výsledky jeho činnosti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entury Schoolbook"/>
              </a:rPr>
              <a:t>Situační kontex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42920" y="1304640"/>
            <a:ext cx="4681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entury Schoolbook"/>
              </a:rPr>
              <a:t>Doplňuje informace, které máme o objektu vnímaní a ovlivňuje jejich interpretaci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entury Schoolbook"/>
              </a:rPr>
              <a:t>ČR – vysoký komunikační kontext. Oproti kulturám s nízkým komunikačním kontextem tak m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lang="sk-SK" sz="2000" spc="-1" strike="noStrike">
                <a:solidFill>
                  <a:srgbClr val="000000"/>
                </a:solidFill>
                <a:latin typeface="Century Schoolbook"/>
              </a:rPr>
              <a:t>že být verbální stránka komunikace podstatně úspornější – tím však vznikají značné komunikační problémy a nedorozumnění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entury Schoolbook"/>
              </a:rPr>
              <a:t>Kulturní dimenz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6913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průkopníkem Holanďan Geert Hofsted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v roce 1980 vytvořil dotazník, který byl přeložen do 20 jazyků a použit v 53 zemích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účelem bylo zkoumat tzv. pracovně orientované hodnotové představy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závěr: je možné rozlišit 4 kulturní dimenze (později je rozšířil o další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rozpětí moci v hierarchii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individualismus/kolektivismu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vyhýbání se nejistotě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maskulinita/feminit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dlouhodobá orientac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20:48:58Z</dcterms:created>
  <dc:creator>Martin</dc:creator>
  <dc:description/>
  <cp:keywords/>
  <dc:language>en-US</dc:language>
  <cp:lastModifiedBy>terka</cp:lastModifiedBy>
  <dcterms:modified xsi:type="dcterms:W3CDTF">2008-12-01T21:14:08Z</dcterms:modified>
  <cp:revision>3</cp:revision>
  <dc:subject/>
  <dc:title>Interkulturní manage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83711051</vt:lpwstr>
  </property>
</Properties>
</file>