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84E-79C7-4E1C-8E17-9B3595BF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CC9-2A6C-49CD-B8B9-EFE9943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0F7-D1CE-45E2-B1C2-B35566BC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E1D-E328-4324-A56E-D1EFCF97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2E31-A1BD-4122-A067-DF271FF5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46C-CB7B-49FD-8BDE-75171FE2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DE2A-1139-4D39-82C2-684E742E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418C-3B09-4875-9CC4-FEA930B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CFD1-473D-4C2A-B04E-C2558F37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3DCC-38BF-4D1E-BA48-214FAEE1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6F38-CFE8-4E13-8F07-37FF6EA2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66F-5D7C-42EE-8C77-3C1C2ECD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25CF-CC4C-4F5B-B0C8-2391E65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4C0F-832F-4949-A759-69B8698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C027-8E21-4E36-8085-88E6BDC1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1DAD-FE27-4098-B0FF-573F25F3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DD3F-377D-43C9-BA26-49BA8219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151-2306-4CF3-AD42-94E7ED67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436-FF46-406C-81CB-CF1DB710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3D3-FCFE-414D-9084-69D12302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226-C146-41EB-90FB-12E61DBC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85B-CFBF-4943-9C82-9C19C1B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EC1-9E4F-4554-AD0B-C08C1331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FAE-BE89-4004-B020-6F443D9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08F4-D0B8-43A2-8EDF-64AFF7081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433B-BC56-4AE2-9B44-142699E0F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ehe.cz/" TargetMode="External"/><Relationship Id="rId2" Type="http://schemas.openxmlformats.org/officeDocument/2006/relationships/hyperlink" Target="http://members.tripod.com/~pf_cz/pf8/global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ální kapitalismus versus demokrac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43040" y="44290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87722"/>
                </a:solidFill>
                <a:latin typeface="Arial"/>
              </a:rPr>
              <a:t>Vypracovali: Václav Klein, Robert Kunder, Vít Zouhar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riesk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3 z 5 britských spotrebitelov  su ochotny bojkotovat firmu, kde maju pochybnosti o jej moralnom profile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75% americanov by bojkotovalo obchody, ktore predavaju vyrobky novodobych otrokarov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Úloha medi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28520" y="1428840"/>
            <a:ext cx="6476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Média hrajú klúčovú úloh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Hrozby: komercionalizácia a z nej vyplývajúca krátkodobosť a ohrozená nezávislosť médií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enjamin Barber - Consum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le Barbera – kapitalismus je spojen s určitými kulturními a společenskými hodnotami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– spojení s protestantskou etikou - uměřenost, šetřivost a altru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esloužilo primárně k okamžitému sebeuspokojení, ale k dlouhodobým záměrům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před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642680"/>
            <a:ext cx="647712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ředglobální kapitalismus byl převážně zaměřen na uspokojování existujících potřeb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Vytvářel přibližně takové množství zboží, které lidé potřebovali. Nyní produkuje mnohem více zboží, než lidé potřebují. Nebo není vhodně alokováno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Étos – Globální kapitalism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714680"/>
            <a:ext cx="647712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prvé v dějinách lidstva věří nějaká civilizace, že její ekonomické přežití je závislé na mravech, které podporují infantilitu místo zralosti a odpověd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ěti jsou vedeny ke konzumu a dospělí k infantilitě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ytváření umělých potře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1080" y="1999800"/>
            <a:ext cx="64771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vě části světa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Chudá – nedostatek peněz - množství neuspokojených potřeb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ohatá – dostatek peněz - potřeba vytvářet umělé potřeby. Toho lze ovšem těžko dosáhnout u odpovědných dospělých lidí, kteří se rozhodují na základě racionální volby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Terčem jsou děti a infantilizace dospělých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dospělý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1285920"/>
            <a:ext cx="6477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vláštní druh postpubertální kultury, v níž lidé stále častěji odmítají jednat tak, jak by se předpokládalo vzhledem k jejich věku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Zkrácení dětství, zatímco dospělost přetvořila do postpubertálního životního stylu, v němž se dospělí s pomocí bezuzdné spotřeby snaží zapomenout na to, že jsou dospělí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oderní média – infotainmen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nfantilismus – manipulovatelnost, nezodpovědnost, nedostatek nadhledu, narcismus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antilizace médii – popsáno před Barber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I tam kde je aktivní přístup uživatele: nejhledanější témata na internetovém vyhledavači Google v letech 2001–2005: suverénně Britney Spears, Eminem, Jennifer Lopez, Janet Jackson, Paris Hilton a Harry Potter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Filmy s nejvyšší návštěvností: infantilní hybridy, které mají za úkol přilákat jak děti, tak dospělé – viz Harry Potter, Matrix, nebo Hvězdné války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LOBALIZACE nastupu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70. a 80.léta </a:t>
            </a: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laissez –faire</a:t>
            </a:r>
            <a:r>
              <a:rPr b="0" i="1" lang="cs-CZ" sz="2000" spc="-1" strike="noStrike">
                <a:solidFill>
                  <a:srgbClr val="5e1f08"/>
                </a:solidFill>
                <a:latin typeface="Arial"/>
              </a:rPr>
              <a:t>: popření Keynesovské doktrín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79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argaret Thatcherová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Velká Británie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1981-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Ronald Reagan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(USA)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    …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zastánci názorů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M. Friedmana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F. Hayeka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Přesvědčení, že úspěšné a ničím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eomezené korporace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ás dovedou ke společenské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nirváně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Ideologie se rozšířila do Austrálie, Kanady, Západních zemí Evropy a také do Latinské Ameriky a po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pádu komunismu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i do zbytku světa.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ALE…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emokracie vs. Infantiliza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třebuje ke svému přežití odpovědné lidi, schopné obětí, jakož i občanskou společnost, která se opírá o nejrůznější občanské ctnosti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Max Webber varoval, že honba za bohatstvím, která je zbavena etického kontextu, se stává pouhým sportem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ahrazení Étos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Pokud tento infantilistický étos bez hodnot nebude vystřídán demokratickým étosem a kapitalismus znovu nenastolí rovnováhu mezi ziskem a rovností, rozmanitostí a homogenizovanou spotřebou, aktivním občanstvím a konzumem, bude podemleta nejenom demokracie, ale nakonec i sám kapitalismu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droj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Noreena Hertzová - Plíživý převrat : globální kapitalismus a smrt demokracie; přeložil Robert Bartoš. -- 1. vyd. v českém jazyce. -- Praha : Dokořán, 2003. -- 255 s. ;. ISBN: 80-86569-46-2 (váz.)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Jiří Pehe - Infantilní kapitalismus útočí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he.cz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David Unger - Globální kapitalismus - naděje či hrozba pro lidstvo?. Dostupné on-lin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mbers.tripod.com/~pf_cz/pf8/global.htm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kujeme za pozornost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ak se GLOBALIZACE projevila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vět ovládaný kapitalismem volného trhu, už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nepotřeboval tradiční politické spektrum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nebo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proti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kapitalismu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WTO,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MMF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- Státy žádající podporu se musí podřídit kapitalismu a globalizaci.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Sáty si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konkurují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 v soutěži o získání </a:t>
            </a: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investic soukromého sektoru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daně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chtějí zvyšovat veřejné výdaj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htějí podporovat soukromý sekto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1" marL="660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e1f08"/>
                </a:solidFill>
                <a:latin typeface="Arial"/>
              </a:rPr>
              <a:t>DŮSLEDEK</a:t>
            </a:r>
            <a:r>
              <a:rPr b="0" lang="cs-CZ" sz="1800" spc="-1" strike="noStrike">
                <a:solidFill>
                  <a:srgbClr val="5e1f08"/>
                </a:solidFill>
                <a:latin typeface="Arial"/>
              </a:rPr>
              <a:t>: Vítězství kapitalismu přežila jen jedna světová ideologie: </a:t>
            </a:r>
            <a:r>
              <a:rPr b="1" lang="cs-CZ" sz="2400" spc="-1" strike="noStrike">
                <a:solidFill>
                  <a:srgbClr val="5e1f08"/>
                </a:solidFill>
                <a:latin typeface="Arial"/>
              </a:rPr>
              <a:t>KAPITALISMUS</a:t>
            </a:r>
            <a:r>
              <a:rPr b="0" lang="cs-CZ" sz="2400" spc="-1" strike="noStrike">
                <a:solidFill>
                  <a:srgbClr val="5e1f08"/>
                </a:solidFill>
                <a:latin typeface="Arial"/>
              </a:rPr>
              <a:t>!    ….a to má další DŮSLEDKY…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Růst moci korporac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Otevírání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litika podpory světové ekonomik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Stále větší pohyb kapitál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Revoluce v telekomunikacích- snadnější komunikac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Nízké přepravní náklady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+ Podpora WTO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________________________________________________________        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¼ světových aktiv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spravuj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300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adnárodních korporac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pouze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1 států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má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vyšší HDP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než každá ze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 šesti největších   nadnárodních společností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tržby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těchto korporací představují </a:t>
            </a: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2/3 světového obchodu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=  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roste jejich</a:t>
            </a:r>
            <a:r>
              <a:rPr b="1" lang="cs-CZ" sz="2400" spc="-1" strike="noStrike" u="sng">
                <a:solidFill>
                  <a:srgbClr val="5e1f08"/>
                </a:solidFill>
                <a:uFillTx/>
                <a:latin typeface="Arial"/>
              </a:rPr>
              <a:t> vliv</a:t>
            </a:r>
            <a:r>
              <a:rPr b="0" lang="cs-CZ" sz="2000" spc="-1" strike="noStrike" u="sng">
                <a:solidFill>
                  <a:srgbClr val="5e1f08"/>
                </a:solidFill>
                <a:uFillTx/>
                <a:latin typeface="Arial"/>
              </a:rPr>
              <a:t> nejen na poli ekonomickém</a:t>
            </a: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…   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emná tvář globalizace a kapitalism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adnárodní společnosti se mohou volně prosazovat  v rozvojových zemích-snaha vlád těchto zemí je přilákat-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mezí, nebo zruší regulaci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níží platy a sociální dávky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chází k omezování odpůrců cizích investo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znikají ráje znečištěn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úřady zavírají oči nad porušováním zákonů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Další vady na kráse: 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oste rozdíl mezi bohatými a chudými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nně zemře hladem nebo v důsledku nemocí 6000 dětí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rodej antidepresiv vzrostl za posledních 10 let o 16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róši- smrt z přepracování- ročně cca 10 000 případ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eště o moci korporací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NĚMECKO 1999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árůst zisků za 20 let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90%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v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les výnosů z daní právnických osob o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Lafontain-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okus o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 zvýšení daňové zátěž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eutche Bank, Allianz, BMW, Daimler-Benz, RWE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Lafointain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rezignace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e1f08"/>
                </a:solidFill>
                <a:latin typeface="Arial"/>
              </a:rPr>
              <a:t>BRITÁNIE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ws Corporation R. Murdoch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87-1999 zisk 2,3 mld. dolar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zaplacená daň z příjmu= 0 dolarů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a Rover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ony Blair podpořil BMW 150 mil. liber na zachování pracovních mí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BMW přijalo, ale do roka bez varování závod zavřelo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oj na mezinárodním pol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5e1f08"/>
                </a:solidFill>
                <a:latin typeface="Arial"/>
              </a:rPr>
              <a:t>Echelon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špionážní systém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haleno v roce 2000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Thomson-CSF a brazilské úřady: 1,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Airbus a Saudská Arábie: 5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nercon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X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enetech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Celkem asi 10 mld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5e1f08"/>
                </a:solidFill>
                <a:latin typeface="Arial"/>
              </a:rPr>
              <a:t>WTO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1996 zákaz používání umělých růstových hormonmů v krmivu dobytka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EP odhlasoval v poměru 366:0 hlasů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Rakovina, předčasná puberta, neplodnost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Dovozní bariéra? WTO: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ANO..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uvalení sankcí za 125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Chiquita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přidělila kvótu 10% aby podpořila drobné producenty z Karibiku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stížnost  WTO…opět 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EU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nevyhověla- </a:t>
            </a:r>
            <a:r>
              <a:rPr b="1" lang="cs-CZ" sz="1600" spc="-1" strike="noStrike">
                <a:solidFill>
                  <a:srgbClr val="5e1f08"/>
                </a:solidFill>
                <a:latin typeface="Arial"/>
              </a:rPr>
              <a:t>USA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odvetná opatření za 190 mil. USD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e1f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5e1f08"/>
                </a:solidFill>
                <a:latin typeface="Arial"/>
              </a:rPr>
              <a:t>kabelky, hořčice, ložní prádlo..</a:t>
            </a: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Kauz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Európa vs. Geneticky modifikované potraviny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Shel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Otrocká práca v Hondurase, Bangladéši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Kauza Posilac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Times New Roman"/>
              </a:rPr>
              <a:t>Politická mo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láda podlieha ekonomickým vplyvom, straca doveru a klesa volebna ucast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Dobré meno firmy a spotrebitel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azby spolocnosti na politiku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Chovanie spotrebi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5e1f08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e1f08"/>
                </a:solidFill>
                <a:latin typeface="Arial"/>
              </a:rPr>
              <a:t>Vyjadrenie nazoru cez nakup, alebo na valnej hromade miesto hlasovania vo volbach, pripadne volba zamesnavatela</a:t>
            </a:r>
            <a:endParaRPr b="0" lang="en-US" sz="2800" spc="-1" strike="noStrike">
              <a:solidFill>
                <a:srgbClr val="5e1f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34:04Z</dcterms:created>
  <dc:creator>Zou</dc:creator>
  <dc:description/>
  <dc:language>en-US</dc:language>
  <cp:lastModifiedBy>Zou</cp:lastModifiedBy>
  <dcterms:modified xsi:type="dcterms:W3CDTF">2008-12-08T13:12:25Z</dcterms:modified>
  <cp:revision>5</cp:revision>
  <dc:subject/>
  <dc:title>Target The Market</dc:title>
</cp:coreProperties>
</file>