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ED5-A206-4990-B7D4-4C668410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EDB-3ABA-432A-8556-A3E13EDD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059-9893-419A-BC1E-A661AAB2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5E8-AC39-4652-9048-4F2E6A83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0213-4BAB-4F32-824E-2C459C36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C6B4-9A71-473A-BAF9-CD1D0F4A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9E94-F7E0-4A00-99D2-C64C6C34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A021-E18F-49D3-93A5-CA2D44B3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B937-E943-46DD-AA09-1904E2D5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820C-EA4C-4018-87EC-5ED133A1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4F28-2193-4DA8-8BCF-1D0E8976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746-7B43-4903-ABB8-C6CFD739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6207-005F-46B7-BB08-8855CB0B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7470-B780-4102-A710-33C0AE62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4D66-E132-4AAE-BA24-F4CDF52A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8C29-70E6-45F0-96C9-036DCFF2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B107-0F05-4A2E-A024-A337B366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FF092-E5CC-4D45-A508-20C6239A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1C422-CB87-4957-91AB-C42FA369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BACC7-8EBB-4078-A0AF-330F1EA9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A98FC-6572-48B1-BC49-355D437D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50F73-1F91-4944-8685-D75A2DA8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E38-0E98-4144-A285-E7A4526C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849BE-ABA7-4DF3-A862-1AD7AB84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FCB5D-3F9F-4E6C-B88A-D584A3C0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5C6BA-0FCC-475D-B279-A6BA39BB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A0729-032A-43BD-81D2-AE89DE2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BBF75-747D-4E51-8D99-26CEF98B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E875F-305D-4988-A913-555FD6CB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CB5B9-B8ED-4240-B4F7-2B7F8458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6D285-9983-4EBA-A3A0-3644D8A3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52751E-A60C-42EA-B10A-32E8A2AB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C6221-02E3-4B0D-BA4B-60786AEB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6FA-5447-4000-BC58-B85F5CD1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BD01D-9851-47BB-BD59-5F7F7BC5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43F1A-220B-45A3-88D2-E2E71C45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3B7E1B-24EC-466E-91BC-D735DB65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46F3D-32A8-49AC-97B4-CF1EB6EB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67C02-15A5-4D68-B448-0C2468A9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904DA-3B63-48E3-8FF7-327A5814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FC922-6063-4847-89EF-60463DAB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5601B-13CC-4E06-B2BA-E198F30C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03896-5372-41C1-A5B2-FF234A70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78E2C-170A-4C53-A3E4-37251478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316-809B-47E1-AF36-1C765FE0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FFB48-A2D4-452C-BE44-401D5F92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7C59F-0E15-4284-A984-816B6421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F2972-6C2D-41A2-8BB1-B8D6C497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9D383-EB47-4A04-9679-A98F7806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6BFF6-030A-4E91-848F-3155FBBC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CCECA-ECB5-4EB7-A35F-38D3944E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E2661-32CD-4E06-AC3F-F0599F11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A5912-F2E5-40E5-9ACD-8149E9C5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ECA46-193D-4ACA-99DB-545562B9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0A603-9A4B-4CD2-A9A2-A9B3493A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640-0DD2-419F-A7C0-65190506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D8BE6-5E3A-4D67-B2AB-7CA6F4BC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28CA3-2FC7-476B-BFB6-22D0EFAB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C8E2D-7AF7-40C2-A2BE-EF9A0E39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61922-83CD-4C7C-A058-0DC519E7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1F249-BA04-4B5A-935E-6CD45057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B913E-7845-408E-909C-6C51ED76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74946-6E2D-4A14-865E-9D7CF035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50BCB-DF56-4ED8-AF7E-E4BB1A71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19F8B-B950-47DB-9F10-770B8A9A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80DD1-EADE-43E4-B71B-34FD88CA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401-AB56-46F8-BA74-23B4E8AE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8378A-FA85-4217-8D6D-8CFB3DFF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783ED-668D-442D-AAE1-0F077C2C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4858E-8349-4513-A8C7-3B28F665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92BEA-11E8-4977-8F72-A2197022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36A49-BE90-4002-A6E9-A772E884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95F4D-5B31-4090-9B0E-DB0D4088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A9C8A-65DD-4400-AE1E-8A2B2CBB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F6DC8-DA8D-4B4C-A9ED-92982C6E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40E53-5BC0-42BC-88D8-188578DA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47559-D5DC-4B15-9831-BCB6EB59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CF5-2902-4E84-A191-8C5708BE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7F5203-1E08-42C1-8C2E-186421F7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1F0C5-AFA9-4DCC-828F-A0F870DF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07F7A-48EB-41D1-AD1E-71382D5A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15CC9-2CF9-4063-9C75-3D6DE9A6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42A374-0B27-4E40-8B35-4C118921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25F90-C9AE-479F-BEE8-5EDC7812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16CD0-5453-4B95-A163-842DAECD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51BFD-BF97-4AC2-AD3C-5C1070D8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96E30-831F-4B9D-8DB6-D58B9555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6F543-1165-4D4A-B9D8-8C1C560D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1A9-C9B1-43CB-B685-59764BDD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277DB-9DE5-4C7D-9C61-A4591471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1FF79-07C5-4A38-8432-4763259B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4627B-D9A4-47C3-A3EC-FB3BBE9C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A0AB1-A24E-42E3-8F6F-10AFFCD8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9901-B824-4073-93DB-A33AF0B4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6D41E-6A36-49C2-8F3D-D61E14DF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02AA8-7F95-4036-86DD-7A5A3D83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B7AF-2C1D-4785-8997-1C660AAA67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6D47-9126-40DC-A0F4-109BE8A884AF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C0E9-C25C-496F-8C47-4A0C19B2A3C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92FE-6934-49F4-873C-C29DC524D1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8337-100F-4EBC-9509-5A74CCF07A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349F-406D-4A9A-81A3-C7FF33A9C877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75A5-A69B-42F5-9CFF-D5821CB414E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FEFA-8406-4249-AAE6-A959C88F29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MANAŽERSKÁ ETIKA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ktivity mimo rámec legislativy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STÍNOVÁ EKONOMIK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Černá ekonomika – kriminální aktivity, prostituce, distribuce drog, krádeže, práce načerno a mnoho dalších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Šedá ekonomika – podplácení, nezdaněné příjmy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orup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árek nebo úplatek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áměr, s jakým byl předmět darová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elospolečenský problé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ezinárodní nevládní organizace Transparency International - monitorování korupce v celosvětovém měřítku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R se v roce 2008 umístila na 45. místě z celkových 180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aní špinavých peněz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peníze získané trestnou činnos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Z obchodů s drogami, z vydírání, obchodu s bílým masem, prostituce, pašování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incipem je tyto peníze prohnat řetězcem  nejrůznějších transakcí, aby se na konci mohly vykázat jako legálně získané příjm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dhalování této trestné činnosti ztěžují rozdílné právní systémy v různých zemích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ka manažerské prá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ředpokládá dodržovat určité, v dané komunitě obecně uznané normy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ciálně zodpovědné jednání manaže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rmy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ísemná podob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psaná pravidl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psaná pravidl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anažer prověřuje tyto fil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Utilitarita rozhod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áva a osobní svobod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pravedlnos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 dva poslední se můžou vytvořit pravidl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ontrola dodržování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ála pozornost dodržování specifických etických pravi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formální kontro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yužívání informací důvěryhodných spolupracovní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jlepší pákou na dodržování manažerské etiky je pozornost nadřízených vedoucích pracovníků věnovaná manažerům na nižších stupních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obrý manaž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usí dodržovat značnou sebekázeň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usí pečovat o svou bezúhonno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sobní image manažera = charakteristické rysy jeho chování a vztahů k lid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polupracovníci obvykle hodnotí tyto rysy svých nadřízenýc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vdomluvnost, čestnost, schopnost držet své slovo, ochota „pálit si prsty“za spolupracovníka, vztah k podřízeným, vztah k alkoholu apo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ŮLEŽITÉ!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ílevědomý a náročný manažer bude svým okolím za své jednání málokdy jednoznačně chválen. Může však dosáhnout toho, aby si ho převážná část dobrých spolupracovníků vážila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oužité 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utnová, A., Seknička, P. Etické řízení ve firmě. Praha : Grada, 2007. ISBN 978-80-247-1621-3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lný, I., Lacina, L. Globalizace – Etika – Ekonomika. Boskovice: Albert, 2001. ISBN 80-7326-000-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cké řízení ve firmě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oc. RNDr. Anna Putnová, PhD., MB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hDr. Mgr. Pavel Seknička, Ph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kruh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dnikatelská etika v tržní ekonomice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é hodnoty v ekonomické prax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incipy, nástroje a metody etického řízení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é říz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polečenská odpovědnost firem a její vývo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Etický a sociální aud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uace v České republ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Počátky v 90. letec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1. ½ 90. l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Transformace ekonomik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Společnost pro etiku v ekonomice (NHÚ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Počátek výuky etik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2. ½ 90. l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Učební texty, medializace + průzkum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Výsledky privatizace a akce „Čisté ruce“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Transparency International ČR (korupc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w Cen MT"/>
              </a:rPr>
              <a:t>Etické fór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uace v České republ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1. stole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rovnání s rozvinutými zeměm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tika podnikání jako součást začlenění ČR do E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řízen úřad ombudsma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le TIC hojně vyučován na VŠ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ématu se věnuje i konference v Parlamentu České republik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řístup k podnikatelské et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13880" y="164304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erický vs. evropský přístu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dlišnosti v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di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émanti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aměř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aktické zaměř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iciativa fir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konomické důvod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nížení transakčních náklad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sílení loajality zaměstnanc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tváření a posilování image firm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silování spokojenosti zákazní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ispívání k loajalitě investo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íspěvek k zis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ultivace podnikatelského prostřed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odel morálního rozvoje podniku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oráln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álně-právn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olečensky odpovědná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icky se rodící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ická organ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Společenská odpovědnost v podnikání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ojí v popředí zájmu většiny podnikatelských aktivi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vlivňuje hodnocení podniku okolí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odpovědné chování podniků může zapříčinit ekologickou katastrofu, destabilizovat trh, poškodit zákazníka,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vě základní stránky etického myšlení: individuální a sociální etika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Zástupný symbol pro text 12" descr=""/>
          <p:cNvPicPr/>
          <p:nvPr/>
        </p:nvPicPr>
        <p:blipFill>
          <a:blip r:embed="rId1"/>
          <a:stretch/>
        </p:blipFill>
        <p:spPr>
          <a:xfrm>
            <a:off x="468360" y="0"/>
            <a:ext cx="80643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2:40:20Z</dcterms:created>
  <dc:creator>čtenář</dc:creator>
  <dc:description/>
  <dc:language>en-US</dc:language>
  <cp:lastModifiedBy>snoopy</cp:lastModifiedBy>
  <dcterms:modified xsi:type="dcterms:W3CDTF">2008-12-10T14:57:34Z</dcterms:modified>
  <cp:revision>9</cp:revision>
  <dc:subject/>
  <dc:title>Manažerská etika</dc:title>
</cp:coreProperties>
</file>