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DE4-13F5-42B2-B1AA-B29DA763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299-CFA8-4022-ABDE-056FD74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7C1-0E24-49E9-B49F-67BB3B02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276-C50D-4FCE-9538-D6D92D0B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4DAF-BD81-4A7C-B8D3-004B35A5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A462-B898-4F58-91F9-FB1BB67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741-21E6-40D7-9A46-79DB0E11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16B2-9A95-48A4-B78C-42DDA1F5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336F-5C73-467B-9173-90EC0B4D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A78F-1652-4C2A-8CB2-46B0AD8B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8C7-BFD0-41CD-B7EA-C0BD6F7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DB0-631A-49B6-AB72-FE525CBD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0858-4D8D-4CAF-8498-03EE87E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2CC-EBF6-4F8D-B0CE-59B772E1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DD3-10A4-4DC1-A92C-1A3C8703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B416-0BF4-464E-95A9-AA2589EC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E5B1-D7A0-4D72-A219-043418B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A66-CB6F-4E19-953B-5CD0A6D6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F7E-A11B-40F5-8539-1EA1A93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5DB-76B0-44F2-9C55-D0A488D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9F9-E650-46AD-B2E3-B73CA56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3DC-37D6-4CC3-B82B-734E187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106-D1D1-490F-92A6-18E521D6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092-9CCC-44A9-8C7C-8F7E146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42A3-1D04-47E8-8B67-71024352CBA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6204-39AE-475B-89C1-123A4A4269C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Požadavky na manažery na prahu postindustriálního věku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Citáty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idé, kteří přespříliš mluví, málo dělaj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ět hledá lidi, kteří něco dovedou udělat, a ne lidi, kteří umějí vysvětlovat, proč něco neudělali. Rowlendov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ářet a nevlastnit, působit a nezáviset, být v čele – a neovládat, to je, co nazývám tajemnou ctností. Lao-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Jak lépe myslet?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jčastější chy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totožnos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spor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rušení zákona o vyloučeném třetí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užívání nesprávných slov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mluvi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řed projevem si uvědo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omu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d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 projev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ých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ýška a síla hlas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ba slov + stavba a délka vě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s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ozorno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řazení řeční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Mluv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Žvan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Fráz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iplom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Demag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Pe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Vtipále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Boucher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Gramof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Snaž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Arial"/>
              </a:rPr>
              <a:t>Exhibicionis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Jak lépe psá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ůležitý pravopis a správné rozčlenění prá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rozumitelnost text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lka vě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ba sl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řítomnost sty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obní přiblíž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Stolování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Není důležité, co jím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Čestná míst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izinci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anžel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Koučová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 je kouč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 řízení, vytváří vztah vzájemné podpory mezi koučem a koučovaný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ké prostředky a styl komun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ílem je lepší výkon (odhalení potenciálu koučované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užívání: řešení problémů, v průběhu práce, kontrola, běžný hov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základní principy: vnímání reality, odpově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žer jako kouč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788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pičkový manažer        dobrý kouč (schopnost empatie, objektivnost,ochota změnit dosavadní styl komunik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éf ví co se děje, ale nositel výkonu se rozhoduje sám – převezme odpovědnost (skutečná kontro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jišťuje plnění úkolů i profesionální růst podříze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17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bývali jsme s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definováním požadavků na manažera postindustriálního vě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ak má manažer myslet a jak se cho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kou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Účinné otázky (vnímání realit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evřené otázky nutí přemýš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yslem je zjistit, zda má koučovaný dostatek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ačátek otázek: Co, Kdy, Kdo, Kol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uč by neměl podřízeného vést tam, kam chce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dování řeči tě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oblasti: cíle, prověření reality,možnosti, co – kdy – kdo udělá a jaká je VŮ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pětná vazb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65036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brá zpětná vazba napomáhá učení se a dosahování lepších výsledků (realita, odpovědno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ískávání podrobného nehodnotícího popi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ý musí o odpovědích přemýš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chvala (upřímná, rozumná, soudná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učování tým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47072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zace úkolů (cíle, realita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voj tý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ovaní sami posuzují výkon – disku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č musí jít pří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kud je tým dobrý a členové schopni spolupráce, je možný další rozvoj (tým i jednotliv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9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2133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 brání úspěšnému koučování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548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ější bariéry: nevhodná kultura společnosti, nedůvěřivost lidí, lidé očekávají, že kouč bude dávat příka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nitřní bariéry: obava, že to nebudu dělat dobře, staré dosud fungovalo, jediné, co motivuje lidi, jsou peníze, ztráta aut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itá litera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YRNER, A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Manažerská etika a etiketa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ysoká škola ekonomická v Praze, 2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WHITMORE, J.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oučování – rozvoj osobnosti a zvyšování výkonnosti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aha: Management Pres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MP, Di. Manažer 21. století. Grada Publishing, s.r.o., 2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 jakým změnám došlo v podnicích počátkem 21. století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nížení počtu úrovní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rientace na zákaz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lexibilní pracovní režimy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ac. síla s víceoborovou kvalifik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tý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ružná prac. d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výšení odpovědnosti pracovní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tkodobé cíle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dlouhodob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žadavky na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íše vést než ří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učovat podříz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ovat pravomoci podříze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it přístup podřízených k prá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tné zlo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lňující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valit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vzor pro osta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át sám s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tavně se vzdělá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ládat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i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ně si uvědomovat re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t vysokou úroveň etiky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kračování – kvality manaže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ře komuni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systémo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let pozitiv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ět se nadchn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opravd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Garamond"/>
              </a:rPr>
              <a:t>Změňte své myšlení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- nutnost si přiznat své schopnosti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amyslete se, které z výše uvedených vlastností již máte, a kde je použív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apř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„Když jsem na dovolené s přáteli, jsem velmi opravdový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kud jde o mou zahradu, uplatňuji systémové myšlení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dyž jsem se před rokem začal zabývat …….., měl jsem vizi.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užívání pozitivního myšle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nitřní rozhovor 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upravení našeho vnějšího sta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ipulace tím, co sami sobě říká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utnost být KONSTRU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př.: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„prezentace se mi nepovede…budou kritičtí…“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ff"/>
                </a:solidFill>
                <a:latin typeface="Arial"/>
              </a:rPr>
              <a:t>ANO: „mé prezentace předtím byly úspěšné. Vím, co chci říci. Kolegové jsou příjemní a mají pochopení. …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užívejte metodu napodobování vzorů pro sebe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aké vlastnosti si chcete osvoj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jděte si někoho s danou vlastn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ozorujte jeho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jistěte, na co myslí před a bě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kuste si být přesně jako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řizpůsobte si imit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yzkoušejte to v prax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4:07:42Z</dcterms:created>
  <dc:creator>Radek</dc:creator>
  <dc:description/>
  <dc:language>en-US</dc:language>
  <cp:lastModifiedBy>Tereza</cp:lastModifiedBy>
  <dcterms:modified xsi:type="dcterms:W3CDTF">2008-11-24T00:29:58Z</dcterms:modified>
  <cp:revision>25</cp:revision>
  <dc:subject/>
  <dc:title>Koučování</dc:title>
</cp:coreProperties>
</file>