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B79-7295-42C7-8F97-BB65D066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854-3DC7-4419-A203-2C9507B2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DAC15-EEEE-4EB3-A36A-58E6101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89BA2-EB1A-4218-B4E3-D84CC639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6A0D4-AC6B-4D0C-8440-2AB15FA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8CFFC-DEB3-459A-894F-8946FD2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C001E-A515-40F8-AD46-9F6463D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9AF1D-2634-4A4C-8109-60097DE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D4D4B-B213-4A9C-921F-FB9E7C6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B2E43-B352-46F3-8C9F-B1AAA450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72455-D548-4A05-ACE7-D20045A8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5C22D-CC5E-4426-977A-EE9664A0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13B-86E8-41B7-BF14-AE9B404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37AE2-98F6-4970-969F-8940788A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5C29F-3FD9-45A3-AC98-D417068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E0136-B305-4335-A488-626D0F00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341AE-EA97-4A40-97F5-DF971DA6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1E98E-5CD8-4E51-AFFC-D839DC28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4AFE3-6A0A-4E38-A012-A12187B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BAD17-E8B8-41D1-8BB5-E6D1697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38D76-2CA1-4418-95CF-E3AF835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EA7ED-A901-494A-BB67-9EFBDC21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4C398-7A3A-4C50-BAC8-57547201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AF1-66D8-4062-A78B-8CFD00F9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DD66F-4CA8-494F-95DF-4FB4B90B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4AD55-0AC9-4351-ADB2-381A5D88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379D6-C580-49E4-A5F1-0968FC89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6FCF9-82CD-47FF-A60B-7985251B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3DBD5-EFA8-4C48-8629-365BEFC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93D9-5FB6-44CE-8D81-D96AB60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C644-8269-4026-B2A1-FD555B8E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61158-44B5-4C92-AA59-1FD4472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DD50C-50F7-4A1C-B00C-1BFBE4B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BD4F-7EB4-4415-9646-587070C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E251-8B79-40BD-8AF8-F9442354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ECD6B-9818-47A3-8DAC-DED356CC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B7F66-6D18-42B9-827B-D4DDAFA3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0CCA0-EFA5-4156-9ED9-C0D91ED2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5C803-BC9E-4EA0-AEE0-0DDA601D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A3546-D71E-44CF-AD76-A51F6B7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ECD00A-17E5-4886-A294-0A9765B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B8E0F-2867-4BFF-9BEF-D47C620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082F3-A233-4548-B40D-AB0DC42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75346-F74B-4769-9532-AD0B90E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FF1A2-74DB-43B5-8E64-F04A71E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EDF0-6EF9-42B4-AB07-413EB62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D2583-4417-4CD1-9C8C-8DA25DF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600BE-20B2-41A4-9C7C-132059B5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AD6AA-3E5D-4333-A7F7-1D056DFC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8AA50-92EE-44F1-9329-E6D0ED9C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44EDF-86BB-407A-BF51-3182B71E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5A70-FA89-4468-9B57-3202D58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463-AF6A-4C54-BC10-EB173C8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E48C-855C-4414-B4DC-E5DC9582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7541-A485-4002-90E3-A6D94F6A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BE74-8AB8-4DF7-BDBF-F2A1F7D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23D-B350-42C5-982C-674F863B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D628-D14D-48F5-8ABF-4BA7800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03C8-9BC4-4586-8679-EB28876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3C21-B6CD-4BB3-88FF-7E6242D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C03B-880D-4B90-A39D-63C82B7E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56B-2F98-400E-A020-095A35E1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651F-7F50-432F-8850-3B967C08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53FD6-F32A-4087-9BF9-DA1B231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64E0-95C2-4A46-A96C-BA5F6A06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A2DD-8F87-42E7-B3E6-AF0B3A12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881E-911C-46F3-8E74-B1723461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2A3-413E-4D77-8211-2EDB829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BB99-6364-48D3-8B2E-E20136D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A300-2F62-43FB-9029-50C569C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222D-9C1C-400D-A3D5-2A2A9DB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566D-E21A-4ABD-AC53-1494686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06BA-BC9D-4565-AB62-BE2C708F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D297-6DA8-4F98-B2C4-88E3F86D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5D21-338D-4AE9-ACCE-2CB78E9D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24B0-ABE2-43C2-82A9-AD84EB13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9D48-5367-45EA-BEA4-F6534D9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A0B5-D253-454A-AA56-6829F97E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8D0-0842-475E-B088-1D9F38C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D7E2-42A4-4FF1-A6D6-BDDF85D7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2BA9-55B9-4BD2-A4A4-2F04DFF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F1F9-DA5F-445E-AE5B-426023B6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8D91-C7B9-4CF7-9611-0516E11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7D26-498A-4620-B62A-E7531CE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86A1-B07B-43F4-82D4-A7EB1C8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91794-8ADD-4AE2-AA35-6D1ACAF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950D-CE31-452E-B8C3-BE826A7B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1757-EE5A-4378-B41B-9A225A26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4472-BABC-4615-96FA-3418A65C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639-AC43-45C4-BFC2-812C86F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D084-38A9-46A3-BC97-C5A39C9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16FB-FD67-49EF-B13C-4B719C7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1A4BF-AF49-42E6-9568-7B347F1C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3666-96D7-4348-8C6C-37E8B8D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3995-6668-46D4-BC61-3A5944D5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D42E-1A56-46E3-AC51-B5ACC4E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D758-0E44-4C81-A10F-579F14E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B963-D927-4105-A5A0-1D3A4AC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D6B1-8F7D-4436-84C4-BFED3D05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C27A-A16F-4F69-9ABF-F78EB4D9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BA9-1019-4476-8EE4-03328B2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98E9-EA74-4BE7-9F60-517D0B0D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7C58-5348-4C20-9B92-3E094EEE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FE91-DED9-40B2-8AE6-C09BAADC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C6758-9CF1-4BF9-B493-0B64A71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72FD-6252-4284-848C-CE681C13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4AB8-C547-415E-945D-BE1ACA0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82EA3-7F27-4FC8-90F4-CFB6F1F6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14A0-DC16-4092-A85A-127E3E4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BFDED-45C3-4749-B54C-D252C25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0354-3CEF-40BF-8D2C-905D1ED0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3F1-0E8F-40F2-BBF7-5796512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3ED9-373E-4E23-9181-139BF0BC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74F2-0896-4B57-8B91-BD787735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82C7-988E-40F8-AE05-8906FE54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450F-6E59-43DD-B151-83AA0AF0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2B258-B312-4B86-9743-B92D980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5B6E-86FE-4A94-A3A6-2644087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35BE5-ADC4-486C-9520-048AF3DE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780B-ABBC-4B1C-8228-E9441FF7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0561-6448-4A3B-B7F8-AB64A68A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EC66-9E11-4151-807E-1F5E99B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1A5-5186-43BA-BCF5-BBEA8009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53166-ED62-4522-B9CE-F3F7294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FB60-9773-4877-9ECC-96DAA77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21AA-EC27-48FB-AC23-6ACEBCE0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E05B-5CF9-4F66-85ED-4D314F57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EE7A-6176-4525-881C-E313CA46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BE83-3F05-4385-A3E3-0559CA48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F0491-3BD9-46A0-B134-19864B4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7AB6-2724-4C97-8450-FC086C3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640D-B753-46AE-9C21-657DAF7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F604-D8F7-4EF3-A813-112EECD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C7D-0D66-4B3A-8447-3C0C2A8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9F7E-24D8-4565-972E-10EA9A3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2936-3FE8-408F-AB4C-6F6EE54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6FA14-65C5-499D-8CF0-F1A67419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AA665-B633-44E1-AD5F-656F9DF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35EF-3362-4EFA-B184-27C552B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B169-CC2D-4CFE-9448-818A209A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44E3-8647-4126-A7E8-1441816D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FBDBA-4644-44C0-B5A4-6A403542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D7279-2E7E-4E08-9BC5-8C064C4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9AE3F-1A9B-4935-9EDF-EFBF1F45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D73-9BDA-4FBD-B1A7-8303F1D95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199-8EAD-484B-9098-6168DD67B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5B86-788F-45E8-B225-277B30834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9348-E4F4-4874-9C34-0E84FE786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B915-90D5-4DB4-A8BB-D9FB24CC1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1156-07D7-41EA-B402-BB1B2AE18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382A-743B-4CC5-AFAF-84B2CBD49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77D-8E68-4502-B654-E68F8E1A1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08E0-BFA6-49C1-9D80-623EC13DB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91DE-A5A1-4D12-A0A8-92353DBE6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391-7D8A-4CF6-B425-8FA42F0B5B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EF5-59D6-4BBE-87C9-1FC49E98D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6349"/>
                </a:solidFill>
                <a:latin typeface="Georgia"/>
              </a:rPr>
              <a:t>Organizační kultura a strategi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dnikov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– obchod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k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č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ické strategi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náklad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výrobek/služb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b86"/>
                </a:solidFill>
                <a:latin typeface="Georgia"/>
              </a:rPr>
              <a:t>Zaměření na zákazníka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 x selský rozum a prax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konalý systém řízení neexistuj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yhovuje-li jakýkoli systém pro 70-80% požadavků, pak vyhovuje na 100% - zbytek jsou výjimky, jejich systémové řešení je neefek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aždý podnik musí umět „hasi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ize a strategie jsou všeobecně neproveditelné nebo nerealistick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dotažena na cíle střediska, oddělení, apo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není svázána s dlouhodobými a/nebo krátkodobými alokacemi podnikových zdroj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pětná vazba necharakterizuje strategické záměry, ale jen operativ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Nadpis 1"/>
          <p:cNvSpPr/>
          <p:nvPr/>
        </p:nvSpPr>
        <p:spPr>
          <a:xfrm>
            <a:off x="468360" y="2602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ritické faktory realizace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vytvořena jako SAMOSTATNÝ doku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jasné určení odpovědnosti za naplnění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ní dostatečný a vypovídající set metrik (ukazatelů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zi kulturou a strategií existuje oboustranně determinující vzt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kultury ovlivňuje tvorbu, obsah a realizaci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ah strategie vede k formovaní určitého typu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kultury na strategi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tvorbě strategie respektovat obsah a sílu organizační kultu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liv organizační kultury na proces tvorby a implementace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ři cíleném vývoji strategie ovlivňuje kultura organizace především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Postoj k potřebě formulace strategie a míru opatřování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Zpracování a interpretaci informací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Množství a obsah formulovaných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ýběr z variant strategi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 jako „zástupce“ strategi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b9899"/>
                </a:solidFill>
                <a:latin typeface="Georgia"/>
              </a:rPr>
              <a:t>Soulad mezi kulturou a strategií</a:t>
            </a:r>
            <a:br>
              <a:rPr sz="2900"/>
            </a:br>
            <a:r>
              <a:rPr b="0" i="1" lang="cs-CZ" sz="1400" spc="-1" strike="noStrike">
                <a:solidFill>
                  <a:srgbClr val="7b9899"/>
                </a:solidFill>
                <a:latin typeface="Georgia"/>
              </a:rPr>
              <a:t>(podle Scholz, 1987, s. 85)</a:t>
            </a:r>
            <a:endParaRPr b="0" lang="en-US" sz="1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301680" y="1523880"/>
          <a:ext cx="8534160" cy="4598640"/>
        </p:xfrm>
        <a:graphic>
          <a:graphicData uri="http://schemas.openxmlformats.org/drawingml/2006/table">
            <a:tbl>
              <a:tblPr/>
              <a:tblGrid>
                <a:gridCol w="1878120"/>
                <a:gridCol w="2239200"/>
                <a:gridCol w="2240280"/>
                <a:gridCol w="21765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strate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ační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ab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ág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1)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(2)                                          beze směr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(3)    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řed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(4)                                    určitý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(5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        (6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ý soulad                                           (7)                                        smě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                              (8)                                        směr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lad???                                      (9)                                        směr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liv strategie na kultur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měl by být dominant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se stává pro členy organizace samozřejmou → vznik kultury odpovídající strateg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vorba strategie → utváření kultu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ako „kulturní artefakt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a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ulad mezi obsahem strategie a obsahem kultury je podmínkou dlouhodobé úspěšnosti fi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álem však není naprostá identi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Zdroje, litera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Georgia"/>
              </a:rPr>
              <a:t>LUKÁŠOVÁ, R., NOVÝ, I. a kol. Organizační kultura. Praha : Grada, 2004. ISBN 80-247-0648-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ÁGNER, I.: Systém managementu. Brno: Vydavatelství MU, 2007, ISBN 978-80-210-4264-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LAŽEK, L. Management II. (Sylabus) Brno : Masarykova univerzita, 2006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ciální jev vztažený ke společenstv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evantní pojm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dniková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irem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Organizační kultur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d 70. let 20. s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představuje „tmel společnosti“ a plodí pocit „to jsme my“, čímž působí proti procesům diferenciace, které jsou nevyhnutelnou součástí života organizace. Kultura organizace nabízí sdílený systém významů, který je základem komunikace a  vzájemného pochopení. Jestliže tyto funkce nejsou plněny uspokojujícím způsobem, může kulturavýznamně oslabovat efektivnost organizace.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P. Brosse, J. Hentze 198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Kultura jsou společně vyznávané přesvědčení, postoje a hodnoty, které existují v organizaci. Jednodušeji řečeno, kultura je „způsob, jakým něco děláme.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Georgia"/>
              </a:rPr>
              <a:t>Furnham a Gunter 1993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definice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ři chápání kultury jako způsobu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myslí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kým lidé ve společnosti jednají a myslí (kombinace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naha o zobecněn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ganizační kultura představuje soubor základních předpokladů, hodnot, postojů a norem chování, sdílené členy společenství, které se projevují v jejich myšlení, cítění a chování a v artefaktech (výstupech činností) materiální a nemateriální podoby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       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Vágner I., upraveno podle Lukášková R. a Nový I.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nější projev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ne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Histork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ýty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azyk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eorgia"/>
              </a:rPr>
              <a:t>Artefakty materiální podob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mage podniku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zhled budov, kanceláří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niková uniforma, produkty vytvářené podnikem</a:t>
            </a: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prvky)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avidla společenského sty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dno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o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rmy chování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Zdrojem jejich vzniku je opakovaná zkušenost, či spíše funkčnost určitého způsobu řešení daného problému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kultura (tři úrovně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39640" y="1916280"/>
          <a:ext cx="7993080" cy="4063680"/>
        </p:xfrm>
        <a:graphic>
          <a:graphicData uri="http://schemas.openxmlformats.org/drawingml/2006/table">
            <a:tbl>
              <a:tblPr/>
              <a:tblGrid>
                <a:gridCol w="3095640"/>
                <a:gridCol w="1800360"/>
                <a:gridCol w="3097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RTEFA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ĚDOMÉ,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DNOTY, PRAVIDLA, NORMY CH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ČÁSTEČNĚ VĚDOMÉ, ČÁSTEČNĚ OVLIVNITELNÉ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ZÁKLADNÍ PŘEDPO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úrove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EVĚDOMÉ, SPONTÁNNÍ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ční strateg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24000" y="1557360"/>
            <a:ext cx="853416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lná původní myšlenka nebo vi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ednotná firemní kultura a politi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á strate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26040" cy="4089600"/>
          </a:xfrm>
          <a:prstGeom prst="rect">
            <a:avLst/>
          </a:prstGeom>
          <a:ln w="0">
            <a:noFill/>
          </a:ln>
        </p:spPr>
      </p:pic>
      <p:sp>
        <p:nvSpPr>
          <p:cNvPr id="624" name="Zástupný symbol pro obsah 2"/>
          <p:cNvSpPr/>
          <p:nvPr/>
        </p:nvSpPr>
        <p:spPr>
          <a:xfrm>
            <a:off x="324000" y="3068640"/>
            <a:ext cx="3744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rávně navržené a efektivně fungující proces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ngující princip zpětné vaz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ojem „strategie“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vyjadřují základní představy o tom, jakou cestou budou firemní cíle dosaže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plán naplnění mise a vize společnost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ategie je forma několika scénářů budoucího vývoje a reakcí firmy na jednotlivé možné varianty budoucího vývoje společnosti a jejího okol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7:39Z</dcterms:created>
  <dc:creator>Vajcka</dc:creator>
  <dc:description/>
  <dc:language>en-US</dc:language>
  <cp:lastModifiedBy>snoopy</cp:lastModifiedBy>
  <dcterms:modified xsi:type="dcterms:W3CDTF">2008-12-01T10:24:35Z</dcterms:modified>
  <cp:revision>11</cp:revision>
  <dc:subject/>
  <dc:title>Přirozený a umělý řád</dc:title>
</cp:coreProperties>
</file>