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CE87-57C5-47A2-B40A-8D6C3000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B6DE-8134-40F8-BABC-D33237C1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97BD-44DD-4FB6-8F3F-8A4649540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8911-0A74-4C99-B5F6-C92C31F6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ABA4-0F42-4EA4-B79D-76FDB005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9CFD-21C4-46DA-A4FE-5B9989E5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BB92-66C9-4ED5-B144-3D0BCCB4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AC4A-299B-4E6C-A1C6-E51DEFF9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23A6-88CD-46BB-AD59-9A8A1957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5D38-6A8C-477C-B920-A1E56850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4B3C-0655-4ACA-9B63-E66B97D4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9655-B0F2-484A-AAA4-8EF23320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DF98-A485-455A-8123-8B50703B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BB53-E22C-477D-97B9-3E275706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C3FD-7916-44BE-BB8B-E6726465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D0EC-4D32-4475-97C2-ACD9E350D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1F39-F25F-443B-AED9-658E8AFB7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A184-6EB7-47A1-B700-DC7C4A01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4000-8BE3-4599-BBA4-DB96E2EB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4E5E-ED67-46AB-917D-E278B0FA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08BA-DD6C-4DFE-9B71-4894A2E4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30A3-1F61-4851-AF7C-CC8BD9E9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2A79-C948-49DE-88E0-6D0ACF17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732B-8735-4DB3-80B9-50F45111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59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6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6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753C-D40E-4779-A7A5-E3BE7E3A5B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59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6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6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cf0b2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8D8E-C2AC-46DE-915E-D3ED517C12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modernirizeni.ihned.cz/1-10024700-14172980-600000_detail-02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cf0b2"/>
                </a:solidFill>
                <a:latin typeface="Arial"/>
              </a:rPr>
              <a:t>Management pro 21. století</a:t>
            </a:r>
            <a:endParaRPr b="0" lang="en-US" sz="5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byňek Jančů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ichal Krejč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ichal Pavlí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0b2"/>
                </a:solidFill>
                <a:latin typeface="Arial"/>
              </a:rPr>
              <a:t>Působnost managementu je politicky vymezena </a:t>
            </a:r>
            <a:endParaRPr b="0" lang="en-US" sz="40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ácí ekonomika vymezená národními hranicemi představuje životní prostředí instituc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alita současnosti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rmy s celosvětovou působností své nejvýznamnější činnosti  stále více přesunují do centrál, které potřebnou práci zajišťují pro všechny členy skupin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ěkteré společnosti již nejsou vůbec organizačně členěny na „domácí“ a „mezinárodní“ jednotk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ranice managementu a hranice národních států se už neshodují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Závěr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ranice národních států jsou důležité především jako omezující fakto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ažerskou praxi bude třeba ve větší míře vymezovat spíše z provozního než politického hlediska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Management je interně orientován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Arial"/>
              </a:rPr>
              <a:t>Doménou managementu je interní prostředí organizace → měl by se zabývat pouze vynaloženým úsilím (nebo jen náklady)  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Arial"/>
              </a:rPr>
              <a:t>Vysvětlení rozdílu mezi managementem a podnikatelstvím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ffffff"/>
                </a:solidFill>
                <a:latin typeface="Arial"/>
              </a:rPr>
              <a:t>Realita podle Druckera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Arial"/>
              </a:rPr>
              <a:t>Jakákoliv instituce, která neinovuje a nepočíná si podnikatelsky dlouho nepřežije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Arial"/>
              </a:rPr>
              <a:t>Management se musí soustředit na výsledky a výkonnost organizace →organizovat zdroje organizace k dosažení výsledků mimo organizaci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ffffff"/>
                </a:solidFill>
                <a:latin typeface="Arial"/>
              </a:rPr>
              <a:t>Závěr: </a:t>
            </a:r>
            <a:r>
              <a:rPr b="0" lang="cs-CZ" sz="2500" spc="-1" strike="noStrike">
                <a:solidFill>
                  <a:srgbClr val="ffffff"/>
                </a:solidFill>
                <a:latin typeface="Arial"/>
              </a:rPr>
              <a:t>smyslem managementu jsou výsledky dané instituce, umožnění produkování výsledků ve svém vnějším prostředí 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Správný styl řízení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7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právný styl řízení je takový, který zajišťuje splnění strategických cílů podnik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ynikající firmy nic neomlouvají, nic nezdůvodňují. Od nich nikdy neuslyšíte, že se jim nedařilo, protože vývoj ekonomiky byl proti nim. Jednoduše dělají všechno pro to, aby byly úspěšné"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'Neill, bývalý ministr vlády U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Styly řízení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utoritativ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atriarchál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nformují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rad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operativ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elegují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utonom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03640" y="2205000"/>
            <a:ext cx="1079640" cy="3456000"/>
          </a:xfrm>
          <a:prstGeom prst="upDownArrow">
            <a:avLst>
              <a:gd name="adj1" fmla="val 50000"/>
              <a:gd name="adj2" fmla="val 63725"/>
            </a:avLst>
          </a:prstGeom>
          <a:solidFill>
            <a:srgbClr val="c554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5805360"/>
            <a:ext cx="1944720" cy="503280"/>
          </a:xfrm>
          <a:prstGeom prst="rect">
            <a:avLst/>
          </a:prstGeom>
          <a:solidFill>
            <a:srgbClr val="c554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ěk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0" y="1557360"/>
            <a:ext cx="1944720" cy="503280"/>
          </a:xfrm>
          <a:prstGeom prst="rect">
            <a:avLst/>
          </a:prstGeom>
          <a:solidFill>
            <a:srgbClr val="c554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vrd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Japonské metody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ní v módě propagovat autoritativní sty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pulární „japonské metody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ezentovány jako typicky konsenzuál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e tomu ta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íklady z pra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427640" y="2349360"/>
            <a:ext cx="936360" cy="1224000"/>
          </a:xfrm>
          <a:prstGeom prst="downArrow">
            <a:avLst>
              <a:gd name="adj1" fmla="val 50000"/>
              <a:gd name="adj2" fmla="val 32680"/>
            </a:avLst>
          </a:prstGeom>
          <a:solidFill>
            <a:srgbClr val="c554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Přístup k pracovníkům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írný tvůrčí stres je pozitiv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. Selly, tvůrce teorie stresu: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Lidé se dělí na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ychlé koně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líné želv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1216200">
            <a:off x="5866920" y="3860280"/>
            <a:ext cx="936720" cy="1150920"/>
          </a:xfrm>
          <a:prstGeom prst="upArrow">
            <a:avLst>
              <a:gd name="adj1" fmla="val 50000"/>
              <a:gd name="adj2" fmla="val 30717"/>
            </a:avLst>
          </a:prstGeom>
          <a:solidFill>
            <a:srgbClr val="c554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20353200">
            <a:off x="4572000" y="3860640"/>
            <a:ext cx="936720" cy="1150920"/>
          </a:xfrm>
          <a:prstGeom prst="upArrow">
            <a:avLst>
              <a:gd name="adj1" fmla="val 50000"/>
              <a:gd name="adj2" fmla="val 30717"/>
            </a:avLst>
          </a:prstGeom>
          <a:solidFill>
            <a:srgbClr val="c554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96040" y="5157720"/>
            <a:ext cx="783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stematický, vlídný, ale neúprosný nátl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Přístup k pracovníkům 2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43120" y="5157720"/>
            <a:ext cx="7761240" cy="947160"/>
          </a:xfrm>
          <a:prstGeom prst="rect">
            <a:avLst/>
          </a:prstGeom>
          <a:solidFill>
            <a:srgbClr val="c5543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Čínské přísloví: „Zastřelením jednoho vychováš stovky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26920" y="1844640"/>
            <a:ext cx="7761600" cy="1373760"/>
          </a:xfrm>
          <a:prstGeom prst="rect">
            <a:avLst/>
          </a:prstGeom>
          <a:solidFill>
            <a:srgbClr val="c5543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. Hammer: „Odhodlaně prosazujte disciplínu a týmovou práci.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miřte se s faktem, že ne všichni to pochopí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26920" y="3933720"/>
            <a:ext cx="7761600" cy="520560"/>
          </a:xfrm>
          <a:prstGeom prst="rect">
            <a:avLst/>
          </a:prstGeom>
          <a:solidFill>
            <a:srgbClr val="c5543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nízda odporu musí být zlikvidová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0b2"/>
                </a:solidFill>
                <a:latin typeface="Arial"/>
              </a:rPr>
              <a:t>Zásadní vlastnosti top managera</a:t>
            </a:r>
            <a:endParaRPr b="0" lang="en-US" sz="40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maximálně zvídav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uje odbornou literatur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á cit pro nov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uluje vizi firmy a její strategické cí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á odvahu k iniciování a realizaci změ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ochoten podstupovat přiměřená až vysoká rizik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schopen vést své spolupracovník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Školí své spolupracovník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odborník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0b2"/>
                </a:solidFill>
                <a:latin typeface="Arial"/>
              </a:rPr>
              <a:t>Zásadní vlastnosti top managera 2</a:t>
            </a:r>
            <a:endParaRPr b="0" lang="en-US" sz="40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Intenzivně oboustranně komunikuje se svými spolupracovník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oustředí své úsilí a aktivity na důležité problém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kládá rychlost za důležitý atribut soudobého řízen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lánuje své aktivity na delší obdob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á dobré nervy a dokáže zvládnout st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e disciplinovaný a vyžaduje disciplínu i od ostatní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aměřuje se především na úspěch a nikoliv na to, jak se vyhnout neúspěch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chotně si bere práci naví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Vůdcovství vs. řízení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ětšina z nás se tak zamilovala do leadershipu (vůdcovství), že management byl odsunut do pozadí… vraťme se ke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arému dobrému řízen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“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. Mintzberge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misy a paradigmata managemen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ment pro 21. stolet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měny firem po roce 2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Firma 21. století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"Jsou jen dva typy firem. Ty, které se změní a ty, které zmizí."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. Kot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Jak se mají firmy změnit?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ralizace či decentraliza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ísná organizační struktura či volnější procesní řízení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kusit se nalézt úplně nový styl řízení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lezení odpovědí na tyto otázky a umění je použít rozhodne o budoucnosti (nejen) českých fir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Změny po roce 2000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lný převis nabídky nad poptávkou ve všech odvětví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iční výstavba po celém světě (především v Asi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zniká zákaznická ekonomika =&gt; zákazník už není náš pán, stává se z něj diktá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Vedoucí tendence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nformat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Global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uperturbul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ntelektual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iniatur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ozmanit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Ekolog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Důsledky pro firmy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ůsledná orientace na zákazní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ým svým chováním a aktivita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í vyvolávat nové potřeby zákazník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ymýšlet nové produkty, inovace (úspěšná firma uvádí na trh nové produkty, které pokryjí nejméně 20% celkových trže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í se výrazně odlišit od konku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Důsledky pro firmy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lný top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Řídí firmu na základě jasně formulované strategie (vize, strategické cíle a opera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ákladem jsou znalosti, jejichž rozšiřování dále zajišťuje, a které předstihují znalosti zákazníků i konku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lamuje hranice útvarů =&gt; centrum sdílených znalostí fir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Důsledky pro firmy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Účelná central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šechny procesy ve firmě musí být prováděny pouze jednou =&gt; centrum sdílených služ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eexistují žádné strategické podnikatelské jednotky (závody, diviz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áce se stakeholdery: budování kvalitních vztahů s okolím fi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Procesní kultura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ma provádí pouze ty činnosti, které dokáže nejlépe a nejlevně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ktivity = procesy prostupující různými organizačními útv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 management řídí procesy, ne jednot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ždý proces má svého koordinátora, který odpovídá za celý pro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potřebné procesy jsou nelítostně ruše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ba provádění se snižu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Informační systém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zaměřen směrem ven a na budoucnost fi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možní sledovat náklady a efekty každé aktivity a každého zákazní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lehčuje a zrychluje interní komunika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OUČEK, Z. 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Firma 21. století : (předstihněme nejlepší!!!).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Praha: Professional Publishing, 2005. ISBN 808641988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IRÁSEK, J.A. 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Agenda příštích let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Praha: Profesional Publishing. ISBN 80869460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http://modernirizeni.ihned.cz/1-10024700-14172980-600000_detail-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RUCKER, P.F. 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Výzvy managementu pro 21.století.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ah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: Management Press. 2000. ISBN 807261021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Premisy, paradigma 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misy = determinují co se v oboru považuje za fak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misy tvoří paradigma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digma = všeobecně převažující teori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vzdory jejich významu jsou jen zřídka kdy analyzován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 případě společenských premis neustálé změny X premisy přírodních vě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Premisy 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očáteční premisy managementu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Management jako vědecká disciplín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agement = podnikový managemen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istuje – musí existovat – jediná správná organizační struktu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istuje – jediná správná metoda řízení lidí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raxe managementu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chnologie, trhy a koneční uživatelé jsou dan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ůsobnost managementu je právně vymezen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agement je interně orientová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konomika definována hranicemi národního státu je „životním prostředím“ podniku a jeho managementu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V současnosti nepoužitelné – odtrženost od reality – nutnost přehodnotit - vytvořit nové 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0b2"/>
                </a:solidFill>
                <a:latin typeface="Arial"/>
              </a:rPr>
              <a:t>Management = podnikový management </a:t>
            </a:r>
            <a:endParaRPr b="0" lang="en-US" sz="40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o 30. let – podnikový management – jeden z dílčích oborů všeobecného management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elká hospodářská krize - management  vztahován pouze k podnikům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ealita: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agement se nerovná podnikovému managementu o nic víc než medicína porodnictví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žádné zvláštní rozdíly v úkolech a probléme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ůstovým sektorem 21. století nebude „podniková sféra“ (organizovaná hospodářská činnost) ale pravděpodobně neziskový sociální sektor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Jediná správná organizace 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Arial"/>
              </a:rPr>
              <a:t>to co se prezentuje jako jediná správná organizace se už několikrát změnilo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d 1. sv. v. – formálně organizační strukt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 posledních desetiletích „pád hierarchie“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Arial"/>
              </a:rPr>
              <a:t>Realita podle Druckera: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Arial"/>
              </a:rPr>
              <a:t>existují pouze různé typy organizace – různé přednosti, omezení → různé možnosti použití podle konkrétní situa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2700" spc="-1" strike="noStrike">
                <a:solidFill>
                  <a:srgbClr val="ffffff"/>
                </a:solidFill>
                <a:latin typeface="Arial"/>
              </a:rPr>
              <a:t>smíšené struktury“ - jednotlivci budou muset pracovat v několika organizační strukturách zároveň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Arial"/>
              </a:rPr>
              <a:t>Závěr: </a:t>
            </a:r>
            <a:r>
              <a:rPr b="0" lang="cs-CZ" sz="2700" spc="-1" strike="noStrike">
                <a:solidFill>
                  <a:srgbClr val="ffffff"/>
                </a:solidFill>
                <a:latin typeface="Arial"/>
              </a:rPr>
              <a:t>organizace, která odpovídá svému úkolu 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Jediná správná metoda řízení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Arial"/>
              </a:rPr>
              <a:t>po 1. sv. v.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- lidé pracující pro organizaci = zaměstnanci, na plný úvazek, statut podřízených, nulová nebo nízká kvalifika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Arial"/>
              </a:rPr>
              <a:t>Realita současnosti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stále méně „podřízených“ – vzrůstá počet „pracovníků disponujích znalostmi“= ví o své práci více než kdokoliv jiný v organizaci → společníci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dřízení“ – osvěta „nadřízených“ ve své specializaci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dřízení“ – seznámení „podřízeného“ se situací v celé organiza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možnost mobility pracovníků disponujích znalostmi (vlastníci svých „výrobních prostředků“) – řídit jako dobrovolníky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1. výzvy jejich schopnostem 2. znalost poslání organizace a víra v ně ne 3. přetržité školení 4. potřeba vidět výsledk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Arial"/>
              </a:rPr>
              <a:t>Závěr: 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různé pracovníky je třeba řídit různě stejné pracovníky řídit různě v různou dobu , úkolem je lidi vést, cílem využití konkrétních předností a znalostí každého jedinc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0b2"/>
                </a:solidFill>
                <a:latin typeface="Arial"/>
              </a:rPr>
              <a:t>Technologie a koncepční uživatelé jsou určení a daní  </a:t>
            </a:r>
            <a:endParaRPr b="0" lang="en-US" sz="40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 19. st. a ½. 20. sto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žnost se 100% spolehnout, že technologie existující mimo obor mají ne tento obor minimální vli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zkumná laboratoř může produkovat vše co podnik nebo celý obor potřebu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ečné užití je fixní a neměnné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ita současnost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ždý obor má svou vlastní, unikátní technolog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podnik klíčové technologie z jiných obor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třeba má unikátní charakter ne prostředek jejího uspokojování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vě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chnologie ani konečné užití nejsou základem pro formulaci řídící strategi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em musím  být zákaznické hodnoty  a rozhodnutí zákazníků a rozdělování jejich disponibilních příjmů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f0b2"/>
                </a:solidFill>
                <a:latin typeface="Arial"/>
              </a:rPr>
              <a:t>Působnost managementu je právně vymezena </a:t>
            </a:r>
            <a:endParaRPr b="0" lang="en-US" sz="40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ýchodiska premisy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agement se v teorii i praxi zabývá právnickými osobami → působnost managementu je tedy právně vymezen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jetí managementu jako činnosti založené na přikazovací a kontrolní pravomoci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alita současnosti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konomický řetězec svádí dohromady opravdové partnery (nezávislé instituce s rovností síly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třeba působnost managementu nově definova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Závěr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agement musí být funkčn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usí zahrnovat celý pro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usí se soustředit na výkonnost v každém článku ekonomického řetězc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15:35:40Z</dcterms:created>
  <dc:creator>Michal Pavlík</dc:creator>
  <dc:description/>
  <dc:language>en-US</dc:language>
  <cp:lastModifiedBy>Michal Pavlík</cp:lastModifiedBy>
  <dcterms:modified xsi:type="dcterms:W3CDTF">2008-11-23T16:32:54Z</dcterms:modified>
  <cp:revision>40</cp:revision>
  <dc:subject/>
  <dc:title>Management 21. století</dc:title>
</cp:coreProperties>
</file>