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B8AA2-D441-43DE-ADB7-A29260C4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A284C-9925-4AB8-885E-0ACC0046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358A6-23C0-4848-9EEC-0AB0FB8A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54E9-326C-4911-9E6C-BD128253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A613-31B4-48CB-BA43-F1310CEA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4A9D-E176-48F6-BCAB-576DFC8C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1950-1E31-48DE-9F0B-896D7C96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9445-BC21-426C-8DFA-D55D4098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7B39-423B-47FA-B204-F07E1516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8201-E7FB-46C3-901F-47E41F72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2428-56E1-45B7-9984-AE857BEF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7D4A-B363-470E-BCA2-35673DC3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3C85-EF2C-4C7B-AAFF-478C426A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C01B-E26F-4751-B5C2-29813D8A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2246-0C86-4216-8710-B5095AB8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5A3E-E730-4992-ACA0-136622F1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87A8-0C11-445B-B49D-A2980C9D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CD68-3200-4AE7-BF5B-119C3174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29A69-338D-4D95-85F4-30181D41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5613C-53DA-465D-98E4-25BFB83C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E6414-D7A0-45A7-A951-187F5680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1118-4590-4640-B049-5D0F3622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5A89-33C1-4D5D-B23A-BE068D1F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FD59F-AF15-4053-AEE7-043EB884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8DA4-6879-4607-BE34-D07FDDD10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22E9-42D9-443F-86AF-9C4363B9B7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anagement pro 21. století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79700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vel Br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 Sedlá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a Tome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orické obraty povzbuzující růst kapitá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ankovní úv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PP ( public-private-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po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í silní vlastnící – penzijní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myslová štíhlost – Japons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olňování nejen práce, ale i kapitálu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nalostní umocnění kapit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časnost rozmach smluvní spolupráce, joint ventures, aliance, sítě a řetězce, klastry, licence, frančí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ší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roba produkce odpovídající spotřebě, tedy individualizované, ale ceny srovnatelné s předchozí univerzální výrob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toucí potřeba velkých inov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tahování intelektu do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OT - stará dáma, která si za déle než půl století snad zaslouží úctu, ale výbojný junácký podnik se už o ni ucházet nebude. Nejvýše si ji nechá v záloze, když náročnější pokusy selž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á hierarchie představivosti –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Gary Ha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ina současných procesů zaměřena interně                (restrukturalizace, reengine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stačí dostihnout úroveň, ale vynalézt nové h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určité fázi se objevuje nutnost zásadní obnovy konkurenční základ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utváření budoucnosti nelze používat staré strate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ina důležitých informací mimo vlastní o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erarchie skutečnosti x hierarchie představivosti            (mnoho nových různých názor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uperkonku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 status q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kračování dřívější hranice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kracování doby projektování, konstruování, zavádění nových technolog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stále více myslet na budouc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užně přijímat časté nečeka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7 nových pravidel superkonkurenčního úspěc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šší uspokojení opatřovatelů kapitálu vyvolá zájem na smělém manévr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zůstávat u předvídání, pustit se do smělých doh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pravit překvapení, jež vyvedou soupeře z mí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upovat s krajní rychlo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ěnit přístupy a uvádět soupeře ve zma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pouštět klamná znamení svých záměr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ěnit soustředění sil a prostředků, nečekaně střídat úd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udoucí práce podle Rifk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 má ekonomický smysl jen tehdy, kdy tvoří hodno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oto třeba se povětšině odpoutat od uzavírání smluvního poměru na pevnou dobu a navázat smlouvu o práci na tu dobu, kdy kapitál práci skutečně potřebu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, penzijní záležitosti sám zaměstnan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volená během volna, nebo úhrada více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ůvodně japonská filosofie managementu spočívající ve stálých malých zlepšeních, za která jsou zodpovědní všichni pracovníci podniku, důraz je kladen na kontrolu kvality a zlepšovate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ategie dosažení změny, která vydrž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a malými kroky ke kontinuálnímu zlepš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pojeni všichni zaměstnanci od vedení firmy, až po řadové pracovn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é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plikovat ve všech oblastech živo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esta, která má tisíce mil, musí začít prvním krokem“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La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ovace x Ka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ovace – rychlá, velká, dramatická, radik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masivní propouštění, veliké invest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izen – malé, pohodlné kroky, které vedou ke zlepš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 KA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dení malých otáz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ování malých myšle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ání malých akcí, které zaručují úspě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ešení malých problémů, kdykoliv řešíte kri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ládání malých odm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poznávání malých, ale zásadních momentů, které jiný ignoru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RÁSEK, J.A. Agenda příštích let. Praha : Profesional Publishing. ISBN 80-86946-04-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akademon.cz/source/drucke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URER, R.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esta kaize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BETA, 2005 s.141, ISBN 80-7306-178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říští společnost Petera Druck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Drucker – guru světového managem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á spol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lišná od společnosti 20.stol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á dem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á pracovní s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ý protekcion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oucnost obchodní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á demogra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ychlý nárůst starší pop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ychlé ubývání mladší gene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dnost pod reprodukční hodnotou 2,2 živě narozeného dítěte na ženu v reprodukčním věku (i v Číně a Brazíl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ky – imigrace se stane významnou otázkou ve všech vyspělých zem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onomicky – trh hromadné spotřeby se rozdělí na trhy dva (větší trh zaměřený na střední generaci a mnohem menší trh zaměřený na mladé gener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nalost je vš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í společnost = společnost znal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alostní pracovníci – dominantní skup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hlavní charakteristiky společnosti znalos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omeze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tup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jný potenciál úspěchu jako proh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to tři znaky učiní společnost znalostí vysoce kompetitivní (i globálně kompetitivní – internet umožní všem zákazníkům získávat informace o tom, co je dostupné jinde ve světě a za jakou cenu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ý protekcion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století – pokles sektoru zemědělstv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bjemově je produkce 4x-5x větší než před 1.sv.v., ale v roce 1913 představovala zeměd.produkce 70% světového obchodu, nyní pouze 1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padek zemědělství vedl k rozšíření zemědělského protekcionis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protekcionismus bude mít formu spíše dotací, kvót (než tradičních ce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vděpodobně se objeví regionální bloky vnitřně založené na volném obchodu, avšak silně protekcionistické naven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, NAFTA, Mercosur již směřují těmito smě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doucnost obchodní společ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vební kameny obchodních konfederací: aliance, společné podniky, minoritní podíly, dohody o sdílení know-how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typ organizace bude potřebovat zcela nový typ vrcholového managemen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vrcholový management bude velmi pravděpodobně oddělený a vzdálený orgán a jeho odpovědností bude celá společ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y Petera Druck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604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ětší změny jsou stále před ná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lečnost v roce 2030 bude velmi odlišná od toho, co známe d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bude dominována nebo formována informačními technologiemi. Informační technologie budou důležité, avšak budou pouze jednou z několika nových technologi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álním rysem budou nové instituce a nové teorie, ideologie a problé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792144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roslav A. Jirásek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PŘÍŠTÍCH LE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O VADIS, MANAGEMENT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19640" y="3573360"/>
            <a:ext cx="192564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roky k za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cí manažeři byli znárodněním velkého průmyslu, dopravy a bank nadšeni. Nebýt toho, museli by dlouhá léta čekat, než podniky dosáhnou vydatné akumulace, vyrostou i technicky se vybaví, a oni budou moci ovládat velké produktivní síly. Nyní mohli naráz řešit takové problémy jako koncentrace kapitálu, specializace, zahájení velkorysého technického vývo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ůjci plánů a rozvoje se opírali o americké a sovětské prameny. Byli si  inovačně  téměř rovnocenné. Ale sovětské měli nav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zkum a vývoj se explozivně zvětšoval. Před válkou se počet odborníků ve vědě vykazoval jen jako 3 000, zato v socialistických poměrech stoupl na 200 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5:20:14Z</dcterms:created>
  <dc:creator>user</dc:creator>
  <dc:description/>
  <dc:language>en-US</dc:language>
  <cp:lastModifiedBy>Pavel</cp:lastModifiedBy>
  <dcterms:modified xsi:type="dcterms:W3CDTF">2008-11-26T21:18:46Z</dcterms:modified>
  <cp:revision>14</cp:revision>
  <dc:subject/>
  <dc:title>Stakeholderský přístup k pojetí podniku.</dc:title>
</cp:coreProperties>
</file>