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569-FB73-4F56-82ED-200B9085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285-692A-44E9-A59E-1965EBF4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1F4-E19A-44BB-A235-0D9FBE39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41B-6A14-4136-8F20-6BD42746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5E43-166B-4AEC-AD07-987D11E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A3DC-DE38-4503-A54B-0D784284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6FC-668E-44A2-89F5-C8664780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9A3-6910-4F61-80F1-D6F5907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F427-E106-4B88-A27D-2C0EC24D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2D9-216E-4B42-85A2-0D06922E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705-B9EB-4509-848D-72F6A2E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060-B035-4921-9777-D8D53AA9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B8A-9497-46CA-B553-CD69D5E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3517-7765-45B8-A171-F83C6024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76C7-2045-4788-929C-A938BBE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D88B-5A79-412D-A9D3-145D1EA2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05FC-A00B-4365-A52D-A802C95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74A-DB28-42EB-AAC4-E164D464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1B8-0F57-44F3-8837-DE97114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C06-EEE2-4DE9-A81A-70F09052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B7F-3D21-4C68-8E5A-C077381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E1B-C628-4958-92C5-51C6CD94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060-D082-4B87-94BF-C1588BE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1FA-4A0A-42E3-B0D4-E4F1F74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261-4E8E-44F1-860C-AE044DD080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530-2345-4BBD-88CD-4D2FFDA02C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318944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27280" y="450828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Michal Plač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ndřej Roudnic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Juraj Podhradsk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vlivu prostředí a reakci organizace na prostředí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utoři: T.E.Deal a A.A.Kene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9280" y="2484360"/>
            <a:ext cx="6048360" cy="30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Vztah k tendencím v chování </a:t>
            </a:r>
            <a:br>
              <a:rPr sz="4000"/>
            </a:b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organizace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ompasový model W.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58323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Kval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Hloubk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ozlišit individ. názory a odpověďmi s odkazem na org. kul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Skupinový rozhovor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problém reduková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Analýza dokument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doplněk k ostatní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rojektivní metody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nedokončené věty apo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še bez předem zvolených kritérií hodnocen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Diagnostika org. kultury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vantitativní metody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zor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 zúčastněné/nezúčastněné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tazování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– rozhovor nebo dotazní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y mají standardizovanou podobu – užívány jednotné podněty, u dotazování předem připravené otázky, případně možnosti odpovědí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ílem je změřit četnost výskytu určitých znaků =&gt; nutnost volby znaků relevantních pro obsah kultur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77a4af"/>
                </a:solidFill>
                <a:latin typeface="Garamond"/>
              </a:rPr>
              <a:t>Cíle analýzy org. kultury 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funkčnost OK ve vztahu k výkonnosti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obsah OK ve vztahu ke zvažovaným strategiím firm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soudit kompatibilitu OK s OK jiných organizací – při plánování fúze apo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77a4af"/>
                </a:solidFill>
                <a:latin typeface="Garamond"/>
              </a:rPr>
              <a:t>Utváranie žiadúcej organizačnej kultúry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ostup utvárania O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Riziká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Nové“ výzvy pre OK českých firi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Postup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Prečo utvárať novú OK? (Armstro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roky utvárania O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Jednoznačná a dlhodobo udržateľná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Očakávanie firmy voči zamestnanco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Fyzická podoba (jeden dokumen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Poznanie aktuálnej OK (zníženie nákladov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Informovanie a vzdelanie zamestnancov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Kontrola a sankc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Diagnostika zmien v kultúre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Riziká utvárania OK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jednej zrozumiteľnej stratég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Miera kontinuity/diskontinu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ostatočná operacionalizácia očakávaní voči zamestanan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previazanosť novej OK s jednotlivými činnosťami v podnik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Absencia mocenského promotora zmen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dôslednosť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Nekonzistentnosť OK a N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„</a:t>
            </a: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Nové“ výzvy českým firmám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orientovaná na zákazník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kvalit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OK podporujúca inováci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orientovaná na zákazník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ržná (nie výrobková orientáci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Marketingová (tržná) O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zorec zdieľaných hodnôt a názorov, ktoré pomáhajú jedincovi chápať funkciu marketingu a poskytujú mu normy správania sa.“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16280" y="1585800"/>
            <a:ext cx="4032360" cy="4464000"/>
            <a:chOff x="4616280" y="1585800"/>
            <a:chExt cx="4032360" cy="4464000"/>
          </a:xfrm>
        </p:grpSpPr>
        <p:sp>
          <p:nvSpPr>
            <p:cNvPr id="156" name=""/>
            <p:cNvSpPr/>
            <p:nvPr/>
          </p:nvSpPr>
          <p:spPr>
            <a:xfrm>
              <a:off x="4616280" y="1585800"/>
              <a:ext cx="4032360" cy="446400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2924280"/>
              <a:ext cx="1008000" cy="1728720"/>
            </a:xfrm>
            <a:prstGeom prst="triangle">
              <a:avLst>
                <a:gd name="adj" fmla="val 100000"/>
              </a:avLst>
            </a:prstGeom>
            <a:solidFill>
              <a:srgbClr val="b9c4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723640" y="2997360"/>
            <a:ext cx="1008360" cy="1655640"/>
          </a:xfrm>
          <a:prstGeom prst="triangle">
            <a:avLst>
              <a:gd name="adj" fmla="val 10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580000" y="1483200"/>
            <a:ext cx="2952720" cy="3024360"/>
          </a:xfrm>
          <a:prstGeom prst="triangle">
            <a:avLst>
              <a:gd name="adj" fmla="val 50000"/>
            </a:avLst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076640"/>
            <a:ext cx="8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2852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133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628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0520" y="22050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Ľudia na fr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í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880" y="285264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tre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až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4520" y="35002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jem „KULTURA“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cifický způsob organizace, realizace a rozvoje činností, objektivizovaný ve výsledcích fyzické a duševní práce.“ [Velký sociologický slovník, 1996, s. 547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kvalitu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podnikových štandardov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IS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aramond"/>
              </a:rPr>
              <a:t>Koncepcie TQM </a:t>
            </a:r>
            <a:r>
              <a:rPr b="0" i="1" lang="sk-SK" sz="2800" spc="-1" strike="noStrike">
                <a:solidFill>
                  <a:srgbClr val="000000"/>
                </a:solidFill>
                <a:latin typeface="Garamond"/>
              </a:rPr>
              <a:t>(Total Quality Managemen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77a4af"/>
                </a:solidFill>
                <a:latin typeface="Garamond"/>
              </a:rPr>
              <a:t>OK podporujúca inováci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aramond"/>
              </a:rPr>
              <a:t>Typy inovácií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Technologick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Výrobkov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Poskytovaných služieb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77a4a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Garamond"/>
              </a:rPr>
              <a:t>Organizačné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5003640" y="1916280"/>
            <a:ext cx="0" cy="30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501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722760" y="32734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apacita pre z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9240" y="5013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pä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2133720"/>
            <a:ext cx="2737080" cy="2663640"/>
          </a:xfrm>
          <a:custGeom>
            <a:avLst/>
            <a:gdLst/>
            <a:ahLst/>
            <a:rect l="l" t="t" r="r" b="b"/>
            <a:pathLst>
              <a:path w="1588" h="1641">
                <a:moveTo>
                  <a:pt x="0" y="1641"/>
                </a:moveTo>
                <a:cubicBezTo>
                  <a:pt x="230" y="828"/>
                  <a:pt x="461" y="16"/>
                  <a:pt x="726" y="8"/>
                </a:cubicBezTo>
                <a:cubicBezTo>
                  <a:pt x="991" y="0"/>
                  <a:pt x="1444" y="1331"/>
                  <a:pt x="1588" y="15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Organizační kultura : od sdílených hodnot a cílů k vyšší výkonnosti podniku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Lukášová, R.; Nový, I.; a kolektiv., Praha : Grada, 2004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Marques, C.; Jirásek, F., Praha : Bankovní institut, 1996.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elký sociologický slovník. I, A-O.,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Sociologický ústav (Akademie věd ČR) Praha : Karolinum, 1996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Synergický management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, PLAMÍNEK, J., Praha : ARGO, 2000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Děkujeme Vám za pozornost !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árod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rganizační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a4af"/>
                </a:solidFill>
                <a:latin typeface="Garamond"/>
              </a:rPr>
              <a:t>Pojem „ORGANIZAČNÍ KULTURA“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podniková kultura je soubor hodnotových představ a norem chování, který je produktem managementu podniku a ovlivňuje základní postoje zaměstnanců podniku (je všeobecně přijímán a udržován), projevuje se ve všech oblastech jeho života (…) podniková kultura závisí na podniku samotném, na tom, jak si ji podnik určuje, jak rozšiřuje a kontroluje chování svých zaměstnanců a každodenní normy, které považuje za žádoucí (…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. [MARQUES, F.; JIRÁSEK, F., 1996:248]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cheinův model organizační kultu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Artefak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astávané hodnoty, pravidla a normy chová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3f2fb5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sah a síla kultur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88080" y="1722600"/>
            <a:ext cx="35589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ržního prostřed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profe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zakladatele/vůd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velikosti a délky existence organiza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liv technologi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Organizační kultura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Strategie =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&gt;</a:t>
            </a: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 Kultur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Kultura =&gt; Strategi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Vztah k organizační struktuře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Garamond"/>
              </a:rPr>
              <a:t>autoři: R. Harrison a Ch. Hand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Garamond"/>
              </a:rPr>
              <a:t>4 základní typy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moci – dominantní jedinec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rolí – založena na pravidlech a normách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úkolů – orientace na úko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- kultura osob – členové jsou samostatní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8:50:38Z</dcterms:created>
  <dc:creator>Ondra</dc:creator>
  <dc:description/>
  <dc:language>en-US</dc:language>
  <cp:lastModifiedBy>***</cp:lastModifiedBy>
  <dcterms:modified xsi:type="dcterms:W3CDTF">2008-11-24T21:31:25Z</dcterms:modified>
  <cp:revision>6</cp:revision>
  <dc:subject/>
  <dc:title>Vztah k organizační struktuře</dc:title>
</cp:coreProperties>
</file>