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75B-991A-46BF-BBF7-201376CB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BF2-D3C3-48E1-868A-44DBCAC2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95B-C248-401B-8CD4-13F052E7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CE2-118B-46E0-A189-C5641BB8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4723-24C7-4BC1-899B-0557AB12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AAC2-85B7-4F1E-9C8B-E006FF5F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1EF7-BFAA-477B-BCBE-4FEBBCC1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3EDB-7DFE-4F55-A841-764EBF0D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1602-AE62-4E69-825E-E260C0C9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7252-61DF-4CE9-8B9E-7ED1DCAE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B188-43D0-4812-8885-D17782AD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099-E0DF-4616-AC12-519FABD7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3DD4-394F-457B-843F-B0A37FF3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2643-91C6-4CE0-A0CC-1BC0845E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1269-561D-473B-B29D-0564155D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DED6-D3AD-4432-B693-97A50C5E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F94A-8B0E-4422-8B7D-68463C99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9DA-9711-4BA2-8881-52587364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004-46CB-4975-A193-D08ED33C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9F2-4F5C-4CE8-A723-98743EB4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812-B4A4-4A55-8A91-1BF7B841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165-3E2B-4D15-B337-8E9F7AE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9B4-9B32-43AA-B729-951D9C94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430-D788-4424-83AD-82C5C5AF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B309-77F2-4FAD-87FA-A3A99DFDFA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6948-8D80-4F60-9CA0-5CF48654032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terkulturn</a:t>
            </a: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í managemen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chal Bla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omáš Krá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cela Paulí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eské kultur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izace a flexibil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důvěra vůči pravidlům, formalizovaným postupům, normá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ynalézavost, improviz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aptabil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lkorysost (být nad věcí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jetí kv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entace na sociální vzt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ytvoření soc. klimatu při jedn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cházení s negativními informace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řešení sociálních konflikt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ikularism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České kultur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ifú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opojení jednotlivých oblastí živ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áce a volný č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mocionalita a racionalit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acovní role a vlastní osobn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ormální a neformální struktury, inform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labý komunikační ko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erbální, neverbální komunik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ignály, ironie, nepřímé vyjadřov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asto nízké sebevědomí a sebejisto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lychronie času – více činností najedn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ěmecké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naha vyhnout se rizi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rganizace, normy, postup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aměření na detail, perfekcionism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Funkční hierarch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ěcná orient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rimární věcnost jednání = profesionali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dělování jednotlivých oblastí živ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ilný komunikační kontext, přímá komunik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ebejist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onochronie času, přesné časové rozdělení činnost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nsformační a tržní standar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sou kulturní standardy univerzální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mě západního světa: kulturní standardy tržní ekonomi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mě východní Evropy: transformační kulturní standar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zájemně se přibližu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ormismus ve vztahu k autoritám x Zaměřenost na výsled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eská snaha vše a všechny přežít, snaha všemu se vyvarov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á ochota bojovat za svoje názory – strach z autor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ízení od „zeleného stol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upem času konformismu ubý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ence iniciativy x Inici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lavní problém transform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tivita velkou překážkou – zahraniční manažeři nás mají za nevzdělané a nezkuš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eši si stěžují, ale nic neděla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ib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lektivismus x Individuální výk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měňování podle výk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ebeprezentace, Sebeprosaz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otiv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provizace x Kval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ypicky český fenomé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lokvalifikovaná prá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árové kulturní standardy 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atrný styl interakce x Sebejistá interak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ha vyčkat a nechat soupeře vyložit k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ch nezesměšnit 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ladá generace je na tom lépe než její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asová nepřesnost x Čas jsou pení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říve nebyl kritériem ekonomické efektiv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áce na dvě hodiny rozvržena na celý 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ordinace, logis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rakouské perspektivy 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entace na soc. vztahy a utváření vzájemné důvě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dnání je formální, až ve chvíli, kdy si obě strany věř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obní vztah zárukou oboustranného dodržování do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ůrazňování symbolů statu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rakouské perspektivy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erarchie a autor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kousko: velká pravomoc, schopnost manažerů se okamžitě rozhodn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abs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kdo není kompetentní – dlouhé toky informa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ždý názor doplněn výhrada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ence samostatnosti – důvěra autorit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rodní hrdost, orientace na minul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Pojem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ultura – původ v latinském slově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colere,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což znamená pěstovat, šlechtit, ale i obývat, vážit si, uctív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statné jméno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cultur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vyjadřovalo dříve vzdělávání, kultivování země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icero jej poprvé použil ve vztahu ke kultuře ducha v Tuskulských hovore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ultura tak, jak se zformovala ve starověku – aktivita člověka, cílevědomé úsilí o zdokonalení světa i sebe sama, opozice vůči čisté přirodno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americké perspektivy 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díly v prezentaci vlastních pracovních úspěc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chválí sami se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podceň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Čekají na pochv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ětší strach neudělat chybu, než zájem o úspěch a vítězs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mčina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kulturní standardy z americké perspektivy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lišná očekávání od pracovního zařa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díly v míře vyžadované samostat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postupy musí být schváleny sh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samostatnost – „plav, nebo se utop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kace se zaměstnaneckou organiz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: váží si svého zaměstn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: ze zahraničí vnímáno jako neloajál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Nový, I. – Schroll-Machl, S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Interkulturní komunikace v řízení a podnikání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, Management Press, 1999. ISBN 807261009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Lehmannová, Z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Kulturní dimenze v mezinárodním podnikání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. VŠE v Praze, 1999, ISBN 80707985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Nový, I. – Schroll-Machl, S.: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Spolupráce přes hranice kultur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1. vyd., Praha, Management Press, 2005, ISBN 80726112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Kulturní pluralita současného svě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 světě existuje mnoho odlišných kultur, nikoliv jedna unifikovaná kultu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aždá kultura je jedinečná, navzájem se liší 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hodnotovým paradigmatem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oto paradigma má dva základní determinant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eografické podmí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istorie (události, vlivy, ohrožení atd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Současná podoba kulturní plural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nohost kultur existuje nejenom na horizontální úrovni, ale i na úrovni vertikál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globálního kulturního syst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nadnárodních kulturních systémů (základních světových kultu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národních kulturních 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roveň kulturních systémů etnických skup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Základní klasifikace nadnárodních kulturních útva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pad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fucián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apon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sláms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induist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atinsko-amer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frick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Mezikulturní komunik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ní systémy zásadně ovlivňují způsoby vnímání, prožívání, hodnocení světa, způsoby myšlení a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ultura má 2 aspekty (dle R. Lintona)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jevný: výsledky lidského jed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sobnostní kultura: znalosti, postoje,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Výchova k mezikulturní komunikac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chova k mezikulturní komunikaci je dnes již nezbytn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íl výchovy: komunikovat s příslušníky cizích kultur bez zkreslení předávaných informac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ozvinutí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metaznalosti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jinak také kognitivní seberegulace – schopnost přistupovat k mnoha kulturám najednou, pohybovat se z jedné kultury do druhé bez ztráty osobní kulturní integr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nažer by měl ovládat interkulturní kompetenc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Výchova k mezikulturní komunikaci 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ři základní krok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Pochopení specifiky vlastní kultur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dosažení tzv. kulturního sebeuvědomění (které kulturní determinanty ovlivňují naše vidění svě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Pochopení odlišnosti jiné kultury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pochopení jejich základních rysů. Rozumět jak lidé z jiné kultury vnímají a interpretují skuteč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Komparace obou kulturních model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: oproštění emocionálních reakcí vůči vlastní i cizí kultuře. Jedná se o kulturní nadhled, překonání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etnocentrismu.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ezení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kulturního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šok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České a německé kulturní standard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mpirický výzkum (Nový, Schroll-Machl: Interkulturní komunikace v řízení a podniká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Kritické události –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kvapení, nepochop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ísemné dotazy, diskuze, sebepozorování, expertní posouzení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Arial"/>
              </a:rPr>
              <a:t>   ►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  <a:ea typeface="Arial"/>
              </a:rPr>
              <a:t>vzorce ch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3:18:16Z</dcterms:created>
  <dc:creator>marcela</dc:creator>
  <dc:description/>
  <dc:language>en-US</dc:language>
  <cp:lastModifiedBy>snoopy</cp:lastModifiedBy>
  <dcterms:modified xsi:type="dcterms:W3CDTF">2008-12-02T11:32:17Z</dcterms:modified>
  <cp:revision>8</cp:revision>
  <dc:subject/>
  <dc:title> České a německé kulturní standardy</dc:title>
</cp:coreProperties>
</file>