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F653-212F-4F91-82BB-A4FDEF66F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499C-E2AA-4BEA-B6D6-644B9ED0E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5494-F262-4373-84F1-BCDF07A7C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590-B29B-482A-ADD6-F4C95E86E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DFE-7898-4079-A784-69B291118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BBA-A931-4570-9D82-B626E8801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4F8E-B4FB-41FC-86DB-AE69EABA2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13F6-F13D-4D5C-BDBE-BE10C3BF8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2C50-623C-40B9-A249-E49B70E77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001C-1CB5-4647-ADA9-606220BC3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4F46-DBA8-42DB-B0F3-18529178D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DD1-253A-417A-A44F-C34858BB9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2EEE-2D89-49BF-9BD9-83CA8CAAB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CEE2-3DF9-444C-8161-5AB1DFF41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D5F5-70BE-4970-AC8C-476DB3FE0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BED-ED26-4968-AD11-4350C3C6A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822-E661-4048-A8DC-A1B5803C2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8E73-D90C-416F-B875-17858BA0F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A41-60C1-4A19-87A8-E97EBBB55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D22-2669-4AE5-9322-B70600D69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94F-B9CD-4192-BC67-2E8378537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20AC-4C4C-4FFF-8615-FCFB48D96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6F06-CE76-4CAB-94EB-330A751B5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79A-649A-414D-910A-A5B41513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925-07EC-4F1D-B22F-CB6AE8F8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62E-A3FD-400E-9666-27DC47DC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F61-1C17-49BB-A802-C43AC782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DBD-F3FA-4FC7-A68C-0C8907E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6A9-B1CD-4C09-B1C7-68697BD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69E-D3A6-4E07-88A1-130EAB8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7F8-A563-4B67-BE86-0D34EF12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C5E-E2DE-4F52-8EE5-06E2FFF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8FD-3C45-4AC1-9148-FA3FE5B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FF4-502B-43D2-B679-CBC76BAB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85D-146F-4D20-BE4A-921F430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F89F-2D39-490B-AADA-173391EA29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RGANIZAČNÍ KULTU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d sdílených hodnot a cílů k vyšší výkonnosti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728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Hana Drozd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Klára Ottich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98989"/>
                </a:solidFill>
                <a:latin typeface="Calibri"/>
              </a:rPr>
              <a:t>Bc. Kristýna Trnkov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kultury na strate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strategie na kultu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oulad mezi obsahem strategie a obsahem kultury je podmínkou dlouhodobé úspěšnosti organizace. Ideálem však není naprostá identita, určitá míra konfliktu vytváří prostor pro tvorbu  nových strategi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výkon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íla O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tváří soulad ve vnímání a myšlení pracovní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Usměrňuje chování lid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namená sdílení společných hodnot a cíl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Fixuje organizaci na minulou zkuše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abraňuje myšlení v alternativ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působuje rezistenci vůči změn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Obsah O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ktivuje pracovní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měřuje k naplňování cílů a hodn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Pozitivní vliv kultury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kultur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ontextuálně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rategicky přiměř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daptiv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 přiměřenými manažerskými praktik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řiměřeně silná a harmonizující, stmelujíc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3"/>
          <p:cNvSpPr/>
          <p:nvPr/>
        </p:nvSpPr>
        <p:spPr>
          <a:xfrm>
            <a:off x="4143240" y="3429000"/>
            <a:ext cx="47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EXISTUJE JEDINNÁ NEJLEPŠÍ VÍTĚZNÁ K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D.R. Deni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l soupeřících hodnot“ B. Quinna a J.Rohrbaugha (CVM – Competing Values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řet kultur a jeho vliv na výkonnost organiz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Uvnitř organizace může existovat několik subkultur, nebo se může firma zapojovat do vztahů s jinými firmami a jejich OK na úrovn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ubkultur v rámci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K v rámci domácích fúzí, akvizicí a jiných forem spolupráce fir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rganizačních i národních kultur v rámci mezinárodních fúzí, akvizicí a jiných forem mezinárodní spoluprá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Jak předejít střetů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ologi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) Ve vztahu k 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F. Trompenaa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) Ve vztahu k vlivu prostředí a reakci organizace na prostřed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soffova typ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Milese a C.C. Sno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ypologie R.E. Quinna a jeho spolupracovník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) Ve vztahu k chování organiz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mpasový model W. H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eorie „krychle 2S“ R. Goffeeho a G. Jone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R. Harrisona a CH. Han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7151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ypologie T.E. Deala a A.A. Kennedyh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1336680"/>
            <a:ext cx="81435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gnostik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a specifikace teoreticko – metodologických východis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ba výzkumných met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jednotky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Může mít trojí účel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funkčnost OK ve vztahu k výkonnosti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obsah OK z hlediska předností a omezení vůči zvažovaným strategickým alternativám (při vývoji firemní strategie) či vůči plánovaným organizačním změná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oudit kompatibilitu (spojitelnost) kultury dané organizace s kulturou jiných organizací (při plánování fůze, akvizice či jiné formy strategické spoluprá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stup utváření žádoucí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dnoznačná, srozumitelná a dlouhodobě udržitelná strate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očekávání firmy vůči zaměstnanců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ormulace rozhodujících parametr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eskripce a hodnocení současné OK organizace v rozhodujících dimenzích, vážících se ke strategii fm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mezení nejdůležitějších oblastí podnikového řízení, které bezprostředně souvisejí s OK a mají charakter podmínek jejího dosaž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formování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zdělávání, vysvětlování, trén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ontrola, sank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agnostika změn v kultu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sou dva základní přístupy k vymezení pojm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Interpretativní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čím organizace je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Objektivistický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 – „něco, co organizace má“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Calibri"/>
              </a:rPr>
              <a:t>Zobecněn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rganizační kultura je soubor základních předpokladů, hodnot, postojů a norem chování, které jsou sdíleny v rámci organizace, které se projevují v myšlení, cítění a chování členů organizace a v artefaktech (výtvorech) materiální i nemateriální povah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iz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jasné a srozumitelné strate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rozhodnost v rozsahu kontinuity a diskontin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operacionalizace očekávání, požadavků vůči zaměstnanc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nové/žádoucí kultury s jednotlivými personálními činnost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bsence mocenského nebo odborného promotora změ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ůsl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provázanost s ostatními měkkými a zejména tvrdými faktory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konzistentnost organizační a národní kultury či kult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dostatečná identifikace manažerů s žádoucí kulturou, zpochybňování manažers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átkodobá orient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á kultura navž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liš silná identifikace s novou kultur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UKÁŠOVÁ, R., NOVÝ, I. a kol. Organizační kultura. Praha: Grada, 2004. ISBN 80-247-0648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fstede, Geert, Kultury a organizace : software lidské mysli : spolupráce mezi kulturami a její důležitost pro přežití / Geert Hofstede a Gert Jan Hofstede ; [překlad Luděk Kolman], Praha : Linde, 2007, 335 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ein, Edgar H., Psychologie organizace, 1.vyd.  Praha: Orbis, 1969, 161 s. (Malá moderní encyklopedie ; 6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ky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Artefak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 předpokl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odno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ormy chová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Jazy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istorky a mý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vyky, rituály, ceremoniá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rdinov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Firemní architektura a vybaven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je multidimenzionální j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 jsou strukturované do několika ro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tefakty a chování považují za vnější rovinu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gar Sch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.P. Kotter, J.L. Heskett a G. Hofst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. Hall, C. Lundbe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a síla 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= základní předpoklady, hodnoty a normy chování sdílené v organizaci, navenek manifestované prostřednictvím chování a artefa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íla = nakolik je obsah kultury sdílen v organiz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nik a vývo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droje O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liv národní kultu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é a tržní prostředí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fe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kladatel/vůd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likost a délka existence organiz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kladním mechanismem vzniku a utváření OK je organizační učení – redukce úzkosti a pozitivní posilování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jedin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tah k O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označ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apjat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tajené dodrž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tevřené nedodržov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dé si vybírají organizaci, pro kterou chtějí pracovat, na základě podobnosti mezi jejich individuálními hodnotami a hodnotami deklarovanými organizac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K 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 nefunguje izolovaně, ale je ve vzájemných vztazích s organizační strategií a struktur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 a realizace strategických rozhodnutí a plánů je záležitostí lidí, kteří jsou nositeli určitých předpokladů, hodnot, názorů a norem chová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ma základními kroky strategického řízení jsou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mplemen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Tvorba strate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ní strategické analý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nalýza vnějšího okolí a vnitřních zdrojů a schopnost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 formulace 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běr optimální varia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9:05:05Z</dcterms:created>
  <dc:creator>KRI</dc:creator>
  <dc:description/>
  <dc:language>en-US</dc:language>
  <cp:lastModifiedBy>KRI</cp:lastModifiedBy>
  <dcterms:modified xsi:type="dcterms:W3CDTF">2008-12-03T19:47:26Z</dcterms:modified>
  <cp:revision>19</cp:revision>
  <dc:subject/>
  <dc:title>ORGANIZAČNÍ KULTURA  - Od sdílených hodnot a cílů k vyšší výkonnosti podniku</dc:title>
</cp:coreProperties>
</file>