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448C-CFAF-46AB-821F-7F246277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9883-68CF-423D-A06B-D071DF2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36C8-4936-4161-906E-AD32C563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D88D-3890-448B-9610-B2CD72FC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6223-8057-4969-845E-97FDF07A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2F3-6D06-45C5-A8F2-7C2398D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77CB-3D20-407D-A574-ABE8267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4D10-600E-4DB6-A4B9-6ACD28E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313-0971-4017-988F-2DD2C19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09A8-3010-477F-8050-2E98350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A47E-87BB-4349-83E9-62B8653C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2679-0743-40CD-8F97-C3EC1609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B3E-64A6-432C-BEB6-FED25DB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FF4-7096-4A3C-98AE-96CD9D9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B6B-E8CF-4839-804B-AC18670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20C-AFB8-40E3-ACA8-C9D862D3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3BD-B2E0-4CA1-B65A-69C721D8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1A15-04BA-42D7-80FC-23F4276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4B7B-7CAB-432B-9CCE-CF82BF9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2F2B-221B-4FD3-955B-28C8F73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F1B6-E6A8-4263-81CD-6EE6A5B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0095-6CF1-4F23-9BEE-0ACA623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DDFD-7780-47B4-9637-E230FD3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32B7-1E02-4AFA-8CE1-F321891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3A5-EA8E-40A8-8122-88F1712F0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A96E-E239-479A-A643-578E4882F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ické obraty povzbuzující růst kapitá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nkovní ú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P ( public-private-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silní vlastnící – penzij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ová štíhlost – Japon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ňování nejen práce, ale i kapitálu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ní umocnění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ost rozmach smluvní spolupráce, joint ventures, aliance, sítě a řetězce, klastry, licence, frančí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oba produkce odpovídající spotřebě, tedy individualizované, ale ceny srovnatelné s předchozí univerzální výrob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toucí potřeba velkých ino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tahování intelektu d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 - stará dáma, která si za déle než půl století snad zaslouží úctu, ale výbojný junácký podnik se už o ni ucházet nebude. Nejvýše si ji nechá v záloze, když náročnější pokusy selž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hierarchie představivosti –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Gary Ha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současných procesů zaměřena interně                (restrukturalizace, re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tačí dostihnout úroveň, ale vynalézt nové h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určité fázi se objevuje nutnost zásadní obnovy konkurenční zákla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tváření budoucnosti nelze používat staré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důležitých informací mimo vlastní o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 skutečnosti x hierarchie představivosti            (mnoho nových různých náz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perkonku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račování dřívější hranice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acování doby projektování, konstruování, zavádění nových techn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stále více myslet na 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ě přijímat časté nečeka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7 nových pravidel superkonkurenčního úspě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šší uspokojení opatřovatelů kapitálu vyvolá zájem na smělém manévr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zůstávat u předvídání, pustit se do smělých doh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pravit překvapení, jež vyvedou soupeře z mí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povat s krajní rychl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přístupy a uvádět soupeře ve zma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ouštět klamná znamení svých zámě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soustředění sil a prostředků, nečekaně střídat úd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oucí práce podle Rifk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má ekonomický smysl jen tehdy, kdy tvoř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to třeba se povětšině odpoutat od uzavírání smluvního poměru na pevnou dobu a navázat smlouvu o práci na tu dobu, kdy kapitál práci skutečně 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, penzijní záležitosti sám zaměstn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ená během volna, nebo úhrada více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ě japonská filosofie managementu spočívající ve stálých malých zlepšeních, za která jsou zodpovědní všichni pracovníci podniku, důraz je kladen na kontrolu kvality a zlepšovat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dosažení změny, která vydr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malými kroky ke kontinuálnímu zlepš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i všichni zaměstnanci od vedení firmy, až po řadové pracov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é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plikovat ve všech oblastech živ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, která má tisíce mil, musí začít prvním krokem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x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ce – rychlá, velká, dramatická, radi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asivní propouštění, veliké inve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 – malé, pohodlné kroky, které vedou ke zlep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dení malých otáz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malých myšl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ání malých akcí, které zaručují úspě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 malých problémů, kdykoliv řešíte kr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ádání malých od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oznávání malých, ale zásadních momentů, které jiný igno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SEK, J.A. Agenda příštích let. Praha : Profesional Publishing. ISBN 80-86946-04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kademon.cz/source/druck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URER, R.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 kaiz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BETA, 2005 s.141, ISBN 80-7306-178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ští společnost Petera Druck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Drucker – guru světového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išná od společnosti 20.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pracovn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ý nárůst starší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é ubývání mladší 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nost pod reprodukční hodnotou 2,2 živě narozeného dítěte na ženu v reprodukčním věku (i v Číně a Brazíl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y – imigrace se stane významnou otázkou ve všech vyspělých zem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y – trh hromadné spotřeby se rozdělí na trhy dva (větší trh zaměřený na střední generaci a mnohem menší trh zaměřený na mladé gene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lost je v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í společnost = společnost zna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lostní pracovníci – dominant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hlavní charakteristiky společnosti znalo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ez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up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jný potenciál úspěchu jako proh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to tři znaky učiní společnost znalostí vysoce kompetitivní (i globálně kompetitivní – internet umožní všem zákazníkům získávat informace o tom, co je dostupné jinde ve světě a za jakou cen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století – pokles sektoru zemědělstv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mově je produkce 4x-5x větší než před 1.sv.v., ale v roce 1913 představovala zeměd.produkce 70% světového obchodu, nyní pouze 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padek zemědělství vedl k rozšíření zemědělského protekcionis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protekcionismus bude mít formu spíše dotací, kvót (než tradičních c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děpodobně se objeví regionální bloky vnitřně založené na volném obchodu, avšak silně protekcionistické nave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, NAFTA, Mercosur již směřují těmito sm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ební kameny obchodních konfederací: aliance, společné podniky, minoritní podíly, dohody o sdílení know-how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yp organizace bude potřebovat zcela nový typ vrcholového managem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vrcholový management bude velmi pravděpodobně oddělený a vzdálený orgán a jeho odpovědností bude celá spole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y Petera Druck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ětší změny jsou stále před ná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v roce 2030 bude velmi odlišná od toho, co známe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ude dominována nebo formována informačními technologiemi. Informační technologie budou důležité, avšak budou pouze jednou z několika nových technolog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álním rysem budou nové instituce a nové teorie, ideologie a problé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7921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lav A. Jirásek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PŘÍŠTÍCH L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O VADIS, MANAGEME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92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ky k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cí manažeři byli znárodněním velkého průmyslu, dopravy a bank nadšeni. Nebýt toho, museli by dlouhá léta čekat, než podniky dosáhnou vydatné akumulace, vyrostou i technicky se vybaví, a oni budou moci ovládat velké produktivní síly. Nyní mohli naráz řešit takové problémy jako koncentrace kapitálu, specializace, zahájení velkorysého technického vývo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ůjci plánů a rozvoje se opírali o americké a sovětské prameny. Byli si  inovačně  téměř rovnocenné. Ale sovětské měli nav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kum a vývoj se explozivně zvětšoval. Před válkou se počet odborníků ve vědě vykazoval jen jako 3 000, zato v socialistických poměrech stoupl na 2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Pavel</cp:lastModifiedBy>
  <dcterms:modified xsi:type="dcterms:W3CDTF">2008-11-26T21:18:46Z</dcterms:modified>
  <cp:revision>14</cp:revision>
  <dc:subject/>
  <dc:title>Stakeholderský přístup k pojetí podniku.</dc:title>
</cp:coreProperties>
</file>