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866-51FF-414F-8441-BA438AC8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F32-43E6-4C06-B11E-AD7665B7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9B4-70D3-4E3A-9A0D-65CFB552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884-4BD1-4733-86F7-4157CDB2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8743-5BBD-485E-AAD8-9CA301E9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B7A0-0617-4764-9DBC-E37ED637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EA14-C02F-4AD7-AF09-636FAB8F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234D-588D-417A-AC76-5E50518C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5674-4729-404E-9C16-68C8ACF0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DF9F-2528-475F-A405-D3A6FDCD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30AD-F5E8-490D-815E-87B2D82F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5F3B-838E-47DD-9787-7FF222F4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C72D-CAE5-4CA1-976B-E43E37D2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3B2F-CB8F-47E4-80D3-42EF7026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5911-AD8A-42B5-94D4-70AB23AD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A752-F542-453F-B255-22797404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B36C-057D-4246-A915-CC8141DA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871-CDA3-4427-971B-54703DA5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31F-78CD-43B9-81E3-CCA9803A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E2B-7E3C-4928-A215-BF2FC9C4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60F-AEA3-4977-968B-6C6023EE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1EB-A838-4333-8812-E37EAB29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581-47A0-4CFC-94F1-75B034BB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622-1362-4B31-B47B-D853A646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9359-9DB0-4D4A-940F-EAE5CC2ED60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3024-CD73-4EE8-9454-F50679F16B3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ývojové trendy podniků a jejich řízení na prahu postindustriálního věku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484360" y="4508280"/>
            <a:ext cx="3960720" cy="1152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atália Čech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Tomáš Jelíne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náta Kaszper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rientace na špičkové výsledky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Buď jste v tom, co děláte, nejlepší, nebo to nebudete dělat moc dlouho“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J. Wel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4437000"/>
            <a:ext cx="4032000" cy="2014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osmické tech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ektron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le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formační tech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tecký průmy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tomatizace a robot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brojní průmy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4437000"/>
            <a:ext cx="4032360" cy="2014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dravotnictví vč. Výroby lé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organická chem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ýroba vědeckých přístroj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ýroba motorů a turb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vé materiá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iotech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ysoká výkonno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Firma, která chce trvale vítězit, musí mít alespoň dvojnásobnou výkonnost, než je průměr daného odvětví.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deněk Souč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kazatele úspěšnost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rátkodobý zis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louhodobý zis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rycí příspěv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kazatel podílu na trh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měrové ukazatele (ROI, ROCE, ROE, FCF, ROS, EV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kazatele vztahy k zákazníků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áklady na vzděl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čet zlepšovacích návrh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řidaná hodnota na pracovní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4724280"/>
            <a:ext cx="72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uropean Consulting Institut používá 516 ukazatelů (Šmejkal, V.: Ukazatelé výkonnosti, European Consulting Institut, 200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oužívání moderních metod management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981000"/>
            <a:ext cx="2232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Swot analý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ontro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afeteria systé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epor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orterův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060640"/>
            <a:ext cx="341928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ranchi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ac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orfa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acilit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Enviromental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2349360"/>
            <a:ext cx="187164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Out plac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Outsorc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Just i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a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708280"/>
            <a:ext cx="435636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Joint Ven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uman Resource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ey Account Customer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Total Qualit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Target Co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3213000"/>
            <a:ext cx="435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ross Doc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lust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Balance Score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A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Activity Based Co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48000" y="148428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Interní aud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orporate Gover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orporate Social Respons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er Based Co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er Relationship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48000" y="227664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er Service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everzní au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evit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isk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ozhodovací stro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48000" y="314172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roject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rocesní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ublic Private Part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ublic Re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CP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8000" y="414972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P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V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an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86064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Logistic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ke or Bu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pa vnímaných hodn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BC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EQ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458136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ey Account Customer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Lean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Goldratova teorie 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E-commerce, E-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lš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právné produkty a jejich znač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nalosti základem úspěch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fektivní portfolio a core busi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ychlost a pruž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ýkonnostní motivační systé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Centraliz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rocesní říze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ovativ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tváření síly podniku fúzemi, akvizicemi, aliancemi, sítěmi, formováním virtuálních podnik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celený systém řízení a plánová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užívání moderních informačních technologi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spektování zásad Corporate Governance, principů etiky, společenské odpovědnosti a ekologičnost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Kvalifikované strategické říze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Management inovac</a:t>
            </a:r>
            <a:r>
              <a:rPr b="0" lang="sk-SK" sz="6600" spc="-1" strike="noStrike">
                <a:solidFill>
                  <a:srgbClr val="ccecff"/>
                </a:solidFill>
                <a:latin typeface="Arial"/>
              </a:rPr>
              <a:t>í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Firemní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ultura</a:t>
            </a: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 a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edpoklady pro inovační proces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ástroje implementace proinovační firemní kult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lánování a rozpočtování inov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rganizace inovačních činností ve firm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edení personálu k inovací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Firemní kultura a předpoklady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</a:t>
            </a: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 inovační proces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iremní kultur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jet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ziti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gati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klad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odnoty (USA X Japonsk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žadavky na silnou firemní kultu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vůrčí inovační kli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Řízení firemní kult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Nástroje implementace proinovační firemní kultur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Činnost top managemen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osažení konsensu top managementu podni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íprava na vyhlášení Zásad firemní kult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ástro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formační nástro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rganizační nástro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ersonální čin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zdělávací nástro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Plánování a rozpočtování inovac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jetí plánování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ýběr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terní podněty k plánování a rozpočtování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ntrola inovační výkon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 se dneska dozví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incipy úspěšné firmy 21. stole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nagement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Podpora tvořivého myšl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Stimulace a motivace v 21. stole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acionálně řídit a organizav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Organizace inovačních činností ve firmě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dpodniková organizace inovac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rganizace inovací ve firm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užné organizační strukt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rganizace inovačních projekt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rganizace inovační činnosti v nevýrobní sféř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edení personálu k inovací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le tvůrčích pracovní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Řízení tvůrčích pracovní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otivace tvůrčích pracovní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jetí inovační zaměstnanecké politi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klady známých manažerů - inovátor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Zvítězíme i v </a:t>
            </a:r>
            <a:r>
              <a:rPr b="1" lang="sk-SK" sz="6600" spc="-1" strike="noStrike">
                <a:solidFill>
                  <a:srgbClr val="ccecff"/>
                </a:solidFill>
                <a:latin typeface="Arial"/>
              </a:rPr>
              <a:t>globální</a:t>
            </a: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 ekonom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612576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Podpora tvorivého myslen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Kreativita ako nový fenomén postindustriálnej é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Stimulácia a motivácia v 21. storoč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Manažér vedie ľudí po svojej ces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Racionálne riadiť a organizova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Forma musí dostať svoj tv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Zá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ecff"/>
                </a:solidFill>
                <a:latin typeface="Arial"/>
              </a:rPr>
              <a:t>Podpora tvorivého mysle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Logika je dobrá, ale nestačí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De Bo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Ten z druh</a:t>
            </a:r>
            <a:r>
              <a:rPr b="1" i="1" lang="cs-CZ" sz="3200" spc="-1" strike="noStrike">
                <a:solidFill>
                  <a:srgbClr val="ffffff"/>
                </a:solidFill>
                <a:latin typeface="Verdana"/>
              </a:rPr>
              <a:t>ů, který přežije, není ten nejsilnější, ani nejinteligentnější, ale ten, který nejlépe reaguje na změny.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                                          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Charles Darw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ecff"/>
                </a:solidFill>
                <a:latin typeface="Arial"/>
              </a:rPr>
              <a:t>Podpora tvorivého mysle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ffffff"/>
                </a:solidFill>
                <a:uFillTx/>
                <a:latin typeface="Verdana"/>
              </a:rPr>
              <a:t>Kreativita ako nový fenomén postindustriálnej éry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Odtraňovať bariéry ľahostaj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Stvorivý st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Jeho vplyv a využiti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-  Zavádzanie a riadenie nových metód managementu a inováci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timulácia a motivácia v 21. storoč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Základvem úspěchu 21. století jsou nadšení, kvalifikoaní a loajální pracovníci.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Z. Souč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Není nic důležitějšího než vědet, jak získat a motivovat vynikající lidi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Claudio Araz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ccecff"/>
                </a:solidFill>
                <a:latin typeface="Arial"/>
              </a:rPr>
              <a:t>Stimulácia a motivácia v 21. storoč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 u="sng">
                <a:solidFill>
                  <a:srgbClr val="ffffff"/>
                </a:solidFill>
                <a:uFillTx/>
                <a:latin typeface="Verdana"/>
              </a:rPr>
              <a:t>Manažér vedie ľudí po svojej ces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Ako? Kedy? Koho? Preč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Pochopenie významu stimulácie v novej dob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dea, peniaze a individuálne riešen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ásady, stabilita a priehľadnosť stimulác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Racionálne riadiť a organizova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Firma, která chce obstát v globální konkurenci musí být štíhlá, rychlá a transparentní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   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. Souč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Základní úlohou vůdce je být trubkou, která vydává jasný zvuk. Musí být jako hlas polnice, vyzývající k útoku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     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. Druck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ccecff"/>
                </a:solidFill>
                <a:latin typeface="Arial"/>
              </a:rPr>
              <a:t>Racionálne riadiť a organizovať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 u="sng">
                <a:solidFill>
                  <a:srgbClr val="ffffff"/>
                </a:solidFill>
                <a:uFillTx/>
                <a:latin typeface="Verdana"/>
              </a:rPr>
              <a:t>Forma musí dostať svoj tv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medzenie kompetenci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novenie priorí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elegov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 ako na t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ákladní rozvojové tendence      21. stolet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uperkonku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uperturbul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format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telektual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lobal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ilitantnost a teroris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zmanit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iniatur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enet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zšíření AIDS a některých dalších obtížně zváldnutelných choro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Zá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Směr managementu v 21. storoč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mnoho ciest k úspec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Umenie managemen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nájsť práve tých niekoľko správny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OUČEK, Z. Firma 21. století. Praha : Profesional Publishing. ISBN 80-86419-88-6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 dalš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Úspěšnost fir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istuje univerzální recept?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existuj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Jsou jen dva druhy firem. Ty, které se změní a ty, které zmizí“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Kotl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Úspěšnost fir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Nenapodobujme nejlepší! Nechme se jejich příklady inspirovat k tomu, abychom je předstihli! Jen celosvětová konkurenceschopnost zajistí trvalé přežití a rozvoj firmy.“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Zdeněk Souč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 globální ekonomice vítězí ten nejvýkonnější a nejlepší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bsolutní orientace na zákazník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“ …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musíme se naučit přejít od zaměření na výrobu k zaměření na získání trhu. Zákazníci jsou největším aktivem podniku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tl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4076640"/>
            <a:ext cx="5761080" cy="256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Spolehliv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Vysoká kval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Inovativ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Nízké ce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Dokonalý serv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Individuální přístup k potřebám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lný top manag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káže správně předvída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uluje strategii firmy (včetně mise, viz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á odvahu provést radikální změny ve firm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užívá správný styl řízení firmy jako celk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káže přesvědčit své spolupracovník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imuluje je všemi dostupnými nástroji k jejímu splnění a zajišťuje implementaci strateg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ytváří ucelený systém řízení a podnikového plánová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ledá správné pracovníky na rozhodující pracovní pozice, (vzdělávání, motivace, stimula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2637000"/>
            <a:ext cx="8497800" cy="2454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ze bez dobrého zajištění zůstává pouhým snem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ktivní vytváření poptávky a hledání nových trhů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Nasycený trh neexistuje“. Dobré firmy poptávku zjišťují, vynikající firmy ji aktivně vytvářejí.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. Kotl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pecifické přednosti a vnímané hodno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Úspěch v podnikání je založen na dočasném monopolu, postaveném na nové myšlence.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. Šo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enerální ředitel firmy Eur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5:30:32Z</dcterms:created>
  <dc:creator> </dc:creator>
  <dc:description/>
  <dc:language>en-US</dc:language>
  <cp:lastModifiedBy> </cp:lastModifiedBy>
  <dcterms:modified xsi:type="dcterms:W3CDTF">2008-12-01T23:17:11Z</dcterms:modified>
  <cp:revision>7</cp:revision>
  <dc:subject/>
  <dc:title>Vývojové trendy podniků a jejich řízení na prahu postindustriálního věku</dc:title>
</cp:coreProperties>
</file>