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4625-CEB4-4D62-AE62-C085C5AD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E253-AEB7-404B-8F8E-E953832A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2CC9-B590-438F-BB66-7E0BC7FA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042E-2583-4CBE-AD43-7501FDA3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6259-5FBF-405B-AB84-7B84ECE9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2125-0160-4E81-8662-B42D74EA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455A-37B7-440B-BAC0-3B469E8C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00B3-F36D-4E9A-A872-CB671A5D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D149-F6D7-43D7-AEA7-C4D4D20B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ED21-A69A-4170-91BB-34782F12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F417-A914-45DA-9E2E-5306D17C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8456-6579-422B-8D34-598409AD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703E-944F-49BA-9DB5-670597B3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35E2-CEBC-436F-89F2-E70601E4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4411-4BE3-441C-9E54-4B890417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7A05-F75D-4539-8D6C-4A7A612E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90CB-E9CE-4558-AA5E-520CDAA6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8245-78BB-4C23-835D-B1D7F812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70D2-F1E0-4611-9D7D-7049FC5A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1B35-7682-403A-BAF5-7B3F6F21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E4B1-8C21-482D-9835-E7AF2AA2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1077-33C6-4DFA-8567-14B86906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4709-CE69-4581-8E66-FE75BC90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D90C-498B-4F2F-B577-27EB7CAC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301E-4FA1-43A4-9EC1-EED405E53C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9448-16E3-4A29-ABCC-79B6744722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lobální kapitalismus versus demokrac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059000"/>
            <a:ext cx="640080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artin Lošťá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avel Popel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artin Vymyslick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Postoj občanů k současné politice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zdalování se politickým stranám (bojkot politiky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stiky ze Západních mocností, ale i středoevropských států nabývají obdobných výsledků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áni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ěmec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Homo economicus x korporace „přinucené“ jednat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ktivita v rukou spotřebite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vý nástroj konzumeris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Informační asymetrie – korporace x spotřebitel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kcionářský aktivismus jako další možná „regulátor“ nadnárodních korporac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šemocná média?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 kterých rukou spočívá moc médií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íklad televizní stanice Fo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tráta svobody médií je smrtící. Nevědomost znamená bezmocnost jakékoli kritik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ástup internetu = nástup svobody k informací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litická filantrop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schopnost vlád reagovat, v kontrastu potřeba vůdců businessu tuto roli zastoup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ůst HDP – generování obrovských zisků – co s těmito penězi jednotlivec může uděla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adace Billa Gatese hodlá věnovat 21 mld. USD na nákup vakcín a vzdělávací programy pro třetí svět – historicky bezprecedentní část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radce pro filantropii pro bohaté zaměstnance v úspěšných firmách, např. v odvětví high-te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dnikatelé - nevolení státníci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chopnost získat přístup ke světovým lídrům a prosazovat různorodé cí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vlivňování politického i sociálního života v nevídaném rozsa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deální vlastnosti – agresivita, sebejistota, bystrý rozum + finanční prostřed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pojení i do oblastí, ve kterých diplomaté opakovaně selháva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„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čovatelské organizace“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čátek uvědomování si faktu, že sociální a ekologickou problematiku nelze pojímat okrajově – při zhroucení systému ponesou následky i korpor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z podnikatelského hlediska je rozumné, aby korporace přispěly k rozvoji sociální obla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ce na sociálním dně = nedostatek kvalifikované a inteligentní pracovní síly, vysoká kriminalita, problémy s odbytem zbož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znys potřebuje stabilizovanou společnost k tomu, abych chránil vlastní stabilitu – to je prostě fakt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780000" y="4797360"/>
            <a:ext cx="5040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sir John Brow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ředseda představenstva General Electr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tivace…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ální hodnoty zaměstnanců a manažerů (zejména vysoce kvalifikovaná pracovní sí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žnost ovlivnění dotace konkrétní oblasti zákazníkem (narozdíl od platby da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nkurenční výho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stačí neškodit, ale je nutné začít pomáh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žnost řešení úkolů snáze a rychleji, než vlá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žnosti selhán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místění aktivit jinam – konec závazků korporace k dané lokali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íslušné instituce jsou ponechány nerozvinuté – vláda se před odchodem neměla důvod angažov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žná změna priorit zákazníků – orientace na cenu – nutné snižování náklad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žná závislost společenského pokroku na tvorbě zis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29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ěkujeme za pozornos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líživý převr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číná vládou Margaret Thatcherové a Ronalda Reag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 rámci kapitalismu přešla nepřiměřená moc do rukou korporací, které získaly politickou moc a ohrožují demokrac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deologie volného trhu ohrožena – nárůst sociálních problémů, ignorace voleb, demonstr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znik Nové pravi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1979 – britskou premiérkou zvolena Margaret Thatcherová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1981 – americkým prezidentem zvolen Ronald Reaga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Oba politici odmítali státní zásahy do ekonomiky, přijali názory Miltona Friedmana a Friedricha Hayeka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trh dokáže alokovat zboží a služby efektivněji než stá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úkolem státu je vytvořit příznivé podnikatelské prostředí (rozsáhlá privatizace, snížení daní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Odmítnutí sociálního myšlení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edni na kolo“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Posun tradičního politického spektra – pravice i levice se přibližují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Rozšíření do kontinentální Evropy – přesvědčení, že podniky jsou schopny generovat bohatství efektivněji než vlád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rpora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¼ světových aktiv spravují nadnárodní společnosti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Pouze 21 států světa má vyšší HDP, než činí roční obrat každé z 6 největších korporací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Obrat firem General Motors a Ford je větší než HDP celé subsaharské Afrik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Tržby korporací představují 2/3 světového obchodu a 1/3 světové výrob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Přímé zahraniční investice explodovaly z 2,35 miliardy USD v 70. letech na 80 miliard USD v roce 19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 čem spočívá moc korporací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Korporace jsou schopny vládám nabídnout nová pracovní místa, investice do infrasktruktury, proto se je politici snaží udržet ve svém státě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Pokud by bylo příliš vysoké zdanění, přísné normy, malá státní podpora, pak pohrozí odchodem ze země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Korporace operují globálně, odcházejí do zemí s nízkými výrobními náklady, pracovní sílu hledají u „sociálního dna“, pokud možno ve státě, kde neexistují odbory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ak se chová vláda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Systém „já na bráchu, brácha na mě“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Maximální snaha udržet korporace v zemi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ižování daňových saze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ňová zvýhodně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ňové rá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Propad ve výběru daní ovšem způsobuje neschopnost fungování veřejného sektoru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Zvyšování daní je neprůchodné, hledání alternativních cest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krácení sociálních dávek bohatý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danění penzijních fond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výšení nepřímých da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ciální důsledk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Tahoma"/>
              </a:rPr>
              <a:t>Nejen v nízkých, ale i vysokých vrstvách společnosti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šší počet lidí se stresovým onemocnění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ůst prodeje antidepres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odiče se nevěnují dětem z důvodu dlouhé pracovní do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vyšující se počet sebevraž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Tahoma"/>
              </a:rPr>
              <a:t>Nejlepšímu zdraví se těší lidé v zemích, kde existuje co nejrovnoměrnější přerozdělování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Tahoma"/>
              </a:rPr>
              <a:t>Při zmírnění příjmové diferenciace dochází ke snížení úmrtnosti na následky vážných nemocí, snížení kriminality nebo vražd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íme, že průmyslové společnosti námi manipulují, ale v samotné povaze byznysu je jít za každým dolarem, který lze legálně získat. Nedávejte vinu firmám, nýbrž státu. Hloupý je stát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harles Horn, senátor státu Oh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pojitost vlád a soukromého sektoru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litika na prodej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Financování politických str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Štědrý „sponzoring“ politickým straná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íklad USA(sponzoring úzkými elitami)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íklady v Evropě i za oceán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ěmecko (Kohl), Británie(Ecclesto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SA(zdanění piv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55:46Z</dcterms:created>
  <dc:creator>test</dc:creator>
  <dc:description/>
  <dc:language>en-US</dc:language>
  <cp:lastModifiedBy>Popl</cp:lastModifiedBy>
  <dcterms:modified xsi:type="dcterms:W3CDTF">2008-12-01T22:18:12Z</dcterms:modified>
  <cp:revision>33</cp:revision>
  <dc:subject/>
  <dc:title>Globální kapitalismus versus demokracie</dc:title>
</cp:coreProperties>
</file>