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5A84-603F-46FB-9FAB-9FEB47767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AF4F-BAD3-473E-A902-9F571B6BC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6054-AD60-44CD-962C-7416A85F6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BA1E-2026-4520-AF66-33C4E53DC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9F4E-B9AD-4E1D-A9BC-B1E2FFF40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7A44-5A32-4D55-AD2B-FE9F74067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9EC1-6E8F-412B-8262-7C58D6DA4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DA0F-28E0-43A5-856F-AEF3A2F86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B8CC-371A-4DBD-A214-DC3D8B0DC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352F-2293-4ACE-A227-EAF780DC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128C-D764-4737-A91D-4B45E8DA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BE3C-4267-49BB-8086-4DE4D8E5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05CD4-E47C-4DA9-BFA1-FC26EEB3C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Interkultúrny manaž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160" y="5791320"/>
            <a:ext cx="8305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lena Dvoráková, Martin Petrovič, Milan Vdov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rovnanie českých a nemeckých kultúrnych štandard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998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ts val="1998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fúzi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áca a voľný čas, Racionalita a emocionalita, pracovná rola a osobnosť, formálne a neformálne štruktú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fornian FB"/>
              </a:rPr>
              <a:t>V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ôsledné oddeľovanie jednotlivých oblastí živo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áca x voľný čas, racionalita x emocionalita, pracovná rola x osobnosť, formálne x neformálne vzťah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ts val="1998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ts val="1998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rovnanie českých a nemeckých kultúrnych štandard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lný komunikačný kontext, nepriama komunikác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ôležitosť neverbálnej komunikácie, sociálneho statusu, kontextu situáci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alifornian FB"/>
              </a:rPr>
              <a:t>V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labý komunikačný kontext, priama komunikác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tvorenosť, „to, čo nebolo vyslovené, neplatí“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rovnanie českých a nemeckých kultúrnych štandard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olísavé sebavedomie a sebaisto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dceňovanie či preceňovanie schopností, nevýrazní prejav, pochybnosti o sebe samom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fornian FB"/>
              </a:rPr>
              <a:t>V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valá sebaisto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opnosť prejavovať názory, priebojnosť, schopnosť kritiky, dôvera vo vlastné schopnosti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rovnanie českých a nemeckých kultúrnych štandard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lychrónia čas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ípustnosť malých zmien v časovom pláne, voľnejšie zaobchádzanie s termínmi, paralelné vykonávanie pracovných činností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fornian FB"/>
              </a:rPr>
              <a:t>V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nochrónia čas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sné časové plány, rozvrhy práce, dochvíľnosť, sekvenčné vykonávanie pracovných činností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ansformačné a trhové štandard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95280" y="1484280"/>
          <a:ext cx="8353440" cy="4971960"/>
        </p:xfrm>
        <a:graphic>
          <a:graphicData uri="http://schemas.openxmlformats.org/drawingml/2006/table">
            <a:tbl>
              <a:tblPr/>
              <a:tblGrid>
                <a:gridCol w="4105440"/>
                <a:gridCol w="4248000"/>
              </a:tblGrid>
              <a:tr h="731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formačné štandardy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. a vých. Európa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hové štandardy (USA, záp. Európa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763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formizmus voči systému a autoritá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c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meranie na výsledok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c2ff"/>
                    </a:solidFill>
                  </a:tcPr>
                </a:tc>
              </a:tr>
              <a:tr h="736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dencie ku kolektivizm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c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meranie na individuálny výk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c2ff"/>
                    </a:solidFill>
                  </a:tcPr>
                </a:tc>
              </a:tr>
              <a:tr h="685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sencia iniciatív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c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ciatív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c2ff"/>
                    </a:solidFill>
                  </a:tcPr>
                </a:tc>
              </a:tr>
              <a:tr h="685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atrná interakci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c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baistá interakci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c2ff"/>
                    </a:solidFill>
                  </a:tcPr>
                </a:tc>
              </a:tr>
              <a:tr h="684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ovizačný talen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c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meranie na kvalitu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c2ff"/>
                    </a:solidFill>
                  </a:tcPr>
                </a:tc>
              </a:tr>
              <a:tr h="684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asové nepresnost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3c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as sú peniaz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3c2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Arabské štá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milujú“ obchod – radi vyjednávaj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Ústne sľuby nie sú záväz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Ženy vylúčené z obchodného i verejného života, nepýtame sa na rodi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verbálna komunikácia veľmi dôležit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Očný konta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a dochvíľnosti si nepotrp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Radi jednajú so známymi osoba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Áz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ysoká organizovanosť – dobrí organizátori, zlí improvizát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radi hovoria „nie“ – vyhýbavé odpove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 podnikateľskej sfére len muž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ôležité sú mimoverbálne prejavy (smie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ysoké národné uvedome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lhodobé mysle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Severná Amer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obre pripravení na jedna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eľmi dochvíľni – nemajú radi zbytočné naťahovanie, radi veci vyriešia rých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prejavujú emócie a nestrácajú čas zbytočnými fráza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Individualizmus, sebadôvera, národná hrdos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ôležité sú krátkodobé výsled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Latinská Amer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formálne jedna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irodzení, bezprostred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radi hovoria „nie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Živá gestikulá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eľmi nedochvíľ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lhodobé kontak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Je nevhodné sa vyvyšova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ový, I., Schroll-Machl, S. a kol. Interkulturni komunikace v řízení a podnikání. Praha : Management Press, 1999. ISBN 80-7261-009-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Šroněk, I.: Kultura v mezinárodním podnikání. Praha: Grada Publishing, 2001. ISBN 80-247-00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Sociálna percepcia a komuniká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.percepcia – vzájomné vnímanie ľud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.komunikácia – prenos informácií medzi ľuď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plyv soc.pozície, skúseností, kultúry, emócií, vlastností vnímanej osoby, situá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ultúrne dimenz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Efektívnosť komunikácie závisí na poznaní kultú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Hofsted, </a:t>
            </a:r>
            <a:r>
              <a:rPr b="0" lang="sk-SK" sz="3200" spc="-1" strike="noStrike" u="sng">
                <a:solidFill>
                  <a:srgbClr val="000000"/>
                </a:solidFill>
                <a:uFillTx/>
                <a:latin typeface="Arial"/>
              </a:rPr>
              <a:t>Trompenaar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, Tho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Univerzalizmus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s.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ikulariz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lektivizmus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s.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Individualiz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utrálny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s.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Emocionál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ifúzny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s.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Špecific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Úspech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s.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isudz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ásledný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s.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úbežn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nútorná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s.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onkajšia orient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Interkultúrne učen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Cudziu kultúru je treba poznať, rešpektovať a učiniť k nej ústretové kroky = interkultúrna kompet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Zlepšenie tréningo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prostredkovanie informác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ultú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Interakcia a komunik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Tímová spoluprá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ultúrny asimilá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Riešenie bikultu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457200" y="1219320"/>
            <a:ext cx="7391160" cy="5029200"/>
            <a:chOff x="457200" y="1219320"/>
            <a:chExt cx="7391160" cy="5029200"/>
          </a:xfrm>
        </p:grpSpPr>
        <p:sp>
          <p:nvSpPr>
            <p:cNvPr id="51" name=""/>
            <p:cNvSpPr/>
            <p:nvPr/>
          </p:nvSpPr>
          <p:spPr>
            <a:xfrm>
              <a:off x="1301760" y="5317200"/>
              <a:ext cx="19004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7520" bIns="47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Odmietnut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" y="1219320"/>
              <a:ext cx="2111760" cy="20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7520" bIns="47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KULTÚRA 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25640" y="5875920"/>
              <a:ext cx="232272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7520" bIns="47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KULTÚRA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301760" y="1591920"/>
              <a:ext cx="0" cy="42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301760" y="5875920"/>
              <a:ext cx="633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724040" y="2709360"/>
              <a:ext cx="19004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7520" bIns="47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Dominan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14320" y="4944600"/>
              <a:ext cx="19004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7520" bIns="47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Prispôsoben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736600" y="1778040"/>
              <a:ext cx="19004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7520" bIns="47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Inová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46680" y="4758480"/>
              <a:ext cx="19004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7520" bIns="47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Komprom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779920" y="4199400"/>
              <a:ext cx="19004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7520" bIns="47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Kombiná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413520" y="3640680"/>
              <a:ext cx="19004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7520" bIns="47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Integrá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4469760" y="2336760"/>
              <a:ext cx="1478160" cy="335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1724040" y="2336760"/>
              <a:ext cx="4223520" cy="204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Typológia českej kultú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Typické vzorce jednania pracovník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odstata mo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Konflikt nadriadeného s podriadený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avidlá komuniká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Rytmus pracovného dň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Krátkodobosť orientá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Č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Maskulinita kultú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ytváranie skupí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ácia ľudského jednani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56000" y="1916280"/>
            <a:ext cx="3600360" cy="29509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26920" y="6093000"/>
            <a:ext cx="57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rameň: Literárny zdroj č.1, str.7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2745800">
            <a:off x="2835000" y="2291400"/>
            <a:ext cx="54612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obnos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59280" y="4941720"/>
            <a:ext cx="26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ultú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3517200">
            <a:off x="4032360" y="3029760"/>
            <a:ext cx="28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tu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rovnanie českých a nemeckých kultúrnych štandard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rovizácia a flexibilita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dôvera voči pravidlám, normám, formalizovaným postupom, vynaliezavosť, improvizácia, adaptabilita, schopnosť učiť sa, veľkorysosť, „byť nad vecou“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fornian FB"/>
              </a:rPr>
              <a:t>V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ximálna snaha vyhnúť sa rizik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áľuba v organizácii, zameranie na detail, akcent na funkčnú hierarchiu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rovnanie českých a nemeckých kultúrnych štandard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entácia na sociálne vzťah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ízke sociálne schopnosti pri zachádzaním s negatívnymi informáciami, neriešenie sociálnych konfliktov, partikularizmu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fornian FB"/>
              </a:rPr>
              <a:t>V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cná orientá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bré schopnosti pri zachádzaní s negatívnymi informáciami, riešenie sociálnych konfliktov, univerzalizm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9T11:39:28Z</dcterms:created>
  <dc:creator>Martin Petrovič</dc:creator>
  <dc:description/>
  <dc:language>en-US</dc:language>
  <cp:lastModifiedBy>El Mino</cp:lastModifiedBy>
  <dcterms:modified xsi:type="dcterms:W3CDTF">2008-12-03T17:05:42Z</dcterms:modified>
  <cp:revision>52</cp:revision>
  <dc:subject/>
  <dc:title>Porovnanie českých a nemeckých kultúrnych štandardov </dc:title>
</cp:coreProperties>
</file>