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569-5963-488A-9A9C-8210B88C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935-5215-4403-B7A9-F9CF7656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2EBED-5AE0-435A-8DE0-D8B786AA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C3D4C-B8EA-4785-9747-BD997DC2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601D5-388C-4690-A771-111BD526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8242B-E75D-4C2A-8ECE-1EBF01A7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45622-9803-4527-8FFB-51D4C94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B7698-EF7F-4F40-94FE-E1013BF6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EBF6F-69EA-4EC7-BFBA-7419417E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58674-7069-4027-A6E4-05EFF7CD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E7453-51BA-4662-8CD9-0536DED8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FF349-CFF9-4C8E-A7F9-43BB17F2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548-FB18-442B-A329-CB68A38F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3EDD0-6529-4533-8F7E-2A58D4C0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13AD8-E368-41A9-8E05-ABEB2174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3437F-3EB2-43C9-A278-3FF357E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8BE66-7BFC-4CAC-929D-9D47D92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3679C-A9D3-480D-A589-D6FF146C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4DD8F-EA37-43F1-89E4-1B729D3A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89115-D03F-4E2A-B4DE-C66F42A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BE087-ACC0-4882-8702-B07F42D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11049-2519-4C46-AEB9-B1F53B78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730DD-627C-48A0-B8FB-DAAA412C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9D0-C349-4C49-B32A-876C82F1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AFA92-72F7-4B99-B9F2-F611406E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E855F-8AFE-4583-A2C3-5ADDA421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074C7-E143-4E50-986A-0F346A24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5B436-08A0-458A-8DB3-0541924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99F65-D800-4FCA-98EB-4E1FF740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242F-25B8-4308-8F1B-8871CC00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C234-186B-4F22-8492-2DDA7F3C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D02A5-62A9-4BBD-80FB-EFBD33F8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6D454-E17C-485E-A904-7A335C3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0594-6A27-4206-9BC6-1B68C12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27F4-3D2C-40D6-A08A-C5DCA766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2D13C-2316-4148-A197-2BE5E61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EAEC0-4F76-4F8B-992C-CF07B799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027F8-67D6-479C-9ACE-B2E5E4DB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24941-AF26-46E1-8517-1A1F2A0F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482CD-FA1D-457E-A6EE-74E819F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C43F8-E567-407C-84B7-549A68E6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FDF22-A30E-478D-9C67-4366834E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86D4B-8EF3-45F3-A74D-AD3907F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83018-37B5-422B-A264-1FCF4A23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44672-96CE-4479-9B77-C3B5D5C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DF4D-57A9-4198-90E3-340ACF6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92A82-98CC-4834-B31F-68C69B0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40211-5009-4D0D-9219-5525CF8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BACDD-03D0-491F-8726-A7086F7B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ECFC3-1B97-4579-821D-AC8E3DF6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0C638-B3FE-4040-A99F-0D91C5C6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5E4B-F850-4176-9B71-E49C05E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0D8A-9296-474F-B7BE-E15DD96F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145D-1858-4591-9963-50B263D1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F6E3-4980-42E5-A8B5-BC4231B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E4D-7083-43C1-9474-88626889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A1A-3E71-4751-9485-75940E22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AE2B-BBE7-423A-A0AC-0202FF17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3062-6953-4C47-92A6-403A9D6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BE27-BA67-4F92-AA9D-F12E8E5F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E890-5856-4C39-965A-62626DDE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439A-3417-4970-A633-6E66B66A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D97B-4938-43E2-81F1-0D5613FC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E2EB-9BC3-44D0-A3F2-72DB626A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1F3E-D6A3-49E9-8BD6-A7081118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BAA3-6CE7-46FE-ACAE-9B2D5F74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041D-6F92-481F-968B-75D8BC18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DC4-DA20-4CD7-9A25-3487E3DF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491A-1662-4C99-8B1D-BE899691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6A02-8C22-4A92-891F-61F41BB6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2298-9A5C-410D-BE0B-8F5C259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2534-158B-4A3C-9A58-EBA2487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639C-2CF8-49F2-B17E-5276FB4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F577-E1FC-4248-B2B5-8934C28D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B4FA-82E4-4F29-84AD-299B2758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1F97-62AC-41D0-95A9-14C7E9A3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95DA-E2A5-4A3B-A197-E09D2816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4642-048F-418A-8DEC-1DC44AD7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17A-D6CF-4B07-A9AF-4305C524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ADF7-E4E0-457F-8816-298CE3E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13A8-6BEE-42C8-AFCC-94F4EDA7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A4A1-66DE-4373-8359-7F2FBAF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B2717-4DEE-48F5-9BFC-1983023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3810-1165-4B56-A518-36FEE4E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CF72-AB9B-4C60-935E-8A732434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CE81-B9EA-45A3-8041-A9910CE8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52EB-0FB6-4E1B-AF01-241C719C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17A8-A9A5-42F3-BB12-C8AD8F9B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68664-F47C-4DF0-AF05-F03B738B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5DA-D52B-45BA-B082-0C562DE6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C5EA6-7D46-44F3-8B01-C7916A8F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F03F-6763-48DA-9152-DE79CEDC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9D30-BD30-42E5-8CAB-C4BC6AD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8C5B-CF99-40FB-9C89-5421712F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4DFC-04E0-448F-A376-5EA08CAA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B980-C9EE-4DC9-AD44-67C0B51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1CE4-8622-404C-A7B7-0B06E8B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A6DD-674F-4A6A-84B7-54E8E3F3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80E2-2464-473F-8464-875B1E8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1DC55-4155-4236-8725-4B691E18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D43-8E56-40DB-878C-0EABCFB7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A3D69-1FBB-4B41-9FE2-B7C65F91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CF84D-93C6-45F9-8C21-A948DFE3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A9F3-6BD5-42EC-982F-C1DE649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CD0C3-B569-41DB-8651-AEE74CB6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9DF7-C99D-4644-9108-282C949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0D03-6CFC-460A-AAC8-421BB67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98862-FD28-413E-928D-A0A1D32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35268-0CE0-4619-9D68-0C0C7892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020B-7000-446D-9A20-7AAE0376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392F7-B6A9-4891-A487-E335274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E91-9930-4C68-AAD1-E669E76A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BB9D-8C72-4FC5-94D1-17854765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A425E-4C74-44AF-A2D8-713DDBC0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AA51-EA25-4737-8767-6C2A8975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6F24-80B6-4AF1-BA8A-8F34A30D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B225-9646-495C-AB79-43942BF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290B-0B8A-409D-A431-F63942F3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A76D-4C38-4F64-87E7-1951A53D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22DCC-0F52-4F03-8644-9580661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69C1-B7C0-48FF-B214-69350FD9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88C0A-8EA8-45F1-8B2C-F2AFB39F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B78-441D-4526-AB0C-02804FB0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778D8-AE4A-4109-987C-6E8A9A7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571C1-8BE1-48E7-8868-670538F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004D6-FA5A-4EA5-8E76-D6BABBF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E1AE-BAB5-419C-855B-5196216F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B1A4-A092-4262-A704-2935A0C5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6415B-B477-4FAE-B52C-FBA85080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081B-0910-4D42-BBB2-C2E7AB34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CD0A-D6EC-4457-B4CA-9D2A5B72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2C9DF-B8DA-4F06-B1ED-053AF992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7B5AC-6B55-455C-A9C7-D8080EC6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E6D-F9B9-4856-ABB4-14A063AE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69C1F-B299-4FD6-86C6-5BDEFDBA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205E-D2AB-4BDB-9470-738A1BA8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24D6D-5182-4EF0-AC39-EA4B808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1298-C48C-4614-9F6A-7697374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A1A65-E3D1-4BB6-A887-C2CB2B14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DC9E-A4B6-4A69-A339-FC7D788F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389F2-0F87-41B9-91FE-3D1039FE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712B8-1CF0-46B9-A80E-F698BB25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5A233-DB35-499E-A7D5-BD6077B4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FAA11-8C15-4F46-91F5-C32006E3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A789-4F13-4B66-8FDD-6316D5CF1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442-8609-40F7-8B6D-4FCB9C33E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3811-900C-4EAD-B877-2E9C04D5EA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839-E700-41E5-BB49-83B8677218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8FB1-5514-49A2-B4C6-54FD3EDC8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A444-407E-462D-9AFA-299341288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5EA-6242-4887-A047-66D6A2DBD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9B0-7950-416C-BBB3-F63562406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9E5-FD00-4CD8-9417-08B92EAE1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4669-11F7-47BD-8B49-F2467F775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E897-CA0B-4035-A907-42C92698C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C46-2D95-4819-BC2C-C3B0D8064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ps.zcu.cz/materials/fikult.rtf" TargetMode="External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Lucie Bieli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Simona Jakubc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Martin Liz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e jako nástroj naplňování očekávání zájmových stran v určité organizační struk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Otázk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k se kultura, struktura a strategie navzájem ovlivňuj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Dlouhodobý rámec a směr, který sjednocuje ve firmě její hlavní cíle, priority a ak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cké 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vorb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mplementace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Vliv na obě fáze strategického říze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S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trategická myopie“ – co fungovalo v minulosti, bude fungovat i nadá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Vý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Determinace svými postoji a hodnotami - „filtr“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Zpracování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ilná kultura – stejná interpretace – omezené množství alternativ strategi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vorba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žerská subkul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ační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ální  hodn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mplementace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ie jako podpora nebo bariéra kult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11280" y="2421000"/>
          <a:ext cx="8280360" cy="3921120"/>
        </p:xfrm>
        <a:graphic>
          <a:graphicData uri="http://schemas.openxmlformats.org/drawingml/2006/table">
            <a:tbl>
              <a:tblPr/>
              <a:tblGrid>
                <a:gridCol w="1890720"/>
                <a:gridCol w="2914560"/>
                <a:gridCol w="1736640"/>
                <a:gridCol w="173844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strate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k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labá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Vág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strategie na kultu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2633400"/>
            <a:ext cx="76932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bsah“ strategie jako „způsob, jak věci děláme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 jako informace, kam společnost směř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kulturní artefakt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Šipka doprava 5"/>
          <p:cNvSpPr/>
          <p:nvPr/>
        </p:nvSpPr>
        <p:spPr>
          <a:xfrm>
            <a:off x="1979640" y="4508640"/>
            <a:ext cx="500040" cy="26964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jako „zástupce“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38080" y="2572920"/>
            <a:ext cx="769320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ísemná neexistence strategie, ale realizovaná pracovník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ředpokladem je silná firemní kul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Extrémní situace: žádná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Řízení odrazem firem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Upevňování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Výběr vhodn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liminace uchazeči, kteří nezaručují akceptování hlavních hodn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abízení vzorů žádoucího chován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na příkladu kariérového postupu úspěšných pracovníků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daptace nov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jsou programově seznamováni s historií, tradicemi, hodnotami a normami organiz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Čtyři varianty vztahu jedince </a:t>
            </a:r>
            <a:br>
              <a:rPr sz="2800"/>
            </a:b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        k organizační kultuře</a:t>
            </a:r>
            <a:r>
              <a:rPr b="1" lang="cs-CZ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99cc00"/>
                </a:solidFill>
                <a:latin typeface="Arial"/>
              </a:rPr>
              <a:t>(K.A. Golden, 1992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Jednoznačn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vání zcela koresponduje s normami dominantní organizační kultur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Napjat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se chovají ve shodě s direktivami kultury. Mají však výhrady. Typickým projevem jsou vtipy na úkor organizace. Pomáhají tlumit konflik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Utaj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inec vyslovuje souhlas s normami, skrytě je však neakceptuje a nedodržuje. Když to není nebezpečné, demonstrují svůj opoziční posto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tevř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otevřeně neuznává hodnoty a normy dané organizace. Chovají se tak, pokud vědí, že je nestihnou žádné sankc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ganizační kultura v mezinárodních společnostech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  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ztahy mezi národní a organizační kulturo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ka organizace mohou ovlivnit 2 kultur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je reprezentantem národní kultury např.: americké, německé nebo japonské podniky,  jejichž podnikové kultury jsou převážně odvozeny od národních kulturních trad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určitého podniku je samostatná a nezávislá.V rámci jedné národní kultury může existova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íce podnikových kultu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ezi firemními kulturami organizací a dceřiných společností existují tři typy vztahů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ální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ycentrická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centrická podniková kultur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bsa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(definice, prv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a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Firemní kultura 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Upevňová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ztah jedince k organizační kul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v mezinárodních společnost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lobální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a kultura pro všechny, často jde o hodnoty platné v zemi, kde je ústředí nebo organizace vznikla. Posilují se centralistické tenden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unkční, rychlá a spolehlivá komunikační síť (shodné významy, pojetí, interpretace), jednotná symbolika (značky, loga), mezinárodní identifikace, shodnost základních priorit a cílů firmy, nízké náklady na vzájemnou koordin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ěkd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álo citlivé na místní podmínky, nemusí umožňovat rychlou reakci na dílčí změny trhu, vysoké náklady na  mobilitu vedoucích pracovníků z mateřské firm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olycentrická podniková k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ytvoření specifické subkultury v každé jednotlivé zemi, značné osamostatnění dceřiných společností, vlastní systém řízení, vycházející  z místních tradic, zkušeností a odpovídající národní mentalitě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ozšíření základny zkušeností, při řešení problémů, omezení neproduktivních střetů a konfliktů, lepší zachycení změn v místním okolí a rychlá reakce na n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xistence jednotné kultury, a tedy i vědomí vzájemné provázanosti složek a jednotnosti organiza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eocentrická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8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organizační kultura, vytvořena spojením příznivých stránek kultur jednotlivých zemí. Problematické rozeznat teritorium sídla a „národní charakter“ firmy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kultura organizace respektující zvláštnosti jednotlivých zemí. Podmínkou existence je tolerance jedinců k jiným kulturám, schopnost jim porozumě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ejednoznačnost výsledku a nutné úsilí, spojené  s vytvářením této kultur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Zdroj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LUKÁŠOVÁ, R., 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kultura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Od sdílených hodnot k vyšší výkonnosti. Praha: Grada Publishing, 2004. ISBN 80-247-0648-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BĚLOHLÁVEK, F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chování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Učebnice pro každého. Olomouc: Rubico, 1996. ISBN 80-85839-09–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Interkulturní management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Lidé, kultura a management. Praha: Grada Publishing, 1996. ISBN 80-7169-260-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kps.zcu.cz/materials/fikult.rt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Calibri"/>
              </a:rPr>
              <a:t>https://is.muni.cz/auth/tema/?issexppar=1&amp;isshlret=michal+mar%C4%8D%C3%ADk&amp;isssubm=Najdi&amp;isshlv=tthesis&amp;issu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Definice organizační kultur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Jak se věci u nás dělají“ … 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, co je pro organizaci typické, její zvyky, převládající postoje, vytvořené vzorce akceptovaného a neakceptovaného chování.“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Drennan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rvky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áklad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z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dno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ástroj utváře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rm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sady chování v organiza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st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tefak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71640" y="486900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/>
          <p:nvPr/>
        </p:nvSpPr>
        <p:spPr>
          <a:xfrm>
            <a:off x="2771640" y="530064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Schei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Artefa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Hodnoty, pravidla a normy ch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Základní předpokla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4360" y="328464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3924360" y="4797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716360" y="4797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716360" y="328464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Hofste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043440" y="2729160"/>
            <a:ext cx="3489120" cy="3051000"/>
            <a:chOff x="3043440" y="2729160"/>
            <a:chExt cx="3489120" cy="3051000"/>
          </a:xfrm>
        </p:grpSpPr>
        <p:sp>
          <p:nvSpPr>
            <p:cNvPr id="522" name="_s121869"/>
            <p:cNvSpPr/>
            <p:nvPr/>
          </p:nvSpPr>
          <p:spPr>
            <a:xfrm>
              <a:off x="3043440" y="3164040"/>
              <a:ext cx="2616120" cy="2616120"/>
            </a:xfrm>
            <a:prstGeom prst="donut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_s121870"/>
            <p:cNvSpPr/>
            <p:nvPr/>
          </p:nvSpPr>
          <p:spPr>
            <a:xfrm>
              <a:off x="6008760" y="377208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Symbo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_s121867"/>
            <p:cNvSpPr/>
            <p:nvPr/>
          </p:nvSpPr>
          <p:spPr>
            <a:xfrm>
              <a:off x="3370320" y="3490920"/>
              <a:ext cx="1962360" cy="1962360"/>
            </a:xfrm>
            <a:prstGeom prst="donut">
              <a:avLst>
                <a:gd name="adj" fmla="val 16666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_s121868"/>
            <p:cNvSpPr/>
            <p:nvPr/>
          </p:nvSpPr>
          <p:spPr>
            <a:xfrm>
              <a:off x="6008760" y="342432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rdinové ( Hero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_s121865"/>
            <p:cNvSpPr/>
            <p:nvPr/>
          </p:nvSpPr>
          <p:spPr>
            <a:xfrm>
              <a:off x="3697560" y="3818160"/>
              <a:ext cx="1307880" cy="1307880"/>
            </a:xfrm>
            <a:prstGeom prst="donut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_s121866"/>
            <p:cNvSpPr/>
            <p:nvPr/>
          </p:nvSpPr>
          <p:spPr>
            <a:xfrm>
              <a:off x="6008760" y="307656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Rituály ( Ritual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_s121863"/>
            <p:cNvSpPr/>
            <p:nvPr/>
          </p:nvSpPr>
          <p:spPr>
            <a:xfrm>
              <a:off x="4024440" y="4145040"/>
              <a:ext cx="654120" cy="65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_s121864"/>
            <p:cNvSpPr/>
            <p:nvPr/>
          </p:nvSpPr>
          <p:spPr>
            <a:xfrm>
              <a:off x="6008760" y="272916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odnoty ( Valu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14586600">
            <a:off x="4074120" y="4789800"/>
            <a:ext cx="1206360" cy="642960"/>
          </a:xfrm>
          <a:prstGeom prst="flowChartOnlineStorage">
            <a:avLst/>
          </a:prstGeom>
          <a:solidFill>
            <a:srgbClr val="ff99ff">
              <a:alpha val="87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/>
          <p:nvPr/>
        </p:nvSpPr>
        <p:spPr>
          <a:xfrm>
            <a:off x="6300720" y="4311720"/>
            <a:ext cx="1366920" cy="609480"/>
          </a:xfr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  <a:ea typeface="Arial"/>
              </a:rPr>
              <a:t>Practi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Organizační kultura a výkonno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bsah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íla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3059280" y="3429000"/>
            <a:ext cx="86508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42920" y="3429000"/>
            <a:ext cx="122580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3419640" y="5157720"/>
            <a:ext cx="1871640" cy="1008000"/>
          </a:xfrm>
          <a:prstGeom prst="ellipse">
            <a:avLst/>
          </a:prstGeom>
          <a:solidFill>
            <a:srgbClr val="99cc00">
              <a:alpha val="87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Výkon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obsahu organizační kultury na výkonnost organizace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Dvojí účinek na výkonnost organiza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Aktivuje (neaktivuje)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v závislosti na konkrétních hodnotách a normách chování, které zahrn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Směruje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k naplňování těch hodnot a cílů, které jsou kultuře daného obsahu vlast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síly kultury na výkonnost organizac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souladu ve vnímání a myšlení pracovníků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snadňování komunikace a redukce konfliktů uvnitř organizac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usměrňování chování jedinců v organiz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dílení společných hodnot a cílů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jedinci pociťují sounáležitost k organizaci, pozitivní postoj ke spoluprác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fixace organizace na minulou zkušenos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zavřenost, ignorance signálu z vnějš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bránění myšlení v alternativá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snaha o vyhnutí se kritice a konfliktům, podpora konformi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rezistence vůči změná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55:53Z</dcterms:created>
  <dc:creator>Lucie Bieliková</dc:creator>
  <dc:description/>
  <dc:language>en-US</dc:language>
  <cp:lastModifiedBy>admin</cp:lastModifiedBy>
  <dcterms:modified xsi:type="dcterms:W3CDTF">2008-12-01T19:49:34Z</dcterms:modified>
  <cp:revision>21</cp:revision>
  <dc:subject/>
  <dc:title>Organizační kultura a strategie</dc:title>
</cp:coreProperties>
</file>