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850-18C5-4BCE-B14B-7DADD14B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DB7-41B9-49D2-9D31-80BEA86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33E-E174-4FF1-A8E9-0BB143B1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71B-5B00-4DA0-BBE1-B7B47122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4D76-6874-46CA-9C52-20D5EE0C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792F-7360-498B-A72A-3465497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74FC-EA33-4997-97EB-593992D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60CD-9BFA-4A90-A6B8-063D129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25E5-D445-4DF5-97DF-7377559F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02F9-5F1E-4DBF-8180-CA490BB9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331-5B6F-4993-A5BA-6693D95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F6D-8C1A-45DB-8496-19B4EB15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1C83-6C86-45CF-9C07-549221A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0CD-AA11-42EF-8B8E-DDAE3E9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D35-4500-49C9-91E3-F9358628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B96B-E976-4954-9BBF-B6B88CFA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0C9D-FB22-4EDE-AFC6-2D25CABE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B95-4CF2-42F0-A980-00937B21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AD3-3C68-4F8E-8A60-74791DF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0EB-5229-46F8-9612-02F7062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1A7-FBD3-4297-BB5C-1074D8A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3F6-F7DB-4704-8B35-E45E3DC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737-38FA-4855-94A7-9A28520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A26-2E27-40A3-9B22-CDA34A1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A9F-2572-47CB-8AC7-BCAF587099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038-D136-4C6F-922E-21DA8F5986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ism" TargetMode="External"/><Relationship Id="rId2" Type="http://schemas.openxmlformats.org/officeDocument/2006/relationships/hyperlink" Target="http://ukinczechrepublic.fco.gov.uk/resources/cs/pdf/sternova-studie" TargetMode="External"/><Relationship Id="rId3" Type="http://schemas.openxmlformats.org/officeDocument/2006/relationships/hyperlink" Target="http://www.stuz.cz/view.php?cisloclanku=2007090010" TargetMode="External"/><Relationship Id="rId4" Type="http://schemas.openxmlformats.org/officeDocument/2006/relationships/hyperlink" Target="http://www.stuz.cz/view.php?cisloclanku=2007090010" TargetMode="External"/><Relationship Id="rId5" Type="http://schemas.openxmlformats.org/officeDocument/2006/relationships/hyperlink" Target="http://www.stuz.cz/view.php?cisloclanku=2007090010" TargetMode="External"/><Relationship Id="rId6" Type="http://schemas.openxmlformats.org/officeDocument/2006/relationships/hyperlink" Target="http://www.stuz.cz/view.php?cisloclanku=2007090010" TargetMode="External"/><Relationship Id="rId7" Type="http://schemas.openxmlformats.org/officeDocument/2006/relationships/hyperlink" Target="http://www.stuz.cz/view.php?cisloclanku=2007090010" TargetMode="External"/><Relationship Id="rId8" Type="http://schemas.openxmlformats.org/officeDocument/2006/relationships/hyperlink" Target="http://www.stuz.cz/view.php?cisloclanku=2007090010" TargetMode="External"/><Relationship Id="rId9" Type="http://schemas.openxmlformats.org/officeDocument/2006/relationships/hyperlink" Target="http://www.stuz.cz/view.php?cisloclanku=2007090010" TargetMode="External"/><Relationship Id="rId10" Type="http://schemas.openxmlformats.org/officeDocument/2006/relationships/hyperlink" Target="http://www.stuz.cz/view.php?cisloclanku=2007090010" TargetMode="External"/><Relationship Id="rId11" Type="http://schemas.openxmlformats.org/officeDocument/2006/relationships/hyperlink" Target="http://www.stuz.cz/view.php?cisloclanku=2007090010" TargetMode="External"/><Relationship Id="rId12" Type="http://schemas.openxmlformats.org/officeDocument/2006/relationships/hyperlink" Target="http://cs.wikipedia.org/wiki/V&#225;clav_Klaus" TargetMode="External"/><Relationship Id="rId13" Type="http://schemas.openxmlformats.org/officeDocument/2006/relationships/hyperlink" Target="http://cs.wikipedia.org/wiki/V&#225;clav_Klaus" TargetMode="External"/><Relationship Id="rId14" Type="http://schemas.openxmlformats.org/officeDocument/2006/relationships/hyperlink" Target="http://cs.wikipedia.org/wiki/V&#225;clav_Klaus" TargetMode="External"/><Relationship Id="rId15" Type="http://schemas.openxmlformats.org/officeDocument/2006/relationships/hyperlink" Target="http://cs.wikipedia.org/wiki/V&#225;clav_Klaus" TargetMode="External"/><Relationship Id="rId16" Type="http://schemas.openxmlformats.org/officeDocument/2006/relationships/hyperlink" Target="http://cs.wikipedia.org/wiki/V&#225;clav_Klaus" TargetMode="External"/><Relationship Id="rId17" Type="http://schemas.openxmlformats.org/officeDocument/2006/relationships/hyperlink" Target="http://cs.wikipedia.org/wiki/NGOismus" TargetMode="External"/><Relationship Id="rId18" Type="http://schemas.openxmlformats.org/officeDocument/2006/relationships/hyperlink" Target="http://www.reflex.cz/Clanek21556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voboda, ekonomika, příroda, et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nika Kud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ie Adam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tišek Chur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goizmus naprieč generáciami – budúce generácie budú iste bohatš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e vyspělém světe zemědělství a lesnictví obvykle nevytváří víc než 3% celkového národního produktu. Ostatní odvětví ale klimatickými změnami výrazně ovlivněny nejso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Hranie si so štatistickými číslami (pesticídy, úmrtia vplyvom teplo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Časová hodnota peňazí a životné prostred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Že jsme překročili  ekologickou kapacitu území, ještě nemusí být tragické. Je to jako půjčka na dům, ve kterém chceme bydlet a vybavit si jej. Jen si musíme být vědomi, že dříve nebo později budeme tuto půjčku splácet. A čím později, tím to bude pro nás nebo pro naše děti dražší a bolestivější.“ (Matthis Wackernagel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 = Non governmental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. (?): feministky, radikální ekologové, anarchisté, odbory, Al-Ka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: prosazují věci demokraticky neprosaditelné (př. Greenpe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A: zrušme parl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B: vedle parlamentu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Filipíny, Afr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aus: demokracie vs. vláda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ruhý pohl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 vštěpující názory jsou potřebné kvůli prosazování rovných práv menšin (př. vozíčkář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ální neznalost ostat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KLAUS, V. Modrá, nikoli zelená planeta. Praha: Dokořán, 2007. ISBN 978-80-7363-152-9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Environmentalism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6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en.wikipedia.org/wiki/Environmentalis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konomické aspekty změny klimatu – Sternova zpráva.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ukinczechrepublic.fco.gov.uk/resources/cs/pdf/sternova-stud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OVÁČEK, P.: Živá planeta: Sto omyl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ů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Václava Klause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tuz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.cz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iew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php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?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cisloclanku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=2007090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2"/>
              </a:rPr>
              <a:t>http:/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3"/>
              </a:rPr>
              <a:t>cs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4"/>
              </a:rPr>
              <a:t>.wikipedia.org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5"/>
              </a:rPr>
              <a:t>wiki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6"/>
              </a:rPr>
              <a:t>/V%C3%A1clav_Klaus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GOism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7"/>
              </a:rPr>
              <a:t>http://cs.wikipedia.org/wiki/NGOismu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8"/>
              </a:rPr>
              <a:t>http://www.reflex.cz/Clanek21556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kriz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limatická změ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žství protichůdných 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ová různost, Klaus X G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mo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znamnost do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rá, nikoli zelená plane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kologická krize neexist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roda se přizpůsob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najde nové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alismus je ideolo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mus – environmentalism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nosy a nákl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droj je vždy funkcí ceny a technologie.“ (str. 4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ké náklady na ochranu (plus faktor diskontu) vs. malé výno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oucnost je méně významná než přítomnos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ce není potře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4160880"/>
            <a:ext cx="3619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oteplov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eplování začalo před průmyslovou revolucí, pro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livem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k němu ale přispí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o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zba mezi CO2 a globálním otepl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Řeše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nepolitická, nikým neorganizovaná aktivita miliónů svéprávných a – ve svém vlastním zájmu – racionálně se chovajících lidí.“ (str. 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chrana přírody ano, environmentalismus ne“ (str. 1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blahobytu =&gt; lepší stav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jovat se změnou klimatu, ale přizpůsobit se 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Odkaz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4.správa Medzivládneho panelu OSN p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klimatické zmeny (únor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Otepľovanie klimatického systému je jednoznačn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Bez zvýšeného úsilia v znižovaní emisií skleníkových plynov dojde k ďalšiemu zvýšeniu teploty, ktoré povedie k nevratným zmenám na klí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Sternova správa (duben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Jeden z podkladov pre závery Európskej rady, ktorá definovala ciele a politiku transformácie Euró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Vyčísluje dopady zmien klímy a ekonomiku a potvrdzuje ekonomickú výhodnosť okamžitého zása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Boj proti vedeckému konsenz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odléhejme klamu vědeckého konsenzu, který je stejně docilován jen hlasitou menšinou a nikoli mlčící většino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 nám vnucována jedna jediná pravda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áclav Klaus v postavení prezidenta prezentuje menšinové náz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rešpektuje oficiálne stanoviská vlády ČR a EU o klimatických zmen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Jednostrannosť, dezinterpretácia, chyby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kologická nevzdelanosť (kácanie pralesov, biomasa x uhlie, pojmy klima a počasie,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uský preklad financoval Luk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1:05:23Z</dcterms:created>
  <dc:creator>Uživatel</dc:creator>
  <dc:description/>
  <dc:language>en-US</dc:language>
  <cp:lastModifiedBy>F Ch</cp:lastModifiedBy>
  <dcterms:modified xsi:type="dcterms:W3CDTF">2008-12-10T19:37:00Z</dcterms:modified>
  <cp:revision>17</cp:revision>
  <dc:subject/>
  <dc:title>Svoboda, ekonomika, příroda, etika</dc:title>
</cp:coreProperties>
</file>