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693-C504-459A-AB94-33069A95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DA4-6858-4DA2-B69B-140209A1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AAD-9E35-47AE-A446-201F43F3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821-3885-4CF9-B4E6-0667D281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EC0-57FD-475A-A163-BA488A16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1D5F-1FB5-4F43-8A6C-9C67CE1C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3FCB-960E-42E5-A91D-55D14C2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4EE-F066-4BE9-9B22-C69C8E8A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1EB2-7629-49E7-8380-528C3AA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8ED3-B945-4491-9629-002F41A5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B61E-38B4-4CC0-8EA3-1B7FFAB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380-40A5-483D-BCC4-CD499A6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98DB-313D-425D-BF47-67B7E25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EC6-4164-4D3D-B9C9-2661A8E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DDE-E0E2-4FD7-B2BF-20F7AD9A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3C83-2C4E-42EF-8CA4-74FB907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103-7F9B-4946-A2E0-CFF4C33F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A0F-25B1-48CF-85E7-11608BF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02A-9348-4377-84D1-C0159C38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335-22A1-4ABC-9605-4C1E037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CAF-A35F-4A44-96FB-F9B9126B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FAD-A02C-46D9-8558-147F419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72B-533F-46D6-9234-0DFF9DC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7B5-9FD1-4A7D-BE77-170D2BD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BA2-B937-408F-B80F-240F4633B8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E1F-3388-4259-8BE3-889269B7B2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27280" y="450828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Michal Plač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ndřej Roudnic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uraj Podhrads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vlivu prostředí a reakci organizace na prostředí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utoři: T.E.Deal a A.A.Kene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604836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tendencím v chování 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rganizace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ompasový model W.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832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val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Hloubk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ozlišit individ. názory a odpověďmi s odkazem na org. kul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kupin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eduková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Analýza dokument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doplněk k ostatní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rojektivní metody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nedokončené věty ap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še bez předem zvolených kritérií hodnocen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vant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taz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rozhovor nebo dotazní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y mají standardizovanou podobu – užívány jednotné podněty, u dotazování předem připravené otázky, případně možnosti odpovědí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ílem je změřit četnost výskytu určitých znaků =&gt; nutnost volby znaků relevantních pro obsah kultur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Cíle analýzy org. kultury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funkčnost OK ve vztahu k výkonnosti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obsah OK ve vztahu ke zvažovaným strategiím firm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kompatibilitu OK s OK jiných organizací – při plánování fúze apo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77a4af"/>
                </a:solidFill>
                <a:latin typeface="Garamond"/>
              </a:rPr>
              <a:t>Utváranie žiadúcej organizačnej kultúry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ostup utvárania 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Rizik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Nové“ výzvy pre OK českých firi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Postup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rečo utvárať novú OK? (Armstro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roky utvárania O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Jednoznačná a dlhodobo udržateľná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Očakávanie firmy voči zamestnanco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Fyzická podoba (jeden dokum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Poznanie aktuálnej OK (zníženie nákladov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Informovanie a vzdelanie zamestnanco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Kontrola a sankc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Diagnostika zmien v kultúre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Riziká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jednej zrozumiteľnej stratég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Miera kontinuity/diskontinu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ostatočná operacionalizácia očakávaní voči zamestanan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previazanosť novej OK s jednotlivými činnosťami v podnik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mocenského promotora zmen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ôslednosť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konzistentnosť OK a N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„</a:t>
            </a: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Nové“ výzvy českým firmám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orientovaná na zákazník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kvalit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inováci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orientovaná na zákazník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ržná (nie výrobková orientáci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Marketingová (tržná) O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zorec zdieľaných hodnôt a názorov, ktoré pomáhajú jedincovi chápať funkciu marketingu a poskytujú mu normy správania sa.“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16280" y="1585800"/>
            <a:ext cx="4032360" cy="4464000"/>
            <a:chOff x="4616280" y="1585800"/>
            <a:chExt cx="4032360" cy="4464000"/>
          </a:xfrm>
        </p:grpSpPr>
        <p:sp>
          <p:nvSpPr>
            <p:cNvPr id="156" name=""/>
            <p:cNvSpPr/>
            <p:nvPr/>
          </p:nvSpPr>
          <p:spPr>
            <a:xfrm>
              <a:off x="4616280" y="1585800"/>
              <a:ext cx="4032360" cy="44640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2924280"/>
              <a:ext cx="1008000" cy="1728720"/>
            </a:xfrm>
            <a:prstGeom prst="triangle">
              <a:avLst>
                <a:gd name="adj" fmla="val 100000"/>
              </a:avLst>
            </a:prstGeom>
            <a:solidFill>
              <a:srgbClr val="b9c4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723640" y="2997360"/>
            <a:ext cx="1008360" cy="1655640"/>
          </a:xfrm>
          <a:prstGeom prst="triangle">
            <a:avLst>
              <a:gd name="adj" fmla="val 10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80000" y="1483200"/>
            <a:ext cx="2952720" cy="3024360"/>
          </a:xfrm>
          <a:prstGeom prst="triangle">
            <a:avLst>
              <a:gd name="adj" fmla="val 5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85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628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0520" y="22050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Ľudia na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í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880" y="285264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re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až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520" y="35002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jem „KULTURA“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cifický způsob organizace, realizace a rozvoje činností, objektivizovaný ve výsledcích fyzické a duševní práce.“ [Velký sociologický slovník, 1996, s. 547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kvalitu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podnikových štandardo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IS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TQM </a:t>
            </a:r>
            <a:r>
              <a:rPr b="0" i="1" lang="sk-SK" sz="2800" spc="-1" strike="noStrike">
                <a:solidFill>
                  <a:srgbClr val="000000"/>
                </a:solidFill>
                <a:latin typeface="Garamond"/>
              </a:rPr>
              <a:t>(Total Quality Managemen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inováci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ypy inovácií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Technologick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ýrobkov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Poskytovaných služieb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Organizačn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03640" y="1916280"/>
            <a:ext cx="0" cy="30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501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722760" y="32734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pacita pre z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240" y="501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pä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133720"/>
            <a:ext cx="2737080" cy="2663640"/>
          </a:xfrm>
          <a:custGeom>
            <a:avLst/>
            <a:gdLst/>
            <a:ahLst/>
            <a:rect l="l" t="t" r="r" b="b"/>
            <a:pathLst>
              <a:path w="1588" h="1641">
                <a:moveTo>
                  <a:pt x="0" y="1641"/>
                </a:moveTo>
                <a:cubicBezTo>
                  <a:pt x="230" y="828"/>
                  <a:pt x="461" y="16"/>
                  <a:pt x="726" y="8"/>
                </a:cubicBezTo>
                <a:cubicBezTo>
                  <a:pt x="991" y="0"/>
                  <a:pt x="1444" y="1331"/>
                  <a:pt x="1588" y="15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Organizační kultura : od sdílených hodnot a cílů k vyšší výkonnosti podniku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Lukášová, R.; Nový, I.; a kolektiv., Praha : Grada, 200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Marques, C.; Jirásek, F., Praha : Bankovní institut, 1996.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elký sociologický slovník. I, A-O.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Sociologický ústav (Akademie věd ČR) Praha : Karolinum, 1996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Synergický management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PLAMÍNEK, J., Praha : ARGO, 200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Děkujeme Vám za pozornost !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árod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rganizač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Pojem „ORGANIZAČNÍ KULTURA“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podniková kultura je soubor hodnotových představ a norem chování, který je produktem managementu podniku a ovlivňuje základní postoje zaměstnanců podniku (je všeobecně přijímán a udržován), projevuje se ve všech oblastech jeho života (…) podniková kultura závisí na podniku samotném, na tom, jak si ji podnik určuje, jak rozšiřuje a kontroluje chování svých zaměstnanců a každodenní normy, které považuje za žádoucí (…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. [MARQUES, F.; JIRÁSEK, F., 1996:248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cheinův model organizační kultu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rtefak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astávané hodnoty, pravidla a normy chová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sah a síla kultu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1722600"/>
            <a:ext cx="3558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ržního prostřed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profe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zakladatele/vůd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velikosti a délky existence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echnologi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Strategie =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 Kultur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Kultura =&gt; Strategi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Vztah k organizační struktuř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Garamond"/>
              </a:rPr>
              <a:t>autoři: R. Harrison a Ch. Hand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Garamond"/>
              </a:rPr>
              <a:t>4 základní typy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moci – dominantní jedine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rolí – založena na pravidlech a normá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úkolů – orientace na úko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osob – členové jsou samostat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0:38Z</dcterms:created>
  <dc:creator>Ondra</dc:creator>
  <dc:description/>
  <dc:language>en-US</dc:language>
  <cp:lastModifiedBy>***</cp:lastModifiedBy>
  <dcterms:modified xsi:type="dcterms:W3CDTF">2008-11-24T21:31:25Z</dcterms:modified>
  <cp:revision>6</cp:revision>
  <dc:subject/>
  <dc:title>Vztah k organizační struktuře</dc:title>
</cp:coreProperties>
</file>