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E6B1-08AA-440B-A889-30E0EF8F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F445-753C-4B1E-A425-ACD01D7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C1D5-57EF-47F7-B4CC-95149E18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E238-E1ED-43DF-97C8-F1A1984D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EECD-80C1-4CC8-BF21-F8BFBA8A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5338-8259-40CB-9B58-0B3A5677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35E-6BA2-4BCF-BD3B-FFF3CC73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898-7B60-466F-A38B-CB49539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1F6E-DC95-43ED-8FE2-807D41F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F0D9-4D25-4227-8F96-8268BC34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B0F-D07A-40BF-A335-021D211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623A-36C2-4273-8397-ACF14E5F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8665-4C66-4965-B517-66BF4EA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53F-106D-43BF-818F-F998F03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B4FD-B184-44A4-B6F4-08E4D37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2782-E877-437B-8B5D-1AE8CDC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6BDB-17ED-4CF7-AF51-881EFF01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8126-B8C9-4751-8EB0-1BAB98EA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9C9E-E7F3-4CA1-8928-ED72D3FE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006C-11B7-4C31-8DC1-6D2845D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A675-F2A7-4985-B952-511BA79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8577-9E29-4CF7-89E7-859F0EC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0091-CB26-474E-A53A-B26A9EB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1AB8-16FE-4BDB-A89D-00C732D3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1EA-8EF8-4EF7-8869-BF449E3EB7F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E51-2C12-47CA-AC5E-36B60D408609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 u="sng">
                <a:solidFill>
                  <a:srgbClr val="ffffcc"/>
                </a:solidFill>
                <a:uFillTx/>
                <a:latin typeface="Tahoma"/>
              </a:rPr>
              <a:t>Vývojové trendy podniků a jejich řízení na prahu postindustriálního věku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Výkonnost, produktivita, efektivit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 disponibilními zdroji vytvořit co nejvyšší efek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é používat i ukazatele, z nichž lze usoudit budoucí vývoj, nefinanční ukazate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hel poh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stres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Produkt a značk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druže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ávejte zážitky(prožitkový manaž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de in 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rley David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Efektivní portfol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ět pouze ty činnosti, v nichž je firma nej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at vývoj nákladů, krycího příspěvku a zisku na jednoho zákaz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cc"/>
                </a:solidFill>
                <a:latin typeface="Tahoma"/>
              </a:rPr>
              <a:t>Znalosti základem úspěchu</a:t>
            </a:r>
            <a:br>
              <a:rPr sz="38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F.Bacon: „Vědění znamená moc“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ost nápadů-tvotba vlastní poptá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úroveň vědy a vzdělávání v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investice do vzděl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0,9% HDP, USA 2,7% HDP, OECD 1,7% H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 studentů 20-29/1000 obyv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5,6, Francie, VB, Finsko přes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Rychlost a pruž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bulentnost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Výkonostní motivační systé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hyblívá složka mzdy motivuje ví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ání spokojenosti zaměstna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morálních kodexů fir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legování odpovědnosti na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dé potřebují vlastnit úk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Central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ost sladění všech částí podniku, konec autonomním diviz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technologie umožňují lepší propojení celku, umožňují vytvoření a užívání společné báze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duplicity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Inovativ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tes: „Inovace musí být v krvi každého zaměstnanc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 tranzi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Zvítězí velcí, silní, progresiv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dence k vytváření alian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ení duplicit a zvýšení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0% mezi konkur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rtuální fi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ystém strategického říz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se, vize, strategiské cíle(měkké, tvrd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cké řízení je nejobtížnější součást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 jedinečnosti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avost, viz. Con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rian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lučitelnost kr. a dl. cí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jen 2 typy firem, ty které se změní a ty, které zmizí.“ P.Ko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-li tempo změn uvnitř podniku předstiženo tempem změn mimo podnik, blíží se jeho konec.“ J. 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něte dřív, než je to nutné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trategické myšl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ávný přístup a volba metod k řešení strategických úk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í ve variant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permanen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losvětov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disciplinární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éza exaktního a intuitivního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ětnovazebn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koncen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tika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Firma 21. století. Praha : Profesional Publishing. ISBN 80-86419-88-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Strategie úspěšného podniku. Ostrava : Montanex, ISBN 80-85780-93-3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HAMMER, M. Agenda 21: co musí každý podnik udělat pro úspěch v 21. století. Praha : Management Press, ISBN 80-72610-74-0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Firmy se musí radikálně změni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prvky současných firem mají velmi starou histo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ět se však rozvíjí rych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častějším důvodem bankrotu je to, že firmy nereagují na změny na trhu (ne samotné změny)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é firmy přežijí a zvítězí v následujícím období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bsolutní orientace na zákazník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š zákazník- náš diktá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spěch firmy plně závisí na zákazní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y, které zákazník vnímá a jejich zlep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vat nové potřeby zákaz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ení dobrého zákazníka je mnohem levnější, než získání novéh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strategicky předvída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ý svět je chaotic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ání a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vní vytváření budouc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t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lobal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ulace a implementace strategie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udoucí potenciá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vaha pro radikální změny ve firm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ý styl říz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ledávání a rozmisťování schopných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ktivní vytváření poptávky a hledání nových trhů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ence poptávky je základním předpokladem pro jakoukoliv fir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razný převis nabídky nad poptáv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y jsou přesyce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kutečnosti nasycený trh neexistuj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produkt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razy ideas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pecifické přednosti a vnímané hodnot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ecifické přednosti= osobité vlastnosti, které firmu odlišují od jiných fir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to vlastnosti musí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níma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žitečně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yuží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ochotn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aplati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en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ustomizace (personalizace) produk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osti nesmí být snadno a rychle napodobiteln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Orientace na špičkové výsledk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ď jste v tom, co děláte, nejlepší, nebo to nebudete dělat moc dlouho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ma musí dosahovat špičkových výsledků, aby byla úspěš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osvětová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lmi složit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důležitější prvek: včasná příprava kvalifikace pracovníků pro plnění úkolů, které budou v budoucnu pl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0:40Z</dcterms:created>
  <dc:creator>mrerror</dc:creator>
  <dc:description/>
  <dc:language>en-US</dc:language>
  <cp:lastModifiedBy>Lukáš Neradilek</cp:lastModifiedBy>
  <dcterms:modified xsi:type="dcterms:W3CDTF">2008-12-01T09:45:36Z</dcterms:modified>
  <cp:revision>19</cp:revision>
  <dc:subject/>
  <dc:title>Snímek 1</dc:title>
</cp:coreProperties>
</file>