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264-5561-4C32-9315-7F1AE9A3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87B-BC47-41BB-9313-A7EF9F86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04CC3-CC77-4896-A069-D6CA6A62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323BD-6311-401D-B0D8-FE6D8C55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CFD04-6601-4167-BA83-95BB89D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D3496-39E2-4987-9346-6A1BDECD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94BE8-A250-4166-B73C-23D0EF8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B2E84-8BD7-4A37-A337-8873A9C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5758B-8320-4E9D-BBB3-3462866D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C91A3-654F-43F9-A5F7-3836F510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91285-F50E-4CE1-843E-A0A2FAEE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E9CB0-5891-485A-83B8-835975A5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AAC-9F17-40E7-AE62-7F92817B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7B63E-5CA9-4D6C-9B8B-AA9482CD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849FC-884A-407C-84DA-59DB0FD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9E9BD-FCB5-4E13-B472-7CD18B8A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7397E-630E-4E11-96BA-7B58DECB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69CDD-021A-43E8-BA5F-642091F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B9654-CC23-4ACB-88F0-4C6F965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663F7-DB23-4B65-98C5-2620D56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0999A-6F1F-4C83-8093-4AA61DB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7C2A5-4DA9-4ADA-A62A-54151D5D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61A67-59DF-4F45-87D9-D683FFF3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326-93AF-4109-ACD4-CF722090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88E68-55C3-4859-9F27-7A1C8CAF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5443C-ADB1-47AF-AC37-93C41FC2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0BAC1-FB91-4631-85D7-8C313A73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464FE-124F-4421-9365-C95E8C69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46B64-2FC2-4082-AC84-231AAB56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16765-3558-4768-A89B-DDFBED4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B3E1E-EFA0-48CD-97F5-8CA9D936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26588-9F81-4C59-9C30-BFC618B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CC554-785B-43E5-AB34-A4FA923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6E5F-7B3E-40F1-9A6C-19AFB99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33D9-4789-492A-A19A-A120D9D8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9BFCD-A66B-4BCA-A479-E0CA7B5F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A3BA9-4D84-46D4-80BF-1B2EBDFA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6B32-8450-4653-842C-3247BC77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42057-F7D8-4B58-A01E-E7BCF60A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17FD6-1976-41C6-B5F2-A01CDDB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6C0F2-CE27-479D-A223-FDF83920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EF5CF-A424-4496-8E34-0FFBA976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723D8-D7AD-4383-8FCA-DF68F7E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BCB07-FF62-4D7A-A4F3-EA02B01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5ACEF-8BCA-4F17-802F-64AA984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8B70-5C2C-4D98-9EF6-21314DF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37F6E-CEC9-44D4-8760-1709425A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6BB05-17ED-4079-8B58-E19EACDF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78C79-3324-41C6-B389-D8E4BEC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B5099-F957-4804-AA5E-DF18639F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75E64-42F7-47BD-95BF-24373E07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6DA7-4EEE-41B3-BF46-D6B47A4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3DB5-6DB3-4881-843E-4B524003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951-CAF8-4342-A9E3-217B891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65E6-52A3-4FB3-8027-96680FDF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24A-E741-442D-88A0-15B61069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143-CE8E-418F-A51C-115E9E4E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9A5-C326-4DBE-B579-F581514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AF6E-3EB9-462E-8F0B-4B83EA0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2535-E9A2-4F3C-BB72-24650933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EA1E-E127-459B-A612-08EC05E1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CD5-B386-4EA4-82A9-9A402477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1D32-78E4-4AE9-83C5-104F833F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DC39-1E4A-46AA-B1EF-2483C994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A24D-FA61-47EB-81C6-1B2C2C55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74EB-87F4-4A9C-B959-8EA99D89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8EDA-D2A5-4529-B078-755E72F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536-4BC0-4529-905F-625DEE8F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BA83-E546-45F5-B8CB-6189FCAB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33DF-C74C-4B87-BD0D-56250F1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FDF3-5334-4C94-8552-EA05A48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13B9-F9D5-4BA2-A675-307B78E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A884-0FA7-4191-AC27-E16A478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DD1D-CB29-4801-813F-4996CD9B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BA48-8A81-474A-A781-F1FA64DF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973B-F353-44C0-B0CD-26FCBC59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7FE97-73E1-4B92-9848-877E3F0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9177-8B74-4593-B2D2-F0985D5C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741-DFD1-4793-8DBA-86055F2E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5CD7-7284-41D9-8863-711ED4B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6470-15DA-4243-8C6B-D20DED2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D5CD-8B8C-48A4-8942-FB136654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6D56-708F-4537-83F9-9CE201A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9B12-3370-4A0F-AFE0-A022B85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C09E-E9E4-4885-89B6-7EBEA5B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4815-423D-4240-8777-94B1CEC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BC15-7B24-4E66-9F38-CC096F0F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0CC7-13B4-4A9B-ABF5-9622C131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4BBD-DAD8-40EC-900B-F9039653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51A-EE6E-4F77-A82E-7959830A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2F0B1-FC02-4E2F-8BD8-E281204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2F6F-9686-4CAF-A6B5-32A89464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CFBBC-E9E1-403C-BD12-CB154712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156F-6888-48F8-B533-72F12FAE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9F04-A27D-4764-8823-EA9DC9A1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70EC-E245-4142-BC8F-918EB8F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CCF5-9ACF-4354-AC12-332FA99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0602-85BD-4970-9407-F087DB03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7342-8DA7-408C-842F-F43F867A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4070A-0A98-4964-B602-C5D4C45F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18B-BC9F-4D8F-A021-EE9E21C0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C6CA-B987-4075-886F-25F0DC4C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7B45F-AB5C-42EA-A6D7-8D4EF1B2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8890-1225-45CE-ACF8-8EE219D6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51076-77FE-4058-9FEF-7D3B2661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4B88-F9B2-4AC6-AD8E-2F2A06A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2120-3F81-4250-AAE9-47232D8E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F1CBC-59A0-4447-B55E-8B4E4A25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F3D8-81F5-4841-B358-AF6F2A1D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5C1E-5554-4383-AC47-1CDE6E4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3C5E-086F-4D24-857C-E1004E7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9D6-1903-42B5-BE2F-CB69E6D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3AC7-DFC4-442E-89D9-08152941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47C6-0E8F-4BE9-9F10-5A4CF67D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9391-2505-4AA2-B579-BF44906D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731DE-C144-4A4E-9F71-0DD7CE4F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F76D3-40E7-47DC-90B0-3D3BEB6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1036-0877-4233-BFE9-1C041576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D968-8461-499B-A26D-9EFF04F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A3C21-51BF-4F15-9D18-12285E29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586B-860F-48B8-9A66-F52EC3B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B26A-9A93-4D09-AA6F-758A1EB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380-2DAF-47E8-BAC3-93FAAA98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33B7-557A-4A2A-A655-C346C42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FD51-1629-47FD-80B4-92B84FF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56E1-E3DF-44F1-A587-02C5105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C873-7CCD-42DB-A480-13B24F5A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558B4-DA46-425F-8825-7041266C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B8096-309A-4994-820A-6BD6075B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7FB7-B2E5-4636-B4E6-1CB18406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9B13-26DD-4C35-B949-D524991E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C81CF-515F-4B54-ADD9-1A989DF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69DC5-AAB3-4455-8757-48F8B32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2B6-F4A3-41CC-87ED-22B6F6C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D951-2D96-4466-BAF1-8F345BE8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1FB7A-8D8D-4822-8C5C-518D47F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EA00-C718-428A-AF47-6B4A5AF2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FDD29-2FEB-4E8D-B86A-1366D8C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6C658-93E8-41A4-8A2D-7278F44A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81D31-A68A-41E0-86E1-D91A5170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79D71-6258-4D8B-A3B3-EC5C31FA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F812B-7538-48CD-A487-EE569477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C403C-985F-4B2B-8305-F14DAE46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EF1E5-BAA4-4334-B984-ACCDA8F5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C2B-9FF6-4C6E-AEC2-1F2DB34AF8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D35-0E2E-477A-B7FD-DD05CCF94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BBF9-8956-4FF5-95B9-B44F8B163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6F9-1C07-401C-B604-19E6E013E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D58B-8EB5-4F29-A7CF-DF0EFC79D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8A3-E675-4D44-BC7B-474E58E11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73F3-C2D4-456C-94D2-AF64B7CD2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460-8B25-49B2-97AD-9DDD2DEC0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17CB-0B5C-42F2-B382-E106DA441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556-FF90-4A6C-BE0B-8D86764FD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C777-4B17-4C97-A670-C0201708B8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52D-0A2A-41F7-B7F0-1F9CF72DC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6349"/>
                </a:solidFill>
                <a:latin typeface="Georgia"/>
              </a:rPr>
              <a:t>Organizační kultura a strategi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dnikov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– obchod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k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ické strategi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náklad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výrobek/služb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zákazníka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 x selský rozum a prax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konalý systém řízení neexistuj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yhovuje-li jakýkoli systém pro 70-80% požadavků, pak vyhovuje na 100% - zbytek jsou výjimky, jejich systémové řešení je neefek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aždý podnik musí umět „hasi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ze a strategie jsou všeobecně neproveditelné nebo nerealistick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dotažena na cíle střediska, oddělení, apo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svázána s dlouhodobými a/nebo krátkodobými alokacemi podnikových zdroj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pětná vazba necharakterizuje strategické záměry, ale jen opera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Nadpis 1"/>
          <p:cNvSpPr/>
          <p:nvPr/>
        </p:nvSpPr>
        <p:spPr>
          <a:xfrm>
            <a:off x="468360" y="2602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vytvořena jako SAMOSTATNÝ doku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jasné určení odpovědnosti za naplnění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ní dostatečný a vypovídající set metrik (ukazatelů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zi kulturou a strategií existuje oboustranně determinující vzt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kultury ovlivňuje tvorbu, obsah a realizaci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strategie vede k formovaní určitého typu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kultury na strategi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tvorbě strategie respektovat obsah a sílu organizační kultu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liv organizační kultury na proces tvorby a implementace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cíleném vývoji strategie ovlivňuje kultura organizace především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ostoj k potřebě formulace strategie a míru opatřování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Zpracování a interpretaci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Množství a obsah formulovaných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z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 jako „zástupce“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b9899"/>
                </a:solidFill>
                <a:latin typeface="Georgia"/>
              </a:rPr>
              <a:t>Soulad mezi kulturou a strategií</a:t>
            </a:r>
            <a:br>
              <a:rPr sz="2900"/>
            </a:br>
            <a:r>
              <a:rPr b="0" i="1" lang="cs-CZ" sz="1400" spc="-1" strike="noStrike">
                <a:solidFill>
                  <a:srgbClr val="7b9899"/>
                </a:solidFill>
                <a:latin typeface="Georgia"/>
              </a:rPr>
              <a:t>(podle Scholz, 1987, s. 85)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301680" y="1523880"/>
          <a:ext cx="8534160" cy="4598640"/>
        </p:xfrm>
        <a:graphic>
          <a:graphicData uri="http://schemas.openxmlformats.org/drawingml/2006/table">
            <a:tbl>
              <a:tblPr/>
              <a:tblGrid>
                <a:gridCol w="1878120"/>
                <a:gridCol w="2239200"/>
                <a:gridCol w="2240280"/>
                <a:gridCol w="2176560"/>
              </a:tblGrid>
              <a:tr h="48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strate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ab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ág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1)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(2)  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3)    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(4)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(5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        (6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            (7)                                       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(8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??                                      (9)                                        směr??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strategie na kultur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měl by být dominant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se stává pro členy organizace samozřejmou → vznik kultury odpovídající strateg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vorba strategie → utváření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ako „kulturní artefak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ulad mezi obsahem strategie a obsahem kultury je podmínkou dlouhodobé úspěšnosti fi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álem však není naprostá identi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Zdroje, litera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LUKÁŠOVÁ, R., NOVÝ, I. a kol. Organizační kultura. Praha : Grada, 2004. ISBN 80-247-0648-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ÁGNER, I.: Systém managementu. Brno: Vydavatelství MU, 2007, ISBN 978-80-210-4264-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LAŽEK, L. Management II. (Sylabus) Brno : Masarykova univerzita, 2006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ciální jev vztažený ke společenstv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evantní pojm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dniková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irem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d 70. let 20. 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představuje „tmel společnosti“ a plodí pocit „to jsme my“, čímž působí proti procesům diferenciace, které jsou nevyhnutelnou součástí života organizace. Kultura organizace nabízí sdílený systém významů, který je základem komunikace a  vzájemného pochopení. Jestliže tyto funkce nejsou plněny uspokojujícím způsobem, může kulturavýznamně oslabovat efektivnost organizace.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P. Brosse, J. Hentze 198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jsou společně vyznávané přesvědčení, postoje a hodnoty, které existují v organizaci. Jednodušeji řečeno, kultura je „způsob, jakým něco děláme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Furnham a Gunter 1993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ři chápání kultury jako způsobu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mysl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 a myslí (kombinace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naha o zobecnění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ganizační kultura představuje soubor základních předpokladů, hodnot, postojů a norem chování, sdílené členy společenství, které se projevují v jejich myšlení, cítění a chování a v artefaktech (výstupech činností) materiální a nemateriální podoby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ágner I., upraveno podle Lukášková R. a Nový I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nější projev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ne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Histork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Mýt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azyk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mage podnik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Vzhled budov, kanceláří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dniková uniforma, produkty vytvářené podnikem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avidla společenského sty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dno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o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rmy chování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Zdrojem jejich vzniku je opakovaná zkušenost, či spíše funkčnost určitého způsobu řešení daného problému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tři úrovně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539640" y="1916280"/>
          <a:ext cx="7993080" cy="4063680"/>
        </p:xfrm>
        <a:graphic>
          <a:graphicData uri="http://schemas.openxmlformats.org/drawingml/2006/table">
            <a:tbl>
              <a:tblPr/>
              <a:tblGrid>
                <a:gridCol w="3095640"/>
                <a:gridCol w="1800360"/>
                <a:gridCol w="3097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TEFA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ĚDOMÉ,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DNOTY, PRAVIDLA, NORMY CH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ČÁSTEČNĚ VĚDOMÉ, ČÁSTEČNĚ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ÁKLADNÍ PŘEDPO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VĚDOMÉ, SPONTÁNNÍ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24000" y="1557360"/>
            <a:ext cx="853416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lná původní myšlenka nebo v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ednotná firemní kultura a politi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á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26040" cy="4089600"/>
          </a:xfrm>
          <a:prstGeom prst="rect">
            <a:avLst/>
          </a:prstGeom>
          <a:ln w="0">
            <a:noFill/>
          </a:ln>
        </p:spPr>
      </p:pic>
      <p:sp>
        <p:nvSpPr>
          <p:cNvPr id="624" name="Zástupný symbol pro obsah 2"/>
          <p:cNvSpPr/>
          <p:nvPr/>
        </p:nvSpPr>
        <p:spPr>
          <a:xfrm>
            <a:off x="324000" y="3068640"/>
            <a:ext cx="374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ě navržené a efektivně fungující proces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ngující princip zpětné vaz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jem „strategie“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vyjadřují základní představy o tom, jakou cestou budou firemní cíle dosaže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plán naplnění mise a vize společnos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forma několika scénářů budoucího vývoje a reakcí firmy na jednotlivé možné varianty budoucího vývoje společnosti a jejího okol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7:39Z</dcterms:created>
  <dc:creator>Vajcka</dc:creator>
  <dc:description/>
  <dc:language>en-US</dc:language>
  <cp:lastModifiedBy>snoopy</cp:lastModifiedBy>
  <dcterms:modified xsi:type="dcterms:W3CDTF">2008-12-01T10:24:35Z</dcterms:modified>
  <cp:revision>11</cp:revision>
  <dc:subject/>
  <dc:title>Přirozený a umělý řád</dc:title>
</cp:coreProperties>
</file>