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224-BCB7-4C04-807B-F875EC6B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5838-F6AC-4E4D-9381-C582D4F6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F61-6DF7-4703-A743-E48BEDE1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2B5-F764-4102-A407-9CA0B336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36DD-27E1-4EAD-BF8D-C2238FBF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5CD4-5324-4808-8676-B000570D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DD47-5B7A-421F-9818-F9A9DEDE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6B19-80F0-429B-99A1-058FC11E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B75B-8E46-4725-A944-3BDCE622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1D89-27C7-4028-85F3-13598714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1949-C10B-4CBE-B19E-B0B6F640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33A-3189-453E-AA1D-0BD92A63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5653-7BE4-4C34-995C-2A19D07E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F183-0202-4071-9736-F277F1E5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9431-31B3-4021-B20B-4C10630A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3F4E-79C3-446C-8A18-1A4A9819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D12F-8F2B-4DC7-9BDC-BA425587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1A5-151F-48F3-9295-25424CF1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B14-7639-43ED-92D3-90A5DC8D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6E7-7F42-403C-8F43-03303673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47A-B171-497B-A521-B722DE21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DB1-DEB3-402B-9A84-AC256DDF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430-3DCB-4EEC-9B6E-273312FD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032-BAE8-4F5B-B1B1-0E0F0006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CB2F-FF5C-4B10-B836-F388A82B4E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D29D-1086-4617-BCED-65F2398D75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terkulturn</a:t>
            </a: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í managemen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chal Bla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omáš Krá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rcela Paulíčk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České kulturní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izace a flexibil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důvěra vůči pravidlům, formalizovaným postupům, normá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ynalézavost, improviz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aptabil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lkorysost (být nad věcí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jetí kva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entace na sociální vzta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ytvoření soc. klimatu při jedn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cházení s negativními informacem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řešení sociálních konflikt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tikularism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České kulturní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ifú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opojení jednotlivých oblastí živ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áce a volný č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mocionalita a racionalit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acovní role a vlastní osobno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ormální a neformální struktury, inform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labý komunikační kon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erbální, neverbální komunik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ignály, ironie, nepřímé vyjadřov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asto nízké sebevědomí a sebejisto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lychronie času – více činností najedn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ěmecké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naha vyhnout se rizi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Organizace, normy, postup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aměření na detail, perfekcionism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Funkční hierarch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ěcná orient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rimární věcnost jednání = profesionali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ddělování jednotlivých oblastí živ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ilný komunikační kontext, přímá komunik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ebejist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onochronie času, přesné časové rozdělení činnost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nsformační a tržní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sou kulturní standardy univerzální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emě západního světa: kulturní standardy tržní ekonomi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emě východní Evropy: transformační kulturní standar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zájemně se přibližu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formismus ve vztahu k autoritám x Zaměřenost na výsled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eská snaha vše a všechny přežít, snaha všemu se vyvarov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á ochota bojovat za svoje názory – strach z autor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Řízení od „zeleného stolu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upem času konformismu ubý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ence iniciativy x Inicia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lavní problém transform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tivita velkou překážkou – zahraniční manažeři nás mají za nevzdělané a nezkuš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eši si stěžují, ale nic neděla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ibi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I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lektivismus x Individuální výk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měňování podle výk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ebeprezentace, Sebeprosaz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otiv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mprovizace x Kval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ypicky český fenomé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lokvalifikovaná prá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atrný styl interakce x Sebejistá interak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ha vyčkat a nechat soupeře vyložit k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ach nezesměšnit 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ladá generace je na tom lépe než její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asová nepřesnost x Čas jsou pení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říve nebyl kritériem ekonomické efektiv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áce na dvě hodiny rozvržena na celý 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ordinace, logist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rakouské perspektivy 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entace na soc. vztahy a utváření vzájemné důvě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dnání je formální, až ve chvíli, kdy si obě strany věř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obní vztah zárukou oboustranného dodržování do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ůrazňování symbolů statu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rakouské perspektivy 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erarchie a autor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kousko: velká pravomoc, schopnost manažerů se okamžitě rozhodn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abs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kdo není kompetentní – dlouhé toky informa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ždý názor doplněn výhrada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ence samostatnosti – důvěra autorit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rodní hrdost, orientace na minul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Pojem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ultura – původ v latinském slově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colere,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což znamená pěstovat, šlechtit, ale i obývat, vážit si, uctív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statné jméno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cultur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vyjadřovalo dříve vzdělávání, kultivování země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icero jej poprvé použil ve vztahu ke kultuře ducha v Tuskulských hovore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ultura tak, jak se zformovala ve starověku – aktivita člověka, cílevědomé úsilí o zdokonalení světa i sebe sama, opozice vůči čisté přirodno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americké perspektivy 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díly v prezentaci vlastních pracovních úspěc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: chválí sami se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podceň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Čekají na pochv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ětší strach neudělat chybu, než zájem o úspěch a vítězstv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mčina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americké perspektivy 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lišná očekávání od pracovního zařa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díly v míře vyžadované samostat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postupy musí být schváleny sh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: samostatnost – „plav, nebo se utop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kace se zaměstnaneckou organiz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: váží si svého zaměstn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ze zahraničí vnímáno jako neloajál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Nový, I. – Schroll-Machl, S.: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Interkulturní komunikace v řízení a podnikání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1. vyd., Praha, Management Press, 1999. ISBN 807261009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Lehmannová, Z.: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Kulturní dimenze v mezinárodním podnikání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1. vyd., Praha. VŠE v Praze, 1999, ISBN 80707985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Nový, I. – Schroll-Machl, S.: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Spolupráce přes hranice kultur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1. vyd., Praha, Management Press, 2005, ISBN 80726112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Kulturní pluralita současného svě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 světě existuje mnoho odlišných kultur, nikoliv jedna unifikovaná kultu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aždá kultura je jedinečná, navzájem se liší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hodnotovým paradigmatem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oto paradigma má dva základní determinant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eografické podmí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istorie (události, vlivy, ohrožení atd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Současná podoba kulturní plural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nohost kultur existuje nejenom na horizontální úrovni, ale i na úrovni vertikál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globálního kulturního syst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nadnárodních kulturních systémů (základních světových kultu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národních kulturních syst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kulturních systémů etnických skup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Základní klasifikace nadnárodních kulturních útva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pad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fuciáns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apons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sláms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induistic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atinsko-americ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fric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Mezikulturní komunik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ulturní systémy zásadně ovlivňují způsoby vnímání, prožívání, hodnocení světa, způsoby myšlení a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ultura má 2 aspekty (dle R. Lintona)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jevný: výsledky lidského jedn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sobnostní kultura: znalosti, postoje, hodno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Výchova k mezikulturní komunikac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chova k mezikulturní komunikaci je dnes již nezbytn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íl výchovy: komunikovat s příslušníky cizích kultur bez zkreslení předávaných informac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ozvinutí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metaznalosti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jinak také kognitivní seberegulace – schopnost přistupovat k mnoha kulturám najednou, pohybovat se z jedné kultury do druhé bez ztráty osobní kulturní integr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nažer by měl ovládat interkulturní kompetenc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Výchova k mezikulturní komunikaci 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ři základní krok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Pochopení specifiky vlastní kultury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dosažení tzv. kulturního sebeuvědomění (které kulturní determinanty ovlivňují naše vidění svě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Pochopení odlišnosti jiné kultury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pochopení jejich základních rysů. Rozumět jak lidé z jiné kultury vnímají a interpretují skuteč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Komparace obou kulturních modelů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oproštění emocionálních reakcí vůči vlastní i cizí kultuře. Jedná se o kulturní nadhled, překonání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etnocentrismu.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ezení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kulturního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šok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a německé kulturní standard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mpirický výzkum (Nový, Schroll-Machl: Interkulturní komunikace v řízení a podniká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Kritické události –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kvapení, nepochop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ísemné dotazy, diskuze, sebepozorování, expertní posouzení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Arial"/>
              </a:rPr>
              <a:t>   ►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  <a:ea typeface="Arial"/>
              </a:rPr>
              <a:t>vzorce ch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3:18:16Z</dcterms:created>
  <dc:creator>marcela</dc:creator>
  <dc:description/>
  <dc:language>en-US</dc:language>
  <cp:lastModifiedBy>snoopy</cp:lastModifiedBy>
  <dcterms:modified xsi:type="dcterms:W3CDTF">2008-12-02T11:32:17Z</dcterms:modified>
  <cp:revision>8</cp:revision>
  <dc:subject/>
  <dc:title> České a německé kulturní standardy</dc:title>
</cp:coreProperties>
</file>