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71C-267A-4B52-AB8D-846F50AB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F6A-8BCF-4EE9-A6F8-C40EF47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BA9-E8AD-48E4-AC37-A48570B3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ACA-93EC-4487-936E-CCDD7B0E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1073-C689-4199-A02C-B481D98C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6F5-422F-4098-A7E8-1D39907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B28-883D-4393-9767-3C247B0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06D7-F672-423B-87BB-13E38A1F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938-2C45-4F59-B9EF-415BBF8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905A-2CAC-4087-879B-CF8F1A7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F66-0FEA-4FAA-A736-25A106E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A55-6979-4238-A50B-F974E3B6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CCB1-BDCA-4D44-9CDE-52D1176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F40E-37F2-4315-AA62-FE3E228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BD38-D00B-47AF-98A7-6E3DE5D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BB00-82E7-4AFD-A7E6-6ED3D6A7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FC6-5492-48F2-B9A2-081B7951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7CC03-FCB8-4F11-8294-BB01C7B3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050E1-C7C0-4B57-A453-8E48A06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061BA-64F3-4FE0-A8D6-EA58303C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7519B-2CFD-4ED3-B71C-01696B68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2B103-00E7-49D1-A8C2-A7D9386C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E18-EDC6-4794-A42F-C699423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59A56-1570-4016-B276-F45E2FE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F3D9C-5E2D-442B-A829-42F2194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9B5BD-8789-4E4C-A7BB-E887C9B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86A10-FB7B-4CDE-A85F-D749458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77D17-2C21-438E-B145-BBB0F986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52E0C-0031-40F6-99A8-093A95A1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00BB1-2916-4910-8C81-51953913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C6B6A-85B5-4B7C-A5BE-1256D65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5A9F0-954C-4006-BF1B-C539679B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66A02-A9B8-4652-A4BA-C9D9AEEA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389-E9D0-4722-9838-B6621927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5E5A0-776E-4DB4-88B5-6046C7E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8DC76-DAC6-491E-8B22-B85F29EB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05317-4707-40A7-B38B-FBE7727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85DE7-C80B-4FA6-9B39-B6EEC16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D4857-1076-4243-A733-B6F2FB3D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2EC61-C12F-48EA-8AC6-AD1D8E9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29C75-9F74-4840-BE19-77DA0BF3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00230-5E78-4770-B059-E2DD12E5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8A7C6-09D2-408F-A681-BF43921B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F6E9A-C58A-4738-A043-B198D900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C1A-EE4A-40E2-81B9-56D7C79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EAD91-F2B4-4D48-AD8C-F79101DC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FF190-FBC0-4A06-B81C-BEECD3B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E4359-1AE4-48D2-A096-81193F2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9EC95-6404-439C-89FD-55C988C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D33EA-72B7-40B5-B576-F07316CF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2B2ED-0A3F-4020-B011-71BE336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8CA4D-0B4C-4B7E-907C-5E256EC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61A84-E27A-429E-AC5D-4327EBE1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9BC8D-BC6D-4224-9CE7-44976CF2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CCE62-206B-4413-8316-4AFF2869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CD3-BF6C-4D6E-A0BB-5C5A308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FFD4C-40BF-4185-8FF9-C93D20A8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341C5-E829-4D45-A8D5-80A5CE29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D0F53-C83C-4494-979A-3B8BACF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21DF-88B5-42DC-98B5-19D93EF1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1A33-83B9-420E-987E-D37C27B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CFE6-9D4C-4505-B1B0-8E231E90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9D06-5BFF-468A-B334-7B30C74D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31A0-5A15-4C13-8D83-BC914E0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DBCB-0F17-46F0-B136-FF2AD81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39D0-AA24-4DDE-AEAA-A0C0C2C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139-268C-41B5-8DCF-3C24765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EE96-C7A0-4CDC-92EE-16667A5D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4925-CB72-4A73-B186-B2D5E02C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4681-4157-4DB5-8DB6-FB24E341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028C8-580B-4EF9-9F6F-3E581A10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D1E31-5332-4E3C-92A5-79E9E7A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919F6-E449-4A3C-BEDF-7DCF14A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4A31D-86FF-46A0-9E70-27BCB54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49A33-748E-4569-B4F8-CD9C04F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C78C3-02AD-45B1-B0DC-D2D662A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046F5-3A92-461E-ABB9-62CF237F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E2F-A65A-4A53-A5ED-66D59DC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85A70-696C-4320-8051-BFF1AF0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A1BE7-A1CB-4691-B694-70E9AF7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3D499-D63F-4A88-9918-2A8A8D1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CF9C6-2F3A-493B-A97C-98B043E7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665E9-C487-45C9-BEC6-1FD3EFA3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24D6-0A60-423D-AFCF-5543D6B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391C-1DAF-4F13-A861-99296FA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11A1-B187-44B7-B19F-F181F50A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0816C-8E58-4E70-A82A-BB132EC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173F-92FA-40EE-BFFB-0C4A02C2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DEE-25EF-42EA-90D3-75EEA4BC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0389-4B9B-4393-8046-1CAA01E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7E1D4-C79E-4335-B52B-63F1DF7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9B62-EB7B-46D5-B4D2-50EA4DB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1608-7D62-4293-8D16-886F755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0372-61F7-4B55-9DC6-6D2B113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ABA3-279D-44A6-B49C-5C269F98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7CDD-C88F-4CEA-9F60-4E728415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52BC-579B-4DA8-A236-81A2E3FF46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854-B1A0-4CD9-A8E8-E0407046FFD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2800-64D7-460F-ABD4-ECFBBD8B963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E84-44E0-4847-9014-B14724C089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51CB-A928-487B-A120-980C3BDBD5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ADF-FA0C-4CC7-87AE-400C47C73EA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845-0E99-466E-81B5-B16CAB8C25E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54E7-2268-43E5-A7F3-8491E9E181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NAŽERSKÁ ETIK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ktivity mimo rámec legislativ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STÍNOVÁ EKONOMIK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Černá ekonomika – kriminální aktivity, prostituce, distribuce drog, krádeže, práce načerno a mnoho dalš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Šedá ekonomika – podplácení, nezdaněné příjmy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rup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árek nebo úplate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měr, s jakým byl předmět darová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elospolečenský problé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národní nevládní organizace Transparency International - monitorování korupce v celosvětovém měřítku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R se v roce 2008 umístila na 45. místě z celkových 18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aní špinavých peně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peníze získané trestnou čin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Z obchodů s drogami, z vydírání, obchodu s bílým masem, prostituce, pašování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incipem je tyto peníze prohnat řetězcem  nejrůznějších transakcí, aby se na konci mohly vykázat jako legálně získané příjm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halování této trestné činnosti ztěžují rozdílné právní systémy v různých zem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ka manažerské prá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ředpokládá dodržovat určité, v dané komunitě obecně uznané 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álně zodpovědné jednání manaže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ísemná podob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psaná pravid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psaná pravid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anažer prověřuje tyto fil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tilitarita rozhod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áva a osobní svobod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ravedlno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dva poslední se můžou vytvořit pravid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ntrola dodržová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ála pozornost dodržování specifických etických pravi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formální kontro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yužívání informací důvěryhodných spolupracov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jlepší pákou na dodržování manažerské etiky je pozornost nadřízených vedoucích pracovníků věnovaná manažerům na nižších stupních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brý manaž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dodržovat značnou sebekázeň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pečovat o svou bezúhonn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sobní image manažera = charakteristické rysy jeho chování a vztahů k lid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olupracovníci obvykle hodnotí tyto rysy svých nadřízený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vdomluvnost, čestnost, schopnost držet své slovo, ochota „pálit si prsty“za spolupracovníka, vztah k podřízeným, vztah k alkoholu apo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ŮLEŽITÉ!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ílevědomý a náročný manažer bude svým okolím za své jednání málokdy jednoznačně chválen. Může však dosáhnout toho, aby si ho převážná část dobrých spolupracovníků vážila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utnová, A., Seknička, P. Etické řízení ve firmě. Praha : Grada, 2007. ISBN 978-80-247-1621-3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ný, I., Lacina, L. Globalizace – Etika – Ekonomika. Boskovice: Albert, 2001. ISBN 80-7326-000-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cké řízení ve firmě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c. RNDr. Anna Putnová, PhD., M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hDr. Mgr. Pavel Seknička, Ph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kruh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dnikatelská etika v tržní ekonomic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hodnoty v ekonomické prax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incipy, nástroje a metody etického řízení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říz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olečenská odpovědnost firem a její vývo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ý a sociální au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Počátky v 90. lete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1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formace ekonom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Společnost pro etiku v ekonomice (NHÚ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Počátek výuky et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2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Učební texty, medializace + průzku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Výsledky privatizace a akce „Čisté ruce“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parency International ČR (korup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Etické fór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1. stole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rovnání s rozvinutými zeměm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ika podnikání jako součást začlenění ČR do E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řízen úřad ombudsma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le TIC hojně vyučován na VŠ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ématu se věnuje i konference v Parlamentu České republi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řístup k podnikatelské e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13880" y="164304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erický vs. evropský přís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lišnosti v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émant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tické 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iciativa fir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konomické důvo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nížení transakčních náklad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ílení loajality zaměstnan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váření a posilování image fir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ilování spokojenosti zákaz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ispívání k loajalitě investo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spěvek k zis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ultivace podnikatelského prostře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del morálního rozvoje podnik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orál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álně-práv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olečensky odpovědn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y se rodíc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olečenská odpovědnost v podnikání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jí v popředí zájmu většiny podnikatelských aktivi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livňuje hodnocení podniku okolí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dpovědné chování podniků může zapříčinit ekologickou katastrofu, destabilizovat trh, poškodit zákazníka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vě základní stránky etického myšlení: individuální a sociální etik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12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2:40:20Z</dcterms:created>
  <dc:creator>čtenář</dc:creator>
  <dc:description/>
  <dc:language>en-US</dc:language>
  <cp:lastModifiedBy>snoopy</cp:lastModifiedBy>
  <dcterms:modified xsi:type="dcterms:W3CDTF">2008-12-10T14:57:34Z</dcterms:modified>
  <cp:revision>9</cp:revision>
  <dc:subject/>
  <dc:title>Manažerská etika</dc:title>
</cp:coreProperties>
</file>