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BC6-97C7-4564-8FF1-ED2B078E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951-7EC5-45C5-8581-F3B7B942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5BA-45C6-4010-8C0C-A974479B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7E9-652F-4E8A-A43E-2E116C9D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86C4-1C35-4D6F-BF2C-1C8C950B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7601-7BB4-4901-9A5A-A86B7635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0CC9-CC3D-4541-B550-588F706D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F4CA-8980-451E-8B5C-2C2CA7AA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265C-0D5B-4740-8D65-223D5041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9495-4186-4C6F-9178-6E18A4B0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56C2-C529-4CEF-B1BF-E18E4787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573-F656-4960-A90B-8B77E703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09DE-E937-4029-A9A5-80B19F45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91C9-1A3E-4FB6-9A82-0773F4A8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1BE5-36B2-4E11-832F-76ABD5B1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60B2-8BED-4303-99FC-5C337702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6755-2ECD-474E-B7C3-7D534183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F18-2FFE-42AE-9306-285759D1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E3D-1A1C-4D21-8564-4B44E2D8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75B-A2FC-40C9-99A0-E7C00A64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24A-E068-436B-BD00-241585C1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026C-6E4E-4C48-B1DF-41112089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67B8-1F92-4058-A434-5E3220CF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F386-AC1D-4940-AAB1-B963D1B6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E93E-8C93-48F8-88CA-EA31965CD3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460D-8F2F-4E2D-9348-61870CD3994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trukturalni-fondy.cz/" TargetMode="External"/><Relationship Id="rId2" Type="http://schemas.openxmlformats.org/officeDocument/2006/relationships/hyperlink" Target="http://www.strukturalni-fondy.cz/" TargetMode="External"/><Relationship Id="rId3" Type="http://schemas.openxmlformats.org/officeDocument/2006/relationships/hyperlink" Target="http://www.strukturalni-fondy.cz/" TargetMode="External"/><Relationship Id="rId4" Type="http://schemas.openxmlformats.org/officeDocument/2006/relationships/hyperlink" Target="http://www.strukturalni-fondy.cz/" TargetMode="External"/><Relationship Id="rId5" Type="http://schemas.openxmlformats.org/officeDocument/2006/relationships/hyperlink" Target="http://www.strukturalni-fondy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ývojové trendy podniků a jejich řízení na prahu postindustriálního věku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Zora Navrátilová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ichal Meluzín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omáš Dostál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ýkonnostní motivační systém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e 21.století zvítězí firma se zaujatými, odhodlanými a odpovědnými zaměstnanci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motné i nehmotné formy odměňová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jsilnější motivační faktor – mz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vé tendence – volný čas, zajímavá práce, samostatnost, dekolektivizace mzdových jednání (individuální sjednávání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jlepší firmy vs. motivační systé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íce peněz na mzdy a zam.výh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K obsazení nové pozice využívají více interní zdr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ledují pravidelně spokojenost zaměstnanc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íce využívají mzdová pás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řesně definované a propracované personální proces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orální kode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Hrd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entace na zákazní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zákazníci jsou největším aktivem podniku“ </a:t>
            </a:r>
            <a:r>
              <a:rPr b="1" i="1" lang="cs-CZ" sz="2400" spc="-1" strike="noStrike">
                <a:solidFill>
                  <a:srgbClr val="003366"/>
                </a:solidFill>
                <a:latin typeface="Arial"/>
              </a:rPr>
              <a:t>P. Kot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Globální převaha nabídky nad poptávkou – vznik zákaznické ekonomik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náš zákazník – náš pán“ </a:t>
            </a:r>
            <a:r>
              <a:rPr b="1" i="1" lang="cs-CZ" sz="2400" spc="-1" strike="noStrike">
                <a:solidFill>
                  <a:srgbClr val="003366"/>
                </a:solidFill>
                <a:latin typeface="Arial"/>
              </a:rPr>
              <a:t>T. Bať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ostavení zákazníka ještě posílí nové směrnice E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entace na zákazní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Uvědomění si orientace na zákazníka všemi pracovníky podnik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Rozpoznání hodnot a tuže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volávání nových potře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mýšlení nových produktů šitých na mír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Klíčová je loajalita stávajících zákazník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užití feedback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ovativ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měny a modernizace všech podnikových aktiv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mý či nepřímý profit pro zákazní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tné zvažování zaměření inovac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ex inovací – u produktových změ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ovace – pojetí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Inovace je úspěšné využívání nových myšlenek“ </a:t>
            </a:r>
            <a:r>
              <a:rPr b="1" i="1" lang="cs-CZ" sz="2400" spc="-1" strike="noStrike">
                <a:solidFill>
                  <a:srgbClr val="003366"/>
                </a:solidFill>
                <a:latin typeface="Arial"/>
              </a:rPr>
              <a:t>Ministerstvo obchodu a průmyslu G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Iniciativa Equal (2004 – 2006), OP Podnikání a inov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Inovace není jen nápad samotný, ale především jeho implement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 ČR nízký stav inovační výkonnos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ktivní vytváření poptávk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ahlcenost trhů zbožím a služba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zbytnost aktivně vytvářené poptáv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vůrčí přístup, fantazie, hledání nových produlktů – Superproduk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edvídav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ychlost a pruž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peed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užnost společnosti –prodej X výro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nížení rizika – sezónnost, simultánnost, způsob kontroly kvality, organizace distribučních sítí, informační technolo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lný top mana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edvídav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rategie, mise, vize firm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vádění radikálních změ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ma jako cel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tivace, stimu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ledání “správných“ pracovník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oncepční iniciátoři i mediátoř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užitá 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ČEK, Z. Firma 21. století. Praha : Profesional Publishing. ISBN 80-86419-88-6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strukturalni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-fondy.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ttp://www.equalcr.c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kteristika prostřed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lké změny ve světové ekonom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ůdčí rol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sivní nástup firem z asijských stát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astaralé rigidní metody manažerského řízení v Evrop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třeba změny firemní strate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867280" y="3645000"/>
            <a:ext cx="1660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ozvojové tendence světa 21.stolet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69436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uperkonku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uperturbul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formatiz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lektualiz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lobaliz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litantnost a terorism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zmanit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niaturiz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sou jen dva druhy firem. Ty, které se změní a ty, které zmizí.“ </a:t>
            </a: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P.Kot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22720" y="2362320"/>
            <a:ext cx="32418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incipy úspěšné firmy 21.stolet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Absolutní orientace na zákazní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ilný top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Aktivní vytváření poptávky a hledání nových trh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soká výkon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Rychlost a pruž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ýkonnostní motivační systé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Inovativ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oderní informační technolo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ysoká výkonnost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ektivnost – vztah hodnoty výstupu k hodnotě vstup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ktivita – výkon za určitou časovou jednotk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ýkonnost – schopnost subjektu vyprodukovat za určité období souhrn statků a služ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ysoká výkon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vé ukazatel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valifikovaná strateg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valita vztahů se zákazníky – spokojenost zákazníků, počet ztracených zákazníků, CR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Nehmotná aktiva – odbornost, inteligence, mobilita, osobní zaujet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hareholders – majitelé – ROI, E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                   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zákazníci – kvalita produktu, ce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2096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dnocení výkonn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díl na trhu – BCG ma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idaná hodno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tmanův inde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ýkonnost zákazník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zhodující činitelé mající vliv na výkonnost: rychlost, jednoduchost procesů, transparentnost, jasně definované cíle, zpětná vazba, vzdělávání pracovník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ýkonnost českých fir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lné stránky – infrastruktura, relativně nízké náklady, geografická poloh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labé stránky – daňový systém, soudy, staré technolo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ležitosti – příliv technologií, E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zika – nedostatek pracovní síly, konkurence EU, As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1:09:01Z</dcterms:created>
  <dc:creator>čtenář</dc:creator>
  <dc:description/>
  <dc:language>en-US</dc:language>
  <cp:lastModifiedBy>Zora Navrátilová</cp:lastModifiedBy>
  <dcterms:modified xsi:type="dcterms:W3CDTF">2008-12-03T09:46:17Z</dcterms:modified>
  <cp:revision>7</cp:revision>
  <dc:subject/>
  <dc:title>Vývojové trendy podniků a jejich řízení na prahu postindustriálního věku</dc:title>
</cp:coreProperties>
</file>