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6A7-5111-451C-A598-9C76AAF4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6EB-85B4-4185-912B-33F7E185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4DE-339D-495A-8026-FC71BDE4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2433-D456-498C-BB2C-6A6D5462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01D9-0942-45F6-AD7D-65285FD6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32FC-3E97-48AF-8200-668E53B7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E73A-2C7C-4E62-A46E-4B1D9A67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65C9-BC48-4BB3-ABFF-EE203BCA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2B40-BFB0-4A8E-A2E5-44D875F1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3100-AF90-4355-B2B2-6033E4B6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2860-8376-4530-8478-34C6829D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25D6-D0A2-4B6C-9C19-16718FD9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43E6-4C97-48E7-99C3-338CFC88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EFA1-232F-4179-A4BF-358345C0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4ED4-0672-488B-B06F-034182C4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BEF3-2511-4307-9D7D-F644B6FD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3405-6BFE-40D7-92C4-F52DFAD8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245B-9710-400E-BCEB-880BC55F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E284-53FD-4518-AA04-A004C63D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FD7-8A4A-4A6B-B355-794F8E97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A2A-8CCB-44E6-9DF1-F860741B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963-9374-4CB2-97C1-F98BB040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9E6F-F39D-46D4-B0C4-2C66E2FC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023-8F6C-44B0-B3C2-574D337A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7208-65B6-4656-B320-879F5304253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52D3-0DED-4FFF-8830-7E758335D56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tika podnikání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ena Košíčk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a Kubic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byněk 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tické řízení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s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 tvorby zis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zdělování zis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ůvody pro etické chování podni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výšení kvality živ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parativní výhoda na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povědnost podniku za č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rální rozvoj podniku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stupeň – amorální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stupeň – formálně-právní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stupeň – společensky odpovědná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stupeň – eticky se rodící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stupeň – etická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Teorie Stakehold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nikatelská organizace má širší odpovědnost než jen vůči svým vlastník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současnosti se zvyšuje tlak na sociální (společenskou) odpovědnost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akeholders“ je skupina těch, kteří mají zájem na činnosti firmy, nebo-li skupiny participující na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Primární stakeholdeř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lastní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nku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lo/velkoobc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ěřitel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Sekundární stakeholdeř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ístní společen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řejní aktivi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chodní asoci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hraniční vlá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át a místní zastupitel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řej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ciální odpovědnost podniku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(CSR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pohledu podniku je třeba dbát nikoli o dosažení maximálního zisku, ale optimálního zisku, který vezme v úvah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echny principy udržitelného rozv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arentnost v rozhodování, finančním hospodaření a personální poli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vný postoj v otázce lidských prá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členění etických norem nad rámec norem právních – „odpovědný občan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ůvody přijetí CSR firmam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naha vyhnout se vládním zásah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třeba seberegulace byznysu jako odpověď na jeho vzrůstající ekonomickou m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měňující se vnímání byznysu ze strany veřej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akteristika CS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ři základní pilíř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konomická oblast (etický kodex, protikorupční politika, ochrana duševního vlastnictví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ociální oblast (rozvoj lidského kapitálu, rovné příležitosti, lidská práv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nvironmentální oblast (ochrana přírodních zdrojů, ekologická výrob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utnová, A., Seknička, P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Etické řízení ve firmě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Praha : Grada, 2007. ISBN 978-80-247-1621-3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uknič, A. Štvrtý rozmer podnikania – etika. Bratislava : Slovak Academic Press, 1994. ISBN 80-85665-30-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ěkujeme za pozor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dnikatelská eti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profesní, aplikovaná, normativní et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ůvod vzniku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zinárodní obc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y zdravého a dynamického rozv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ývoj: po 2. světové válce v západních zemích – zlepšení kvality živo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ČR hlavně 90. léta např. Čisté r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konomické důvody naplňování podnikatelské etik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nížení transakčních náklad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sílení loajality zaměstna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tvoření a posilování image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silování spokojenosti zákazní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spěvek k loajalitě invest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ivace podnikatelského prostřed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spěvek k zis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líčové hodnoty pro tržní ekonomiku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laté pravidlo morálky: Co nechceš, aby jiní dělali tobě, nedělej ani ty j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uroamerický  systém hodnot pro ekonomickou praxi pro řešení složitých etických problé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bsahuje tyto hodnoty: svoboda, spravedlnost, odpovědnost, důvěra, pokrok, prosperita, racional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konomická svoboda: klíč k výkonné ekonomice, efektivnímu řízení, správě podniků a udržitelné míře růs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avedlnost: za stejných nebo podobných podmínek bude se všemi bytostmi jednáno stej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povědnost jednajících osob či organizací, jež se vztahuje následky takových činů, jimiž nebyla porušena právní forma, ale přesto došlo k narušení etických norem a hod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ástroje etického řízení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ční nást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dexy e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cké vz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cvik a vzdělávání v oblasti podnikatelské e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í nást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cký a sociální au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řad ombudsmana pro etiku ve firm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cké výb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ncipy etického řízení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povědnost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konomický a sociální vliv na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nikatelské ch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ektování pravi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a mezinárodního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hrana životního prostřed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varování se nezákonných oper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tické kodex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jvýznamnější a nejpoužívanější nástroje e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lká Británie – 50-60% společnost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R – 20% společ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vádění v době změ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plňuje zákonnou úpr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rozumitelnost a jednozna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Řeší vztahy se zákazníky, akcionáři, zaměstnanci, dodavateli, konkurencí, vlád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tické kodex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ké obsahové okruh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ektování prá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estnost a fér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zpečnost a kvalita produk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mítnutí diskrimin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ztahy s dodavate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rup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ální odpověd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hrana životního prostřed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6:32:32Z</dcterms:created>
  <dc:creator>Hana Kubicova</dc:creator>
  <dc:description/>
  <dc:language>en-US</dc:language>
  <cp:lastModifiedBy>snoopy</cp:lastModifiedBy>
  <dcterms:modified xsi:type="dcterms:W3CDTF">2008-11-24T12:47:31Z</dcterms:modified>
  <cp:revision>8</cp:revision>
  <dc:subject/>
  <dc:title>Etika podnikání</dc:title>
</cp:coreProperties>
</file>