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8280" cy="124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003320" y="695160"/>
            <a:ext cx="4844880" cy="34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003320" y="695160"/>
            <a:ext cx="484668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003320" y="695160"/>
            <a:ext cx="48481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003320" y="695160"/>
            <a:ext cx="484668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003320" y="695160"/>
            <a:ext cx="484668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003320" y="695160"/>
            <a:ext cx="484668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003320" y="695160"/>
            <a:ext cx="484668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73E3-1E68-4D34-AFD0-894C1572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9BD2-1B3F-47C8-ABDB-372D23A1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6908-251D-4091-BD07-66A34ED24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DC95-9A4B-4084-B0E9-BE3A84885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5E08-29AA-4508-BD62-8E182FB98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CE46-CF39-403D-AC31-04722E0A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7FD6-5EE7-4E85-86AD-97CCA3A2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A892-4CBF-4335-B219-04B85D95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FAC7-FB63-43CF-B460-20B87C89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0960" cy="91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C930-17A2-4585-80D0-9490FE12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ED9C-16AE-4992-856B-BE2B3195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0B32-D0A8-4A7A-BDEE-E1ABBC9F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26BD2-94DA-4EFA-9D36-6BBBBCC5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D52B-EB0C-4D5A-AE59-29A874E7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2459-0ADF-473E-A689-F24ECD33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9FB5-44F5-4617-97F2-6C056ECC3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8852-ED06-44FC-8AFE-F220B7672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19A7-1C4E-47D5-B41C-DE261112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B265-7951-4889-BF0D-F634BEA2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1C82-30C5-4CF8-AEC5-5F53BD37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0960" cy="91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D365-23A9-408C-9916-BF3EC926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161E-C943-4287-B2B5-DB44A167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7C43-39EA-430B-9A70-867A9C41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B41B-3132-4D25-9242-2D1B0015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98040" y="-96840"/>
            <a:ext cx="9068040" cy="9063720"/>
            <a:chOff x="-1598040" y="-96840"/>
            <a:chExt cx="9068040" cy="9063720"/>
          </a:xfrm>
        </p:grpSpPr>
        <p:grpSp>
          <p:nvGrpSpPr>
            <p:cNvPr id="1" name=""/>
            <p:cNvGrpSpPr/>
            <p:nvPr/>
          </p:nvGrpSpPr>
          <p:grpSpPr>
            <a:xfrm>
              <a:off x="-1598040" y="-96840"/>
              <a:ext cx="9068040" cy="9063720"/>
              <a:chOff x="-1598040" y="-96840"/>
              <a:chExt cx="9068040" cy="906372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1598040" y="-96840"/>
                <a:ext cx="9068040" cy="9063720"/>
                <a:chOff x="-1598040" y="-96840"/>
                <a:chExt cx="9068040" cy="906372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36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1598040" y="-96840"/>
                  <a:ext cx="9068040" cy="9063720"/>
                  <a:chOff x="-1598040" y="-96840"/>
                  <a:chExt cx="9068040" cy="906372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560" y="1227240"/>
                    <a:ext cx="629280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92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72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1598040" y="-96840"/>
                    <a:ext cx="9068040" cy="9063720"/>
                    <a:chOff x="-1598040" y="-96840"/>
                    <a:chExt cx="9068040" cy="906372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5840" cy="602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1598040" y="-96840"/>
                      <a:ext cx="9068040" cy="9063720"/>
                      <a:chOff x="-1598040" y="-96840"/>
                      <a:chExt cx="9068040" cy="906372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8840"/>
                        <a:ext cx="6538680" cy="5803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1598040" y="-96840"/>
                        <a:ext cx="9068040" cy="9063720"/>
                        <a:chOff x="-1598040" y="-96840"/>
                        <a:chExt cx="9068040" cy="906372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37760" y="931320"/>
                          <a:ext cx="321840" cy="3604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0800" y="2611800"/>
                          <a:ext cx="2411280" cy="19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200" y="2224440"/>
                          <a:ext cx="2404800" cy="234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3040" y="1740960"/>
                          <a:ext cx="2415960" cy="2815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37800" y="1171080"/>
                          <a:ext cx="2406240" cy="337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8080" y="769680"/>
                          <a:ext cx="1400760" cy="3766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5200" y="2975760"/>
                          <a:ext cx="2388960" cy="1618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19800" y="3286440"/>
                          <a:ext cx="2390760" cy="1325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7080" y="4745520"/>
                          <a:ext cx="1789560" cy="491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1240" y="4523040"/>
                          <a:ext cx="2233440" cy="182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3040" y="3819960"/>
                          <a:ext cx="2393640" cy="833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4480" y="4821480"/>
                          <a:ext cx="975600" cy="1353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2640" y="4832640"/>
                          <a:ext cx="85644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1440" y="4832640"/>
                          <a:ext cx="742320" cy="155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1760" y="4837320"/>
                          <a:ext cx="619920" cy="1650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79360" y="4848480"/>
                          <a:ext cx="482400" cy="1764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26960" y="4851720"/>
                          <a:ext cx="34272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1640" y="4872240"/>
                          <a:ext cx="7920" cy="192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2520" y="4875480"/>
                          <a:ext cx="16956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1600" y="4884840"/>
                          <a:ext cx="331200" cy="1896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2120" y="4886280"/>
                          <a:ext cx="511920" cy="1905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1200" y="4886280"/>
                          <a:ext cx="69300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2360" y="4886280"/>
                          <a:ext cx="893160" cy="1890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7560" y="4890960"/>
                          <a:ext cx="1102320" cy="1891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5200" y="4884840"/>
                          <a:ext cx="1346760" cy="191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7160" y="4880160"/>
                          <a:ext cx="1622520" cy="191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58320" y="4864320"/>
                          <a:ext cx="19414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4440" y="4851720"/>
                          <a:ext cx="235728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7040" y="4842360"/>
                          <a:ext cx="2858760" cy="1950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3520" y="4824720"/>
                          <a:ext cx="3496320" cy="19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3520" y="4807440"/>
                          <a:ext cx="3954960" cy="1785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6760" y="4789800"/>
                          <a:ext cx="3991320" cy="1394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77040" y="4746960"/>
                          <a:ext cx="3907440" cy="658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39240" y="3797640"/>
                          <a:ext cx="3216960" cy="887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6640" y="3278880"/>
                          <a:ext cx="2920680" cy="1378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720"/>
                          <a:ext cx="2445840" cy="2805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1598040" y="-96840"/>
                          <a:ext cx="9068040" cy="9063720"/>
                          <a:chOff x="-1598040" y="-96840"/>
                          <a:chExt cx="9068040" cy="906372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303640" y="4719960"/>
                            <a:ext cx="500760" cy="492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130840" y="4493160"/>
                            <a:ext cx="873720" cy="8841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1868400" y="4121280"/>
                            <a:ext cx="1464840" cy="1429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1663200" y="3828600"/>
                            <a:ext cx="1937520" cy="1985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1445040" y="3432600"/>
                            <a:ext cx="2444760" cy="2579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217880" y="3146400"/>
                            <a:ext cx="3022920" cy="3127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941760" y="2824560"/>
                            <a:ext cx="3629520" cy="3681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696600" y="2502360"/>
                            <a:ext cx="4186080" cy="42159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397800" y="2208240"/>
                            <a:ext cx="4861440" cy="4740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81800" y="1870200"/>
                            <a:ext cx="5321880" cy="530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20000">
                            <a:off x="-30960" y="1554840"/>
                            <a:ext cx="5848200" cy="58809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780000">
                            <a:off x="-250560" y="1207080"/>
                            <a:ext cx="6373080" cy="6455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2120" y="1780200"/>
                          <a:ext cx="1318320" cy="2811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4720" y="2132640"/>
                          <a:ext cx="1765440" cy="246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6520" y="1936080"/>
                          <a:ext cx="1552680" cy="2648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4440" y="2291400"/>
                          <a:ext cx="1974960" cy="2315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2360" y="2467800"/>
                          <a:ext cx="2212560" cy="2147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1440" y="2883600"/>
                          <a:ext cx="2534400" cy="1750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4040" y="3094920"/>
                          <a:ext cx="2706120" cy="155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6360" y="3556080"/>
                          <a:ext cx="3028320" cy="111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47160" y="4041720"/>
                          <a:ext cx="3370680" cy="649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1840" y="4376880"/>
                          <a:ext cx="3545280" cy="320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0040" y="4702680"/>
                          <a:ext cx="3700800" cy="5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040" bIns="-41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7680" y="4724640"/>
                          <a:ext cx="3826080" cy="315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4960" y="4769280"/>
                          <a:ext cx="398664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2360" y="4862880"/>
                          <a:ext cx="17424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4680" y="4810320"/>
                          <a:ext cx="1064160" cy="1255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3800" y="4797720"/>
                          <a:ext cx="1165680" cy="1161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6080" y="4789800"/>
                          <a:ext cx="127692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3120" y="4778640"/>
                          <a:ext cx="1373400" cy="96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6920" y="4772520"/>
                          <a:ext cx="14659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3880" y="4761360"/>
                          <a:ext cx="1575000" cy="742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0120" y="4751640"/>
                          <a:ext cx="16826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2680" y="4734360"/>
                          <a:ext cx="1887840" cy="348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0280" y="4724640"/>
                          <a:ext cx="2003400" cy="187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5360" y="4712040"/>
                          <a:ext cx="2120400" cy="1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4800" y="4295880"/>
                          <a:ext cx="2365200" cy="39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3040" y="4061160"/>
                          <a:ext cx="2398680" cy="609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1600" y="3557880"/>
                          <a:ext cx="2392200" cy="1080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59280" y="972360"/>
                          <a:ext cx="2097000" cy="35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1080" y="831240"/>
                          <a:ext cx="1757520" cy="3705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3000" y="786600"/>
                          <a:ext cx="1021320" cy="3742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4000" y="838800"/>
                          <a:ext cx="688320" cy="369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4360" y="1042200"/>
                          <a:ext cx="4320" cy="349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4880" y="1166400"/>
                          <a:ext cx="304560" cy="3381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6040" y="1310400"/>
                          <a:ext cx="585000" cy="3246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0440" y="1459800"/>
                          <a:ext cx="845280" cy="3108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3040" y="1626480"/>
                          <a:ext cx="1094400" cy="294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440" y="2679840"/>
                <a:ext cx="5016600" cy="4109040"/>
                <a:chOff x="28440" y="2679840"/>
                <a:chExt cx="5016600" cy="410904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5680" y="2679840"/>
                  <a:ext cx="2349360" cy="194904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3280" y="6049800"/>
                  <a:ext cx="357120" cy="73764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440" y="4281480"/>
                  <a:ext cx="2088720" cy="2507400"/>
                  <a:chOff x="28440" y="4281480"/>
                  <a:chExt cx="2088720" cy="25074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28960" y="6052320"/>
                    <a:ext cx="277200" cy="2962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30960" y="5043600"/>
                    <a:ext cx="1593720" cy="1745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2240" y="6647760"/>
                    <a:ext cx="124920" cy="1393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3400" y="5754240"/>
                    <a:ext cx="846000" cy="2962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399960" y="4856400"/>
                    <a:ext cx="163080" cy="9010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440" y="4710960"/>
                    <a:ext cx="375120" cy="14904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3760" y="4856760"/>
                    <a:ext cx="288000" cy="3103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6560" y="5452200"/>
                    <a:ext cx="281880" cy="3042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32760" y="4281480"/>
                    <a:ext cx="21960" cy="3924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160960" cy="4678200"/>
              <a:chOff x="25560" y="2104920"/>
              <a:chExt cx="5160960" cy="46782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5600"/>
                <a:ext cx="2260440" cy="256752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040"/>
                <a:ext cx="2625840" cy="319608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080000">
                <a:off x="3121200" y="3047400"/>
                <a:ext cx="212364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00000">
                <a:off x="3063960" y="4150080"/>
                <a:ext cx="351792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0000">
                <a:off x="1576080" y="4276080"/>
                <a:ext cx="424980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0000">
                <a:off x="1080360" y="2774520"/>
                <a:ext cx="375156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615560" y="2104920"/>
                <a:ext cx="570960" cy="520560"/>
                <a:chOff x="4615560" y="2104920"/>
                <a:chExt cx="570960" cy="520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0000">
                  <a:off x="4641480" y="2325240"/>
                  <a:ext cx="327960" cy="21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732560" y="2232000"/>
                  <a:ext cx="303840" cy="257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831560" y="2220480"/>
                  <a:ext cx="218160" cy="1800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909320" y="2112840"/>
                  <a:ext cx="271800" cy="22932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080320" y="2104920"/>
                  <a:ext cx="106200" cy="8604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DD6BA3-71BC-4362-B79C-990EB3622A1F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1622160" y="-61200"/>
            <a:ext cx="9069120" cy="9065160"/>
            <a:chOff x="-1622160" y="-61200"/>
            <a:chExt cx="9069120" cy="9065160"/>
          </a:xfrm>
        </p:grpSpPr>
        <p:grpSp>
          <p:nvGrpSpPr>
            <p:cNvPr id="166" name=""/>
            <p:cNvGrpSpPr/>
            <p:nvPr/>
          </p:nvGrpSpPr>
          <p:grpSpPr>
            <a:xfrm>
              <a:off x="-1622160" y="-61200"/>
              <a:ext cx="9069120" cy="9065160"/>
              <a:chOff x="-1622160" y="-61200"/>
              <a:chExt cx="9069120" cy="906516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1622160" y="-61200"/>
                <a:ext cx="9069120" cy="9065160"/>
                <a:chOff x="-1622160" y="-61200"/>
                <a:chExt cx="9069120" cy="90651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600" y="194004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1622160" y="-61200"/>
                  <a:ext cx="9069120" cy="9065160"/>
                  <a:chOff x="-1622160" y="-61200"/>
                  <a:chExt cx="9069120" cy="906516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3160" cy="55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1160" y="148284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720" cy="511992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1622160" y="-61200"/>
                    <a:ext cx="9069120" cy="9065160"/>
                    <a:chOff x="-1622160" y="-61200"/>
                    <a:chExt cx="9069120" cy="906516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080" y="798480"/>
                      <a:ext cx="6766200" cy="602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1622160" y="-61200"/>
                      <a:ext cx="9069120" cy="9065160"/>
                      <a:chOff x="-1622160" y="-61200"/>
                      <a:chExt cx="9069120" cy="906516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080" y="1015200"/>
                        <a:ext cx="6539400" cy="5804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1622160" y="-61200"/>
                        <a:ext cx="9069120" cy="9065160"/>
                        <a:chOff x="-1622160" y="-61200"/>
                        <a:chExt cx="9069120" cy="906516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4360" y="967320"/>
                          <a:ext cx="321840" cy="3603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600" y="2648160"/>
                          <a:ext cx="2411280" cy="196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720" y="2260800"/>
                          <a:ext cx="2405160" cy="234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-360" y="1776600"/>
                          <a:ext cx="2415960" cy="28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4040" y="1206720"/>
                          <a:ext cx="2406240" cy="3372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4320" y="805680"/>
                          <a:ext cx="1400760" cy="37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1080" y="3011400"/>
                          <a:ext cx="2388960" cy="1618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3600" y="3321000"/>
                          <a:ext cx="2390760" cy="1325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3320" y="4781520"/>
                          <a:ext cx="1789560" cy="491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77480" y="4559400"/>
                          <a:ext cx="2233440" cy="182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-360" y="3856320"/>
                          <a:ext cx="2393640" cy="833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0360" y="4857840"/>
                          <a:ext cx="975600" cy="1353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58880" y="4869000"/>
                          <a:ext cx="856440" cy="1449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78040" y="4869000"/>
                          <a:ext cx="74232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08000" y="4873680"/>
                          <a:ext cx="619920" cy="1650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5600" y="4884840"/>
                          <a:ext cx="482400" cy="17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3200" y="4888080"/>
                          <a:ext cx="342720" cy="187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67520" y="4908600"/>
                          <a:ext cx="7560" cy="192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0200" y="4911840"/>
                          <a:ext cx="16956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7840" y="4921200"/>
                          <a:ext cx="33120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8360" y="4923000"/>
                          <a:ext cx="512280" cy="1905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7440" y="4923000"/>
                          <a:ext cx="693000" cy="190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58600" y="4921200"/>
                          <a:ext cx="892800" cy="1890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3800" y="4927680"/>
                          <a:ext cx="1102320" cy="1891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1440" y="4921200"/>
                          <a:ext cx="1346760" cy="191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3400" y="4916520"/>
                          <a:ext cx="1623240" cy="191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4560" y="4900680"/>
                          <a:ext cx="194184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1040" y="4888080"/>
                          <a:ext cx="2357280" cy="1935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3640" y="4878360"/>
                          <a:ext cx="2858760" cy="1950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0120" y="4861080"/>
                          <a:ext cx="3496320" cy="19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0120" y="4843440"/>
                          <a:ext cx="3954600" cy="1785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3360" y="4826160"/>
                          <a:ext cx="3991320" cy="1395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3640" y="4782960"/>
                          <a:ext cx="3907080" cy="658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5480" y="3833640"/>
                          <a:ext cx="3217320" cy="887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2880" y="3314880"/>
                          <a:ext cx="2920320" cy="137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080" y="4015080"/>
                          <a:ext cx="2446200" cy="2806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1622160" y="-61200"/>
                          <a:ext cx="9069120" cy="9065160"/>
                          <a:chOff x="-1622160" y="-61200"/>
                          <a:chExt cx="9069120" cy="90651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279520" y="4756680"/>
                            <a:ext cx="500760" cy="492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106720" y="4526640"/>
                            <a:ext cx="873720" cy="8841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1844640" y="4157280"/>
                            <a:ext cx="1464840" cy="1429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1639440" y="3864600"/>
                            <a:ext cx="1937520" cy="1985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1421280" y="3469320"/>
                            <a:ext cx="2444760" cy="25794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194120" y="3179160"/>
                            <a:ext cx="3022920" cy="3128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917640" y="2860200"/>
                            <a:ext cx="3629880" cy="36817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672840" y="2535480"/>
                            <a:ext cx="4186080" cy="4216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373320" y="2244240"/>
                            <a:ext cx="4862160" cy="4740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57680" y="1903320"/>
                            <a:ext cx="5321880" cy="53028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20000">
                            <a:off x="-54360" y="1591200"/>
                            <a:ext cx="5847480" cy="58813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780000">
                            <a:off x="-274320" y="1243080"/>
                            <a:ext cx="6373800" cy="6456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28360" y="1816920"/>
                          <a:ext cx="1317960" cy="281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0960" y="2169360"/>
                          <a:ext cx="1765440" cy="2466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2760" y="1972440"/>
                          <a:ext cx="1553040" cy="2648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0680" y="2327760"/>
                          <a:ext cx="1974960" cy="2315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58600" y="2504160"/>
                          <a:ext cx="2212560" cy="2147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77680" y="2919600"/>
                          <a:ext cx="2534760" cy="1750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0280" y="3130560"/>
                          <a:ext cx="27064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2600" y="3592800"/>
                          <a:ext cx="3028320" cy="1117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3400" y="4078800"/>
                          <a:ext cx="3371040" cy="648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28440" y="4411440"/>
                          <a:ext cx="3545280" cy="320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6640" y="4737240"/>
                          <a:ext cx="3701160" cy="5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040" bIns="-41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4280" y="4761000"/>
                          <a:ext cx="3826080" cy="315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1560" y="4805280"/>
                          <a:ext cx="398664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88960" y="4898880"/>
                          <a:ext cx="17424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0560" y="4846680"/>
                          <a:ext cx="106452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09680" y="4834080"/>
                          <a:ext cx="1166040" cy="1161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2320" y="4826160"/>
                          <a:ext cx="1276920" cy="1067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89360" y="4815000"/>
                          <a:ext cx="137376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3160" y="4808520"/>
                          <a:ext cx="1465920" cy="858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0480" y="4797360"/>
                          <a:ext cx="1575360" cy="742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6000" y="4788000"/>
                          <a:ext cx="1683000" cy="620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38920" y="4770360"/>
                          <a:ext cx="1887840" cy="348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6520" y="4761000"/>
                          <a:ext cx="2003400" cy="186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1240" y="4746600"/>
                          <a:ext cx="2121120" cy="1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1040" y="4331880"/>
                          <a:ext cx="2365200" cy="39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-360" y="4097160"/>
                          <a:ext cx="2398680" cy="609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-1440" y="3594600"/>
                          <a:ext cx="2391840" cy="1080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5880" y="1006920"/>
                          <a:ext cx="2097360" cy="35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7680" y="867240"/>
                          <a:ext cx="1757520" cy="370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79600" y="822600"/>
                          <a:ext cx="1021680" cy="3742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0600" y="875160"/>
                          <a:ext cx="688320" cy="369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0600" y="1078560"/>
                          <a:ext cx="4320" cy="3496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1120" y="1202040"/>
                          <a:ext cx="304560" cy="3382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2280" y="1346400"/>
                          <a:ext cx="585000" cy="3247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6680" y="1495800"/>
                          <a:ext cx="845280" cy="310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09280" y="1661400"/>
                          <a:ext cx="1094400" cy="2946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840"/>
                <a:ext cx="5016960" cy="4109760"/>
                <a:chOff x="4320" y="2715840"/>
                <a:chExt cx="5016960" cy="410976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1920" y="2715840"/>
                  <a:ext cx="2349360" cy="19494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79520" y="6086880"/>
                  <a:ext cx="357120" cy="73728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7840"/>
                  <a:ext cx="2089080" cy="2507760"/>
                  <a:chOff x="4320" y="4317840"/>
                  <a:chExt cx="2089080" cy="250776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5200" y="6089400"/>
                    <a:ext cx="277200" cy="295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7560" y="5079960"/>
                    <a:ext cx="1593000" cy="174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68120" y="6684840"/>
                    <a:ext cx="125280" cy="1393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39640" y="5791320"/>
                    <a:ext cx="845640" cy="295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6920" y="4892400"/>
                    <a:ext cx="162720" cy="9010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960"/>
                    <a:ext cx="375480" cy="148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90360" y="4892400"/>
                    <a:ext cx="288000" cy="310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3160" y="5488560"/>
                    <a:ext cx="281880" cy="3042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9360" y="4317840"/>
                    <a:ext cx="21600" cy="3924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440" y="2141640"/>
              <a:ext cx="5161320" cy="4677840"/>
              <a:chOff x="1440" y="2141640"/>
              <a:chExt cx="5161320" cy="4677840"/>
            </a:xfrm>
          </p:grpSpPr>
          <p:sp>
            <p:nvSpPr>
              <p:cNvPr id="277" name=""/>
              <p:cNvSpPr/>
              <p:nvPr/>
            </p:nvSpPr>
            <p:spPr>
              <a:xfrm>
                <a:off x="1440" y="4251960"/>
                <a:ext cx="2260440" cy="256752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440" y="3623400"/>
                <a:ext cx="2626200" cy="319608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080000">
                <a:off x="3097080" y="3083400"/>
                <a:ext cx="212400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00000">
                <a:off x="3040200" y="4186440"/>
                <a:ext cx="351828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0000">
                <a:off x="1552320" y="4312440"/>
                <a:ext cx="424980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0000">
                <a:off x="1056600" y="2811240"/>
                <a:ext cx="375156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591440" y="2141640"/>
                <a:ext cx="571320" cy="520560"/>
                <a:chOff x="4591440" y="2141640"/>
                <a:chExt cx="571320" cy="520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0000">
                  <a:off x="4617360" y="2361600"/>
                  <a:ext cx="328320" cy="21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708800" y="2268360"/>
                  <a:ext cx="303840" cy="257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807440" y="2256840"/>
                  <a:ext cx="218160" cy="1800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885560" y="2149560"/>
                  <a:ext cx="271800" cy="22932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056560" y="2141640"/>
                  <a:ext cx="106200" cy="8568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A6A228B-DBB1-430C-BA04-39D66927A283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25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4700" spc="-1" strike="noStrike">
                <a:solidFill>
                  <a:srgbClr val="c4c3aa"/>
                </a:solidFill>
                <a:latin typeface="Arial"/>
              </a:rPr>
              <a:t>Globální kapitalismus </a:t>
            </a:r>
            <a:br>
              <a:rPr sz="4700"/>
            </a:br>
            <a:r>
              <a:rPr b="1" lang="cs-CZ" sz="4700" spc="-1" strike="noStrike">
                <a:solidFill>
                  <a:srgbClr val="c4c3aa"/>
                </a:solidFill>
                <a:latin typeface="Arial"/>
              </a:rPr>
              <a:t>versus </a:t>
            </a:r>
            <a:br>
              <a:rPr sz="4700"/>
            </a:br>
            <a:r>
              <a:rPr b="1" lang="cs-CZ" sz="4700" spc="-1" strike="noStrike">
                <a:solidFill>
                  <a:srgbClr val="c4c3aa"/>
                </a:solidFill>
                <a:latin typeface="Arial"/>
              </a:rPr>
              <a:t>demokracie</a:t>
            </a:r>
            <a:endParaRPr b="0" lang="en-US" sz="47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255600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imona Doubkov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etra Krupov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Lenka Valentov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1.12.2008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Příklad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5720" indent="-67428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Chiquita Fruit Company (US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1467720" indent="-562680"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EU jí přidělila kvótu pro dovoz banánů (&lt;10%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1467720" indent="-562680"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Chiquita – sponzor Republikánské i Demokratické stran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1467720" indent="-562680"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rotest americké administrativy u WTO (diskriminac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1467720" indent="-562680"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WTO rozhodlo o změně kvóty, ale EU nevyhověl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1467720" indent="-562680"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USA zavedla sankční cla (na koupelové soli, kabelky,...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Příklad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79320" indent="-679320">
              <a:spcBef>
                <a:spcPts val="1137"/>
              </a:spcBef>
              <a:spcAft>
                <a:spcPts val="2563"/>
              </a:spcAft>
              <a:buClr>
                <a:srgbClr val="000000"/>
              </a:buClr>
              <a:buFont typeface="Times New Roman"/>
              <a:buChar char="•"/>
              <a:tabLst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292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Guatemal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1837"/>
              </a:spcBef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292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954 demokraticky zvolen J. A. Guzmá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1837"/>
              </a:spcBef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292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yvlastnil 80% plantáží (amerických společností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1837"/>
              </a:spcBef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292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ojenská diktatura podporovaná C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Politika na prodej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7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roblematika financování volebních kampa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absence jasného ideového vymezen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  <a:ea typeface="Arial"/>
              </a:rPr>
              <a:t>→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  <a:ea typeface="Arial"/>
              </a:rPr>
              <a:t>odlišení jen marketingovou strategi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  <a:ea typeface="Arial"/>
              </a:rPr>
              <a:t>→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  <a:ea typeface="Arial"/>
              </a:rPr>
              <a:t>značné finanční prostřed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Kde na to vzít?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  <a:ea typeface="Arial"/>
              </a:rPr>
              <a:t>→ soukromý sekt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Co za to?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  <a:ea typeface="Arial"/>
              </a:rPr>
              <a:t>→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liv? Přímluvy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  <a:ea typeface="Arial"/>
              </a:rPr>
              <a:t>důsledky: lidé se obrací k politice zád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nahy omezit zákonem financování soukromým sektorem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  <a:ea typeface="Arial"/>
              </a:rPr>
              <a:t>→ roste vliv médi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Vsuvka: krajské volby 2008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ejdražší kampaň v historii Č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arlamentní strany: 180 mil. K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ODS – 40 – 60 mil. Kč (4700 billboardů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ČSSD – 56 mil. Kč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KSČM – 15 mil. Kč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KDU-ČSL – 24 mil. Kč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Zelení – 12,5 mil. Kč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 algn="r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(zdroj: Lidové noviny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Nevolte, radši nakupujt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bčané „obcházejí“ vlády, obrací se přímo na korpor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→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hrozby bojkotu a negativní reklam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   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konzumerismus = nástroj spotřebitel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→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posuzují mimoekonomická kritér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vět byznysu je pružnější než svět politik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akcionářský aktivismu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  <a:ea typeface="Arial"/>
              </a:rPr>
              <a:t>lidé-spotřebitelé mají větší vliv než politic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Není všechno zlato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média komercializována – obsah ovlivněn vlastníky média, zadavateli reklamy,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roblém získat důvěryhodné inform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korporace již sponzorují i univerzitní centra, veřejně prospěšné organizace, think-tanky,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e-aktivismus - 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internet = nový zdroj informac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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rychlost, dostupnost, každý může sdělit svůj náz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otázka důvěryhodnosti, zveličování problému, zneužit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roblém: naše optika nazírán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Lidumilní podnikatelé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George Soros – „muž, který položil Bank of England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olitická filantrop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Tom Monaghan, Mike Milken, Michael Sayl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ill Gates, Ted Turn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Lůno byznysu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orporace – maska pečovate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yznys začíná hrát roli státu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získání výhod 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 zákazníc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 zaměstnanc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celosvětově závažná téma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ímý vliv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do ohlídá hlídače?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HERTZOVÁ, N. Plíživý převrat: Globální kapitalismus a smrt demokraci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OLÁŘ, P. Nejdražší kampaň v historii. Volby začínají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(dostupné na http://www.lidovky.cz/nejdrazsi-kampan-v-historii-volby-zacinaji-fk3-/ln_noviny.asp?c=A081017_000005_ln_noviny_sko&amp;klic=228128&amp;mes=081017_0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HUTLOVÁ, H. Globalizac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(dostupné na http://dumfinanci.cz/zajimavosti/globalizace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5100" spc="-1" strike="noStrike">
                <a:solidFill>
                  <a:srgbClr val="c4c3aa"/>
                </a:solidFill>
                <a:latin typeface="Arial"/>
              </a:rPr>
              <a:t>Děkujeme za pozornost!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Úvo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ojem globaliz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oreena Hertzová: Plíživý převr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Globalizac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změny projevující se jak ve společnosti, tak ve světové ekonomice, které jsou zapříčiněny rozvojem mezinárodního obchodu, vzájemnou spoluprací mezi jednotlivými státy, a tím i propojováním a sbližováním jednotlivých kultu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rvní projevy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USA - začátek 2. pol. 20. století – pronikání do Evrop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Japonsko - pronikání do Evropy a US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pojována s globálním ekonomickým růstem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odpůrci vs. příznivc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c4c3aa"/>
                </a:solidFill>
                <a:latin typeface="Arial"/>
              </a:rPr>
              <a:t>Noreena Hertzová: </a:t>
            </a:r>
            <a:br>
              <a:rPr sz="4000"/>
            </a:br>
            <a:r>
              <a:rPr b="0" lang="cs-CZ" sz="4000" spc="-1" strike="noStrike">
                <a:solidFill>
                  <a:srgbClr val="c4c3aa"/>
                </a:solidFill>
                <a:latin typeface="Arial"/>
              </a:rPr>
              <a:t>Plíživý převrat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51280" y="1557360"/>
            <a:ext cx="496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odtitul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Globální kapitalismus a smrt demokracie (2001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znepokojivé změny posledních 20 l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pád obchodních barié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vliv nadnárodních korporac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  <a:ea typeface="Arial"/>
              </a:rPr>
              <a:t>→ </a:t>
            </a:r>
            <a:r>
              <a:rPr b="1" lang="cs-CZ" sz="2000" spc="-1" strike="noStrike">
                <a:solidFill>
                  <a:srgbClr val="ffffff"/>
                </a:solidFill>
                <a:latin typeface="Verdana"/>
                <a:ea typeface="Arial"/>
              </a:rPr>
              <a:t>ohrožení základů moderní demokratické společnost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684360" y="1700280"/>
            <a:ext cx="2930400" cy="4478400"/>
            <a:chOff x="684360" y="1700280"/>
            <a:chExt cx="2930400" cy="4478400"/>
          </a:xfrm>
        </p:grpSpPr>
        <p:pic>
          <p:nvPicPr>
            <p:cNvPr id="342" name="" descr=""/>
            <p:cNvPicPr/>
            <p:nvPr/>
          </p:nvPicPr>
          <p:blipFill>
            <a:blip r:embed="rId1"/>
            <a:stretch/>
          </p:blipFill>
          <p:spPr>
            <a:xfrm>
              <a:off x="684360" y="1700280"/>
              <a:ext cx="2930400" cy="447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684360" y="1700280"/>
              <a:ext cx="2930400" cy="447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400" y="314280"/>
            <a:ext cx="822780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S-26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603080"/>
            <a:ext cx="8227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2480" indent="-672480">
              <a:spcBef>
                <a:spcPts val="1987"/>
              </a:spcBef>
              <a:spcAft>
                <a:spcPts val="3413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emonstrace 26. 9. 2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2480" indent="-672480">
              <a:spcBef>
                <a:spcPts val="1987"/>
              </a:spcBef>
              <a:spcAft>
                <a:spcPts val="3413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raha MMF a Světová bank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2480" indent="-672480">
              <a:spcBef>
                <a:spcPts val="1987"/>
              </a:spcBef>
              <a:spcAft>
                <a:spcPts val="3413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rotest proti globálnímu kapitalism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2480" indent="-672480">
              <a:spcBef>
                <a:spcPts val="1987"/>
              </a:spcBef>
              <a:spcAft>
                <a:spcPts val="3413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adnárodní společnosti mají příliš velkou mo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5400" y="314280"/>
            <a:ext cx="822780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Koncernové obludy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5400" y="1603440"/>
            <a:ext cx="82278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79320" indent="-67932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láda korporac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9320" indent="-67932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100 největších nadnárodních společností kontroluje 20% globálních zahraničních aktivi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9320" indent="-67932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51 největších ekonomik jsou korporace a 49 národní stá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9320" indent="-67932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brat firem General Motors a Ford je větší než HDP celé subsaharské Afri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400" y="314280"/>
            <a:ext cx="822780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Úloha státu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603080"/>
            <a:ext cx="8227800" cy="48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2480" indent="-672480">
              <a:spcBef>
                <a:spcPts val="1137"/>
              </a:spcBef>
              <a:spcAft>
                <a:spcPts val="2563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nes – infrastruktura, veřejné služby a ochrana volného obchod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2480" indent="-672480">
              <a:spcBef>
                <a:spcPts val="1137"/>
              </a:spcBef>
              <a:spcAft>
                <a:spcPts val="2563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Ekonomika má větší význam než politik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2480" indent="-672480">
              <a:spcBef>
                <a:spcPts val="1137"/>
              </a:spcBef>
              <a:spcAft>
                <a:spcPts val="2563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orporace důležitější než stá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2480" indent="-672480">
              <a:spcBef>
                <a:spcPts val="1137"/>
              </a:spcBef>
              <a:spcAft>
                <a:spcPts val="2563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Účast v politice nahrazena účastí na tr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5400" y="314280"/>
            <a:ext cx="822780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Vznik nové pravic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5400" y="1603080"/>
            <a:ext cx="822780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2480" indent="-672480">
              <a:spcBef>
                <a:spcPts val="1426"/>
              </a:spcBef>
              <a:spcAft>
                <a:spcPts val="2837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1979 britská premiérk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2480" indent="-672480">
              <a:spcBef>
                <a:spcPts val="1426"/>
              </a:spcBef>
              <a:spcAft>
                <a:spcPts val="2837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. Thatcherov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2480" indent="-672480">
              <a:spcBef>
                <a:spcPts val="1426"/>
              </a:spcBef>
              <a:spcAft>
                <a:spcPts val="2837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1981 americký prezident R. Reag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2480" indent="-672480">
              <a:spcBef>
                <a:spcPts val="1426"/>
              </a:spcBef>
              <a:spcAft>
                <a:spcPts val="2837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Zastánci volného trhu, proti státním zásahům, odmítali keynesovskou ekonomi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5400" y="314280"/>
            <a:ext cx="822780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Polarizace společnosti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5400" y="1603440"/>
            <a:ext cx="8227800" cy="49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79320" indent="-67932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Tradiční indikátory (HDP na hlavu) zamlžují pravd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79320" indent="-67932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Cíl globální politiky - sbližovat životní úroveň bohatých a chudých zemí - opak je pravdo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79320" indent="-67932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rofituje pouze menšin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79320" indent="-67932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US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479600" indent="-565200"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3,7% obyvatel žije v chudob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479600" indent="-565200"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% obyvatel vlastní 40% majetk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1:25:32Z</dcterms:created>
  <dc:creator>snoopy</dc:creator>
  <dc:description/>
  <dc:language>en-US</dc:language>
  <cp:lastModifiedBy>doma</cp:lastModifiedBy>
  <dcterms:modified xsi:type="dcterms:W3CDTF">2008-12-10T18:38:38Z</dcterms:modified>
  <cp:revision>33</cp:revision>
  <dc:subject/>
  <dc:title>Snímek 1</dc:title>
</cp:coreProperties>
</file>