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3E33-0BB4-4349-B1F2-1162EDC730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2DCE-E2CD-4A22-A81A-5E82007CA0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5024-B306-4596-843D-E36CAB55C9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49A-F4AC-4E15-8C90-7CF765D8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5A2-0A79-4701-B861-0EAF2200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4BC-F461-418F-9362-24F6831F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783-2173-4414-9E58-BCDDA3A4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0027-0581-4F48-BD09-6182AE04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6560-D6D0-4959-8D9A-B5BB2FC0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446B-4CAB-4FEC-8A62-DF133388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1989-FD95-4B3A-B5E8-241C1999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85AC-DE07-490F-A147-C49940E4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DBB3-76B5-441D-9B8B-69B94B4B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32C2-3471-48C3-AEC3-C1A85211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994-88E3-4924-BD1E-C848705E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498D-A622-4F5E-814D-E1BAC260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6754-1189-4382-9CA2-030880DD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DF9F-CE15-4D3C-995B-7F59CE11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A1F9-E5D9-467A-8D1B-84D007D5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DF77-1108-4DDB-85A9-B9FAFAC7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7FE8-E1ED-4ECF-B17E-4F23925D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0737-D485-408F-9BC6-07555DFD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C188-30E2-4D4B-B74B-9B860B33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9AA4-1F13-4E39-92F5-EB844463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600B-71A4-4A3D-9614-6F67B2AC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1DF-38A6-4131-8D92-3DF06CCC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317E5-46A1-46F1-A949-C19ECBC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69FF-20E2-4DCC-BC55-83F2A2C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D181-2296-4CA6-B940-B8D5674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7BAA-B28F-4822-8898-44A66C63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A2714-BB9B-462F-AF9E-1265D7A4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C634-A8E8-4298-AAAE-8F9B13C7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34C5-0A0C-4C13-9F84-7EA43A8F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B8EB-600B-4011-9D3C-A000987F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625A3-EDF9-488E-8C9A-6F5924CC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470AC-2FE8-4741-A009-7D232CB9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655-7E86-4E18-9691-50525C21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D2B8-B48E-4C4B-B161-FF9B35F5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79A4-0D79-46F2-A373-A65C036A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5144-75F0-42D3-970C-2BC603F3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02E7-2F23-4EB0-893C-CCE0154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CAC6-FD73-4065-BAD4-9CC0F09D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26B6E-F0D8-4C9E-81C8-1E28632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7955A-9926-4540-BBD7-323F4AD1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5667-3B9D-41D8-8C3F-109CED66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1B98B-661F-4AEF-B293-09A77905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FBF-2A7B-43C3-8A57-A6E539BF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834-0991-4591-8C07-9C43614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7B5-AD34-4E98-849D-3AA489BC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280-8AEF-4F37-BDDA-949BC42E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11E-A4E9-448E-AD1F-D6F4B21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2DAF-0A6A-4552-978B-5254F6DFF1A6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D97A-AE54-4A36-8DA9-258BB70C1ABA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8A26-7B56-4CF4-AE06-FD43B96A006C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DD9B-F27A-413E-8A7E-B6266B986869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Nadpis 1" descr=""/>
          <p:cNvPicPr/>
          <p:nvPr/>
        </p:nvPicPr>
        <p:blipFill>
          <a:blip r:embed="rId1"/>
          <a:stretch/>
        </p:blipFill>
        <p:spPr>
          <a:xfrm>
            <a:off x="706320" y="633240"/>
            <a:ext cx="8212320" cy="1536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00480" y="4571640"/>
            <a:ext cx="2414520" cy="170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Kincl Pavel</a:t>
            </a: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e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t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oskytování informací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Selektivní poskytování informací</a:t>
            </a:r>
            <a:r>
              <a:rPr b="1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na základě rozhodnutí, co kdo potřebuje vědě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Tím, že sami rozhodujete, co je důležité, aby vaši podřízení věděli, ji upíráte jejich právo sami rozhodovat o tom, co je pro ně důležité a užitečn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všech možných informací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, které vytváří zahlcení a přetížení informacem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ožnost zahlcení, pak přestaneme naslouchat a opomineme důležité informa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přiměřených informací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mezi dvěma extrémy existuje určitá rovnováh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, aby vaši podřízení věděli, jaké informace jsou k dispozici, aby se mohli sami rozhodnout, zda potřebují vědět více. Musíte však filtrovat informace, které poskytujeme, abychom zabezpečili, že budou užitečn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ynikající manaž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Mít pod kontrolou sami seb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Rozvíjí své komunikační dovednost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ste význam těchto doved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Šipka dolů 3"/>
          <p:cNvSpPr/>
          <p:nvPr/>
        </p:nvSpPr>
        <p:spPr>
          <a:xfrm>
            <a:off x="3500280" y="3429000"/>
            <a:ext cx="771840" cy="128592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4857840" y="37861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stup do 21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57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7120" y="1600200"/>
          <a:ext cx="4286160" cy="4105440"/>
        </p:xfrm>
        <a:graphic>
          <a:graphicData uri="http://schemas.openxmlformats.org/drawingml/2006/table">
            <a:tbl>
              <a:tblPr/>
              <a:tblGrid>
                <a:gridCol w="565200"/>
                <a:gridCol w="372096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99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mění vést li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gr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dšení pro prá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ředstav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usilovně prac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chopení pro dru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vyhmátnout pří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řešit nepříjemné situ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686480" y="1571760"/>
          <a:ext cx="4114800" cy="4105080"/>
        </p:xfrm>
        <a:graphic>
          <a:graphicData uri="http://schemas.openxmlformats.org/drawingml/2006/table">
            <a:tbl>
              <a:tblPr/>
              <a:tblGrid>
                <a:gridCol w="542880"/>
                <a:gridCol w="3571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1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lastní mo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ientace na c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pracovat v tý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munikační dov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snášet zátě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se uč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Řídící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exibi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ze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ování lid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dpora a pomoc lid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a 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skytnout lidem pros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ace je vždy sebe-motivac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roveň motivování lidí je jednou z nejdůležitějších součástí práce manažer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aktory motiva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Úcta k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jevy uznání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skytnutí odpovědnosti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ába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ravá složená závorka 3"/>
          <p:cNvSpPr/>
          <p:nvPr/>
        </p:nvSpPr>
        <p:spPr>
          <a:xfrm>
            <a:off x="6000840" y="3786120"/>
            <a:ext cx="285840" cy="17859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785960"/>
              <a:gd name="textAreaBottom" fmla="*/ 17787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5"/>
          <p:cNvSpPr/>
          <p:nvPr/>
        </p:nvSpPr>
        <p:spPr>
          <a:xfrm>
            <a:off x="6715080" y="42861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tomnost všech fa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oč motivova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21.st. -&gt; Organizace musí být dynamická </a:t>
            </a:r>
            <a:r>
              <a:rPr b="0" lang="cs-CZ" sz="2400" spc="-1" strike="noStrike">
                <a:solidFill>
                  <a:srgbClr val="7f7f7f"/>
                </a:solidFill>
                <a:latin typeface="Constantia"/>
              </a:rPr>
              <a:t>(musí  se vyrovnávat se stálými změnami v technice, technologii a také v podnikatelském prostředí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=&gt;Potřeba lidí, kteří s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chtěj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učit, měnit, rozvíjet a   přispívat ke změnám a inova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Usnadňuje řízení li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dividuální pozornost =&gt; přispívá k pracovnímu výkonu jednotlivce a tím i celému tým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y individuální práce s lidm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Čestnost a poctivost účelu a úmysl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ůvěrnost jedná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asnost cíl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dování dobrých vztah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výšení hodnoty a významu daného jed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ypy individuální práce s lidm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ormální přezkoumání dosavadního výkon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(hodnotící rozhovory,  hodnocení projektů apod.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formální rozhovor mezi čtyřma oč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Konzultování a koučová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na pracoviš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ravá složená závorka 3"/>
          <p:cNvSpPr/>
          <p:nvPr/>
        </p:nvSpPr>
        <p:spPr>
          <a:xfrm>
            <a:off x="5572080" y="2571840"/>
            <a:ext cx="357120" cy="785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785880"/>
              <a:gd name="textAreaBottom" fmla="*/ 776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ovéPole 4"/>
          <p:cNvSpPr/>
          <p:nvPr/>
        </p:nvSpPr>
        <p:spPr>
          <a:xfrm>
            <a:off x="6072120" y="2786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upy se kombin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skytnout lidem pros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nstantia"/>
              </a:rPr>
              <a:t>Deleg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třeba znát: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Výsled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Standar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Paramet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elegovanou odpovědnost monitoruje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profilem manažera 21. stole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i Kam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eta (GB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gram Journey to Mastery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(Cesta k dokonalosti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Di Kamp"/>
          <p:cNvPicPr/>
          <p:nvPr/>
        </p:nvPicPr>
        <p:blipFill>
          <a:blip r:embed="rId1"/>
          <a:stretch/>
        </p:blipFill>
        <p:spPr>
          <a:xfrm>
            <a:off x="5846760" y="1484280"/>
            <a:ext cx="2763720" cy="352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Bez názvu"/>
          <p:cNvPicPr/>
          <p:nvPr/>
        </p:nvPicPr>
        <p:blipFill>
          <a:blip r:embed="rId2"/>
          <a:stretch/>
        </p:blipFill>
        <p:spPr>
          <a:xfrm>
            <a:off x="3184560" y="3429000"/>
            <a:ext cx="1531800" cy="230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fvbd"/>
          <p:cNvPicPr/>
          <p:nvPr/>
        </p:nvPicPr>
        <p:blipFill>
          <a:blip r:embed="rId3"/>
          <a:stretch/>
        </p:blipFill>
        <p:spPr>
          <a:xfrm>
            <a:off x="900000" y="4005360"/>
            <a:ext cx="11541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sfg"/>
          <p:cNvPicPr/>
          <p:nvPr/>
        </p:nvPicPr>
        <p:blipFill>
          <a:blip r:embed="rId4"/>
          <a:stretch/>
        </p:blipFill>
        <p:spPr>
          <a:xfrm>
            <a:off x="1712880" y="4437000"/>
            <a:ext cx="1174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droj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i Kamp: Manažer 21. století.</a:t>
            </a:r>
            <a:br>
              <a:rPr sz="2600"/>
            </a:b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Grafologie pro personalisty a manaž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ww.metapositive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o bude jinak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ěnící se prostředí =&gt; manažeři = efektivní řízení lid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X normy a zvyklost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odkud vycházet?  &gt;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onstantia"/>
              </a:rPr>
              <a:t>Historie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příkazy + kontrola, autokratické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do 20. stol. – benefity, ale stále autokratism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=&gt; postupně respekt lidského potenciálu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lavní charakteristi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ideálního manažera…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Ideální manaž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46400" y="1599840"/>
            <a:ext cx="5781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rát roli vzoru pro ostat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Znát sebe sa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oustavně se vzdělá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potěšení ze změ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iz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lně si uvědomovat součastnou realit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ysokou úroveň etiky a hodno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yslet systémově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právně komuniko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ozitivně mysle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Umět se nadchnou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Být opravdový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Komunika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ačíná tím, jaký vztah máme k ostatním lide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emůžeme uměle vytvořit dobrý vzta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 mít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3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vky, které nám umožní budovat dobré vzt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mys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Jak chceme vycházet s jinými lidmi – jednání s nimi. Řídí to naše postoje k nim, vzájemné působení. Náš postoj, poměr k lidem silně ovlivňuje to jak na nás reagují = je důležité jej promyslet a zváž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ědomá volba užitečných a pozitivních postojů k lidem = větší naděje pro vytváření dobrých vztah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ozpolože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V jakém rozpoložení jsme, ovlivňuje všechno, co děláme. Pozitivní rozpoložení – dobře se cítíme, věříme s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ýsled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Zda dosáhneme výsledku, závisí na tom, zda jsme si vytvořili dobrý vztah. Existuje dlouhodobý výsledek – jestliže budujeme dobré vztahy a zlepšujeme vztahy s jinými lidmi, styky s těmito lidmi budou stále snadnější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alezení správné rovi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hadnout náladu - neměli bychom rovnou konverzovat. Je třeba zjistit, co se s ním stane, co to s člověkem udělá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právný jazy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podnikový, manažerský, technický, zákaznický, dodavatelský, praktick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ážit si lid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dyž si viditelně vážíme lidí = dobré vztah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dy je to obtížné = budování důvěr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ebezpečí plynoucí  z dobrých vztah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teří manažeři se domnívají, že ztratí respekt a kontrolu, a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Dobrý vztah   x   tajné srozumění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Dobrý vztah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přátelská úcta k jinému, která v něm vyvolává podobnou reakc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Tajné srozumění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spolupráce s ostatními, která má přesvědčit, že jsme na jejich straně, i když vás to kompromituje = slevujeme ze svých zás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Máme sklon přemýšlet o komunikaci jako o mluvení, ale komunikujeme i když naslouchá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ynikající schopnost přijímat informace spočívá v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řání či potřeba být informován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První krok, zájem o věci co se kolem nás děje. Měli bychom být otevření přijímat informace od jiných lidí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Věnovat informacím pozornost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„Nevypínat se“ – nenaslouchat selektivně. Skutečná pozornost má 5 rovin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slovům, víme co bylo řeče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významu skrytému za slovy (tzn. důrazů na slova, váháni atd.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zorování toho , jak řeč těla doplňuje význam slov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užívání intuice – vaší „vnitřní reakce“ – ke čtení mezi řádk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dvědomé, citové vnímání toho, co se děj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kutečná pozornost je poté účinná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Umožňuje nám slyšet to, co se říká, ve své úplnosti a tak vhodněji reagova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skytuje nám dodatečnou informaci o tom, jak partner „funguje“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artner má pocit, že si jej vážíte = zlepšuje vaše dobré vztahy s ní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užívat informace dobře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– informace mají nějaký účel. (krom klepů, zákeřných informacích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idé co nám je poskytují, chtějí, aby se jim dostalo důkazu o tom, že jsme tyto informace dobře použili=zlepšuje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3:19:55Z</dcterms:created>
  <dc:creator>Marek</dc:creator>
  <dc:description/>
  <dc:language>en-US</dc:language>
  <cp:lastModifiedBy>Martin Beleš</cp:lastModifiedBy>
  <dcterms:modified xsi:type="dcterms:W3CDTF">2008-11-26T19:19:06Z</dcterms:modified>
  <cp:revision>30</cp:revision>
  <dc:subject/>
  <dc:title>Požadavky na manažery na prahu postindustriálního věku</dc:title>
</cp:coreProperties>
</file>