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4A68-DEE9-4E63-8BBC-2AC12613E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0DC-FA86-452D-9A47-456E5D1D7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8E2-13B2-4EC9-8A38-380F57007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2CDB-6F59-4409-A00C-D90A257FF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4CD2-BCCD-4B25-B9BB-507920A88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2142-8A36-43EA-94BC-055BAA376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942C-D14F-438D-A90E-F5E128148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C38-1CF8-43A9-BC0B-6948A5D60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BB3C-FA4D-4437-9E49-D1F50635D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2A9A-B5F6-4E8B-B0A8-B636422A1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1AAD-A630-4628-8485-A72EF6E94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E883-3F18-4CE1-98A2-F22F721BF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D67-0952-43E9-8764-27F4F0131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DE67-9F88-4A34-92B6-F399AAD9B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46E4-3176-4557-BA08-1E1A3CC34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078A-D1F6-4B6A-81E6-48753D2FA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C1F8-E6D5-4AB1-9DF5-DCDC7141C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219B-29F7-4ACF-B42B-F9B1D57CE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DE01-A300-465F-B3BF-37DE738A8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ABAA-04F5-4080-BD08-4B2B07860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9A52-2041-4AC7-8D86-71DDEEAF4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D7DB-1C10-41D3-919F-8C68B1805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AC89-8377-4A4C-ACAE-51161AE40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53B-1946-4039-8373-E24A9580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5E3-5D63-4164-8A9F-DEB22BF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CD1-1A2E-4713-A616-BA00D641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04A-2CA3-4CBB-98D8-FCF43944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E36-1C94-4503-B566-6606FA9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EDC-3CFF-4583-9E33-876A7BA5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320-AB91-4B6E-95EC-9482BC9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45A-229D-4233-AD6A-E727C1A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6F8-2599-4BDD-824A-4BDCA25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864-1C15-4A42-9C48-CE6ABEA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58C-A01F-477F-B6EE-8313352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C0B-2F8C-4BC2-BDAE-F23EF243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E46-F7F9-40AD-8BC8-859E49FD0E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RGANIZAČNÍ KULTURA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Od sdílených hodnot a cílů k vyšší výkonnosti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728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Hana Drozd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Klára Ottich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Kristýna Trnk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kultury na strateg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strategie na kultu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ulad mezi obsahem strategie a obsahem kultury je podmínkou dlouhodobé úspěšnosti organizace. Ideálem však není naprostá identita, určitá míra konfliktu vytváří prostor pro tvorbu  nových strategi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výkon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íla OK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tváří soulad ve vnímání a myšlení pracovní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měrňuje chování lid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namená sdílení společných hodnot a cíl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Fixuje organizaci na minulou zkuše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abraňuje myšlení v alternativ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působuje rezistenci vůči změná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Obsah O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ktivuje pracovní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měřuje k naplňování cílů a hodn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ozitivní vliv kultury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kultur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ontextuálně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rategicky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daptiv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 přiměřenými manažerskými praktik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řiměřeně silná a harmonizující, stmelujíc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3"/>
          <p:cNvSpPr/>
          <p:nvPr/>
        </p:nvSpPr>
        <p:spPr>
          <a:xfrm>
            <a:off x="4143240" y="3429000"/>
            <a:ext cx="47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EXISTUJE JEDINNÁ NEJLEPŠÍ VÍTĚZNÁ K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D.R. Denis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soupeřících hodnot“ B. Quinna a J.Rohrbaugha (CVM – Competing Values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řet kultur a jeho vliv na výkonnost organiz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Uvnitř organizace může existovat několik subkultur, nebo se může firma zapojovat do vztahů s jinými firmami a jejich OK na úrovn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ubkultur v rámci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K v rámci domácích fúzí, akvizicí a jiných forem spolupráce fir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rganizačních i národních kultur v rámci mezinárodních fúzí, akvizicí a jiných forem mezinárodní spoluprá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Jak předejít střetů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ologi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) Ve vztahu k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F. Trompenaar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B) Ve vztahu k vlivu prostředí a reakci organizace na prostřed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soffova typ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Milese a C.C. Sno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Quinna a jeho spolupracovník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) Ve vztahu k chování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mpasový model W. 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eorie „krychle 2S“ R. Goffeeho a G. Jone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51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336680"/>
            <a:ext cx="81435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agnostik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a specifikace teoreticko – metodologických východis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výzkumných met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jednotky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Může mít trojí účel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funkčnost OK ve vztahu k výkonnosti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obsah OK z hlediska předností a omezení vůči zvažovaným strategickým alternativám (při vývoji firemní strategie) či vůči plánovaným organizačním změná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kompatibilitu (spojitelnost) kultury dané organizace s kulturou jiných organizací (při plánování fůze, akvizice či jiné formy strategické spoluprá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stup utváření žádoucí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označná, srozumitelná a dlouhodobě udržitelná strate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očekávání firmy vůči zaměstnanců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rozhodujících parametr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eskripce a hodnocení současné OK organizace v rozhodujících dimenzích, vážících se ke strategii fm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mezení nejdůležitějších oblastí podnikového řízení, které bezprostředně souvisejí s OK a mají charakter podmínek jejího dosaž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formování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zdělávání, vysvětlování, trén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ntrola, sank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agnostika změn v kultu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sou dva základní přístupy k vymezení pojm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Interpretativní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čím organizace je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Objektivistický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co organizace má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Calibri"/>
              </a:rPr>
              <a:t>Zobecněn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Organizační kultura je soubor základních předpokladů, hodnot, postojů a norem chování, které jsou sdíleny v rámci organizace, které se projevují v myšlení, cítění a chování členů organizace a v artefaktech (výtvorech) materiální i nemateriální povah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iz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jasné a srozumitelné strate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rozhodnost v rozsahu kontinuity a diskontinu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operacionalizace očekávání, požadavků vůči zaměstnanc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nové/žádoucí kultury s jednotlivými personálními činnos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mocenského nebo odborného promotora změ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ůsle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s ostatními měkkými a zejména tvrdými faktory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konzistentnost organizační a národní kultury či kult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identifikace manažerů s žádoucí kulturou, zpochybňování manažersk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átkodobá orient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á kultura navž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liš silná identifikace s novou kultur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UKÁŠOVÁ, R., NOVÝ, I. a kol. Organizační kultura. Praha: Grada, 2004. ISBN 80-247-0648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fstede, Geert, Kultury a organizace : software lidské mysli : spolupráce mezi kulturami a její důležitost pro přežití / Geert Hofstede a Gert Jan Hofstede ; [překlad Luděk Kolman], Praha : Linde, 2007, 335 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ein, Edgar H., Psychologie organizace, 1.vyd.  Praha: Orbis, 1969, 161 s. (Malá moderní encyklopedie ; 6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k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Artefak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odno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o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ormy chová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azy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istorky a mý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vyky, rituály, ceremoniá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rdinov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Firemní architektura a vybave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je multidimenzionální j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ky jsou strukturované do několika ro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tefakty a chování považují za vnější rovinu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gar Sch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.P. Kotter, J.L. Heskett a G. Hofst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. Hall, C. Lund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a síl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= základní předpoklady, hodnoty a normy chování sdílené v organizaci, navenek manifestované prostřednictvím chování a artefak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íla = nakolik je obsah kultury sdílen v organiz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nik a vývo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droje O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liv národní kultu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é a tržní prostřed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f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kladatel/vůd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elikost a délka existence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m mechanismem vzniku a utváření OK je organizační učení – redukce úzkosti a pozitivní posilování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jedin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ztah k O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dnoznač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pjat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taje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tevřené nedodržov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Lidé si vybírají organizaci, pro kterou chtějí pracovat, na základě podobnosti mezi jejich individuálními hodnotami a hodnotami deklarovanými organizací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nefunguje izolovaně, ale je ve vzájemných vztazích s organizační strategií a struktur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 a realizace strategických rozhodnutí a plánů je záležitostí lidí, kteří jsou nositeli určitých předpokladů, hodnot, názorů a norem chov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ma základními kroky strategického řízení jsou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mplemen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ní strategické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nalýza vnějšího okolí a vnitřních zdrojů a schopností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 formulace strat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běr optimální varia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9:05:05Z</dcterms:created>
  <dc:creator>KRI</dc:creator>
  <dc:description/>
  <dc:language>en-US</dc:language>
  <cp:lastModifiedBy>KRI</cp:lastModifiedBy>
  <dcterms:modified xsi:type="dcterms:W3CDTF">2008-12-03T19:47:26Z</dcterms:modified>
  <cp:revision>19</cp:revision>
  <dc:subject/>
  <dc:title>ORGANIZAČNÍ KULTURA  - Od sdílených hodnot a cílů k vyšší výkonnosti podniku</dc:title>
</cp:coreProperties>
</file>