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02F-6469-4CA1-A183-942E08D5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922-A8B9-4E96-80B3-B9D6F1F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3D3-7A94-4998-BF93-A166D5A5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235-9619-4BA6-8D87-778ABAAE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EED7B-E75F-4CF2-8371-A200FBE8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78BC-AB44-4408-9867-E110D209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3C6C4-11E8-4837-9E72-00CD036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7F1EC-9706-4B4D-89F5-1C88B36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79A93-2864-434B-B27C-A343C75F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B2894-B609-4884-B23F-296746F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592F-A351-4580-B288-F69CD6C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7AA-71D9-487F-99B6-510095EB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39DED-1640-477F-B5E5-2826B2D4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3DB2-972C-4B2B-843B-6653809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0DC3-69D0-4206-85F9-DFFE56D2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D3A0B-7B49-4809-BE3A-844B9B3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E037-0AB0-4C7D-9DDE-B2791420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8C62-4373-43E9-8149-8F3F7545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9285-FE55-496F-8273-08BF905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A2F9-D9EE-4598-919E-CB7E24E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50CA-287D-4559-90F5-08F2EE1C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B081-BB10-4573-A2E3-D726012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325-B00D-4C4D-B546-E649D63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97F6-427E-4882-8DD4-0239B0FF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B721-2883-4126-A2E0-6E5BA28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B45B-0065-4654-B74A-60E6C4D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4CAB-FBA2-4CD3-9361-31A703A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31B8-811E-4110-BBFA-6F2520E5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2850-DA2D-44FB-A057-AF46E389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9C3B-38F0-42F8-80D9-C880AC73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09E-39DB-48E6-9753-FDCAFC2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FC9-4F10-4664-9043-45DE61A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ACB-DE52-4869-B4A1-3EA2C5C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B73-4DA8-480D-B0FA-0048B80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AD5-B0FB-4BF4-A23E-CF29BF3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23E-8949-48DF-97A3-68F1A81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513-5FAC-47C3-AD4E-E9D448B6D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362-488A-4CC5-A0B8-C936162A4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30F-1FEA-46FC-A8CD-10E5D6DA7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te2biotech.cz/podnikova-kultura/" TargetMode="External"/><Relationship Id="rId2" Type="http://schemas.openxmlformats.org/officeDocument/2006/relationships/hyperlink" Target="http://www.gate2biotech.cz/podnikova-kultura/" TargetMode="External"/><Relationship Id="rId3" Type="http://schemas.openxmlformats.org/officeDocument/2006/relationships/hyperlink" Target="http://www.gate2biotech.cz/podnikova-kultura/" TargetMode="External"/><Relationship Id="rId4" Type="http://schemas.openxmlformats.org/officeDocument/2006/relationships/hyperlink" Target="http://www.gate2biotech.cz/podnikova-kultura/" TargetMode="External"/><Relationship Id="rId5" Type="http://schemas.openxmlformats.org/officeDocument/2006/relationships/hyperlink" Target="http://www.gate2biotech.cz/podnikova-kultura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Interkulturní manag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MCj04347500000[1]"/>
          <p:cNvPicPr/>
          <p:nvPr/>
        </p:nvPicPr>
        <p:blipFill>
          <a:blip r:embed="rId1"/>
          <a:stretch/>
        </p:blipFill>
        <p:spPr>
          <a:xfrm>
            <a:off x="7086600" y="5105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mezená platnost motivačních teori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různých kulturách si lidé spojují potřeby s různými hodnot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x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ob enrichment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snaha vyhnout se riziku a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mocenská vzdál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ryté konflikty jsou n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pracovníci nejsou ochotni si navzájem věř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mocenská vzdále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c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á se, že kolegové jsou ochotni spolu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snaha vyhnout se nejistot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nežádoucí, soutěživost vnitřně neschva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jí zájem na kompromis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snaha vyhnout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přirozené, soutěžení jako spravedlivé a správ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otnější ke kompromis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interkulturním jednání musíme zvážit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ý a právní plu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zahraničních vl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cké a ekonomické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ologické a kulturní roz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m dlouhodobější je spolupráce, tím podrobnější informace potřeb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, politické a ekonomické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kolnosti vlastního jedn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eské podnikové prostředí jako součást interkulturního managemen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ská organizační a prac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výzkumu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základní dimenz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racionalita X emocionalita v podnik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vnitřní X vnější přijetí org. n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ochota přijímat 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odobá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ologie českého zaměst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tý furian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da obo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vý kamará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ormní sucha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ítavý konformista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řízený X podřízen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ční probl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la“ – nesebevědomí, podřízený, pas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cký komentátor“-respekt, pomlouvá, více sebevědom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peř“ – sebevědomý, konfrontace, hled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by nadříze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ítání návr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ceňování dobr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na osobních po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ek sebekr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chopnost naslou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tkodobá orientace v českém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y a sny – většinou v osobní rovině (dovolená, kariéra, moc, pro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ýdenní, roční cy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ce = příležitost X zdroj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ro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) osobní klid a sta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rátkodobost časových horizo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ozporuplný vztah k prác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rvozita, nejist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žerům je vytýkána neschopnost řídit se vzdálenějšími vizem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iková 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9640" y="1773360"/>
            <a:ext cx="388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louhé komunikační kan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Špatná integrace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nejde příkla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adapta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pnost improv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1628640"/>
            <a:ext cx="403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jí význam narostl koncem 7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liv konkurenčních produktů ze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ce na úspě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aže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kace se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005360"/>
            <a:ext cx="38163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produktivita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ovace v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ůraz na kvalitu a vý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mní identita (dlouhodob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senzus, loaj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ová odpově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05360"/>
            <a:ext cx="4103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aměstn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ásady jednotného vedení a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vyklosti v oblé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otné ztvárnění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ákaz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iková kultura mezinárodních fi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 každé zemi specifická sub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á 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azení hodnotových systémů společných v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stém hodnot, postojů a názorů, které jsou specifické pro danou zemi/skupinu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livňuje chování lidí v předvídatelných smě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naučená, předávaná rodiči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rozhodování nadnárodních společností ovšem není jediným faktorem: poptávka, ekonomické faktory, právo,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ální vzta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177336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Opatrné, dlouhé navazování s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sobní a pracovní vztahy se prolínají (zvýhodňování, korup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ztahy mají své l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áruka dodržování sml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05360"/>
            <a:ext cx="403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měřenost ve vzájemných vztaz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í oddělení prac. a osob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ost mezi nadřízeným a podříze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162864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ká otevřenost (neupřím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ně formální vzt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livost na problematiku sexuálního obtě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4005360"/>
            <a:ext cx="38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elativně dlouhé navazování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partnersk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řeba získání dův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izontální možnost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Široká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ost a prezentování úspěc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628640"/>
            <a:ext cx="39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ál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or pro plně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í o svých úspě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soké sebevědo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628640"/>
            <a:ext cx="388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íce direktivní způsob ved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ntrola samostatné inici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nechat si věci schva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Čekají až je pochvá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lé sebeprosaz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00536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áce v tým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lečná odpovědnost i prezentace úspěchů (ne já ale 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konomie ča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628640"/>
            <a:ext cx="3959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k na efekti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chlá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ní a porady zbytečně neprotah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lišné pojetí pracovní doby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628640"/>
            <a:ext cx="3888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aké poměrně dochv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lerované zpoždění 5-1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íp. „akademická čtvrthodin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poždění nad půl hodiny- již nespě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o(vy)mlou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dmíra spěchu = 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05360"/>
            <a:ext cx="38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lmi přesní (puntičkář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schůzku se dostaví spíše s předsti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ě ohraničená prac. 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eobecně rigidní pracovní trh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00536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ům. 2000 h za rok (Korea 2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ízká omezení prac.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erfektní dochvi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Hlavní devíza ekon. rozv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úkoly a jejich dele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628640"/>
            <a:ext cx="3959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é úkoly vnímají jako výz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přizpůsobivost zákazní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:získat prac. příle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 není problé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delegace úkolů -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28640"/>
            <a:ext cx="388800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va z nejist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ují mít všechny prostředky, dovednosti a znalosti ke s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havost = malá přizpůsob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í jen přek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93372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ádi postupují podle ověřených met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005360"/>
            <a:ext cx="3816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ektivní odpovědnost prac.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zájemná kontrola ve skup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upná delegace podle zaběhnut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žerské prak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15" descr=""/>
          <p:cNvPicPr/>
          <p:nvPr/>
        </p:nvPicPr>
        <p:blipFill>
          <a:blip r:embed="rId1"/>
          <a:srcRect l="0" t="6381" r="0" b="1276"/>
          <a:stretch/>
        </p:blipFill>
        <p:spPr>
          <a:xfrm>
            <a:off x="1908000" y="1197000"/>
            <a:ext cx="554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„Z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5" descr=""/>
          <p:cNvPicPr/>
          <p:nvPr/>
        </p:nvPicPr>
        <p:blipFill>
          <a:blip r:embed="rId1"/>
          <a:srcRect l="0" t="13943" r="0" b="9295"/>
          <a:stretch/>
        </p:blipFill>
        <p:spPr>
          <a:xfrm>
            <a:off x="1174680" y="1628640"/>
            <a:ext cx="796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AD, R. International management: cross-cultural dimensions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mbridge : Blackwell, 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FSTEDE, G. Kultury a organizace: software lidské mysli. Praha : Linde, 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gate2biotech.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odnikova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-kultur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e-vzdelavani.cz/public/demo_pk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mesec.cz/clanky/pracovni-doba-v-cesku-a-ve-svet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ost interkultur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upající počet nadnárodní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vatelé i odběratelé z celé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ulturní standardy podle Gerta Hofsted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, resp. malá snaha vyhnout se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a individualismu, resp. kolektiv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aha maskulinních, resp. feminin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átkodobá, resp. dlouhodob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kalí koncepce kulturních standar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e složité sociální a kulturní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í dvou kultur může vznikat specifická forma nové společné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tečnosti které kulturní standardy neobsahují – doba trvání, intenzita, dobrovolnost vzájemného kontakt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 a zvládání interkulturních rozdí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zná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ktova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nit vstřícné kr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 mezinárodních organizacích téměř nezby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čný na čas a peníze, vyžaduje hodně úsilí a určité schopnosti manaž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y je lepší ignor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yž manažer nemá dostatek schop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í nepřinese žádné, popř. minimum pozitivních důsled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ovlivň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u společ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ční kultu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tahy, komunikaci, motivová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91120" y="4662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ní jediným fak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é pobídky odráží hodnoty v dané kultuř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ťování potřeb vždy založit na analý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je opět jen jedním faktorů působících na motivační struktu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dičnost, rann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laví, věk, vzdělání, ekonomick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 faktory a specifika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vrhování motivát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e, individuální rozvoje a postup - individualistická k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áležitost – kolektivistick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lost pracovního prostředí a jistota práce - kultura s velkou snahou vyhnout se nejistotě a ri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ležitosti k týmové spolupráci - kultura s menší vzdáleností mocenských poz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ovní podmínky, vyhovující pracovní doba - feminin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vádění odměn za individuální úspěchy nevhodné v kolektivistické kultu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ýšení ženy na vedoucí pozici v silně maskulinní kultuře -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2-01T11:2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