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6944-20A1-4AD9-B59E-FA0A3774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E41F-A516-4A45-9B10-6E770359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F8D8-8A9E-44E4-A8CA-2F469E4DD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A757-B53B-498A-817D-6C2DC93C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DD14-5A03-44C6-B6A5-CF7F8721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31E2-9CB8-4DD4-9007-E03B6251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700B-EC65-48EB-9D3A-8C86816C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F21A-6BAB-4465-9D35-0DC6E647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A0CD-4F43-48E0-8703-371010A5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2514-126E-4E02-B0E8-025081D5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EF2C-3C0A-4B4D-96ED-20857229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179C-3389-44AE-B688-561E5563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4DA5-57EB-42C3-A27D-EC90D3E0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D45F-A512-42BD-AC69-E5CE10D0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D93B-D2EF-4E9F-9234-99158336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1372-DBFD-4B7E-BBB2-988C3027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CC7B-2280-4A5D-B233-4FEDBEF5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C14F-EA39-4F99-BCCD-2AB94A5A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59C4-FA8E-4916-9E5F-7A58C286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2AF1-D8E1-4EB0-AD79-7E88270F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096D-4BF7-4740-AA65-A458341C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B494-6FB0-410F-BB57-0EC13823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67F0-7163-48F0-9C1A-CEEB76F3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7490-3272-4EBB-89F2-434E52D9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66E5-CB9E-4D15-A575-CF3199E8F77C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0B7F-BF41-4442-8D4A-465A7C921CC6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Požadavky na manažery na prahu postindustriálního věku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udmila Šauer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ronika Mol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reza Hurní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Citáty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Lidé, kteří přespříliš mluví, málo dělají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vět hledá lidi, kteří něco dovedou udělat, a ne lidi, kteří umějí vysvětlovat, proč něco neudělali. Rowlendov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ytvářet a nevlastnit, působit a nezáviset, být v čele – a neovládat, to je, co nazývám tajemnou ctností. Lao-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Jak lépe myslet?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ískávání informac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jčastější chyb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rušení zákona totožnost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rušení zákona sporu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rušení zákona o vyloučeném třetí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užívání nesprávných slov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Jak lépe mluvit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řed projevem si uvědom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č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omu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ak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dy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ři projev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ýchán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ýška a síla hlas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olba slov + stavba a délka vě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est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ozorno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řazení řečník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Mluvk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Žvani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Frázist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Diplomat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Demago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Peda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Vtipálek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Boucher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Gramof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Snaži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Exhibicionist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Jak lépe psát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ůležitý pravopis a správné rozčlenění prá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rozumitelnost text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élka vě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lba slo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řítomnost sty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sobní přiblíže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Stolování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Není důležité, co jím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Čestná míst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izinci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Manželé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Koučování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 je koučován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yl řízení, vytváří vztah vzájemné podpory mezi koučem a koučovaný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ké prostředky a styl komunik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ílem je lepší výkon (odhalení potenciálu koučovanéh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užívání: řešení problémů, v průběhu práce, kontrola, běžný hov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základní principy: vnímání reality, odpověd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nažer jako kouč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78850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Špičkový manažer        dobrý kouč (schopnost empatie, objektivnost,ochota změnit dosavadní styl komunikac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Šéf ví co se děje, ale nositel výkonu se rozhoduje sám – převezme odpovědnost (skutečná kontrol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jišťuje plnění úkolů i profesionální růst podřízený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1700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bývali jsme se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definováním požadavků na manažera postindustriálního vě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jak má manažer myslet a jak se chov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kouč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Účinné otázky (vnímání reality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evřené otázky nutí přemýš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yslem je zjistit, zda má koučovaný dostatek informac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ačátek otázek: Co, Kdy, Kdo, Kol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ouč by neměl podřízeného vést tam, kam chce 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edování řeči tě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oblasti: cíle, prověření reality,možnosti, co – kdy – kdo udělá a jaká je VŮ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pětná vazb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7650360" cy="46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brá zpětná vazba napomáhá učení se a dosahování lepších výsledků (realita, odpovědnos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ískávání podrobného nehodnotícího popis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čovaný musí o odpovědích přemýšl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chvala (upřímná, rozumná, soudná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oučování tým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470720" cy="47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lizace úkolů (cíle, realita,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zvoj tým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čovaní sami posuzují výkon – disku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č musí jít příklad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kud je tým dobrý a členové schopni spolupráce, je možný další rozvoj (tým i jednotlivc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19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2133720"/>
            <a:ext cx="576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2268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o brání úspěšnému koučování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75484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nější bariéry: nevhodná kultura společnosti, nedůvěřivost lidí, lidé očekávají, že kouč bude dávat příka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nitřní bariéry: obava, že to nebudu dělat dobře, staré dosud fungovalo, jediné, co motivuje lidi, jsou peníze, ztráta auto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užitá literatur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YRNER, A.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Manažerská etika a etiketa.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Vysoká škola ekonomická v Praze, 200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WHITMORE, J.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Koučování – rozvoj osobnosti a zvyšování výkonnosti.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aha: Management Press, 200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AMP, Di. Manažer 21. století. Grada Publishing, s.r.o., 2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 jakým změnám došlo v podnicích počátkem 21. století 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nížení počtu úrovní říze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výšení orientace na zákazní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Flexibilní pracovní režimy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prac. síla s víceoborovou kvalifikac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týmová prá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pružná prac. dob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výšení odpovědnosti pracovník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rátkodobé cíle 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dlouhodob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žadavky na manažer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íše vést než ří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učovat podříze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yšovat pravomoci podřízený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o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měnit přístup podřízených k prá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utné zlo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plňující či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valit</a:t>
            </a: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y manažer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ýt vzor pro osta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át sám se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stavně se vzdělá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vládat změ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ít vi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ně si uvědomovat reali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ít vysokou úroveň etiky a hod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kračování – kvality manažer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ře komuniko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let systémo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let pozitivn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ět se nadchn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ýt opravdov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Garamond"/>
              </a:rPr>
              <a:t>Změňte své myšlení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- nutnost si přiznat své schopnosti: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amyslete se, které z výše uvedených vlastností již máte, a kde je používá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Např.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„Když jsem na dovolené s přáteli, jsem velmi opravdový.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okud jde o mou zahradu, uplatňuji systémové myšlení.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dyž jsem se před rokem začal zabývat …….., měl jsem vizi.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užívání pozitivního myšlen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nitřní rozhovor 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upravení našeho vnějšího sta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anipulace tím, co sami sobě říká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utnost být KONSTRUKTIV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Např.: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„prezentace se mi nepovede…budou kritičtí…“ </a:t>
            </a:r>
            <a:r>
              <a:rPr b="0" i="1" lang="cs-CZ" sz="2800" spc="-1" strike="noStrike">
                <a:solidFill>
                  <a:srgbClr val="ff0000"/>
                </a:solidFill>
                <a:latin typeface="Arial"/>
              </a:rPr>
              <a:t>NE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ff"/>
                </a:solidFill>
                <a:latin typeface="Arial"/>
              </a:rPr>
              <a:t>ANO: „mé prezentace předtím byly úspěšné. Vím, co chci říci. Kolegové jsou příjemní a mají pochopení. …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oužívejte metodu napodobování vzorů pro sebe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aké vlastnosti si chcete osvoj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ajděte si někoho s danou vlastnost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ozorujte jeho cho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zjistěte, na co myslí před a bě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zkuste si být přesně jako 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řizpůsobte si imito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vyzkoušejte to v prax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4:07:42Z</dcterms:created>
  <dc:creator>Radek</dc:creator>
  <dc:description/>
  <dc:language>en-US</dc:language>
  <cp:lastModifiedBy>Tereza</cp:lastModifiedBy>
  <dcterms:modified xsi:type="dcterms:W3CDTF">2008-11-24T00:29:58Z</dcterms:modified>
  <cp:revision>25</cp:revision>
  <dc:subject/>
  <dc:title>Koučování</dc:title>
</cp:coreProperties>
</file>