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E81-E1E3-448F-8CB1-6B4E2EEB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7EC-DB47-4BD4-84A7-CB90C816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278-AD96-4B60-B957-46ACD626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C9E-C2A1-4792-A267-0834F314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B799-9702-4D94-89C0-24B4184B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B191-B9B1-4D97-855A-0975FA76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72E8-D0C0-4628-A396-C0795988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BB2A-4CE3-417C-9F4D-2B29C4D6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7C9D-552A-43DB-8980-26B8D4B4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B88E-4C1E-4B6A-A986-BE7FEC0E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92EA-212D-4497-8AE3-2087034B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60A-6DBF-412E-949C-B0245C65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27E9-A7CB-4B37-A011-0DD91792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4D50-3FE1-4A67-BB45-7C7FA6A8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7565-3B25-4A69-859F-48C9171A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06EF-5CBF-41D1-87AE-40429D69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828F-D00B-4473-A0B8-DFEA9EBD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993-6F0C-4402-8909-B3E799D1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E84-1F54-4E88-833E-C09AC071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1B7-5257-43CE-85CC-D071BDF0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871-5263-4CD3-864D-257DD6F3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DAD-7462-4C57-9C6D-C9F6FFF3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CBCF-7EC7-45EC-A098-7B97FACB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BE1-6CCE-4263-A24F-CB5D68C1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5C4D-150D-4E39-835C-08113C42C867}" type="slidenum">
              <a:rPr b="0" lang="sk-SK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9F09-C7D7-4197-B28B-BBA4251CAC95}" type="slidenum">
              <a:rPr b="0" lang="sk-SK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5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dbbd71"/>
                </a:solidFill>
                <a:latin typeface="Arial"/>
              </a:rPr>
              <a:t>Požadavky na manažery na prahu postindustriálního věku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adežda Kaluž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iroslav Mašle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ereza Žáčk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finice problém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dstata problé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ční pa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ástupné problé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řešitelné problé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jednoznačné problé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vě práva uplatnitelná před řešením problé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sem ten, kdo by měl problém řeši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 problém jednoznačný, řešitelný a skutečný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alýza problém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zbytná k odhalení vnitřní podstaty problému, jeho příčin a různých souvislos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odely reality (teorie vitality, funkční model firmy, balanced scorecar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běr d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ůvěryhod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elevance (zahlcení daty malé či nejasné užitečnost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uzování souvislostí (systematické myšlení ubývá, především přírodní vědy, např. matemat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suzování souvisl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ásled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Časová posloupnost – vyskytuje se samostatně nebo spolu s nějakou další souvislostí? (pomůcka: kalendář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kční vztahy – D je smyslem C nebo C umožňuje/usnadňuje D -&gt; není možné/žádoucí, aby proběhlo D -&gt;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uzální řetězce – mat.implik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řad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storové vztahy (pomůcka: map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pacitní vztahy – hospodaření s omezenými zdroji (časové, finanční, lidské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suzování souvisl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Interak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fliktní vztahy – „palivo do motoru vývoje“ – při neexistenci stagnace, při neřešení krize, při úspěšném řešení pozvolný vývo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pětné vazby – pozitivní zpětná vazba je základem individuálního učení, negativní z.v. základem stability dynamických systé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upráce a synergi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– podmínky rozhodnou o tom, zda budou lidé soutěžit nebo spolupracovat; měli by sdílet cesty a cíle, vhodná diverzita v rolí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spořádanost – vztahy mezi lidmi,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istota – pravděpodobnost a riziko, proměnli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rování možn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luvené fo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rainstorming – nápady se v průběhu zásadně nehodnotí, vytváření neobvyklých asociací, vhodná rozmanitá skup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ystém 365 – vytvořte skupiny po pěti lidech a dejte jim šest minut na to, aby se dohodli na třech řešeních problém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ísemné fo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ující papí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nfoban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lfská met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rování možn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ledání inspi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ledání analogi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oda přehledného pátr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pojení lai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říděn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liminace zjevných nesmys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mysluplné x „smysluprázdné“ možnosti (např. podle konsensuálního pravidla, podle stupně příslušnost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spořádání skupiny možných řeš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dukce počtu mož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běr skup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dělování bo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dnocen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přístu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elativní – nutně potřebujeme vybrat nebo může být řešení uplatněno jen jedno a jedn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Absolutní – více než pořadí nás zajímá, do jaké míry hodnocené možnosti vyhovují kritérií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Ďáblův advokát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– ne personifikace či celkové soud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eznamy plusů a mínus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rovn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námk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d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ystém DDB – distributivně delegativní bod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ultikriteriální hodnoc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ozhodování a realiza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hod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utoritativ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articipativ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elegativ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lán – tabulka, mapa ap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onitor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hodnoc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Použitá literatú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i KAMP, Manažer 21. století. Praha: Grada, 2000. ISBN 80-247-0005-0.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LAŽEK, L. Management II – průvodce studiem. Brn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LAMÍNEK, J., Řešení problémů a rozhodování. Praha: Grada, 200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Vývojové trend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verečné tri dekády 20. st. i začiatok 21. storočia sú v znamení rozmachu manažerskej et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nažér nie je len zamestnancom slúžiaci vlastníkom, ale aj individualitou s ďalšími záväzkami voči rodine, komunitám i voči vlastnému svedomiu (M. Friedman)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Motivácia zamestnancov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ajdôležitejšia súčasť práce manažé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namená uvádzanie sa do pohyb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tivácia je vždy seba- motiváci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tivujúce faktory: 1. úcta k ľuď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2. prejavy uznania ľuď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3. poskytnutie zodpoved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4. zába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Prečo si prajeme motiváci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ahoma"/>
              </a:rPr>
              <a:t>Motivovaní ľudia uskutočňujú zmen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ahoma"/>
              </a:rPr>
              <a:t>Uľahčovanie riade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Faktory motiváci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cta k ľuď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Jednať s každým zásadovo a spravodl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držovať všeobecné zásady sluš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iať na vedomie individualitu ľudí a rešpektovať rozdiely medzi ni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yjadrovať úctu a vďačnosť za to, že dotyčný prispel k dosiahnutiu vašich cieľ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javy uznania ľuď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dmena za prác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aždodenná politika a sprá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oskytovanie zodpoved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sobná zodpovednos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ová zodpovednosť pri nevyťažení pracov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áb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Motivačné vzor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oaktivní – reaktiv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rne – externe motivova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rentovaní na rovnakosť – odlišnos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závislí - kooperativ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Základní pojmy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roblém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vnáší do systémů typu firem, rodin či společností nerovnováhu nebo nestabilit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Stabilita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schopnost systému hledat rovnováhu, dosahovat jí, nebo k ní směřova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takový stav systému, při němž se působení různých vlivů navzájem ruš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Spo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také vnáší do systému nerovnováhu nebo nestabilitu; souvisí ovšem s přístupem lidí, kteří mají problémy či spory řešit – snaží se prosadit určitý výsledek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Konflik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nadřazený pojem pro problém i spo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áze řešitelského proces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fini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alý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ener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řídě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dnoc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ozhod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liz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08:50:36Z</dcterms:created>
  <dc:creator>Tereza Žáčková</dc:creator>
  <dc:description/>
  <dc:language>en-US</dc:language>
  <cp:lastModifiedBy>Tereza Žáčková</cp:lastModifiedBy>
  <dcterms:modified xsi:type="dcterms:W3CDTF">2008-11-24T00:35:09Z</dcterms:modified>
  <cp:revision>10</cp:revision>
  <dc:subject/>
  <dc:title>Základní pojmy a fáze řešitelského procesu</dc:title>
</cp:coreProperties>
</file>