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1DA606-2B4D-4D0E-B419-B5C626F1F829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aujímavého miesta, ktoré sa nachádza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mapu svoj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obrázok niektorého zemepisného prvku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, ktorý zobrazuje ročné obdobie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vieraťa alebo rastliny, ktoré sa vyskytujú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 časovú os pridajte významné míľniky v histórii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em vložte obrázok znázorňujúci určitý zvyk alebo tradíci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hlavy štátu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ilustrujúci niektorú oblasť ekonomiky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126-EBC4-4C75-A29B-A0421455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745-D6A0-4613-8C8F-8897107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0BB-D14C-4067-BCCE-8BC76470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F2E-0C36-4DCF-A984-1631EF61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3B75-44F2-44B2-BD35-81C682DC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A7D6-055B-436F-BC9B-B5A9E8FB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689-4D22-4B9F-8F11-8ACA660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244A-0B49-40D1-AB65-FBC7D648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B396-D477-4A90-A4D5-FDF8EAB9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2743-1C85-433F-A934-4562A81C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9F8-AFEE-47E4-9B24-5CE9112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F6F-D660-45DE-9621-1487BB2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FAE5-0412-43EC-9C3E-C6F54B8E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0DBE-2ACD-4B13-9D04-0DF786A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4CC-9EF5-46A8-9D3A-4AE3D7BF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086F-8D48-46D1-8A80-0587A0CC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116-E271-4633-98B9-0B76470D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4C7-1BA2-4A2A-AF16-5870B7FC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6EB-9356-44FB-A620-9B9492F5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AE2-4252-4FF4-8123-E5B86F8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1F7-BD7E-449F-8018-E2E25E33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183-365D-429E-9CAB-06FF328C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FC6-0BD1-4100-826E-E2A8166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4C9-C97A-4E75-BFCC-185C85E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250B-F13F-4160-A6FF-EB7702EE1043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A558-9871-4CAA-BEDC-4CAEAF14CA85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ichal Dančiš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rtin Ďub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ereza Koklar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626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Holandský manažer s mezinárodními zkušenostm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a základě modelů G. Hofsteda, E.T.Halla a dalších autorů a s ohledem na své vlastní zkušenosti rozvinul vlastní model kulturních dimenz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ulturní rozdíly vznikají ve třech základních oblastech život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stoji lidí k času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přírodě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ostatním lide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těchto oblastí odvodil následující dimenz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Fons Trompena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niversalismus/partikular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utrální/afektiv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pecifické/difuz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sažený status/připisovaný sta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přírod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v č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Kulturní standardy podle Alexandra Thom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andardy představují konkrétní sociální normy, které jsou příslušníky kultury sdíleny a závazně respektová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jsou měřítkem toho, co je v určité kultuře považováno za normální, obvyklé, typické a akceptovatel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určují přípustnou míru tolerance od jiných standard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zřetelnými se stávají až v interakci s příslušníky jiné kultur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lze je proto identifikovat a interpretovat až v procesu konfrontace dvou nebo více konkrétních kultur (jejich charakteristiky platí opět jen pro tyto srovnávané kultu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epředstavují univerzální škálu, ale výsledky porovnávání konkrétních kultu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ozdíly v kulturních standardech se stávají zdrojem mnoha nedorozumění a často i bariérou vzájemné spoluprá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ze nabídnout poměrně jednoduchý postu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dobře zná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respektov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ztahu k cizí kultuře je třeba učinit vstřícné kro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Strategie řešení podnikové multikultura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minance – přizpůsob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prom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binace a integr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ovace, synerg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dmítnu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dení pracovník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pracovní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úko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 sjednání cí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problém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motivujících pracovních   podmín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vzta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dceňování struktur / láska k improviza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multá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ntrola orientovaná na lid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ájemné prolínání různých oblastí života a aspektů osob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lný komunikační kontex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hýbání se konfliktů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ísavá sebejisto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781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eme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7058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Schroll-Machl, S. a kol.: Interkulturní komunikace v řízení a podnikání, Praha 2003, Management P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 Schroll-Machl, S. a kol.: Spolupráce přes hranice kult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6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Základní literatura, autoř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 a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07160" y="2666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5360"/>
            <a:ext cx="810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Interkulturní komunikace v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odnikání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7274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Ivan Nov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esor na VŠE v Praz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uje se na problematiku psychologických a sociologických aspektů podnikového a personálního řízení a interkulturního managementu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bývá se poradenskou a vzdělávací činností (Škoda Auto, Volkswagen, Bosch…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ylvia Schroll-Mach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náší interkulturní komunikaci na Wirtschaftsuniver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 ve Vídni a v Regensburg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uje se na interkulturní poradenství a na vzdělávání a výcvik manažerů (Siemens, Hewlett-Packard, Aud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lektorkou v Hernstein International Management Institu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5041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roblém interkurturní komunikace nespočívá jen v dokonalé znalosti cizího jazyka a schopnosti orientovat se v jeho odborné terminologii. Úspěch závisí i na dobré vzájemné znalosti kultury a zejména kulturních odlišností partnerů…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.podmínkou uvědomění si kulturních rozdílů je však i dokonalá znalost sebe sama, tedy kultury vlastní,…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75480" y="263196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505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ociální percep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40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ce – proces vnímaní, ve kterém lidé prostřednictvím svých smys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 přijímají informace z okolního prostředí a zpracovávají je za účelem jejich interpreta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 rozvoji vlastních percepčních dovedností člověka je porozumění procesu interpersonální percepce, v kt. se uplatňují především 3 komponent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jíci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jící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70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a zkušenostmi, motivačními zaměřeními a emocionál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m stavem jedi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ční obrana – jedinec „nevidí, neslyší“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048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11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ímaní druhého člověka je 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o těmito faktor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Fyzický vzhled, vnější úpra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erbální/neverbální proje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stat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Chová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Domnělá či skutečná shoda s pozorovatele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Míra nejednoznačnosti či „nečitelnosti“ pozorovaného člově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a kulturní prostřed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ýsledky jeho činnost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Doplňuje informace, které máme o objektu vnímaní a ovlivňuje jejich interpreta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ČR – vysoký komunikační kontext. Oproti kulturám s nízkým komunikačním kontextem tak 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že být verbální stránka komunikace podstatně úspornější – tím však vznikají značné komunikační problémy a nedorozumnění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913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růkopníkem Holanďan Geert Hofste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roce 1980 vytvořil dotazník, který byl přeložen do 20 jazyků a použit v 53 zemí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účelem bylo zkoumat tzv. pracovně orientované hodnotové předsta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závěr: je možné rozlišit 4 kulturní dimenze (později je rozšířil o další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ozpětí moci v hierarch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individualismus/kolektivism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yhýbání se nejistotě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skulinita/femini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louhodobá orienta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48:58Z</dcterms:created>
  <dc:creator>Martin</dc:creator>
  <dc:description/>
  <cp:keywords/>
  <dc:language>en-US</dc:language>
  <cp:lastModifiedBy>terka</cp:lastModifiedBy>
  <dcterms:modified xsi:type="dcterms:W3CDTF">2008-12-01T21:14:08Z</dcterms:modified>
  <cp:revision>3</cp:revision>
  <dc:subject/>
  <dc:title>Interkulturní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51</vt:lpwstr>
  </property>
</Properties>
</file>