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6CDC4-9BC7-4393-8CD2-6C465021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59DC9-9C89-469D-BC61-964EDF53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35B76-270B-4A11-A678-761CFF5B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029B3-6D93-42D9-AAC8-87C75CCE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B179-9CD2-4604-9D15-38B30C76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7879-1C6D-4008-8B51-9D9CA313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26BF-B7F7-4A14-A72E-61F0366D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2D4C-B453-4987-9D9F-73E10DD5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996D-7DC2-4ACC-935C-DC42BA0E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3D24-00D1-481F-A9CD-6EAEE9B4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F728-E8A5-4F1B-A8E7-23B0497E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C786D-F2B6-47F2-AB56-C3578E16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7A63-9351-4E9F-B4B3-20804677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99C0-BB76-4022-B8D0-DA35080C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59C7-F128-4B7F-8FEF-2FE38BFC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6581-5EE0-47D9-9B76-FC51358E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54FB-9E98-46D1-AAED-38F0963F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C955F-6BB3-4328-813C-DEB7A14B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EDA8F-4D73-4B62-8D6A-805F79CB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033E-A772-49C4-826A-1F08D486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DA768-2D85-486E-B1AC-F3FA8E4C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ED711-2081-4B92-8A64-B52F49EC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8714A-F5AC-44AA-BE5C-B965BFAA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BDC51-274A-486A-A13F-5268BED3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1061-7D95-4E35-8762-1BCC86A481B4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74B8-43A8-4BCC-B606-13092189989C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800" spc="-1" strike="noStrike" u="sng">
                <a:solidFill>
                  <a:srgbClr val="ffffcc"/>
                </a:solidFill>
                <a:uFillTx/>
                <a:latin typeface="Tahoma"/>
              </a:rPr>
              <a:t>Vývojové trendy podniků a jejich řízení na prahu postindustriálního věku</a:t>
            </a:r>
            <a:endParaRPr b="0" lang="en-US" sz="5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pracovali: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indřich Hovor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ukáš Neradil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Výkonnost, produktivita, efektivita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 disponibilními zdroji vytvořit co nejvyšší efek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tné používat i ukazatele, z nichž lze usoudit budoucí vývoj, nefinanční ukazatel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úhel pohled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ement stresu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Produkt a značk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idružené služ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dávejte zážitky(prožitkový manaž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de in E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arley David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Efektivní portfoli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vádět pouze ty činnosti, v nichž je firma nejlep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ore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ledovat vývoj nákladů, krycího příspěvku a zisku na jednoho zákazní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cc"/>
                </a:solidFill>
                <a:latin typeface="Tahoma"/>
              </a:rPr>
              <a:t>Znalosti základem úspěchu</a:t>
            </a:r>
            <a:br>
              <a:rPr sz="3800"/>
            </a:br>
            <a:r>
              <a:rPr b="0" lang="cs-CZ" sz="2800" spc="-1" strike="noStrike">
                <a:solidFill>
                  <a:srgbClr val="ffffcc"/>
                </a:solidFill>
                <a:latin typeface="Tahoma"/>
              </a:rPr>
              <a:t>F.Bacon: „Vědění znamená moc“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ůležitost nápadů-tvotba vlastní poptáv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dprůměrná úroveň vědy a vzdělávání v Č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elkové investice do vzdělá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R 0,9% HDP, USA 2,7% HDP, OECD 1,7% HD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Š studentů 20-29/1000 obyvat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r 5,6, Francie, VB, Finsko přes 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Rychlost a pružnos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urbulentnost do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kurenční výho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Výkonostní motivační systé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hyblívá složka mzdy motivuje ví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ledování spokojenosti zaměstna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část morálních kodexů fir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legování odpovědnosti na zaměst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dé potřebují vlastnit úk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Centraliza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utnost sladění všech částí podniku, konec autonomním diviz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formační technologie umožňují lepší propojení celku, umožňují vytvoření a užívání společné báze znal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liminace duplicity proces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Inovativnos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Gates: „Inovace musí být v krvi každého zaměstnance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íklad tranzisto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Zvítězí velcí, silní, progresivní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endence k vytváření alian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mezení duplicit a zvýšení výkon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40% mezi konkure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irtuální fir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Systém strategického řízení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se, vize, strategiské cíle(měkké, tvrd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rategické řízení je nejobtížnější součást managemen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lad jedinečnosti fi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vídavost, viz. Con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ariant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slučitelnost kr. a dl. cíl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Úvo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sou jen 2 typy firem, ty které se změní a ty, které zmizí.“ P.Kot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-li tempo změn uvnitř podniku předstiženo tempem změn mimo podnik, blíží se jeho konec.“ J. Wel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čněte dřív, než je to nutné.“ J.Wel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Strategické myšlení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rávný přístup a volba metod k řešení strategických úk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yšlení ve variantá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incip permanent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elosvětové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Interdisciplinární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yntéza exaktního a intuitivního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pětnovazebné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incip koncent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tika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Použitá literatur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SOUČEK, Z. Firma 21. století. Praha : Profesional Publishing. ISBN 80-86419-88-6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SOUČEK, Z. Strategie úspěšného podniku. Ostrava : Montanex, ISBN 80-85780-93-3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HAMMER, M. Agenda 21: co musí každý podnik udělat pro úspěch v 21. století. Praha : Management Press, ISBN 80-72610-74-0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Firmy se musí radikálně změnit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kladní prvky současných firem mají velmi starou histor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vět se však rozvíjí rych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častějším důvodem bankrotu je to, že firmy nereagují na změny na trhu (ne samotné změny) 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ké firmy přežijí a zvítězí v následujícím období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Absolutní orientace na zákazníka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š zákazník- náš diktát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úspěch firmy plně závisí na zákaznící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dnoty, které zákazník vnímá a jejich zlepš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volávat nové potřeby zákazník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držení dobrého zákazníka je mnohem levnější, než získání nového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Silný top management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chopnost strategicky předvídat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časný svět je chaotick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vídání a inform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ktivní vytváření budouc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uperkonku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formatiz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uperturbul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globaliz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Silný top manage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ormulace a implementace strategie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budoucí potenciá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dvaha pro radikální změny ve firm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ý styl řízen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hledávání a rozmisťování schopných pracovník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Aktivní vytváření poptávky a hledání nových trhů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xistence poptávky je základním předpokladem pro jakoukoliv firm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ne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ýrazný převis nabídky nad poptávko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rhy jsou přesycen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 skutečnosti nasycený trh neexistuj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uperprodukt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razy ideas“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Specifické přednosti a vnímané hodnot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ecifické přednosti= osobité vlastnosti, které firmu odlišují od jiných fir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azníc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yto vlastnosti musí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 vnímat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žitečně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 využít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usí být ochotni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zaplatit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cen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ustomizace (personalizace) produkt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nosti nesmí být snadno a rychle napodobiteln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Orientace na špičkové výsledk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uď jste v tom, co děláte, nejlepší, nebo to nebudete dělat moc dlouho.“ J.Wel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irma musí dosahovat špičkových výsledků, aby byla úspěšn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elosvětová konku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lmi složit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jdůležitější prvek: včasná příprava kvalifikace pracovníků pro plnění úkolů, které budou v budoucnu plni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3:20:40Z</dcterms:created>
  <dc:creator>mrerror</dc:creator>
  <dc:description/>
  <dc:language>en-US</dc:language>
  <cp:lastModifiedBy>Lukáš Neradilek</cp:lastModifiedBy>
  <dcterms:modified xsi:type="dcterms:W3CDTF">2008-12-01T09:45:36Z</dcterms:modified>
  <cp:revision>19</cp:revision>
  <dc:subject/>
  <dc:title>Snímek 1</dc:title>
</cp:coreProperties>
</file>