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CC5-5B30-4245-A0E2-1204F958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86D-7EF3-42F6-8219-98B86E5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6A9-A60E-4B38-8640-F870791B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4AF-1244-407B-B29F-C8170251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003-1C34-4C5E-92E6-B32960F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E1F-B5D4-41A9-BCF1-E8F9ED1B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02E-2CC6-4601-B744-316410B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774-274A-43A5-B81F-4E05B28B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1D3-421A-4CC5-89CD-98B33549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A15-A968-42BF-A4FC-D8BBDCA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D86-1FD7-4B9A-8F68-2C28396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9EA-29A9-4751-806C-46D34B7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97ED-31C4-47EE-9321-C2AFB081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y manaž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na Dvoráková, Martin Petrovič, Milan V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úz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a voľný čas, Racionalita a emocionalita, pracovná rola a osobnosť, formálne a neformálne štruktú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ôsledné oddeľovanie jednotlivých oblastí živ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x voľný čas, racionalita x emocionalita, pracovná rola x osobnosť, formálne x neformálne vzťah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ný komunikačný kontext, ne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ôležitosť neverbálnej komunikácie, sociálneho statusu, kontextu situá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bý komunikačný kontext, 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vorenosť, „to, čo nebolo vyslovené, neplatí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ísavé sebavedomie a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ceňovanie či preceňovanie schopností, nevýrazní prejav, pochybnosti o sebe sam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valá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pnosť prejavovať názory, priebojnosť, schopnosť kritiky, dôvera vo vlastné schop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ípustnosť malých zmien v časovom pláne, voľnejšie zaobchádzanie s termínmi, paralelné vykonávanie pracovných činnost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né časové plány, rozvrhy práce, dochvíľnosť, sekvenčné vykonávanie pracovných činností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čné a trhové štandar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84280"/>
          <a:ext cx="8353440" cy="4971960"/>
        </p:xfrm>
        <a:graphic>
          <a:graphicData uri="http://schemas.openxmlformats.org/drawingml/2006/table">
            <a:tbl>
              <a:tblPr/>
              <a:tblGrid>
                <a:gridCol w="4105440"/>
                <a:gridCol w="42480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čné štandard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. a vých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é štandardy (USA, záp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formizmus voči systému a autorit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výsled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73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e ku kolektiviz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individuálny výk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ia iniciatí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trn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ist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začný t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kvalit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ové nepres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 sú penia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rabské š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lujú“ obchod – radi vyjednáva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ne sľuby nie sú závä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eny vylúčené z obchodného i verejného života, nepýtame sa na ro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verbálna komunikácia veľmi dôleži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čn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dochvíľnosti si nepot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di jednajú so známymi os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á organizovanosť – dobrí organizátori, zlí improvizá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 – vyhýbavé odpo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 podnikateľskej sfére len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mimoverbálne prejavy (smi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é národné uvedo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mys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evern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bre pripravení na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dochvíľni – nemajú radi zbytočné naťahovanie, radi veci vyriešia rých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prejavujú emócie a nestrácajú čas zbytočnými fráz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ndividualizmus, sebadôvera, národná hrd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krátkodobé výsled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Latinsk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formálne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rodzení, bezprostre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ivá gestikul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nedochvíľ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konta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nevhodné sa vyvyšova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ISBN 80-7261-009-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roněk, I.: Kultura v mezinárodním podnikání. Praha: Grada Publishing, 2001.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ociálna percepcia a komunik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percepcia – vzájomné vnímanie ľu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komunikácia – prenos informácií medzi ľuď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lyv soc.pozície, skúseností, kultúry, emócií, vlastností vnímanej osoby, situ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úrne dimen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fektívnosť komunikácie závisí na poznaní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fsted, 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Trompenaa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niverzal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ikula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lektiv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vidual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utrál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mocioná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fúz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pech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sudz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sle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e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ia ori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e uč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udziu kultúru je treba poznať, rešpektovať a učiniť k nej ústretové kroky = interkultúrna k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lepšenie tréning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inform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akcia a komun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ny asimi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iešenie bikultu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19320"/>
            <a:ext cx="7391160" cy="5029200"/>
            <a:chOff x="457200" y="1219320"/>
            <a:chExt cx="7391160" cy="5029200"/>
          </a:xfrm>
        </p:grpSpPr>
        <p:sp>
          <p:nvSpPr>
            <p:cNvPr id="51" name=""/>
            <p:cNvSpPr/>
            <p:nvPr/>
          </p:nvSpPr>
          <p:spPr>
            <a:xfrm>
              <a:off x="1301760" y="53172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dmietnu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1219320"/>
              <a:ext cx="211176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25640" y="5875920"/>
              <a:ext cx="23227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760" y="1591920"/>
              <a:ext cx="0" cy="42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5875920"/>
              <a:ext cx="63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4040" y="270936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ina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14320" y="49446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rispôsobe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6600" y="177804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ov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6680" y="47584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prom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9920" y="41994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bin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3520" y="36406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gr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69760" y="2336760"/>
              <a:ext cx="147816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24040" y="2336760"/>
              <a:ext cx="4223520" cy="20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ypológia českej kultú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ypické vzorce jednania 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stata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flikt nadriadeného s podriad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avidlá komunik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ytmus pracovného dň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rátkodobosť orient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skulinita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tváranie sku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ácia ľudského jedn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3600360" cy="29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609300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ameň: Literárny zdroj č.1, str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2745800">
            <a:off x="2835000" y="2291400"/>
            <a:ext cx="546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941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517200">
            <a:off x="4032360" y="30297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zácia a flexibil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ôvera voči pravidlám, normám, formalizovaným postupom, vynaliezavosť, improvizácia, adaptabilita, schopnosť učiť sa, veľkorysosť, „byť nad vec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a snaha vyhnúť sa riz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ľuba v organizácii, zameranie na detail, akcent na funkčnú hierarch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ácia na sociálne vzťa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ízke sociálne schopnosti pri zachádzaním s negatívnymi informáciami, neriešenie sociálnych konfliktov, partikularizm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ná orient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schopnosti pri zachádzaní s negatívnymi informáciami, riešenie sociálnych konfliktov, univerzaliz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39:28Z</dcterms:created>
  <dc:creator>Martin Petrovič</dc:creator>
  <dc:description/>
  <dc:language>en-US</dc:language>
  <cp:lastModifiedBy>El Mino</cp:lastModifiedBy>
  <dcterms:modified xsi:type="dcterms:W3CDTF">2008-12-03T17:05:42Z</dcterms:modified>
  <cp:revision>52</cp:revision>
  <dc:subject/>
  <dc:title>Porovnanie českých a nemeckých kultúrnych štandardov </dc:title>
</cp:coreProperties>
</file>