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F08A-01C6-41D4-BED3-39F8C8F6A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51B9-0B95-47B9-869A-3FF946647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4AB8-3A43-4835-84E3-8A3B12FCE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D8B6-AE5D-49DE-947E-4A089558F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F73-EE9C-4860-9988-2D8D6D15B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FB64-8A16-42EB-AA65-8A2C6ED11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92C-4B26-4A1A-84B5-C0255A893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2D03-B9AD-4584-AEF5-B734C9B8F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D4F9-DA50-440B-9593-93CB886B6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9DD2-AD84-4E69-95CC-D7816C187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7B69-3C21-44B3-9462-59B818712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57D-C184-4908-8A8A-7073A499C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EDAB-F593-48CB-8B7A-D45229A29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33C-F8A5-49F8-A5EA-3113764B7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4A1-FAC6-49C7-BE19-8D386D542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6C7-F0DF-4070-84B9-534E7D488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23D-D1F5-4B95-AFD7-7FBED85A2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05AD-3EA6-460E-A94D-9708247EB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0A02-A49E-4A27-83C4-7836DBBA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DD5F-13F0-46F8-849A-D347C8ACB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B33-CF28-400B-8BF1-D69EBAD7B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69A-00D4-4671-842D-1F5D25722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5FF3-19B9-4156-AD77-4AAC7C03E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31D-D6F0-4CB0-80DD-10E03F52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2BE-773A-4EF6-8CD2-568AB81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FAC-680A-476A-9F77-A7DD0E06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F83-DC7B-447C-BE66-099B3C98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3AE-D7E8-4524-85D0-C597A84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00D-0BE7-444C-9820-A5BDA18B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FC8-E5FC-42F7-8AD8-FBADFB75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88C-DFB4-4BC6-AE0B-94B222E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92F-6D7E-421E-ADF2-C3ED39CF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290-6DF1-4271-826D-AD25933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FA-3F00-4AC5-A7B5-31D9F1BB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E78-6B66-4C9D-821E-C17EA39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828-3119-4CEE-900A-F8469DBEFE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RGANIZAČNÍ KULTU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d sdílených hodnot a cílů k vyšší výkonnosti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728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Hana Drozd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Klára Ottich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Kristýna Trn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kultury na strate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strategie na kultu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ulad mezi obsahem strategie a obsahem kultury je podmínkou dlouhodobé úspěšnosti organizace. Ideálem však není naprostá identita, určitá míra konfliktu vytváří prostor pro tvorbu  nových strategi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výkon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íla O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tváří soulad ve vnímání a myšlení pracovní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měrňuje chování lid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namená sdílení společných hodnot a cíl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Fixuje organizaci na minulou zkuše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abraňuje myšlení v alternativ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působuje rezistenci vůči změn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Obsah O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ktivuje pracovní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měřuje k naplňování cílů a hodn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ozitivní vliv kultury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kultur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ontextuálně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rategicky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daptiv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 přiměřenými manažerskými praktik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řiměřeně silná a harmonizující, stmelujíc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3"/>
          <p:cNvSpPr/>
          <p:nvPr/>
        </p:nvSpPr>
        <p:spPr>
          <a:xfrm>
            <a:off x="4143240" y="3429000"/>
            <a:ext cx="47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EXISTUJE JEDINNÁ NEJLEPŠÍ VÍTĚZNÁ K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D.R. Deni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soupeřících hodnot“ B. Quinna a J.Rohrbaugha (CVM – Competing Values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řet kultur a jeho vliv na výkonnost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Uvnitř organizace může existovat několik subkultur, nebo se může firma zapojovat do vztahů s jinými firmami a jejich OK na úrovn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ubkultur v rámci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K v rámci domácích fúzí, akvizicí a jiných forem spolupráce fir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rganizačních i národních kultur v rámci mezinárodních fúzí, akvizicí a jiných forem mezinárodní spoluprá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Jak předejít střetů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ologi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) Ve vztahu k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F. Trompenaa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) Ve vztahu k vlivu prostředí a reakci organizace na prostřed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soffova typ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Milese a C.C. Sno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Quinna a jeho spolupracovník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) Ve vztahu k chování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mpasový model W. 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eorie „krychle 2S“ R. Goffeeho a G. Jone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336680"/>
            <a:ext cx="81435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gnostik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a specifikace teoreticko – metodologických východis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výzkumných met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jednotky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Může mít trojí úče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funkčnost OK ve vztahu k výkonnosti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obsah OK z hlediska předností a omezení vůči zvažovaným strategickým alternativám (při vývoji firemní strategie) či vůči plánovaným organizačním změná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kompatibilitu (spojitelnost) kultury dané organizace s kulturou jiných organizací (při plánování fůze, akvizice či jiné formy strategické spoluprá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stup utváření žádoucí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označná, srozumitelná a dlouhodobě udržitelná strate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očekávání firmy vůči zaměstnanců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rozhodujících paramet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eskripce a hodnocení současné OK organizace v rozhodujících dimenzích, vážících se ke strategii f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mezení nejdůležitějších oblastí podnikového řízení, které bezprostředně souvisejí s OK a mají charakter podmínek jejího dosaž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formování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zdělávání, vysvětlování, trén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ntrola, sank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agnostika změn v kultu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sou dva základní přístupy k vymezení pojm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Interpretativní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čím organizace je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Objektivistický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co organizace má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Zobecněn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rganizační kultura je soubor základních předpokladů, hodnot, postojů a norem chování, které jsou sdíleny v rámci organizace, které se projevují v myšlení, cítění a chování členů organizace a v artefaktech (výtvorech) materiální i nemateriální povah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iz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jasné a srozumitelné strate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rozhodnost v rozsahu kontinuity a diskontin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operacionalizace očekávání, požadavků vůči zaměstnanc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nové/žádoucí kultury s jednotlivými personálními činn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mocenského nebo odborného promotora změ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ůsl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s ostatními měkkými a zejména tvrdými faktory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konzistentnost organizační a národní kultury či kult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identifikace manažerů s žádoucí kulturou, zpochybňování manažers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átkodobá orient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á kultura navž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liš silná identifikace s novou kultur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UKÁŠOVÁ, R., NOVÝ, I. a kol. Organizační kultura. Praha: Grada, 2004. ISBN 80-247-0648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fstede, Geert, Kultury a organizace : software lidské mysli : spolupráce mezi kulturami a její důležitost pro přežití / Geert Hofstede a Gert Jan Hofstede ; [překlad Luděk Kolman], Praha : Linde, 2007, 335 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ein, Edgar H., Psychologie organizace, 1.vyd.  Praha: Orbis, 1969, 161 s. (Malá moderní encyklopedie ; 6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k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Artefak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odno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ormy chová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azy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istorky a mý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vyky, rituály, ceremoniá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rdinov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Firemní architektura a vybave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je multidimenzionální j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 jsou strukturované do několika ro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tefakty a chování považují za vnější rovinu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gar Sch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.P. Kotter, J.L. Heskett a G. Hofst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. Hall, C. Lund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a síl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= základní předpoklady, hodnoty a normy chování sdílené v organizaci, navenek manifestované prostřednictvím chování a artefa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íla = nakolik je obsah kultury sdílen v organiz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nik a vývo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droje O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liv národní kultu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é a tržní prostřed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f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kladatel/vůd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likost a délka existence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m mechanismem vzniku a utváření OK je organizační učení – redukce úzkosti a pozitivní posilování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jedin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tah k O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označ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pjat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taje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tevřené nedodržov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dé si vybírají organizaci, pro kterou chtějí pracovat, na základě podobnosti mezi jejich individuálními hodnotami a hodnotami deklarovanými organizac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nefunguje izolovaně, ale je ve vzájemných vztazích s organizační strategií a struktur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 a realizace strategických rozhodnutí a plánů je záležitostí lidí, kteří jsou nositeli určitých předpokladů, hodnot, názorů a norem ch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ma základními kroky strategického řízení jsou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mplemen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ní strategické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nalýza vnějšího okolí a vnitřních zdrojů a schopnost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 formulace 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optimální varia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9:05:05Z</dcterms:created>
  <dc:creator>KRI</dc:creator>
  <dc:description/>
  <dc:language>en-US</dc:language>
  <cp:lastModifiedBy>KRI</cp:lastModifiedBy>
  <dcterms:modified xsi:type="dcterms:W3CDTF">2008-12-03T19:47:26Z</dcterms:modified>
  <cp:revision>19</cp:revision>
  <dc:subject/>
  <dc:title>ORGANIZAČNÍ KULTURA  - Od sdílených hodnot a cílů k vyšší výkonnosti podniku</dc:title>
</cp:coreProperties>
</file>