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FAF-795B-41E5-97D8-B09B173B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6C3-2570-4690-822A-38E45928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CF95-1DC5-4408-A06F-03A7C995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68E-B9E3-45F8-8CBF-D509D1A9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CDD1-E285-4A92-803D-10512C3B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824D-F0AA-4560-835C-0C474D46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BD1A-DEFE-4CBF-8EAA-E80CD825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D82C-E42D-47C2-8D3A-BE5B5AC2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94B0-EF1F-4B9E-99D8-C66BA57C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B675-C67F-442F-9AB7-8FF76301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E401-8A53-4DE3-B5B0-1171F2D0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AFC-26A6-4A92-9B2C-12859177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8FC5-B6F4-4FDF-9DDD-10B2E6F8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91EF-F727-425A-A53F-EB7E5BF6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C814-49BD-4295-97DA-CEC2D671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06C4-1672-47DB-AB06-1294C7BC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D093-7000-4614-9DE9-43110D09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3C7-0FE3-48E4-8431-6BABE32C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B8F-5DD4-459A-8727-C8B439A6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71E-AAFC-49E0-8054-898CEE35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09F-8846-44C8-857B-432F77F7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8307-DDC9-4097-B63A-3301DDF4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DC4-1988-4E95-9181-77D15E4E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516-8B38-4EBA-B264-84AB837D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E96E-586C-4844-A4D4-46A0CD7EF23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DECC-DBE3-44BA-9660-6FC0C2F72EF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trukturalni-fondy.cz/" TargetMode="External"/><Relationship Id="rId2" Type="http://schemas.openxmlformats.org/officeDocument/2006/relationships/hyperlink" Target="http://www.strukturalni-fondy.cz/" TargetMode="External"/><Relationship Id="rId3" Type="http://schemas.openxmlformats.org/officeDocument/2006/relationships/hyperlink" Target="http://www.strukturalni-fondy.cz/" TargetMode="External"/><Relationship Id="rId4" Type="http://schemas.openxmlformats.org/officeDocument/2006/relationships/hyperlink" Target="http://www.strukturalni-fondy.cz/" TargetMode="External"/><Relationship Id="rId5" Type="http://schemas.openxmlformats.org/officeDocument/2006/relationships/hyperlink" Target="http://www.strukturalni-fondy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ývojové trendy podniků a jejich řízení na prahu postindustriálního věku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Zora Navrátilová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ichal Meluzín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omáš Dostál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ýkonnostní motivační systém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e 21.století zvítězí firma se zaujatými, odhodlanými a odpovědnými zaměstnanci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motné i nehmotné formy odměňová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jsilnější motivační faktor – mz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vé tendence – volný čas, zajímavá práce, samostatnost, dekolektivizace mzdových jednání (individuální sjednávání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jlepší firmy vs. motivační systé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íce peněz na mzdy a zam.výh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K obsazení nové pozice využívají více interní zdr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ledují pravidelně spokojenost zaměstnanc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íce využívají mzdová pás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esně definované a propracované personální proces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orální kode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Hrd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entace na zákazní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zákazníci jsou největším aktivem podniku“ </a:t>
            </a:r>
            <a:r>
              <a:rPr b="1" i="1" lang="cs-CZ" sz="2400" spc="-1" strike="noStrike">
                <a:solidFill>
                  <a:srgbClr val="003366"/>
                </a:solidFill>
                <a:latin typeface="Arial"/>
              </a:rPr>
              <a:t>P. Kot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Globální převaha nabídky nad poptávkou – vznik zákaznické ekonomi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náš zákazník – náš pán“ </a:t>
            </a:r>
            <a:r>
              <a:rPr b="1" i="1" lang="cs-CZ" sz="2400" spc="-1" strike="noStrike">
                <a:solidFill>
                  <a:srgbClr val="003366"/>
                </a:solidFill>
                <a:latin typeface="Arial"/>
              </a:rPr>
              <a:t>T. Bať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ostavení zákazníka ještě posílí nové směrnice E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entace na zákazní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Uvědomění si orientace na zákazníka všemi pracovníky podni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Rozpoznání hodnot a tuže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volávání nových potře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mýšlení nových produktů šitých na mír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Klíčová je loajalita stávajících zákazník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užití feedbac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ovativ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měny a modernizace všech podnikových aktiv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mý či nepřímý profit pro zákazní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tné zvažování zaměření inovac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ex inovací – u produktových změ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ovace – pojetí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ovace je úspěšné využívání nových myšlenek“ </a:t>
            </a:r>
            <a:r>
              <a:rPr b="1" i="1" lang="cs-CZ" sz="2400" spc="-1" strike="noStrike">
                <a:solidFill>
                  <a:srgbClr val="003366"/>
                </a:solidFill>
                <a:latin typeface="Arial"/>
              </a:rPr>
              <a:t>Ministerstvo obchodu a průmyslu G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iciativa Equal (2004 – 2006), OP Podnikání a inov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ovace není jen nápad samotný, ale především jeho implement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 ČR nízký stav inovační výkonnos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ktivní vytváření poptávk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ahlcenost trhů zbožím a služba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zbytnost aktivně vytvářené poptáv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vůrčí přístup, fantazie, hledání nových produlktů – Superproduk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edvídav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ychlost a pruž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peed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užnost společnosti –prodej X výro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nížení rizika – sezónnost, simultánnost, způsob kontroly kvality, organizace distribučních sítí, informační technolo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lný top mana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edvídav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rategie, mise, vize firm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vádění radikálních změ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ma jako cel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tivace, stimu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ledání “správných“ pracovník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oncepční iniciátoři i mediátoř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ČEK, Z. Firma 21. století. Praha : Profesional Publishing. ISBN 80-86419-88-6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strukturalni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-fondy.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ttp://www.equalcr.c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kteristika prostřed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lké změny ve světové ekonom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ůdčí rol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sivní nástup firem z asijských stát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astaralé rigidní metody manažerského řízení v Evrop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třeba změny firemní strate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867280" y="3645000"/>
            <a:ext cx="1660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ozvojové tendence světa 21.stolet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69436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uperkonku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uperturbul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format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lektual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lobal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litantnost a terorism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zmanit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niatur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sou jen dva druhy firem. Ty, které se změní a ty, které zmizí.“ </a:t>
            </a: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P.Kot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22720" y="2362320"/>
            <a:ext cx="32418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incipy úspěšné firmy 21.stolet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Absolutní orientace na zákazní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ilný top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Aktivní vytváření poptávky a hledání nových trh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soká výkon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Rychlost a pruž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ýkonnostní motivační systé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ovativ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oderní informační technolo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ysoká výkonnost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ektivnost – vztah hodnoty výstupu k hodnotě vstup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ktivita – výkon za určitou časovou jednotk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ýkonnost – schopnost subjektu vyprodukovat za určité období souhrn statků a služ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ysoká výkon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vé ukazatel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valifikovaná strateg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valita vztahů se zákazníky – spokojenost zákazníků, počet ztracených zákazníků, CR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Nehmotná aktiva – odbornost, inteligence, mobilita, osobní zaujet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hareholders – majitelé – ROI, E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                   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zákazníci – kvalita produktu, ce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2096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dnocení výkonn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díl na trhu – BCG ma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idaná hodn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tmanův inde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ýkonnost zákazník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zhodující činitelé mající vliv na výkonnost: rychlost, jednoduchost procesů, transparentnost, jasně definované cíle, zpětná vazba, vzdělávání pracovník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ýkonnost českých fir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lné stránky – infrastruktura, relativně nízké náklady, geografická poloh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abé stránky – daňový systém, soudy, staré technolo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ležitosti – příliv technologií, E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zika – nedostatek pracovní síly, konkurence EU, As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1:09:01Z</dcterms:created>
  <dc:creator>čtenář</dc:creator>
  <dc:description/>
  <dc:language>en-US</dc:language>
  <cp:lastModifiedBy>Zora Navrátilová</cp:lastModifiedBy>
  <dcterms:modified xsi:type="dcterms:W3CDTF">2008-12-03T09:46:17Z</dcterms:modified>
  <cp:revision>7</cp:revision>
  <dc:subject/>
  <dc:title>Vývojové trendy podniků a jejich řízení na prahu postindustriálního věku</dc:title>
</cp:coreProperties>
</file>