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4DF-F770-47C4-838D-D58F5049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1C4-5B25-4B9C-8F8D-711EF3C2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507-4EC0-4159-BDBC-17A33953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8CC-40E6-4753-9D58-935D68C6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DC72-4FB4-483D-9739-D7F8E7B9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CB59-8C43-4019-A911-291FE7EF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4ABF-A451-4004-9D0A-27971C81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B73F-3B6B-4E14-A23D-DFFAE18F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CF05-7C02-4D60-8829-0FD2BA3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7AED-5F24-4B24-9E61-233A1D45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F379-CD70-46A1-8CF6-2BE249B4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6A0-F39B-4FB1-8376-72BCFCE5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89FE-F9D3-4D62-811C-BD7FA30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4202-D4BA-4612-AAFF-83F57FD9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1F18-4EB9-4F93-A798-126415CC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6FAC-63D4-4179-BC96-21A3E736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C0D4-0DC9-4AF0-B416-DD83807B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03F-DB22-4124-B80A-3EB31151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C8D-F501-43CD-B764-0B7507AB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A4E-0F4B-4B69-B616-454859B7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AE6-88A8-4D66-BE12-5C00FB1D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4E2-0629-441F-8179-9AF0057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54D-2DCD-42F0-B166-85B31BC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A8D-15A0-4676-A93D-EF81C37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0FE6-9FB6-4732-A14C-548AC94967C9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AC74-CCFD-4A8A-A2D5-07A414FA25B1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bbd71"/>
                </a:solidFill>
                <a:latin typeface="Arial"/>
              </a:rPr>
              <a:t>Požadavky na manažery na prahu postindustriálního věku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dežda Kaluž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roslav Mašle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ereza Žá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ce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stata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ční pa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ástup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řešitel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jednoznač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ě práva uplatnitelná před řešením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sem ten, kdo by měl problém řeš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 problém jednoznačný, řešitelný a skutečný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alýza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zbytná k odhalení vnitřní podstaty problému, jeho příčin a různých souvisl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dely reality (teorie vitality, funkční model firmy, balanced scorec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běr d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věryhod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levance (zahlcení daty malé či nejasné užitečnos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uzování souvislostí (systematické myšlení ubývá, především přírodní vědy, např. matemat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le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asová posloupnost – vyskytuje se samostatně nebo spolu s nějakou další souvislostí? (pomůcka: kalendář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ční vztahy – D je smyslem C nebo C umožňuje/usnadňuje D -&gt; není možné/žádoucí, aby proběhlo D -&gt;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uzální řetězce – mat.implik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řa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torové vztahy (pomůcka: ma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pacitní vztahy – hospodaření s omezenými zdroji (časové, finanční, lidské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a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fliktní vztahy – „palivo do motoru vývoje“ – při neexistenci stagnace, při neřešení krize, při úspěšném řešení pozvolný vývo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pětné vazby – pozitivní zpětná vazba je základem individuálního učení, negativní z.v. základem stability dynamických systé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upráce a synergi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– podmínky rozhodnou o tom, zda budou lidé soutěžit nebo spolupracovat; měli by sdílet cesty a cíle, vhodná diverzita v rolí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spořádanost – vztahy mezi lidmi,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istota – pravděpodobnost a riziko, proměnli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luve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rainstorming – nápady se v průběhu zásadně nehodnotí, vytváření neobvyklých asociací, vhodná rozmanitá skup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365 – vytvořte skupiny po pěti lidech a dejte jim šest minut na to, aby se dohodli na třech řešeních problé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ující papí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foban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lfská met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ledání inspi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edání ana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oda přehledného pátr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pojení lai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řídě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zjevných nesmys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mysluplné x „smysluprázdné“ možnosti (např. podle konsensuálního pravidla, podle stupně příslušnos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pořádání skupiny možných ře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dukce počtu mož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běr skup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dělování bo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dnoce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pří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elativní – nutně potřebujeme vybrat nebo může být řešení uplatněno jen jedno a jedn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Absolutní – více než pořadí nás zajímá, do jaké míry hodnocené možnosti vyhovují kritérií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Ďáblův advokát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e personifikace či celkové sou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eznamy plusů a mínu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rovn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ámk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DDB – distributivně delegativní 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ultikriteriální hodnoc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ozhodování a realiza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utorit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rticip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leg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lán – tabulka, mapa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nitor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hodnoc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oužitá literatú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i KAMP, Manažer 21. století. Praha: Grada, 2000. ISBN 80-247-0005-0.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LAŽEK, L. Management II – průvodce studiem. Br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LAMÍNEK, J., Řešení problémů a rozhodování. Praha: Grada,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Vývojové trend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verečné tri dekády 20. st. i začiatok 21. storočia sú v znamení rozmachu manažerskej e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nažér nie je len zamestnancom slúžiaci vlastníkom, ale aj individualitou s ďalšími záväzkami voči rodine, komunitám i voči vlastnému svedomiu (M. Friedman)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ácia zamestnancov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ajdôležitejšia súčasť práce manažé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namená uvádzanie sa do pohy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ácia je vždy seba- motiváci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ujúce faktory: 1. úcta k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2. prejavy uznania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3. poskytnutie zodpoved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4. záb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rečo si prajeme motiváci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Motivovaní ľudia uskutočňujú zme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Uľahčovanie riade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Faktory motivác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cta k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dnať s každým zásadovo a spravodl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držovať všeobecné zásady sluš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iať na vedomie individualitu ľudí a rešpektovať rozdiely medzi ni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jadrovať úctu a vďačnosť za to, že dotyčný prispel k dosiahnutiu vašich cieľ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javy uznania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dmena za prác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aždodenná politika a sprá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skytovanie zodpoved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sobná zodpoved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ová zodpovednosť pri nevyťažení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áb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ačné vzor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oaktivní – reak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rne – externe motivova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rentovaní na rovnakosť – odliš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závislí - koopera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Základní pojm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roblé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vnáší do systémů typu firem, rodin či společností nerovnováhu nebo nestabilit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tabilit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schopnost systému hledat rovnováhu, dosahovat jí, nebo k ní směřov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ový stav systému, při němž se působení různých vlivů navzájem ruš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po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é vnáší do systému nerovnováhu nebo nestabilitu; souvisí ovšem s přístupem lidí, kteří mají problémy či spory řešit – snaží se prosadit určitý výslede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Konflik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adřazený pojem pro problém i spo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áze řešitelského proces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fin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alý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r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říd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dno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8:50:36Z</dcterms:created>
  <dc:creator>Tereza Žáčková</dc:creator>
  <dc:description/>
  <dc:language>en-US</dc:language>
  <cp:lastModifiedBy>Tereza Žáčková</cp:lastModifiedBy>
  <dcterms:modified xsi:type="dcterms:W3CDTF">2008-11-24T00:35:09Z</dcterms:modified>
  <cp:revision>10</cp:revision>
  <dc:subject/>
  <dc:title>Základní pojmy a fáze řešitelského procesu</dc:title>
</cp:coreProperties>
</file>