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A66-126A-4E60-B98E-55A706CD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41A-8037-4BC6-B27D-EA0DEE64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805-401E-4A1E-BA66-CD06D1E3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C8B-1BDC-4493-BC93-E52CF477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A1D5-D75B-4C68-9A9B-51767002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B9AC-CAF4-4E07-880B-AC05F18F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15FF-CE86-4CFC-9E8B-BB25F2A8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985E-07A0-4364-B561-615B6402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9D84-F50F-43C6-BECF-850F734F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67F2-4469-4C1E-97EB-2DC33474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D61D-72FF-41E8-AD5B-5D71B855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D9B-D69A-47DA-B2C5-F9D1437F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6155-8359-4BFA-A585-2D67A859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0E78-D59D-44E2-94EF-A1BB37C1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C182-00D2-496D-80B7-36C02FFD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1F01-5709-4F76-A2CB-4F8C1B4E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935B-190D-4DF8-B668-66ED4882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B63-FAFC-46CF-880A-254C9510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B8A-7926-456F-8D94-30A9014E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10A-8DB3-400E-8C4C-E54A6C53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D40-63FA-4C3D-9D87-FEC3D2C7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587-A97D-4A76-8EC4-B8526036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33A-10BC-4EE3-9C39-2E101A92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F79-ABB4-45F9-94B2-F67B061A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28B8-130A-491D-9B7D-6C0F78AD4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D0A8-F735-40D7-AF6D-EA3DB06C6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ehe.cz/" TargetMode="External"/><Relationship Id="rId2" Type="http://schemas.openxmlformats.org/officeDocument/2006/relationships/hyperlink" Target="http://members.tripod.com/~pf_cz/pf8/global.ht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3276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Globální kapitalismus versus demokrac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43040" y="44290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87722"/>
                </a:solidFill>
                <a:latin typeface="Arial"/>
              </a:rPr>
              <a:t>Vypracovali: Václav Klein, Robert Kunder, Vít Zouhar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Priesk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3 z 5 britských spotrebitelov  su ochotny bojkotovat firmu, kde maju pochybnosti o jej moralnom profile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75% americanov by bojkotovalo obchody, ktore predavaju vyrobky novodobych otrokarov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Úloha medi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28520" y="1428840"/>
            <a:ext cx="64767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Média hrajú klúčovú úlohu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Hrozby: komercionalizácia a z nej vyplývajúca krátkodobosť a ohrozená nezávislosť médií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505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Benjamin Barber - Consum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É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le Barbera – kapitalismus je spojen s určitými kulturními a společenskými hodnotami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ředglobální kapitalismus – spojení s protestantskou etikou - uměřenost, šetřivost a altruismus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nesloužilo primárně k okamžitému sebeuspokojení, ale k dlouhodobým záměrům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Étos – předglobální kapitalism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642680"/>
            <a:ext cx="647712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ředglobální kapitalismus byl převážně zaměřen na uspokojování existujících potřeb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Vytvářel přibližně takové množství zboží, které lidé potřebovali. Nyní produkuje mnohem více zboží, než lidé potřebují. Nebo není vhodně alokováno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Étos – Globální kapitalism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81080" y="1714680"/>
            <a:ext cx="647712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oprvé v dějinách lidstva věří nějaká civilizace, že její ekonomické přežití je závislé na mravech, které podporují infantilitu místo zralosti a odpovědnosti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ěti jsou vedeny ke konzumu a dospělí k infantilitě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Vytváření umělých potře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81080" y="1999800"/>
            <a:ext cx="64771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vě části světa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Chudá – nedostatek peněz - množství neuspokojených potřeb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Bohatá – dostatek peněz - potřeba vytvářet umělé potřeby. Toho lze ovšem těžko dosáhnout u odpovědných dospělých lidí, kteří se rozhodují na základě racionální volby.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Terčem jsou děti a infantilizace dospělých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fantilizace dospělý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1080" y="1285920"/>
            <a:ext cx="6477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Zvláštní druh postpubertální kultury, v níž lidé stále častěji odmítají jednat tak, jak by se předpokládalo vzhledem k jejich věku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Zkrácení dětství, zatímco dospělost přetvořila do postpubertálního životního stylu, v němž se dospělí s pomocí bezuzdné spotřeby snaží zapomenout na to, že jsou dospělí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Moderní média – infotainmen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Infantilismus – manipulovatelnost, nezodpovědnost, nedostatek nadhledu, narcismus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fantilizace médii – popsáno před Barbere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I tam kde je aktivní přístup uživatele: nejhledanější témata na internetovém vyhledavači Google v letech 2001–2005: suverénně Britney Spears, Eminem, Jennifer Lopez, Janet Jackson, Paris Hilton a Harry Potter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Filmy s nejvyšší návštěvností: infantilní hybridy, které mají za úkol přilákat jak děti, tak dospělé – viz Harry Potter, Matrix, nebo Hvězdné války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GLOBALIZACE nastupu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70. a 80.léta </a:t>
            </a:r>
            <a:r>
              <a:rPr b="1" i="1" lang="cs-CZ" sz="2000" spc="-1" strike="noStrike">
                <a:solidFill>
                  <a:srgbClr val="5e1f08"/>
                </a:solidFill>
                <a:latin typeface="Arial"/>
              </a:rPr>
              <a:t>laissez –faire</a:t>
            </a:r>
            <a:r>
              <a:rPr b="0" i="1" lang="cs-CZ" sz="2000" spc="-1" strike="noStrike">
                <a:solidFill>
                  <a:srgbClr val="5e1f08"/>
                </a:solidFill>
                <a:latin typeface="Arial"/>
              </a:rPr>
              <a:t>: popření Keynesovské doktrín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1979-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Margaret Thatcherová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(Velká Británie)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1981-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Ronald Reagan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(USA)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    …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zastánci názorů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M. Friedmana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F. Hayeka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Přesvědčení, že úspěšné a ničím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neomezené korporace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nás dovedou ke společenské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nirváně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Ideologie se rozšířila do Austrálie, Kanady, Západních zemí Evropy a také do Latinské Ameriky a po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pádu komunismu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i do zbytku světa.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e1f08"/>
                </a:solidFill>
                <a:latin typeface="Arial"/>
              </a:rPr>
              <a:t>ALE…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emokracie vs. Infantiliza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otřebuje ke svému přežití odpovědné lidi, schopné obětí, jakož i občanskou společnost, která se opírá o nejrůznější občanské ctnosti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Max Webber varoval, že honba za bohatstvím, která je zbavena etického kontextu, se stává pouhým sportem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Nahrazení Étos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okud tento infantilistický étos bez hodnot nebude vystřídán demokratickým étosem a kapitalismus znovu nenastolí rovnováhu mezi ziskem a rovností, rozmanitostí a homogenizovanou spotřebou, aktivním občanstvím a konzumem, bude podemleta nejenom demokracie, ale nakonec i sám kapitalismus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dro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Noreena Hertzová - Plíživý převrat : globální kapitalismus a smrt demokracie; přeložil Robert Bartoš. -- 1. vyd. v českém jazyce. -- Praha : Dokořán, 2003. -- 255 s. ;. ISBN: 80-86569-46-2 (váz.)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Jiří Pehe - Infantilní kapitalismus útočí. Dostupné on-line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ehe.cz</a:t>
            </a: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avid Unger - Globální kapitalismus - naděje či hrozba pro lidstvo?. Dostupné on-line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embers.tripod.com/~pf_cz/pf8/global.htm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3505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kujeme za pozornost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ak se GLOBALIZACE projevila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Svět ovládaný kapitalismem volného trhu, už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nepotřeboval tradiční politické spektrum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: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pro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 nebo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proti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 kapitalismu.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WTO,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MMF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- Státy žádající podporu se musí podřídit kapitalismu a globalizaci.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Sáty si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konkurují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 v soutěži o získání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investic soukromého sektoru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chtějí zvyšovat daně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chtějí zvyšovat veřejné výdaje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Chtějí podporovat soukromý sektor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DŮSLEDEK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: Vítězství kapitalismu přežila jen jedna světová ideologie: </a:t>
            </a:r>
            <a:r>
              <a:rPr b="1" lang="cs-CZ" sz="2400" spc="-1" strike="noStrike">
                <a:solidFill>
                  <a:srgbClr val="5e1f08"/>
                </a:solidFill>
                <a:latin typeface="Arial"/>
              </a:rPr>
              <a:t>KAPITALISMUS</a:t>
            </a: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!    ….a to má další DŮSLEDKY…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Růst moci korporac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Otevírání světové ekonomik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Politika podpory světové ekonomik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Stále větší pohyb kapitálu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Revoluce v telekomunikacích- snadnější komunikace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Nízké přepravní náklad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Podpora WTO     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________________________________________________________           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¼ světových aktiv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spravuje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300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nadnárodních korporací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pouze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21 států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má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vyšší HDP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než každá ze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 šesti největších   nadnárodních společností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tržby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těchto korporací představují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2/3 světového obchodu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</a:t>
            </a:r>
            <a:r>
              <a:rPr b="0" lang="cs-CZ" sz="2000" spc="-1" strike="noStrike" u="sng">
                <a:solidFill>
                  <a:srgbClr val="5e1f08"/>
                </a:solidFill>
                <a:uFillTx/>
                <a:latin typeface="Arial"/>
              </a:rPr>
              <a:t>roste jejich</a:t>
            </a:r>
            <a:r>
              <a:rPr b="1" lang="cs-CZ" sz="2400" spc="-1" strike="noStrike" u="sng">
                <a:solidFill>
                  <a:srgbClr val="5e1f08"/>
                </a:solidFill>
                <a:uFillTx/>
                <a:latin typeface="Arial"/>
              </a:rPr>
              <a:t> vliv</a:t>
            </a:r>
            <a:r>
              <a:rPr b="0" lang="cs-CZ" sz="2000" spc="-1" strike="noStrike" u="sng">
                <a:solidFill>
                  <a:srgbClr val="5e1f08"/>
                </a:solidFill>
                <a:uFillTx/>
                <a:latin typeface="Arial"/>
              </a:rPr>
              <a:t> nejen na poli ekonomickém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…   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emná tvář globalizace a kapitalism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Nadnárodní společnosti se mohou volně prosazovat  v rozvojových zemích-snaha vlád těchto zemí je přilákat-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omezí, nebo zruší regulaci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sníží platy a sociální dávky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ochází k omezování odpůrců cizích investor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vznikají ráje znečištění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úřady zavírají oči nad porušováním zákonů.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Další vady na kráse: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roste rozdíl mezi bohatými a chudými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enně zemře hladem nebo v důsledku nemocí 6000 dětí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rodej antidepresiv vzrostl za posledních 10 let o 16%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karóši- smrt z přepracování- ročně cca 10 000 případ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eště o moci korporací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NĚMECKO 1999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árůst zisků za 20 let o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90%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v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x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okles výnosů z daní právnických osob o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Lafontain-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okus o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 zvýšení daňové zátěže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eutche Bank, Allianz, BMW, Daimler-Benz, RWE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Lafointain-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rezignace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BRITÁNIE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ws Corporation R. Murdocha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1987-1999 zisk 2,3 mld. dolar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zaplacená daň z příjmu= 0 dolarů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BMW a Rover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Tony Blair podpořil BMW 150 mil. liber na zachování pracovních míst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BMW přijalo, ale do roka bez varování závod zavřelo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Boj na mezinárodním pol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5e1f08"/>
                </a:solidFill>
                <a:latin typeface="Arial"/>
              </a:rPr>
              <a:t>Echelon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špionážní systém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odhaleno v roce 2000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Thomson-CSF a brazilské úřady: 1,5 mld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Airbus a Saudská Arábie: 5 mld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Enercon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X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Kenetech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Celkem asi 10 mld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WTO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1996 zákaz používání umělých růstových hormonmů v krmivu dobytka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EP odhlasoval v poměru 366:0 hlas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Rakovina, předčasná puberta, neplodnost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ovozní bariéra? WTO: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ANO..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uvalení sankcí za 125 mil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Chiquita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EU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řidělila kvótu 10% aby podpořila drobné producenty z Karibiku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stížnost  WTO…opět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EU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vyhověla-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USA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odvetná opatření za 190 mil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kabelky, hořčice, ložní prádlo.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Kauz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Európa vs. Geneticky modifikované potraviny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Shell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Otrocká práca v Hondurase, Bangladéši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Kauza Posilac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Politická mo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Vláda podlieha ekonomickým vplyvom, straca doveru a klesa volebna ucast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Dobré meno firmy a spotrebitel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Vazby spolocnosti na politiku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Chovanie spotrebitela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Vyjadrenie nazoru cez nakup, alebo na valnej hromade miesto hlasovania vo volbach, pripadne volba zamesnavatela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1:34:04Z</dcterms:created>
  <dc:creator>Zou</dc:creator>
  <dc:description/>
  <dc:language>en-US</dc:language>
  <cp:lastModifiedBy>Zou</cp:lastModifiedBy>
  <dcterms:modified xsi:type="dcterms:W3CDTF">2008-12-08T13:12:25Z</dcterms:modified>
  <cp:revision>5</cp:revision>
  <dc:subject/>
  <dc:title>Target The Market</dc:title>
</cp:coreProperties>
</file>