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414-491C-4F4C-A079-0EA05960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44F-AB34-49F1-8197-C06AF23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6644D-25B6-4542-9310-1F04B30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CC41B-346D-4DB1-9CD5-3FB0F29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5F7AE-6529-4172-9893-828A6474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7555F-C525-403E-A8BB-9D58751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0F91B-2E2C-43E6-9F89-50A7F1C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F0DE7-0E5A-4A1F-9B4A-584A0AA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5554B-6620-4229-B7F1-B091DFA5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600F1-E9F0-4501-A111-D8DED987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97FBA-1493-4219-92F7-CF26F905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2C411-AC18-400F-9E41-1AE0FDEC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6FA-B0F3-4C0C-845C-67FA2580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891A0-5F94-44E0-AFC5-FF62F007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26E42-6770-402A-A28D-E5CFF4BD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780CF-8C38-484A-A29A-C2F861F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17F49-FA88-4642-88BA-A3764E7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EF8C1-D6EE-4A2B-8245-AD7B7FF9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1E46C-4B30-402D-816D-19294CF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5334D-C685-4E0E-851C-BFC924C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AE9E4-4F7E-413A-B3AE-69415CC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C47AB-F6FE-494D-A96A-A897B60F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02040-8C7C-4A0C-9694-0E1BAA50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BEA-234F-455C-B977-CA252FEA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9E8AA-F57B-4627-9766-490502C9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28269-1385-4BA5-8FEE-6AE94AA8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AC69-2563-4BD2-8432-E41CC3C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A3869-226E-4BB5-B451-24EC422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5EDE1-FD27-4615-A1EE-908D05D9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76F8B-B30B-4909-AD54-93BAD56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F8942-DD48-43F0-8D2A-ECE43CAC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6A069-A2D8-40CF-96D7-F0B4079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ABFB6-6B1E-4EA1-9BB9-C8BA627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AB34B-FF02-4009-9545-9865B420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E2D3-3D9A-407B-B874-D2DEC353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472E-BB0D-468A-AF49-993E05F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47906-53B4-412C-9530-CA236A6F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F400-6F50-4555-9D5D-A2904E10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3E463-56BD-43A8-AD4A-7F5976C5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049B7-4C78-4DC7-9233-6FC39B0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7B0A5-F411-4044-BCDC-3A3BE52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D3CA0-2AC8-4910-B5DE-B66512C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B7403-88CC-4526-A3F2-A5DE918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69471-140C-479A-BF08-B7ED88A6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92B83-3083-4AD9-9CD6-742BAAD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4C7-5616-42F2-867B-0885E08E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9F8E8-2F89-4D3B-86DD-CEF49E6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1C7D1-C676-40D9-8542-3C2DA373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8B270-D136-494B-86CA-90F425C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102FF-0425-4071-ACA4-78BBB131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15F0F-990F-4313-9646-A6D10A1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B26-0A26-439A-83F3-CAB7AD0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4A77-17C9-4AD1-B374-F7E6FC6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7F9-0F8F-4490-90E6-A8D4E233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55C3-ABFC-4325-AFA4-B0DAC60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B716-0021-4FB0-89C8-1D2FA5A3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1D7-D32E-4651-965B-7A421F6C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C77F-C4C1-470A-8118-F993355E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4C0B-D18B-4CEF-BA7A-95C110C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98EA-D198-4822-8887-143E5BA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E18-61E7-4D8F-B202-7849567E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3B2-7078-4780-9585-18D8A26E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A2D7-40C9-4E47-9D87-2488ED3D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8224-BF73-432B-999B-32401E74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5B87-634F-48BD-9A43-7DA2314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AFCD-AEBA-43E8-BDAD-032BB43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2844-A0CE-41EF-A823-744EC1C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09A-D342-4972-AFC5-0DA8C50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81B3-FE89-4255-90CA-699EFFE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888F-C77E-4F88-ADA7-7D774BF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D383-C811-4826-86EE-B7FA7A5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9C9C-6E1D-4006-9A37-B9036E1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A506-538E-4E00-A74D-8BF04A0E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C85D-7818-4759-AFB9-7C1AB1D7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B73D-51ED-4B62-BDCC-421B5E89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4665-9364-4479-AE3C-A387B276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7122-FAF2-4765-AC95-A0ECEF2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02E9C-628A-49D8-9975-92CE5B8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A67-88EF-454B-9BCF-7562D095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B9A9-C061-46DC-984B-2C5C57A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EA83-6B51-4FAC-BEB1-386857D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D111-03B7-4C4D-A358-A588D87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6BE9-25E4-4722-8B73-638D06A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3D74-F384-4DB2-A381-55E0EC1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F6B0-0262-434C-B653-20C5883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F170-A6DE-4ECA-99E9-73A608C6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9BB8-8605-4EC5-8BBF-7800B00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4A74-F43A-4D2B-B8E8-33913801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0A85-BD97-42F7-9B71-0F5ACB17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B73-1FCF-4D36-B213-CBB9BCB0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8B86-F19E-4A68-8D43-849AAA4F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1F4C-0C40-471F-B10B-C20A1827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E234-68F5-4F28-99D0-BC9AF776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55BE-8B0E-4AB3-BD21-3ED92DD0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CC05-45E7-4E7E-9AAD-EBAC828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E796-9631-495C-AE28-5C7B627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4AA5-A725-42EC-8C97-CCA7080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7B6F-A358-497D-9975-0FB39A4A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BDF9-A4A6-489F-A623-6D978343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FEE5-8CAD-41FE-A7C8-BCB3A326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657-65E0-419E-8C11-A5CE7C54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12DC-45B4-46F5-99A0-14186AF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9928-2F80-4539-96FD-FD1D1249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7E65B-BC55-4EDD-880F-8B90493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74B6-8122-4A0B-8677-E876ADC0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16C5-75FB-4FB8-BA44-66174F8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F988-CF43-4946-91BA-14C9114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CAFE-BDC7-4AD0-8485-692BD8E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7B6AE-526B-43FD-8E11-13DBD87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A1A8-AB4B-4E7B-AD90-BB5EEF4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6520-D5C5-47C5-8DA2-0B53E2E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C30-231B-467F-92FC-06E3B55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E68C-ED30-47E1-A4A8-FE4B61C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010BA-7F38-467E-A6B6-9B9C5430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4DA9-1CB7-4B5D-A50C-3074B11D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FFBEA-69DD-4C48-9ECF-902C434D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519A-B767-4CA6-B64D-899E475A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8D87A-DDAA-471E-BCA1-4A48DA2B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7345-0AF5-4CAC-AA3D-58D7BFFF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B17C-8669-48EB-9880-90D1AEA8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2F072-749A-4820-9397-C3EEE9DB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048C1-6FD0-469F-AE11-E9112ED8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C50-69CA-46CB-92F5-F3A2901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602E-4835-49CA-B408-6E243847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38D4-69E9-444C-8CDB-E7ED8F97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7354-F890-430D-973D-E64C1BF3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08F16-224E-4EDF-95C7-269529F5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39365-3C05-4C5F-A364-D40AB07F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FEF3E-215F-4078-B8CE-574D66EF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8E21-BEC4-4566-84C4-596EA4F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1363E-EEBD-42B9-B629-3C74A34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EDF1B-89C1-4314-B70C-6F14061E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643E-D485-448A-8B56-F9348F9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750-43EC-4A5A-8BA3-6753C358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FC660-0197-449C-9D69-1DFA850C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62BB3-EF85-480B-A609-799255F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FDAC6-BB42-4D2E-B6BE-18C855EB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A834A-2C6F-4411-836D-F6B2723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DBC12-E0E3-4E2F-942C-4B2E042F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3C59A-0FDA-4153-8117-71D81E17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C8E0-823E-4500-AA70-498EA2D7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B94D4-6595-41AB-B1F7-74C026A9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4D00F-BFAD-4F90-B61A-75CB5EC1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76192-473C-446E-8FF7-359E0CF1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EFB0-1BAE-4D05-8E71-6A6820E12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5FCB-2596-4B07-8405-B5BF1B89B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2B3-65D7-4DD0-8D44-308DA7AE3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6E18-1DED-47DB-B497-2249690A9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6606-9D0F-4D1F-9156-6CF2B8B5A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F2B4-FF42-45E5-AAD9-06130E786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39F1-8206-453D-9F50-35BE8609B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D8F-819B-4816-AB9E-9D44A6CA8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9685-69F2-445A-9587-373B7D5B6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BA2-22E8-4999-B873-258B28881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D79D-0311-459C-A01D-D238AE4C13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FD42-6D54-43A0-B42A-7AAAD2C9B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6349"/>
                </a:solidFill>
                <a:latin typeface="Georgia"/>
              </a:rPr>
              <a:t>Organizační kultura a strategi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dnikov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– obchod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k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ické strategi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náklad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výrobek/služb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zákazníka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 x selský rozum a prax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konalý systém řízení neexistuj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yhovuje-li jakýkoli systém pro 70-80% požadavků, pak vyhovuje na 100% - zbytek jsou výjimky, jejich systémové řešení je neefek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aždý podnik musí umět „hasi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ze a strategie jsou všeobecně neproveditelné nebo nerealistick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dotažena na cíle střediska, oddělení, apo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svázána s dlouhodobými a/nebo krátkodobými alokacemi podnikových zdroj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pětná vazba necharakterizuje strategické záměry, ale jen opera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Nadpis 1"/>
          <p:cNvSpPr/>
          <p:nvPr/>
        </p:nvSpPr>
        <p:spPr>
          <a:xfrm>
            <a:off x="468360" y="2602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vytvořena jako SAMOSTATNÝ doku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jasné určení odpovědnosti za naplnění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ní dostatečný a vypovídající set metrik (ukazatelů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zi kulturou a strategií existuje oboustranně determinující vzt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kultury ovlivňuje tvorbu, obsah a realizaci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strategie vede k formovaní určitého typu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kultury na strategi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tvorbě strategie respektovat obsah a sílu organizační kultu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liv organizační kultury na proces tvorby a implementace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cíleném vývoji strategie ovlivňuje kultura organizace především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ostoj k potřebě formulace strategie a míru opatřování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Zpracování a interpretaci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Množství a obsah formulovaných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z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 jako „zástupce“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b9899"/>
                </a:solidFill>
                <a:latin typeface="Georgia"/>
              </a:rPr>
              <a:t>Soulad mezi kulturou a strategií</a:t>
            </a:r>
            <a:br>
              <a:rPr sz="2900"/>
            </a:br>
            <a:r>
              <a:rPr b="0" i="1" lang="cs-CZ" sz="1400" spc="-1" strike="noStrike">
                <a:solidFill>
                  <a:srgbClr val="7b9899"/>
                </a:solidFill>
                <a:latin typeface="Georgia"/>
              </a:rPr>
              <a:t>(podle Scholz, 1987, s. 85)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301680" y="1523880"/>
          <a:ext cx="8534160" cy="4598640"/>
        </p:xfrm>
        <a:graphic>
          <a:graphicData uri="http://schemas.openxmlformats.org/drawingml/2006/table">
            <a:tbl>
              <a:tblPr/>
              <a:tblGrid>
                <a:gridCol w="1878120"/>
                <a:gridCol w="2239200"/>
                <a:gridCol w="2240280"/>
                <a:gridCol w="2176560"/>
              </a:tblGrid>
              <a:tr h="48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strate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ab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ág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1)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(2)  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3)    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(4)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(5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        (6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            (7)                                       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(8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??                                      (9)                                        směr??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strategie na kultur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měl by být dominant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se stává pro členy organizace samozřejmou → vznik kultury odpovídající strateg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vorba strategie → utváření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ako „kulturní artefak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ulad mezi obsahem strategie a obsahem kultury je podmínkou dlouhodobé úspěšnosti fi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álem však není naprostá identi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Zdroje, litera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LUKÁŠOVÁ, R., NOVÝ, I. a kol. Organizační kultura. Praha : Grada, 2004. ISBN 80-247-0648-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ÁGNER, I.: Systém managementu. Brno: Vydavatelství MU, 2007, ISBN 978-80-210-4264-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LAŽEK, L. Management II. (Sylabus) Brno : Masarykova univerzita, 2006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ciální jev vztažený ke společenstv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evantní pojm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dniková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irem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d 70. let 20. 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představuje „tmel společnosti“ a plodí pocit „to jsme my“, čímž působí proti procesům diferenciace, které jsou nevyhnutelnou součástí života organizace. Kultura organizace nabízí sdílený systém významů, který je základem komunikace a  vzájemného pochopení. Jestliže tyto funkce nejsou plněny uspokojujícím způsobem, může kulturavýznamně oslabovat efektivnost organizace.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P. Brosse, J. Hentze 198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jsou společně vyznávané přesvědčení, postoje a hodnoty, které existují v organizaci. Jednodušeji řečeno, kultura je „způsob, jakým něco děláme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Furnham a Gunter 1993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ři chápání kultury jako způsobu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mysl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 a myslí (kombinace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naha o zobecnění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ganizační kultura představuje soubor základních předpokladů, hodnot, postojů a norem chování, sdílené členy společenství, které se projevují v jejich myšlení, cítění a chování a v artefaktech (výstupech činností) materiální a nemateriální podoby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ágner I., upraveno podle Lukášková R. a Nový I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nější projev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ne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Histork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Mýt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azyk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mage podnik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Vzhled budov, kanceláří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dniková uniforma, produkty vytvářené podnikem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avidla společenského sty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dno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o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rmy chování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Zdrojem jejich vzniku je opakovaná zkušenost, či spíše funkčnost určitého způsobu řešení daného problému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tři úrovně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539640" y="1916280"/>
          <a:ext cx="7993080" cy="4063680"/>
        </p:xfrm>
        <a:graphic>
          <a:graphicData uri="http://schemas.openxmlformats.org/drawingml/2006/table">
            <a:tbl>
              <a:tblPr/>
              <a:tblGrid>
                <a:gridCol w="3095640"/>
                <a:gridCol w="1800360"/>
                <a:gridCol w="3097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TEFA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ĚDOMÉ,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DNOTY, PRAVIDLA, NORMY CH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ČÁSTEČNĚ VĚDOMÉ, ČÁSTEČNĚ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ÁKLADNÍ PŘEDPO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VĚDOMÉ, SPONTÁNNÍ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24000" y="1557360"/>
            <a:ext cx="853416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lná původní myšlenka nebo v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ednotná firemní kultura a politi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á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26040" cy="4089600"/>
          </a:xfrm>
          <a:prstGeom prst="rect">
            <a:avLst/>
          </a:prstGeom>
          <a:ln w="0">
            <a:noFill/>
          </a:ln>
        </p:spPr>
      </p:pic>
      <p:sp>
        <p:nvSpPr>
          <p:cNvPr id="624" name="Zástupný symbol pro obsah 2"/>
          <p:cNvSpPr/>
          <p:nvPr/>
        </p:nvSpPr>
        <p:spPr>
          <a:xfrm>
            <a:off x="324000" y="3068640"/>
            <a:ext cx="374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ě navržené a efektivně fungující proces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ngující princip zpětné vaz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jem „strategie“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vyjadřují základní představy o tom, jakou cestou budou firemní cíle dosaže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plán naplnění mise a vize společnos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forma několika scénářů budoucího vývoje a reakcí firmy na jednotlivé možné varianty budoucího vývoje společnosti a jejího okol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7:39Z</dcterms:created>
  <dc:creator>Vajcka</dc:creator>
  <dc:description/>
  <dc:language>en-US</dc:language>
  <cp:lastModifiedBy>snoopy</cp:lastModifiedBy>
  <dcterms:modified xsi:type="dcterms:W3CDTF">2008-12-01T10:24:35Z</dcterms:modified>
  <cp:revision>11</cp:revision>
  <dc:subject/>
  <dc:title>Přirozený a umělý řád</dc:title>
</cp:coreProperties>
</file>