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AF2-3176-496F-A60D-6889A52C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E1E-FA57-44AD-9B8E-D07022E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50A-328A-46D8-96B4-926FA0FA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32A-D656-4B5E-8229-3ED3B560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774C-1B9E-4145-87D7-1F7222C4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23C8-C136-4936-89DF-C58232FE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8360-096A-4756-8288-40FCA925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8680-FD6A-4BE6-B2F3-5DBB9358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383E-F978-4950-A0DE-1708F10F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2F8A-66F6-45E5-A998-BE1DDE51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A221-7F89-4276-930B-D7F8183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721-31F2-4D6D-9233-D7377E46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A46C-DEE1-4290-937B-BEB1EC3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ABAC-0CBF-4CB0-B617-E8C3857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5357-3CE3-48F3-8494-BA1D870B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88EE-6A83-4541-9902-C87C9E12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9A22-ACD4-43DA-BE9D-CF97D330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E1C-B96D-46C8-9F75-316BC009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F43-2FCB-4924-97FC-84E8EB01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EC1-4CCB-4BB9-9B1A-7C10C53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857-2904-4A8C-B0B4-1507F17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8FF-3A8A-46AD-ACDC-0348CC2B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3DA-518A-4FA9-93BE-DD3607B0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E25-DA36-4C66-B149-0FB7B00C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5893-1F96-4BA9-9573-E60408B961A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E1BB-4061-4E38-AB75-872287A8AAB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Požadavky na manažery na prahu postindustriálního věku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itát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idé, kteří přespříliš mluví, málo dělaj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ět hledá lidi, kteří něco dovedou udělat, a ne lidi, kteří umějí vysvětlovat, proč něco neudělali. Rowlendov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ářet a nevlastnit, působit a nezáviset, být v čele – a neovládat, to je, co nazývám tajemnou ctností. Lao-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Jak lépe myslet?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jčastější chy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totožnost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spor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o vyloučeném třetí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užívání nesprávných sl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mluvi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řed projevem si uvědo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omu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i projev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ých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ýška a síla hlas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ba slov + stavba a délka vě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s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zorno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řazení řeční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Mluvk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Žvan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Fráz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iploma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emag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Pe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Vtipále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Boucher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Gramof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Snaž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Exhibicion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psá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ůležitý pravopis a správné rozčlenění prá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rozumitelnost text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lka vě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ba s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řítomnost sty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obní přiblíž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Stolování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Není důležité, co jím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Čestná míst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izinc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anžel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Koučová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 je koučová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 řízení, vytváří vztah vzájemné podpory mezi koučem a koučovaný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ké prostředky a styl komun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ílem je lepší výkon (odhalení potenciálu koučované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užívání: řešení problémů, v průběhu práce, kontrola, běžný hov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základní principy: vnímání reality, odpově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žer jako kou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7885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pičkový manažer        dobrý kouč (schopnost empatie, objektivnost,ochota změnit dosavadní styl komunika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éf ví co se děje, ale nositel výkonu se rozhoduje sám – převezme odpovědnost (skutečná kontro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jišťuje plnění úkolů i profesionální růst podříze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17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bývali jsme s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definováním požadavků na manažera postindustriá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ak má manažer myslet a jak se chov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kou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Účinné otázky (vnímání realit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evřené otázky nutí přemýš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yslem je zjistit, zda má koučovaný dostatek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čátek otázek: Co, Kdy, Kdo, Ko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uč by neměl podřízeného vést tam, kam chce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dování řeči tě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oblasti: cíle, prověření reality,možnosti, co – kdy – kdo udělá a jaká je VŮ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pětná vazb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65036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brá zpětná vazba napomáhá učení se a dosahování lepších výsledků (realita, odpovědn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podrobného nehodnotícího popi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ý musí o odpovědích přemýš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chvala (upřímná, rozumná, soudn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učování tým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47072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zace úkolů (cíle, realita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voj tý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í sami posuzují výkon – disku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 musí jít pří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kud je tým dobrý a členové schopni spolupráce, je možný další rozvoj (tým i jednotliv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9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133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268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 brání úspěšnému koučování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548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ější bariéry: nevhodná kultura společnosti, nedůvěřivost lidí, lidé očekávají, že kouč bude dávat pří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itřní bariéry: obava, že to nebudu dělat dobře, staré dosud fungovalo, jediné, co motivuje lidi, jsou peníze, ztráta aut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itá litera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YRNER, A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Manažerská etika a etiketa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Vysoká škola ekonomická v Praze, 20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WHITMORE, J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oučování – rozvoj osobnosti a zvyšování výkonnosti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aha: Management Press,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MP, Di. Manažer 21. století. Grada Publishing, s.r.o., 2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 jakým změnám došlo v podnicích počátkem 21. století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nížení počtu úrovní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rientace na zákaz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lexibilní pracovní režimy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ac. síla s víceoborovou kvalifik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týmová 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užná prac. d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dpovědnosti pracovní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átkodobé cíle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dlouhodob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žadavky na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íše vést než ří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učovat podříz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yšovat pravomoci podříze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it přístup podřízených k prá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é zlo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lňující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valit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vzor pro 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át sám s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tavně se vzdělá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ládat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ně si uvědomovat rea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ysokou úroveň etiky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kračování – kvalit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komuni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systémo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pozitiv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ět se nadchn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opravd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Změňte své myšlení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- nutnost si přiznat své schopnosti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amyslete se, které z výše uvedených vlastností již máte, a kde je používá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apř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„Když jsem na dovolené s přáteli, jsem velmi opravdový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kud jde o mou zahradu, uplatňuji systémové myšlení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dyž jsem se před rokem začal zabývat …….., měl jsem vizi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ívání pozitivního myšle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nitřní rozhovor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upravení našeho vnějšího sta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ipulace tím, co sami sobě říká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utnost být KONSTRU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př.: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„prezentace se mi nepovede…budou kritičtí…“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ff"/>
                </a:solidFill>
                <a:latin typeface="Arial"/>
              </a:rPr>
              <a:t>ANO: „mé prezentace předtím byly úspěšné. Vím, co chci říci. Kolegové jsou příjemní a mají pochopení. …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užívejte metodu napodobování vzorů pro sebe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aké vlastnosti si chcete osvoj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ajděte si někoho s danou vlastn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ozorujte jeho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jistěte, na co myslí před a bě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kuste si být přesně jako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řizpůsobte si imit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yzkoušejte to v prax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4:07:42Z</dcterms:created>
  <dc:creator>Radek</dc:creator>
  <dc:description/>
  <dc:language>en-US</dc:language>
  <cp:lastModifiedBy>Tereza</cp:lastModifiedBy>
  <dcterms:modified xsi:type="dcterms:W3CDTF">2008-11-24T00:29:58Z</dcterms:modified>
  <cp:revision>25</cp:revision>
  <dc:subject/>
  <dc:title>Koučování</dc:title>
</cp:coreProperties>
</file>