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13B9-0A8E-4D17-8420-273FC30C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E12F-FDE7-44D5-8332-8C1DF0D1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6763-1107-493B-8595-103F9E84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F95C-7163-4AC0-8FD2-6047EFF6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F872-3DC0-4A5B-AB7B-7AB5DE17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DDA4-DE9E-4FF4-9BC9-3382E7B8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8485-55A7-4DBD-B16E-F9CF4F6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CF13-D032-446F-B34D-D2D32D7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9898-D9A8-47B2-A08F-288D497E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7709-3CA7-4506-BB2C-6B386A10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B26E-F58F-430F-9D2F-B663A0EB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B5F8-13EB-44E9-8D79-006C3BBD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2AE7-8C2E-49FF-A259-E08EBC9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596D-86FE-49BB-BC36-91D8CE4F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96EF-0FDB-46B7-8CF2-C5408447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E019-2952-4017-A16A-003880F1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9EC7-68C4-4FD7-A169-6995F870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C613-2929-497A-A4F5-99EDD9B8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CFC5-17D7-4A1F-9160-464BEDAC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B70A-E169-4094-94A8-DAAD402A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18B5-DAEF-4764-8678-C2F47103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0B6B-EB1E-4A5B-97E8-AA5E0A8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264C-A71E-4501-B867-D169F199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D1BB-2BEC-4223-BD0C-7AE3D9E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B971-C5F9-4DD0-8164-8AB9D9252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C334-E47A-4A44-ADD7-9432DF461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B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 Sedlá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a Tome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rické obraty povzbuzující růst kapitá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nkovní úv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PP ( public-private-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po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í silní vlastnící – penzij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myslová štíhlost – Japon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olňování nejen práce, ale i kapitálu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nalostní umocnění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asnost rozmach smluvní spolupráce, joint ventures, aliance, sítě a řetězce, klastry, licence, frančí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oba produkce odpovídající spotřebě, tedy individualizované, ale ceny srovnatelné s předchozí univerzální výrob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toucí potřeba velkých inov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tahování intelektu d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OT - stará dáma, která si za déle než půl století snad zaslouží úctu, ale výbojný junácký podnik se už o ni ucházet nebude. Nejvýše si ji nechá v záloze, když náročnější pokusy selž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á hierarchie představivosti –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Gary Ha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současných procesů zaměřena interně                (restrukturalizace, re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tačí dostihnout úroveň, ale vynalézt nové h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určité fázi se objevuje nutnost zásadní obnovy konkurenční základ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utváření budoucnosti nelze používat staré strat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důležitých informací mimo vlastní o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 skutečnosti x hierarchie představivosti            (mnoho nových různých názor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uperkonku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 status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kračování dřívější hranice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racování doby projektování, konstruování, zavádění nových technolog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stále více myslet na budouc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užně přijímat časté nečeka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7 nových pravidel superkonkurenčního úspě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šší uspokojení opatřovatelů kapitálu vyvolá zájem na smělém manévr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zůstávat u předvídání, pustit se do smělých doh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pravit překvapení, jež vyvedou soupeře z mí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upovat s krajní rychl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přístupy a uvádět soupeře ve zma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pouštět klamná znamení svých zámě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soustředění sil a prostředků, nečekaně střídat úd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udoucí práce podle Rifk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má ekonomický smysl jen tehdy, kdy tvoří hodno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to třeba se povětšině odpoutat od uzavírání smluvního poměru na pevnou dobu a navázat smlouvu o práci na tu dobu, kdy kapitál práci skutečně potřebu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, penzijní záležitosti sám zaměstnan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lená během volna, nebo úhrada více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ůvodně japonská filosofie managementu spočívající ve stálých malých zlepšeních, za která jsou zodpovědní všichni pracovníci podniku, důraz je kladen na kontrolu kvality a zlepšovate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e dosažení změny, která vydr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malými kroky ke kontinuálnímu zlepš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ojeni všichni zaměstnanci od vedení firmy, až po řadové pracov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é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plikovat ve všech oblastech živo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, která má tisíce mil, musí začít prvním krokem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x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ovace – rychlá, velká, dramatická, radik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masivní propouštění, veliké inves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 – malé, pohodlné kroky, které vedou ke zlep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dení malých otáz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ování malých myšle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ání malých akcí, které zaručují úspě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šení malých problémů, kdykoliv řešíte kr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ládání malých od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poznávání malých, ale zásadních momentů, které jiný igno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RÁSEK, J.A. Agenda příštích let. Praha : Profesional Publishing. ISBN 80-86946-04-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akademon.cz/source/druck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URER, R.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 kaiz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BETA, 2005 s.141, ISBN 80-7306-178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ští společnost Petera Druck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Drucker – guru světového manage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spol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išná od společnosti 20.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pracovn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ý nárůst starší pop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é ubývání mladší gen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nost pod reprodukční hodnotou 2,2 živě narozeného dítěte na ženu v reprodukčním věku (i v Číně a Brazíl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ky – imigrace se stane významnou otázkou ve všech vyspělých zem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nomicky – trh hromadné spotřeby se rozdělí na trhy dva (větší trh zaměřený na střední generaci a mnohem menší trh zaměřený na mladé gener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nalost je vš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í společnost = společnost zna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alostní pracovníci – dominantní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hlavní charakteristiky společnosti znalos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mez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up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jný potenciál úspěchu jako proh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to tři znaky učiní společnost znalostí vysoce kompetitivní (i globálně kompetitivní – internet umožní všem zákazníkům získávat informace o tom, co je dostupné jinde ve světě a za jakou cen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století – pokles sektoru zemědělstv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bjemově je produkce 4x-5x větší než před 1.sv.v., ale v roce 1913 představovala zeměd.produkce 70% světového obchodu, nyní pouze 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padek zemědělství vedl k rozšíření zemědělského protekcionis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protekcionismus bude mít formu spíše dotací, kvót (než tradičních c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děpodobně se objeví regionální bloky vnitřně založené na volném obchodu, avšak silně protekcionistické nave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, NAFTA, Mercosur již směřují těmito smě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vební kameny obchodních konfederací: aliance, společné podniky, minoritní podíly, dohody o sdílení know-how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yp organizace bude potřebovat zcela nový typ vrcholového manageme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vrcholový management bude velmi pravděpodobně oddělený a vzdálený orgán a jeho odpovědností bude celá společ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y Petera Druck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ětší změny jsou stále před ná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lečnost v roce 2030 bude velmi odlišná od toho, co známe d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bude dominována nebo formována informačními technologiemi. Informační technologie budou důležité, avšak budou pouze jednou z několika nových technologi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álním rysem budou nové instituce a nové teorie, ideologie a problé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7921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lav A. Jirásek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PŘÍŠTÍCH LE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O VADIS, MANAGEMEN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92564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roky k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cí manažeři byli znárodněním velkého průmyslu, dopravy a bank nadšeni. Nebýt toho, museli by dlouhá léta čekat, než podniky dosáhnou vydatné akumulace, vyrostou i technicky se vybaví, a oni budou moci ovládat velké produktivní síly. Nyní mohli naráz řešit takové problémy jako koncentrace kapitálu, specializace, zahájení velkorysého technického vývo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ůjci plánů a rozvoje se opírali o americké a sovětské prameny. Byli si  inovačně  téměř rovnocenné. Ale sovětské měli nav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kum a vývoj se explozivně zvětšoval. Před válkou se počet odborníků ve vědě vykazoval jen jako 3 000, zato v socialistických poměrech stoupl na 200 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20:14Z</dcterms:created>
  <dc:creator>user</dc:creator>
  <dc:description/>
  <dc:language>en-US</dc:language>
  <cp:lastModifiedBy>Pavel</cp:lastModifiedBy>
  <dcterms:modified xsi:type="dcterms:W3CDTF">2008-11-26T21:18:46Z</dcterms:modified>
  <cp:revision>14</cp:revision>
  <dc:subject/>
  <dc:title>Stakeholderský přístup k pojetí podniku.</dc:title>
</cp:coreProperties>
</file>