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9E69-B02F-4956-9DE9-064DA59B5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BCAB-7C10-44C2-AC39-39804319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A2FC-4C8C-4EE8-B194-2C15CD3C0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1D99-C6A7-4514-882B-675F52045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289C-3184-4D13-A87C-2F9536341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96AC-D71B-4923-BFD9-649A0BC6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3ACD-5BA7-459D-98E0-FADCDA10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3FDEB-5565-4591-B681-951DEC10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1749-BCC7-45D4-81DF-CC34426E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5FA8-898A-4B4C-9C02-4AE3F9CE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7906-DC9C-4EB6-A5CE-EF93BBC6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F3AE-C28F-4330-BB3E-E46F0D43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A58A-C4D2-4CA9-B9F5-016F32C6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DB0E-D09D-4CB2-89D2-386169B8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F903-5408-48D2-8DE5-1AB664F1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3CA0-6E17-429D-B621-17F65746D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3B4F-BE6A-4A2B-BD5F-60C1F4DB1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C203-5A6C-4162-A2A5-B8425251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D206-BC60-485B-B597-866EBF40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6C94-404A-43F8-9035-29C55CF7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B4F1-14A2-44DA-BC20-4643B004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8BED-E209-4223-9D76-FC445962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4AEB-8368-4835-929D-296E4CA4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0819-030B-4971-B412-02F45F66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8DE9-5D88-4941-B359-464F8DCB8C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D71C-029D-4358-A5AC-EB0C0101E0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lobální kapitalismus versus demokrac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059000"/>
            <a:ext cx="640080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artin Lošťá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avel Popel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artin Vymyslick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Postoj občanů k současné politice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zdalování se politickým stranám (bojkot politiky?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istiky ze Západních mocností, ale i středoevropských států nabývají obdobných výsledků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táni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ěmeck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Č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5ffff"/>
                </a:solidFill>
                <a:latin typeface="Tahoma"/>
              </a:rPr>
              <a:t>Homo economicus x korporace „přinucené“ jednat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ktivita v rukou spotřebitel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ový nástroj konzumerism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Informační asymetrie – korporace x spotřebitel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kcionářský aktivismus jako další možná „regulátor“ nadnárodních korporac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šemocná média?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 kterých rukou spočívá moc médií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íklad televizní stanice Fo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tráta svobody médií je smrtící. Nevědomost znamená bezmocnost jakékoli kritik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ástup internetu = nástup svobody k informacím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olitická filantrop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schopnost vlád reagovat, v kontrastu potřeba vůdců businessu tuto roli zastoup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Růst HDP – generování obrovských zisků – co s těmito penězi jednotlivec může uděla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adace Billa Gatese hodlá věnovat 21 mld. USD na nákup vakcín a vzdělávací programy pro třetí svět – historicky bezprecedentní část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radce pro filantropii pro bohaté zaměstnance v úspěšných firmách, např. v odvětví high-tec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odnikatelé - nevolení státníci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chopnost získat přístup ke světovým lídrům a prosazovat různorodé cí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vlivňování politického i sociálního života v nevídaném rozsa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deální vlastnosti – agresivita, sebejistota, bystrý rozum + finanční prostřed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apojení i do oblastí, ve kterých diplomaté opakovaně selhával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„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ečovatelské organizace“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čátek uvědomování si faktu, že sociální a ekologickou problematiku nelze pojímat okrajově – při zhroucení systému ponesou následky i korpor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z podnikatelského hlediska je rozumné, aby korporace přispěly k rozvoji sociální obla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ce na sociálním dně = nedostatek kvalifikované a inteligentní pracovní síly, vysoká kriminalita, problémy s odbytem zbož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2960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znys potřebuje stabilizovanou společnost k tomu, abych chránil vlastní stabilitu – to je prostě fakt.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780000" y="4797360"/>
            <a:ext cx="5040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sir John Brow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ředseda představenstva General Electr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tivace…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ální hodnoty zaměstnanců a manažerů (zejména vysoce kvalifikovaná pracovní síl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žnost ovlivnění dotace konkrétní oblasti zákazníkem (narozdíl od platby da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nkurenční výho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stačí neškodit, ale je nutné začít pomáh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žnost řešení úkolů snáze a rychleji, než vlá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žnosti selhán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emístění aktivit jinam – konec závazků korporace k dané lokalit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íslušné instituce jsou ponechány nerozvinuté – vláda se před odchodem neměla důvod angažov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žná změna priorit zákazníků – orientace na cenu – nutné snižování náklad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žná závislost společenského pokroku na tvorbě zis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29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ěkujeme za pozornos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líživý převr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ačíná vládou Margaret Thatcherové a Ronalda Reag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 rámci kapitalismu přešla nepřiměřená moc do rukou korporací, které získaly politickou moc a ohrožují demokrac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deologie volného trhu ohrožena – nárůst sociálních problémů, ignorace voleb, demonstr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znik Nové pravi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1979 – britskou premiérkou zvolena Margaret Thatcherová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1981 – americkým prezidentem zvolen Ronald Reaga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Oba politici odmítali státní zásahy do ekonomiky, přijali názory Miltona Friedmana a Friedricha Hayeka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trh dokáže alokovat zboží a služby efektivněji než stá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úkolem státu je vytvořit příznivé podnikatelské prostředí (rozsáhlá privatizace, snížení daní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Odmítnutí sociálního myšlení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sedni na kolo“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Posun tradičního politického spektra – pravice i levice se přibližují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Rozšíření do kontinentální Evropy – přesvědčení, že podniky jsou schopny generovat bohatství efektivněji než vlád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Korpora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¼ světových aktiv spravují nadnárodní společnosti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Pouze 21 států světa má vyšší HDP, než činí roční obrat každé z 6 největších korporací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Obrat firem General Motors a Ford je větší než HDP celé subsaharské Afrik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Tržby korporací představují 2/3 světového obchodu a 1/3 světové výrob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Přímé zahraniční investice explodovaly z 2,35 miliardy USD v 70. letech na 80 miliard USD v roce 1996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 čem spočívá moc korporací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Korporace jsou schopny vládám nabídnout nová pracovní místa, investice do infrasktruktury, proto se je politici snaží udržet ve svém státě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Pokud by bylo příliš vysoké zdanění, přísné normy, malá státní podpora, pak pohrozí odchodem ze země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Korporace operují globálně, odcházejí do zemí s nízkými výrobními náklady, pracovní sílu hledají u „sociálního dna“, pokud možno ve státě, kde neexistují odbory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Jak se chová vláda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Systém „já na bráchu, brácha na mě“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Maximální snaha udržet korporace v zemi: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nižování daňových saze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ňová zvýhodně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ňové rá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Propad ve výběru daní ovšem způsobuje neschopnost fungování veřejného sektoru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Zvyšování daní je neprůchodné, hledání alternativních cest: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krácení sociálních dávek bohatý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danění penzijních fond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výšení nepřímých da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ciální důsledk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177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Tahoma"/>
              </a:rPr>
              <a:t>Nejen v nízkých, ale i vysokých vrstvách společnosti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šší počet lidí se stresovým onemocnění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Růst prodeje antidepresi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Rodiče se nevěnují dětem z důvodu dlouhé pracovní do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vyšující se počet sebevraž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Tahoma"/>
              </a:rPr>
              <a:t>Nejlepšímu zdraví se těší lidé v zemích, kde existuje co nejrovnoměrnější přerozdělování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Tahoma"/>
              </a:rPr>
              <a:t>Při zmírnění příjmové diferenciace dochází ke snížení úmrtnosti na následky vážných nemocí, snížení kriminality nebo vražd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2400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íme, že průmyslové společnosti námi manipulují, ale v samotné povaze byznysu je jít za každým dolarem, který lze legálně získat. Nedávejte vinu firmám, nýbrž státu. Hloupý je stát.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Charles Horn, senátor státu Oh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pojitost vlád a soukromého sektoru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litika na prodej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Financování politických str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Štědrý „sponzoring“ politickým straná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íklad USA(sponzoring úzkými elitami)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íklady v Evropě i za oceán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ěmecko (Kohl), Británie(Eccleston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USA(zdanění piv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09:55:46Z</dcterms:created>
  <dc:creator>test</dc:creator>
  <dc:description/>
  <dc:language>en-US</dc:language>
  <cp:lastModifiedBy>Popl</cp:lastModifiedBy>
  <dcterms:modified xsi:type="dcterms:W3CDTF">2008-12-01T22:18:12Z</dcterms:modified>
  <cp:revision>33</cp:revision>
  <dc:subject/>
  <dc:title>Globální kapitalismus versus demokracie</dc:title>
</cp:coreProperties>
</file>