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655A-3141-4C25-A7AD-942FD4FFB52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88DF-E149-4248-9134-EA8F643E30A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2289-1AE6-40CA-986C-AE04654A3D7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DA0-2883-4DE5-873B-2DAD4BA0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5F7B-2D57-4422-AA17-34BA5238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6FA-09C3-443A-9263-28C98DBE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7E23-D547-4FF3-976D-0E33A608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641E-D66E-49EA-8E8A-4ACD951A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4454-60AA-4D1A-AFED-697E1020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BF17-A48A-4455-834C-E95A7267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CCF9-B0D2-43DC-A617-728462CC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96AD-2B7C-4580-A1A7-53EB6CC8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09E8-3ECC-40DA-B0F5-14A8AE10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CBD1-A01E-4BC3-9A7C-D51DB971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39F-80BA-49F3-9C20-37CFAFE0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A1AD-3C6B-4BA6-A778-D5FEAB72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3560-DF04-4EF7-BDA1-47F64832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81CC-8EF5-49AE-AAC1-C0DC9C8C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4CDB-CD4F-4A0A-A871-848A3940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FB53-23B8-4695-AF19-A0AD8360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4CC7D-7CAB-440E-9DF9-164B2444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BE1FD-1C58-4F1C-BEB9-288630D9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0088A-90C4-437C-9967-BB0AC233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3634E-4504-4730-9281-2F2794AB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80707-7C7B-4BF1-BFAF-CC5AF65F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2DA-36BF-4593-88DA-6C3CBEC3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440FF-2F6E-4B10-B03A-C26A6931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E15CD-CEA3-48F4-9009-615A9271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E2F15-4617-4F26-AF3A-3C97AA4B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F7866-5493-4E51-B557-6C03BA0E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502C8-1B2B-4870-9D01-6C6F6811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65200-E398-4A36-A5E2-4B3CE84C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D4712-F85F-477E-8E86-BB17B40A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DDFBD-6FBD-4AB7-AEEC-FB5213CA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D0DD0-B60B-4A21-868E-0EF5A9FA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4AD7E-5511-4D60-B4E5-FE931B54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D70-0030-4DAF-8C48-02170B1F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F1108-A263-4DEE-83B8-4CEF2EB4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41DC4-BE60-4C9C-B7E9-6D3C3914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3E3C2-CDC0-454D-8CA9-AF4F65AB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F5062-2E6B-4576-A913-FD2B09B7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ED191-E953-4037-9FE5-81F5985C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2C3EC-0766-4862-96A2-5C2E9723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511D9-D467-477B-9F02-74208796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3CAB4-F390-4BAD-85A2-96715903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EFFA7-557F-4470-9423-E4F0A1B6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6017-174B-4626-ACB7-B684A9FF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0538-C5C8-43C8-A223-4E10754B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F7DF-9DB6-4B47-8F75-B1F408DC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C42-906F-454A-B861-DC845CE5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71D-EFBF-49C9-A1CF-7F5F9E77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246F-B52E-41A1-A095-DC940A2A7722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DC0C-86FC-48B5-8DBC-1F1683344389}" type="slidenum"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64FC-3888-4D03-AD05-AAB8DCF79CB0}" type="slidenum"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s odříznutým a zakulaceným jedním rohem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ravoúhlý trojúhelní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Volný tvar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Volný tvar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6A62-F967-4749-A378-809A01E06A0E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Nadpis 1" descr=""/>
          <p:cNvPicPr/>
          <p:nvPr/>
        </p:nvPicPr>
        <p:blipFill>
          <a:blip r:embed="rId1"/>
          <a:stretch/>
        </p:blipFill>
        <p:spPr>
          <a:xfrm>
            <a:off x="706320" y="633240"/>
            <a:ext cx="8212320" cy="1536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000480" y="4571640"/>
            <a:ext cx="2414520" cy="1709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nstantia"/>
              </a:rPr>
              <a:t>Kincl Pavel</a:t>
            </a:r>
            <a:r>
              <a:rPr b="0" lang="cs-CZ" sz="28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nstantia"/>
              </a:rPr>
              <a:t>Beleš Marek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nstantia"/>
              </a:rPr>
              <a:t>Beleš Marti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Poskytování a přijímaní informac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Poskytování informací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Selektivní poskytování informací</a:t>
            </a:r>
            <a:r>
              <a:rPr b="1" lang="cs-CZ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– na základě rozhodnutí, co kdo potřebuje vědě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. Tím, že sami rozhodujete, co je důležité, aby vaši podřízení věděli, ji upíráte jejich právo sami rozhodovat o tom, co je pro ně důležité a užitečné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Poskytování všech možných informací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, které vytváří zahlcení a přetížení informacem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Možnost zahlcení, pak přestaneme naslouchat a opomineme důležité informac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Poskytování přiměřených informací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– mezi dvěma extrémy existuje určitá rovnováh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Je důležité, aby vaši podřízení věděli, jaké informace jsou k dispozici, aby se mohli sami rozhodnout, zda potřebují vědět více. Musíte však filtrovat informace, které poskytujeme, abychom zabezpečili, že budou užitečn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žadavky na manaž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ynikající manaž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Mít pod kontrolou sami seb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Rozvíjí své komunikační dovednosti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ste význam těchto dovednost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Šipka dolů 3"/>
          <p:cNvSpPr/>
          <p:nvPr/>
        </p:nvSpPr>
        <p:spPr>
          <a:xfrm>
            <a:off x="3500280" y="3429000"/>
            <a:ext cx="771840" cy="128592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ovéPole 4"/>
          <p:cNvSpPr/>
          <p:nvPr/>
        </p:nvSpPr>
        <p:spPr>
          <a:xfrm>
            <a:off x="4857840" y="378612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stup do 21. stole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573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žadavky na manaž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7120" y="1600200"/>
          <a:ext cx="4286160" cy="4105440"/>
        </p:xfrm>
        <a:graphic>
          <a:graphicData uri="http://schemas.openxmlformats.org/drawingml/2006/table">
            <a:tbl>
              <a:tblPr/>
              <a:tblGrid>
                <a:gridCol w="565200"/>
                <a:gridCol w="372096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993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– Vlastnosti dle důležit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rozhodov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mění vést li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tegr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dšení pro prá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ředstaviv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chota usilovně pracov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alytické schop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chopení pro dru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vyhmátnout příležit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řešit nepříjemné situ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686480" y="1571760"/>
          <a:ext cx="4114800" cy="4105080"/>
        </p:xfrm>
        <a:graphic>
          <a:graphicData uri="http://schemas.openxmlformats.org/drawingml/2006/table">
            <a:tbl>
              <a:tblPr/>
              <a:tblGrid>
                <a:gridCol w="542880"/>
                <a:gridCol w="3571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001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– Vlastnosti dle důležit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lastní motiv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ientace na c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pracovat v tý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omunikační doved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snášet zátě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alytické schop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chota se uč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Řídící schop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lexibil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rozhodov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Řízení lid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otivování lid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dpora a pomoc lid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onzultování a koučován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skytnout lidem pros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Motivování lid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otivace je vždy sebe-motivac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ároveň motivování lidí je jednou z nejdůležitějších součástí práce manažer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Faktory motivac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Úcta k lid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rojevy uznání lid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oskytnutí odpovědnosti lid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Zába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ravá složená závorka 3"/>
          <p:cNvSpPr/>
          <p:nvPr/>
        </p:nvSpPr>
        <p:spPr>
          <a:xfrm>
            <a:off x="6000840" y="3786120"/>
            <a:ext cx="285840" cy="178596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785960"/>
              <a:gd name="textAreaBottom" fmla="*/ 17787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16200" y="10800"/>
                  <a:pt x="21600" y="10800"/>
                </a:cubicBezTo>
                <a:cubicBezTo>
                  <a:pt x="162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ovéPole 5"/>
          <p:cNvSpPr/>
          <p:nvPr/>
        </p:nvSpPr>
        <p:spPr>
          <a:xfrm>
            <a:off x="6715080" y="428616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ítomnost všech fak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Motivování lid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oč motivova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21.st. -&gt; Organizace musí být dynamická </a:t>
            </a:r>
            <a:r>
              <a:rPr b="0" lang="cs-CZ" sz="2400" spc="-1" strike="noStrike">
                <a:solidFill>
                  <a:srgbClr val="7f7f7f"/>
                </a:solidFill>
                <a:latin typeface="Constantia"/>
              </a:rPr>
              <a:t>(musí  se vyrovnávat se stálými změnami v technice, technologii a také v podnikatelském prostředí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=&gt;Potřeba lidí, kteří se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chtěj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učit, měnit, rozvíjet a   přispívat ke změnám a inovací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Usnadňuje řízení li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dpora a pomoc lid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ndividuální pozornost =&gt; přispívá k pracovnímu výkonu jednotlivce a tím i celému tým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ásady individuální práce s lidmi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Čestnost a poctivost účelu a úmysl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ůvěrnost jedná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asnost cíl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Budování dobrých vztah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Zvýšení hodnoty a významu daného jedi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dpora a pomoc lid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Typy individuální práce s lidm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Formální přezkoumání dosavadního výkon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(hodnotící rozhovory,  hodnocení projektů apod.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formální rozhovor mezi čtyřma oči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Konzultování a koučován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onzultování na pracoviš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oučován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ravá složená závorka 3"/>
          <p:cNvSpPr/>
          <p:nvPr/>
        </p:nvSpPr>
        <p:spPr>
          <a:xfrm>
            <a:off x="5572080" y="2571840"/>
            <a:ext cx="357120" cy="78588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785880"/>
              <a:gd name="textAreaBottom" fmla="*/ 7768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9"/>
                  <a:pt x="10800" y="818"/>
                </a:cubicBezTo>
                <a:lnTo>
                  <a:pt x="10800" y="9982"/>
                </a:lnTo>
                <a:cubicBezTo>
                  <a:pt x="10800" y="10391"/>
                  <a:pt x="16200" y="10800"/>
                  <a:pt x="21600" y="10800"/>
                </a:cubicBezTo>
                <a:cubicBezTo>
                  <a:pt x="16200" y="10800"/>
                  <a:pt x="10800" y="11209"/>
                  <a:pt x="10800" y="11618"/>
                </a:cubicBezTo>
                <a:lnTo>
                  <a:pt x="10800" y="20782"/>
                </a:lnTo>
                <a:cubicBezTo>
                  <a:pt x="10800" y="2119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ovéPole 4"/>
          <p:cNvSpPr/>
          <p:nvPr/>
        </p:nvSpPr>
        <p:spPr>
          <a:xfrm>
            <a:off x="6072120" y="27860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stupy se kombinu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skytnout lidem pros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Constantia"/>
              </a:rPr>
              <a:t>Delegován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Je třeba znát: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 Výsledk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 Standard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 Paramet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elegovanou odpovědnost monitoruje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Je profilem manažera 21. stolet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Di Kam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eta (GB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rogram Journey to Mastery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(Cesta k dokonalosti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4" descr="Di Kamp"/>
          <p:cNvPicPr/>
          <p:nvPr/>
        </p:nvPicPr>
        <p:blipFill>
          <a:blip r:embed="rId1"/>
          <a:stretch/>
        </p:blipFill>
        <p:spPr>
          <a:xfrm>
            <a:off x="5846760" y="1484280"/>
            <a:ext cx="2763720" cy="352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Bez názvu"/>
          <p:cNvPicPr/>
          <p:nvPr/>
        </p:nvPicPr>
        <p:blipFill>
          <a:blip r:embed="rId2"/>
          <a:stretch/>
        </p:blipFill>
        <p:spPr>
          <a:xfrm>
            <a:off x="3184560" y="3429000"/>
            <a:ext cx="1531800" cy="2305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fvbd"/>
          <p:cNvPicPr/>
          <p:nvPr/>
        </p:nvPicPr>
        <p:blipFill>
          <a:blip r:embed="rId3"/>
          <a:stretch/>
        </p:blipFill>
        <p:spPr>
          <a:xfrm>
            <a:off x="900000" y="4005360"/>
            <a:ext cx="1154160" cy="201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sfg"/>
          <p:cNvPicPr/>
          <p:nvPr/>
        </p:nvPicPr>
        <p:blipFill>
          <a:blip r:embed="rId4"/>
          <a:stretch/>
        </p:blipFill>
        <p:spPr>
          <a:xfrm>
            <a:off x="1712880" y="4437000"/>
            <a:ext cx="11746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Zdroj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i Kamp: Manažer 21. století.</a:t>
            </a:r>
            <a:br>
              <a:rPr sz="2600"/>
            </a:b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Praha: Grada Publ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Grafologie pro personalisty a manaže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Praha: Grada Publ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ww.metapositive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Co bude jinak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ěnící se prostředí =&gt; manažeři = efektivní řízení lidí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X normy a zvyklost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odkud vycházet?  &gt;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Constantia"/>
              </a:rPr>
              <a:t>Historie řízení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- příkazy + kontrola, autokratické řízení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- do 20. stol. – benefity, ale stále autokratismu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=&gt; postupně respekt lidského potenciálu</a:t>
            </a:r>
            <a:br>
              <a:rPr sz="2200"/>
            </a:b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Hlavní charakteristik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ideálního manažera…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Ideální manaž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46400" y="1599840"/>
            <a:ext cx="5781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Hrát roli vzoru pro ostatní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Znát sebe sa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Soustavně se vzděláv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ít potěšení ze změn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ít viz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lně si uvědomovat součastnou realitu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ít vysokou úroveň etiky a hodno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yslet systémově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Správně komunikov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ozitivně mysle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Umět se nadchnou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Být opravdový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Efektivní komunikován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Komunikac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začíná tím, jaký vztah máme k ostatním lide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emůžeme uměle vytvořit dobrý vzta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Je důležité mít dobré vztah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3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vky, které nám umožní budovat dobré vztah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Úmysl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Jak chceme vycházet s jinými lidmi – jednání s nimi. Řídí to naše postoje k nim, vzájemné působení. Náš postoj, poměr k lidem silně ovlivňuje to jak na nás reagují = je důležité jej promyslet a zváži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Vědomá volba užitečných a pozitivních postojů k lidem = větší naděje pro vytváření dobrých vztahů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Efektivní komunikován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Rozpoložení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V jakém rozpoložení jsme, ovlivňuje všechno, co děláme. Pozitivní rozpoložení – dobře se cítíme, věříme si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Výsledk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Zda dosáhneme výsledku, závisí na tom, zda jsme si vytvořili dobrý vztah. Existuje dlouhodobý výsledek – jestliže budujeme dobré vztahy a zlepšujeme vztahy s jinými lidmi, styky s těmito lidmi budou stále snadnější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Nalezení správné rovin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Odhadnout náladu - neměli bychom rovnou konverzovat. Je třeba zjistit, co se s ním stane, co to s člověkem udělá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Správný jazy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. podnikový, manažerský, technický, zákaznický, dodavatelský, praktick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Efektivní komunikován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Vážit si lidí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Když si viditelně vážíme lidí = dobré vztah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ěkdy je to obtížné = budování důvěr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Nebezpečí plynoucí  z dobrých vztahů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ěkteří manažeři se domnívají, že ztratí respekt a kontrolu, a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Dobrý vztah   x   tajné srozumění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onstantia"/>
              </a:rPr>
              <a:t>Dobrý vztah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– přátelská úcta k jinému, která v něm vyvolává podobnou reakc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onstantia"/>
              </a:rPr>
              <a:t>Tajné srozumění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– spolupráce s ostatními, která má přesvědčit, že jsme na jejich straně, i když vás to kompromituje = slevujeme ze svých zása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Poskytování a přijímaní informac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Máme sklon přemýšlet o komunikaci jako o mluvení, ale komunikujeme i když naslouchá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Vynikající schopnost přijímat informace spočívá v 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Přání či potřeba být informován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– První krok, zájem o věci co se kolem nás děje. Měli bychom být otevření přijímat informace od jiných lidí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Věnovat informacím pozornost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– „Nevypínat se“ – nenaslouchat selektivně. Skutečná pozornost má 5 rovin 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aslouchání slovům, víme co bylo řečen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aslouchání významu skrytému za slovy (tzn. důrazů na slova, váháni atd.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ozorování toho , jak řeč těla doplňuje význam slov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oužívání intuice – vaší „vnitřní reakce“ – ke čtení mezi řádk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odvědomé, citové vnímání toho, co se děj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Poskytování a přijímaní informac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Skutečná pozornost je poté účinná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Umožňuje nám slyšet to, co se říká, ve své úplnosti a tak vhodněji reagovat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oskytuje nám dodatečnou informaci o tom, jak partner „funguje“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artner má pocit, že si jej vážíte = zlepšuje vaše dobré vztahy s ní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Používat informace dobře 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– informace mají nějaký účel. (krom klepů, zákeřných informacích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Lidé co nám je poskytují, chtějí, aby se jim dostalo důkazu o tom, že jsme tyto informace dobře použili=zlepšuje dobré vztah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3:19:55Z</dcterms:created>
  <dc:creator>Marek</dc:creator>
  <dc:description/>
  <dc:language>en-US</dc:language>
  <cp:lastModifiedBy>Martin Beleš</cp:lastModifiedBy>
  <dcterms:modified xsi:type="dcterms:W3CDTF">2008-11-26T19:19:06Z</dcterms:modified>
  <cp:revision>30</cp:revision>
  <dc:subject/>
  <dc:title>Požadavky na manažery na prahu postindustriálního věku</dc:title>
</cp:coreProperties>
</file>