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B5-C0A9-4DE3-9083-F5BBD4FE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FF0-EE74-4E7C-8041-A7CF1272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349-C603-4BBC-9A71-03B59DCA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98C-6DD9-4186-B721-3AB4C65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1EF8-AE6D-4555-A1A2-1440CA8A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E5D8-5A7A-4190-9E10-5C993B1F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A32-032C-444E-8626-EE417F72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0CB5-6991-4ABF-9D79-2D2187A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3AF6-64BE-4734-94CA-5A502BA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864-8FEC-477A-862D-B513215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A2E9-F94C-43AB-97FF-8CC99CA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569-C112-4EF2-8CC3-79EF1FC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4B16-DFD7-4C8D-83CB-0E6F4F5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15C8-2616-4734-BB1F-6689072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80F-CF59-4066-95E8-1593AFD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C8B-C54D-44FC-9B3D-96FEEC8E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F2B4-A362-4EB2-B1B6-C5211FB3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9C7-D0E1-400E-AA86-487B5DE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26D-D673-4A8B-903D-1A8A84A2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769-26F5-4B06-B0BC-5A94FF7A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ECC-3300-4FB0-ACEE-BE1F3FF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C9F-6073-4609-88B7-14142F8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0EC-2DEA-4E45-A620-A6B2498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A0A-90A0-49E4-B09C-AA7712A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1F08-42DE-4986-90FC-EBFDDA7CDA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C1B-AA83-47CA-A2AC-C5A4546BD4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ývojové trendy podniků a jejich řízení na prahu postindustriálního věk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280"/>
            <a:ext cx="3960720" cy="1152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atália Če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omáš Jelín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náta Kaszpe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ientace na špičkové výsle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Buď jste v tom, co děláte, nejlepší, nebo to nebudete dělat moc dlouho“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. Wel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437000"/>
            <a:ext cx="403200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mické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ktr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e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ační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ecký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matizace a robot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rojní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437000"/>
            <a:ext cx="403236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dravotnictví vč. Výroby lé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organická che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vědeckých přístro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motorů a turb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é materiá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ysoká výko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rma, která chce trvale vítězit, musí mít alespoň dvojnásobnou výkonnost, než je průměr daného odvětv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kazatele úspěš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átk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louh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ycí příspěv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 podílu na tr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měrové ukazatele (ROI, ROCE, ROE, FCF, ROS, E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e vztahy k zákazníků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klady na vzděl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zlepšovacích návrh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idaná hodnota na pracovní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72428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uropean Consulting Institut používá 516 ukazatelů (Šmejkal, V.: Ukazatelé výkonnosti, European Consulting Institut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užívání moderních metod managemen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1000"/>
            <a:ext cx="2232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wot analý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ntro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afeteria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orterův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341928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orf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nviromental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349360"/>
            <a:ext cx="187164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 pla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sor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ust i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08280"/>
            <a:ext cx="435636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oint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uman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otal Qua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arget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435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ross D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lus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alance Score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ctivity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148428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Interní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Soci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2276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Servi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erzní a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it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isk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ozhodovací str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3141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Private 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CP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8000" y="4149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V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n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60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ogistic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ke or 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vnímaných hod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B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E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458136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ean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Goldratova teorie 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-commerce, E-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lš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rávné produkty a jejich zna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nalosti základem úspěch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fektivní portfolio a core 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ychlost a pruž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konnostní motivační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entraliz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tváření síly podniku fúzemi, akvizicemi, aliancemi, sítěmi, formováním virtuálních podnik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celený systém řízení a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ívání moderních informačních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spektování zásad Corporate Governance, principů etiky, společenské odpovědnosti a ekologi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alifikované strategické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anagement inovac</a:t>
            </a:r>
            <a:r>
              <a:rPr b="0" lang="sk-SK" sz="6600" spc="-1" strike="noStrike">
                <a:solidFill>
                  <a:srgbClr val="ccecff"/>
                </a:solidFill>
                <a:latin typeface="Arial"/>
              </a:rPr>
              <a:t>í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Firem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ultura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poklady pro inovační proc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ástroje implementace proinovační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lánování a rozpočtování inov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ce inovačních činností ve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dení personálu k inovac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Firemní kultura a předpoklady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inovační proces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remní kul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zi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y (USA X Japonsk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žadavky na silnou firemní kul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vůrčí inovační k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firemní kul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Nástroje implementace proinovační firemní kultu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Činnost top manage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sažení konsensu top management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prava na vyhlášení Zásad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stro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sonální čin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zdělávac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lánování a rozpočtování inovac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tí plán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běr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terní podněty k plánování a rozpočt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trola inovační vý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se dneska dozví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incipy úspěšné firmy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agement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Podpora tvoři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Stimulace a motivace v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cionálně řídit a organiza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Organizace inovačních činností ve firm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dpodniková organizace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cí ve firm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užné organizační struk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ch projekt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 činnosti v nevýrobní sféř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edení personálu k inovací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l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otivac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 inovační zaměstnanecké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 známých manažerů - inová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Zvítězíme i v </a:t>
            </a:r>
            <a:r>
              <a:rPr b="1" lang="sk-SK" sz="6600" spc="-1" strike="noStrike">
                <a:solidFill>
                  <a:srgbClr val="ccecff"/>
                </a:solidFill>
                <a:latin typeface="Arial"/>
              </a:rPr>
              <a:t>globální</a:t>
            </a: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 ekonom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Podpora tvorivého mysle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Kreativita ako nový fenomén postindustriálnej é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Stimulácia a motivácia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Racionálne riadiť a organizova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Zá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Logika je dobrá, ale nestač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De Bo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Ten z druh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ů, který přežije, není ten nejsilnější, ani nejinteligentnější, ale ten, který nejlépe reaguje na změny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Charles Darw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Kreativita ako nový fenomén postindustriálnej éry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Odtraňovať bariéry ľahostaj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Stvorivý st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Jeho vplyv a využit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-  Zavádzanie a riadenie nových metód managementu a inová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Základvem úspěchu 21. století jsou nadšení, kvalifikoaní a loajální pracovníci.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Není nic důležitějšího než vědet, jak získat a motivovat vynikající lidi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Claudio Araz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ko? Kedy? Koho? Preč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Pochopenie významu stimulácie v novej do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dea, peniaze a individuálne rieše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sady, stabilita a priehľadnosť stimul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Firma, která chce obstát v globální konkurenci musí být štíhlá, rychlá a transparentní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úlohou vůdce je být trubkou, která vydává jasný zvuk. Musí být jako hlas polnice, vyzývající k útoku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. Druc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medzenie kompeten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novenie priorí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elegov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ako na 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rozvojové tendence      21. stolet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konku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turbul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telektu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litantnost a teroris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manit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niatur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šíření AIDS a některých dalších obtížně zváldnutelných chor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Směr managementu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mnoho ciest k úspe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Umenie manage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nájsť práve tých niekoľko správ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ČEK, Z. Firma 21. století. Praha : Profesional Publishing. ISBN 80-86419-88-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e univerzální recept?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existuj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Jsou jen dva druhy firem. Ty, které se změní a ty, které zmizí“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napodobujme nejlepší! Nechme se jejich příklady inspirovat k tomu, abychom je předstihli! Jen celosvětová konkurenceschopnost zajistí trvalé přežití a rozvoj firmy.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globální ekonomice vítězí ten nejvýkonnější a nejlepš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solutní orientace na zákazník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usíme se naučit přejít od zaměření na výrobu k zaměření na získání trhu. Zákazníci jsou největším aktivem podnik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076640"/>
            <a:ext cx="5761080" cy="25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Spolehli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Vysoká kval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Nízk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Dokonalý se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dividuální přístup k potřebám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lný top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správně předvída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uluje strategii firmy (včetně mise, vi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á odvahu provést radikální změny ve firm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užívá správný styl řízení firmy jako cel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přesvědčit své spolupracovní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imuluje je všemi dostupnými nástroji k jejímu splnění a zajišťuje implementaci strateg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tváří ucelený systém řízení a podnikového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ledá správné pracovníky na rozhodující pracovní pozice, (vzdělávání, motivace, stimula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37000"/>
            <a:ext cx="8497800" cy="24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e bez dobrého zajištění zůstává pouhým snem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ktivní vytváření poptávky a hledání nových trh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Nasycený trh neexistuje“. Dobré firmy poptávku zjišťují, vynikající firmy ji aktivně vytvářejí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. Kot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ické přednosti a vnímané hodno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Úspěch v podnikání je založen na dočasném monopolu, postaveném na nové myšlence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. Š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rální ředitel firmy Eu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30:32Z</dcterms:created>
  <dc:creator> </dc:creator>
  <dc:description/>
  <dc:language>en-US</dc:language>
  <cp:lastModifiedBy> </cp:lastModifiedBy>
  <dcterms:modified xsi:type="dcterms:W3CDTF">2008-12-01T23:17:11Z</dcterms:modified>
  <cp:revision>7</cp:revision>
  <dc:subject/>
  <dc:title>Vývojové trendy podniků a jejich řízení na prahu postindustriálního věku</dc:title>
</cp:coreProperties>
</file>