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61E6-8924-4EC9-8D31-57592EE1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B00C-6028-41FB-A073-13DEF5C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7294-3691-4D19-AFFC-ECFA4FB8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EB36-8FE9-413A-AF3C-AFADBD33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79CD-DD85-45B2-AA1F-75D83C30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D72B-D871-4D9C-9D1B-C61342F8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7C7-CA05-44B6-B1F1-F0AD891E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3DD6-89DC-4373-9A87-A0B0810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5483-6C3A-4738-8AB1-185EB006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E7A9-8B33-4E7A-9761-FAC20E98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7FC-6B94-4A50-829F-8F6AE5D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77F8-9229-4A4D-841B-65AF619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572-3870-4098-B327-4B94D23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2D3A-B691-4961-9531-BC21FBF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3638-24FE-4024-8D7A-6BED56A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142A-5A82-4AA3-A5FA-365A0B86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2541-FE5E-4475-B736-1CFBFE98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0878-E353-401C-AEF1-6013BFA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FB42-3157-40A7-8EAA-1772B5BF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77AB-1900-4616-8834-223E3B2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177C-A8F7-4F77-BCE9-E42E40C3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749A-ADB8-4F31-8E09-87CE36F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25EB-D1F9-4991-A94E-545F73C4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8ECD-1D7D-4A8F-81B2-E45FE71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AD2-7C7E-4C30-B60B-C46A110E88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992-F539-4709-9100-E502D275C2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ožadavky na podnik a jeho řízení na prahu postindustriálního věk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řenková Pet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landrová Tere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vrátilová J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munik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o zlepšení spokojenosti zákazníků – základní kriterium – hodnota poskytova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 oddělení služeb zákazníkům – hodnocen na základě osobní produktivity ( počet tel. hovorů během d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spečer – hodnocen na základě míry využívání technických pracovníků (kolik doby stráví u zákazníka a ne na cestě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ik – hodnocen podle produktivity (kolik zakázek denně vyřídi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azník – okamžitá oprava tel. spojení, spolehlivé tel. spoj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ovník oddělení služeb – vyřídit telefonát co nejrychleji, i když nezískal veškeré potřebné inform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ečer – vysílat techniky do sousedních oblastí bez ohledu na dobu čekání zákaz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k – maximálně zkrátit čas strávený u zákazníka, kvalita práce druhořad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y  o zlepšení služeb podkopávány vlastním systémem měř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Formální, strukturovaný a kvantitativní model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cí manažerům mobilizovat zdroje nutné k dosažení celkových cí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jující celkové podnikové cíle s jejich kontrolovatelnými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kazuje , že zatažením této páky se otevřou tyto dve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Promyšlený proces využívání naměřených údajů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lepšování podnikové výkon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ívající údaje k odhalení příčin a určení nápravných opa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konnostní kriteria a žádoucí úrovně výsledků pro klíčové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riteria – objektivní, aktuální, snadno spočitatelná a snadno pochopitel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Zaměřte se na konečn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5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niky netuší kdo jsou jejich skuteční 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 od zákazníků odděleni distribučními řetězci (velko-, maloobchody,dealeři, distributoři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á většina výrobků se dostane k zákazníkovi až projde rukama 1 a více prostřed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 distribuční kanály se dostává velmi málo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– vědí o vše o výrobku málo o zákazní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toři – vědí vše o zákazníkovi málo o výrob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ční distribuční kanály – nevýkonné, vysoké nákla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ždá transakce zvyšuje cenu x nepřidává hodn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madění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ravinové zbo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ené trvanlivé výrob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zi tím než výrobek opustí linku a než se dostane do obchodu uplyne více než 100 d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íce než 40 % zboží projde minimálně 2ma zastávk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každé musí být zboží vyskladněno, uloženo a opět vybíráno a nalož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lkové náklady spojené s toky zásob jsou více než 100 miliard dola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Výrobci i zprostředkovatelé musí společně usilovat o to, aby vzájemně umocnily své specifické scho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Maximalizovat hodnotu z pohledu konečného zákazní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Minimalizovat vlast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Přetvořit distribuční kanály ve společenství, která usilují o společné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Každý člen společenství dělá to, co umí nejlé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Využívat internetu ke sdílení informací a zefektivnění transak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 2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internetové stránky – pro distributory (zboží) a pro zákazníky (doplň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lňky – snadno se balí, posílají, nepotřebují návod ani instal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aler – podíl na zisku podle oblasti, ze které si zákazník doplněk objed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né pro všech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101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vnější zdroje režijních, skladovacích a ji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jte své procesy s procesy dodavatelů a zákaz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rozdělte činnosti mez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vřeně sdílejte informace se všemi zúčastněným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321000">
            <a:off x="6012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10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ijte příležitost ke spolupráci se spoluzákazníky a spolu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řujte firemní kulturu směrem k důvě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36000">
            <a:off x="3995640" y="37159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žerská pravidla pro úspěšnou firmu v 21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oporu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a není soběstačný celek, ale součást uskupení, které vytváří hodnotu pro zákazní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kterizujte podnik pomocí procesů, ne výrobků či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čete procesy ve kterých vynik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činnosti přenechte někomu, kdo je dělá lé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upracujte s ostatními a nedělejte jen sami na s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uďte připraveni zásadně přehodnotit identitu a strategii svého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ejte se do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chcete uspět musíte patřit k nejlepším ve všem. Dnes už nelze být dobrý jen v něč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klad 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ři zásady strategi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, ostatní zruší nebo prod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 výzkumu investovat tolik, kolik je na první nebo druhé místo tř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akonec: 6 doporučení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etržitě provádějte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klopte se kvalitními lid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lete poziti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ále se uč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ánujte co bude po 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ělejte chy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16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52848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UŽITÁ LITERETU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AMMER, M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21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Management Press, 2002. ISBN 80726107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rainer, S. Byznys podle Jacka Welche. Praha: PRAGMA, 1999. ISBN 8072059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ěkujeme za pozor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šlo k nahrazení nedostatku nadbytk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azníci se stali mnohem zkušenějšími a informovanějšími kupující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ků se staly v podstatě nediferencovanými produ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vět jemuž vládnou zákazní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řizpůsobte podnik svým zákazníkům – staňte se PSNSD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ažte svým zákazníkům jedinou tvá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způsobte své postupy potřebám konkrétního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vídejte potřeby zákaz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něte zákazníkům hladkou a bezproblémovou komunikaci během všech transakcí s vaším podni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užijte možnosti nechat zákazníka, ať se obslouží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ejte měřítka výkonu soustředěná na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Dejte svým zákazníkům, co pravdu chtějí - poskytujte VP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zlišujte mezi tím, co prodáváte a co vaši zákazníci kupují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ápejte sami sebe jako poskytovatele řešení spíše než dodavatele výrobků či služeb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nažte se pochopit širší  potřeby a problémy zákazníků, přesahující vás a vaše produk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ledujt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 vaši klienti dělají s tím, co od vás dostanou, a buď to udělejte za ně, nebo jim s tím pomozt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Vytvořte řád tam, kde vládne cha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azníci už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ejsou loaj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znova a znova přesvědčovat o kou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ratší život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voj nových a nových výrobků, inov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dej a vývoj nových výrobk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pracují tvrdě x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iště jako celek =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a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nevědomky pracují na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protichůdnýc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úkol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á situace se řeší ji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improvizuj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romýšlejí věci za pocho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Arial"/>
                <a:ea typeface="Arial"/>
              </a:rPr>
              <a:t>To, že se něco podaří je vlastně zázr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emický závo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keting – koncept nového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roba – výroba zamítla jako neproveditelný (moc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zkum – návrh nové technolog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– nepraktické ( nerozumí ji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dyž už byl nový produkt náhodou protlač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finance – navrhovaná cena bude stejně ztrá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obchodní oddělení - stejně si to nikdo nekoup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aždé pracoviště vyvíjí obrovské úsilí, ale izolovaně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2165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ORDINACE a DISCIPLÍ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e o to činnosti pouze vykonat, ale sladit j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dohrom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vykonat je v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ém pořad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it přesnou posloupnost kroků a rozdělit odpovědnost za jejich plně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=&gt; Opakovatelnost, předvídatelnost a řiditel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lidé nebudou muset vynakládat úsilí, aby zjistili, jak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mají pracovat,mohou se soustředit na podstatu své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užívejte správná měřítka výko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ové systémy měření poskytují spoustu prakticky bezcenných údajů, které kvantifikují téměř vš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tom postrádají konkrétní záměr či d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jich takové množství, že se nedají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ou dodávány tak pozdě, že už jsou v podstatě zbyteč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t při řízení podniku finanční ukazatele je jako řídit auto s pohledem upřeným do zpětného zrcátka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05:14Z</dcterms:created>
  <dc:creator>Tereza Kalandrová</dc:creator>
  <dc:description/>
  <dc:language>en-US</dc:language>
  <cp:lastModifiedBy>snoopy</cp:lastModifiedBy>
  <dcterms:modified xsi:type="dcterms:W3CDTF">2008-11-20T13:38:15Z</dcterms:modified>
  <cp:revision>16</cp:revision>
  <dc:subject/>
  <dc:title>Požadavky na podnik a jeho řízení na prahu postindustriálního věku</dc:title>
</cp:coreProperties>
</file>