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999E-1EEF-4F0C-B000-A53CCDA6A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CC1B-CC65-4BEF-8B2C-F94D069F8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EF4E-86F9-42AC-B14F-AB00A4B69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6812-385B-4215-8D52-8E802E956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6101C-81AB-4F71-B15A-AAD533CD0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06886-CD32-4596-AB26-A5A281E6D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EC917-27BF-4BA6-BE68-D1E441B5A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7EB50-2CE2-4AB1-BD4D-CFE64AA08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0D593-545F-47CE-AA63-2BA375EA6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F713F-2CFC-4DAB-95B6-864705B85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24F37-3642-443C-9D8B-4193172E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BF5F-7A0B-4EE5-94C6-B7AD8DDF2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4EFBB-ADDD-48A0-8641-B58CEA637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FDB0B-41AF-4EA8-A04B-67D4125C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AB6C8-9E74-4A4A-80BA-2FF84E254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9240C-C81E-4D19-B6DB-927A02F50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46E99-528D-47E1-84A0-7CA6FEDE7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C73B-7771-46D3-A4F0-F2E8D6459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12D7-9FCC-4E67-A076-5000C6B47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7462-D6BB-4805-BA35-2BF23AA1D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AEC6-015A-4372-8043-8582FC565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F6BB-D577-48CC-9C0E-A88AB21AF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15EB-55F0-4E9D-82E5-E604BB51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BDA6-20D4-4C26-B7C5-ACABF719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07678-5FFD-4E05-99C1-4260417DC7D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58407-78EB-46FE-BA10-C7196BD26CE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Interkulturn</a:t>
            </a:r>
            <a:r>
              <a:rPr b="0" lang="cs-CZ" sz="5400" spc="-1" strike="noStrike">
                <a:solidFill>
                  <a:srgbClr val="ffffcc"/>
                </a:solidFill>
                <a:latin typeface="Tahoma"/>
              </a:rPr>
              <a:t>í managemen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Michal Blah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Tomáš Krá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Marcela Paulíčkov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České kulturní standard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mprovizace a flexibili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edůvěra vůči pravidlům, formalizovaným postupům, normá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ynalézavost, improviza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daptabili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elkorysost (být nad věcí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ojetí kvali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rientace na sociální vztah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ytvoření soc. klimatu při jednání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Zacházení s negativními informacem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eřešení sociálních konfliktů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rtikularismu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České kulturní standard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Difúz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Propojení jednotlivých oblastí živo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Práce a volný č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Emocionalita a racionalita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Pracovní role a vlastní osobnos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Formální a neformální struktury, informa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labý komunikační kontex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Verbální, neverbální komunika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Signály, ironie, nepřímé vyjadřování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Často nízké sebevědomí a sebejisto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olychronie času – více činností najedno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Německé standard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Snaha vyhnout se rizik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Organizace, normy, postup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Zaměření na detail, perfekcionismu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Funkční hierarchi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Věcná orienta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Primární věcnost jednání = profesionalit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Oddělování jednotlivých oblastí živo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Silný komunikační kontext, přímá komunika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Sebejisto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Monochronie času, přesné časové rozdělení činností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ransformační a tržní standard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sou kulturní standardy univerzální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emě západního světa: kulturní standardy tržní ekonomik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emě východní Evropy: transformační kulturní standard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zájemně se přibližuj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árové kulturní standardy 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onformismus ve vztahu k autoritám x Zaměřenost na výsled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Česká snaha vše a všechny přežít, snaha všemu se vyvarov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lá ochota bojovat za svoje názory – strach z autor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Řízení od „zeleného stolu“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stupem času konformismu ubýv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árové kulturní standardy I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sence iniciativy x Iniciati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lavní problém transform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ktivita velkou překážkou – zahraniční manažeři nás mají za nevzdělané a nezkušen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Češi si stěžují, ale nic nedělaj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ibism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árové kulturní standardy II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olektivismus x Individuální výk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Odměňování podle výkon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ebeprezentace, Sebeprosazová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Motiv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Improvizace x Kvali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Typicky český fenomé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olokvalifikovaná prá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árové kulturní standardy IV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patrný styl interakce x Sebejistá interak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naha vyčkat a nechat soupeře vyložit kar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rach nezesměšnit 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ladá generace je na tom lépe než její rodič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Časová nepřesnost x Čas jsou peníz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říve nebyl kritériem ekonomické efektivnost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áce na dvě hodiny rozvržena na celý 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oordinace, logisti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České kulturní standardy z rakouské perspektivy I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ientace na soc. vztahy a utváření vzájemné důvě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dnání je formální, až ve chvíli, kdy si obě strany věř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sobní vztah zárukou oboustranného dodržování doh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důrazňování symbolů status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České kulturní standardy z rakouské perspektivy II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erarchie a autori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kousko: velká pravomoc, schopnost manažerů se okamžitě rozhodnou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ČR: abs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ikdo není kompetentní – dlouhé toky informac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aždý názor doplněn výhradam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bsence samostatnosti – důvěra autoritá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árodní hrdost, orientace na minul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Pojem kultur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Kultura – původ v latinském slově </a:t>
            </a:r>
            <a:r>
              <a:rPr b="0" i="1" lang="cs-CZ" sz="2800" spc="-1" strike="noStrike">
                <a:solidFill>
                  <a:srgbClr val="ffffff"/>
                </a:solidFill>
                <a:latin typeface="Tahoma"/>
              </a:rPr>
              <a:t>colere,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což znamená pěstovat, šlechtit, ale i obývat, vážit si, uctíva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odstatné jméno </a:t>
            </a:r>
            <a:r>
              <a:rPr b="0" i="1" lang="cs-CZ" sz="2800" spc="-1" strike="noStrike">
                <a:solidFill>
                  <a:srgbClr val="ffffff"/>
                </a:solidFill>
                <a:latin typeface="Tahoma"/>
              </a:rPr>
              <a:t>cultura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vyjadřovalo dříve vzdělávání, kultivování země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Cicero jej poprvé použil ve vztahu ke kultuře ducha v Tuskulských hovorec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Kultura tak, jak se zformovala ve starověku – aktivita člověka, cílevědomé úsilí o zdokonalení světa i sebe sama, opozice vůči čisté přirodnost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České kulturní standardy z americké perspektivy I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zdíly v prezentaci vlastních pracovních úspěch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A: chválí sami seb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ČR: podceňová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Čekají na pochval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ětší strach neudělat chybu, než zájem o úspěch a vítězstv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ěmčina“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České kulturní standardy z americké perspektivy II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dlišná očekávání od pracovního zařaz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zdíly v míře vyžadované samostatn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ČR: postupy musí být schváleny sho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A: samostatnost – „plav, nebo se utop“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dentifikace se zaměstnaneckou organizac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A: váží si svého zaměstná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ČR: ze zahraničí vnímáno jako neloajálno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oužitá literatur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Nový, I. – Schroll-Machl, S.: </a:t>
            </a:r>
            <a:r>
              <a:rPr b="0" i="1" lang="cs-CZ" sz="1800" spc="-1" strike="noStrike">
                <a:solidFill>
                  <a:srgbClr val="ffffff"/>
                </a:solidFill>
                <a:latin typeface="Tahoma"/>
              </a:rPr>
              <a:t>Interkulturní komunikace v řízení a podnikání</a:t>
            </a: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. 1. vyd., Praha, Management Press, 1999. ISBN 807261009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Lehmannová, Z.: </a:t>
            </a:r>
            <a:r>
              <a:rPr b="0" i="1" lang="cs-CZ" sz="1800" spc="-1" strike="noStrike">
                <a:solidFill>
                  <a:srgbClr val="ffffff"/>
                </a:solidFill>
                <a:latin typeface="Tahoma"/>
              </a:rPr>
              <a:t>Kulturní dimenze v mezinárodním podnikání</a:t>
            </a: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. 1. vyd., Praha. VŠE v Praze, 1999, ISBN 807079850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Nový, I. – Schroll-Machl, S.: </a:t>
            </a:r>
            <a:r>
              <a:rPr b="0" i="1" lang="cs-CZ" sz="1800" spc="-1" strike="noStrike">
                <a:solidFill>
                  <a:srgbClr val="ffffff"/>
                </a:solidFill>
                <a:latin typeface="Tahoma"/>
              </a:rPr>
              <a:t>Spolupráce přes hranice kultur</a:t>
            </a: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. 1. vyd., Praha, Management Press, 2005, ISBN 807261121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cc"/>
                </a:solidFill>
                <a:latin typeface="Tahoma"/>
              </a:rPr>
              <a:t>Kulturní pluralita současného svět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e světě existuje mnoho odlišných kultur, nikoliv jedna unifikovaná kultur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aždá kultura je jedinečná, navzájem se liší 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hodnotovým paradigmatem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Toto paradigma má dva základní determinant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Geografické podmínk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Historie (události, vlivy, ohrožení atd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cc"/>
                </a:solidFill>
                <a:latin typeface="Tahoma"/>
              </a:rPr>
              <a:t>Současná podoba kulturní pluralit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Mnohost kultur existuje nejenom na horizontální úrovni, ale i na úrovni vertikální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Úroveň globálního kulturního systém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Úroveň nadnárodních kulturních systémů (základních světových kultu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Úroveň národních kulturních systém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Úroveň kulturních systémů etnických skup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cc"/>
                </a:solidFill>
                <a:latin typeface="Tahoma"/>
              </a:rPr>
              <a:t>Základní klasifikace nadnárodních kulturních útva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ápad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onfuciánsk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Japonsk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Islámsk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Hinduistick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Latinsko-americk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Africk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Mezikulturní komunik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ulturní systémy zásadně ovlivňují způsoby vnímání, prožívání, hodnocení světa, způsoby myšlení aj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ultura má 2 aspekty (dle R. Lintona)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jevný: výsledky lidského jedná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Osobnostní kultura: znalosti, postoje, hodno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cc"/>
                </a:solidFill>
                <a:latin typeface="Tahoma"/>
              </a:rPr>
              <a:t>Výchova k mezikulturní komunikaci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ýchova k mezikulturní komunikaci je dnes již nezbytná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Cíl výchovy: komunikovat s příslušníky cizích kultur bez zkreslení předávaných informací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Rozvinutí </a:t>
            </a:r>
            <a:r>
              <a:rPr b="0" i="1" lang="cs-CZ" sz="2800" spc="-1" strike="noStrike">
                <a:solidFill>
                  <a:srgbClr val="ffffff"/>
                </a:solidFill>
                <a:latin typeface="Tahoma"/>
              </a:rPr>
              <a:t>metaznalosti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: jinak také kognitivní seberegulace – schopnost přistupovat k mnoha kulturám najednou, pohybovat se z jedné kultury do druhé bez ztráty osobní kulturní integrit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Manažer by měl ovládat interkulturní kompetenc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cc"/>
                </a:solidFill>
                <a:latin typeface="Tahoma"/>
              </a:rPr>
              <a:t>Výchova k mezikulturní komunikaci II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Tři základní kroky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ahoma"/>
              </a:rPr>
              <a:t>Pochopení specifiky vlastní kultury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: dosažení tzv. kulturního sebeuvědomění (které kulturní determinanty ovlivňují naše vidění svět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ahoma"/>
              </a:rPr>
              <a:t>Pochopení odlišnosti jiné kultury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: pochopení jejich základních rysů. Rozumět jak lidé z jiné kultury vnímají a interpretují skutečno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ahoma"/>
              </a:rPr>
              <a:t>Komparace obou kulturních modelů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: oproštění emocionálních reakcí vůči vlastní i cizí kultuře. Jedná se o kulturní nadhled, překonání </a:t>
            </a:r>
            <a:r>
              <a:rPr b="1" lang="cs-CZ" sz="2800" spc="-1" strike="noStrike">
                <a:solidFill>
                  <a:srgbClr val="ffffff"/>
                </a:solidFill>
                <a:latin typeface="Tahoma"/>
              </a:rPr>
              <a:t>etnocentrismu.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Zamezení </a:t>
            </a:r>
            <a:r>
              <a:rPr b="1" lang="cs-CZ" sz="2800" spc="-1" strike="noStrike">
                <a:solidFill>
                  <a:srgbClr val="ffffff"/>
                </a:solidFill>
                <a:latin typeface="Tahoma"/>
              </a:rPr>
              <a:t>kulturního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ahoma"/>
              </a:rPr>
              <a:t>šoku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České a německé kulturní standard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Empirický výzkum (Nový, Schroll-Machl: Interkulturní komunikace v řízení a podnikání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ahoma"/>
              </a:rPr>
              <a:t>Kritické události –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řekvapení, nepochope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ísemné dotazy, diskuze, sebepozorování, expertní posouzení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Arial"/>
              </a:rPr>
              <a:t>   ► </a:t>
            </a:r>
            <a:r>
              <a:rPr b="1" lang="cs-CZ" sz="2800" spc="-1" strike="noStrike">
                <a:solidFill>
                  <a:srgbClr val="ffffff"/>
                </a:solidFill>
                <a:latin typeface="Tahoma"/>
                <a:ea typeface="Arial"/>
              </a:rPr>
              <a:t>vzorce chová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9T13:18:16Z</dcterms:created>
  <dc:creator>marcela</dc:creator>
  <dc:description/>
  <dc:language>en-US</dc:language>
  <cp:lastModifiedBy>snoopy</cp:lastModifiedBy>
  <dcterms:modified xsi:type="dcterms:W3CDTF">2008-12-02T11:32:17Z</dcterms:modified>
  <cp:revision>8</cp:revision>
  <dc:subject/>
  <dc:title> České a německé kulturní standardy</dc:title>
</cp:coreProperties>
</file>