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E92-47A4-437E-A097-8D800FD3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13C-3DC9-4310-8424-3497507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8C0-F6B1-4FBD-A77F-716BF095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0B7-B733-4DB0-9F47-21BCB632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F46B-344A-4CE8-9031-02F3F8FC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C03D-3020-487A-A25D-3BF40D4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8BB-5E3F-4C1E-A2EE-96E40C4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AEEE-59C7-429D-8FDB-2CCF937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28FC-7072-4220-B833-20C1E6C9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7200-3E3B-4F5A-83BE-3611BDC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B471-1C7D-4347-8C05-9A3D93F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50F-4248-4305-AE49-FDDADCD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E278-4B7F-418B-9050-C8D8420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8BD-6840-467A-8FBF-6D28825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F0A-D9B3-4988-AD1C-B71DF1D6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49A7-2480-4D8B-83DD-E332C569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E1AA-7376-4DDD-A77B-5E1CF9FE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84F90-29B4-4C99-BCA2-840FBA16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AB6C5-C6FE-4395-8961-963CEDC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D1651-3F14-41C8-A185-E42DEF2F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54A36-1686-454E-86E4-098AF09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7A418-7586-4708-8DDE-32ADF74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D86-C0EF-4C55-8896-6E222F3B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207D2-6254-401B-A2EA-30CF50B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69829-45E0-4D57-BAF3-EE4DF7D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F355A-0C71-47D3-A899-2DC48C9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93F9D-6874-46E9-9A52-8FFFEB68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C504A-F39F-46D1-B9A4-0E31258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39143-FC37-4E89-9BE1-38AC9A3B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555C0-43C9-484A-B47A-E79DBD48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AE57C-1E55-451B-806F-6318C23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6216D-E942-4731-9059-AC15480F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FE266-C002-4027-95EE-B13B228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70F-6BFE-4048-B5A4-06F4FCF5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D720F-4268-4ACD-B28C-74A67DC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1BCEE-7857-40FA-ACA6-A44EF85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6CB4B-0132-4241-A110-C48180D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3836D-9EFC-464B-BB4D-4A4A56A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76A77-7FC4-4B5B-907A-D285B7B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D1B82-11C5-47E0-883D-297500E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7EC32-F17D-4E14-86BF-956D54E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807F1-0E8B-4C6C-BFD2-2420C852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25ECD-AABD-4ECD-979B-C47F2CB2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01E44-7F1F-4AA0-81FE-C8D94902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68B-E6A1-4220-BD3F-DDC036F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E2C00-0E92-4B73-86CF-DF26421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3AEBD-70B6-4789-B005-9E22C4A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A0BCC-A59D-444E-B5E9-31A5A983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3C5DF-DBF0-4734-9B27-4466C1E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4A35D-3E22-4AFA-902A-344050B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64DAB-D8FE-4D8A-AD61-BC35152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27C59-BAA3-4B48-9A08-D49ABCC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31A80-C53E-4799-B232-0EF8A66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AD7DC-ED48-41FC-AA9D-EE6DE2FD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92B08-F270-446C-8909-9919AC0C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292-C136-4056-9142-0BB79A71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D6A7A-1F25-4D2A-87AB-847F72D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1573-9479-4FB8-958C-FA6D0885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B13E0-35B8-4EB9-9EA2-D55F057C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6313-A285-44BF-8555-E4E71C4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D405-B1FA-49B8-91AA-EA8C7DC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FF1E-1E0F-45EB-ADC0-D633B3B4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3A94-3E64-4315-8301-C54CA71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9A2CA-2F07-4EDC-98C3-A56BAC3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A011-A076-4284-A9D3-693A240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A6B0-129C-462A-A747-206A1CA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076-B420-4517-A18A-13FEFD2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38E4-402E-4AD4-B747-F5884A9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42B8-93D5-434E-8BC7-862E674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B4D3-B3FA-425B-ABC2-5F3E8134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BBE09-2565-40AD-B06F-79BC239A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3BEE0-E872-4CA8-8457-143170A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6D82A-FE14-420D-82B4-ED4585E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F9910-A881-4778-8BB2-A6F68B17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C2729-49C4-48AB-971B-91C2055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8E96A-B628-4960-9625-63E2858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2A089-6148-453E-9B13-80DFD7F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1BB-3456-4A4F-954E-5A37F50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05C8A-67BD-424E-8981-35A8781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D136D-5092-4BE8-AEFB-7096AF8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66519-3798-4BBD-A032-40E3299E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7E39F-1EA6-4AB1-8112-5E207349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5D218-0431-435B-9712-8E8DFE76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66C3-C91D-4F9E-924D-037FB7B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1936-6275-42CC-918D-800D121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A3D5F-2793-44EB-8244-C6CB742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D120F-6362-48DB-8BEF-1DD42C1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6030-E275-4FEA-BF82-5E133AA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F30-2204-4234-A6A3-1FF2CE6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9187-E43E-4CF1-8F6D-37A4452F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7662A-17B6-4986-811D-01B2A03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D4CD-D4F3-4634-82BD-E5386ED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1511B-0ACA-401A-ABE5-3B4982B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50D3-04C4-4EB1-9321-5A31E18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53AA-AE48-4E8F-9613-4DCA39BD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C84FA-F0B0-4CC9-A7E6-456E5393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4A3-B1D3-4F07-94F6-57F5E9822F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C7AF-A5DE-4332-851B-9B8AB06657B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55C7-6259-4BB1-966D-D0CD64C2B8F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AC9-49D0-424D-AE4F-16679BAF05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055-6789-497D-874D-CC145D4846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D97B-D84B-4904-80FF-EC45EA291E2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02A-6B86-467E-9E8D-F38D76307FA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F9F-5524-4DEA-A14B-E99EE974A6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NAŽERSKÁ ETIK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ktivity mimo rámec legislativ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STÍNOVÁ EKONOMIK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Černá ekonomika – kriminální aktivity, prostituce, distribuce drog, krádeže, práce načerno a mnoho dalš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Šedá ekonomika – podplácení, nezdaněné příjmy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rup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árek nebo úplate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měr, s jakým byl předmět darová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elospolečenský problé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národní nevládní organizace Transparency International - monitorování korupce v celosvětovém měřítku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R se v roce 2008 umístila na 45. místě z celkových 18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aní špinavých peně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peníze získané trestnou čin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Z obchodů s drogami, z vydírání, obchodu s bílým masem, prostituce, pašování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incipem je tyto peníze prohnat řetězcem  nejrůznějších transakcí, aby se na konci mohly vykázat jako legálně získané příjm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halování této trestné činnosti ztěžují rozdílné právní systémy v různých zem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ka manažerské prá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ředpokládá dodržovat určité, v dané komunitě obecně uznané 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álně zodpovědné jednání manaže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ísemná podob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psaná pravid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psaná pravid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anažer prověřuje tyto fil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tilitarita rozhod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áva a osobní svobod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ravedlno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dva poslední se můžou vytvořit pravid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ntrola dodržová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ála pozornost dodržování specifických etických pravi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formální kontro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yužívání informací důvěryhodných spolupracov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jlepší pákou na dodržování manažerské etiky je pozornost nadřízených vedoucích pracovníků věnovaná manažerům na nižších stupních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brý manaž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dodržovat značnou sebekázeň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pečovat o svou bezúhonn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sobní image manažera = charakteristické rysy jeho chování a vztahů k lid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olupracovníci obvykle hodnotí tyto rysy svých nadřízený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vdomluvnost, čestnost, schopnost držet své slovo, ochota „pálit si prsty“za spolupracovníka, vztah k podřízeným, vztah k alkoholu apo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ŮLEŽITÉ!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ílevědomý a náročný manažer bude svým okolím za své jednání málokdy jednoznačně chválen. Může však dosáhnout toho, aby si ho převážná část dobrých spolupracovníků vážila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utnová, A., Seknička, P. Etické řízení ve firmě. Praha : Grada, 2007. ISBN 978-80-247-1621-3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ný, I., Lacina, L. Globalizace – Etika – Ekonomika. Boskovice: Albert, 2001. ISBN 80-7326-000-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cké řízení ve firmě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c. RNDr. Anna Putnová, PhD., M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hDr. Mgr. Pavel Seknička, Ph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kruh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dnikatelská etika v tržní ekonomic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hodnoty v ekonomické prax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incipy, nástroje a metody etického řízení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říz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olečenská odpovědnost firem a její vývo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ý a sociální au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Počátky v 90. lete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1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formace ekonom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Společnost pro etiku v ekonomice (NHÚ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Počátek výuky et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2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Učební texty, medializace + průzku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Výsledky privatizace a akce „Čisté ruce“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parency International ČR (korup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Etické fór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1. stole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rovnání s rozvinutými zeměm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ika podnikání jako součást začlenění ČR do E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řízen úřad ombudsma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le TIC hojně vyučován na VŠ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ématu se věnuje i konference v Parlamentu České republi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řístup k podnikatelské e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13880" y="164304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erický vs. evropský přís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lišnosti v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émant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tické 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iciativa fir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konomické důvo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nížení transakčních náklad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ílení loajality zaměstnan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váření a posilování image fir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ilování spokojenosti zákaz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ispívání k loajalitě investo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spěvek k zis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ultivace podnikatelského prostře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del morálního rozvoje podnik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orál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álně-práv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olečensky odpovědn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y se rodíc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olečenská odpovědnost v podnikání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jí v popředí zájmu většiny podnikatelských aktivi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livňuje hodnocení podniku okolí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dpovědné chování podniků může zapříčinit ekologickou katastrofu, destabilizovat trh, poškodit zákazníka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vě základní stránky etického myšlení: individuální a sociální etik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12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2:40:20Z</dcterms:created>
  <dc:creator>čtenář</dc:creator>
  <dc:description/>
  <dc:language>en-US</dc:language>
  <cp:lastModifiedBy>snoopy</cp:lastModifiedBy>
  <dcterms:modified xsi:type="dcterms:W3CDTF">2008-12-10T14:57:34Z</dcterms:modified>
  <cp:revision>9</cp:revision>
  <dc:subject/>
  <dc:title>Manažerská etika</dc:title>
</cp:coreProperties>
</file>