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945-9562-493C-A641-5824A4DF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57C-350D-4744-9644-17AB45B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718-F56E-499F-B4AB-D371188E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7F7-1161-47ED-A2EC-EB939DAA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A26B-F6BC-485F-8B24-832969AB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0A85-75C6-4927-8C13-E59FD6FE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941-CFCE-4E51-A154-FFE9BAC7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543-609E-40DD-A458-D371922D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9378-C561-4698-A855-913997FD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1261-615B-417E-BFB9-7F0E6EF5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3E52-9023-43F5-BB90-034FA77E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C09-79E8-45AF-B254-4E225BD0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8A7A-6E90-4CB1-8416-A0A1AC0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1E8F-03B1-498B-8B90-0D1B58D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752E-CE68-4AF5-9314-9C5399F2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2288-38D7-4B8D-87BF-DB95DB8A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EEAF-649C-40FD-8F58-8D029E5E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740-331F-4C65-B4A1-682D497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EB9-91AF-47AE-93A1-CD872FAC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676-45E7-40FF-BD77-740B7CB0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1CE-A6F5-42A9-A841-F9D54971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525-B348-481A-953E-A400B49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D6D-B75D-4255-ABE1-A6F8000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3A6-EA70-4676-9905-3423F17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48D1-1227-4053-941A-59663B05A32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23BD-A068-446B-9D6D-DB983B68ABA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tika podnikání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řízení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 tvorby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dělování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y pro etické chování podni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kvality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rativní výhoda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podniku za č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ální rozvoj podn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tupeň – amorál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tupeň – formálně-práv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upeň – společensky odpovědn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tupeň – eticky se rodíc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upeň – etick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eorie Stakehold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nikatelská organizace má širší odpovědnost než jen vůči svým vlast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současnosti se zvyšuje tlak na sociální (společenskou) 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keholders“ je skupina těch, kteří mají zájem na činnosti firmy, nebo-li skupiny participující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rim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o/velko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Sekund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ístní společen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í aktivi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chodní asoci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hraniční vlá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t a místní zastupite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ciální odpovědnost podniku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(CSR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ohledu podniku je třeba dbát nikoli o dosažení maximálního zisku, ale optimálního zisku, který vezme v úvah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chny principy udržiteln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nost v rozhodování, finančním hospodaření a personální poli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vný postoj v otázce lidských prá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členění etických norem nad rámec norem právních – „odpovědný obča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vody přijetí CSR firmam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ha vyhnout se vládním zásah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třeba seberegulace byznysu jako odpověď na jeho vzrůstající ekonomickou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měňující se vnímání byznysu ze strany veřej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kteristika CS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ři základní pilíř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oblast (etický kodex, protikorupční politika, ochrana duševního vlastnictv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ciální oblast (rozvoj lidského kapitálu, rovné příležitosti, lidská prá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vironmentální oblast (ochrana přírodních zdrojů, ekologická výrob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tnová, A., Seknička, P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tické řízení ve firmě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 : Grada, 2007. ISBN 978-80-247-1621-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uknič, A. Štvrtý rozmer podnikania – etika. Bratislava : Slovak Academic Press, 1994. ISBN 80-85665-30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nikatelská e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rofesní, aplikovaná, normativní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 vznik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inárodní 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y zdravého a dynamického roz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: po 2. světové válce v západních zemích – zlepšení kvality živ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ČR hlavně 90. léta např. Čisté r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konomické důvody naplňování podnikatelské etik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ížení transakční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íl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a posilování imag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ilování spokojenosti zákazní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loajalitě inves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ivace podnikatelské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zi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líčové hodnoty pro tržní ekonom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laté pravidlo morálky: Co nechceš, aby jiní dělali tobě, nedělej ani ty j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uroamerický  systém hodnot pro ekonomickou praxi pro řešení složitých etických probl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sahuje tyto hodnoty: svoboda, spravedlnost, odpovědnost, důvěra, pokrok, prosperita, racion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onomická svoboda: klíč k výkonné ekonomice, efektivnímu řízení, správě podniků a udržitelné míře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avedlnost: za stejných nebo podobných podmínek bude se všemi bytostmi jednáno stej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jednajících osob či organizací, jež se vztahuje následky takových činů, jimiž nebyla porušena právní forma, ale přesto došlo k narušení etických norem a hod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ástroje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dexy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z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cvik a vzdělávání v oblasti podnikatelské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a sociální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řad ombudsmana pro etiku ve fir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ýb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ncipy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onomický a sociální vliv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atelsk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ktování pravi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a mezinárodního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varování se nezákonných oper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významnější a nejpoužívanější nástroje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ká Británie – 50-60% společnost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R – 20% společ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vádění v době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lňuje zákonnou úpr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ozumitelnost a jednozna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eší vztahy se zákazníky, akcionáři, zaměstnanci, dodavateli, konkurencí, vlád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ké obsahové okruh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ktování prá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estnost a fér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pečnost a kvalita produk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utí diskrimi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tahy s 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rup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ální odpově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32:32Z</dcterms:created>
  <dc:creator>Hana Kubicova</dc:creator>
  <dc:description/>
  <dc:language>en-US</dc:language>
  <cp:lastModifiedBy>snoopy</cp:lastModifiedBy>
  <dcterms:modified xsi:type="dcterms:W3CDTF">2008-11-24T12:47:31Z</dcterms:modified>
  <cp:revision>8</cp:revision>
  <dc:subject/>
  <dc:title>Etika podnikání</dc:title>
</cp:coreProperties>
</file>