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379F729-DB48-45CE-BBAB-4EA9FECAE6A7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zaujímavého miesta, ktoré sa nachádza vo vašej kraj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Vložte mapu svojej krajin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Vložte obrázok niektorého zemepisného prvku vašej krajin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, ktorý zobrazuje ročné obdobie vo vašej kraj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zvieraťa alebo rastliny, ktoré sa vyskytujú vo vašej kraj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Na časovú os pridajte významné míľniky v histórii vašej krajin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em vložte obrázok znázorňujúci určitý zvyk alebo tradíci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hlavy štátu vašej kraji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ilustrujúci niektorú oblasť ekonomiky vašej kraji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621-37D4-4539-8EBC-55CCABA7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FB1-6D38-4143-9217-ECD6F570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2CE-727F-4DD6-BB56-6487E602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643-59E1-45DA-802B-6413406F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D04D-CBBE-4604-87D2-5F820AD8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80D1-3F74-4AFF-93D2-6AA02AD8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26DD-3F7D-4C80-8953-AAF34ECE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1627-B949-4D75-B978-C4A2D201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0F4E-1C09-4250-9F13-89839C1E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203C-9191-4422-8790-54999A30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9A5B-D229-4EEF-971B-16DFC4B4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8BC-FD0F-49FD-88A3-9E4B508B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E36D-7429-4FB7-BBB4-8FF0AAC3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5BD1-AD95-4F6C-A772-9E818F8E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F285-7B00-44EE-8009-34D888E7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4DD7-9F20-4558-98A4-CC4A7E9E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6210-A2AE-4A61-A447-6C7715E7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FF4E-5842-4DE1-BCA0-8270EEE0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916-456E-4BDD-BA12-4B6596F5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CF21-6F9C-4E06-AC74-D6C20016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BBB-4F9D-4E6A-AA2D-188E4C88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64B-FB88-445E-8581-CF31DFB3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3AA-F407-428E-BDF8-F778E995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3A9-DC81-4E35-9CE9-03829C93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0CBB-36FF-4F54-9C17-82290BD3F736}" type="slidenum"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9C1E-74CD-4FC3-A0E1-CF1DB29DB340}" type="slidenum"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08000" y="189000"/>
            <a:ext cx="5435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entury Schoolbook"/>
              </a:rPr>
              <a:t>Interkulturní management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16000" y="4184280"/>
            <a:ext cx="49467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Michal Dančiši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Martin Ďube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Tereza Koklar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42560" y="1304640"/>
            <a:ext cx="626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Holandský manažer s mezinárodními zkušenostm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na základě modelů G. Hofsteda, E.T.Halla a dalších autorů a s ohledem na své vlastní zkušenosti rozvinul vlastní model kulturních dimenz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kulturní rozdíly vznikají ve třech základních oblastech život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ostoji lidí k času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jich postoji k přírodě 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jich postoji k ostatním lide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 těchto oblastí odvodil následující dimenz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Fons Trompenaa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niversalismus/partikularism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eutrální/afektiv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pecifické/difuz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osažený status/připisovaný stat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rientace na přírod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rientace v č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Kulturní standardy podle Alexandra Thoma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standardy představují konkrétní sociální normy, které jsou příslušníky kultury sdíleny a závazně respektován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jsou měřítkem toho, co je v určité kultuře považováno za normální, obvyklé, typické a akceptovatelné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určují přípustnou míru tolerance od jiných standardů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zřetelnými se stávají až v interakci s příslušníky jiné kultur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lze je proto identifikovat a interpretovat až v procesu konfrontace dvou nebo více konkrétních kultur (jejich charakteristiky platí opět jen pro tyto srovnávané kultury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nepředstavují univerzální škálu, ale výsledky porovnávání konkrétních kultu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Řešení a zvládání interkulturních rozdílů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ozdíly v kulturních standardech se stávají zdrojem mnoha nedorozumění a často i bariérou vzájemné spoluprá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lze nabídnout poměrně jednoduchý postup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zí kulturu je třeba dobře zná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zí kulturu je třeba respektov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vztahu k cizí kultuře je třeba učinit vstřícné kro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Strategie řešení podnikové multikultura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ominance – přizpůsob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oučinnost – komprom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oučinnost – kombinace a integr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novace, synerg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dmítnu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manage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edení pracovník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ření na pracovník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ření na úkol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3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ovení a sjednání cí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od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problém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motivujících pracovních   podmíne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České kulturní standar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rientace na vztah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dceňování struktur / láska k improviza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imultán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ntrola orientovaná na lid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zájemné prolínání různých oblastí života a aspektů osob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ilný komunikační kontex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hýbání se konfliktů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lísavá sebejisto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2781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Děkujeme za pozorno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Použitá literatur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560" y="2060640"/>
            <a:ext cx="77058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ový, I.,Schroll-Machl, S. a kol.: Interkulturní komunikace v řízení a podnikání, Praha 2003, Management Pr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ový, I., Schroll-Machl, S. a kol.: Spolupráce přes hranice kult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6697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Základní literatura, autoř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komunika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Kulturní dimenze a standar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Řešení a zvládání interkulturních rozdíl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manage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České kulturní standar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07160" y="2666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25360"/>
            <a:ext cx="81010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Interkulturní komunikace v říz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podnikání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7274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Ivan Nový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fesor na VŠE v Praz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ientuje se na problematiku psychologických a sociologických aspektů podnikového a personálního řízení a interkulturního managementu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bývá se poradenskou a vzdělávací činností (Škoda Auto, Volkswagen, Bosch…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ylvia Schroll-Mach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náší interkulturní komunikaci na Wirtschaftsunivers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 ve Vídni a v Regensburg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řuje se na interkulturní poradenství a na vzdělávání a výcvik manažerů (Siemens, Hewlett-Packard, Audi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lektorkou v Hernstein International Management Institu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komunika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5041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roblém interkurturní komunikace nespočívá jen v dokonalé znalosti cizího jazyka a schopnosti orientovat se v jeho odborné terminologii. Úspěch závisí i na dobré vzájemné znalosti kultury a zejména kulturních odlišností partnerů….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..podmínkou uvědomění si kulturních rozdílů je však i dokonalá znalost sebe sama, tedy kultury vlastní,…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75480" y="263196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5053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Sociální percep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5400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Percepce – proces vnímaní, ve kterém lidé prostřednictvím svých smys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 přijímají informace z okolního prostředí a zpracovávají je za účelem jejich interpreta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 rozvoji vlastních percepčních dovedností člověka je porozumění procesu interpersonální percepce, v kt. se uplatňují především 3 komponenty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nímajíci osob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nímaná osob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Situační kontex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Vnímající osob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70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Ov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něna zkušenostmi, motivačními zaměřeními a emocionál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m stavem jedin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Percepční obrana – jedinec „nevidí, neslyší“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Vnímaná osob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0481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511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nímaní druhého člověka je ov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něno těmito faktory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Fyzický vzhled, vnější úprav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erbální/neverbální projev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Sociální statu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Chován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Domnělá či skutečná shoda s pozorovatele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Míra nejednoznačnosti či „nečitelnosti“ pozorovaného člověk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Sociální a kulturní prostřed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ýsledky jeho činnost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Situační kontex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4681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Doplňuje informace, které máme o objektu vnímaní a ovlivňuje jejich interpretac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ČR – vysoký komunikační kontext. Oproti kulturám s nízkým komunikačním kontextem tak 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že být verbální stránka komunikace podstatně úspornější – tím však vznikají značné komunikační problémy a nedorozumnění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Kulturní dimenz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6913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průkopníkem Holanďan Geert Hofste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v roce 1980 vytvořil dotazník, který byl přeložen do 20 jazyků a použit v 53 zemí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účelem bylo zkoumat tzv. pracovně orientované hodnotové představ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závěr: je možné rozlišit 4 kulturní dimenze (později je rozšířil o další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rozpětí moci v hierarchi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individualismus/kolektivismu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vyhýbání se nejistotě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maskulinita/feminit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louhodobá orienta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48:58Z</dcterms:created>
  <dc:creator>Martin</dc:creator>
  <dc:description/>
  <cp:keywords/>
  <dc:language>en-US</dc:language>
  <cp:lastModifiedBy>terka</cp:lastModifiedBy>
  <dcterms:modified xsi:type="dcterms:W3CDTF">2008-12-01T21:14:08Z</dcterms:modified>
  <cp:revision>3</cp:revision>
  <dc:subject/>
  <dc:title>Interkulturní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51</vt:lpwstr>
  </property>
</Properties>
</file>