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851-F5CE-4180-8927-6B11CABE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C21-4D49-4433-B506-66600A97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B45-99D5-4A5B-BD73-0C74ED82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6B4-9FF3-4536-87FA-31B23D16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A4823-62F5-494D-9831-BC36D690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85225-7B33-4FE1-9000-C7273437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2EA26-855F-4D5C-851F-9D272C01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55480-0EB4-421B-B692-3359B52B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4A049-6EEF-460A-BECF-39444CF5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ED802-4316-403E-AD01-9F3690B8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AE38A-F001-48C8-9A6B-6834C664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F8F-0C8D-4EAA-B622-BAEFBF25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168B2-6413-4604-A6A7-9EACD82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584E4-8ADA-402A-9467-F9495FD6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2D484-C55C-4C27-A2CA-39AFF6C8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87B9F-840E-4C50-9CB7-4C3709C3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9A7F0-D5FA-47AD-9F35-E5ACF401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DDA6-B540-4D9C-A585-166E0724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C19B-34B8-4FE9-9749-C562A885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D308-4EAC-46A9-92E1-EA216626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D916-B691-4DF2-B73A-086F655B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0F75F-499F-4CF3-8B7C-31982524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2D2-DFB3-4E31-99D2-AD38AFDB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7758B-B8FC-4249-B371-29D18EE6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F3C24-D708-4D69-9F65-D2D28EF1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F08A-1A0D-4F6F-AF19-04183F3E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C225-D9CC-4FD1-86A6-2E608436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6458D-2B51-44C7-A6BB-D025AD55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C0054-48AA-40F1-A7FC-3BCD951C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B6F8-A072-4F67-86C3-45D46639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191-3E11-4341-9495-32C97148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29B-0E7D-4291-B71A-B0014A9E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909-D1C5-41B3-AA03-66853D63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BD6-ACFB-42B4-83D3-0D7686E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4FF-479A-401C-884B-239157CA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831-816D-4C6B-A312-3FC2C148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7B8B-7389-41DC-ABB0-CF1D43CFD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3ABB-3C53-4FA5-94A7-74BE0399B5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4B37-DADF-4A72-9DA9-48605EF01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ate2biotech.cz/podnikova-kultura/" TargetMode="External"/><Relationship Id="rId2" Type="http://schemas.openxmlformats.org/officeDocument/2006/relationships/hyperlink" Target="http://www.gate2biotech.cz/podnikova-kultura/" TargetMode="External"/><Relationship Id="rId3" Type="http://schemas.openxmlformats.org/officeDocument/2006/relationships/hyperlink" Target="http://www.gate2biotech.cz/podnikova-kultura/" TargetMode="External"/><Relationship Id="rId4" Type="http://schemas.openxmlformats.org/officeDocument/2006/relationships/hyperlink" Target="http://www.gate2biotech.cz/podnikova-kultura/" TargetMode="External"/><Relationship Id="rId5" Type="http://schemas.openxmlformats.org/officeDocument/2006/relationships/hyperlink" Target="http://www.gate2biotech.cz/podnikova-kultura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"/>
              </a:rPr>
              <a:t>Interkulturní manage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MCj04347500000[1]"/>
          <p:cNvPicPr/>
          <p:nvPr/>
        </p:nvPicPr>
        <p:blipFill>
          <a:blip r:embed="rId1"/>
          <a:stretch/>
        </p:blipFill>
        <p:spPr>
          <a:xfrm>
            <a:off x="7086600" y="5105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mezená platnost motivačních teori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různých kulturách si lidé spojují potřeby s různými hodnota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tivismus x individu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ob enrichment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tivis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ká snaha vyhnout se riziku a nejisto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álenost mocenských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fli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ká mocenská vzdálen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ryté konflikty jsou norm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lupracovníci nejsou ochotni si navzájem věř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á mocenská vzdálen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cké vzta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á se, že kolegové jsou ochotni spoluprac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ká snaha vyhnout se nejistot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flikty nežádoucí, soutěživost vnitřně neschvaluj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mají zájem na kompromis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á snaha vyhnout nejisto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flikty přirozené, soutěžení jako spravedlivé a správ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hotnější ke kompromis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interkulturním jednání musíme zvážit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tický a právní plural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zahraničních vlá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tcké a ekonomické změ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deologické a kulturní rozdí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ím dlouhodobější je spolupráce, tím podrobnější informace potřebuje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ní, politické a ekonomické in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rastruk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ovní s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lturní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kolnosti vlastního jedn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České podnikové prostředí jako součást interkulturního management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eská organizační a pracov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ákladě výzkumu V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 základní dimenz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) racionalita X emocionalita v podnikové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ak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) vnitřní X vnější přijetí org. nor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nedo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ochota přijímat 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odobá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ologie českého zaměst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itý furian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da obor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vý kamarád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ormní suchar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počítavý konformista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řízený X podřízen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ční probl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la“ – nesebevědomí, podřízený, pas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tický komentátor“-respekt, pomlouvá, více sebevědom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peř“ – sebevědomý, konfrontace, hledá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yby nadřízený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mítání návr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ceňování dobrých vzta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rana osobních po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ostatek sebekri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ativní jed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chopnost naslou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átkodobá orientace v českém prostře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y a sny – většinou v osobní rovině (dovolená, kariéra, moc, prof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ýdenní, roční cy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ce = příležitost X zdroj problé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rovi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) osobní klid a stabi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krátkodobost časových horizo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rozporuplný vztah k práci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rvozita, nejisto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žerům je vytýkána neschopnost řídit se vzdálenějšími vizemi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niková k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9640" y="1773360"/>
            <a:ext cx="3888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louhé komunikační kan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Špatná integrace zaměstna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nejde příkla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soká adaptabi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pnost improv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6360" y="1628640"/>
            <a:ext cx="4032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jí význam narostl koncem 70.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liv konkurenčních produktů ze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entace na úspě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aže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kace se společ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16360" y="4005360"/>
            <a:ext cx="381636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soká produktivita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ovace v technologi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ůraz na kvalitu a vý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remní identita (dlouhodob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senzus, loaj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amová odpově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4005360"/>
            <a:ext cx="410364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tuály ve styku se zaměstn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ásady jednotného vedení a postu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vyklosti v oblék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notné ztvárnění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tuály ve styku se zákaz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niková kultura mezinárodních fi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centr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 každé zemi specifická sub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iná 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centr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azení hodnotových systémů společných vš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ystém hodnot, postojů a názorů, které jsou specifické pro danou zemi/skupinu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livňuje chování lidí v předvídatelných směr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naučená, předávaná rodiči a společ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rozhodování nadnárodních společností ovšem není jediným faktorem: poptávka, ekonomické faktory, právo, 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ální vzta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9640" y="177336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Opatrné, dlouhé navazování s.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Osobní a pracovní vztahy se prolínají (zvýhodňování, korup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ztahy mají své l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áruka dodržování sml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4005360"/>
            <a:ext cx="4032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dměřenost ve vzájemných vztaz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triktní oddělení prac. a osob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rovnost mezi nadřízeným a podřízený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162864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ká otevřenost (neupřímn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ně formální vzt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livost na problematiku sexuálního obtěž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4005360"/>
            <a:ext cx="388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elativně dlouhé navazování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partnerských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řeba získání důvě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rizontální možnost rozv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Široká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ost a prezentování úspěch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1628640"/>
            <a:ext cx="3959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ální nezávis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or pro plně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uví o svých úspě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soké sebevědo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628640"/>
            <a:ext cx="3888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íce direktivní způsob vedení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ntrola samostatné iniciati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endence nechat si věci schva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Čekají až je pochvá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Malé sebeprosaz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4005360"/>
            <a:ext cx="388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áce v tým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olečná odpovědnost i prezentace úspěchů (ne já ale 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konomie ča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1628640"/>
            <a:ext cx="39592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ak na efektiv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chlá 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nání a porady zbytečně neprotah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lišné pojetí pracovní doby (24/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628640"/>
            <a:ext cx="3888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aké poměrně dochvi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olerované zpoždění 5-10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íp. „akademická čtvrthodinka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poždění nad půl hodiny- již nespěc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endence o(vy)mlouvat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dmíra spěchu = 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005360"/>
            <a:ext cx="3888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elmi přesní (puntičkář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a schůzku se dostaví spíše s předsti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triktně ohraničená prac. 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šeobecně rigidní pracovní trh (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005360"/>
            <a:ext cx="38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ům. 2000 h za rok (Korea 23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ízká omezení prac. d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erfektní dochvi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Hlavní devíza ekon. rozvo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é úkoly a jejich dele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16360" y="1628640"/>
            <a:ext cx="395928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vé úkoly vnímají jako výz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soká přizpůsobivost zákazník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:získat prac. příležit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 není problé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žná delegace úkolů - cont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1628640"/>
            <a:ext cx="388800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ava z nejist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ují mít všechny prostředky, dovednosti a znalosti ke spl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havost = malá přizpůsob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dí jen překáž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3933720"/>
            <a:ext cx="40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ádi postupují podle ověřených met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16360" y="4005360"/>
            <a:ext cx="3816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lektivní odpovědnost prac. sku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zájemná kontrola ve skup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stupná delegace podle zaběhnutých mod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žerské prak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ectangle 15" descr=""/>
          <p:cNvPicPr/>
          <p:nvPr/>
        </p:nvPicPr>
        <p:blipFill>
          <a:blip r:embed="rId1"/>
          <a:srcRect l="0" t="6381" r="0" b="1276"/>
          <a:stretch/>
        </p:blipFill>
        <p:spPr>
          <a:xfrm>
            <a:off x="1908000" y="1197000"/>
            <a:ext cx="5543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ie „Z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Rectangle 15" descr=""/>
          <p:cNvPicPr/>
          <p:nvPr/>
        </p:nvPicPr>
        <p:blipFill>
          <a:blip r:embed="rId1"/>
          <a:srcRect l="0" t="13943" r="0" b="9295"/>
          <a:stretch/>
        </p:blipFill>
        <p:spPr>
          <a:xfrm>
            <a:off x="1174680" y="1628640"/>
            <a:ext cx="796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Ý, I., SCHROLL-MACHL, S. a kol. Interkulturni komunikace v řízení a podnikání. Praha : Management Press, 199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AD, R. International management: cross-cultural dimensions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ambridge : Blackwell, 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FSTEDE, G. Kultury a organizace: software lidské mysli. Praha : Linde, 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gate2biotech.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z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odnikova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-kultura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http://www.e-vzdelavani.cz/public/demo_pk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http://www.mesec.cz/clanky/pracovni-doba-v-cesku-a-ve-svet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ůležitost interkulturního managemen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upající počet nadnárodních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avatelé i odběratelé z celého svě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ulturní standardy podle Gerta Hofstede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ká, resp. malá snaha vyhnout se riz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dálenost mocenských poz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ra individualismu, resp. kolektiv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vaha maskulinních, resp. femininních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átkodobá, resp. dlouhodob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skalí koncepce kulturních standar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kce složité sociální a kulturní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kcí dvou kultur může vznikat specifická forma nové společné kul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tečnosti které kulturní standardy neobsahují – doba trvání, intenzita, dobrovolnost vzájemného kontakt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Řešení a zvládání interkulturních rozdí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ře znát cizí kul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ktovat cizí kul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init vstřícné kr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 mezinárodních organizacích téměř nezby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ročný na čas a peníze, vyžaduje hodně úsilí a určité schopnosti manaž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y je lepší ignor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dyž manažer nemá dostatek schopno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ízení nepřinese žádné, popř. minimum pozitivních důsled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ura ovlivňu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kturu společn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ční kultu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ztahy, komunikaci, motivován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191120" y="4662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ní jediným fak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é pobídky odráží hodnoty v dané kultuř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jišťování potřeb vždy založit na analý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ura je opět jen jedním faktorů působících na motivační struktu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ědičnost, ranný vý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hlaví, věk, vzdělání, ekonomický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kuš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ovní faktory a specifika se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rodní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vrhování motiváto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ie, individuální rozvoje a postup - individualistická kul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áležitost – kolektivistická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álost pracovního prostředí a jistota práce - kultura s velkou snahou vyhnout se nejistotě a riz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ležitosti k týmové spolupráci - kultura s menší vzdáleností mocenských poz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ovní podmínky, vyhovující pracovní doba - femininní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vádění odměn za individuální úspěchy nevhodné v kolektivistické kultu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výšení ženy na vedoucí pozici v silně maskulinní kultuře - probl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lim</cp:lastModifiedBy>
  <dcterms:modified xsi:type="dcterms:W3CDTF">2008-12-01T11:21:4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