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955-C06C-43F0-852F-121AC272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A3F-9724-4DBD-AC2A-9B56B3D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453-3CDC-42D8-9B2E-D255F86C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970-9AC6-48A9-8995-3793D7A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03BE-3FE4-47E7-9F2D-C512EED4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A453-B588-4B2C-B478-454E2656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EB13-B367-4D9B-89D6-7BB04F34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DB7F-CD18-4E34-B905-57E7A1F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1243-1625-49DC-B52B-0D081BCF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0F55-98E5-4145-9905-F34AD35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0403-FE5D-45E6-BDDD-0A0581B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153-65E5-4DD4-ABD7-5E2B930E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5D97-25E8-407F-AFA5-11B7E01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7B29-1FE8-4ADB-AD72-C58D352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6E70-E669-428C-ABE7-AA6A4D7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101-0F25-45FB-9F07-781CA64D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BFD-8B5B-490F-B33B-773A4BD5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77A-4D87-4781-8CD2-77B620D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479-744A-409A-A335-E4676F5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371-61CF-4A4D-8CBC-159D81F8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555-7DA1-4CDB-92D6-C1BF7161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71C-C1CA-46AD-A58B-98FDB13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431-5E66-4580-92C6-DCBA24A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86D-26F1-420E-93B8-3275B60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FA1-1930-4418-B08C-5D1B621353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603-C693-4ED6-B542-6C94BA112E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27280" y="450828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Michal Plač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ndřej Roudnic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uraj Podhrads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vlivu prostředí a reakci organizace na prostředí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utoři: T.E.Deal a A.A.Kene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604836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tendencím v chování 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rganizace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ompasový model W.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832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val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Hloubk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ozlišit individ. názory a odpověďmi s odkazem na org. kul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kupin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eduková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Analýza dokument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doplněk k ostatní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rojektivní metody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nedokončené věty ap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še bez předem zvolených kritérií hodnocen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vant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taz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rozhovor nebo dotazní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y mají standardizovanou podobu – užívány jednotné podněty, u dotazování předem připravené otázky, případně možnosti odpovědí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ílem je změřit četnost výskytu určitých znaků =&gt; nutnost volby znaků relevantních pro obsah kultur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Cíle analýzy org. kultury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funkčnost OK ve vztahu k výkonnosti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obsah OK ve vztahu ke zvažovaným strategiím firm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kompatibilitu OK s OK jiných organizací – při plánování fúze apo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77a4af"/>
                </a:solidFill>
                <a:latin typeface="Garamond"/>
              </a:rPr>
              <a:t>Utváranie žiadúcej organizačnej kultúry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ostup utvárania 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Rizik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Nové“ výzvy pre OK českých firi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Postup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rečo utvárať novú OK? (Armstro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roky utvárania O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Jednoznačná a dlhodobo udržateľná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Očakávanie firmy voči zamestnanco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Fyzická podoba (jeden dokum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Poznanie aktuálnej OK (zníženie nákladov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Informovanie a vzdelanie zamestnanco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Kontrola a sankc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Diagnostika zmien v kultúre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Riziká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jednej zrozumiteľnej stratég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Miera kontinuity/diskontinu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ostatočná operacionalizácia očakávaní voči zamestanan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previazanosť novej OK s jednotlivými činnosťami v podnik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mocenského promotora zmen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ôslednosť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konzistentnosť OK a N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„</a:t>
            </a: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Nové“ výzvy českým firmám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orientovaná na zákazník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kvalit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inováci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orientovaná na zákazník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ržná (nie výrobková orientáci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Marketingová (tržná) O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zorec zdieľaných hodnôt a názorov, ktoré pomáhajú jedincovi chápať funkciu marketingu a poskytujú mu normy správania sa.“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16280" y="1585800"/>
            <a:ext cx="4032360" cy="4464000"/>
            <a:chOff x="4616280" y="1585800"/>
            <a:chExt cx="4032360" cy="4464000"/>
          </a:xfrm>
        </p:grpSpPr>
        <p:sp>
          <p:nvSpPr>
            <p:cNvPr id="156" name=""/>
            <p:cNvSpPr/>
            <p:nvPr/>
          </p:nvSpPr>
          <p:spPr>
            <a:xfrm>
              <a:off x="4616280" y="1585800"/>
              <a:ext cx="4032360" cy="44640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2924280"/>
              <a:ext cx="1008000" cy="1728720"/>
            </a:xfrm>
            <a:prstGeom prst="triangle">
              <a:avLst>
                <a:gd name="adj" fmla="val 100000"/>
              </a:avLst>
            </a:prstGeom>
            <a:solidFill>
              <a:srgbClr val="b9c4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723640" y="2997360"/>
            <a:ext cx="1008360" cy="1655640"/>
          </a:xfrm>
          <a:prstGeom prst="triangle">
            <a:avLst>
              <a:gd name="adj" fmla="val 10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80000" y="1483200"/>
            <a:ext cx="2952720" cy="3024360"/>
          </a:xfrm>
          <a:prstGeom prst="triangle">
            <a:avLst>
              <a:gd name="adj" fmla="val 5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85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628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0520" y="22050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Ľudia na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í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880" y="285264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re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až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520" y="35002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jem „KULTURA“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cifický způsob organizace, realizace a rozvoje činností, objektivizovaný ve výsledcích fyzické a duševní práce.“ [Velký sociologický slovník, 1996, s. 547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kvalitu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podnikových štandardo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IS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TQM </a:t>
            </a:r>
            <a:r>
              <a:rPr b="0" i="1" lang="sk-SK" sz="2800" spc="-1" strike="noStrike">
                <a:solidFill>
                  <a:srgbClr val="000000"/>
                </a:solidFill>
                <a:latin typeface="Garamond"/>
              </a:rPr>
              <a:t>(Total Quality Managemen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inováci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ypy inovácií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Technologick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ýrobkov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Poskytovaných služieb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Organizačn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03640" y="1916280"/>
            <a:ext cx="0" cy="30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501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722760" y="32734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pacita pre z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240" y="501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pä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133720"/>
            <a:ext cx="2737080" cy="2663640"/>
          </a:xfrm>
          <a:custGeom>
            <a:avLst/>
            <a:gdLst/>
            <a:ahLst/>
            <a:rect l="l" t="t" r="r" b="b"/>
            <a:pathLst>
              <a:path w="1588" h="1641">
                <a:moveTo>
                  <a:pt x="0" y="1641"/>
                </a:moveTo>
                <a:cubicBezTo>
                  <a:pt x="230" y="828"/>
                  <a:pt x="461" y="16"/>
                  <a:pt x="726" y="8"/>
                </a:cubicBezTo>
                <a:cubicBezTo>
                  <a:pt x="991" y="0"/>
                  <a:pt x="1444" y="1331"/>
                  <a:pt x="1588" y="15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Organizační kultura : od sdílených hodnot a cílů k vyšší výkonnosti podniku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Lukášová, R.; Nový, I.; a kolektiv., Praha : Grada, 200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Marques, C.; Jirásek, F., Praha : Bankovní institut, 1996.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elký sociologický slovník. I, A-O.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Sociologický ústav (Akademie věd ČR) Praha : Karolinum, 1996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Synergický management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PLAMÍNEK, J., Praha : ARGO, 200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Děkujeme Vám za pozornost !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árod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rganizač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Pojem „ORGANIZAČNÍ KULTURA“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podniková kultura je soubor hodnotových představ a norem chování, který je produktem managementu podniku a ovlivňuje základní postoje zaměstnanců podniku (je všeobecně přijímán a udržován), projevuje se ve všech oblastech jeho života (…) podniková kultura závisí na podniku samotném, na tom, jak si ji podnik určuje, jak rozšiřuje a kontroluje chování svých zaměstnanců a každodenní normy, které považuje za žádoucí (…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. [MARQUES, F.; JIRÁSEK, F., 1996:248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cheinův model organizační kultu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rtefak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astávané hodnoty, pravidla a normy chová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sah a síla kultu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1722600"/>
            <a:ext cx="3558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ržního prostřed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profe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zakladatele/vůd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velikosti a délky existence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echnologi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Strategie =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 Kultur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Kultura =&gt; Strategi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Vztah k organizační struktuř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Garamond"/>
              </a:rPr>
              <a:t>autoři: R. Harrison a Ch. Hand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Garamond"/>
              </a:rPr>
              <a:t>4 základní typy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moci – dominantní jedine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rolí – založena na pravidlech a normá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úkolů – orientace na úko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osob – členové jsou samostat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0:38Z</dcterms:created>
  <dc:creator>Ondra</dc:creator>
  <dc:description/>
  <dc:language>en-US</dc:language>
  <cp:lastModifiedBy>***</cp:lastModifiedBy>
  <dcterms:modified xsi:type="dcterms:W3CDTF">2008-11-24T21:31:25Z</dcterms:modified>
  <cp:revision>6</cp:revision>
  <dc:subject/>
  <dc:title>Vztah k organizační struktuře</dc:title>
</cp:coreProperties>
</file>