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19D-C103-46F5-B1FB-90677A39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899-C884-4E5E-8A6F-3BFBFBBD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3D4-A022-49E3-9AA2-9A1679C4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59F-B5E6-441E-BC67-C2B43AFB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AEC7-BC4C-4867-855A-0D596F0A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4690-6DC0-4AC0-8E06-BD7F940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31BC-9F23-4D7C-95C6-1B00C5F9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DA67-2312-4783-A463-CB3D86F2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D7BB-B947-4098-86C2-55CE3222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30A0-5916-4040-92F8-10E97A8B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EEA5-F108-436C-83D9-A4A2E482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2A4-7FDF-49CA-B72F-451D60EF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43E1-C46F-4CE9-9EEA-C494AC8D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EE27-0EFC-4F9A-B986-C108CCB8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3392-69D5-4C61-B83C-AEE96054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4440-A046-4564-A941-34C97727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ADE9-7976-44AE-A77E-59EC95D4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051-64F1-4379-B5B8-DCA9D8C7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582-3641-4843-AED9-E3E477F2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D38-BA0F-4D77-AEEE-47AEE724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956-C44A-48AB-87C0-EF24B71B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51D-E016-474A-87F5-65A9AD66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9E0-5268-43BB-994E-E4E40229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554-C90B-46A8-94FC-FED2BFBA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2A0D-C9AC-4E19-B1EB-4961AAA13F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21C0-4F1B-4384-A2A4-B76FBE2EF8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modernirizeni.ihned.cz/1-10024700-14172980-600000_detail-02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Management pro 21. století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yňek Jančů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Působnost managementu je politicky vymezena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ácí ekonomika vymezená národními hranicemi představuje životní prostředí institu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a současnost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my s celosvětovou působností své nejvýznamnější činnosti  stále více přesunují do centrál, které potřebnou práci zajišťují pro všechny členy skupin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ěkteré společnosti již nejsou vůbec organizačně členěny na „domácí“ a „mezinárodní“ jednot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ranice managementu a hranice národních států se už neshodují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ranice národních států jsou důležité především jako omezující fakto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žerskou praxi bude třeba ve větší míře vymezovat spíše z provozního než politického hlediska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Management je interně orientován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Doménou managementu je interní prostředí organizace → měl by se zabývat pouze vynaloženým úsilím (nebo jen náklady)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Vysvětlení rozdílu mezi managementem a podnikatelstvím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Arial"/>
              </a:rPr>
              <a:t>Realita podle Druckera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Jakákoliv instituce, která neinovuje a nepočíná si podnikatelsky dlouho nepřežij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Management se musí soustředit na výsledky a výkonnost organizace →organizovat zdroje organizace k dosažení výsledků mimo organizac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smyslem managementu jsou výsledky dané instituce, umožnění produkování výsledků ve svém vnějším prostředí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právný styl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rávný styl řízení je takový, který zajišťuje splnění strategických cílů podni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nikající firmy nic neomlouvají, nic nezdůvodňují. Od nich nikdy neuslyšíte, že se jim nedařilo, protože vývoj ekonomiky byl proti nim. Jednoduše dělají všechno pro to, aby byly úspěšné"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'Neill, bývalý ministr vlády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tyly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rita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triarch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u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rad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opera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legu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nom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2205000"/>
            <a:ext cx="1079640" cy="3456000"/>
          </a:xfrm>
          <a:prstGeom prst="upDownArrow">
            <a:avLst>
              <a:gd name="adj1" fmla="val 50000"/>
              <a:gd name="adj2" fmla="val 63725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805360"/>
            <a:ext cx="1944720" cy="503280"/>
          </a:xfrm>
          <a:prstGeom prst="rect">
            <a:avLst/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ěk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1557360"/>
            <a:ext cx="1944720" cy="503280"/>
          </a:xfrm>
          <a:prstGeom prst="rect">
            <a:avLst/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rd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aponské metod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ní v módě propagovat autoritativní sty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pulární „japonské metody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ezentovány jako typicky konsenzuál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tomu ta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z pra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2349360"/>
            <a:ext cx="936360" cy="1224000"/>
          </a:xfrm>
          <a:prstGeom prst="downArrow">
            <a:avLst>
              <a:gd name="adj1" fmla="val 50000"/>
              <a:gd name="adj2" fmla="val 32680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řístup k pracovníkům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ný tvůrčí stres je pozi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. Selly, tvůrce teorie stresu: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se dělí 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ychlé kon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íné želv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216200">
            <a:off x="5866920" y="3860280"/>
            <a:ext cx="936720" cy="1150920"/>
          </a:xfrm>
          <a:prstGeom prst="upArrow">
            <a:avLst>
              <a:gd name="adj1" fmla="val 50000"/>
              <a:gd name="adj2" fmla="val 30717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20353200">
            <a:off x="4572000" y="3860640"/>
            <a:ext cx="936720" cy="1150920"/>
          </a:xfrm>
          <a:prstGeom prst="upArrow">
            <a:avLst>
              <a:gd name="adj1" fmla="val 50000"/>
              <a:gd name="adj2" fmla="val 30717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6040" y="5157720"/>
            <a:ext cx="78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ký, vlídný, ale neúprosný nátl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řístup k pracovníkům 2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3120" y="5157720"/>
            <a:ext cx="7761240" cy="9471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ínské přísloví: „Zastřelením jednoho vychováš stovk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1844640"/>
            <a:ext cx="7761600" cy="13737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. Hammer: „Odhodlaně prosazujte disciplínu a týmovou práci.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iřte se s faktem, že ne všichni to pochopí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3933720"/>
            <a:ext cx="7761600" cy="5205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nízda odporu musí být zlikvidová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Zásadní vlastnosti top managera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maximálně zvídav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uje odbornou literatu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 cit pro nov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uje vizi firmy a její strategické cí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 odvahu k iniciování a realizaci změ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ochoten podstupovat přiměřená až vysoká rizi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schopen vést své spolupracovní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kolí své spolupracovní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odborník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Zásadní vlastnosti top managera 2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tenzivně oboustranně komunikuje se svými spolupracovník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středí své úsilí a aktivity na důležité problé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ládá rychlost za důležitý atribut soudobého říz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lánuje své aktivity na delší obdo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á dobré nervy a dokáže zvládnout st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disciplinovaný a vyžaduje disciplínu i od ostatní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měřuje se především na úspěch a nikoliv na to, jak se vyhnout neúspěch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chotně si bere práci naví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Vůdcovství vs.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tšina z nás se tak zamilovala do leadershipu (vůdcovství), že management byl odsunut do pozadí… vraťme se k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rému dobrému říze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. Mintzberg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a paradigmata managemen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pro 21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y firem po roce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Firma 21. stolet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Jsou jen dva typy firem. Ty, které se změní a ty, které zmizí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. Kot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ak se mají firmy změnit?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izace či decentraliz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sná organizační struktura či volnější procesní říze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usit se nalézt úplně nový styl říze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lezení odpovědí na tyto otázky a umění je použít rozhodne o budoucnosti (nejen) českých fi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Změny po roce 2000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ný převis nabídky nad poptávkou ve všech odvětví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ční výstavba po celém světě (především v As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á zákaznická ekonomika =&gt; zákazník už není náš pán, stává se z něj diktá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Vedoucí tendence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at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uperturb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lektu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niatur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manit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kolog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sledná orientace na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ým svým chováním a aktivit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í vyvolávat nové potřeby zákazní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mýšlet nové produkty, inovace (úspěšná firma uvádí na trh nové produkty, které pokryjí nejméně 20% celkových trže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í se výrazně odlišit od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ný top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ídí firmu na základě jasně formulované strategie (vize, strategické cíle a oper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ákladem jsou znalosti, jejichž rozšiřování dále zajišťuje, a které předstihují znalosti zákazníků i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muje hranice útvarů =&gt; centrum sdílených znalost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čelná centr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y procesy ve firmě musí být prováděny pouze jednou =&gt; centrum sdílených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existují žádné strategické podnikatelské jednotky (závody, div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ce se stakeholdery: budování kvalitních vztahů s okolím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ocesní kultur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ma provádí pouze ty činnosti, které dokáže nejlépe a nejlevně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tivity = procesy prostupující různými organizačními út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management řídí procesy, ne jednot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ždý proces má svého koordinátora, který odpovídá za celý pro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otřebné procesy jsou nelítostně ruš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a provádění se snižu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Informační systém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zaměřen směrem ven a na budoucnost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ožní sledovat náklady a efekty každé aktivity a každého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hčuje a zrychluje interní komunik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EK, Z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Firma 21. století : (předstihněme nejlepší!!!)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aha: Professional Publishing, 2005. ISBN 80864198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RÁSEK, J.A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genda příštích le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raha: Profesional Publishing. ISBN 80869460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http://modernirizeni.ihned.cz/1-10024700-14172980-600000_detail-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CKER, P.F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ýzvy managementu pro 21.století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ah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 Management Press. 2000. ISBN 807261021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misy, paradigma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= determinují co se v oboru považuje za fak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tvoří paradigm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digma = všeobecně převažující teori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zdory jejich významu jsou jen zřídka kdy analyzová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případě společenských premis neustálé změny X premisy přírodních vě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misy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čáteční premisy managementu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nagement jako vědecká disciplín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= podnikový manageme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uje – musí existovat – jediná správná organizační struktu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uje – jediná správná metoda řízení lidí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axe management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ologie, trhy a koneční uživatelé jsou da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ůsobnost managementu je právně vymezen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je interně orientová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konomika definována hranicemi národního státu je „životním prostředím“ podniku a jeho managementu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 současnosti nepoužitelné – odtrženost od reality – nutnost přehodnotit - vytvořit nové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Management = podnikový management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 30. let – podnikový management – jeden z dílčích oborů všeobecného managemen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lká hospodářská krize - management  vztahován pouze k podniků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alita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agement se nerovná podnikovému managementu o nic víc než medicína porodnictví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žádné zvláštní rozdíly v úkolech a problém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ůstovým sektorem 21. století nebude „podniková sféra“ (organizovaná hospodářská činnost) ale pravděpodobně neziskový sociální sektor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ediná správná organizace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to co se prezentuje jako jediná správná organizace se už několikrát změnil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 1. sv. v. – formálně organizační struk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posledních desetiletích „pád hierarchie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Realita podle Druckera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existují pouze různé typy organizace – různé přednosti, omezení → různé možnosti použití podle konkrétní situa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smíšené struktury“ - jednotlivci budou muset pracovat v několika organizační strukturách zároveň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organizace, která odpovídá svému úkolu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ediná správná metoda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po 1. sv. v.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- lidé pracující pro organizaci = zaměstnanci, na plný úvazek, statut podřízených, nulová nebo nízká kvalifik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Realita současnosti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stále méně „podřízených“ – vzrůstá počet „pracovníků disponujích znalostmi“= ví o své práci více než kdokoliv jiný v organizaci → společníc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řízení“ – osvěta „nadřízených“ ve své specializac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dřízení“ – seznámení „podřízeného“ se situací v celé organiza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možnost mobility pracovníků disponujích znalostmi (vlastníci svých „výrobních prostředků“) – řídit jako dobrovolníky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1. výzvy jejich schopnostem 2. znalost poslání organizace a víra v ně ne 3. přetržité školení 4. potřeba vidět výsled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různé pracovníky je třeba řídit různě stejné pracovníky řídit různě v různou dobu , úkolem je lidi vést, cílem využití konkrétních předností a znalostí každého jedin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Technologie a koncepční uživatelé jsou určení a daní 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 19. st. a ½. 20. sto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ost se 100% spolehnout, že technologie existující mimo obor mají ne tento obor minimální vl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kumná laboratoř může produkovat vše co podnik nebo celý obor potřebu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užití je fixní a neměnné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ita součas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obor má svou vlastní, unikátní technolog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podnik klíčové technologie z jiných obo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řeba má unikátní charakter ne prostředek jejího uspokojová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ě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ie ani konečné užití nejsou základem pro formulaci řídící strateg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musím  být zákaznické hodnoty  a rozhodnutí zákazníků a rozdělování jejich disponibilních příjmů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Působnost managementu je právně vymezena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ýchodiska premis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se v teorii i praxi zabývá právnickými osobami → působnost managementu je tedy právně vymeze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jetí managementu jako činnosti založené na přikazovací a kontrolní pravomoc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a současnost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konomický řetězec svádí dohromady opravdové partnery (nezávislé instituce s rovností síl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třeba působnost managementu nově defino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musí být funkč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í zahrnovat celý pro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í se soustředit na výkonnost v každém článku ekonomického řetěz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5:35:40Z</dcterms:created>
  <dc:creator>Michal Pavlík</dc:creator>
  <dc:description/>
  <dc:language>en-US</dc:language>
  <cp:lastModifiedBy>Michal Pavlík</cp:lastModifiedBy>
  <dcterms:modified xsi:type="dcterms:W3CDTF">2008-11-23T16:32:54Z</dcterms:modified>
  <cp:revision>40</cp:revision>
  <dc:subject/>
  <dc:title>Management 21. století</dc:title>
</cp:coreProperties>
</file>