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7D0F-3CBA-4626-BEB6-506ADA9A7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387B-CD8B-4B14-9B4E-A3C1987E8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DBAC-DF7E-4FCE-AB55-F1FC3F351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E9FD-9520-40AF-B283-EFEF938AF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C9F6B-932F-4993-BA8C-E038FB32D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D0FA4-E1F0-4A1A-B0A9-778B92FFF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A1420-07D0-4065-876F-5E066BC87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1194D-90C6-4B5D-A118-5F27D69AE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85736-47CE-4939-B86E-4499AE05A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DA9F6-56C3-4D69-9C95-04CDCB151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3478B-28CC-4F1D-AA55-264491C2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42CF-366C-4960-BC5B-1B3916C37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E653F-D9D7-4EAA-A449-08149AA8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0BC94-6515-4840-8C8E-8A4E01FF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A92DE-BCE4-4684-97F9-17478C6B0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CF6AF-E931-4F1B-8400-5E7CBE7F8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9ADF6-AA24-4D0E-97EF-4BD16D6EE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229A-BBDB-4B67-A57B-B89D6A9CF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9624-9AFF-4D9C-9CA9-8D0316CAB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9BB1-E081-4970-9A8D-C8E258E3F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A6AE-17AA-4F96-8B00-DBE86A445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EB76-E72F-4374-A7C0-AEBAE9FC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07DD-D3E3-4210-9A52-4270AD1F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3D25-D67D-448E-B0C7-AE158F34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C14AA-E9F4-4DCF-953D-0029DC18867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D0F6F-359C-4921-AAB8-6507126D364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Environmentalism" TargetMode="External"/><Relationship Id="rId2" Type="http://schemas.openxmlformats.org/officeDocument/2006/relationships/hyperlink" Target="http://ukinczechrepublic.fco.gov.uk/resources/cs/pdf/sternova-studie" TargetMode="External"/><Relationship Id="rId3" Type="http://schemas.openxmlformats.org/officeDocument/2006/relationships/hyperlink" Target="http://www.stuz.cz/view.php?cisloclanku=2007090010" TargetMode="External"/><Relationship Id="rId4" Type="http://schemas.openxmlformats.org/officeDocument/2006/relationships/hyperlink" Target="http://www.stuz.cz/view.php?cisloclanku=2007090010" TargetMode="External"/><Relationship Id="rId5" Type="http://schemas.openxmlformats.org/officeDocument/2006/relationships/hyperlink" Target="http://www.stuz.cz/view.php?cisloclanku=2007090010" TargetMode="External"/><Relationship Id="rId6" Type="http://schemas.openxmlformats.org/officeDocument/2006/relationships/hyperlink" Target="http://www.stuz.cz/view.php?cisloclanku=2007090010" TargetMode="External"/><Relationship Id="rId7" Type="http://schemas.openxmlformats.org/officeDocument/2006/relationships/hyperlink" Target="http://www.stuz.cz/view.php?cisloclanku=2007090010" TargetMode="External"/><Relationship Id="rId8" Type="http://schemas.openxmlformats.org/officeDocument/2006/relationships/hyperlink" Target="http://www.stuz.cz/view.php?cisloclanku=2007090010" TargetMode="External"/><Relationship Id="rId9" Type="http://schemas.openxmlformats.org/officeDocument/2006/relationships/hyperlink" Target="http://www.stuz.cz/view.php?cisloclanku=2007090010" TargetMode="External"/><Relationship Id="rId10" Type="http://schemas.openxmlformats.org/officeDocument/2006/relationships/hyperlink" Target="http://www.stuz.cz/view.php?cisloclanku=2007090010" TargetMode="External"/><Relationship Id="rId11" Type="http://schemas.openxmlformats.org/officeDocument/2006/relationships/hyperlink" Target="http://www.stuz.cz/view.php?cisloclanku=2007090010" TargetMode="External"/><Relationship Id="rId12" Type="http://schemas.openxmlformats.org/officeDocument/2006/relationships/hyperlink" Target="http://cs.wikipedia.org/wiki/V&#225;clav_Klaus" TargetMode="External"/><Relationship Id="rId13" Type="http://schemas.openxmlformats.org/officeDocument/2006/relationships/hyperlink" Target="http://cs.wikipedia.org/wiki/V&#225;clav_Klaus" TargetMode="External"/><Relationship Id="rId14" Type="http://schemas.openxmlformats.org/officeDocument/2006/relationships/hyperlink" Target="http://cs.wikipedia.org/wiki/V&#225;clav_Klaus" TargetMode="External"/><Relationship Id="rId15" Type="http://schemas.openxmlformats.org/officeDocument/2006/relationships/hyperlink" Target="http://cs.wikipedia.org/wiki/V&#225;clav_Klaus" TargetMode="External"/><Relationship Id="rId16" Type="http://schemas.openxmlformats.org/officeDocument/2006/relationships/hyperlink" Target="http://cs.wikipedia.org/wiki/V&#225;clav_Klaus" TargetMode="External"/><Relationship Id="rId17" Type="http://schemas.openxmlformats.org/officeDocument/2006/relationships/hyperlink" Target="http://cs.wikipedia.org/wiki/NGOismus" TargetMode="External"/><Relationship Id="rId18" Type="http://schemas.openxmlformats.org/officeDocument/2006/relationships/hyperlink" Target="http://www.reflex.cz/Clanek21556.html" TargetMode="External"/><Relationship Id="rId1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5640" y="40464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eaeaea"/>
                </a:solidFill>
                <a:latin typeface="Tahoma"/>
              </a:rPr>
              <a:t>Svoboda, ekonomika, příroda, etik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onika Kudlov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arie Adamov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František Chur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aeaea"/>
                </a:solidFill>
                <a:latin typeface="Tahoma"/>
              </a:rPr>
              <a:t>Kritika knih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Egoizmus naprieč generáciami – budúce generácie budú iste bohatš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e vyspělém světe zemědělství a lesnictví obvykle nevytváří víc než 3% celkového národního produktu. Ostatní odvětví ale klimatickými změnami výrazně ovlivněny nejsou“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Hranie si so štatistickými číslami (pesticídy, úmrtia vplyvom teplot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aeaea"/>
                </a:solidFill>
                <a:latin typeface="Tahoma"/>
              </a:rPr>
              <a:t>Časová hodnota peňazí a životné prostredi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Že jsme překročili  ekologickou kapacitu území, ještě nemusí být tragické. Je to jako půjčka na dům, ve kterém chceme bydlet a vybavit si jej. Jen si musíme být vědomi, že dříve nebo později budeme tuto půjčku splácet. A čím později, tím to bude pro nás nebo pro naše děti dražší a bolestivější.“ (Matthis Wackernagel 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aeaea"/>
                </a:solidFill>
                <a:latin typeface="Tahoma"/>
              </a:rPr>
              <a:t>NGOismus (dle Klause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898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GO = Non governmental organ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ř. (?): feministky, radikální ekologové, anarchisté, odbory, Al-Kai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GOismus: prosazují věci demokraticky neprosaditelné (př. Greenpeac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aeaea"/>
                </a:solidFill>
                <a:latin typeface="Tahoma"/>
              </a:rPr>
              <a:t>NGOismus (dle Klause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GOismus typu A: zrušme parla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GOismus typu B: vedle parlamentu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(Filipíny, Afrik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laus: demokracie vs. vláda skup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aeaea"/>
                </a:solidFill>
                <a:latin typeface="Tahoma"/>
              </a:rPr>
              <a:t>NGOismus (druhý pohled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GO vštěpující názory jsou potřebné kvůli prosazování rovných práv menšin (př. vozíčkáři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cionální neznalost ostatní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iteratur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37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ffffff"/>
                </a:solidFill>
                <a:latin typeface="Tahoma"/>
              </a:rPr>
              <a:t>KLAUS, V. Modrá, nikoli zelená planeta. Praha: Dokořán, 2007. ISBN 978-80-7363-152-9.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37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ffffff"/>
                </a:solidFill>
                <a:latin typeface="Tahoma"/>
              </a:rPr>
              <a:t>Environmentalismus, Wikipedia, 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[</a:t>
            </a:r>
            <a:r>
              <a:rPr b="0" lang="cs-CZ" sz="1500" spc="-1" strike="noStrike">
                <a:solidFill>
                  <a:srgbClr val="ffffff"/>
                </a:solidFill>
                <a:latin typeface="Tahoma"/>
              </a:rPr>
              <a:t>citováno 2008-12-06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]</a:t>
            </a:r>
            <a:r>
              <a:rPr b="0" lang="cs-CZ" sz="1500" spc="-1" strike="noStrike">
                <a:solidFill>
                  <a:srgbClr val="ffffff"/>
                </a:solidFill>
                <a:latin typeface="Tahoma"/>
              </a:rPr>
              <a:t> dostupné z: </a:t>
            </a:r>
            <a:r>
              <a:rPr b="0" lang="cs-CZ" sz="15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http://en.wikipedia.org/wiki/Environmentalism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ahoma"/>
              </a:rPr>
              <a:t>Ekonomické aspekty změny klimatu – Sternova zpráva. 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[</a:t>
            </a:r>
            <a:r>
              <a:rPr b="0" lang="cs-CZ" sz="1500" spc="-1" strike="noStrike">
                <a:solidFill>
                  <a:srgbClr val="ffffff"/>
                </a:solidFill>
                <a:latin typeface="Tahoma"/>
              </a:rPr>
              <a:t>citováno 2008-12-08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]</a:t>
            </a:r>
            <a:r>
              <a:rPr b="0" lang="cs-CZ" sz="1500" spc="-1" strike="noStrike">
                <a:solidFill>
                  <a:srgbClr val="ffffff"/>
                </a:solidFill>
                <a:latin typeface="Tahoma"/>
              </a:rPr>
              <a:t> dostupné z: </a:t>
            </a:r>
            <a:r>
              <a:rPr b="0" lang="cs-CZ" sz="14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http://ukinczechrepublic.fco.gov.uk/resources/cs/pdf/sternova-studi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ffffff"/>
                </a:solidFill>
                <a:latin typeface="Tahoma"/>
              </a:rPr>
              <a:t>NOVÁČEK, P.: Živá planeta: Sto omyl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  <a:ea typeface="Tahoma"/>
              </a:rPr>
              <a:t>ů</a:t>
            </a:r>
            <a:r>
              <a:rPr b="0" lang="cs-CZ" sz="1500" spc="-1" strike="noStrike">
                <a:solidFill>
                  <a:srgbClr val="ffffff"/>
                </a:solidFill>
                <a:latin typeface="Tahoma"/>
              </a:rPr>
              <a:t> Václava Klause, 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[</a:t>
            </a:r>
            <a:r>
              <a:rPr b="0" lang="cs-CZ" sz="1500" spc="-1" strike="noStrike">
                <a:solidFill>
                  <a:srgbClr val="ffffff"/>
                </a:solidFill>
                <a:latin typeface="Tahoma"/>
              </a:rPr>
              <a:t>citováno 2008-12-08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]</a:t>
            </a:r>
            <a:r>
              <a:rPr b="0" lang="cs-CZ" sz="1500" spc="-1" strike="noStrike">
                <a:solidFill>
                  <a:srgbClr val="ffffff"/>
                </a:solidFill>
                <a:latin typeface="Tahoma"/>
              </a:rPr>
              <a:t> dostupné z: </a:t>
            </a:r>
            <a:r>
              <a:rPr b="0" lang="cs-CZ" sz="14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http://www.</a:t>
            </a:r>
            <a:r>
              <a:rPr b="0" lang="cs-CZ" sz="1400" spc="-1" strike="noStrike" u="sng">
                <a:solidFill>
                  <a:srgbClr val="ffffcc"/>
                </a:solidFill>
                <a:uFillTx/>
                <a:latin typeface="Tahoma"/>
                <a:hlinkClick r:id="rId4"/>
              </a:rPr>
              <a:t>stuz</a:t>
            </a:r>
            <a:r>
              <a:rPr b="0" lang="cs-CZ" sz="1400" spc="-1" strike="noStrike" u="sng">
                <a:solidFill>
                  <a:srgbClr val="ffffcc"/>
                </a:solidFill>
                <a:uFillTx/>
                <a:latin typeface="Tahoma"/>
                <a:hlinkClick r:id="rId5"/>
              </a:rPr>
              <a:t>.cz/</a:t>
            </a:r>
            <a:r>
              <a:rPr b="0" lang="cs-CZ" sz="1400" spc="-1" strike="noStrike" u="sng">
                <a:solidFill>
                  <a:srgbClr val="ffffcc"/>
                </a:solidFill>
                <a:uFillTx/>
                <a:latin typeface="Tahoma"/>
                <a:hlinkClick r:id="rId6"/>
              </a:rPr>
              <a:t>view</a:t>
            </a:r>
            <a:r>
              <a:rPr b="0" lang="cs-CZ" sz="1400" spc="-1" strike="noStrike" u="sng">
                <a:solidFill>
                  <a:srgbClr val="ffffcc"/>
                </a:solidFill>
                <a:uFillTx/>
                <a:latin typeface="Tahoma"/>
                <a:hlinkClick r:id="rId7"/>
              </a:rPr>
              <a:t>.</a:t>
            </a:r>
            <a:r>
              <a:rPr b="0" lang="cs-CZ" sz="1400" spc="-1" strike="noStrike" u="sng">
                <a:solidFill>
                  <a:srgbClr val="ffffcc"/>
                </a:solidFill>
                <a:uFillTx/>
                <a:latin typeface="Tahoma"/>
                <a:hlinkClick r:id="rId8"/>
              </a:rPr>
              <a:t>php</a:t>
            </a:r>
            <a:r>
              <a:rPr b="0" lang="cs-CZ" sz="1400" spc="-1" strike="noStrike" u="sng">
                <a:solidFill>
                  <a:srgbClr val="ffffcc"/>
                </a:solidFill>
                <a:uFillTx/>
                <a:latin typeface="Tahoma"/>
                <a:hlinkClick r:id="rId9"/>
              </a:rPr>
              <a:t>?</a:t>
            </a:r>
            <a:r>
              <a:rPr b="0" lang="cs-CZ" sz="1400" spc="-1" strike="noStrike" u="sng">
                <a:solidFill>
                  <a:srgbClr val="ffffcc"/>
                </a:solidFill>
                <a:uFillTx/>
                <a:latin typeface="Tahoma"/>
                <a:hlinkClick r:id="rId10"/>
              </a:rPr>
              <a:t>cisloclanku</a:t>
            </a:r>
            <a:r>
              <a:rPr b="0" lang="cs-CZ" sz="1400" spc="-1" strike="noStrike" u="sng">
                <a:solidFill>
                  <a:srgbClr val="ffffcc"/>
                </a:solidFill>
                <a:uFillTx/>
                <a:latin typeface="Tahoma"/>
                <a:hlinkClick r:id="rId11"/>
              </a:rPr>
              <a:t>=200709001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ffffff"/>
                </a:solidFill>
                <a:latin typeface="Tahoma"/>
              </a:rPr>
              <a:t>Václav Klaus, Wikipedia, 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[</a:t>
            </a:r>
            <a:r>
              <a:rPr b="0" lang="cs-CZ" sz="1500" spc="-1" strike="noStrike">
                <a:solidFill>
                  <a:srgbClr val="ffffff"/>
                </a:solidFill>
                <a:latin typeface="Tahoma"/>
              </a:rPr>
              <a:t>citováno 2008-12-08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]</a:t>
            </a:r>
            <a:r>
              <a:rPr b="0" lang="cs-CZ" sz="1500" spc="-1" strike="noStrike">
                <a:solidFill>
                  <a:srgbClr val="ffffff"/>
                </a:solidFill>
                <a:latin typeface="Tahoma"/>
              </a:rPr>
              <a:t> dostupné z: </a:t>
            </a:r>
            <a:r>
              <a:rPr b="0" lang="cs-CZ" sz="1400" spc="-1" strike="noStrike" u="sng">
                <a:solidFill>
                  <a:srgbClr val="ffffcc"/>
                </a:solidFill>
                <a:uFillTx/>
                <a:latin typeface="Tahoma"/>
                <a:hlinkClick r:id="rId12"/>
              </a:rPr>
              <a:t>http://</a:t>
            </a:r>
            <a:r>
              <a:rPr b="0" lang="cs-CZ" sz="1400" spc="-1" strike="noStrike" u="sng">
                <a:solidFill>
                  <a:srgbClr val="ffffcc"/>
                </a:solidFill>
                <a:uFillTx/>
                <a:latin typeface="Tahoma"/>
                <a:hlinkClick r:id="rId13"/>
              </a:rPr>
              <a:t>cs</a:t>
            </a:r>
            <a:r>
              <a:rPr b="0" lang="cs-CZ" sz="1400" spc="-1" strike="noStrike" u="sng">
                <a:solidFill>
                  <a:srgbClr val="ffffcc"/>
                </a:solidFill>
                <a:uFillTx/>
                <a:latin typeface="Tahoma"/>
                <a:hlinkClick r:id="rId14"/>
              </a:rPr>
              <a:t>.wikipedia.org/</a:t>
            </a:r>
            <a:r>
              <a:rPr b="0" lang="cs-CZ" sz="1400" spc="-1" strike="noStrike" u="sng">
                <a:solidFill>
                  <a:srgbClr val="ffffcc"/>
                </a:solidFill>
                <a:uFillTx/>
                <a:latin typeface="Tahoma"/>
                <a:hlinkClick r:id="rId15"/>
              </a:rPr>
              <a:t>wiki</a:t>
            </a:r>
            <a:r>
              <a:rPr b="0" lang="cs-CZ" sz="1400" spc="-1" strike="noStrike" u="sng">
                <a:solidFill>
                  <a:srgbClr val="ffffcc"/>
                </a:solidFill>
                <a:uFillTx/>
                <a:latin typeface="Tahoma"/>
                <a:hlinkClick r:id="rId16"/>
              </a:rPr>
              <a:t>/V%C3%A1clav_Klaus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37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ffffff"/>
                </a:solidFill>
                <a:latin typeface="Tahoma"/>
              </a:rPr>
              <a:t>NGOismus, 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[</a:t>
            </a:r>
            <a:r>
              <a:rPr b="0" lang="cs-CZ" sz="1500" spc="-1" strike="noStrike">
                <a:solidFill>
                  <a:srgbClr val="ffffff"/>
                </a:solidFill>
                <a:latin typeface="Tahoma"/>
              </a:rPr>
              <a:t>citováno 2008-12-10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]</a:t>
            </a:r>
            <a:r>
              <a:rPr b="0" lang="cs-CZ" sz="1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1500" spc="-1" strike="noStrike" u="sng">
                <a:solidFill>
                  <a:srgbClr val="ffffcc"/>
                </a:solidFill>
                <a:uFillTx/>
                <a:latin typeface="Tahoma"/>
                <a:hlinkClick r:id="rId17"/>
              </a:rPr>
              <a:t>http://cs.wikipedia.org/wiki/NGOismus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37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ffffff"/>
                </a:solidFill>
                <a:latin typeface="Tahoma"/>
              </a:rPr>
              <a:t>Václav Klaus, 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[</a:t>
            </a:r>
            <a:r>
              <a:rPr b="0" lang="cs-CZ" sz="1500" spc="-1" strike="noStrike">
                <a:solidFill>
                  <a:srgbClr val="ffffff"/>
                </a:solidFill>
                <a:latin typeface="Tahoma"/>
              </a:rPr>
              <a:t>citováno 2008-12-10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]</a:t>
            </a:r>
            <a:r>
              <a:rPr b="0" lang="cs-CZ" sz="1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1500" spc="-1" strike="noStrike" u="sng">
                <a:solidFill>
                  <a:srgbClr val="ffffcc"/>
                </a:solidFill>
                <a:uFillTx/>
                <a:latin typeface="Tahoma"/>
                <a:hlinkClick r:id="rId18"/>
              </a:rPr>
              <a:t>http://www.reflex.cz/Clanek21556.html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Globální krize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Klimatická změn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nožství protichůdných d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ázorová různost, Klaus X Go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mo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ýznamnost dopad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odrá, nikoli zelená planet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kologická krize neexistu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říroda se přizpůsob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Člověk najde nové zdro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nvironmentalismus je ideolog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omunismus – environmentalismu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Výnosy a náklad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99640" y="1773360"/>
            <a:ext cx="779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droj je vždy funkcí ceny a technologie.“ (str. 45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ysoké náklady na ochranu (plus faktor diskontu) vs. malé výnos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doucnost je méně významná než přítomnost.“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kce není potřeb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716360" y="4160880"/>
            <a:ext cx="361944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Globální oteplování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teplování začalo před průmyslovou revolucí, pro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n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vlivem člově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Člověk k němu ale přispív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dov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zba mezi CO2 a globálním oteplování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Řešení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pontánní nepolitická, nikým neorganizovaná aktivita miliónů svéprávných a – ve svém vlastním zájmu – racionálně se chovajících lidí.“ (str. 28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Ochrana přírody ano, environmentalismus ne“ (str. 132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Růst blahobytu =&gt; lepší stav životního prostřed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ebojovat se změnou klimatu, ale přizpůsobit se j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aeaea"/>
                </a:solidFill>
                <a:latin typeface="Tahoma"/>
              </a:rPr>
              <a:t>Odkaz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</a:rPr>
              <a:t>4.správa Medzivládneho panelu OSN p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</a:rPr>
              <a:t>klimatické zmeny (únor 2007)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</a:rPr>
              <a:t>Otepľovanie klimatického systému je jednoznačn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</a:rPr>
              <a:t>Bez zvýšeného úsilia v znižovaní emisií skleníkových plynov dojde k ďalšiemu zvýšeniu teploty, ktoré povedie k nevratným zmenám na klím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</a:rPr>
              <a:t>Sternova správa (duben 2007)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</a:rPr>
              <a:t>Jeden z podkladov pre závery Európskej rady, ktorá definovala ciele a politiku transformácie Európ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</a:rPr>
              <a:t>Vyčísluje dopady zmien klímy a ekonomiku a potvrdzuje ekonomickú výhodnosť okamžitého zásah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aeaea"/>
                </a:solidFill>
                <a:latin typeface="Tahoma"/>
              </a:rPr>
              <a:t>Boj proti vedeckému konsenzu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  „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Nepodléhejme klamu vědeckého konsenzu, který je stejně docilován jen hlasitou menšinou a nikoli mlčící většinou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Je nám vnucována jedna jediná pravda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aeaea"/>
                </a:solidFill>
                <a:latin typeface="Tahoma"/>
              </a:rPr>
              <a:t>Kritika knih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áclav Klaus v postavení prezidenta prezentuje menšinové názo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Nerešpektuje oficiálne stanoviská vlády ČR a EU o klimatických zmená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Jednostrannosť, dezinterpretácia, chyby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Ekologická nevzdelanosť (kácanie pralesov, biomasa x uhlie, pojmy klima a počasie,..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Ruský preklad financoval Lukoi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5T21:05:23Z</dcterms:created>
  <dc:creator>Uživatel</dc:creator>
  <dc:description/>
  <dc:language>en-US</dc:language>
  <cp:lastModifiedBy>F Ch</cp:lastModifiedBy>
  <dcterms:modified xsi:type="dcterms:W3CDTF">2008-12-10T19:37:00Z</dcterms:modified>
  <cp:revision>17</cp:revision>
  <dc:subject/>
  <dc:title>Svoboda, ekonomika, příroda, etika</dc:title>
</cp:coreProperties>
</file>