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353-DF81-4C28-B8E7-5064AABD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98C-FDD5-488F-989C-64F5ED31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BB935-F7DB-407D-A170-9C4CB9C1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11350-A21D-4ECA-82F4-23E0655E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97C61-5816-45D5-B587-88D23474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0CA5B-4CDC-41B5-8EC0-4400BE1F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B8649-DD60-41F8-86AD-80E970B8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F1215-5683-4396-AD95-392BDC3D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31B37-5F52-46E4-A1E8-D9249409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69201-6079-4D92-BACE-A1CB256C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5BE71-7914-4145-8348-9CF67785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930A5-95B2-4DB8-89B1-A917728E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9C6-6CFD-4DF5-B8AB-3F6245D4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53C67-9C7A-4558-8128-81B81DB4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DBA1F-FD3B-4CE3-A959-98F363B8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23A7D-EDDD-43CF-B106-BDEA33C2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B546E-D016-45A7-BB1D-5A1739F1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A36C5-C6C5-4C23-8F3C-D5406B33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C451A-2031-42B3-B85D-D0AF8A6B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57C69-EE9D-4931-9CF8-D7805676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5D3E2-C8E7-4CDE-871C-CED07BE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1E19D-A9C7-4677-8C14-A107C5A6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C9121-E02E-4314-8D10-C430EEA1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4AA-D7CC-4105-976F-01ED747C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EB173-ADB7-4790-BD11-FBA78472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0CA3A-377B-4B77-9D65-AF2E2597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93394-8482-4FA3-83FF-DDD2385C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6CBBA-E1BC-4FFF-A0BA-0DF3F5DA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88128-AB65-4084-9D5B-87330F26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7EC12-E41E-4577-BCAE-A52EF499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3DBBC-2BB8-4272-AB43-788A4A69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65820-61F1-445A-B204-E3233798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8DFC1-F19E-4316-AD41-B11DCC1D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0D6DA-4DB1-4A13-A9B6-1AD57789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F40A-B142-438B-8CE5-29E656D2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6B2FC-F749-4B06-9ECA-1C5721A6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AB9AB-0F74-4238-AB8B-F55D85AB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E1450-491E-462D-8F57-FD90C246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A7DB3-A75C-4732-BE0B-EC0AB40D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39EA5-23DF-4D3D-9361-18295847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75E94-AADC-4FAA-BBAF-78AC5C32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B3E2E-4C8C-441E-81F6-731E1A80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2BEB9-39DB-43F2-999A-E1B88C2C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65599-6C7D-43D4-8796-0FB41E96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F2F6E-A8C9-4433-AE2D-8BDE3A73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186C-1F85-408C-8034-379747BD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8591E-7A0C-46C7-BC40-FA686DBC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ECE55-2124-4375-9833-3F8307D2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AE795-B2B9-49D3-AA41-D5D32546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A8F93-963E-4A95-889E-4ABD4482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C7FD8-3D8F-4642-9FA4-84286897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5C2D-E631-4DF5-9A8D-ADA90095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4E9F-168D-427D-8F10-53A86683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E078-7FBB-4AD8-ABCB-D8587BFD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1FFE-90BF-4DDB-9389-C4619329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895E-88BB-44C2-8353-92DE40E4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0BB-255A-4CF7-91D6-272D61AD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CA9E-970B-4346-83F8-525F6092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C0B6-6F5E-4BD6-9D24-8F4D77A8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E428-14A9-4868-A4BC-D583DE23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D8EB-15D8-4A5C-B9ED-53B15B71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FFB6-A559-4FEC-A4D3-411AD221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23D5-11AE-4EC9-A8F7-566BB399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AACE-5818-4B6C-AC38-2F5465D8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A7BB-3677-42C9-A4E7-1500750A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211DC-F1D0-4018-BBCA-B1CA3C76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3610-9735-44AB-90F8-DF31A65D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477-C19C-4A46-BA59-E13E8A69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6A40-558C-4976-BA57-7FEECB13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1B66E-2408-4284-99E1-E5D868C8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F9967-CB13-46E3-BA30-C6D437E8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87064-7932-49FC-AAAC-BAA9436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B04B-73E3-4E5A-8CA3-94E5D000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551C-E64E-4236-812F-84448A15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E876-3CFD-449E-A8F5-996735DD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3D0AF-EDE7-4F3B-A30C-59EC8E26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A5647-D417-4E76-85CE-35B96459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D1E29-E9CA-48B0-958E-B5EB2589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57A-7739-4E94-A8EE-3E4F4201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A02E-0A77-4D28-95A7-E5DC03F7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DD5F-6AAF-45D4-A86E-0BEB7CBC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5E91-E2C7-4BB3-A42E-BF78EAE7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2284A-4DE3-46ED-BA09-97F915D2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5667-2A19-4841-92F4-FDA9DF7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6302A-1C1E-42AE-A010-0447D82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8CB11-3A9F-4C29-93CB-69B49B0C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C289D-8439-45F6-9911-5CC13983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72E00-ADCE-4232-B2F3-9F38E89B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0F777-97C5-4791-9374-E17BA250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D91-DE55-4B74-8D78-A7521A07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F0918-C748-4BD4-8651-A9FEF746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D3298-271F-4202-BB5C-021D1001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684AB-9175-476C-8526-360A6C53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F5B81-3D83-458D-9D19-F6BC3AC8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E0BB7-EC53-43A1-9A15-B02FC2A7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7CD0A-0691-4EDF-80F3-32EC2697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C295-BDE1-4ECC-AE49-6528AB5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3408F-D1BA-498C-B6D0-319A7129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8546C-B25D-4C65-A51F-9EF4F36B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8E1C2-106E-42F0-A5BB-FDBB52B9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C58-7A8C-4783-B4D9-1B46CCBB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51BEC-1D8A-4C3B-8BED-65B62ABE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F8941-E7F6-4B7D-9FD5-AE9C71A2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317DD-CAC0-4E36-A159-62F39705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CF1B0-EBA4-4838-96FD-D69F3340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19183-86E1-44FC-9133-8294316B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B2B06-68F5-426C-9885-0A6AA42F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002FF-3B08-4535-BD83-9ACDB0AE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BC5B6-F7C1-46C0-A4A6-B20F2C00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F232A-86C6-4768-81A4-7F1A315C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183DC-A6FF-4CF5-B2B8-ED2E01BE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722-3E81-404C-B56F-7455F894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A364D-DAA8-4FE1-93DC-8A045728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2DFC2-7941-4A44-BE8A-E828F5B7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F6412-09CD-4497-80B4-CF9C3132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54107-0631-4874-BB98-6FDD8808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76244-5608-4F89-A827-40EAA3C6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3122F-FD96-4BB5-9C76-BAA583BD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C3253-B3E3-4E50-B238-3E11A41E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3AD3F-D430-46D2-977D-DD4C66CE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8D24E-AD6C-46EB-87F3-49B00C91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B6442-C1D7-4A86-BBEE-89C6F98C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B92-8E18-422E-B879-2BA13700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37338-4E4E-4C18-8192-D53D3E57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C7711-42AF-4580-B6CB-5AF26D63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E8E6-6BED-4A2E-AF39-7AA54A14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EDA34-1A2A-43F4-9CE2-32D28B31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3E1CF-7685-495C-8754-1888F31F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F5B7C-1A44-4088-A6E9-93358B57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1C7CB-9AFB-4A20-8569-6BB28D80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1B0F8-33FA-49C8-8030-1A02121B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19127-919C-4670-B042-4D18AF48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340E5-E058-4FFC-9203-CA0E542E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42A-C1C6-4354-9ADA-BEBD8D1F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EAA10-D194-4B67-B4F9-9F0C63B7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87752-DF49-477B-9A1B-C3720565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C7431-7E7C-4F34-9902-A7FD721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51454-A9F6-4C90-87F0-C2BDBD4D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DEFC3-1BB9-4BE5-AE02-C5D9F946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2C62F-E74A-48AF-BECB-481F1F6B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799B7-F0FA-4543-8A73-EC906E8D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97DEF-2AB2-4AFE-B8E9-12434B14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7EBA3-B85E-4797-8089-644CBB96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2210E-8623-4180-A83C-D324DCD5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B07F-1756-46AB-850F-04837D0042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164A-2570-4325-8AD3-6B7CBBB5E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1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118E-6006-4CDB-9021-A7F76FE1F72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21C3-BBDC-4AA1-80B0-DA65B2EA470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5B9B-83A8-4FBE-AFDF-D091AC78D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8B39-16C0-4EF1-9A52-660DDD854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915A-0167-4DB9-BEBE-169A324C40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C231-47DA-4FED-88BC-C51540B74D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EA30-8A56-404F-99B9-657E04C24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09C5-7A20-4923-B4CF-FE3800E158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F4C9-5AA4-4C76-8236-A1CB150D3D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83A3-28BD-48D4-B9E1-F3C0707A0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kps.zcu.cz/materials/fikult.rtf" TargetMode="External"/><Relationship Id="rId2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Organizační kultura a strate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692360" y="4243320"/>
            <a:ext cx="59846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Lucie Bieli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Simona Jakubc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Martin Lizn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Organizační kultura a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ategie jako nástroj naplňování očekávání zájmových stran v určité organizační struktuř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Otázk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k se kultura, struktura a strategie navzájem ovlivňuj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rganizační kultura a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Dlouhodobý rámec a směr, který sjednocuje ve firmě její hlavní cíle, priority a ak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cké říz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Tvorba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mplementace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kultury na strateg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Vliv na obě fáze strategického říze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Sběr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trategická myopie“ – co fungovalo v minulosti, bude fungovat i nadá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Výběr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Determinace svými postoji a hodnotami - „filtr“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Zpracování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ilná kultura – stejná interpretace – omezené množství alternativ strategi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kultury na strateg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vorba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žerská subkul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ační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s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viduální  hodno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mplementace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ie jako podpora nebo bariéra kult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11280" y="2421000"/>
          <a:ext cx="8280360" cy="3921120"/>
        </p:xfrm>
        <a:graphic>
          <a:graphicData uri="http://schemas.openxmlformats.org/drawingml/2006/table">
            <a:tbl>
              <a:tblPr/>
              <a:tblGrid>
                <a:gridCol w="1890720"/>
                <a:gridCol w="2914560"/>
                <a:gridCol w="1736640"/>
                <a:gridCol w="173844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Organizační strate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Organizační k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labá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třed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il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19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Vág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85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třed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il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strategie na kultur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8080" y="2633400"/>
            <a:ext cx="76932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bsah“ strategie jako „způsob, jak věci děláme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e jako informace, kam společnost směřu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kulturní artefakt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Šipka doprava 5"/>
          <p:cNvSpPr/>
          <p:nvPr/>
        </p:nvSpPr>
        <p:spPr>
          <a:xfrm>
            <a:off x="1979640" y="4508640"/>
            <a:ext cx="500040" cy="269640"/>
          </a:xfrm>
          <a:prstGeom prst="rightArrow">
            <a:avLst>
              <a:gd name="adj1" fmla="val 50000"/>
              <a:gd name="adj2" fmla="val 5012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rganizační kultura jako „zástupce“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838080" y="2572920"/>
            <a:ext cx="769320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Písemná neexistence strategie, ale realizovaná pracovník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Předpokladem je silná firemní kul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Extrémní situace: žádná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Řízení odrazem firem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Upevňování organizační kultu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Výběr vhodných pracovníků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eliminace uchazeči, kteří nezaručují akceptování hlavních hodno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abízení vzorů žádoucího chován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na příkladu kariérového postupu úspěšných pracovníků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Adaptace nových pracovníků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jsou programově seznamováni s historií, tradicemi, hodnotami a normami organiz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Čtyři varianty vztahu jedince </a:t>
            </a:r>
            <a:br>
              <a:rPr sz="2800"/>
            </a:b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        k organizační kultuře</a:t>
            </a:r>
            <a:r>
              <a:rPr b="1" lang="cs-CZ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99cc00"/>
                </a:solidFill>
                <a:latin typeface="Arial"/>
              </a:rPr>
              <a:t>(K.A. Golden, 1992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42472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Jednoznačné 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ování zcela koresponduje s normami dominantní organizační kultur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Napjaté 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ci se chovají ve shodě s direktivami kultury. Mají však výhrady. Typickým projevem jsou vtipy na úkor organizace. Pomáhají tlumit konflik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Utajené ne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inec vyslovuje souhlas s normami, skrytě je však neakceptuje a nedodržuje. Když to není nebezpečné, demonstrují svůj opoziční postoj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Otevřené ne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ci otevřeně neuznává hodnoty a normy dané organizace. Chovají se tak, pokud vědí, že je nestihnou žádné sankc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Organizační kultura v mezinárodních společnostech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  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9280" y="23320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ztahy mezi národní a organizační kulturo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ka organizace mohou ovlivnit 2 kultur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dniková kultura je reprezentantem národní kultury např.: americké, německé nebo japonské podniky,  jejichž podnikové kultury jsou převážně odvozeny od národních kulturních tradi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dniková kultura určitého podniku je samostatná a nezávislá.V rámci jedné národní kultury může existova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íce podnikových kultu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Mezi firemními kulturami organizací a dceřiných společností existují tři typy vztahů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3628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obální podniková kultur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ycentrická podniková kultur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ocentrická podniková kultur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bsa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3808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(definice, prv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a výkon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Firemní kultura a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Upevňování organizač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Vztah jedince k organizační kultuř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v mezinárodních společnost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Globální podniková kultur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a kultura pro všechny, často jde o hodnoty platné v zemi, kde je ústředí nebo organizace vznikla. Posilují se centralistické tenden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unkční, rychlá a spolehlivá komunikační síť (shodné významy, pojetí, interpretace), jednotná symbolika (značky, loga), mezinárodní identifikace, shodnost základních priorit a cílů firmy, nízké náklady na vzájemnou koordinac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ěkdy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álo citlivé na místní podmínky, nemusí umožňovat rychlou reakci na dílčí změny trhu, vysoké náklady na  mobilitu vedoucích pracovníků z mateřské firm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olycentrická podniková k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ytvoření specifické subkultury v každé jednotlivé zemi, značné osamostatnění dceřiných společností, vlastní systém řízení, vycházející  z místních tradic, zkušeností a odpovídající národní mentalitě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ozšíření základny zkušeností, při řešení problémů, omezení neproduktivních střetů a konfliktů, lepší zachycení změn v místním okolí a rychlá reakce na n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xistence jednotné kultury, a tedy i vědomí vzájemné provázanosti složek a jednotnosti organiza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Geocentrická podniková kultur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820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otná organizační kultura, vytvořena spojením příznivých stránek kultur jednotlivých zemí. Problematické rozeznat teritorium sídla a „národní charakter“ firmy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otná kultura organizace respektující zvláštnosti jednotlivých zemí. Podmínkou existence je tolerance jedinců k jiným kulturám, schopnost jim porozumě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nejednoznačnost výsledku a nutné úsilí, spojené  s vytvářením této kultur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Zdroj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LUKÁŠOVÁ, R., NOVÝ, I. aj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Organizační kultura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Od sdílených hodnot k vyšší výkonnosti. Praha: Grada Publishing, 2004. ISBN 80-247-0648-2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BĚLOHLÁVEK, F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Organizační chování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Učebnice pro každého. Olomouc: Rubico, 1996. ISBN 80-85839-09–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NOVÝ, I. aj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Interkulturní management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Lidé, kultura a management. Praha: Grada Publishing, 1996. ISBN 80-7169-260-3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kps.zcu.cz/materials/fikult.rt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Calibri"/>
              </a:rPr>
              <a:t>https://is.muni.cz/auth/tema/?issexppar=1&amp;isshlret=michal+mar%C4%8D%C3%ADk&amp;isssubm=Najdi&amp;isshlv=tthesis&amp;issu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Definice organizační kultury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Jak se věci u nás dělají“ … 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, co je pro organizaci typické, její zvyky, převládající postoje, vytvořené vzorce akceptovaného a neakceptovaného chování.“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cs-CZ" sz="2000" spc="-1" strike="noStrike">
                <a:solidFill>
                  <a:srgbClr val="003366"/>
                </a:solidFill>
                <a:latin typeface="Arial"/>
              </a:rPr>
              <a:t>Drennan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rvky organizační kultu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Základní předpo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áz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dno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ástroj utváření organizač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rm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ásady chování v organiza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st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rtefak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ální pova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materiální pova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771640" y="4869000"/>
            <a:ext cx="505080" cy="360360"/>
          </a:xfrm>
          <a:custGeom>
            <a:avLst/>
            <a:gdLst>
              <a:gd name="textAreaLeft" fmla="*/ 208080 w 505080"/>
              <a:gd name="textAreaRight" fmla="*/ 297000 w 505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/>
          <p:nvPr/>
        </p:nvSpPr>
        <p:spPr>
          <a:xfrm>
            <a:off x="2771640" y="5300640"/>
            <a:ext cx="505080" cy="360360"/>
          </a:xfrm>
          <a:custGeom>
            <a:avLst/>
            <a:gdLst>
              <a:gd name="textAreaLeft" fmla="*/ 208080 w 505080"/>
              <a:gd name="textAreaRight" fmla="*/ 297000 w 505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cc00"/>
                </a:solidFill>
                <a:latin typeface="Calibri"/>
              </a:rPr>
              <a:t>Organizační kultura dle </a:t>
            </a:r>
            <a:r>
              <a:rPr b="1" i="1" lang="cs-CZ" sz="3200" spc="-1" strike="noStrike">
                <a:solidFill>
                  <a:srgbClr val="99cc00"/>
                </a:solidFill>
                <a:latin typeface="Calibri"/>
              </a:rPr>
              <a:t>Schei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Artefak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Hodnoty, pravidla a normy chová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Základní předpokla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24360" y="328464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/>
          <p:nvPr/>
        </p:nvSpPr>
        <p:spPr>
          <a:xfrm>
            <a:off x="3924360" y="479736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716360" y="4797360"/>
            <a:ext cx="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716360" y="3284640"/>
            <a:ext cx="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cc00"/>
                </a:solidFill>
                <a:latin typeface="Calibri"/>
              </a:rPr>
              <a:t>Organizační kultura dle </a:t>
            </a:r>
            <a:r>
              <a:rPr b="1" i="1" lang="cs-CZ" sz="3200" spc="-1" strike="noStrike">
                <a:solidFill>
                  <a:srgbClr val="99cc00"/>
                </a:solidFill>
                <a:latin typeface="Calibri"/>
              </a:rPr>
              <a:t>Hofste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043440" y="2729160"/>
            <a:ext cx="3489120" cy="3051000"/>
            <a:chOff x="3043440" y="2729160"/>
            <a:chExt cx="3489120" cy="3051000"/>
          </a:xfrm>
        </p:grpSpPr>
        <p:sp>
          <p:nvSpPr>
            <p:cNvPr id="522" name="_s121869"/>
            <p:cNvSpPr/>
            <p:nvPr/>
          </p:nvSpPr>
          <p:spPr>
            <a:xfrm>
              <a:off x="3043440" y="3164040"/>
              <a:ext cx="2616120" cy="2616120"/>
            </a:xfrm>
            <a:prstGeom prst="donut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_s121870"/>
            <p:cNvSpPr/>
            <p:nvPr/>
          </p:nvSpPr>
          <p:spPr>
            <a:xfrm>
              <a:off x="6008760" y="3772080"/>
              <a:ext cx="523800" cy="3474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Symbol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_s121867"/>
            <p:cNvSpPr/>
            <p:nvPr/>
          </p:nvSpPr>
          <p:spPr>
            <a:xfrm>
              <a:off x="3370320" y="3490920"/>
              <a:ext cx="1962360" cy="1962360"/>
            </a:xfrm>
            <a:prstGeom prst="donut">
              <a:avLst>
                <a:gd name="adj" fmla="val 16666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_s121868"/>
            <p:cNvSpPr/>
            <p:nvPr/>
          </p:nvSpPr>
          <p:spPr>
            <a:xfrm>
              <a:off x="6008760" y="3424320"/>
              <a:ext cx="523800" cy="34776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Hrdinové ( Heroe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_s121865"/>
            <p:cNvSpPr/>
            <p:nvPr/>
          </p:nvSpPr>
          <p:spPr>
            <a:xfrm>
              <a:off x="3697560" y="3818160"/>
              <a:ext cx="1307880" cy="1307880"/>
            </a:xfrm>
            <a:prstGeom prst="donut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_s121866"/>
            <p:cNvSpPr/>
            <p:nvPr/>
          </p:nvSpPr>
          <p:spPr>
            <a:xfrm>
              <a:off x="6008760" y="3076560"/>
              <a:ext cx="523800" cy="34776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Rituály ( Ritual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_s121863"/>
            <p:cNvSpPr/>
            <p:nvPr/>
          </p:nvSpPr>
          <p:spPr>
            <a:xfrm>
              <a:off x="4024440" y="4145040"/>
              <a:ext cx="654120" cy="654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_s121864"/>
            <p:cNvSpPr/>
            <p:nvPr/>
          </p:nvSpPr>
          <p:spPr>
            <a:xfrm>
              <a:off x="6008760" y="2729160"/>
              <a:ext cx="523800" cy="3474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Hodnoty ( Value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"/>
          <p:cNvSpPr/>
          <p:nvPr/>
        </p:nvSpPr>
        <p:spPr>
          <a:xfrm rot="14586600">
            <a:off x="4074120" y="4789800"/>
            <a:ext cx="1206360" cy="642960"/>
          </a:xfrm>
          <a:prstGeom prst="flowChartOnlineStorage">
            <a:avLst/>
          </a:prstGeom>
          <a:solidFill>
            <a:srgbClr val="ff99ff">
              <a:alpha val="87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/>
          <p:nvPr/>
        </p:nvSpPr>
        <p:spPr>
          <a:xfrm>
            <a:off x="6300720" y="4311720"/>
            <a:ext cx="1366920" cy="609480"/>
          </a:xfr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  <a:ea typeface="Arial"/>
              </a:rPr>
              <a:t>Practi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alibri"/>
              </a:rPr>
              <a:t>Organizační kultura a výkonnos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bsah kultury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íla kultury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67280" y="3213000"/>
            <a:ext cx="86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/>
          <p:nvPr/>
        </p:nvSpPr>
        <p:spPr>
          <a:xfrm>
            <a:off x="3059280" y="3429000"/>
            <a:ext cx="865080" cy="144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642920" y="3429000"/>
            <a:ext cx="1225800" cy="144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/>
          <p:nvPr/>
        </p:nvSpPr>
        <p:spPr>
          <a:xfrm>
            <a:off x="3419640" y="5157720"/>
            <a:ext cx="1871640" cy="1008000"/>
          </a:xfrm>
          <a:prstGeom prst="ellipse">
            <a:avLst/>
          </a:prstGeom>
          <a:solidFill>
            <a:srgbClr val="99cc00">
              <a:alpha val="87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Výkon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cc00"/>
                </a:solidFill>
                <a:latin typeface="Calibri"/>
              </a:rPr>
              <a:t>Vliv obsahu organizační kultury na výkonnost organizace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Dvojí účinek na výkonnost organiza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Calibri"/>
              </a:rPr>
              <a:t>Aktivuje (neaktivuje) pracovníky</a:t>
            </a: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 – v závislosti na konkrétních hodnotách a normách chování, které zahrnu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Calibri"/>
              </a:rPr>
              <a:t>Směruje pracovníky</a:t>
            </a: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 – k naplňování těch hodnot a cílů, které jsou kultuře daného obsahu vlast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alibri"/>
              </a:rPr>
              <a:t>Vliv síly kultury na výkonnost organizac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tvorba souladu ve vnímání a myšlení pracovníků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usnadňování komunikace a redukce konfliktů uvnitř organizac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usměrňování chování jedinců v organizac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dílení společných hodnot a cílů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jedinci pociťují sounáležitost k organizaci, pozitivní postoj ke spoluprác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fixace organizace na minulou zkušenos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uzavřenost, ignorance signálu z vnějšku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bránění myšlení v alternativác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snaha o vyhnutí se kritice a konfliktům, podpora konformit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tvorba rezistence vůči změná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8:55:53Z</dcterms:created>
  <dc:creator>Lucie Bieliková</dc:creator>
  <dc:description/>
  <dc:language>en-US</dc:language>
  <cp:lastModifiedBy>admin</cp:lastModifiedBy>
  <dcterms:modified xsi:type="dcterms:W3CDTF">2008-12-01T19:49:34Z</dcterms:modified>
  <cp:revision>21</cp:revision>
  <dc:subject/>
  <dc:title>Organizační kultura a strategie</dc:title>
</cp:coreProperties>
</file>