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5E4F-395D-4804-BAA7-C6976414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309-DE67-4C32-AEA4-B8ED08B5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77E-F1CD-4A8C-886D-85132F06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39C1-CDA1-4E45-B1B2-35EAFE5D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7DFA-EDDF-40C7-AA4F-56D1E3F9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539D-88C6-4862-ADD3-286D4DE5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E16A-1A25-4FE6-BE2D-73E53B02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3180-45A4-42BF-9CAD-38C3DC77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7314-8558-4367-8DAA-4418EFE8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7D45-BF7F-439F-86B4-F74D3622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2509-5A9F-41D6-9445-D4420071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17C-44C0-448D-B1B4-A3C822FC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FF10-A4F3-4758-8E10-78F5F6FD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1CE1-1DB2-46CF-930F-ECA9328C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C5E5-19CB-4742-89A2-314999C5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7145-0092-4D60-A4B4-193F551F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8273-094A-4FB8-8260-9AF4FB3A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C0D5-FE53-4C02-B5CA-572BEE60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6A5-9573-48E5-A9D4-1F7A5D22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8D00-3F57-4EDF-9B0D-DC585ED9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9664-A342-47ED-BA67-55C65411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7AB-3E61-4BC2-BE8A-B961E643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7562-4AEF-4F60-9E6E-D96F2823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A6C-3348-4AE4-9C37-2BD81E01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0F75-ED4D-4CA0-B78B-07E658C831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7C3A-CDA2-42DF-9589-2DFEAA025D4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terkulturn</a:t>
            </a:r>
            <a:r>
              <a:rPr b="0" lang="cs-CZ" sz="5400" spc="-1" strike="noStrike">
                <a:solidFill>
                  <a:srgbClr val="ffffcc"/>
                </a:solidFill>
                <a:latin typeface="Tahoma"/>
              </a:rPr>
              <a:t>í managemen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ichal Bla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omáš Krá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rcela Paulíčk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České kulturní standar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rovizace a flexibil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důvěra vůči pravidlům, formalizovaným postupům, normá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ynalézavost, improviz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aptabili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lkorysost (být nad věcí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jetí kva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ientace na sociální vzta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ytvoření soc. klimatu při jedná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acházení s negativními informacem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řešení sociálních konflikt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tikularism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České kulturní standar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ifú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ropojení jednotlivých oblastí živo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ráce a volný č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Emocionalita a racionalit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racovní role a vlastní osobno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ormální a neformální struktury, inform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labý komunikační kon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erbální, neverbální komunik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ignály, ironie, nepřímé vyjadřová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asto nízké sebevědomí a sebejisto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lychronie času – více činností najedn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ěmecké standar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naha vyhnout se rizik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Organizace, normy, postup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aměření na detail, perfekcionism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Funkční hierarchi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ěcná orient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Primární věcnost jednání = profesionali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ddělování jednotlivých oblastí živo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ilný komunikační kontext, přímá komunik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ebejisto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Monochronie času, přesné časové rozdělení činnost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ansformační a tržní standar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sou kulturní standardy univerzální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emě západního světa: kulturní standardy tržní ekonomi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emě východní Evropy: transformační kulturní standar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zájemně se přibližuj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árové kulturní standardy 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formismus ve vztahu k autoritám x Zaměřenost na výsled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eská snaha vše a všechny přežít, snaha všemu se vyvarov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á ochota bojovat za svoje názory – strach z autor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Řízení od „zeleného stolu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upem času konformismu ubý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árové kulturní standardy I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ence iniciativy x Iniciat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lavní problém transform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ktivita velkou překážkou – zahraniční manažeři nás mají za nevzdělané a nezkuš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eši si stěžují, ale nic nedělaj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ibis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árové kulturní standardy II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lektivismus x Individuální výk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měňování podle výkon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ebeprezentace, Sebeprosaz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otiv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mprovizace x Kval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ypicky český fenomé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lokvalifikovaná prá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árové kulturní standardy I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atrný styl interakce x Sebejistá interak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aha vyčkat a nechat soupeře vyložit ka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ach nezesměšnit 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ladá generace je na tom lépe než její rodič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asová nepřesnost x Čas jsou pení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říve nebyl kritériem ekonomické efektiv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áce na dvě hodiny rozvržena na celý 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ordinace, logisti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kulturní standardy z rakouské perspektivy 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ientace na soc. vztahy a utváření vzájemné důvě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dnání je formální, až ve chvíli, kdy si obě strany věř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obní vztah zárukou oboustranného dodržování do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důrazňování symbolů status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kulturní standardy z rakouské perspektivy I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erarchie a autor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kousko: velká pravomoc, schopnost manažerů se okamžitě rozhodn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: abs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kdo není kompetentní – dlouhé toky informa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ždý názor doplněn výhrada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sence samostatnosti – důvěra autorit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árodní hrdost, orientace na minul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Pojem kul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ultura – původ v latinském slově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colere,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což znamená pěstovat, šlechtit, ale i obývat, vážit si, uctív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dstatné jméno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cultur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vyjadřovalo dříve vzdělávání, kultivování země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icero jej poprvé použil ve vztahu ke kultuře ducha v Tuskulských hovore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ultura tak, jak se zformovala ve starověku – aktivita člověka, cílevědomé úsilí o zdokonalení světa i sebe sama, opozice vůči čisté přirodno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kulturní standardy z americké perspektivy 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díly v prezentaci vlastních pracovních úspěch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A: chválí sami se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: podceň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Čekají na pochva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ětší strach neudělat chybu, než zájem o úspěch a vítězstv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ěmčina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kulturní standardy z americké perspektivy I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lišná očekávání od pracovního zařaz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díly v míře vyžadované samostat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: postupy musí být schváleny sh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A: samostatnost – „plav, nebo se utop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ikace se zaměstnaneckou organiz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A: váží si svého zaměstn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: ze zahraničí vnímáno jako neloajál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užitá litera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Nový, I. – Schroll-Machl, S.: 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Interkulturní komunikace v řízení a podnikání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. 1. vyd., Praha, Management Press, 1999. ISBN 807261009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Lehmannová, Z.: 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Kulturní dimenze v mezinárodním podnikání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. 1. vyd., Praha. VŠE v Praze, 1999, ISBN 80707985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Nový, I. – Schroll-Machl, S.: 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Spolupráce přes hranice kultur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. 1. vyd., Praha, Management Press, 2005, ISBN 80726112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Kulturní pluralita současného svě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e světě existuje mnoho odlišných kultur, nikoliv jedna unifikovaná kultu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aždá kultura je jedinečná, navzájem se liší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hodnotovým paradigmatem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oto paradigma má dva základní determinant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Geografické podmín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istorie (události, vlivy, ohrožení atd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Současná podoba kulturní plurali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nohost kultur existuje nejenom na horizontální úrovni, ale i na úrovni vertikál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roveň globálního kulturního syst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roveň nadnárodních kulturních systémů (základních světových kultu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roveň národních kulturních syst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roveň kulturních systémů etnických skup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Základní klasifikace nadnárodních kulturních útva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pad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fuciáns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apons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sláms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induistic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atinsko-americ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fric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Mezikulturní komunik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ulturní systémy zásadně ovlivňují způsoby vnímání, prožívání, hodnocení světa, způsoby myšlení aj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ultura má 2 aspekty (dle R. Lintona)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jevný: výsledky lidského jedn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sobnostní kultura: znalosti, postoje, hodno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Výchova k mezikulturní komunikac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ýchova k mezikulturní komunikaci je dnes již nezbytná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íl výchovy: komunikovat s příslušníky cizích kultur bez zkreslení předávaných informac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ozvinutí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metaznalosti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: jinak také kognitivní seberegulace – schopnost přistupovat k mnoha kulturám najednou, pohybovat se z jedné kultury do druhé bez ztráty osobní kulturní integr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anažer by měl ovládat interkulturní kompetenc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Výchova k mezikulturní komunikaci I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ři základní krok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Pochopení specifiky vlastní kultury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: dosažení tzv. kulturního sebeuvědomění (které kulturní determinanty ovlivňují naše vidění svě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Pochopení odlišnosti jiné kultury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: pochopení jejich základních rysů. Rozumět jak lidé z jiné kultury vnímají a interpretují skuteč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Komparace obou kulturních modelů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: oproštění emocionálních reakcí vůči vlastní i cizí kultuře. Jedná se o kulturní nadhled, překonání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etnocentrismu.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mezení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kulturního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šok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a německé kulturní standard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mpirický výzkum (Nový, Schroll-Machl: Interkulturní komunikace v řízení a podniká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Kritické události –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kvapení, nepochop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ísemné dotazy, diskuze, sebepozorování, expertní posouzení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Arial"/>
              </a:rPr>
              <a:t>   ►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  <a:ea typeface="Arial"/>
              </a:rPr>
              <a:t>vzorce ch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3:18:16Z</dcterms:created>
  <dc:creator>marcela</dc:creator>
  <dc:description/>
  <dc:language>en-US</dc:language>
  <cp:lastModifiedBy>snoopy</cp:lastModifiedBy>
  <dcterms:modified xsi:type="dcterms:W3CDTF">2008-12-02T11:32:17Z</dcterms:modified>
  <cp:revision>8</cp:revision>
  <dc:subject/>
  <dc:title> České a německé kulturní standardy</dc:title>
</cp:coreProperties>
</file>