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6D0C-0D0E-4D60-B5AF-2AE06A53C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656F-71B9-447E-8CA5-C9E928832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F062-19F1-466D-9A62-8306C41EC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1802-C517-4A0B-832C-DB4EF8868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7634-CC85-463C-BD80-C410D6E9D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AB81-9E1A-488E-97CE-99E63E15E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46CE-E2F3-448D-8CF2-E2EB25E54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FA8A-79F7-45E0-8F14-D4563CF61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7536-A88C-46DC-975A-A1990F96C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20CE-DAC8-492E-9678-0618F05AC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B362-A6F3-46B7-90BE-90CA8278A9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22E3-8554-4B3A-A6C3-3E215D1F8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D64E-37CC-4FF1-A88E-51DD5490B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6444-0617-4312-B140-F138FBD866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3316-B7C0-4EC6-A00F-FCB6915186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734D-ADFA-429F-B0C7-9E80BD510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9EF8-7E89-4B7D-8BF7-A10097990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4F55-E116-476B-8EFB-9A4A788DF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2B35-937A-456E-A948-B9FB906A3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5160-C708-4D6D-AB4C-FBE2CF292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51E6-9617-4C64-9EE0-61ABEB181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D0B0-0553-42A8-A81D-639F52277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7011-A101-45E5-B0D0-E972710D6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4FF2-F1AF-418F-AEDE-CECF1A54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849A-9B85-4103-A5A3-D5E69179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7095-99D4-40F5-846E-32ABFD26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5F7D-BEE7-49EE-B757-0C8AAB4F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46E0-20FF-4E4B-A769-6E81AFBF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1487-9F65-4548-A0B9-7646ED88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C5B6-66C1-4247-A895-DBE4E341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2539-0F9B-4103-AA20-FDC26B3A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B14-A1EC-4549-BDD8-5A7260C7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4D57-8DED-4034-99D7-4888830B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1E26-F549-4EFA-A43F-AC78D40F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995B-23B6-41BC-A2A2-330068E4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9C93-EBA0-4B07-B76C-8B41FA7373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ORGANIZAČNÍ KULTURA</a:t>
            </a:r>
            <a:br>
              <a:rPr sz="40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 Od sdílených hodnot a cílů k vyšší výkonnosti podni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5728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98989"/>
                </a:solidFill>
                <a:latin typeface="Calibri"/>
              </a:rPr>
              <a:t>Bc. Hana Drozdov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98989"/>
                </a:solidFill>
                <a:latin typeface="Calibri"/>
              </a:rPr>
              <a:t>Klára Ottichov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98989"/>
                </a:solidFill>
                <a:latin typeface="Calibri"/>
              </a:rPr>
              <a:t>Bc. Kristýna Trnkov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Implemen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liv kultury na strateg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liv strategie na kultu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oulad mezi obsahem strategie a obsahem kultury je podmínkou dlouhodobé úspěšnosti organizace. Ideálem však není naprostá identita, určitá míra konfliktu vytváří prostor pro tvorbu  nových strategi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K a výkon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Síla OK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Vytváří soulad ve vnímání a myšlení pracovník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Usměrňuje chování lid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namená sdílení společných hodnot a cíl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Fixuje organizaci na minulou zkušeno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abraňuje myšlení v alternativá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působuje rezistenci vůči změná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Obsah O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ktivuje pracovník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měřuje k naplňování cílů a hodn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ozitivní vliv kultury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kultura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ontextuálně přiměřen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rategicky přiměřen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daptivn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 přiměřenými manažerskými praktikam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řiměřeně silná a harmonizující, stmelujíc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ovéPole 3"/>
          <p:cNvSpPr/>
          <p:nvPr/>
        </p:nvSpPr>
        <p:spPr>
          <a:xfrm>
            <a:off x="4143240" y="3429000"/>
            <a:ext cx="47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EXISTUJE JEDINNÁ NEJLEPŠÍ VÍTĚZNÁ K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ely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del D.R. Deniso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del soupeřících hodnot“ B. Quinna a J.Rohrbaugha (CVM – Competing Values Mod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třet kultur a jeho vliv na výkonnost organiz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Uvnitř organizace může existovat několik subkultur, nebo se může firma zapojovat do vztahů s jinými firmami a jejich OK na úrovních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ubkultur v rámci organiz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K v rámci domácích fúzí, akvizicí a jiných forem spolupráce fir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rganizačních i národních kultur v rámci mezinárodních fúzí, akvizicí a jiných forem mezinárodní spoluprá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Jak předejít střetů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ypologie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A) Ve vztahu k O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ypologie R. Harrisona a CH. Handyh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ypologie F. Trompenaar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B) Ve vztahu k vlivu prostředí a reakci organizace na prostřed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ypologie T.E. Deala a A.A. Kennedyh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nsoffova typolog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ypologie R.E. Milese a C.C. Snow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ypologie R.E. Quinna a jeho spolupracovník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C) Ve vztahu k chování organiz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ompasový model W. Ha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eorie „krychle 2S“ R. Goffeeho a G. Jone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Typologie R. Harrisona a CH. Handyh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42960" y="1214280"/>
            <a:ext cx="77151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Typologie T.E. Deala a A.A. Kennedyh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71680" y="1336680"/>
            <a:ext cx="814356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iagnostika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olba a specifikace teoreticko – metodologických východise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olba výzkumných met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mezení jednotky analý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alýza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Může mít trojí účel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soudit funkčnost OK ve vztahu k výkonnosti organiza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soudit obsah OK z hlediska předností a omezení vůči zvažovaným strategickým alternativám (při vývoji firemní strategie) či vůči plánovaným organizačním změná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soudit kompatibilitu (spojitelnost) kultury dané organizace s kulturou jiných organizací (při plánování fůze, akvizice či jiné formy strategické spoluprác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stup utváření žádoucí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Jednoznačná, srozumitelná a dlouhodobě udržitelná strateg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Formulace očekávání firmy vůči zaměstnanců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Formulace rozhodujících parametr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eskripce a hodnocení současné OK organizace v rozhodujících dimenzích, vážících se ke strategii fm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mezení nejdůležitějších oblastí podnikového řízení, které bezprostředně souvisejí s OK a mají charakter podmínek jejího dosaže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Informování zaměstnanc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zdělávání, vysvětlování, trénin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ontrola, sank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iagnostika změn v kultuř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 je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Jsou dva základní přístupy k vymezení pojmu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Interpretativní</a:t>
            </a: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 – „něco, čím organizace je“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Objektivistický</a:t>
            </a: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 – „něco, co organizace má“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 u="sng">
                <a:solidFill>
                  <a:srgbClr val="000000"/>
                </a:solidFill>
                <a:uFillTx/>
                <a:latin typeface="Calibri"/>
              </a:rPr>
              <a:t>Zobecnění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Organizační kultura je soubor základních předpokladů, hodnot, postojů a norem chování, které jsou sdíleny v rámci organizace, které se projevují v myšlení, cítění a chování členů organizace a v artefaktech (výtvorech) materiální i nemateriální povah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iz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bsence jasné a srozumitelné strateg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rozhodnost v rozsahu kontinuity a diskontinu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dostatečná operacionalizace očekávání, požadavků vůči zaměstnanců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provázanost nové/žádoucí kultury s jednotlivými personálními činnost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bsence mocenského nebo odborného promotora změ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důsled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provázanost s ostatními měkkými a zejména tvrdými faktory říz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konzistentnost organizační a národní kultury či kult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dostatečná identifikace manažerů s žádoucí kulturou, zpochybňování manažersk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rátkodobá orient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ová kultura navž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íliš silná identifikace s novou kultur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LUKÁŠOVÁ, R., NOVÝ, I. a kol. Organizační kultura. Praha: Grada, 2004. ISBN 80-247-0648-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ofstede, Geert, Kultury a organizace : software lidské mysli : spolupráce mezi kulturami a její důležitost pro přežití / Geert Hofstede a Gert Jan Hofstede ; [překlad Luděk Kolman], Praha : Linde, 2007, 335 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chein, Edgar H., Psychologie organizace, 1.vyd.  Praha: Orbis, 1969, 161 s. (Malá moderní encyklopedie ; 6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ky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Artefak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ákladní předpoklad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Hodno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stoj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Normy chování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Jazy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Historky a mý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vyky, rituály, ceremoniál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Hrdinov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Firemní architektura a vybavení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K je multidimenzionální j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ky jsou strukturované do několika ro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rtefakty a chování považují za vnější rovinu 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dgar Sch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.P. Kotter, J.L. Heskett a G. Hofste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W. Hall, C. Lundbe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sah a síla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sah = základní předpoklady, hodnoty a normy chování sdílené v organizaci, navenek manifestované prostřednictvím chování a artefakt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íla = nakolik je obsah kultury sdílen v organiza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nik a vývo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Zdroje OK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Vliv národní kultu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dnikatelské a tržní prostředí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rofe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akladatel/vůd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Velikost a délka existence organiza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ákladním mechanismem vzniku a utváření OK je organizační učení – redukce úzkosti a pozitivní posilování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K a jedin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ztah k OK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Jednoznačné dodrž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apjaté dodrž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Utajené dodrž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Otevřené nedodržování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Lidé si vybírají organizaci, pro kterou chtějí pracovat, na základě podobnosti mezi jejich individuálními hodnotami a hodnotami deklarovanými organizací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K a strate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K nefunguje izolovaně, ale je ve vzájemných vztazích s organizační strategií a struktur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voj a realizace strategických rozhodnutí a plánů je záležitostí lidí, kteří jsou nositeli určitých předpokladů, hodnot, názorů a norem chová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věma základními kroky strategického řízení jsou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vorba strategi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mplement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Tvorba strate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vedení strategické analý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nalýza vnějšího okolí a vnitřních zdrojů a schopností podni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a formulace strateg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běr optimální varian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9:05:05Z</dcterms:created>
  <dc:creator>KRI</dc:creator>
  <dc:description/>
  <dc:language>en-US</dc:language>
  <cp:lastModifiedBy>KRI</cp:lastModifiedBy>
  <dcterms:modified xsi:type="dcterms:W3CDTF">2008-12-03T19:47:26Z</dcterms:modified>
  <cp:revision>19</cp:revision>
  <dc:subject/>
  <dc:title>ORGANIZAČNÍ KULTURA  - Od sdílených hodnot a cílů k vyšší výkonnosti podniku</dc:title>
</cp:coreProperties>
</file>