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6F1-8A24-4F13-8ADE-DC074CD1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2D6-ED68-447A-916E-8083F775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F38-8CEF-4E0F-BB1F-08175A54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BEB-CFF0-4239-8DB4-4D8007BC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E5C-88CC-4C8E-ABB6-480CEBD3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8346-DA71-49E3-8731-FBAB2C86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5E27-3003-4461-84CE-3A6D94B3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FBEC-326F-4B99-A6CF-F7748648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944F-1446-4495-BD7E-1E708D20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2A4B-AF4A-4B8B-92B7-8808426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D2B5-1C60-497A-AE30-12DF9EF9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1A5-4B60-4B08-98CE-6265479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728-C9C7-470E-868F-EE9E7712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2255-B688-4BC8-939C-15F93FB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E5AF-453C-4B8A-A27F-1D628BF1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9A98-BDC0-4663-96DB-F7F177DF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F788-C294-45CD-A231-68DFED27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793-8103-4C91-9C41-6CC6D476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096-452C-4741-8C99-5913D1D6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1C7-CD6C-4876-B4A5-262C0E9B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230-2E7E-492E-86D3-C824821E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E92-664D-47FB-B5DB-C0BF189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2A5-728C-4303-902E-94E836B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514-1EE2-4C3F-AF31-48AC922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9FE-0159-48DB-BC0F-AC801246C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0D16-05F2-43D9-90A2-986A1143A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he.cz/" TargetMode="External"/><Relationship Id="rId2" Type="http://schemas.openxmlformats.org/officeDocument/2006/relationships/hyperlink" Target="http://members.tripod.com/~pf_cz/pf8/global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ální kapitalismus versus demokrac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43040" y="44290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87722"/>
                </a:solidFill>
                <a:latin typeface="Arial"/>
              </a:rPr>
              <a:t>Vypracovali: Václav Klein, Robert Kunder, Vít Zouhar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riesk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3 z 5 britských spotrebitelov  su ochotny bojkotovat firmu, kde maju pochybnosti o jej moralnom profile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75% americanov by bojkotovalo obchody, ktore predavaju vyrobky novodobych otrokarov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Úloha medi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28520" y="1428840"/>
            <a:ext cx="6476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Média hrajú klúčovú úloh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Hrozby: komercionalizácia a z nej vyplývajúca krátkodobosť a ohrozená nezávislosť médií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enjamin Barber - Consum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le Barbera – kapitalismus je spojen s určitými kulturními a společenskými hodnotami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– spojení s protestantskou etikou - uměřenost, šetřivost a altru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esloužilo primárně k okamžitému sebeuspokojení, ale k dlouhodobým záměrům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před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642680"/>
            <a:ext cx="647712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byl převážně zaměřen na uspokojování existujících potřeb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Vytvářel přibližně takové množství zboží, které lidé potřebovali. Nyní produkuje mnohem více zboží, než lidé potřebují. Nebo není vhodně alokováno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714680"/>
            <a:ext cx="647712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prvé v dějinách lidstva věří nějaká civilizace, že její ekonomické přežití je závislé na mravech, které podporují infantilitu místo zralosti a odpověd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ěti jsou vedeny ke konzumu a dospělí k infantilitě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tváření umělých potře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1080" y="1999800"/>
            <a:ext cx="64771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vě části světa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Chudá – nedostatek peněz - množství neuspokojených potřeb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ohatá – dostatek peněz - potřeba vytvářet umělé potřeby. Toho lze ovšem těžko dosáhnout u odpovědných dospělých lidí, kteří se rozhodují na základě racionální volby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Terčem jsou děti a infantilizace dospělých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dospělý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285920"/>
            <a:ext cx="6477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vláštní druh postpubertální kultury, v níž lidé stále častěji odmítají jednat tak, jak by se předpokládalo vzhledem k jejich věku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krácení dětství, zatímco dospělost přetvořila do postpubertálního životního stylu, v němž se dospělí s pomocí bezuzdné spotřeby snaží zapomenout na to, že jsou dospělí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oderní média – infotainmen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nfantilismus – manipulovatelnost, nezodpovědnost, nedostatek nadhledu, narc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médii – popsáno před Barber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 tam kde je aktivní přístup uživatele: nejhledanější témata na internetovém vyhledavači Google v letech 2001–2005: suverénně Britney Spears, Eminem, Jennifer Lopez, Janet Jackson, Paris Hilton a Harry Potter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Filmy s nejvyšší návštěvností: infantilní hybridy, které mají za úkol přilákat jak děti, tak dospělé – viz Harry Potter, Matrix, nebo Hvězdné války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ALIZACE nastupu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70. a 80.léta </a:t>
            </a: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laissez –faire</a:t>
            </a:r>
            <a:r>
              <a:rPr b="0" i="1" lang="cs-CZ" sz="2000" spc="-1" strike="noStrike">
                <a:solidFill>
                  <a:srgbClr val="5e1f08"/>
                </a:solidFill>
                <a:latin typeface="Arial"/>
              </a:rPr>
              <a:t>: popření Keynesovské doktrín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79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argaret Thatcherová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Velká Británie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81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Ronald Reagan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USA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 …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zastánci názorů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. Friedmana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F. Hayeka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Přesvědčení, že úspěšné a ničím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eomezené korporace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ás dovedou ke společenské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irváně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Ideologie se rozšířila do Austrálie, Kanady, Západních zemí Evropy a také do Latinské Ameriky a po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pádu komunismu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i do zbytku světa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ALE…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emokracie vs. Infantiliz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třebuje ke svému přežití odpovědné lidi, schopné obětí, jakož i občanskou společnost, která se opírá o nejrůznější občanské ct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ax Webber varoval, že honba za bohatstvím, která je zbavena etického kontextu, se stává pouhým sportem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ahrazení Étos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kud tento infantilistický étos bez hodnot nebude vystřídán demokratickým étosem a kapitalismus znovu nenastolí rovnováhu mezi ziskem a rovností, rozmanitostí a homogenizovanou spotřebou, aktivním občanstvím a konzumem, bude podemleta nejenom demokracie, ale nakonec i sám kapitalismu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dro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Noreena Hertzová - Plíživý převrat : globální kapitalismus a smrt demokracie; přeložil Robert Bartoš. -- 1. vyd. v českém jazyce. -- Praha : Dokořán, 2003. -- 255 s. ;. ISBN: 80-86569-46-2 (váz.)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Jiří Pehe - Infantilní kapitalismus útočí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he.cz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avid Unger - Globální kapitalismus - naděje či hrozba pro lidstvo?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mbers.tripod.com/~pf_cz/pf8/global.htm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kujeme za pozornost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ak se GLOBALIZACE projevila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vět ovládaný kapitalismem volného trhu, už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nepotřeboval tradiční politické spektrum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nebo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ti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kapitalismu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WTO,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MMF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- Státy žádající podporu se musí podřídit kapitalismu a globalizaci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áty si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konkurují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v soutěži o získání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investic soukromého sektoru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daně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veřejné výdaj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htějí podporovat soukromý sekto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DŮSLEDEK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Vítězství kapitalismu přežila jen jedna světová ideologie: </a:t>
            </a: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KAPITALISMUS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!    ….a to má další DŮSLEDKY…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ůst moci korporac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Otevírání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litika podpory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Stále větší pohyb kapitál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Revoluce v telekomunikacích- snadnější komunikac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Nízké přepravní náklad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dpora WTO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________________________________________________________      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¼ světových aktiv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spravuj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300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adnárodních korporac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pouz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1 států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má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vyšší HDP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ež každá ze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 šesti největších   nadnárodních společnost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tržby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těchto korporací představují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/3 světového obchod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roste jejich</a:t>
            </a:r>
            <a:r>
              <a:rPr b="1" lang="cs-CZ" sz="2400" spc="-1" strike="noStrike" u="sng">
                <a:solidFill>
                  <a:srgbClr val="5e1f08"/>
                </a:solidFill>
                <a:uFillTx/>
                <a:latin typeface="Arial"/>
              </a:rPr>
              <a:t> vliv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 nejen na poli ekonomickém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…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emná tvář globalizace a kapitalism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adnárodní společnosti se mohou volně prosazovat  v rozvojových zemích-snaha vlád těchto zemí je přilákat-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mezí, nebo zruší regulaci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níží platy a sociální dávky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chází k omezování odpůrců cizích investo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znikají ráje znečištěn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úřady zavírají oči nad porušováním zákonů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Další vady na kráse: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oste rozdíl mezi bohatými a chudými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nně zemře hladem nebo v důsledku nemocí 6000 dět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rodej antidepresiv vzrostl za posledních 10 let o 16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róši- smrt z přepracování- ročně cca 10 000 případ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eště o moci korporací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ĚMECKO 1999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árůst zisků za 20 let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90%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les výnosů z daní právnických osob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Lafontain-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us o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 zvýšení daňové zátěž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utche Bank, Allianz, BMW, Daimler-Benz, RW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Lafointain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rezignace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RITÁNI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ws Corporation R. Murdoch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87-1999 zisk 2,3 mld. dola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zaplacená daň z příjmu= 0 dolarů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a Rove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ony Blair podpořil BMW 150 mil. liber na zachování pracovních mí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přijalo, ale do roka bez varování závod zavřelo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j na mezinárodním po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Echelon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špionážní systém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haleno v roce 2000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homson-CSF a brazilské úřady: 1,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Airbus a Saudská Arábie: 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nercon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enetech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elkem asi 10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WTO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96 zákaz používání umělých růstových hormonmů v krmivu dobytk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P odhlasoval v poměru 366:0 hlas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akovina, předčasná puberta, neplodno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vozní bariéra? WTO: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ANO..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uvalení sankcí za 125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Chiquita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řidělila kvótu 10% aby podpořila drobné producenty z Karibiku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tížnost  WTO…opět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vyhověla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USA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vetná opatření za 190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belky, hořčice, ložní prádlo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Kauz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Európa vs. Geneticky modifikované potraviny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Otrocká práca v Hondurase, Bangladéši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Kauza Posilac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olitická mo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láda podlieha ekonomickým vplyvom, straca doveru a klesa volebna ucast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Dobré meno firmy a spotrebite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azby spolocnosti na politik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Chovanie spotrebi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yjadrenie nazoru cez nakup, alebo na valnej hromade miesto hlasovania vo volbach, pripadne volba zamesnava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34:04Z</dcterms:created>
  <dc:creator>Zou</dc:creator>
  <dc:description/>
  <dc:language>en-US</dc:language>
  <cp:lastModifiedBy>Zou</cp:lastModifiedBy>
  <dcterms:modified xsi:type="dcterms:W3CDTF">2008-12-08T13:12:25Z</dcterms:modified>
  <cp:revision>5</cp:revision>
  <dc:subject/>
  <dc:title>Target The Market</dc:title>
</cp:coreProperties>
</file>