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F6B-5142-4DF8-AADC-E49F4377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12B-2DEB-49FE-A21D-543038A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BEA-D8B8-4DAD-841F-23AD4DAB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C95-5841-4746-B327-8850646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C08D-7199-4764-874A-86BCA1F6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9691-4515-4089-9EE8-24F614A3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9AB9-8885-433A-BD99-702441D3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A9C-2A9C-4BAB-83A6-8681EEA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7F9A-846F-46E2-AE1A-1112266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4522-007B-4377-9155-65620A7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D7F0-B221-41AC-A514-A814286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D55-C563-43EC-926E-F20C4EA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17D-2085-44CC-96B4-3CA8EC4C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5FC4-0AD8-4BC3-91FA-7171F64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3D0-F848-478B-9C15-DC9E6DDB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C6E-0C1A-46DB-B467-486F7DDE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2596-03B2-46DA-8B4E-9AA4B88E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A58-E5E0-43C5-B140-EA610088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DB7-1164-4607-AF3D-0AC6086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CD4-9D2F-4561-ACE7-C491AB0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1FD-D117-40F5-BE01-44C1E7F5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F27-41FF-486B-9665-1078020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5CC-47C0-4502-B105-7E61BE1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0FE-D924-42C0-B2CB-621FA02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63D-114C-408A-AA53-36FAE286B34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BE4-269A-494D-84EC-707EE4776D2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tika podnikání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říze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 tvorby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ělování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y pro etické ch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kvality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a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podniku za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ální rozvoj podn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upeň – amorál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upeň – formálně-práv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upeň – společensky odpovědn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upeň – eticky se rodíc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upeň – etick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eorie Stakehold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nikatelská organizace má širší odpovědnost než jen vůči svým vlast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současnosti se zvyšuje tlak na sociální (společenskou) 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keholders“ je skupina těch, kteří mají zájem na činnosti firmy, nebo-li skupiny participující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rim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o/velko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Sekund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ístní společen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í aktiv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chodní asoc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hraniční vlá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t a místní zastupi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odpovědnost podniku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(CSR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ohledu podniku je třeba dbát nikoli o dosažení maximálního zisku, ale optimálního zisku, který vezme v úvah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chny principy udržiteln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nost v rozhodování, finančním hospodaření a personální poli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vný postoj v otázce lidských prá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členění etických norem nad rámec norem právních – „odpovědný obča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vody přijetí CSR firma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ha vyhnout se vládním zásah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a seberegulace byznysu jako odpověď na jeho vzrůstající ekonomickou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ňující se vnímání byznysu ze strany veřej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kteristika CS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ři základní pilíř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oblast (etický kodex, protikorupční politika, ochrana duševního vlastnictv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oblast (rozvoj lidského kapitálu, rovné příležitosti, lidská prá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vironmentální oblast (ochrana přírodních zdrojů, ekologická výro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tnová, A., Seknička, P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tické řízení ve firmě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 : Grada, 2007. ISBN 978-80-247-1621-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knič, A. Štvrtý rozmer podnikania – etika. Bratislava : Slovak Academic Press, 1994. ISBN 80-85665-30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nikatelská e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rofesní, aplikovaná, normativní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 vznik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inárodní 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y zdravého a dynamického roz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po 2. světové válce v západních zemích – zlepšení kvality živ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ČR hlavně 90. léta např. Čisté r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konomické důvody naplňování podnikatelské etik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ížení transakční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íl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a posilování imag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ilování spokojenosti zákazní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loajalitě inves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ivace podnikatelské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zi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íčové hodnoty pro tržní ekonom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laté pravidlo morálky: Co nechceš, aby jiní dělali tobě, nedělej ani ty j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uroamerický  systém hodnot pro ekonomickou praxi pro řešení složitých etických probl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sahuje tyto hodnoty: svoboda, spravedlnost, odpovědnost, důvěra, pokrok, prosperita, racion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á svoboda: klíč k výkonné ekonomice, efektivnímu řízení, správě podniků a udržitelné míře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avedlnost: za stejných nebo podobných podmínek bude se všemi bytostmi jednáno stej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jednajících osob či organizací, jež se vztahuje následky takových činů, jimiž nebyla porušena právní forma, ale přesto došlo k narušení etických norem a hod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stroje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dexy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z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cvik a vzdělávání v oblasti podnikatelské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a sociální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ombudsmana pro etiku ve fir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ý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ncipy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onomický a sociální vliv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atelsk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ktování pravi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mezinárodní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varování se nezákonných oper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 a nejpoužívanější nástroje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ká Británie – 50-60% společnost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R – 20% společ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vádění v době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lňuje zákonnou úpr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ozumitelnost a jednozna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eší vztahy se zákazníky, akcionáři, zaměstnanci, dodavateli, konkurencí, vlád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ké obsahové okru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ktování 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estnost a fér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pečnost a kvalita produ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utí diskrimi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y s 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u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 odpově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2:32Z</dcterms:created>
  <dc:creator>Hana Kubicova</dc:creator>
  <dc:description/>
  <dc:language>en-US</dc:language>
  <cp:lastModifiedBy>snoopy</cp:lastModifiedBy>
  <dcterms:modified xsi:type="dcterms:W3CDTF">2008-11-24T12:47:31Z</dcterms:modified>
  <cp:revision>8</cp:revision>
  <dc:subject/>
  <dc:title>Etika podnikání</dc:title>
</cp:coreProperties>
</file>