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D28-5329-48D5-B23D-0D3D1DBD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324-AA1E-4B8A-9B55-4D7CDDA9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E46-3518-415E-BBCC-82E20E78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C20-2B8C-480F-95FA-A863ECA5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059E-E485-4FE0-BA24-D0B267BF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EE51-BAE7-4907-A798-F3121872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7E34-031D-4F90-BDB9-EC585C32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8D7B-B5DF-44A1-8374-27ACC4B2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72D3-3BE1-4502-B7D8-9332514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91A-249C-42E1-A396-34EA77C6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4576-65F5-419A-AF89-7BC34EE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4D0-756E-4491-8A22-EEA012B0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A438-D9F2-4D03-A577-B3CB9DE6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2C2-511F-4BD4-AB1D-63A02761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AABA-6211-4BEB-AAE7-06241D6D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FA84-2474-4D78-A187-B023D8B0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B42A-C168-4F97-AB70-1B799E2A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BC1-DF86-4A8B-B18D-0A13A8A7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156-DD47-4268-8DEC-72F0C43C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F25-AB18-42AD-9B15-CF810384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394-465A-4592-B938-67A36FE3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2FF-8FC5-413C-ABB2-EBBFA3F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DF1-4873-4AEC-B6F5-10BD0066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082-98AC-4C79-AF10-14FC15FA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00F6-077C-4C5B-90C6-8CB198D9A3BF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C01D-9345-46D8-A3A4-BF42AAF10185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bbd71"/>
                </a:solidFill>
                <a:latin typeface="Arial"/>
              </a:rPr>
              <a:t>Požadavky na manažery na prahu postindustriálního věku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dežda Kaluž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roslav Mašle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ereza Žá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ce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stata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ční pa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ástup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řešitel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jednoznač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ě práva uplatnitelná před řešením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sem ten, kdo by měl problém řeš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 problém jednoznačný, řešitelný a skutečný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alýza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zbytná k odhalení vnitřní podstaty problému, jeho příčin a různých souvisl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dely reality (teorie vitality, funkční model firmy, balanced scorec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běr d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věryhod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levance (zahlcení daty malé či nejasné užitečnos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uzování souvislostí (systematické myšlení ubývá, především přírodní vědy, např. matemat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le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asová posloupnost – vyskytuje se samostatně nebo spolu s nějakou další souvislostí? (pomůcka: kalendář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ční vztahy – D je smyslem C nebo C umožňuje/usnadňuje D -&gt; není možné/žádoucí, aby proběhlo D -&gt;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uzální řetězce – mat.implik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řa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torové vztahy (pomůcka: ma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pacitní vztahy – hospodaření s omezenými zdroji (časové, finanční, lidské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a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fliktní vztahy – „palivo do motoru vývoje“ – při neexistenci stagnace, při neřešení krize, při úspěšném řešení pozvolný vývo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pětné vazby – pozitivní zpětná vazba je základem individuálního učení, negativní z.v. základem stability dynamických systé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upráce a synergi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– podmínky rozhodnou o tom, zda budou lidé soutěžit nebo spolupracovat; měli by sdílet cesty a cíle, vhodná diverzita v rolí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spořádanost – vztahy mezi lidmi,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istota – pravděpodobnost a riziko, proměnli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luve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rainstorming – nápady se v průběhu zásadně nehodnotí, vytváření neobvyklých asociací, vhodná rozmanitá skup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365 – vytvořte skupiny po pěti lidech a dejte jim šest minut na to, aby se dohodli na třech řešeních problé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ující papí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foban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lfská met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ledání inspi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edání ana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oda přehledného pátr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pojení lai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řídě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zjevných nesmys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mysluplné x „smysluprázdné“ možnosti (např. podle konsensuálního pravidla, podle stupně příslušnos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pořádání skupiny možných ře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dukce počtu mož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běr skup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dělování bo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dnoce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pří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elativní – nutně potřebujeme vybrat nebo může být řešení uplatněno jen jedno a jedn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Absolutní – více než pořadí nás zajímá, do jaké míry hodnocené možnosti vyhovují kritérií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Ďáblův advokát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e personifikace či celkové sou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eznamy plusů a mínu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rovn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ámk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DDB – distributivně delegativní 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ultikriteriální hodnoc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ozhodování a realiza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utorit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rticip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leg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lán – tabulka, mapa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nitor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hodnoc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oužitá literatú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i KAMP, Manažer 21. století. Praha: Grada, 2000. ISBN 80-247-0005-0.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LAŽEK, L. Management II – průvodce studiem. Br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LAMÍNEK, J., Řešení problémů a rozhodování. Praha: Grada,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Vývojové trend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verečné tri dekády 20. st. i začiatok 21. storočia sú v znamení rozmachu manažerskej e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nažér nie je len zamestnancom slúžiaci vlastníkom, ale aj individualitou s ďalšími záväzkami voči rodine, komunitám i voči vlastnému svedomiu (M. Friedman)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ácia zamestnancov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ajdôležitejšia súčasť práce manažé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namená uvádzanie sa do pohy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ácia je vždy seba- motiváci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ujúce faktory: 1. úcta k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2. prejavy uznania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3. poskytnutie zodpoved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4. záb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rečo si prajeme motiváci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Motivovaní ľudia uskutočňujú zme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Uľahčovanie riade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Faktory motivác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cta k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dnať s každým zásadovo a spravodl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držovať všeobecné zásady sluš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iať na vedomie individualitu ľudí a rešpektovať rozdiely medzi ni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jadrovať úctu a vďačnosť za to, že dotyčný prispel k dosiahnutiu vašich cieľ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javy uznania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dmena za prác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aždodenná politika a sprá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skytovanie zodpoved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sobná zodpoved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ová zodpovednosť pri nevyťažení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áb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ačné vzor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oaktivní – reak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rne – externe motivova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rentovaní na rovnakosť – odliš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závislí - koopera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Základní pojm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roblé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vnáší do systémů typu firem, rodin či společností nerovnováhu nebo nestabilit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tabilit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schopnost systému hledat rovnováhu, dosahovat jí, nebo k ní směřov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ový stav systému, při němž se působení různých vlivů navzájem ruš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po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é vnáší do systému nerovnováhu nebo nestabilitu; souvisí ovšem s přístupem lidí, kteří mají problémy či spory řešit – snaží se prosadit určitý výslede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Konflik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adřazený pojem pro problém i spo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áze řešitelského proces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fin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alý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r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říd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dno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8:50:36Z</dcterms:created>
  <dc:creator>Tereza Žáčková</dc:creator>
  <dc:description/>
  <dc:language>en-US</dc:language>
  <cp:lastModifiedBy>Tereza Žáčková</cp:lastModifiedBy>
  <dcterms:modified xsi:type="dcterms:W3CDTF">2008-11-24T00:35:09Z</dcterms:modified>
  <cp:revision>10</cp:revision>
  <dc:subject/>
  <dc:title>Základní pojmy a fáze řešitelského procesu</dc:title>
</cp:coreProperties>
</file>