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9AF-57FA-4078-9C23-C0267A7F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957-13D2-4964-94C0-692D217D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B6C-0762-4297-BCA5-9F8B60C7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D5B-8E1D-413C-8A32-94F6CD89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CDC9-8143-4E98-8667-72980260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BE66-EA98-49F2-8A2C-52B50B4C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F46B-8103-4639-AFD1-66E59395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250E-7A4B-46EC-A6B0-B7752F42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0C9A-9ED3-482C-8ED5-7BECAFF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5C39-74AC-410F-95A6-4509149C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10C8-E4E8-4FD9-BB9C-28F030DD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438-ED23-4050-A789-919F0FE4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C60A-E3E2-494F-8CE0-CE666A9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EDE-B463-44CB-804C-09F51BE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460E-6EDB-4320-98C5-745603DD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3738-19B9-48E6-BB00-BE71E54A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3A82-C620-47BA-81BB-82F3FC5E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E8E-C356-438C-8676-06523C7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864-777F-4E84-8E9F-5F407EED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84C-7562-4B4F-B4C9-120F6922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E17-EA83-48C3-B631-D5ED581F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A99-3ED0-4518-A176-ADDFC06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D7E-F67E-4824-9B8A-2268F95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DC5-F25A-4CF6-A5AB-40F2CCD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D693-BB33-4E28-BFFC-FBCA2C3501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17D-0D31-4A1A-A72C-7D16178B42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ývojové trendy podniků a jejich řízení na prahu postindustriálního věku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508280"/>
            <a:ext cx="3960720" cy="1152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atália Če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omáš Jelín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náta Kaszpe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ientace na špičkové výsledk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Buď jste v tom, co děláte, nejlepší, nebo to nebudete dělat moc dlouho“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. Wel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4437000"/>
            <a:ext cx="403200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smické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ktro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e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formační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ecký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omatizace a robot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brojní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437000"/>
            <a:ext cx="403236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dravotnictví vč. Výroby lé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organická chem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vědeckých přístroj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motorů a turb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vé materiá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ysoká výko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irma, která chce trvale vítězit, musí mít alespoň dvojnásobnou výkonnost, než je průměr daného odvětví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kazatele úspěš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átk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louh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ycí příspěv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 podílu na tr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měrové ukazatele (ROI, ROCE, ROE, FCF, ROS, EV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e vztahy k zákazníků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klady na vzděl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čet zlepšovacích návrh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idaná hodnota na pracovní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472428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uropean Consulting Institut používá 516 ukazatelů (Šmejkal, V.: Ukazatelé výkonnosti, European Consulting Institut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užívání moderních metod managemen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981000"/>
            <a:ext cx="2232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Swot analý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ntro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afeteria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por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orterův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60640"/>
            <a:ext cx="341928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orfa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i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nviromental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349360"/>
            <a:ext cx="187164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 pla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sor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ust i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708280"/>
            <a:ext cx="435636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oint Ve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uman Resour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otal Qua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arget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435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ross Do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lus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Balance Score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ctivity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148428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Interní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Gover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Soci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Relationship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48000" y="2276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Servi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erzní a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it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isk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ozhodovací str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48000" y="3141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Private 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CP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8000" y="4149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V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n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60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ogistic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ke or Bu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vnímaných hod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B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EQ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458136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ean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Goldratova teorie 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-commerce, E-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lš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rávné produkty a jejich zna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nalosti základem úspěch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fektivní portfolio a core 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ychlost a pruž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ýkonnostní motivační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entraliz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tváření síly podniku fúzemi, akvizicemi, aliancemi, sítěmi, formováním virtuálních podnik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celený systém řízení a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užívání moderních informačních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spektování zásad Corporate Governance, principů etiky, společenské odpovědnosti a ekologi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valifikované strategické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anagement inovac</a:t>
            </a:r>
            <a:r>
              <a:rPr b="0" lang="sk-SK" sz="6600" spc="-1" strike="noStrike">
                <a:solidFill>
                  <a:srgbClr val="ccecff"/>
                </a:solidFill>
                <a:latin typeface="Arial"/>
              </a:rPr>
              <a:t>í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Firemní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ultura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 a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dpoklady pro inovační proce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ástroje implementace proinovační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lánování a rozpočtování inov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ce inovačních činností ve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edení personálu k inovac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Firemní kultura a předpoklady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</a:t>
            </a: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 inovační proces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remní kul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zi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ga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y (USA X Japonsk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žadavky na silnou firemní kultu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vůrčí inovační kl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firemní kul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Nástroje implementace proinovační firemní kultu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Činnost top manage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osažení konsensu top management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prava na vyhlášení Zásad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stro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sonální čin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zdělávac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lánování a rozpočtování inovac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tí plán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ýběr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terní podněty k plánování a rozpočt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ntrola inovační výko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se dneska dozví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incipy úspěšné firmy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agement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Podpora tvoři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Stimulace a motivace v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acionálně řídit a organiza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Organizace inovačních činností ve firm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dpodniková organizace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cí ve firm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užné organizační struk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ch projekt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 činnosti v nevýrobní sféř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edení personálu k inovací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l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otivac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 inovační zaměstnanecké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 známých manažerů - inová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Zvítězíme i v </a:t>
            </a:r>
            <a:r>
              <a:rPr b="1" lang="sk-SK" sz="6600" spc="-1" strike="noStrike">
                <a:solidFill>
                  <a:srgbClr val="ccecff"/>
                </a:solidFill>
                <a:latin typeface="Arial"/>
              </a:rPr>
              <a:t>globální</a:t>
            </a: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 ekonom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61257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Podpora tvorivého mysle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Kreativita ako nový fenomén postindustriálnej é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Stimulácia a motivácia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Racionálne riadiť a organizova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Zá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Logika je dobrá, ale nestač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De Bo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Ten z druh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ů, který přežije, není ten nejsilnější, ani nejinteligentnější, ale ten, který nejlépe reaguje na změny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Charles Darw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Kreativita ako nový fenomén postindustriálnej éry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Odtraňovať bariéry ľahostaj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Stvorivý st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Jeho vplyv a využiti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-  Zavádzanie a riadenie nových metód managementu a inová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Základvem úspěchu 21. století jsou nadšení, kvalifikoaní a loajální pracovníci.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Není nic důležitějšího než vědet, jak získat a motivovat vynikající lidi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Claudio Araz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ko? Kedy? Koho? Preč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Pochopenie významu stimulácie v novej do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dea, peniaze a individuálne rieše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sady, stabilita a priehľadnosť stimul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Firma, která chce obstát v globální konkurenci musí být štíhlá, rychlá a transparentní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Základní úlohou vůdce je být trubkou, která vydává jasný zvuk. Musí být jako hlas polnice, vyzývající k útoku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. Druck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medzenie kompeten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novenie priorí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elegov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ako na t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rozvojové tendence      21. stolet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konku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turbul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telektu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litantnost a teroris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manit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niatur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šíření AIDS a některých dalších obtížně zváldnutelných chor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Směr managementu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mnoho ciest k úspec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Umenie manage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nájsť práve tých niekoľko správn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OUČEK, Z. Firma 21. století. Praha : Profesional Publishing. ISBN 80-86419-88-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e univerzální recept?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existuj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Jsou jen dva druhy firem. Ty, které se změní a ty, které zmizí“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enapodobujme nejlepší! Nechme se jejich příklady inspirovat k tomu, abychom je předstihli! Jen celosvětová konkurenceschopnost zajistí trvalé přežití a rozvoj firmy.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 globální ekonomice vítězí ten nejvýkonnější a nejlepš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bsolutní orientace na zákazník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“ …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musíme se naučit přejít od zaměření na výrobu k zaměření na získání trhu. Zákazníci jsou největším aktivem podnik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4076640"/>
            <a:ext cx="5761080" cy="256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Spolehliv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Vysoká kval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Nízké ce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Dokonalý ser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dividuální přístup k potřebám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lný top manag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správně předvída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uluje strategii firmy (včetně mise, vi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á odvahu provést radikální změny ve firm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užívá správný styl řízení firmy jako cel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přesvědčit své spolupracovní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imuluje je všemi dostupnými nástroji k jejímu splnění a zajišťuje implementaci strateg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tváří ucelený systém řízení a podnikového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ledá správné pracovníky na rozhodující pracovní pozice, (vzdělávání, motivace, stimula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637000"/>
            <a:ext cx="8497800" cy="2454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e bez dobrého zajištění zůstává pouhým snem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ktivní vytváření poptávky a hledání nových trh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Nasycený trh neexistuje“. Dobré firmy poptávku zjišťují, vynikající firmy ji aktivně vytvářejí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. Kot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ecifické přednosti a vnímané hodno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Úspěch v podnikání je založen na dočasném monopolu, postaveném na nové myšlence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. Š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rální ředitel firmy Eur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30:32Z</dcterms:created>
  <dc:creator> </dc:creator>
  <dc:description/>
  <dc:language>en-US</dc:language>
  <cp:lastModifiedBy> </cp:lastModifiedBy>
  <dcterms:modified xsi:type="dcterms:W3CDTF">2008-12-01T23:17:11Z</dcterms:modified>
  <cp:revision>7</cp:revision>
  <dc:subject/>
  <dc:title>Vývojové trendy podniků a jejich řízení na prahu postindustriálního věku</dc:title>
</cp:coreProperties>
</file>