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4D3-31B3-4BC1-BEBC-D7243F97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DEC-A1A0-47A2-A25C-908CA565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901-81AA-4F84-8DB3-9532F461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052-4AA1-4228-A6DE-9C9E2D75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2255-7595-461B-A69A-D45DBC9B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62B4-6988-4010-ACED-88B40674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57E8-EA1F-4F6C-BF1F-8252FEDF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B67F-6A33-440D-BDAA-5D4258A3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0733-F4FE-41CC-ADF1-351DA86A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59AC-6469-4A7A-879F-073AE1DD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C2A5-1B55-46E4-BC8D-4AF257D3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109-0103-4C7C-84A3-FD418353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7DEE-74C7-44B5-8045-79326A3A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2E6D-8BA3-407C-8C1E-55DE9268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226A-3990-4BE3-938A-48BFBD3E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4EDA-B602-4A4C-A7CC-3D7EB016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541B-1E08-4E4D-9370-CC72FD69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DC7-1D52-4339-BFB2-2B24CDA3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1E1-3116-4AC3-B790-CA6011F6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52C0-9602-48FA-9409-D09FE0C6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27E-FACE-4881-B496-20DC28C9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5595-4D76-4A66-98AF-96338993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8FC-C108-4134-A036-F30002F3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F54-4F5F-416D-B19D-DF51C90F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DA1D-2FD6-40D4-9AC8-7167EA0BE73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D5EE-357B-4BB9-B326-7765BA645250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Požadavky na manažery na prahu postindustriálního věku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udmila Šauer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ronika Mol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reza Hurní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itáty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Lidé, kteří přespříliš mluví, málo dělají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vět hledá lidi, kteří něco dovedou udělat, a ne lidi, kteří umějí vysvětlovat, proč něco neudělali. Rowlendov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tvářet a nevlastnit, působit a nezáviset, být v čele – a neovládat, to je, co nazývám tajemnou ctností. Lao-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Jak lépe myslet?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ískávání inform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jčastější chy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rušení zákona totožnost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rušení zákona spor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rušení zákona o vyloučeném třetí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užívání nesprávných slov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Jak lépe mluvit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řed projevem si uvědom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č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omu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ak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d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ři projev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ýchá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ýška a síla hlas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olba slov + stavba a délka vě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s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ozorno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řazení řeční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Mluvk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Žvani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Frázis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Diploma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Demago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Peda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Vtipále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Boucher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Gramof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Snaži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Exhibicionis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Jak lépe psát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ůležitý pravopis a správné rozčlenění prá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rozumitelnost text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élka vě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ba sl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řítomnost sty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obní přiblíž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Stolování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Není důležité, co jím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Čestná míst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izinci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anželé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Koučování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 je koučová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 řízení, vytváří vztah vzájemné podpory mezi koučem a koučovaný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ké prostředky a styl komunik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ílem je lepší výkon (odhalení potenciálu koučované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užívání: řešení problémů, v průběhu práce, kontrola, běžný hov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základní principy: vnímání reality, odpověd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ažer jako kouč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78850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Špičkový manažer        dobrý kouč (schopnost empatie, objektivnost,ochota změnit dosavadní styl komunika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Šéf ví co se děje, ale nositel výkonu se rozhoduje sám – převezme odpovědnost (skutečná kontro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jišťuje plnění úkolů i profesionální růst podřízený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17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bývali jsme se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definováním požadavků na manažera postindustriálního vě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jak má manažer myslet a jak se chov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kou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Účinné otázky (vnímání reality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evřené otázky nutí přemýš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yslem je zjistit, zda má koučovaný dostatek inform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ačátek otázek: Co, Kdy, Kdo, Kol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uč by neměl podřízeného vést tam, kam chce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edování řeči tě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oblasti: cíle, prověření reality,možnosti, co – kdy – kdo udělá a jaká je VŮ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pětná vazb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650360" cy="46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brá zpětná vazba napomáhá učení se a dosahování lepších výsledků (realita, odpovědno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ískávání podrobného nehodnotícího popis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čovaný musí o odpovědích přemýš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chvala (upřímná, rozumná, soudná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oučování tým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47072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izace úkolů (cíle, realita,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zvoj tým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čovaní sami posuzují výkon – disku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č musí jít příklad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kud je tým dobrý a členové schopni spolupráce, je možný další rozvoj (tým i jednotlivc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9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213372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268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 brání úspěšnému koučování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548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nější bariéry: nevhodná kultura společnosti, nedůvěřivost lidí, lidé očekávají, že kouč bude dávat pří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nitřní bariéry: obava, že to nebudu dělat dobře, staré dosud fungovalo, jediné, co motivuje lidi, jsou peníze, ztráta auto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užitá literatu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YRNER, A.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Manažerská etika a etiketa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Vysoká škola ekonomická v Praze, 200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WHITMORE, J.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Koučování – rozvoj osobnosti a zvyšování výkonnosti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aha: Management Press, 20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AMP, Di. Manažer 21. století. Grada Publishing, s.r.o., 2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 jakým změnám došlo v podnicích počátkem 21. století 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nížení počtu úrovní říz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výšení orientace na zákazní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lexibilní pracovní režimy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prac. síla s víceoborovou kvalifik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týmová prá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pružná prac. do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výšení odpovědnosti pracovní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rátkodobé cíle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dlouhodob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žadavky na manaže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íše vést než ří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učovat podříze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yšovat pravomoci podřízen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it přístup podřízených k prá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tné zlo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plňující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valit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y manaže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ýt vzor pro osta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át sám s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stavně se vzdělá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ládat zm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t vi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ně si uvědomovat real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t vysokou úroveň etiky a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kračování – kvality manaže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ře komunik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let systémo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let pozitivn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ět se nadchn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ýt opravdov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Změňte své myšlení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- nutnost si přiznat své schopnosti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amyslete se, které z výše uvedených vlastností již máte, a kde je používá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apř.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„Když jsem na dovolené s přáteli, jsem velmi opravdový.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okud jde o mou zahradu, uplatňuji systémové myšlení.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dyž jsem se před rokem začal zabývat …….., měl jsem vizi.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užívání pozitivního myšle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nitřní rozhovor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upravení našeho vnějšího sta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anipulace tím, co sami sobě říká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utnost být KONSTRUKT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př.: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„prezentace se mi nepovede…budou kritičtí…“ </a:t>
            </a:r>
            <a:r>
              <a:rPr b="0" i="1" lang="cs-CZ" sz="2800" spc="-1" strike="noStrike">
                <a:solidFill>
                  <a:srgbClr val="ff0000"/>
                </a:solidFill>
                <a:latin typeface="Arial"/>
              </a:rPr>
              <a:t>NE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ff"/>
                </a:solidFill>
                <a:latin typeface="Arial"/>
              </a:rPr>
              <a:t>ANO: „mé prezentace předtím byly úspěšné. Vím, co chci říci. Kolegové jsou příjemní a mají pochopení. …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oužívejte metodu napodobování vzorů pro sebe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aké vlastnosti si chcete osvoj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ajděte si někoho s danou vlastnos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ozorujte jeho cho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zjistěte, na co myslí před a bě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zkuste si být přesně jako 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řizpůsobte si imito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yzkoušejte to v prax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4:07:42Z</dcterms:created>
  <dc:creator>Radek</dc:creator>
  <dc:description/>
  <dc:language>en-US</dc:language>
  <cp:lastModifiedBy>Tereza</cp:lastModifiedBy>
  <dcterms:modified xsi:type="dcterms:W3CDTF">2008-11-24T00:29:58Z</dcterms:modified>
  <cp:revision>25</cp:revision>
  <dc:subject/>
  <dc:title>Koučování</dc:title>
</cp:coreProperties>
</file>