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2543FE-E9B0-4AD5-B6C3-5A745E670ED7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aujímavého miesta, ktoré sa nachádza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mapu svoj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obrázok niektorého zemepisného prvku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, ktorý zobrazuje ročné obdobie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vieraťa alebo rastliny, ktoré sa vyskytujú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 časovú os pridajte významné míľniky v histórii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em vložte obrázok znázorňujúci určitý zvyk alebo tradíci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hlavy štátu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ilustrujúci niektorú oblasť ekonomiky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7FD-3E2D-44CF-8B69-3561463A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259-0200-427F-BC72-E303404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8DF-01EC-4F67-8359-1E4E71D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3C6-383D-4E24-ABE6-0B16A6AD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151E-0BEB-4C8A-913E-380F7A92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FFA2-95E1-420D-A07C-5F0CB471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A6F6-A798-4510-9072-5854A4DC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3800-93B8-43CA-A80D-6BDCF5D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E000-9898-4595-A234-E3D97052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F8F2-7B76-40CB-9074-E59D4BEC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253B-0AFB-48FD-8F7C-9792F21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F4F-D7E3-45F8-8243-51A5D480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D743-5A46-4691-9B8A-6C0D5FE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822B-6F92-4D86-91D2-31ECA8D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F378-7BD4-4F50-9118-5F130D72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C109-5DC3-4DE4-9202-395DB974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8816-98C6-4B42-A560-CCBD7AAC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190-5332-4CBE-A0D9-1C577D56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F87-8097-49C9-B1AC-38EB1D46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6DF-05D3-40E2-9D67-4F190D0E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FE4-4C6E-45CA-A3BF-5AE959A9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FF2-C45D-42F3-BD25-5884AC1D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DCC-0922-4C07-82A4-69585CA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6A0-3BF7-4058-87DE-A6D4BF6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2F12-F88D-4D8A-8959-98F74A004735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A253-CC88-4BB6-A077-FB371561FC26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ichal Dančiš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rtin Ďub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ereza Koklar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626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Holandský manažer s mezinárodními zkušenostm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a základě modelů G. Hofsteda, E.T.Halla a dalších autorů a s ohledem na své vlastní zkušenosti rozvinul vlastní model kulturních dimenz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ulturní rozdíly vznikají ve třech základních oblastech život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stoji lidí k času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přírodě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ostatním lide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těchto oblastí odvodil následující dimenz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Fons Trompena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niversalismus/partikular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utrální/afektiv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pecifické/difuz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sažený status/připisovaný sta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přírod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v č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Kulturní standardy podle Alexandra Thom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andardy představují konkrétní sociální normy, které jsou příslušníky kultury sdíleny a závazně respektová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jsou měřítkem toho, co je v určité kultuře považováno za normální, obvyklé, typické a akceptovatel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určují přípustnou míru tolerance od jiných standard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zřetelnými se stávají až v interakci s příslušníky jiné kultur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lze je proto identifikovat a interpretovat až v procesu konfrontace dvou nebo více konkrétních kultur (jejich charakteristiky platí opět jen pro tyto srovnávané kultu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epředstavují univerzální škálu, ale výsledky porovnávání konkrétních kultu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ozdíly v kulturních standardech se stávají zdrojem mnoha nedorozumění a často i bariérou vzájemné spoluprá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ze nabídnout poměrně jednoduchý postu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dobře zná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respektov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ztahu k cizí kultuře je třeba učinit vstřícné kro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Strategie řešení podnikové multikultura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minance – přizpůsob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prom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binace a integr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ovace, synerg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dmítnu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dení pracovník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pracovní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úko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 sjednání cí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problém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motivujících pracovních   podmín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vzta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dceňování struktur / láska k improviza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multá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ntrola orientovaná na lid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ájemné prolínání různých oblastí života a aspektů osob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lný komunikační kontex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hýbání se konfliktů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ísavá sebejisto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781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eme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7058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Schroll-Machl, S. a kol.: Interkulturní komunikace v řízení a podnikání, Praha 2003, Management P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 Schroll-Machl, S. a kol.: Spolupráce přes hranice kult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6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Základní literatura, autoř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 a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07160" y="2666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5360"/>
            <a:ext cx="810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Interkulturní komunikace v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odnikání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7274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Ivan Nov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esor na VŠE v Praz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uje se na problematiku psychologických a sociologických aspektů podnikového a personálního řízení a interkulturního managementu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bývá se poradenskou a vzdělávací činností (Škoda Auto, Volkswagen, Bosch…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ylvia Schroll-Mach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náší interkulturní komunikaci na Wirtschaftsuniver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 ve Vídni a v Regensburg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uje se na interkulturní poradenství a na vzdělávání a výcvik manažerů (Siemens, Hewlett-Packard, Aud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lektorkou v Hernstein International Management Institu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5041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roblém interkurturní komunikace nespočívá jen v dokonalé znalosti cizího jazyka a schopnosti orientovat se v jeho odborné terminologii. Úspěch závisí i na dobré vzájemné znalosti kultury a zejména kulturních odlišností partnerů…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.podmínkou uvědomění si kulturních rozdílů je však i dokonalá znalost sebe sama, tedy kultury vlastní,…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75480" y="263196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505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ociální percep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40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ce – proces vnímaní, ve kterém lidé prostřednictvím svých smys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 přijímají informace z okolního prostředí a zpracovávají je za účelem jejich interpreta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 rozvoji vlastních percepčních dovedností člověka je porozumění procesu interpersonální percepce, v kt. se uplatňují především 3 komponent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jíci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jící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70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a zkušenostmi, motivačními zaměřeními a emocionál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m stavem jedi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ční obrana – jedinec „nevidí, neslyší“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048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11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ímaní druhého člověka je 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o těmito faktor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Fyzický vzhled, vnější úpra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erbální/neverbální proje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stat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Chová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Domnělá či skutečná shoda s pozorovatele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Míra nejednoznačnosti či „nečitelnosti“ pozorovaného člově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a kulturní prostřed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ýsledky jeho činnost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Doplňuje informace, které máme o objektu vnímaní a ovlivňuje jejich interpreta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ČR – vysoký komunikační kontext. Oproti kulturám s nízkým komunikačním kontextem tak 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že být verbální stránka komunikace podstatně úspornější – tím však vznikají značné komunikační problémy a nedorozumnění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913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růkopníkem Holanďan Geert Hofste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roce 1980 vytvořil dotazník, který byl přeložen do 20 jazyků a použit v 53 zemí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účelem bylo zkoumat tzv. pracovně orientované hodnotové předsta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závěr: je možné rozlišit 4 kulturní dimenze (později je rozšířil o další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ozpětí moci v hierarch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individualismus/kolektivism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yhýbání se nejistotě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skulinita/femini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louhodobá orienta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48:58Z</dcterms:created>
  <dc:creator>Martin</dc:creator>
  <dc:description/>
  <cp:keywords/>
  <dc:language>en-US</dc:language>
  <cp:lastModifiedBy>terka</cp:lastModifiedBy>
  <dcterms:modified xsi:type="dcterms:W3CDTF">2008-12-01T21:14:08Z</dcterms:modified>
  <cp:revision>3</cp:revision>
  <dc:subject/>
  <dc:title>Interkulturní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51</vt:lpwstr>
  </property>
</Properties>
</file>