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381-9DBE-445B-8DC6-96591A3D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CD3-ADA0-4B16-809C-597AF70B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9DF-AB76-4C7F-9287-F7940D6D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431-AB85-4B4A-B82C-A7395A31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7A59-3834-4EB2-81E0-65F97540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4C00-D67A-4740-AFD1-D6C7E414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B1A8-3DDE-4635-88A0-42EE5D7B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F83C-25C8-4E6D-933B-A9A14878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DC26-EA56-49D7-A796-42EB283A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BB1D-643D-4344-B3A1-61B9F156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36F8-9D25-48D7-BF8E-8100E2D5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FEEA-1C56-4A99-89D7-C5F5E7ED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605C-86A0-453D-9D12-5975EDF9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5826-EB04-41BA-8D30-EFE6F368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B4D9-4F00-45D9-993A-640C288D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D97B-14CC-47B6-80D2-074496AB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7A6F-6F1C-4E53-A806-8F0F2D6F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998-EEAB-4D2A-A2EC-190944B7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ABB-43D7-4860-9029-AE274CBC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215D-2336-4715-BE34-A6513539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EEB-34D0-4081-B666-95734874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AE13-52C6-431C-A801-9C18175B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8B8-79DB-44A3-B53C-E5AB06B9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AB67-8F39-4FF3-BB81-00A5127B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5775-84F2-445D-9915-A67283F6EDC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5A17-0B8F-463B-AEF3-92EC2B3EE0D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nvironmentalism" TargetMode="External"/><Relationship Id="rId2" Type="http://schemas.openxmlformats.org/officeDocument/2006/relationships/hyperlink" Target="http://ukinczechrepublic.fco.gov.uk/resources/cs/pdf/sternova-studie" TargetMode="External"/><Relationship Id="rId3" Type="http://schemas.openxmlformats.org/officeDocument/2006/relationships/hyperlink" Target="http://www.stuz.cz/view.php?cisloclanku=2007090010" TargetMode="External"/><Relationship Id="rId4" Type="http://schemas.openxmlformats.org/officeDocument/2006/relationships/hyperlink" Target="http://www.stuz.cz/view.php?cisloclanku=2007090010" TargetMode="External"/><Relationship Id="rId5" Type="http://schemas.openxmlformats.org/officeDocument/2006/relationships/hyperlink" Target="http://www.stuz.cz/view.php?cisloclanku=2007090010" TargetMode="External"/><Relationship Id="rId6" Type="http://schemas.openxmlformats.org/officeDocument/2006/relationships/hyperlink" Target="http://www.stuz.cz/view.php?cisloclanku=2007090010" TargetMode="External"/><Relationship Id="rId7" Type="http://schemas.openxmlformats.org/officeDocument/2006/relationships/hyperlink" Target="http://www.stuz.cz/view.php?cisloclanku=2007090010" TargetMode="External"/><Relationship Id="rId8" Type="http://schemas.openxmlformats.org/officeDocument/2006/relationships/hyperlink" Target="http://www.stuz.cz/view.php?cisloclanku=2007090010" TargetMode="External"/><Relationship Id="rId9" Type="http://schemas.openxmlformats.org/officeDocument/2006/relationships/hyperlink" Target="http://www.stuz.cz/view.php?cisloclanku=2007090010" TargetMode="External"/><Relationship Id="rId10" Type="http://schemas.openxmlformats.org/officeDocument/2006/relationships/hyperlink" Target="http://www.stuz.cz/view.php?cisloclanku=2007090010" TargetMode="External"/><Relationship Id="rId11" Type="http://schemas.openxmlformats.org/officeDocument/2006/relationships/hyperlink" Target="http://www.stuz.cz/view.php?cisloclanku=2007090010" TargetMode="External"/><Relationship Id="rId12" Type="http://schemas.openxmlformats.org/officeDocument/2006/relationships/hyperlink" Target="http://cs.wikipedia.org/wiki/V&#225;clav_Klaus" TargetMode="External"/><Relationship Id="rId13" Type="http://schemas.openxmlformats.org/officeDocument/2006/relationships/hyperlink" Target="http://cs.wikipedia.org/wiki/V&#225;clav_Klaus" TargetMode="External"/><Relationship Id="rId14" Type="http://schemas.openxmlformats.org/officeDocument/2006/relationships/hyperlink" Target="http://cs.wikipedia.org/wiki/V&#225;clav_Klaus" TargetMode="External"/><Relationship Id="rId15" Type="http://schemas.openxmlformats.org/officeDocument/2006/relationships/hyperlink" Target="http://cs.wikipedia.org/wiki/V&#225;clav_Klaus" TargetMode="External"/><Relationship Id="rId16" Type="http://schemas.openxmlformats.org/officeDocument/2006/relationships/hyperlink" Target="http://cs.wikipedia.org/wiki/V&#225;clav_Klaus" TargetMode="External"/><Relationship Id="rId17" Type="http://schemas.openxmlformats.org/officeDocument/2006/relationships/hyperlink" Target="http://cs.wikipedia.org/wiki/NGOismus" TargetMode="External"/><Relationship Id="rId18" Type="http://schemas.openxmlformats.org/officeDocument/2006/relationships/hyperlink" Target="http://www.reflex.cz/Clanek21556.html" TargetMode="External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eaeaea"/>
                </a:solidFill>
                <a:latin typeface="Tahoma"/>
              </a:rPr>
              <a:t>Svoboda, ekonomika, příroda, etik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onika Kudl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rie Adam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rantišek Chur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Kritika knih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goizmus naprieč generáciami – budúce generácie budú iste bohatš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e vyspělém světe zemědělství a lesnictví obvykle nevytváří víc než 3% celkového národního produktu. Ostatní odvětví ale klimatickými změnami výrazně ovlivněny nejsou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Hranie si so štatistickými číslami (pesticídy, úmrtia vplyvom teplo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Časová hodnota peňazí a životné prostredi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Že jsme překročili  ekologickou kapacitu území, ještě nemusí být tragické. Je to jako půjčka na dům, ve kterém chceme bydlet a vybavit si jej. Jen si musíme být vědomi, že dříve nebo později budeme tuto půjčku splácet. A čím později, tím to bude pro nás nebo pro naše děti dražší a bolestivější.“ (Matthis Wackernagel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GOismus (dle Klaus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89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 = Non governmental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. (?): feministky, radikální ekologové, anarchisté, odbory, Al-Kai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ismus: prosazují věci demokraticky neprosaditelné (př. Greenpea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GOismus (dle Klaus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ismus typu A: zrušme parl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ismus typu B: vedle parlamentu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Filipíny, Afr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laus: demokracie vs. vláda skup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GOismus (druhý pohle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GO vštěpující názory jsou potřebné kvůli prosazování rovných práv menšin (př. vozíčkář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ionální neznalost ostatní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teratur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KLAUS, V. Modrá, nikoli zelená planeta. Praha: Dokořán, 2007. ISBN 978-80-7363-152-9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Environmentalismus, Wikipedia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6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5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en.wikipedia.org/wiki/Environmentalism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Ekonomické aspekty změny klimatu – Sternova zpráva.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8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ukinczechrepublic.fco.gov.uk/resources/cs/pdf/sternova-stud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NOVÁČEK, P.: Živá planeta: Sto omyl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  <a:ea typeface="Tahoma"/>
              </a:rPr>
              <a:t>ů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Václava Klause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8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http://www.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stuz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.cz/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view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8"/>
              </a:rPr>
              <a:t>php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9"/>
              </a:rPr>
              <a:t>?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0"/>
              </a:rPr>
              <a:t>cisloclanku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1"/>
              </a:rPr>
              <a:t>=2007090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Václav Klaus, Wikipedia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8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2"/>
              </a:rPr>
              <a:t>http://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3"/>
              </a:rPr>
              <a:t>cs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4"/>
              </a:rPr>
              <a:t>.wikipedia.org/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5"/>
              </a:rPr>
              <a:t>wiki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6"/>
              </a:rPr>
              <a:t>/V%C3%A1clav_Klaus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NGOismus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10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500" spc="-1" strike="noStrike" u="sng">
                <a:solidFill>
                  <a:srgbClr val="ffffcc"/>
                </a:solidFill>
                <a:uFillTx/>
                <a:latin typeface="Tahoma"/>
                <a:hlinkClick r:id="rId17"/>
              </a:rPr>
              <a:t>http://cs.wikipedia.org/wiki/NGOismu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Václav Klaus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10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500" spc="-1" strike="noStrike" u="sng">
                <a:solidFill>
                  <a:srgbClr val="ffffcc"/>
                </a:solidFill>
                <a:uFillTx/>
                <a:latin typeface="Tahoma"/>
                <a:hlinkClick r:id="rId18"/>
              </a:rPr>
              <a:t>http://www.reflex.cz/Clanek21556.htm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lobální krize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limatická změn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nožství protichůdných d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ázorová různost, Klaus X G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mo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znamnost dopa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drá, nikoli zelená plane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kologická krize neexistu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íroda se přizpůsob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ověk najde nové zdro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nvironmentalismus je ideolog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munismus – environmentalismu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ýnosy a nákla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droj je vždy funkcí ceny a technologie.“ (str. 4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soké náklady na ochranu (plus faktor diskontu) vs. malé výno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doucnost je méně významná než přítomnost.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kce není potřeb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16360" y="4160880"/>
            <a:ext cx="36194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lobální oteplován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eplování začalo před průmyslovou revolucí, pro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vlivem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lověk k němu ale přispí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do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zba mezi CO2 a globálním oteplování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Řešen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ntánní nepolitická, nikým neorganizovaná aktivita miliónů svéprávných a – ve svém vlastním zájmu – racionálně se chovajících lidí.“ (str. 2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chrana přírody ano, environmentalismus ne“ (str. 13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ůst blahobytu =&gt; lepší stav životního prostře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bojovat se změnou klimatu, ale přizpůsobit se 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Odkaz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4.správa Medzivládneho panelu OSN p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klimatické zmeny (únor 2007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Otepľovanie klimatického systému je jednoznačn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Bez zvýšeného úsilia v znižovaní emisií skleníkových plynov dojde k ďalšiemu zvýšeniu teploty, ktoré povedie k nevratným zmenám na klí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Sternova správa (duben 2007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Jeden z podkladov pre závery Európskej rady, ktorá definovala ciele a politiku transformácie Európ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Vyčísluje dopady zmien klímy a ekonomiku a potvrdzuje ekonomickú výhodnosť okamžitého zásah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Boj proti vedeckému konsenz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 „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podléhejme klamu vědeckého konsenzu, který je stejně docilován jen hlasitou menšinou a nikoli mlčící většinou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Je nám vnucována jedna jediná pravda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Kritika knih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áclav Klaus v postavení prezidenta prezentuje menšinové náz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erešpektuje oficiálne stanoviská vlády ČR a EU o klimatických zmená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Jednostrannosť, dezinterpretácia, chyby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kologická nevzdelanosť (kácanie pralesov, biomasa x uhlie, pojmy klima a počasie,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uský preklad financoval Luko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21:05:23Z</dcterms:created>
  <dc:creator>Uživatel</dc:creator>
  <dc:description/>
  <dc:language>en-US</dc:language>
  <cp:lastModifiedBy>F Ch</cp:lastModifiedBy>
  <dcterms:modified xsi:type="dcterms:W3CDTF">2008-12-10T19:37:00Z</dcterms:modified>
  <cp:revision>17</cp:revision>
  <dc:subject/>
  <dc:title>Svoboda, ekonomika, příroda, etika</dc:title>
</cp:coreProperties>
</file>