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786-8045-419E-890E-0B5505AF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DE5-1350-4267-AE88-A95FB93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F38-4DB0-43DB-B7D9-043395FA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5D9-3128-4DAC-963F-DD85E055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841B-8D61-4F92-BB26-A982CA24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A846-2AF8-4934-985A-BEAD6BDC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5E0B-95F8-4D86-8517-5DE258AE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7D90-9AFF-4F62-930A-9F4BCE2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64B-FE04-46D9-8FEB-861704F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BF5E-6435-4FDE-96D5-1302CFE5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7345-82F2-49BF-AD5B-1D4A12A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B35-54D1-4679-B954-0D3E84C3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78FE-3392-49E5-9782-6AEE893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DA56-158E-44C6-A52D-3DB7D76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31C2-F7F2-41F6-A3A6-59EECC82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724F-B392-4A90-AE22-FF3BE331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FEE7-84F1-44FC-97F1-37CED905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A6D-473C-4C17-A38A-143AC27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331-1720-4A73-BA27-282153E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8CB-A6A3-4855-A4F0-3DDE408C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C3A-430F-4240-80D0-E5C26F7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6B2-3C65-4EF2-B73C-654B043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CDB-977A-4431-9D54-9CCB6A3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EE0-009B-4F73-BAEB-A0FD3F8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EC40-BDCA-4956-A110-C278D2F73AA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D790-B80B-4691-B7D0-127C20DF50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27280" y="450828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Michal Plač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ndřej Roudnic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Juraj Podhrads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vlivu prostředí a reakci organizace na prostředí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utoři: T.E.Deal a A.A.Kene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19280" y="2484360"/>
            <a:ext cx="604836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tendencím v chování </a:t>
            </a:r>
            <a:br>
              <a:rPr sz="4000"/>
            </a:b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organizace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ompasový model W.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58323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val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Hloubk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ozlišit individ. názory a odpověďmi s odkazem na org. kul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Skupin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eduková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Analýza dokument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doplněk k ostatní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rojektivní metody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nedokončené věty apo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še bez předem zvolených kritérií hodnocen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vant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taz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rozhovor nebo dotazní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tody mají standardizovanou podobu – užívány jednotné podněty, u dotazování předem připravené otázky, případně možnosti odpovědí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ílem je změřit četnost výskytu určitých znaků =&gt; nutnost volby znaků relevantních pro obsah kultur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Cíle analýzy org. kultury 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funkčnost OK ve vztahu k výkonnosti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obsah OK ve vztahu ke zvažovaným strategiím firm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kompatibilitu OK s OK jiných organizací – při plánování fúze apo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77a4af"/>
                </a:solidFill>
                <a:latin typeface="Garamond"/>
              </a:rPr>
              <a:t>Utváranie žiadúcej organizačnej kultúry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ostup utvárania O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Riziká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Nové“ výzvy pre OK českých firi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Postup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rečo utvárať novú OK? (Armstrong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roky utvárania O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Jednoznačná a dlhodobo udržateľná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Očakávanie firmy voči zamestnanco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Fyzická podoba (jeden dokum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Poznanie aktuálnej OK (zníženie nákladov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Informovanie a vzdelanie zamestnancov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Kontrola a sankc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Diagnostika zmien v kultúre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Riziká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jednej zrozumiteľnej stratégi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Miera kontinuity/diskontinu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ostatočná operacionalizácia očakávaní voči zamestanan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previazanosť novej OK s jednotlivými činnosťami v podnik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mocenského promotora zmen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ôslednosť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konzistentnosť OK a N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„</a:t>
            </a: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Nové“ výzvy českým firmám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orientovaná na zákazník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kvalitu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inováci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orientovaná na zákazník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ržná (nie výrobková orientáci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Marketingová (tržná) O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zorec zdieľaných hodnôt a názorov, ktoré pomáhajú jedincovi chápať funkciu marketingu a poskytujú mu normy správania sa.“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16280" y="1585800"/>
            <a:ext cx="4032360" cy="4464000"/>
            <a:chOff x="4616280" y="1585800"/>
            <a:chExt cx="4032360" cy="4464000"/>
          </a:xfrm>
        </p:grpSpPr>
        <p:sp>
          <p:nvSpPr>
            <p:cNvPr id="156" name=""/>
            <p:cNvSpPr/>
            <p:nvPr/>
          </p:nvSpPr>
          <p:spPr>
            <a:xfrm>
              <a:off x="4616280" y="1585800"/>
              <a:ext cx="4032360" cy="446400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0360" y="2924280"/>
              <a:ext cx="1008000" cy="1728720"/>
            </a:xfrm>
            <a:prstGeom prst="triangle">
              <a:avLst>
                <a:gd name="adj" fmla="val 100000"/>
              </a:avLst>
            </a:prstGeom>
            <a:solidFill>
              <a:srgbClr val="b9c4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5723640" y="2997360"/>
            <a:ext cx="1008360" cy="1655640"/>
          </a:xfrm>
          <a:prstGeom prst="triangle">
            <a:avLst>
              <a:gd name="adj" fmla="val 10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80000" y="1483200"/>
            <a:ext cx="2952720" cy="3024360"/>
          </a:xfrm>
          <a:prstGeom prst="triangle">
            <a:avLst>
              <a:gd name="adj" fmla="val 5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2852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628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0520" y="22050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Ľudia na fr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í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4880" y="285264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tre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až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4520" y="35002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jem „KULTURA“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ecifický způsob organizace, realizace a rozvoje činností, objektivizovaný ve výsledcích fyzické a duševní práce.“ [Velký sociologický slovník, 1996, s. 547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kvalitu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podnikových štandardov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IS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TQM </a:t>
            </a:r>
            <a:r>
              <a:rPr b="0" i="1" lang="sk-SK" sz="2800" spc="-1" strike="noStrike">
                <a:solidFill>
                  <a:srgbClr val="000000"/>
                </a:solidFill>
                <a:latin typeface="Garamond"/>
              </a:rPr>
              <a:t>(Total Quality Managemen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inováci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ypy inovácií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Technologick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ýrobkov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Poskytovaných služieb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Organizačn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5003640" y="1916280"/>
            <a:ext cx="0" cy="30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5013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722760" y="32734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apacita pre z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9240" y="5013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pä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133720"/>
            <a:ext cx="2737080" cy="2663640"/>
          </a:xfrm>
          <a:custGeom>
            <a:avLst/>
            <a:gdLst/>
            <a:ahLst/>
            <a:rect l="l" t="t" r="r" b="b"/>
            <a:pathLst>
              <a:path w="1588" h="1641">
                <a:moveTo>
                  <a:pt x="0" y="1641"/>
                </a:moveTo>
                <a:cubicBezTo>
                  <a:pt x="230" y="828"/>
                  <a:pt x="461" y="16"/>
                  <a:pt x="726" y="8"/>
                </a:cubicBezTo>
                <a:cubicBezTo>
                  <a:pt x="991" y="0"/>
                  <a:pt x="1444" y="1331"/>
                  <a:pt x="1588" y="15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Organizační kultura : od sdílených hodnot a cílů k vyšší výkonnosti podniku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Lukášová, R.; Nový, I.; a kolektiv., Praha : Grada, 2004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Marques, C.; Jirásek, F., Praha : Bankovní institut, 1996.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elký sociologický slovník. I, A-O.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Sociologický ústav (Akademie věd ČR) Praha : Karolinum, 1996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Synergický management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PLAMÍNEK, J., Praha : ARGO, 2000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Děkujeme Vám za pozornost !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árod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rganizač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Pojem „ORGANIZAČNÍ KULTURA“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podniková kultura je soubor hodnotových představ a norem chování, který je produktem managementu podniku a ovlivňuje základní postoje zaměstnanců podniku (je všeobecně přijímán a udržován), projevuje se ve všech oblastech jeho života (…) podniková kultura závisí na podniku samotném, na tom, jak si ji podnik určuje, jak rozšiřuje a kontroluje chování svých zaměstnanců a každodenní normy, které považuje za žádoucí (…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. [MARQUES, F.; JIRÁSEK, F., 1996:248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cheinův model organizační kultu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rtefakt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astávané hodnoty, pravidla a normy chová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bsah a síla kultu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88080" y="1722600"/>
            <a:ext cx="35589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ržního prostřed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profe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zakladatele/vůd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velikosti a délky existence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echnologi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Strategie =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 Kultur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Kultura =&gt; Strategi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Vztah k organizační struktuř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Garamond"/>
              </a:rPr>
              <a:t>autoři: R. Harrison a Ch. Hand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Garamond"/>
              </a:rPr>
              <a:t>4 základní typy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moci – dominantní jedine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rolí – založena na pravidlech a normách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úkolů – orientace na úko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osob – členové jsou samostat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50:38Z</dcterms:created>
  <dc:creator>Ondra</dc:creator>
  <dc:description/>
  <dc:language>en-US</dc:language>
  <cp:lastModifiedBy>***</cp:lastModifiedBy>
  <dcterms:modified xsi:type="dcterms:W3CDTF">2008-11-24T21:31:25Z</dcterms:modified>
  <cp:revision>6</cp:revision>
  <dc:subject/>
  <dc:title>Vztah k organizační struktuře</dc:title>
</cp:coreProperties>
</file>