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9E4-3A70-4B8C-8D89-6927F1BE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95A-B69F-478C-BA7B-9E39ADC6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497-2F6B-49C0-AD43-F46B65DD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696-C0E8-43D8-875A-0CFFDBDE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699-3714-4C1A-AC7E-B721CE03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84F7-A755-402B-8222-69BCDEE8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C948-1F89-4B92-8244-9D70E6E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907B-07FA-448E-8F9E-DE99CBBE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4132-B27F-4C92-AC36-0962C37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4AD8-0D2D-40DB-8CD9-9273204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FBBD-2CCD-4621-AC4B-26F2BB9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E2C-538F-476F-85AE-82439A2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6206-B530-4F5C-86B4-C8B13893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2BC3-23B9-4897-8671-8AA0B8F4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F57D-FF27-42F4-8722-AE627A14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B3B3-264C-4103-8ACF-43E1428B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DA86-5406-4702-ACA6-81CF36B9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6887A-BB82-4B50-A38A-9680D9AC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90CA5-FF13-4C29-9DF2-1780F7C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F2B88-75FF-4E13-8BE3-4D9E696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43F1B-4EF5-4E4A-BA73-3CA1014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B6AC8-A2D1-451D-B9C3-9E95EE0B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118-2653-4928-87F8-92F6B39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77062-E7B5-48D8-832B-9517D1B5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07F93-874A-45E6-AE15-2DED8EDC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AA403-6452-4B73-8D5F-D0DF0AA9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277A2-191F-4A22-B3C2-C50FCBC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7090F-BA50-4ABE-9E22-F9A883EA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686ED-7435-4B92-868E-5130FB56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B6C28-89BB-477B-B083-48777F39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BCD67-72E8-4600-8093-DFF0FF2D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3AA40-4CC4-4E82-A06C-F2D9518F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D80AE-BC01-4275-AE72-F82E9CD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319-98CB-4244-836A-F1D5B62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27716-FC44-4F01-A2B8-9761264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4989E-B287-41D6-BE55-4D8FF124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A458A-31FC-4000-9A31-E4841EC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D4036-4B6C-4357-8498-C34E5A0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2AA21-4FD6-41C1-9F8C-EBAC80B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013BE-5760-448C-8AD8-99F4B07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69FCC-4C39-4681-A0CE-46230AF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A22D3-0D9F-4005-949C-1B16A05D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F607B-38D4-428E-B459-6FB8087F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C1947-6621-4831-909A-A1EAECC2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5B6-374E-47DE-B1C3-C4BA850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A89E3-B195-4AA3-BBB6-4A0AA82C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A89C5-6F7B-4848-B3DD-0590C3E8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F679C-12DB-4EFD-BA79-A1B9CCA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9DC04-6A66-4A76-89C2-85BEFEEC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3A41D-2A59-438D-9960-2AF636F6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838A5-EC33-41DB-8C4D-2B68D0F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A78E2-F157-4007-B2BB-2440231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84889-CDCF-4DCA-BF09-8CF3A3E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73FCE-C2A5-4D2F-B5F1-5E8B12E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5B7C1-7946-48E6-A82C-43913D0A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B71-5313-4E07-B0EC-BE1347E0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1F854-C177-4107-9980-7267D822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819CE-2857-4479-B41D-41003FA9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057E-90D2-4520-BF6E-BF47054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3F72-5502-4697-8110-9388563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AC15B-E919-4F82-9809-E85CE003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86F7-B75D-48C4-A1F5-7DFFB87D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E9EFC-721C-4C66-94FF-11FC7945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FEAA-89FE-416D-8077-703B6B32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75FE-CB66-491D-A908-8EF6E809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4E98-28B3-47E5-8000-1720D27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4EE-1D9A-4F73-892B-336FC0A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C940-D382-4811-98C2-2D9F795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6CEA-F6E6-404B-8653-5217CBB3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FB6E-22F4-4D71-87BF-07166C20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20DB9-B536-48FB-82E7-FA3299C0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9D417-1B83-4B5F-873B-BBD5616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EBA29-4045-4F50-B1A3-DD4A85A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04024-7DA5-4DC6-86AD-9C60AA08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9EF18-3F5B-41BC-BE68-5B3A9120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74085-F7FF-4377-9E4E-FAB316DC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300E7-58B6-40F5-9FE7-1FB4661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69C-23E8-4D3A-B586-429AE16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8AF68-5860-4F8F-98F6-75F1299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9B392-FD28-41D2-8D41-5D28424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36141-4162-457D-B3FF-5E77287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AD2A8-98AC-4C7B-8CE5-94C054C2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A9F4D-24BE-4B4E-ABA5-26F8A935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45997-562E-4364-A74F-C8B3B4CE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9CCC-DF8E-4BB7-8979-E5080AC2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E321-7339-43D3-B41A-0168917C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7D102-42E8-49A3-B624-C5D2F700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2FCF-5EF3-46FF-AD8A-E896BC6D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B13-A864-4C07-8159-7D1DB4B1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DF263-D2C1-43EF-A809-29F4A408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3E4F6-0764-4EF3-B5A0-BF5102D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6878B-8157-42E7-8773-C6B52A9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7AE46-4710-4403-8077-956FF03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49BEE-58C1-45A7-B08F-C7C14BB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64DAB-3EFB-4DB9-864F-DB97A15B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28E6F-596A-4CA5-97EB-91C897AF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362E-5655-45DD-8D88-7475B92098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2B1F-D59D-4019-88E0-DB0F4F4A521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EEF-342B-43D9-AD41-AE09EF0094D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09D-E97A-4EA1-8FA9-DA088AB09C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966-F038-46D1-A0B1-1479A4552A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6E3-E18B-4A15-9843-A518596A541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F09-0F42-4DA2-85F3-FE245F8A733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2B46-2D1E-40C2-8281-1DB388A076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NAŽERSKÁ ETIK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ktivity mimo rámec legislativ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STÍNOVÁ EKONOMIK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Černá ekonomika – kriminální aktivity, prostituce, distribuce drog, krádeže, práce načerno a mnoho dalš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Šedá ekonomika – podplácení, nezdaněné příjmy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rup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árek nebo úplate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měr, s jakým byl předmět darová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elospolečenský problé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národní nevládní organizace Transparency International - monitorování korupce v celosvětovém měřítku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R se v roce 2008 umístila na 45. místě z celkových 18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aní špinavých peně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peníze získané trestnou čin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Z obchodů s drogami, z vydírání, obchodu s bílým masem, prostituce, pašování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incipem je tyto peníze prohnat řetězcem  nejrůznějších transakcí, aby se na konci mohly vykázat jako legálně získané příjm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halování této trestné činnosti ztěžují rozdílné právní systémy v různých zem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ka manažerské prá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ředpokládá dodržovat určité, v dané komunitě obecně uznané 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ciálně zodpovědné jednání manaže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ísemná podob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psaná pravidl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psaná pravid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anažer prověřuje tyto fil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tilitarita rozhod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áva a osobní svobod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ravedlno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dva poslední se můžou vytvořit pravid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ntrola dodržová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ála pozornost dodržování specifických etických pravi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formální kontro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yužívání informací důvěryhodných spolupracov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jlepší pákou na dodržování manažerské etiky je pozornost nadřízených vedoucích pracovníků věnovaná manažerům na nižších stupních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brý manaž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dodržovat značnou sebekázeň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pečovat o svou bezúhonn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sobní image manažera = charakteristické rysy jeho chování a vztahů k lid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olupracovníci obvykle hodnotí tyto rysy svých nadřízený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vdomluvnost, čestnost, schopnost držet své slovo, ochota „pálit si prsty“za spolupracovníka, vztah k podřízeným, vztah k alkoholu apo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ŮLEŽITÉ!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ílevědomý a náročný manažer bude svým okolím za své jednání málokdy jednoznačně chválen. Může však dosáhnout toho, aby si ho převážná část dobrých spolupracovníků vážila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utnová, A., Seknička, P. Etické řízení ve firmě. Praha : Grada, 2007. ISBN 978-80-247-1621-3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ný, I., Lacina, L. Globalizace – Etika – Ekonomika. Boskovice: Albert, 2001. ISBN 80-7326-000-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cké řízení ve firmě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c. RNDr. Anna Putnová, PhD., M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hDr. Mgr. Pavel Seknička, Ph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kruh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dnikatelská etika v tržní ekonomic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hodnoty v ekonomické prax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incipy, nástroje a metody etického řízení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říz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olečenská odpovědnost firem a její vývo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ý a sociální au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Počátky v 90. lete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1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formace ekonom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Společnost pro etiku v ekonomice (NHÚ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Počátek výuky et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2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Učební texty, medializace + průzku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Výsledky privatizace a akce „Čisté ruce“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parency International ČR (korup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Etické fór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1. stole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rovnání s rozvinutými zeměm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ika podnikání jako součást začlenění ČR do E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řízen úřad ombudsma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le TIC hojně vyučován na VŠ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ématu se věnuje i konference v Parlamentu České republi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řístup k podnikatelské e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13880" y="164304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erický vs. evropský přís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lišnosti v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d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émant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tické 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iciativa fir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konomické důvo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nížení transakčních náklad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ílení loajality zaměstnan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váření a posilování image fir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ilování spokojenosti zákaz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ispívání k loajalitě investo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spěvek k zis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ultivace podnikatelského prostře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del morálního rozvoje podnik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orál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álně-práv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olečensky odpovědn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y se rodíc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polečenská odpovědnost v podnikání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ojí v popředí zájmu většiny podnikatelských aktivi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livňuje hodnocení podniku okolí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dpovědné chování podniků může zapříčinit ekologickou katastrofu, destabilizovat trh, poškodit zákazníka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vě základní stránky etického myšlení: individuální a sociální etik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12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2:40:20Z</dcterms:created>
  <dc:creator>čtenář</dc:creator>
  <dc:description/>
  <dc:language>en-US</dc:language>
  <cp:lastModifiedBy>snoopy</cp:lastModifiedBy>
  <dcterms:modified xsi:type="dcterms:W3CDTF">2008-12-10T14:57:34Z</dcterms:modified>
  <cp:revision>9</cp:revision>
  <dc:subject/>
  <dc:title>Manažerská etika</dc:title>
</cp:coreProperties>
</file>