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F44-3B8C-4ED1-94F7-6E523C72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CB4-F330-4254-8127-604731DA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090-36AB-4063-8C0F-291DB8B9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638-5CE8-44B9-8315-69D5E256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DF880-7D46-45F8-AB66-93E39C2E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1C825-D8CA-4E36-9E64-74DA7B4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CE3CE-079C-4584-A836-AE9CF797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78BA4-F1B3-4ACA-B2EE-1E15146F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96928-307A-4E77-A159-853271A5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0FC81-3D7E-4181-8428-92E77578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BB7C-B8F5-4821-958E-25596DE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BE5-A390-43EE-B601-E3BD1C4C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367FF-B532-49CC-B553-94CC1353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51700-3600-4E44-9466-BFE5FE1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39706-843C-4504-BC19-4AE0D3F9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2EF31-1CD3-4BB6-8945-E9CF85D5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06AC2-BCA9-46EB-A811-3478EE9E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840E-3070-437B-BD9B-F6D40259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2FB3-ED85-4E99-9B60-02E27178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3BC2-BCF9-4DC3-BA28-4CE05C11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CF97-5E26-4B8A-A366-52DCD5DE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7DC9-B010-4884-A15C-369E6D3F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0A9-9E97-4EA9-8139-08E9BAAC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C3EC-168E-4654-8AF9-69A6F5A6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C468-A3E2-400A-8F2A-21BD9030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BB71-0FEC-4F4D-A1B6-673E3365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F838-8E8A-4012-8EDF-724B4EE9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C5B5-237B-4C4F-B313-97B5AA39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DE9BE-D570-4459-98CF-9B2A5CBC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2F88-B84A-4317-BF66-6B55598F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19E-414D-48AB-BB2E-DFBF03E4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93A-0DE1-4A38-B0A8-BA680FB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0A5-A20D-45E9-8318-A46F8BBF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CCF-C87B-42B3-A523-EB08CEA6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9D0-40D1-4B43-B4EF-79BBF330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D75-7FCA-4D53-8AD6-01549C8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86B0-B8FD-4735-92F7-4A79A7870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869A-27A9-4469-BC34-261CABA01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B9E8-4EB9-4E30-AAD0-1A47B2D25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ate2biotech.cz/podnikova-kultura/" TargetMode="External"/><Relationship Id="rId2" Type="http://schemas.openxmlformats.org/officeDocument/2006/relationships/hyperlink" Target="http://www.gate2biotech.cz/podnikova-kultura/" TargetMode="External"/><Relationship Id="rId3" Type="http://schemas.openxmlformats.org/officeDocument/2006/relationships/hyperlink" Target="http://www.gate2biotech.cz/podnikova-kultura/" TargetMode="External"/><Relationship Id="rId4" Type="http://schemas.openxmlformats.org/officeDocument/2006/relationships/hyperlink" Target="http://www.gate2biotech.cz/podnikova-kultura/" TargetMode="External"/><Relationship Id="rId5" Type="http://schemas.openxmlformats.org/officeDocument/2006/relationships/hyperlink" Target="http://www.gate2biotech.cz/podnikova-kultura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Interkulturní manage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MCj04347500000[1]"/>
          <p:cNvPicPr/>
          <p:nvPr/>
        </p:nvPicPr>
        <p:blipFill>
          <a:blip r:embed="rId1"/>
          <a:stretch/>
        </p:blipFill>
        <p:spPr>
          <a:xfrm>
            <a:off x="7086600" y="5105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mezená platnost motivačních teori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různých kulturách si lidé spojují potřeby s různými hodnota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x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ob enrichment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snaha vyhnout se riziku a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fli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mocenská vzdále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ryté konflikty jsou norm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lupracovníci nejsou ochotni si navzájem věř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mocenská vzdálen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cké vzta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á se, že kolegové jsou ochotni spoluprac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snaha vyhnout se nejistot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nežádoucí, soutěživost vnitřně neschvalu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ají zájem na kompromis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snaha vyhnout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přirozené, soutěžení jako spravedlivé a správ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otnější ke kompromis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interkulturním jednání musíme zvážit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ický a právní plur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zahraničních vl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cké a ekonomické změ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ologické a kulturní rozd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ím dlouhodobější je spolupráce, tím podrobnější informace potřebuje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í, politické a ekonomické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lturní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kolnosti vlastního jedn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České podnikové prostředí jako součást interkulturního management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eská organizační a prac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ákladě výzkumu V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 základní dimenz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racionalita X emocionalita v podnikov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vnitřní X vnější přijetí org. nor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ochota přijímat 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odobá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ologie českého zaměst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itý furian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da obo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vý kamará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ormní sucha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počítavý konformista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řízený X podřízen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ční probl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la“ – nesebevědomí, podřízený, pas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ický komentátor“-respekt, pomlouvá, více sebevědom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peř“ – sebevědomý, konfrontace, hledá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yby nadřízený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ítání návr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ceňování dobrých vzta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rana osobních po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statek sebekr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ativ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chopnost naslou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átkodobá orientace v českém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y a sny – většinou v osobní rovině (dovolená, kariéra, moc, prof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ýdenní, roční cy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ce = příležitost X zdroj problé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rov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) osobní klid a sta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krátkodobost časových horizo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rozporuplný vztah k práci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rvozita, nejist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žerům je vytýkána neschopnost řídit se vzdálenějšími vizemi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iková 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9640" y="1773360"/>
            <a:ext cx="3888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louhé komunikační kan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Špatná integrace zaměstna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nejde příkla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adaptab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pnost improv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1628640"/>
            <a:ext cx="4032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jí význam narostl koncem 70.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liv konkurenčních produktů ze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entace na úspě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aže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kace se společ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360" y="4005360"/>
            <a:ext cx="381636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produktivita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ovace v technologi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ůraz na kvalitu a vý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remní identita (dlouhodob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senzus, loaj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amová odpově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005360"/>
            <a:ext cx="41036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aměstn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ásady jednotného vedení a postu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vyklosti v oblé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otné ztvárnění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ákaz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niková kultura mezinárodních fi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 každé zemi specifická sub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iná 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azení hodnotových systémů společných vš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ystém hodnot, postojů a názorů, které jsou specifické pro danou zemi/skupinu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livňuje chování lidí v předvídatelných smě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naučená, předávaná rodiči a společ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rozhodování nadnárodních společností ovšem není jediným faktorem: poptávka, ekonomické faktory, právo, 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ální vzta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9640" y="177336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Opatrné, dlouhé navazování s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Osobní a pracovní vztahy se prolínají (zvýhodňování, korup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ztahy mají své l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áruka dodržování sml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05360"/>
            <a:ext cx="403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dměřenost ve vzájemných vztaz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í oddělení prac. a osob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rovnost mezi nadřízeným a podřízen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162864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ká otevřenost (neupřímn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ně formální vzt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livost na problematiku sexuálního obtě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4005360"/>
            <a:ext cx="388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elativně dlouhé navazování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partnerských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řeba získání důvě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rizontální možnost rozv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Široká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ost a prezentování úspěch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1628640"/>
            <a:ext cx="39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ální nezávis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or pro plně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uví o svých úspě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soké sebevědo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628640"/>
            <a:ext cx="3888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íce direktivní způsob vedení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ntrola samostatné inicia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nechat si věci schva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Čekají až je pochvá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Malé sebeprosaz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4005360"/>
            <a:ext cx="38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áce v tým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lečná odpovědnost i prezentace úspěchů (ne já ale 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konomie ča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1628640"/>
            <a:ext cx="3959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ak na efektiv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chlá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nání a porady zbytečně neprotah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lišné pojetí pracovní doby (24/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628640"/>
            <a:ext cx="3888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aké poměrně dochvi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olerované zpoždění 5-1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íp. „akademická čtvrthodinka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poždění nad půl hodiny- již nespěc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o(vy)mlouvat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dmíra spěchu = 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005360"/>
            <a:ext cx="3888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elmi přesní (puntičkář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a schůzku se dostaví spíše s předsti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ě ohraničená prac. 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šeobecně rigidní pracovní trh (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00536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ům. 2000 h za rok (Korea 23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ízká omezení prac. d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erfektní dochvi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Hlavní devíza ekon. rozv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é úkoly a jejich dele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1628640"/>
            <a:ext cx="39592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vé úkoly vnímají jako výz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oká přizpůsobivost zákazník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:získat prac. příležit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 není problé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delegace úkolů - con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628640"/>
            <a:ext cx="388800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ava z nejist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ují mít všechny prostředky, dovednosti a znalosti ke s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havost = malá přizpůsob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dí jen překá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933720"/>
            <a:ext cx="40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ádi postupují podle ověřených met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4005360"/>
            <a:ext cx="3816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lektivní odpovědnost prac. sku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zájemná kontrola ve skup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stupná delegace podle zaběhnutých mod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žerské prak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ectangle 15" descr=""/>
          <p:cNvPicPr/>
          <p:nvPr/>
        </p:nvPicPr>
        <p:blipFill>
          <a:blip r:embed="rId1"/>
          <a:srcRect l="0" t="6381" r="0" b="1276"/>
          <a:stretch/>
        </p:blipFill>
        <p:spPr>
          <a:xfrm>
            <a:off x="1908000" y="1197000"/>
            <a:ext cx="554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 „Z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Rectangle 15" descr=""/>
          <p:cNvPicPr/>
          <p:nvPr/>
        </p:nvPicPr>
        <p:blipFill>
          <a:blip r:embed="rId1"/>
          <a:srcRect l="0" t="13943" r="0" b="9295"/>
          <a:stretch/>
        </p:blipFill>
        <p:spPr>
          <a:xfrm>
            <a:off x="1174680" y="1628640"/>
            <a:ext cx="796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AD, R. International management: cross-cultural dimensions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mbridge : Blackwell, 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FSTEDE, G. Kultury a organizace: software lidské mysli. Praha : Linde, 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gate2biotech.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odnikova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-kultura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e-vzdelavani.cz/public/demo_pk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mesec.cz/clanky/pracovni-doba-v-cesku-a-ve-svet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ležitost interkulturního managemen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upající počet nadnárodních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avatelé i odběratelé z celého svě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ulturní standardy podle Gerta Hofstede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ká, resp. malá snaha vyhnout se riz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ra individualismu, resp. kolektiv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vaha maskulinních, resp. femininních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átkodobá, resp. dlouhodob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skalí koncepce kulturních standar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kce složité sociální a kulturní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cí dvou kultur může vznikat specifická forma nové společné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tečnosti které kulturní standardy neobsahují – doba trvání, intenzita, dobrovolnost vzájemného kontakt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ešení a zvládání interkulturních rozdí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zná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ktova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init vstřícné kr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 mezinárodních organizacích téměř nezby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čný na čas a peníze, vyžaduje hodně úsilí a určité schopnosti manaž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y je lepší ignor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yž manažer nemá dostatek schopno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í nepřinese žádné, popř. minimum pozitivních důsled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ovlivň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u společ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ční kultu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ztahy, komunikaci, motivová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191120" y="4662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ní jediným fak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é pobídky odráží hodnoty v dané kultuř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išťování potřeb vždy založit na analý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je opět jen jedním faktorů působících na motivační struktu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ědičnost, ranný vý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hlaví, věk, vzdělání, ekonomick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uš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ovní faktory a specifika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vrhování motiváto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e, individuální rozvoje a postup - individualistická ku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áležitost – kolektivistická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lost pracovního prostředí a jistota práce - kultura s velkou snahou vyhnout se nejistotě a riz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ležitosti k týmové spolupráci - kultura s menší vzdáleností mocenských poz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ovní podmínky, vyhovující pracovní doba - femininní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vádění odměn za individuální úspěchy nevhodné v kolektivistické kultu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ýšení ženy na vedoucí pozici v silně maskulinní kultuře -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2-01T11:21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