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597DC-E68F-40AC-A3C1-A1D10782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202A0-0FE5-448B-A6DB-D3BDC427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1FF83-79DA-49DC-B3C1-AAF7705B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2A05C-6293-4E7A-938E-4B7B402B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FBFE-97BE-46DF-9FC3-862BCF80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ED2F-C250-4307-A13E-05D1ADF0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D8A3-87B8-4BCE-BA27-99EFE8EE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FE75-7487-404B-8D82-6716D557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A306-BED2-413B-A787-D99FDE1E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15E7-ECE8-41ED-B0E4-B0A958A3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F650-965C-4E2B-B84B-44581FE6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E7621-F88E-4774-8DF4-D4821C7A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794A-FEBD-4808-8F7C-EE35356A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4B59-42BC-4496-8941-573C2AEC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D305-0481-454D-9161-28277857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252F-E8E6-4106-8100-40FD9B1C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E052-1FD7-486B-AC03-061230A4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6584E-199A-44BD-85EE-267A91B8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1615B-D8A7-4A46-8B31-7FE69CE8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360C5-9808-42FC-B5A3-111C4D9C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05CA3-FC0C-4B37-8846-B646C1DD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A5C8D-C1F3-4924-9DA2-99E65DEB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99F28-063B-4109-9A2A-662737E7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C9ACC-FEFC-41E2-90A6-0E737535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F39C-CAAC-4D63-9352-B36CED1CE2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8626-F256-4ADB-8A2A-B0FA22F470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Požadavky na podnik a jeho řízení na prahu postindustriálního věku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řenková Petr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alandrová Terez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vrátilová Ja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říklad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elekomunikační společ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naha o zlepšení spokojenosti zákazníků – základní kriterium – hodnota poskytovaných služ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covník oddělení služeb zákazníkům – hodnocen na základě osobní produktivity ( počet tel. hovorů během dne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ispečer – hodnocen na základě míry využívání technických pracovníků (kolik doby stráví u zákazníka a ne na cestě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chnik – hodnocen podle produktivity (kolik zakázek denně vyřídi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2472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azník – okamžitá oprava tel. spojení, spolehlivé tel. spojen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acovník oddělení služeb – vyřídit telefonát co nejrychleji, i když nezískal veškeré potřebné inform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ečer – vysílat techniky do sousedních oblastí bez ohledu na dobu čekání zákazní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ik – maximálně zkrátit čas strávený u zákazníka, kvalita práce druhořad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nahy  o zlepšení služeb podkopávány vlastním systémem měřen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Klíč k úspěchu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184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Formální, strukturovaný a kvantitativní model podni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ící manažerům mobilizovat zdroje nutné k dosažení celkových cíl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jující celkové podnikové cíle s jejich kontrolovatelnými prv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kazuje , že zatažením této páky se otevřou tyto dveř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Promyšlený proces využívání naměřených údajů 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lepšování podnikové výkonnost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ívající údaje k odhalení příčin a určení nápravných opatř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konnostní kriteria a žádoucí úrovně výsledků pro klíčové prv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riteria – objektivní, aktuální, snadno spočitatelná a snadno pochopiteln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Zaměřte se na konečného zákazní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45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( Krutá )Reali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dniky netuší kdo jsou jejich skuteční zákazní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sou od zákazníků odděleni distribučními řetězci (velko-, maloobchody,dealeři, distributoři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lká většina výrobků se dostane k zákazníkovi až projde rukama 1 a více prostřední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s distribuční kanály se dostává velmi málo inform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ýrobci – vědí o vše o výrobku málo o zákazníko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stributoři – vědí vše o zákazníkovi málo o výrob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ční distribuční kanály – nevýkonné, vysoké nákla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ždá transakce zvyšuje cenu x nepřidává hodno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romadění zás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říklad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travinové zbož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ené trvanlivé výrob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ezi tím než výrobek opustí linku a než se dostane do obchodu uplyne více než 100 dn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íce než 40 % zboží projde minimálně 2ma zastávk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okaždé musí být zboží vyskladněno, uloženo a opět vybíráno a nalož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elkové náklady spojené s toky zásob jsou více než 100 miliard dolar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630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Klíč k úspěchu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Výrobci i zprostředkovatelé musí společně usilovat o to, aby vzájemně umocnily své specifické schop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Maximalizovat hodnotu z pohledu konečného zákazník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Minimalizovat vlastní ná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Přetvořit distribuční kanály ve společenství, která usilují o společné cí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 Každý člen společenství dělá to, co umí nejlé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) Využívat internetu ke sdílení informací a zefektivnění transak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říklad 2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wasa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2 internetové stránky – pro distributory (zboží) a pro zákazníky (doplňk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plňky – snadno se balí, posílají, nepotřebují návod ani instala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aler – podíl na zisku podle oblasti, ze které si zákazník doplněk objed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hodné pro všechn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84720" y="549360"/>
            <a:ext cx="281016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Přetvořte a zjednodušte mezipodnikové proce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straňte vnější zdroje režijních, skladovacích a jiných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jte své procesy s procesy dodavatelů a zákazní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rozdělte činnosti mezi podn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evřeně sdílejte informace se všemi zúčastněnými podn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 rot="321000">
            <a:off x="6012000" y="364500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70102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Přetvořte a zjednodušte mezipodnikové proce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844280"/>
            <a:ext cx="70102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užijte příležitost ke spolupráci se spoluzákazníky a spoludodavate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měřujte firemní kulturu směrem k důvěř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21336000">
            <a:off x="3995640" y="371592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23600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BSAH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á ekonom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žerská pravidla pro úspěšnou firmu v 21. stole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doporuč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Chopte se možností virtuální integ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ma není soběstačný celek, ale součást uskupení, které vytváří hodnotu pro zákazní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kterizujte podnik pomocí procesů, ne výrobků či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čete procesy ve kterých vyniká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Chopte se možností virtuální integ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statní činnosti přenechte někomu, kdo je dělá lé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lupracujte s ostatními a nedělejte jen sami na se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uďte připraveni zásadně přehodnotit identitu a strategii svého podni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. Dejte se do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76160" y="1700280"/>
            <a:ext cx="70102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ud chcete uspět musíte patřit k nejlepším ve všem. Dnes už nelze být dobrý jen v něč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íklad 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ři zásady strategie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 oborech kde GE podniká, bude první nebo druhá na světě, ostatní zruší nebo prodá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 výzkumu investovat tolik, kolik je na první nebo druhé místo třeb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užít naplno tvořivých sil všech lid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Nakonec: 6 doporučení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700280"/>
            <a:ext cx="70102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přetržitě provádějte změ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klopte se kvalitními lid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slete pozitiv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ále se uč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ánujte co bude po v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ělejte chy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435640" y="3141720"/>
            <a:ext cx="3168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528480"/>
            <a:ext cx="70102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OUŽITÁ LITERETUR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76160" y="1628280"/>
            <a:ext cx="7010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AMMER, M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Agenda 21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Praha: Management Press, 2002. ISBN 807261074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rainer, S. Byznys podle Jacka Welche. Praha: PRAGMA, 1999. ISBN 807205947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RUNEČEK, J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Znalostní podnik ve znalostní společnosti.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fesional Publishing,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ěkujeme za pozornos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OVÁ EKONOMIK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šlo k nahrazení nedostatku nadbytk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azníci se stali mnohem zkušenějšími a informovanějšími kupujícím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robků se staly v podstatě nediferencovanými produ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vět jemuž vládnou zákazní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Přizpůsobte podnik svým zákazníkům – staňte se PSNSD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kažte svým zákazníkům jedinou tvá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způsobte své postupy potřebám konkrétního zákazní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edvídejte potřeby zákazní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bídněte zákazníkům hladkou a bezproblémovou komunikaci během všech transakcí s vaším podnik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užijte možnosti nechat zákazníka, ať se obslouží sá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žívejte měřítka výkonu soustředěná na zákazní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Dejte svým zákazníkům, co pravdu chtějí - poskytujte VPH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ozlišujte mezi tím, co prodáváte a co vaši zákazníci kupují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hápejte sami sebe jako poskytovatele řešení spíše než dodavatele výrobků či služeb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nažte se pochopit širší  potřeby a problémy zákazníků, přesahující vás a vaše produkty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ledujte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 vaši klienti dělají s tím, co od vás dostanou, a buď to udělejte za ně, nebo jim s tím pomozt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Vytvořte řád tam, kde vládne cha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( Krutá )Reali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kazníci už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nejsou loajál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znova a znova přesvědčovat o kou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ratší život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robk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voj nových a nových výrobků, inovac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Prodej a vývoj nových výrobk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covníci pracují tvrdě x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coviště jako celek =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cha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idé nevědomky pracují na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protichůdných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úkol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aždá situace se řeší jin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idé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improvizuj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romýšlejí věci za pochod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Arial"/>
                <a:ea typeface="Arial"/>
              </a:rPr>
              <a:t>To, že se něco podaří je vlastně zázra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říklad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Chemický závo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arketing – koncept nového výrobk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ýroba – výroba zamítla jako neproveditelný (moc prá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ýzkum – návrh nové technologi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Marketing – nepraktické ( nerozumí jim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dyž už byl nový produkt náhodou protlač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finance – navrhovaná cena bude stejně ztrát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obchodní oddělení - stejně si to nikdo nekoup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aždé pracoviště vyvíjí obrovské úsilí, ale izolovaně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84720" y="476280"/>
            <a:ext cx="21654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Klíč k úspěchu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OORDINACE a DISCIPLÍ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jde o to činnosti pouze vykonat, ale sladit je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dohromad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a vykonat je ve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právném pořad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rčit přesnou posloupnost kroků a rozdělit odpovědnost za jejich plněn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=&gt; Opakovatelnost, předvídatelnost a řiditel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lidé nebudou muset vynakládat úsilí, aby zjistili, jak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mají pracovat,mohou se soustředit na podstatu své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á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užívejte správná měřítka výko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981080"/>
            <a:ext cx="857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 Krutá )Reali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nikové systémy měření poskytují spoustu prakticky bezcenných údajů, které kvantifikují téměř vš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tom postrádají konkrétní záměr či dův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 jich takové množství, že se nedají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sou dodávány tak pozdě, že už jsou v podstatě zbytečn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žívat při řízení podniku finanční ukazatele je jako řídit auto s pohledem upřeným do zpětného zrcátka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5:05:14Z</dcterms:created>
  <dc:creator>Tereza Kalandrová</dc:creator>
  <dc:description/>
  <dc:language>en-US</dc:language>
  <cp:lastModifiedBy>snoopy</cp:lastModifiedBy>
  <dcterms:modified xsi:type="dcterms:W3CDTF">2008-11-20T13:38:15Z</dcterms:modified>
  <cp:revision>16</cp:revision>
  <dc:subject/>
  <dc:title>Požadavky na podnik a jeho řízení na prahu postindustriálního věku</dc:title>
</cp:coreProperties>
</file>