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CDC1-3625-4845-B111-E3255365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A3AA-335D-4F79-80C9-9AE43ADC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6B57-A1D6-4EE4-AE6E-446628BE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C921-27B5-4D4E-BBC8-F1126A61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ACE1-4CCE-414F-B590-77CD0DF8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1718-82A8-42A2-A85A-46FB36C8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0592-EEAF-4484-9747-DFFC3C3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7D46-D233-442E-8F3A-B0815EBE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D52A-C798-4E67-973E-BD6C539C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6338-802E-43B4-BD6F-A9C90307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A206-A267-4731-8B12-430DC68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D01E-3842-47C7-86A4-24C65CDF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C422-B816-4908-95F3-3AD836B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0F01-0F7F-4320-9718-47E71F2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0AD9-C638-47B8-963E-704856E7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A033-323A-489C-AF12-2D81841E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82EE-C6F1-48C5-A0AC-5BA3D9E3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F72D-95C7-4A22-BAC8-962C3358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2D16-AFDB-4540-976B-EACA2F38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D7F4-DA5F-4E56-88D2-FCA7E61E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3B1F-FFE1-49C1-9CC3-BF6694B9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D9C9-A799-4774-825B-B64B9C64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3777-1890-41B8-8EB6-6F828C31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2F3B-4239-4DA3-80FC-F88F784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DFEC-4AC7-44C6-9CA2-6CB956721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A936-CE2F-4C0A-9B5D-F47E65DA5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rické obraty povzbuzující růst kapitá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nkovní úv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P ( public-private-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po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í silní vlastnící – penzij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myslová štíhlost – Japon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olňování nejen práce, ale i kapitálu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nalostní umocnění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asnost rozmach smluvní spolupráce, joint ventures, aliance, sítě a řetězce, klastry, licence, frančí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oba produkce odpovídající spotřebě, tedy individualizované, ale ceny srovnatelné s předchozí univerzální výrob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toucí potřeba velkých inov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tahování intelektu d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OT - stará dáma, která si za déle než půl století snad zaslouží úctu, ale výbojný junácký podnik se už o ni ucházet nebude. Nejvýše si ji nechá v záloze, když náročnější pokusy selž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á hierarchie představivosti –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Gary Ha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současných procesů zaměřena interně                (restrukturalizace, re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tačí dostihnout úroveň, ale vynalézt nové h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určité fázi se objevuje nutnost zásadní obnovy konkurenční základ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utváření budoucnosti nelze používat staré strat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důležitých informací mimo vlastní o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 skutečnosti x hierarchie představivosti            (mnoho nových různých názo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uperkonku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status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kračování dřívější hranice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racování doby projektování, konstruování, zavádění nových technolog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stále více myslet na budouc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užně přijímat časté nečeka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7 nových pravidel superkonkurenčního úspě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šší uspokojení opatřovatelů kapitálu vyvolá zájem na smělém manévr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zůstávat u předvídání, pustit se do smělých doh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pravit překvapení, jež vyvedou soupeře z mí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upovat s krajní rychl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přístupy a uvádět soupeře ve zma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pouštět klamná znamení svých zámě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soustředění sil a prostředků, nečekaně střídat úd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udoucí práce podle Rifk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má ekonomický smysl jen tehdy, kdy tvoří hodno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to třeba se povětšině odpoutat od uzavírání smluvního poměru na pevnou dobu a navázat smlouvu o práci na tu dobu, kdy kapitál práci skutečně potřebu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, penzijní záležitosti sám zaměstnan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lená během volna, nebo úhrada více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ůvodně japonská filosofie managementu spočívající ve stálých malých zlepšeních, za která jsou zodpovědní všichni pracovníci podniku, důraz je kladen na kontrolu kvality a zlepšovate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dosažení změny, která vydr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malými kroky ke kontinuálnímu zlepš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ojeni všichni zaměstnanci od vedení firmy, až po řadové pracov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é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plikovat ve všech oblastech živ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, která má tisíce mil, musí začít prvním krokem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x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ovace – rychlá, velká, dramatická, radi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masivní propouštění, veliké inves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 – malé, pohodlné kroky, které vedou ke zlep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dení malých otáz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ování malých myšle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ání malých akcí, které zaručují úspě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šení malých problémů, kdykoliv řešíte kr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ládání malých od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poznávání malých, ale zásadních momentů, které jiný igno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RÁSEK, J.A. Agenda příštích let. Praha : Profesional Publishing. ISBN 80-86946-04-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akademon.cz/source/druck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URER, R.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 kaiz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BETA, 2005 s.141, ISBN 80-7306-178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ští společnost Petera Druck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Drucker – guru světového manage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spol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išná od společnosti 20.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pracovn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ý nárůst starší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é ubývání mladší gen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nost pod reprodukční hodnotou 2,2 živě narozeného dítěte na ženu v reprodukčním věku (i v Číně a Brazíl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ky – imigrace se stane významnou otázkou ve všech vyspělých zem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nomicky – trh hromadné spotřeby se rozdělí na trhy dva (větší trh zaměřený na střední generaci a mnohem menší trh zaměřený na mladé gener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nalost je vš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í společnost = společnost zna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alostní pracovníci – dominantní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hlavní charakteristiky společnosti znalos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mez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up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jný potenciál úspěchu jako proh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to tři znaky učiní společnost znalostí vysoce kompetitivní (i globálně kompetitivní – internet umožní všem zákazníkům získávat informace o tom, co je dostupné jinde ve světě a za jakou cen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století – pokles sektoru zemědělstv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bjemově je produkce 4x-5x větší než před 1.sv.v., ale v roce 1913 představovala zeměd.produkce 70% světového obchodu, nyní pouze 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padek zemědělství vedl k rozšíření zemědělského protekcionis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protekcionismus bude mít formu spíše dotací, kvót (než tradičních c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děpodobně se objeví regionální bloky vnitřně založené na volném obchodu, avšak silně protekcionistické nave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, NAFTA, Mercosur již směřují těmito smě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vební kameny obchodních konfederací: aliance, společné podniky, minoritní podíly, dohody o sdílení know-how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yp organizace bude potřebovat zcela nový typ vrcholového managem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vrcholový management bude velmi pravděpodobně oddělený a vzdálený orgán a jeho odpovědností bude celá společ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y Petera Druck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ětší změny jsou stále před ná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ečnost v roce 2030 bude velmi odlišná od toho, co známe d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bude dominována nebo formována informačními technologiemi. Informační technologie budou důležité, avšak budou pouze jednou z několika nových technologi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álním rysem budou nové instituce a nové teorie, ideologie a problé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7921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lav A. Jirásek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PŘÍŠTÍCH LE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O VADIS, MANAGEMEN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9256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roky k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cí manažeři byli znárodněním velkého průmyslu, dopravy a bank nadšeni. Nebýt toho, museli by dlouhá léta čekat, než podniky dosáhnou vydatné akumulace, vyrostou i technicky se vybaví, a oni budou moci ovládat velké produktivní síly. Nyní mohli naráz řešit takové problémy jako koncentrace kapitálu, specializace, zahájení velkorysého technického vývo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ůjci plánů a rozvoje se opírali o americké a sovětské prameny. Byli si  inovačně  téměř rovnocenné. Ale sovětské měli nav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kum a vývoj se explozivně zvětšoval. Před válkou se počet odborníků ve vědě vykazoval jen jako 3 000, zato v socialistických poměrech stoupl na 200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Pavel</cp:lastModifiedBy>
  <dcterms:modified xsi:type="dcterms:W3CDTF">2008-11-26T21:18:46Z</dcterms:modified>
  <cp:revision>14</cp:revision>
  <dc:subject/>
  <dc:title>Stakeholderský přístup k pojetí podniku.</dc:title>
</cp:coreProperties>
</file>