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BFA6D-FF60-4995-A6F4-DA3B1B257ED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86847-B31D-45CD-A83F-63F59D6A950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282F9-4B04-4CDD-A21D-90008A7FA27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165E-CBB1-4C92-A90E-7846E60C1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8851-03D7-43C7-8C1B-65FBFB27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C9F0-7BD5-49B0-A38B-DF4C941A6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2A12-491A-4AB8-83DD-B29B57468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364A9-B561-4D08-954E-ED9119E6A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1D3D8-3BC4-4BF8-9780-E7180D33D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97C95-7383-4191-95B4-D7D255929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2CA93-454F-4571-8720-3F40F2DFB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946CC-2B26-43B7-B9DB-C04A127F8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AF279-70DF-4B34-A2CA-23F620EE9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6CF49-77AE-44E9-9B3E-92B6C47C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3893-1F4A-401D-B293-F2085B15D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F7EB7-544B-42FB-B607-CA027C45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1DD57-FA3F-4081-99AA-79B7CC4F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13AC5-E655-4974-A459-822AF8495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24552-3D92-4D02-827B-FF65C13FB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6D0F3-A8EC-4CA2-8169-C9FA9B09C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45A35-3CEE-4062-9402-51E27BEA3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17680-1595-4758-92D7-24852C831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F1EB9-5C94-44BC-8494-B79A1078F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A9736-7FE9-4E11-B9A0-A7061C016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5F50D-7374-4965-B4AE-FDD762220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E882-B83D-4127-B6ED-6BBF1F8A1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03D58-71DA-4163-BEAE-6181E4E7D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3C032-4AA3-44E2-A300-D208CD57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C4E1A-3239-4DFD-B963-7F1D1EAA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7F46A-42E2-4990-9E7D-37C20864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6C18A-3F9A-4D6C-9B75-03314BB15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560C9-6C1B-4DB2-A91B-C0AFAEB10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88D89-DD55-495D-803A-F03D7DBD2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C126C-377D-4960-BF88-F2314FB71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90CFB-C9E6-44EE-A152-BC4BE3506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533BC-CDFD-403B-A7A6-AFD72AA4D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FB88-56AC-47CA-8AB5-619ABBC16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2716A-A8B9-4514-A55E-36693ABB8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8AB7B-FAED-40BA-973C-F3E2E664F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91672-7490-496B-90EC-45CBDD019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19DB0-252B-4678-87CD-D862620B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BB0CB-5674-4FDE-BAF8-2C510DBD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E6B38-8F45-45EC-9A96-AE149998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F7A1E-70A2-4F38-AE01-8004DC236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E2A0B-3CD3-49D7-BA7F-A33BDF4EA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ACAF2-F02A-44F7-A43D-57E624254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7E5D-921B-4D4D-B1E2-475202F2A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FCAF-78A3-45A8-B6D0-E50184C24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4957-152D-4EEC-9C26-956346C6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CAD4-596A-458E-B521-B4AAECCF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D629-EA55-4942-ABDE-55E01104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olný tvar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olný tvar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590C8-506E-48BE-BC70-BDFD97560799}" type="slidenum">
              <a:rPr b="0" lang="cs-CZ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Skupina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Volný tvar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Volný tvar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Volný tvar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Volný tvar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Volný tvar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Volný tvar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Skupina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Volný tvar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Volný tvar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Volný tvar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Volný tvar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84362-6D2E-4607-8BD2-3D9C1DC97BB5}" type="slidenum">
              <a:rPr b="0" lang="cs-CZ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Volný tvar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Volný tvar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Skupina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Volný tvar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Volný tvar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Volný tvar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Volný tvar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8E5D6-5951-40BD-B3F8-4E19ADC3D737}" type="slidenum">
              <a:rPr b="0" lang="cs-CZ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Obdélník s odříznutým a zakulaceným jedním rohem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ravoúhlý trojúhelník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Volný tvar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Volný tvar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49049-FF93-4413-BC0B-96DFA867442B}" type="slidenum">
              <a:rPr b="0" lang="cs-CZ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Nadpis 1" descr=""/>
          <p:cNvPicPr/>
          <p:nvPr/>
        </p:nvPicPr>
        <p:blipFill>
          <a:blip r:embed="rId1"/>
          <a:stretch/>
        </p:blipFill>
        <p:spPr>
          <a:xfrm>
            <a:off x="706320" y="633240"/>
            <a:ext cx="8212320" cy="15368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000480" y="4571640"/>
            <a:ext cx="2414520" cy="17096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nstantia"/>
              </a:rPr>
              <a:t>Kincl Pavel</a:t>
            </a:r>
            <a:r>
              <a:rPr b="0" lang="cs-CZ" sz="28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nstantia"/>
              </a:rPr>
              <a:t>Beleš Marek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nstantia"/>
              </a:rPr>
              <a:t>Beleš Martin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1548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4617b"/>
                </a:solidFill>
                <a:latin typeface="Calibri"/>
              </a:rPr>
              <a:t>Poskytování a přijímaní informací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4284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Poskytování informací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Constantia"/>
              </a:rPr>
              <a:t>Selektivní poskytování informací</a:t>
            </a:r>
            <a:r>
              <a:rPr b="1" lang="cs-CZ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– na základě rozhodnutí, co kdo potřebuje vědě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Př. Tím, že sami rozhodujete, co je důležité, aby vaši podřízení věděli, ji upíráte jejich právo sami rozhodovat o tom, co je pro ně důležité a užitečné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Constantia"/>
              </a:rPr>
              <a:t>Poskytování všech možných informací</a:t>
            </a: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, které vytváří zahlcení a přetížení informacemi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Možnost zahlcení, pak přestaneme naslouchat a opomineme důležité informac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Constantia"/>
              </a:rPr>
              <a:t>Poskytování přiměřených informací </a:t>
            </a: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– mezi dvěma extrémy existuje určitá rovnováh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Je důležité, aby vaši podřízení věděli, jaké informace jsou k dispozici, aby se mohli sami rozhodnout, zda potřebují vědět více. Musíte však filtrovat informace, které poskytujeme, abychom zabezpečili, že budou užitečné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Požadavky na manažer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Vynikající manaže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nstantia"/>
              </a:rPr>
              <a:t>Mít pod kontrolou sami seb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nstantia"/>
              </a:rPr>
              <a:t>Rozvíjí své komunikační dovednosti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Roste význam těchto dovedností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Šipka dolů 3"/>
          <p:cNvSpPr/>
          <p:nvPr/>
        </p:nvSpPr>
        <p:spPr>
          <a:xfrm>
            <a:off x="3500280" y="3429000"/>
            <a:ext cx="771840" cy="1285920"/>
          </a:xfrm>
          <a:prstGeom prst="downArrow">
            <a:avLst>
              <a:gd name="adj1" fmla="val 50000"/>
              <a:gd name="adj2" fmla="val 4998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ovéPole 4"/>
          <p:cNvSpPr/>
          <p:nvPr/>
        </p:nvSpPr>
        <p:spPr>
          <a:xfrm>
            <a:off x="4857840" y="3786120"/>
            <a:ext cx="25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stup do 21. stole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573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Požadavky na manažer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357120" y="1600200"/>
          <a:ext cx="4286160" cy="4105440"/>
        </p:xfrm>
        <a:graphic>
          <a:graphicData uri="http://schemas.openxmlformats.org/drawingml/2006/table">
            <a:tbl>
              <a:tblPr/>
              <a:tblGrid>
                <a:gridCol w="565200"/>
                <a:gridCol w="372096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1993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– Vlastnosti dle důležit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chopnost rozhodov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mění vést lid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tegri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adšení pro prá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ředstaviv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chota usilovně pracov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nalytické schop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ochopení pro druh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chopnost vyhmátnout příležit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chopnost řešit nepříjemné situ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4686480" y="1571760"/>
          <a:ext cx="4114800" cy="4105080"/>
        </p:xfrm>
        <a:graphic>
          <a:graphicData uri="http://schemas.openxmlformats.org/drawingml/2006/table">
            <a:tbl>
              <a:tblPr/>
              <a:tblGrid>
                <a:gridCol w="542880"/>
                <a:gridCol w="357192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2001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– Vlastnosti dle důležit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lastní motiv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rientace na cí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chopnost pracovat v tý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omunikační doved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chopnost snášet zátě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nalytické schop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chota se uč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Řídící schop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lexibili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chopnost rozhodov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Řízení lidí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Motivování lidí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Podpora a pomoc lide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Konzultování a koučování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Poskytnout lidem prosto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743040" indent="-743040">
              <a:buClr>
                <a:srgbClr val="04617b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Motivování lidí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Motivace je vždy sebe-motivací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Zároveň motivování lidí je jednou z nejdůležitějších součástí práce manažerů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Faktory motivac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971640" indent="-51444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Úcta k lide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71640" indent="-51444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Projevy uznání lide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71640" indent="-51444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Poskytnutí odpovědnosti lide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71640" indent="-51444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Zábav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ravá složená závorka 3"/>
          <p:cNvSpPr/>
          <p:nvPr/>
        </p:nvSpPr>
        <p:spPr>
          <a:xfrm>
            <a:off x="6000840" y="3786120"/>
            <a:ext cx="285840" cy="1785960"/>
          </a:xfrm>
          <a:custGeom>
            <a:avLst/>
            <a:gdLst>
              <a:gd name="textAreaLeft" fmla="*/ 0 w 285840"/>
              <a:gd name="textAreaRight" fmla="*/ 103320 w 285840"/>
              <a:gd name="textAreaTop" fmla="*/ 7200 h 1785960"/>
              <a:gd name="textAreaBottom" fmla="*/ 1778760 h 178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44"/>
                  <a:pt x="10800" y="288"/>
                </a:cubicBezTo>
                <a:lnTo>
                  <a:pt x="10800" y="10512"/>
                </a:lnTo>
                <a:cubicBezTo>
                  <a:pt x="10800" y="10656"/>
                  <a:pt x="16200" y="10800"/>
                  <a:pt x="21600" y="10800"/>
                </a:cubicBezTo>
                <a:cubicBezTo>
                  <a:pt x="16200" y="10800"/>
                  <a:pt x="10800" y="10944"/>
                  <a:pt x="10800" y="11088"/>
                </a:cubicBezTo>
                <a:lnTo>
                  <a:pt x="10800" y="21312"/>
                </a:lnTo>
                <a:cubicBezTo>
                  <a:pt x="10800" y="21456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ovéPole 5"/>
          <p:cNvSpPr/>
          <p:nvPr/>
        </p:nvSpPr>
        <p:spPr>
          <a:xfrm>
            <a:off x="6715080" y="4286160"/>
            <a:ext cx="178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ítomnost všech faktor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743040" indent="-743040">
              <a:buClr>
                <a:srgbClr val="04617b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Motivování lidí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Proč motivovat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21.st. -&gt; Organizace musí být dynamická </a:t>
            </a:r>
            <a:r>
              <a:rPr b="0" lang="cs-CZ" sz="2400" spc="-1" strike="noStrike">
                <a:solidFill>
                  <a:srgbClr val="7f7f7f"/>
                </a:solidFill>
                <a:latin typeface="Constantia"/>
              </a:rPr>
              <a:t>(musí  se vyrovnávat se stálými změnami v technice, technologii a také v podnikatelském prostředí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=&gt;Potřeba lidí, kteří se 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chtějí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 učit, měnit, rozvíjet a   přispívat ke změnám a inovací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Usnadňuje řízení lidí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743040" indent="-743040">
              <a:buClr>
                <a:srgbClr val="04617b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Podpora a pomoc lide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Individuální pozornost =&gt; přispívá k pracovnímu výkonu jednotlivce a tím i celému týmu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Zásady individuální práce s lidmi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Čestnost a poctivost účelu a úmyslu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Důvěrnost jednání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Jasnost cílů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Budování dobrých vztahů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Zvýšení hodnoty a významu daného jedin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743040" indent="-743040">
              <a:buClr>
                <a:srgbClr val="04617b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Podpora a pomoc lide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Typy individuální práce s lidm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Formální přezkoumání dosavadního výkonu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nstantia"/>
              </a:rPr>
              <a:t>(hodnotící rozhovory,  hodnocení projektů apod.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Neformální rozhovor mezi čtyřma očim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743040" indent="-743040">
              <a:buClr>
                <a:srgbClr val="04617b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Konzultování a koučování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Konzultování na pracovišt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Koučování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ravá složená závorka 3"/>
          <p:cNvSpPr/>
          <p:nvPr/>
        </p:nvSpPr>
        <p:spPr>
          <a:xfrm>
            <a:off x="5572080" y="2571840"/>
            <a:ext cx="357120" cy="785880"/>
          </a:xfrm>
          <a:custGeom>
            <a:avLst/>
            <a:gdLst>
              <a:gd name="textAreaLeft" fmla="*/ 0 w 357120"/>
              <a:gd name="textAreaRight" fmla="*/ 128880 w 357120"/>
              <a:gd name="textAreaTop" fmla="*/ 9000 h 785880"/>
              <a:gd name="textAreaBottom" fmla="*/ 776880 h 78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09"/>
                  <a:pt x="10800" y="818"/>
                </a:cubicBezTo>
                <a:lnTo>
                  <a:pt x="10800" y="9982"/>
                </a:lnTo>
                <a:cubicBezTo>
                  <a:pt x="10800" y="10391"/>
                  <a:pt x="16200" y="10800"/>
                  <a:pt x="21600" y="10800"/>
                </a:cubicBezTo>
                <a:cubicBezTo>
                  <a:pt x="16200" y="10800"/>
                  <a:pt x="10800" y="11209"/>
                  <a:pt x="10800" y="11618"/>
                </a:cubicBezTo>
                <a:lnTo>
                  <a:pt x="10800" y="20782"/>
                </a:lnTo>
                <a:cubicBezTo>
                  <a:pt x="10800" y="2119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ovéPole 4"/>
          <p:cNvSpPr/>
          <p:nvPr/>
        </p:nvSpPr>
        <p:spPr>
          <a:xfrm>
            <a:off x="6072120" y="278604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ístupy se kombinuj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743040" indent="-743040">
              <a:buClr>
                <a:srgbClr val="04617b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Poskytnout lidem prosto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000000"/>
                </a:solidFill>
                <a:uFillTx/>
                <a:latin typeface="Constantia"/>
              </a:rPr>
              <a:t>Delegování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Je třeba znát: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- Výsledk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- Standard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- Paramet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Delegovanou odpovědnost monitorujem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Je profilem manažera 21. století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Di Kamp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Meta (GB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program Journey to Mastery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(Cesta k dokonalosti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Picture 4" descr="Di Kamp"/>
          <p:cNvPicPr/>
          <p:nvPr/>
        </p:nvPicPr>
        <p:blipFill>
          <a:blip r:embed="rId1"/>
          <a:stretch/>
        </p:blipFill>
        <p:spPr>
          <a:xfrm>
            <a:off x="5846760" y="1484280"/>
            <a:ext cx="2763720" cy="35290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Bez názvu"/>
          <p:cNvPicPr/>
          <p:nvPr/>
        </p:nvPicPr>
        <p:blipFill>
          <a:blip r:embed="rId2"/>
          <a:stretch/>
        </p:blipFill>
        <p:spPr>
          <a:xfrm>
            <a:off x="3184560" y="3429000"/>
            <a:ext cx="1531800" cy="23050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fvbd"/>
          <p:cNvPicPr/>
          <p:nvPr/>
        </p:nvPicPr>
        <p:blipFill>
          <a:blip r:embed="rId3"/>
          <a:stretch/>
        </p:blipFill>
        <p:spPr>
          <a:xfrm>
            <a:off x="900000" y="4005360"/>
            <a:ext cx="1154160" cy="2016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7" descr="sfg"/>
          <p:cNvPicPr/>
          <p:nvPr/>
        </p:nvPicPr>
        <p:blipFill>
          <a:blip r:embed="rId4"/>
          <a:stretch/>
        </p:blipFill>
        <p:spPr>
          <a:xfrm>
            <a:off x="1712880" y="4437000"/>
            <a:ext cx="11746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Zdroj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Di Kamp: Manažer 21. století.</a:t>
            </a:r>
            <a:br>
              <a:rPr sz="2600"/>
            </a:b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Praha: Grada Publishing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Grafologie pro personalisty a manaže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Praha: Grada Publishing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www.metapositive.co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Co bude jinak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měnící se prostředí =&gt; manažeři = efektivní řízení lidí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X normy a zvyklosti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odkud vycházet?  &gt; 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Constantia"/>
              </a:rPr>
              <a:t>Historie řízení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- příkazy + kontrola, autokratické řízení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- do 20. stol. – benefity, ale stále autokratismu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=&gt; postupně respekt lidského potenciálu</a:t>
            </a:r>
            <a:br>
              <a:rPr sz="2200"/>
            </a:b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Hlavní charakteristik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ideálního manažera…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Ideální manaž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246400" y="1599840"/>
            <a:ext cx="5781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Hrát roli vzoru pro ostatní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Znát sebe sam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Soustavně se vzdělávat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Mít potěšení ze změn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Mít vizi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Plně si uvědomovat součastnou realitu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Mít vysokou úroveň etiky a hodnot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Myslet systémově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Správně komunikovat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Pozitivně myslet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Umět se nadchnout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Být opravdový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7192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4617b"/>
                </a:solidFill>
                <a:latin typeface="Calibri"/>
              </a:rPr>
              <a:t>Efektivní komunikování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Komunikace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začíná tím, jaký vztah máme k ostatním lide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Nemůžeme uměle vytvořit dobrý vztah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Je důležité mít dobré vztah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3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Prvky, které nám umožní budovat dobré vztah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nstantia"/>
              </a:rPr>
              <a:t>Úmysl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Jak chceme vycházet s jinými lidmi – jednání s nimi. Řídí to naše postoje k nim, vzájemné působení. Náš postoj, poměr k lidem silně ovlivňuje to jak na nás reagují = je důležité jej promyslet a zváži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Vědomá volba užitečných a pozitivních postojů k lidem = větší naděje pro vytváření dobrých vztahů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7192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4617b"/>
                </a:solidFill>
                <a:latin typeface="Calibri"/>
              </a:rPr>
              <a:t>Efektivní komunikování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2859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nstantia"/>
              </a:rPr>
              <a:t>Rozpoložení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V jakém rozpoložení jsme, ovlivňuje všechno, co děláme. Pozitivní rozpoložení – dobře se cítíme, věříme si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nstantia"/>
              </a:rPr>
              <a:t>Výsledk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Zda dosáhneme výsledku, závisí na tom, zda jsme si vytvořili dobrý vztah. Existuje dlouhodobý výsledek – jestliže budujeme dobré vztahy a zlepšujeme vztahy s jinými lidmi, styky s těmito lidmi budou stále snadnější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nstantia"/>
              </a:rPr>
              <a:t>Nalezení správné rovin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Odhadnout náladu - neměli bychom rovnou konverzovat. Je třeba zjistit, co se s ním stane, co to s člověkem udělá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nstantia"/>
              </a:rPr>
              <a:t>Správný jazyk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Př. podnikový, manažerský, technický, zákaznický, dodavatelský, praktický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7192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4617b"/>
                </a:solidFill>
                <a:latin typeface="Calibri"/>
              </a:rPr>
              <a:t>Efektivní komunikování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2859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nstantia"/>
              </a:rPr>
              <a:t>Vážit si lidí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Když si viditelně vážíme lidí = dobré vztahy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Někdy je to obtížné = budování důvěry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nstantia"/>
              </a:rPr>
              <a:t>Nebezpečí plynoucí  z dobrých vztahů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Někteří manažeři se domnívají, že ztratí respekt a kontrolu, al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51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Dobrý vztah   x   tajné srozumění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51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Constantia"/>
              </a:rPr>
              <a:t>Dobrý vztah 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– přátelská úcta k jinému, která v něm vyvolává podobnou reakc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Constantia"/>
              </a:rPr>
              <a:t>Tajné srozumění 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– spolupráce s ostatními, která má přesvědčit, že jsme na jejich straně, i když vás to kompromituje = slevujeme ze svých zása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1548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4617b"/>
                </a:solidFill>
                <a:latin typeface="Calibri"/>
              </a:rPr>
              <a:t>Poskytování a přijímaní informací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Máme sklon přemýšlet o komunikaci jako o mluvení, ale komunikujeme i když naslouchám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nstantia"/>
              </a:rPr>
              <a:t>Vynikající schopnost přijímat informace spočívá v 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Constantia"/>
              </a:rPr>
              <a:t>Přání či potřeba být informován </a:t>
            </a: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– První krok, zájem o věci co se kolem nás děje. Měli bychom být otevření přijímat informace od jiných lidí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Constantia"/>
              </a:rPr>
              <a:t>Věnovat informacím pozornost </a:t>
            </a: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– „Nevypínat se“ – nenaslouchat selektivně. Skutečná pozornost má 5 rovin 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Naslouchání slovům, víme co bylo řečen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Naslouchání významu skrytému za slovy (tzn. důrazů na slova, váháni atd.)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Pozorování toho , jak řeč těla doplňuje význam slov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Používání intuice – vaší „vnitřní reakce“ – ke čtení mezi řádky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Podvědomé, citové vnímání toho, co se děj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1548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4617b"/>
                </a:solidFill>
                <a:latin typeface="Calibri"/>
              </a:rPr>
              <a:t>Poskytování a přijímaní informací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2859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nstantia"/>
              </a:rPr>
              <a:t>Skutečná pozornost je poté účinná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Umožňuje nám slyšet to, co se říká, ve své úplnosti a tak vhodněji reagovat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Poskytuje nám dodatečnou informaci o tom, jak partner „funguje“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Partner má pocit, že si jej vážíte = zlepšuje vaše dobré vztahy s ním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nstantia"/>
              </a:rPr>
              <a:t>Používat informace dobře 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– informace mají nějaký účel. (krom klepů, zákeřných informacích)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Lidé co nám je poskytují, chtějí, aby se jim dostalo důkazu o tom, že jsme tyto informace dobře použili=zlepšuje dobré vztah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2T13:19:55Z</dcterms:created>
  <dc:creator>Marek</dc:creator>
  <dc:description/>
  <dc:language>en-US</dc:language>
  <cp:lastModifiedBy>Martin Beleš</cp:lastModifiedBy>
  <dcterms:modified xsi:type="dcterms:W3CDTF">2008-11-26T19:19:06Z</dcterms:modified>
  <cp:revision>30</cp:revision>
  <dc:subject/>
  <dc:title>Požadavky na manažery na prahu postindustriálního věku</dc:title>
</cp:coreProperties>
</file>