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6AA-4B5E-48C9-A590-C0ACB12E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660-BD14-427D-B4DD-DACE6421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F12C3-B237-44B3-8315-6EE9957D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D3DC9-28BD-42C8-AD60-9C066FB1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7AAE4-4129-4ABE-A58E-2A65B1F8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6D3EC-373C-430E-A36A-D9558AA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931BD-D433-4A09-9D9B-CCC203F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6C2B2-F80C-4B28-9CF8-DEC6A968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414F4-861A-4922-AE2C-399F5E45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E2B78-E0CE-4003-A55D-E940DD1A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A7AE4-CDAC-46BC-8DD2-D18EE829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E953D-1FB6-4F53-9C1B-7FBBB0A7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A99-F1E8-4D01-9823-CDF25AEC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0FA43-3702-4009-9EA2-BD8CE528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07650-9E2A-41C0-A29B-06FEFBF4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9E1EC-8BF6-44D0-9836-23F38D2C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C4076-C797-4AEB-AF18-EE950BB6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CF5F5-66E0-4C48-A457-C366D4E6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46E74-789E-46EA-BD00-C1A0959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6C8AB-6CC0-4F59-BE02-6E0CEF6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9FE9A-A907-4BC7-B863-28D665D3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01C31-300A-4B00-92EE-56573CCD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B512D-9A82-4785-B3BD-692B18DB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56C-F0A4-4FC2-954C-2C72D059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D29C3-7D99-4BDF-B0A7-A43C976F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4F3E2-F4DE-4962-9DC0-4A72838E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01869-E2C8-4B39-8878-B81FBD16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E40E0-1FDA-47E7-94A0-5330E74C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DBBB3-75C1-46CB-BBE8-FEAD7F4E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A2C37-7234-477D-A882-57A2E27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593B7-74D3-4BA9-A6D2-8ED05926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56C11-9DA3-4455-9143-82CC2AD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EC443-4A6A-4ABB-8532-D536493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AA54C-D9FB-43CF-ABCB-3550815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2FBB-5B71-4633-90DE-8415DA3E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90847-6DFA-4E8E-90FF-49E33E8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4B219-7E07-4A13-9023-408588D3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26929-4AA8-4420-BF3F-C04C3B60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A9603-2CB1-476E-829F-5C08FA82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5236-DC6A-48DC-8715-1C84AAE7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1A890-4555-49F8-9A35-3E39D4F2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18F90-BCB1-439D-91DA-A8F84E79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CCC69-65C6-49EF-9498-6780EC53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1C03D-2492-4EDB-A345-DD71BAB3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42914-9343-465F-A3B6-3251B56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B0CE-345D-48B3-9A4A-3F7479B6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6C21C-B8DD-446D-AC31-E68BBB3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05FC4-FCCC-475A-BD97-BD8D2C81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B843F-5688-43EB-A0AC-1961621E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D3947-9666-47C2-9975-7BFA0CAF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2A9B1-58F1-4A1A-AF7B-2B41AF49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3366-C5C3-4591-8989-60878C08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C5C6-6E78-4132-80A4-01F63196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4FFF-9D04-4E6C-83CE-ECDB99D7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8E1E-88ED-47D1-AB41-98296F48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E0E3-CC13-4443-8EB9-7FE7245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57C-4BB9-4B2B-8A97-473A881B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CBF4-2ABE-4AC8-BE80-C7772E7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587F-5E70-467B-8CE9-9EDA9D1B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EEB9-8F7C-48BF-8A24-A95CCB2D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C9AE-D84F-42EB-93CB-E323B8BA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831D-D656-447D-82D8-DEF38D04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55638-54FF-4EDB-838F-ABBCA01F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3E386-6BE2-42ED-9556-0CD4CBC1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B4C2-43AF-4EAC-8C5A-CB9BB443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5081-967F-4E63-8E6E-877C063E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0AD8-41BD-416A-9869-DE77A15D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9E6-9206-4D5E-B8C7-821BA002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1189-CE94-4808-8F15-883F611C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570C2-D822-4D5E-895D-7188481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07F7-5062-4D4E-BEE5-1BF3E253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ED53-1D50-49F4-8FD5-0AAF62A4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4089-B501-48E3-AB6E-10E6B04C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7086-C472-4829-B4D1-165AE3E2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7257-101B-4801-B7E7-D979E60A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92A3-BA67-41D6-80B2-804B796B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3B03-8056-4607-A0EA-82190EAA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BEC00-FBC6-4637-A04E-0A7842C6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6F9-7C8B-4104-A98E-54A54F24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6D37-0C0E-4841-8836-59047291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558F-FA8B-48C2-9308-3886CCFD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D0BF-1AA7-42E8-A53B-19C754C9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E588-6FF4-44B9-9337-049D696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D343-06CE-42F8-8CB2-8E2A201B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6FA26-47FA-44CE-8BF7-D0EED24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1039-C531-41C7-8757-CAF08117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BCA2-45EF-4182-AC8C-BB1586F5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2DF4-52B6-4CA8-B690-0D98ECF5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A25B-9508-4125-8D60-820EE342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265-14FC-4A4B-81E2-32D96E9D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15934-DE24-4CB6-882B-6C6AE166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40F5-512D-4B1F-92CA-F97AF8B7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D2745-AE1E-4378-8484-57446214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23D7-0E8D-4301-AB74-0E3C8D02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A91F4-615D-4BF6-B6EC-CDD2BA0B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47D0-51D7-4232-B682-A3F5128C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C9651-EBDD-43B3-B9EA-2AAF2BC6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0C3D5-2744-4C69-A154-2AACE8B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16D0D-F542-4D90-9D65-48C8E6A4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EB32-A592-4628-88E3-F6E1B52F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C6D-E074-480B-A557-3CCA682C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EA75-6B0D-44A2-A6BE-1D8022F1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0F7EE-C62A-4E90-9ADE-FD40C7D8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B27E2-75C7-44B4-8576-68E189E2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90A31-1D9D-4308-9540-BEABF0D3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FDBE8-60B9-42A7-8310-8FAA2F4B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AE5C4-54CF-4CAE-B5AF-09168DAA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DEACA-7690-4668-9923-5382F21B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0644-24C9-43FE-A597-59A338E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05F5-DF21-4EF5-8B49-FB915F5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8284F-026B-47F5-B68E-71AD1CE9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489-F575-431E-92D4-90346462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E7ED5-A1DE-45AD-9C37-E33FF5DE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C43F8-1953-4F7C-B02F-FD266D56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BF37F-CE1B-4F2B-A9F4-C2BEA0FA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DBACE-BA60-425C-9F88-0FEE48EF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62704-1E33-4482-9A8A-7ECDE164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C41AF-78A8-4973-9BB7-184BFF71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202BD-C978-445E-9F57-648BB0C1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1AB80-4533-4073-AA07-4370C907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7BCA2-02D8-434B-991C-DF86C852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67058-E79F-4CE6-9AAF-EFFA1D2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815-C9F6-4767-9AF7-ECBB6EDA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0EE1C-4B0F-487B-AF04-67C9C596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ACDDF-8C4E-4015-9F58-C9837028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9E71E-1A72-43FB-9674-DBA2F93C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3186E-C540-4384-9E5A-7A0D650E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6C176-B921-4EA0-9123-A8322CD0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18C21-0F2F-404C-B54C-EA30E4FE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5F479-D2FA-49AF-9CFB-F8AF9562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01CE8-7A40-4629-A5C8-F04838D0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338C7-0CE5-45A6-9D07-5E22D691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BB2CF-E1F4-4093-BA80-9E52E199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8E7-21EC-4E34-BAF0-A559BB07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8A12-285D-4DBA-9E60-E0A72DCC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1C0D-6132-41AC-826C-25852A6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3629-1E6E-4AF5-ADFD-86C33CA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02EDA-359A-441E-8A62-0D1BBB4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FFFD1-A9D6-4166-AE24-AB56DA5D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277DD-25D0-4724-9988-46FF1544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38777-7B46-4116-AE92-0840FBF1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7208E-32CD-46C4-B650-B5903326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41C7F-DB47-40AE-8225-05158100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ABB78-1C95-49A7-9739-94FF0A52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C1B4-C48F-4793-8314-353E880A5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1CBB-4948-447F-9F9F-60BA7E96B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234E-0BF0-4711-891C-DD5CF2C25B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8207-4EBD-419A-9DA2-B9B4884367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C489-4800-4577-82D7-C8C01E651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2524-AE99-48CD-A2EE-D60A554C7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B69A-617E-44CF-A789-81550BCD8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380A-011B-4066-92AD-5950B1DB2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3AD6-4BD1-498A-9FEF-230BBB9D3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BCA4-5495-4479-9F3E-5BB8D1A97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D60E-41C3-426B-B8E0-B55700129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C3AE-6E77-4C63-AF2B-D432D9853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kps.zcu.cz/materials/fikult.rtf" TargetMode="External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Lucie Bieli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Simona Jakubc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Martin Liz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ie jako nástroj naplňování očekávání zájmových stran v určité organizační struk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Otázk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k se kultura, struktura a strategie navzájem ovlivňuj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Dlouhodobý rámec a směr, který sjednocuje ve firmě její hlavní cíle, priority a ak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cké 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Tvorb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mplementace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Vliv na obě fáze strategického říze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S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trategická myopie“ – co fungovalo v minulosti, bude fungovat i nadá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Vý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Determinace svými postoji a hodnotami - „filtr“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Zpracování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ilná kultura – stejná interpretace – omezené množství alternativ strategi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vorba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žerská subkul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ační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s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ální  hodn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mplementace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ie jako podpora nebo bariéra kult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11280" y="2421000"/>
          <a:ext cx="8280360" cy="3921120"/>
        </p:xfrm>
        <a:graphic>
          <a:graphicData uri="http://schemas.openxmlformats.org/drawingml/2006/table">
            <a:tbl>
              <a:tblPr/>
              <a:tblGrid>
                <a:gridCol w="1890720"/>
                <a:gridCol w="2914560"/>
                <a:gridCol w="1736640"/>
                <a:gridCol w="173844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strate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k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labá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1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Vág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strategie na kultur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8080" y="2633400"/>
            <a:ext cx="76932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bsah“ strategie jako „způsob, jak věci děláme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 jako informace, kam společnost směř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kulturní artefakt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Šipka doprava 5"/>
          <p:cNvSpPr/>
          <p:nvPr/>
        </p:nvSpPr>
        <p:spPr>
          <a:xfrm>
            <a:off x="1979640" y="4508640"/>
            <a:ext cx="500040" cy="269640"/>
          </a:xfrm>
          <a:prstGeom prst="rightArrow">
            <a:avLst>
              <a:gd name="adj1" fmla="val 50000"/>
              <a:gd name="adj2" fmla="val 5012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jako „zástupce“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38080" y="2572920"/>
            <a:ext cx="769320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ísemná neexistence strategie, ale realizovaná pracovník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ředpokladem je silná firemní kul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Extrémní situace: žádná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Řízení odrazem firem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Upevňování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Výběr vhodn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eliminace uchazeči, kteří nezaručují akceptování hlavních hodno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abízení vzorů žádoucího chován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na příkladu kariérového postupu úspěšných pracovníků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daptace nov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jsou programově seznamováni s historií, tradicemi, hodnotami a normami organiz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Čtyři varianty vztahu jedince </a:t>
            </a:r>
            <a:br>
              <a:rPr sz="2800"/>
            </a:b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        k organizační kultuře</a:t>
            </a:r>
            <a:r>
              <a:rPr b="1" lang="cs-CZ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99cc00"/>
                </a:solidFill>
                <a:latin typeface="Arial"/>
              </a:rPr>
              <a:t>(K.A. Golden, 1992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42472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Jednoznačn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vání zcela koresponduje s normami dominantní organizační kultur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Napjat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se chovají ve shodě s direktivami kultury. Mají však výhrady. Typickým projevem jsou vtipy na úkor organizace. Pomáhají tlumit konflik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Utaj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inec vyslovuje souhlas s normami, skrytě je však neakceptuje a nedodržuje. Když to není nebezpečné, demonstrují svůj opoziční postoj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Otevř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otevřeně neuznává hodnoty a normy dané organizace. Chovají se tak, pokud vědí, že je nestihnou žádné sankc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Organizační kultura v mezinárodních společnostech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  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ztahy mezi národní a organizační kulturo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ka organizace mohou ovlivnit 2 kultur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je reprezentantem národní kultury např.: americké, německé nebo japonské podniky,  jejichž podnikové kultury jsou převážně odvozeny od národních kulturních tradi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určitého podniku je samostatná a nezávislá.V rámci jedné národní kultury může existova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íce podnikových kultu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Mezi firemními kulturami organizací a dceřiných společností existují tři typy vztahů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obální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ycentrická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centrická podniková kultur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bsa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808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(definice, prv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a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Firemní kultura 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Upevňová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Vztah jedince k organizační kul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v mezinárodních společnost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lobální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a kultura pro všechny, často jde o hodnoty platné v zemi, kde je ústředí nebo organizace vznikla. Posilují se centralistické tenden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unkční, rychlá a spolehlivá komunikační síť (shodné významy, pojetí, interpretace), jednotná symbolika (značky, loga), mezinárodní identifikace, shodnost základních priorit a cílů firmy, nízké náklady na vzájemnou koordin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ěkdy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álo citlivé na místní podmínky, nemusí umožňovat rychlou reakci na dílčí změny trhu, vysoké náklady na  mobilitu vedoucích pracovníků z mateřské firm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olycentrická podniková k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ytvoření specifické subkultury v každé jednotlivé zemi, značné osamostatnění dceřiných společností, vlastní systém řízení, vycházející  z místních tradic, zkušeností a odpovídající národní mentalitě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ozšíření základny zkušeností, při řešení problémů, omezení neproduktivních střetů a konfliktů, lepší zachycení změn v místním okolí a rychlá reakce na n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xistence jednotné kultury, a tedy i vědomí vzájemné provázanosti složek a jednotnosti organiza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eocentrická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820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organizační kultura, vytvořena spojením příznivých stránek kultur jednotlivých zemí. Problematické rozeznat teritorium sídla a „národní charakter“ firmy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kultura organizace respektující zvláštnosti jednotlivých zemí. Podmínkou existence je tolerance jedinců k jiným kulturám, schopnost jim porozumě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nejednoznačnost výsledku a nutné úsilí, spojené  s vytvářením této kultur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Zdroj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LUKÁŠOVÁ, R., 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kultura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Od sdílených hodnot k vyšší výkonnosti. Praha: Grada Publishing, 2004. ISBN 80-247-0648-2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BĚLOHLÁVEK, F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chování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Učebnice pro každého. Olomouc: Rubico, 1996. ISBN 80-85839-09–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Interkulturní management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Lidé, kultura a management. Praha: Grada Publishing, 1996. ISBN 80-7169-260-3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kps.zcu.cz/materials/fikult.rt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Calibri"/>
              </a:rPr>
              <a:t>https://is.muni.cz/auth/tema/?issexppar=1&amp;isshlret=michal+mar%C4%8D%C3%ADk&amp;isssubm=Najdi&amp;isshlv=tthesis&amp;issu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Definice organizační kultury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Jak se věci u nás dělají“ … 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, co je pro organizaci typické, její zvyky, převládající postoje, vytvořené vzorce akceptovaného a neakceptovaného chování.“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Drennan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rvky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Základ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áz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dno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ástroj utváře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rm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ásady chování v organiza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st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rtefak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71640" y="486900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/>
          <p:nvPr/>
        </p:nvSpPr>
        <p:spPr>
          <a:xfrm>
            <a:off x="2771640" y="530064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Schei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Artefa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Hodnoty, pravidla a normy ch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Základní předpokla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24360" y="328464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3924360" y="479736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716360" y="4797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716360" y="3284640"/>
            <a:ext cx="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Hofste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043440" y="2729160"/>
            <a:ext cx="3489120" cy="3051000"/>
            <a:chOff x="3043440" y="2729160"/>
            <a:chExt cx="3489120" cy="3051000"/>
          </a:xfrm>
        </p:grpSpPr>
        <p:sp>
          <p:nvSpPr>
            <p:cNvPr id="522" name="_s121869"/>
            <p:cNvSpPr/>
            <p:nvPr/>
          </p:nvSpPr>
          <p:spPr>
            <a:xfrm>
              <a:off x="3043440" y="3164040"/>
              <a:ext cx="2616120" cy="2616120"/>
            </a:xfrm>
            <a:prstGeom prst="donut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_s121870"/>
            <p:cNvSpPr/>
            <p:nvPr/>
          </p:nvSpPr>
          <p:spPr>
            <a:xfrm>
              <a:off x="6008760" y="377208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Symbo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_s121867"/>
            <p:cNvSpPr/>
            <p:nvPr/>
          </p:nvSpPr>
          <p:spPr>
            <a:xfrm>
              <a:off x="3370320" y="3490920"/>
              <a:ext cx="1962360" cy="1962360"/>
            </a:xfrm>
            <a:prstGeom prst="donut">
              <a:avLst>
                <a:gd name="adj" fmla="val 16666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_s121868"/>
            <p:cNvSpPr/>
            <p:nvPr/>
          </p:nvSpPr>
          <p:spPr>
            <a:xfrm>
              <a:off x="6008760" y="342432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rdinové ( Hero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_s121865"/>
            <p:cNvSpPr/>
            <p:nvPr/>
          </p:nvSpPr>
          <p:spPr>
            <a:xfrm>
              <a:off x="3697560" y="3818160"/>
              <a:ext cx="1307880" cy="1307880"/>
            </a:xfrm>
            <a:prstGeom prst="donut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_s121866"/>
            <p:cNvSpPr/>
            <p:nvPr/>
          </p:nvSpPr>
          <p:spPr>
            <a:xfrm>
              <a:off x="6008760" y="307656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Rituály ( Ritual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_s121863"/>
            <p:cNvSpPr/>
            <p:nvPr/>
          </p:nvSpPr>
          <p:spPr>
            <a:xfrm>
              <a:off x="4024440" y="4145040"/>
              <a:ext cx="654120" cy="654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_s121864"/>
            <p:cNvSpPr/>
            <p:nvPr/>
          </p:nvSpPr>
          <p:spPr>
            <a:xfrm>
              <a:off x="6008760" y="272916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odnoty ( Valu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14586600">
            <a:off x="4074120" y="4789800"/>
            <a:ext cx="1206360" cy="642960"/>
          </a:xfrm>
          <a:prstGeom prst="flowChartOnlineStorage">
            <a:avLst/>
          </a:prstGeom>
          <a:solidFill>
            <a:srgbClr val="ff99ff">
              <a:alpha val="87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/>
          <p:nvPr/>
        </p:nvSpPr>
        <p:spPr>
          <a:xfrm>
            <a:off x="6300720" y="4311720"/>
            <a:ext cx="1366920" cy="609480"/>
          </a:xfr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  <a:ea typeface="Arial"/>
              </a:rPr>
              <a:t>Practi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Organizační kultura a výkonno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bsah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íla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3059280" y="3429000"/>
            <a:ext cx="86508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42920" y="3429000"/>
            <a:ext cx="122580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/>
          <p:nvPr/>
        </p:nvSpPr>
        <p:spPr>
          <a:xfrm>
            <a:off x="3419640" y="5157720"/>
            <a:ext cx="1871640" cy="1008000"/>
          </a:xfrm>
          <a:prstGeom prst="ellipse">
            <a:avLst/>
          </a:prstGeom>
          <a:solidFill>
            <a:srgbClr val="99cc00">
              <a:alpha val="87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Výkon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obsahu organizační kultury na výkonnost organizace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Dvojí účinek na výkonnost organiza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Aktivuje (neaktivuje)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v závislosti na konkrétních hodnotách a normách chování, které zahrn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Směruje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k naplňování těch hodnot a cílů, které jsou kultuře daného obsahu vlast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síly kultury na výkonnost organizac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souladu ve vnímání a myšlení pracovníků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snadňování komunikace a redukce konfliktů uvnitř organizac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usměrňování chování jedinců v organiz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dílení společných hodnot a cílů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jedinci pociťují sounáležitost k organizaci, pozitivní postoj ke spoluprác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fixace organizace na minulou zkušenos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zavřenost, ignorance signálu z vnějšk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bránění myšlení v alternativác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snaha o vyhnutí se kritice a konfliktům, podpora konformit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rezistence vůči změná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55:53Z</dcterms:created>
  <dc:creator>Lucie Bieliková</dc:creator>
  <dc:description/>
  <dc:language>en-US</dc:language>
  <cp:lastModifiedBy>admin</cp:lastModifiedBy>
  <dcterms:modified xsi:type="dcterms:W3CDTF">2008-12-01T19:49:34Z</dcterms:modified>
  <cp:revision>21</cp:revision>
  <dc:subject/>
  <dc:title>Organizační kultura a strategie</dc:title>
</cp:coreProperties>
</file>