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288-5751-4965-9E9C-54302A90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1B6-CCD3-4166-96BF-7807911F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712-06B5-4D80-B3A0-02329370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FB1-C5A1-4284-8817-D3A0C328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10B-161F-4880-8E36-E03C4722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C34E-7884-4606-9B9C-FB4B4B9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F592-B93C-49FD-9EF3-344837DD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2A9-7449-495F-9781-1DEDF0D8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B8DF-940C-4741-9F29-4913A4AE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6C4-09AA-4EB8-B515-318A1C1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9799-24E8-4A3B-B4BA-F5C6B9E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DB5-AE61-445E-80A2-BB15D80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8B5F-D7BF-4169-B940-CAAA5C9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AD3-0F55-4220-9C95-932264E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AEA2-3393-468B-83F1-755A00F0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540-99CD-4046-A645-729BF153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2A5-D457-485B-99D4-3E0AEF00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018-464E-4704-A153-7EE4608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CA6-B46A-489D-BA4D-4AB7C29C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996-3C68-4285-9B73-C44FA56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9F4-A0D8-40F0-81DD-194199DE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617-73C6-4DB8-A022-0576E60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655-D288-4739-8056-C106857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9CB-81A9-4969-BA5F-1944E24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449-C67E-4169-AA35-2B2F1CE84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2B3-74CC-47F6-8C65-5D805F29DF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odernirizeni.ihned.cz/1-10024700-14172980-600000_detail-0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Management pro 21. století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yňek Jančů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oliticky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ácí ekonomika vymezená národními hranicemi představuje životní prostředí institu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my s celosvětovou působností své nejvýznamnější činnosti  stále více přesunují do centrál, které potřebnou práci zajišťují pro všechny členy skupi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ěkteré společnosti již nejsou vůbec organizačně členěny na „domácí“ a „mezinárodní“ jednot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managementu a hranice národních států se už neshoduj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národních států jsou důležité především jako omezující fakt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žerskou praxi bude třeba ve větší míře vymezovat spíše z provozního než politického hledisk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Management je interně orientován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Doménou managementu je interní prostředí organizace → měl by se zabývat pouze vynaloženým úsilím (nebo jen náklady)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Vysvětlení rozdílu mezi managementem a podnikatelství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Realita podle Drucker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Jakákoliv instituce, která neinovuje a nepočíná si podnikatelsky dlouho nepřežij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Management se musí soustředit na výsledky a výkonnost organizace →organizovat zdroje organizace k dosažení výsledků mimo organizac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smyslem managementu jsou výsledky dané instituce, umožnění produkování výsledků ve svém vnějším prostředí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právný styl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rávný styl řízení je takový, který zajišťuje splnění strategických cílů podni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nikající firmy nic neomlouvají, nic nezdůvodňují. Od nich nikdy neuslyšíte, že se jim nedařilo, protože vývoj ekonomiky byl proti nim. Jednoduše dělají všechno pro to, aby byly úspěšné"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'Neill, bývalý ministr vlády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tyly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triarch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d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oper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leg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nom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205000"/>
            <a:ext cx="1079640" cy="3456000"/>
          </a:xfrm>
          <a:prstGeom prst="upDownArrow">
            <a:avLst>
              <a:gd name="adj1" fmla="val 50000"/>
              <a:gd name="adj2" fmla="val 6372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05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ěk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557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rd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ponské metod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ní v módě propagovat autoritativní sty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ulární „japonské metod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zentovány jako typicky konsenzuá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tomu ta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z pra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ný tvůrčí stres je pozi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. Selly, tvůrce teorie stresu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dělí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é kon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íné žel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216200">
            <a:off x="5866920" y="386028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353200">
            <a:off x="4572000" y="386064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040" y="51577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ký, vlídný, ale neúprosný nátl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 2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3120" y="5157720"/>
            <a:ext cx="7761240" cy="9471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ínské přísloví: „Zastřelením jednoho vychováš stovk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844640"/>
            <a:ext cx="7761600" cy="13737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. Hammer: „Odhodlaně prosazujte disciplínu a týmovou práci.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iřte se s faktem, že ne všichni to pochopí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933720"/>
            <a:ext cx="7761600" cy="5205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ízda odporu musí být zlikvidová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aximálně zvídav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uje odbornou literatu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cit pro no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uje vizi firmy a její strategické cí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odvahu k iniciování a realizaci změ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choten podstupovat přiměřená až vysoká riz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chopen vést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í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dborní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 2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nzivně oboustranně komunikuje se svými spolupracovní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ředí své úsilí a aktivity na důležité problé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ádá rychlost za důležitý atribut soudobého říz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ánuje své aktivity na delší obdo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 dobré nervy a dokáže zvládnout s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disciplinovaný a vyžaduje disciplínu i od ostatn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především na úspěch a nikoliv na to, jak se vyhnout neúspěc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chotně si bere práci naví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ůdcovství vs.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tšina z nás se tak zamilovala do leadershipu (vůdcovství), že management byl odsunut do pozadí… vraťme se k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ému dobrému říze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. Mintzber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a paradigmata managemen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firem po roc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Firma 21. stolet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Jsou jen dva typy firem. Ty, které se změní a ty, které zmizí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. Ko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k se mají firmy změnit?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ce či decentraliz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ná organizační struktura či volnější procesní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sit se nalézt úplně nový styl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lezení odpovědí na tyto otázky a umění je použít rozhodne o budoucnosti (nejen) českých fi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Změny po roce 2000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převis nabídky nad poptávkou ve všech odvětv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ční výstavba po celém světě (především v As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á zákaznická ekonomika =&gt; zákazník už není náš pán, stává se z něj dikt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edoucí tendence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t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lektu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iatur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kolog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sledná orientace na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ým svým chováním a aktivit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vyvolávat nové potřeby zákazní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mýšlet nové produkty, inovace (úspěšná firma uvádí na trh nové produkty, které pokryjí nejméně 20% celkových trž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se výrazně odlišit od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top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ídí firmu na základě jasně formulované strategie (vize, strategické cíle a oper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ladem jsou znalosti, jejichž rozšiřování dále zajišťuje, a které předstihují znalosti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muje hranice útvarů =&gt; centrum sdílených znalost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elná centr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y procesy ve firmě musí být prováděny pouze jednou =&gt; centrum sdílených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existují žádné strategické podnikatelské jednotky (závody, div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e stakeholdery: budování kvalitních vztahů s okolím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ocesní kul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provádí pouze ty činnosti, které dokáže nejlépe a nejle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tivity = procesy prostupující různými organizačními út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anagement řídí procesy, ne jedno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ý proces má svého koordinátora, který odpovídá za celý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otřebné procesy jsou nelítostně ruš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a provádění se sniž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Informační systé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zaměřen směrem ven a na budoucnost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ožní sledovat náklady a efekty každé aktivity a každ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hčuje a zrychluje interní komunik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EK, Z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Firma 21. století : (předstihněme nejlepší!!!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aha: Professional Publishing, 2005. ISBN 80864198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RÁSEK, J.A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příštích le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Profesional Publishing. ISBN 8086946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modernirizeni.ihned.cz/1-10024700-14172980-600000_detail-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CKER, P.F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ýzvy managementu pro 21.století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Management Press. 2000. ISBN 807261021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, paradigma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= determinují co se v oboru považuje za fak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tvoří paradigm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= všeobecně převažující teori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zdory jejich významu jsou jen zřídka kdy analyzová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řípadě společenských premis neustálé změny X premisy přírodních vě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čáteční premisy managementu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agement jako vědecká disciplí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= podnikový manag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musí existovat – jediná správná organizační strukt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jediná správná metoda řízení lid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xe management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ologie, trhy a koneční uživatelé jsou da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ůsobnost managementu je právně vymeze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je interně orientová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ka definována hranicemi národního státu je „životním prostředím“ podniku a jeho managementu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 současnosti nepoužitelné – odtrženost od reality – nutnost přehodnotit - vytvořit nové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Management = podnikový management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30. let – podnikový management – jeden z dílčích oborů všeobecného managemen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lká hospodářská krize - management  vztahován pouze k podniků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lita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agement se nerovná podnikovému managementu o nic víc než medicína porodnictví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žádné zvláštní rozdíly v úkolech a problém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ůstovým sektorem 21. století nebude „podniková sféra“ (organizovaná hospodářská činnost) ale pravděpodobně neziskový sociální sektor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organizace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to co se prezentuje jako jediná správná organizace se už několikrát změnil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1. sv. v. – formálně organizační struk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desetiletích „pád hierarchie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Realita podle Druckera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existují pouze různé typy organizace – různé přednosti, omezení → různé možnosti použití podle konkrétní situ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smíšené struktury“ - jednotlivci budou muset pracovat v několika organizační strukturách zároveň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organizace, která odpovídá svému úkolu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metoda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o 1. sv. v.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lidé pracující pro organizaci = zaměstnanci, na plný úvazek, statut podřízených, nulová nebo nízká kvalifik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Realita současnost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tále méně „podřízených“ – vzrůstá počet „pracovníků disponujích znalostmi“= ví o své práci více než kdokoliv jiný v organizaci → společní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řízení“ – osvěta „nadřízených“ ve své specializac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dřízení“ – seznámení „podřízeného“ se situací v celé organiz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ožnost mobility pracovníků disponujích znalostmi (vlastníci svých „výrobních prostředků“) – řídit jako dobrovolník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1. výzvy jejich schopnostem 2. znalost poslání organizace a víra v ně ne 3. přetržité školení 4. potřeba vidět výsled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ůzné pracovníky je třeba řídit různě stejné pracovníky řídit různě v různou dobu , úkolem je lidi vést, cílem využití konkrétních předností a znalostí každého jedi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Technologie a koncepční uživatelé jsou určení a daní 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19. st. a ½. 20. sto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se 100% spolehnout, že technologie existující mimo obor mají ne tento obor minimální vl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kumná laboratoř může produkovat vše co podnik nebo celý obor potřeb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užití je fixní a neměnné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ita součas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obor má svou vlastní, unikátní technolog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podnik klíčové technologie z jiných o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řeba má unikátní charakter ne prostředek jejího uspokoj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ě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e ani konečné užití nejsou základem pro formulaci řídící strateg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musím  být zákaznické hodnoty  a rozhodnutí zákazníků a rozdělování jejich disponibilních příjm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rávně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ýchodiska premi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se v teorii i praxi zabývá právnickými osobami → působnost managementu je tedy právně vymez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jetí managementu jako činnosti založené na přikazovací a kontrolní pravomo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cký řetězec svádí dohromady opravdové partnery (nezávislé instituce s rovností sí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řeba působnost managementu nově defino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musí být funkč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zahrnovat celý pro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se soustředit na výkonnost v každém článku ekonomického řetěz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5:40Z</dcterms:created>
  <dc:creator>Michal Pavlík</dc:creator>
  <dc:description/>
  <dc:language>en-US</dc:language>
  <cp:lastModifiedBy>Michal Pavlík</cp:lastModifiedBy>
  <dcterms:modified xsi:type="dcterms:W3CDTF">2008-11-23T16:32:54Z</dcterms:modified>
  <cp:revision>40</cp:revision>
  <dc:subject/>
  <dc:title>Management 21. století</dc:title>
</cp:coreProperties>
</file>