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53A7-A259-4A45-9F37-08563E41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1FF-BB3F-43A4-936C-8699AF23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712-E3B5-49BB-AFA6-B35897E5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6644-F4FB-47CD-9128-EF9FF87F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8C0A-07AD-4647-AF71-E1B50877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EC4A-1E73-4C3A-BF2C-53CE4726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F0A-6457-4043-B98E-F2EDFAD3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7F3-55B7-407F-B893-96938362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2C9-482F-4693-A508-09F03963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4D3A-5ECD-4942-92F6-EBE383C0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1E8-E9F7-4131-B83D-02AC0171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8F1C-CAF1-4F0E-9F41-92EF0B2F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7F6B-2C89-4570-AA00-562E3C6F9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Interkultúrny manaž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579132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na Dvoráková, Martin Petrovič, Milan Vdov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1998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úzi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áca a voľný čas, Racionalita a emocionalita, pracovná rola a osobnosť, formálne a neformálne štruktú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ôsledné oddeľovanie jednotlivých oblastí živo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áca x voľný čas, racionalita x emocionalita, pracovná rola x osobnosť, formálne x neformálne vzťah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ts val="1998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1998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lný komunikačný kontext, nepriama komuniká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ôležitosť neverbálnej komunikácie, sociálneho statusu, kontextu situáci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abý komunikačný kontext, priama komuniká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vorenosť, „to, čo nebolo vyslovené, neplatí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lísavé sebavedomie a sebaisto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dceňovanie či preceňovanie schopností, nevýrazní prejav, pochybnosti o sebe samo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valá sebaisto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pnosť prejavovať názory, priebojnosť, schopnosť kritiky, dôvera vo vlastné schopnost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ychrónia ča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ípustnosť malých zmien v časovom pláne, voľnejšie zaobchádzanie s termínmi, paralelné vykonávanie pracovných činností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ochrónia ča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né časové plány, rozvrhy práce, dochvíľnosť, sekvenčné vykonávanie pracovných činností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formačné a trhové štandard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5280" y="1484280"/>
          <a:ext cx="8353440" cy="4971960"/>
        </p:xfrm>
        <a:graphic>
          <a:graphicData uri="http://schemas.openxmlformats.org/drawingml/2006/table">
            <a:tbl>
              <a:tblPr/>
              <a:tblGrid>
                <a:gridCol w="4105440"/>
                <a:gridCol w="4248000"/>
              </a:tblGrid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ormačné štandardy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. a vých. Európa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hové štandardy (USA, záp. Európa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76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formizmus voči systému a autoritá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eranie na výsledo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73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ncie ku kolektiviz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eranie na individuálny výk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68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encia iniciatí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ív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68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atrná interak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baistá interak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68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izačný tal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eranie na kvalit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684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asové nepres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as sú peniaz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Arabské štá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lujú“ obchod – radi vyjednávaj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Ústne sľuby nie sú záväz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Ženy vylúčené z obchodného i verejného života, nepýtame sa na rod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verbálna komunikácia veľmi dôležit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čný kont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dochvíľnosti si nepotr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Radi jednajú so známymi oso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z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soká organizovanosť – dobrí organizátori, zlí improvizá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radi hovoria „nie“ – vyhýbavé odpov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 podnikateľskej sfére len mu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ôležité sú mimoverbálne prejavy (smie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soké národné uvedom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lhodobé mysl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Severná Ame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bre pripravení na jedn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eľmi dochvíľni – nemajú radi zbytočné naťahovanie, radi veci vyriešia rých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prejavujú emócie a nestrácajú čas zbytočnými fráz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Individualizmus, sebadôvera, národná hrd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ôležité sú krátkodobé výsled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Latinská Ame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formálne jedn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rodzení, bezprostred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radi hovoria „ni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Živá gestikul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eľmi nedochvíľ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lhodobé konta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Je nevhodné sa vyvyšova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ový, I., Schroll-Machl, S. a kol. Interkulturni komunikace v řízení a podnikání. Praha : Management Press, 1999. ISBN 80-7261-009-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Šroněk, I.: Kultura v mezinárodním podnikání. Praha: Grada Publishing, 2001. ISBN 80-247-00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Sociálna percepcia a komuniká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.percepcia – vzájomné vnímanie ľu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.komunikácia – prenos informácií medzi ľuď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plyv soc.pozície, skúseností, kultúry, emócií, vlastností vnímanej osoby, situá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ltúrne dimenz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Efektívnosť komunikácie závisí na poznaní kultú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Hofsted, </a:t>
            </a:r>
            <a:r>
              <a:rPr b="0" lang="sk-SK" sz="3200" spc="-1" strike="noStrike" u="sng">
                <a:solidFill>
                  <a:srgbClr val="000000"/>
                </a:solidFill>
                <a:uFillTx/>
                <a:latin typeface="Arial"/>
              </a:rPr>
              <a:t>Trompenaar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, Th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niverzalizmu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ikulariz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lektivizmu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vidualiz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utrálny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mocionál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fúzny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pecif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Úspech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sudz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ásledný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úbež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nútorná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nkajšia orient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Interkultúrne uče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udziu kultúru je treba poznať, rešpektovať a učiniť k nej ústretové kroky = interkultúrna kompet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lepšenie tréning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rostredkovanie informác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ul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terakcia a komun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ímová spoluprá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ultúrny asimil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Riešenie bikultu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1219320"/>
            <a:ext cx="7391160" cy="5029200"/>
            <a:chOff x="457200" y="1219320"/>
            <a:chExt cx="7391160" cy="5029200"/>
          </a:xfrm>
        </p:grpSpPr>
        <p:sp>
          <p:nvSpPr>
            <p:cNvPr id="51" name=""/>
            <p:cNvSpPr/>
            <p:nvPr/>
          </p:nvSpPr>
          <p:spPr>
            <a:xfrm>
              <a:off x="1301760" y="531720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Odmietnut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" y="1219320"/>
              <a:ext cx="2111760" cy="20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KULTÚRA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25640" y="5875920"/>
              <a:ext cx="232272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KULTÚRA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01760" y="1591920"/>
              <a:ext cx="0" cy="42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01760" y="5875920"/>
              <a:ext cx="63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24040" y="270936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Domina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14320" y="494460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rispôsoben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36600" y="177804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nová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46680" y="475848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Komprom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79920" y="419940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Kombiná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13520" y="364068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ntegrá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469760" y="2336760"/>
              <a:ext cx="1478160" cy="33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724040" y="2336760"/>
              <a:ext cx="4223520" cy="20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Typológia českej kultú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ypické vzorce jednania pracovní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dstata mo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onflikt nadriadeného s podriaden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avidlá komuniká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ytmus pracovného dň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rátkodobosť orientá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askulinita kultú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ytváranie skup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ácia ľudského jednan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56000" y="1916280"/>
            <a:ext cx="3600360" cy="2950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609300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ameň: Literárny zdroj č.1, str.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2745800">
            <a:off x="2835000" y="2291400"/>
            <a:ext cx="5461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obn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9280" y="4941720"/>
            <a:ext cx="26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ltú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3517200">
            <a:off x="4032360" y="302976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izácia a flexibilit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dôvera voči pravidlám, normám, formalizovaným postupom, vynaliezavosť, improvizácia, adaptabilita, schopnosť učiť sa, veľkorysosť, „byť nad vecou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imálna snaha vyhnúť sa rizi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áľuba v organizácii, zameranie na detail, akcent na funkčnú hierarchiu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entácia na sociálne vzťa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ízke sociálne schopnosti pri zachádzaním s negatívnymi informáciami, neriešenie sociálnych konfliktov, partikularizm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cná orient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schopnosti pri zachádzaní s negatívnymi informáciami, riešenie sociálnych konfliktov, univerzalizm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1:39:28Z</dcterms:created>
  <dc:creator>Martin Petrovič</dc:creator>
  <dc:description/>
  <dc:language>en-US</dc:language>
  <cp:lastModifiedBy>El Mino</cp:lastModifiedBy>
  <dcterms:modified xsi:type="dcterms:W3CDTF">2008-12-03T17:05:42Z</dcterms:modified>
  <cp:revision>52</cp:revision>
  <dc:subject/>
  <dc:title>Porovnanie českých a nemeckých kultúrnych štandardov </dc:title>
</cp:coreProperties>
</file>