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531-E802-47E6-9623-CEE43AAA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E51-BC88-42D4-B611-38FD5AAD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48B-0100-4622-A22A-5AB8873C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9DE-3CA3-4B55-8D0E-800D9A54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B3ED-A2C8-4114-BD53-976CD07A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849B-682D-4010-A506-923C7335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0818-DC58-4C78-9079-C0E46B8A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C1DC-C16D-4EEE-9B2F-774E02AD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E645-F0F2-4512-9274-F712BCFE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E6E9-3AFE-49FE-9F5A-4A99CA2C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CDC1-977A-49E9-ADE1-2B3DE3A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631-211A-44B0-A595-0B6592A8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A6D8-9522-4030-849C-862FF6E3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1701-209E-424E-A4C0-4576E324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0525-CA71-4EF7-8A4E-808108F1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83A3-D975-408B-A239-9030B116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6C43-B685-4866-AD0C-5DE2522E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9D0-7B93-4EB2-9AF4-5F0A5B8D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B95B-2092-479B-A91D-B8861A4B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9E9-C6D4-4F16-90BC-3657151E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E23-E541-40FB-A5DE-93FFB876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5AB-E5CC-43C5-A31C-85ADEFC4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5DE-DC8F-453A-98B0-26ED3DD3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3BD-8EFD-40B4-A267-55B8B3BA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2E2B-A762-49EA-99B4-48BF3E0AA9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FE96-1CC7-4989-B8C3-2736F37D0A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lobální kapitalismus versus demokrac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059000"/>
            <a:ext cx="640080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rtin Lošť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avel Popel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rtin Vymyslic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Postoj občanů k současné politice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dalování se politickým stranám (bojkot politiky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stiky ze Západních mocností, ale i středoevropských států nabývají obdobných výsledk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áni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Homo economicus x korporace „přinucené“ jednat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tivita v rukou spotřebite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 nástroj konzumer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formační asymetrie – korporace x spotřebitel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cionářský aktivismus jako další možná „regulátor“ nadnárodních korpora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šemocná média?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 kterých rukou spočívá moc médií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íklad televizní stanice F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tráta svobody médií je smrtící. Nevědomost znamená bezmocnost jakékoli kritik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ástup internetu = nástup svobody k informací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itická filantrop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schopnost vlád reagovat, v kontrastu potřeba vůdců businessu tuto roli zastoup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ůst HDP – generování obrovských zisků – co s těmito penězi jednotlivec může uděla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dace Billa Gatese hodlá věnovat 21 mld. USD na nákup vakcín a vzdělávací programy pro třetí svět – historicky bezprecedentní část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radce pro filantropii pro bohaté zaměstnance v úspěšných firmách, např. v odvětví high-te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dnikatelé - nevolení státníc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chopnost získat přístup ke světovým lídrům a prosazovat různorodé cí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vlivňování politického i sociálního života v nevídaném rozsa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deální vlastnosti – agresivita, sebejistota, bystrý rozum + finanční prostřed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pojení i do oblastí, ve kterých diplomaté opakovaně selháv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„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čovatelské organizace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čátek uvědomování si faktu, že sociální a ekologickou problematiku nelze pojímat okrajově – při zhroucení systému ponesou následky i korpo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z podnikatelského hlediska je rozumné, aby korporace přispěly k rozvoji sociální obla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ce na sociálním dně = nedostatek kvalifikované a inteligentní pracovní síly, vysoká kriminalita, problémy s odbytem zbož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znys potřebuje stabilizovanou společnost k tomu, abych chránil vlastní stabilitu – to je prostě fak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0" y="4797360"/>
            <a:ext cx="50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sir John Brow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ředseda představenstva General Elect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vace…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ální hodnoty zaměstnanců a manažerů (zejména vysoce kvalifikovaná pracovní sí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ost ovlivnění dotace konkrétní oblasti zákazníkem (narozdíl od platby da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kurenční výh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stačí neškodit, ale je nutné začít pomáh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ost řešení úkolů snáze a rychleji, než vlá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žnosti selh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místění aktivit jinam – konec závazků korporace k dané lokali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íslušné instituce jsou ponechány nerozvinuté – vláda se před odchodem neměla důvod angažov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á změna priorit zákazníků – orientace na cenu – nutné snižování nákl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á závislost společenského pokroku na tvorbě zis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ěkujeme za pozorno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íživý převr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číná vládou Margaret Thatcherové a Ronalda Reag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rámci kapitalismu přešla nepřiměřená moc do rukou korporací, které získaly politickou moc a ohrožují demokrac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deologie volného trhu ohrožena – nárůst sociálních problémů, ignorace voleb, demonst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znik Nové prav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1979 – britskou premiérkou zvolena Margaret Thatcherová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1981 – americkým prezidentem zvolen Ronald Reaga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Oba politici odmítali státní zásahy do ekonomiky, přijali názory Miltona Friedmana a Friedricha Hayeka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rh dokáže alokovat zboží a služby efektivněji než stá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úkolem státu je vytvořit příznivé podnikatelské prostředí (rozsáhlá privatizace, snížení daní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Odmítnutí sociálního myšlen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edni na kolo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osun tradičního politického spektra – pravice i levice se přibližuj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Rozšíření do kontinentální Evropy – přesvědčení, že podniky jsou schopny generovat bohatství efektivněji než vlád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rpor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¼ světových aktiv spravují nadnárodní společnost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ouze 21 států světa má vyšší HDP, než činí roční obrat každé z 6 největších korporací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Obrat firem General Motors a Ford je větší než HDP celé subsaharské Afrik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Tržby korporací představují 2/3 světového obchodu a 1/3 světové výrob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římé zahraniční investice explodovaly z 2,35 miliardy USD v 70. letech na 80 miliard USD v roce 19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 čem spočívá moc korporací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Korporace jsou schopny vládám nabídnout nová pracovní místa, investice do infrasktruktury, proto se je politici snaží udržet ve svém státě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okud by bylo příliš vysoké zdanění, přísné normy, malá státní podpora, pak pohrozí odchodem ze země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Korporace operují globálně, odcházejí do zemí s nízkými výrobními náklady, pracovní sílu hledají u „sociálního dna“, pokud možno ve státě, kde neexistují odbory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k se chová vlád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ystém „já na bráchu, brácha na mě“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aximální snaha udržet korporace v zemi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ižování daňových saze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ňová zvýhod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ňové rá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ropad ve výběru daní ovšem způsobuje neschopnost fungování veřejného sektoru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Zvyšování daní je neprůchodné, hledání alternativních cest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krácení sociálních dávek bohatý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danění penzijních fond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výšení nepřímých da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ciální důsledk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Nejen v nízkých, ale i vysokých vrstvách společnosti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šší počet lidí se stresovým onemocněn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ůst prodeje antidepres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odiče se nevěnují dětem z důvodu dlouhé pracovní do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vyšující se počet sebevraž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Nejlepšímu zdraví se těší lidé v zemích, kde existuje co nejrovnoměrnější přerozdělování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Při zmírnění příjmové diferenciace dochází ke snížení úmrtnosti na následky vážných nemocí, snížení kriminality nebo vražd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íme, že průmyslové společnosti námi manipulují, ale v samotné povaze byznysu je jít za každým dolarem, který lze legálně získat. Nedávejte vinu firmám, nýbrž státu. Hloupý je stá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harles Horn, senátor státu Oh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ojitost vlád a soukromého sektor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itika na prodej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inancování politických st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Štědrý „sponzoring“ politickým straná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íklad USA(sponzoring úzkými elitami)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klady v Evropě i za oceán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ěmecko (Kohl), Británie(Ecclesto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SA(zdanění pi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55:46Z</dcterms:created>
  <dc:creator>test</dc:creator>
  <dc:description/>
  <dc:language>en-US</dc:language>
  <cp:lastModifiedBy>Popl</cp:lastModifiedBy>
  <dcterms:modified xsi:type="dcterms:W3CDTF">2008-12-01T22:18:12Z</dcterms:modified>
  <cp:revision>33</cp:revision>
  <dc:subject/>
  <dc:title>Globální kapitalismus versus demokracie</dc:title>
</cp:coreProperties>
</file>