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F0A-EF3C-4290-B6D6-2F65B64C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469-993C-4ECC-97DB-6E69A993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D23AF-1735-436A-A868-3C78875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59165-FC64-46FD-B295-F9AB9F7B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D4D28-7ED2-4378-B8E7-BB268D7D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552CD-E390-4DA0-A07E-485C5BC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2802F-101B-4934-856C-5FE6ECCC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290C7-F1F2-45E0-8ED6-7F4B3EB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0BADC-5F0F-4707-A059-1D1FF705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58DE1-D1F9-4C75-9AB3-E102B51D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EBA25-BD4B-4886-8ED8-A0782EB5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7F16E-1BD2-4644-870A-501722F2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7EC-C390-4615-828D-02B3D723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65CD8-671F-4B36-8ABB-DE5A73D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B32A0-C9BC-4CE9-ADEE-69653D6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5F2E3-F5BB-4A40-8BE2-9E7A05E7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11412-343C-43C4-9503-FAFA5127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4B998-CCB4-4272-B5F9-8148CCF1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C8570-02D6-4FD5-ACAD-1097A26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973C0-9208-4A3A-A79E-8A68AC1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698AF-5A98-4537-8B81-2DD6F4E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84AC2-E2A6-4FAE-83FC-3C01890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80623-DC27-4B96-9C00-60978507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AB2-5053-4DDB-BA19-A48D8EF2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1D5E1-CC76-41F6-B9D5-092E1BF0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5DF4-5638-416B-A0FA-E65694B9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0CBEA-724B-44F7-AD2F-3786316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CCED8-E0C4-4037-B4AA-3C2C6530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C43B9-92B2-443B-931B-DD471FD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98EBB-988D-4079-9875-030AE72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2B262-C903-4866-B661-F0C8160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85D60-1FF4-4185-9721-E7900FE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9029-5F30-4822-A20D-70341C0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5714E-9E1D-458D-AE22-72D251C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E39-3101-4729-AB0F-C96103A3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08375-09D7-47AA-9885-25F34FC4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DFD90-9316-4BD3-A2AE-EC798080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B9D84-A57C-433F-BE1F-4EDE0688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1E868-62F3-405D-9409-71AA4B82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8CA41-5E91-496B-A8C3-C87034A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6CFB0-EB1A-4A14-94D3-9CEEE8B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F4442-6FE1-45E1-9047-7BE16BA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B057B-99DF-4EDA-A88E-733D8105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BE89C-62CF-487A-8CE1-9E6BCC2E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56D8B-8C8D-4A2E-979A-DDA6277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749A-D1C1-4DDF-B971-880C9861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27659-2199-4731-8A0F-FF1A30F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75DCD-0A7E-4BAC-A2A5-BDDA75E1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838E8-8F49-4986-A3CB-6B351716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AC735-8420-4F88-8048-C8B0CE91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2EEEC-52B5-48F3-962A-17145FA7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C25D-C778-4A17-86E0-5C69028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272C-2662-4C40-B89C-36450D9A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ED5-48EC-468D-B8E3-952ECA6C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0C6B-BCAE-4B5D-B6D8-63D6D105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1B29-7463-4870-AAFD-137F473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125-111C-469B-9079-C9A7DB3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DBA1-F29B-4C3E-9EAD-84E8C86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8A00-14AF-4832-9779-3478B7C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D685-8D53-4654-ACBE-137A4E96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C55-1F94-42E6-B901-ECCD5F85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93E9-A7A6-451B-B091-A602D368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6540-FA24-4635-B640-F62AB97C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D7A7-CEE7-4279-8146-232883A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D41A-AF9F-47F6-8847-142F2FF2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BB63-00A4-428A-AF0C-1ADFA2A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1A9D-7502-49FD-A4EB-50E90DB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FA9-C5F3-4B9D-887F-B712147A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C012-7C51-4D02-8467-C2CA907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1066-CED5-4A9E-9B61-0F849D7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C569-D2F7-4CD3-8E44-368EB2C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8A4B-24F2-4935-B6E6-DCF2106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77E0-1EB6-4EEE-9B23-6EF86DFF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09FF-5071-44DC-8738-D650A5A2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375E-872E-4DD4-B650-C4A379C1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9018-28FC-47A6-9178-B8972D10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48DBD-5AD8-4A3D-84C0-AE609E1A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4D06-68CC-4D6F-9E4B-E3AAC9F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3CF-D8AB-49C3-87FB-8FBCB06F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F636-CBD7-40BC-99D2-ADE6891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A593-7C07-4916-AC10-1427427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5430-799D-4B83-8811-D37C1B25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9778-C0BA-4F36-BEA5-E28084ED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F738-1EAF-498C-B189-7C57BEB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DE87-75F7-4157-8118-7FF0BED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654F-3FA7-4F53-A9C9-699E95C5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C173-DE35-4F2C-8EE7-275032AA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9EF0-9C0D-478D-84DA-366A0D41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754B-D7AD-4282-B2E9-E7B81CA2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743-9121-418C-B3F6-00BC23C1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1FB0-3B9C-42AC-8AD6-0B06D98F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2EC4-B0F3-4108-97CD-1A60BFC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30AF-2577-4DE7-82A3-3C4EA64F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FAF0-F53B-4152-B046-02B342A7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CD28D-937B-4766-9010-D2AF1A4F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5D3A-AA2B-458A-A561-1BAE25B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217D8-8708-4D12-9052-8776068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CD3D0-AA36-4CB3-B464-2E54EA6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E157-15FD-42A7-AC03-6BA81F81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2D8C-456C-470E-AD98-B1C498E7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EEF-F628-44B8-9DB8-2A9175C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3E3C-0B9A-4EBA-9DDF-0A913417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74D1A-50CB-408C-84E3-3984D059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BA6E-43D2-4962-8041-CD8BCF7B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EABDA-60C5-454D-8F9F-7961EC87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A0AC8-BC97-4158-B4E6-1441B65D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051ED-9422-4297-AC8B-77C0E367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3255-5660-42CB-8289-E4A89D5B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C927-D9F6-4C6A-8B4D-4781BF0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1FF6-AA16-4BE0-AE88-EAA5E655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F48A-FEE6-4841-8579-9098953C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639-71F5-4A92-B9B1-BBD58A2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101F-7379-4869-9DE2-71DBBF0E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8356-C558-466F-BFCE-899511A6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CD42-6153-4A6E-B938-A1AA29A7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163A1-D3EA-4845-B5E6-6A6510D3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A67C-DE7B-4F6E-AE4A-3528B66A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5EE0C-A1A1-415E-BDDF-7DBD0FDB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DCA9-3BAE-4977-92FC-5DBE1BC1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BD9E-E8A4-4CEE-84D3-886A9AD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25102-D764-4483-80D3-5E29B57E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594D-2DF5-48D8-A3C9-E37895B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988-4104-45FB-BD0A-2DCD7BD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90FEC-2744-43D4-9214-B8FE423F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E0B5D-6335-42D9-8330-AF65CEE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944D-2CD4-49B7-93B5-D77CA090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292C-B934-49FF-A854-79BA21DA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3E0E-7067-464A-9DD0-611753F5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D7FA-8824-411C-97EA-DCC01682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B9C0-89EE-4ACC-ADDD-C3EB877F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63EC7-06D1-41DA-9E9C-07B5CDF9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5F50-294D-4064-88C5-999BF8CA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1602-A373-438B-BE94-53AA0C4B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20C-12CE-4FBE-963B-E766805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DB27E-F832-44E0-B2DC-EA63A7D1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7E0F-F7D2-414B-A992-ED8B9E98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078D4-8704-4D68-99E6-6106441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61C2-6CB8-476F-BD51-598C142F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4532-25A3-417C-BD9A-63B5A8C9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6828-CE3C-4B5E-B096-2F38CF70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C9C53-9FAA-4DAA-B0B9-03C55D49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898F3-19DA-44B0-9360-2C03ED39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55204-F13A-4D01-8792-DA67E30D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09BAA-57FA-4841-930F-343CF2C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2BD-8407-43A2-94A8-545A09225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D57D-D08A-4521-8CFC-EA9B66678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2C7-D00B-42F0-8484-B7CBC672D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4C49-7061-4BA4-A1C5-9DB3F9248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751A-6B04-4D60-9F0B-D8FEBEDB8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7000-B876-4C5B-A1D1-8F0109D81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BD41-A6BB-4653-A066-D88B08371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CEBC-3F81-40B5-A2CB-FD636CC06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61E9-CE2D-472B-9570-34F10466B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3BA5-B43B-4FE6-8984-84B084EAC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830-FB9B-44B3-B4F2-3D9C629485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57D6-9259-4302-8853-9E2C56450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6349"/>
                </a:solidFill>
                <a:latin typeface="Georgia"/>
              </a:rPr>
              <a:t>Organizační kultura a strategi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dnikov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– obchod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k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ické strategi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náklad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výrobek/služb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zákazníka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 x selský rozum a prax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konalý systém řízení neexistuj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yhovuje-li jakýkoli systém pro 70-80% požadavků, pak vyhovuje na 100% - zbytek jsou výjimky, jejich systémové řešení je neefek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aždý podnik musí umět „hasi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ze a strategie jsou všeobecně neproveditelné nebo nerealistick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dotažena na cíle střediska, oddělení, apo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svázána s dlouhodobými a/nebo krátkodobými alokacemi podnikových zdroj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pětná vazba necharakterizuje strategické záměry, ale jen opera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Nadpis 1"/>
          <p:cNvSpPr/>
          <p:nvPr/>
        </p:nvSpPr>
        <p:spPr>
          <a:xfrm>
            <a:off x="468360" y="2602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vytvořena jako SAMOSTATNÝ doku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jasné určení odpovědnosti za naplnění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ní dostatečný a vypovídající set metrik (ukazatelů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zi kulturou a strategií existuje oboustranně determinující vzt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kultury ovlivňuje tvorbu, obsah a realizaci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strategie vede k formovaní určitého typu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kultury na strategi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tvorbě strategie respektovat obsah a sílu organizační kultu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liv organizační kultury na proces tvorby a implementace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cíleném vývoji strategie ovlivňuje kultura organizace především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ostoj k potřebě formulace strategie a míru opatřování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Zpracování a interpretaci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Množství a obsah formulovaných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z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 jako „zástupce“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b9899"/>
                </a:solidFill>
                <a:latin typeface="Georgia"/>
              </a:rPr>
              <a:t>Soulad mezi kulturou a strategií</a:t>
            </a:r>
            <a:br>
              <a:rPr sz="2900"/>
            </a:br>
            <a:r>
              <a:rPr b="0" i="1" lang="cs-CZ" sz="1400" spc="-1" strike="noStrike">
                <a:solidFill>
                  <a:srgbClr val="7b9899"/>
                </a:solidFill>
                <a:latin typeface="Georgia"/>
              </a:rPr>
              <a:t>(podle Scholz, 1987, s. 85)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301680" y="1523880"/>
          <a:ext cx="8534160" cy="4598640"/>
        </p:xfrm>
        <a:graphic>
          <a:graphicData uri="http://schemas.openxmlformats.org/drawingml/2006/table">
            <a:tbl>
              <a:tblPr/>
              <a:tblGrid>
                <a:gridCol w="1878120"/>
                <a:gridCol w="2239200"/>
                <a:gridCol w="2240280"/>
                <a:gridCol w="2176560"/>
              </a:tblGrid>
              <a:tr h="48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strate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ab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ág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1)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(2)  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3)    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(4)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(5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        (6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            (7)                                       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(8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??                                      (9)                                        směr??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strategie na kultur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měl by být dominant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se stává pro členy organizace samozřejmou → vznik kultury odpovídající strateg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vorba strategie → utváření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ako „kulturní artefak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ulad mezi obsahem strategie a obsahem kultury je podmínkou dlouhodobé úspěšnosti fi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álem však není naprostá identi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Zdroje, litera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LUKÁŠOVÁ, R., NOVÝ, I. a kol. Organizační kultura. Praha : Grada, 2004. ISBN 80-247-0648-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ÁGNER, I.: Systém managementu. Brno: Vydavatelství MU, 2007, ISBN 978-80-210-4264-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LAŽEK, L. Management II. (Sylabus) Brno : Masarykova univerzita, 2006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ciální jev vztažený ke společenstv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evantní pojm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dniková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irem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d 70. let 20. 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představuje „tmel společnosti“ a plodí pocit „to jsme my“, čímž působí proti procesům diferenciace, které jsou nevyhnutelnou součástí života organizace. Kultura organizace nabízí sdílený systém významů, který je základem komunikace a  vzájemného pochopení. Jestliže tyto funkce nejsou plněny uspokojujícím způsobem, může kulturavýznamně oslabovat efektivnost organizace.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P. Brosse, J. Hentze 198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jsou společně vyznávané přesvědčení, postoje a hodnoty, které existují v organizaci. Jednodušeji řečeno, kultura je „způsob, jakým něco děláme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Furnham a Gunter 1993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ři chápání kultury jako způsobu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mysl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 a myslí (kombinace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naha o zobecnění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ganizační kultura představuje soubor základních předpokladů, hodnot, postojů a norem chování, sdílené členy společenství, které se projevují v jejich myšlení, cítění a chování a v artefaktech (výstupech činností) materiální a nemateriální podoby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ágner I., upraveno podle Lukášková R. a Nový I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nější projev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ne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Histork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Mýt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azyk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mage podnik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Vzhled budov, kanceláří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dniková uniforma, produkty vytvářené podnikem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avidla společenského sty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dno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o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rmy chování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Zdrojem jejich vzniku je opakovaná zkušenost, či spíše funkčnost určitého způsobu řešení daného problému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tři úrovně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539640" y="1916280"/>
          <a:ext cx="7993080" cy="4063680"/>
        </p:xfrm>
        <a:graphic>
          <a:graphicData uri="http://schemas.openxmlformats.org/drawingml/2006/table">
            <a:tbl>
              <a:tblPr/>
              <a:tblGrid>
                <a:gridCol w="3095640"/>
                <a:gridCol w="1800360"/>
                <a:gridCol w="3097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TEFA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ĚDOMÉ,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DNOTY, PRAVIDLA, NORMY CH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ČÁSTEČNĚ VĚDOMÉ, ČÁSTEČNĚ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ÁKLADNÍ PŘEDPO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VĚDOMÉ, SPONTÁNNÍ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24000" y="1557360"/>
            <a:ext cx="853416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lná původní myšlenka nebo v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ednotná firemní kultura a politi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á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26040" cy="4089600"/>
          </a:xfrm>
          <a:prstGeom prst="rect">
            <a:avLst/>
          </a:prstGeom>
          <a:ln w="0">
            <a:noFill/>
          </a:ln>
        </p:spPr>
      </p:pic>
      <p:sp>
        <p:nvSpPr>
          <p:cNvPr id="624" name="Zástupný symbol pro obsah 2"/>
          <p:cNvSpPr/>
          <p:nvPr/>
        </p:nvSpPr>
        <p:spPr>
          <a:xfrm>
            <a:off x="324000" y="3068640"/>
            <a:ext cx="374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ě navržené a efektivně fungující proces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ngující princip zpětné vaz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jem „strategie“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vyjadřují základní představy o tom, jakou cestou budou firemní cíle dosaže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plán naplnění mise a vize společnos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forma několika scénářů budoucího vývoje a reakcí firmy na jednotlivé možné varianty budoucího vývoje společnosti a jejího okol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7:39Z</dcterms:created>
  <dc:creator>Vajcka</dc:creator>
  <dc:description/>
  <dc:language>en-US</dc:language>
  <cp:lastModifiedBy>snoopy</cp:lastModifiedBy>
  <dcterms:modified xsi:type="dcterms:W3CDTF">2008-12-01T10:24:35Z</dcterms:modified>
  <cp:revision>11</cp:revision>
  <dc:subject/>
  <dc:title>Přirozený a umělý řád</dc:title>
</cp:coreProperties>
</file>