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490-4661-4936-951D-2493698E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7C4-ECC0-4310-963A-B1EF2FBF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1C8-7328-4C6A-9260-4CB24922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8C6-8044-493E-AC9E-121D793B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AC17-AF4C-4B32-93B7-415BCEDB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88F5-6D2D-44E0-A02A-F843E768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CF06-A845-4006-BDEE-B5B49DAD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E249-BA74-4ED9-AD35-27C344B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012D-FF34-4FFD-A791-A2124360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2625-A3FE-4A42-8EE4-3EA99671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EB52-D92F-49F3-94D1-ADF8DDB8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18E-93D3-404F-8D57-DBC7CDAF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69A0-E08C-4DC3-AD5D-A63F33FC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9B1F-D4D9-4D21-99B4-0BD723F7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9871-0D1E-4010-8A24-411B6CEB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56C7-A9EC-4CD4-AA49-1054A8CE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4EB3-CDDA-4DD5-AFE6-424EF660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988-DCBA-4F83-8890-9165E4DA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E11-E7F5-4772-9B7B-9D344563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3B4-2852-4748-8CC7-BF5B005D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931-0F10-435F-BB73-85AC7FC4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7BD-7289-4D1B-9C6C-938740FF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08D-D0EF-49F0-B989-C7C1AB2F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10D-A224-4079-9761-6EB6ABC0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281-216A-4C37-B6AE-A0140FD958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A7E8-E22B-4941-AB80-6E73A58833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rukturalni-fondy.cz/" TargetMode="External"/><Relationship Id="rId2" Type="http://schemas.openxmlformats.org/officeDocument/2006/relationships/hyperlink" Target="http://www.strukturalni-fondy.cz/" TargetMode="External"/><Relationship Id="rId3" Type="http://schemas.openxmlformats.org/officeDocument/2006/relationships/hyperlink" Target="http://www.strukturalni-fondy.cz/" TargetMode="External"/><Relationship Id="rId4" Type="http://schemas.openxmlformats.org/officeDocument/2006/relationships/hyperlink" Target="http://www.strukturalni-fondy.cz/" TargetMode="External"/><Relationship Id="rId5" Type="http://schemas.openxmlformats.org/officeDocument/2006/relationships/hyperlink" Target="http://www.strukturalni-fondy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ývojové trendy podniků a jejich řízení na prahu postindustriálního věku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ora Navrátilová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ichal Meluzí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omáš Dostá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ýkonnostní motivační systém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 21.století zvítězí firma se zaujatými, odhodlanými a odpovědnými zaměstnanci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motné i nehmotné formy odměňová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jsilnější motivační faktor – mz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vé tendence – volný čas, zajímavá práce, samostatnost, dekolektivizace mzdových jednání (individuální sjedná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jlepší firmy vs. motivační systé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íce peněz na mzdy a zam.výh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K obsazení nové pozice využívají více interní zdr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ledují pravidelně spokojenost zaměstnanc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íce využívají mzdová pás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sně definované a propracované personální proces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rální kode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d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entace na zákazní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zákazníci jsou největším aktivem podniku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P. Kot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Globální převaha nabídky nad poptávkou – vznik zákaznické ekonomi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náš zákazník – náš pán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T. Bať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ostavení zákazníka ještě posílí nové směrnice E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entace na zákazní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Uvědomění si orientace na zákazníka všemi pracovníky podni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ozpoznání hodnot a tuž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volávání nových potř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mýšlení nových produktů šitých na mír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Klíčová je loajalita stávajících zákazní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užití feedbac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ovativ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y a modernizace všech podnikových aktiv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mý či nepřímý profit pro zákazní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tné zvažování zaměření inova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x inovací – u produktových změ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ovace – pojetí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ce je úspěšné využívání nových myšlenek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Ministerstvo obchodu a průmyslu G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iciativa Equal (2004 – 2006), OP Podnikání a inov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ce není jen nápad samotný, ale především jeho implement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 ČR nízký stav inovační výkonn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ktivní vytváření poptávk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ahlcenost trhů zbožím a služba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zbytnost aktivně vytvářené poptáv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vůrčí přístup, fantazie, hledání nových produlktů – Superproduk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vída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ychlost a pruž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ed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užnost společnosti –prodej X výr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nížení rizika – sezónnost, simultánnost, způsob kontroly kvality, organizace distribučních sítí, informační technolo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lný top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vída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ategie, mise, vize fi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vádění radikálních změ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ma jako cel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tivace, stimu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ledání “správných“ pracovník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oncepční iniciátoři i mediátoř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ČEK, Z. Firma 21. století. Praha : Profesional Publishing. ISBN 80-86419-88-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strukturalni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-fondy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ttp://www.equalcr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kteristika prostřed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lké změny ve světové ekonom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ůdčí rol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sivní nástup firem z asijských stá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staralé rigidní metody manažerského řízení v Evrop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třeba změny firemní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67280" y="364500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ozvojové tendence světa 21.stolet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9436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erkonku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erturbul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format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lektual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litantnost a teror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manit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niatur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sou jen dva druhy firem. Ty, které se změní a ty, které zmizí.“ </a:t>
            </a: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.Kot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2720" y="2362320"/>
            <a:ext cx="3241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incipy úspěšné firmy 21.stolet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bsolutní orientace na zákazní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ilný top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ktivní vytváření poptávky a hledání nových trh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soká výkon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ychlost a pruž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ýkonnostní motivační systé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tiv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derní informační technolo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ysoká výkonnost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ektivnost – vztah hodnoty výstupu k hodnotě vstup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ktivita – výkon za určitou časovou jednot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konnost – schopnost subjektu vyprodukovat za určité období souhrn statků a služ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soká výkon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vé ukazate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valifikovaná strateg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valita vztahů se zákazníky – spokojenost zákazníků, počet ztracených zákazníků, C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Nehmotná aktiva – odbornost, inteligence, mobilita, osobní zaujet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hareholders – majitelé – ROI, E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zákazníci – kvalita produktu, ce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2096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nocení výkon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íl na trhu – BCG ma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daná hodn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manův ind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konnost zákazník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zhodující činitelé mající vliv na výkonnost: rychlost, jednoduchost procesů, transparentnost, jasně definované cíle, zpětná vazba, vzdělávání pracovní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ýkonnost českých fir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lné stránky – infrastruktura, relativně nízké náklady, geografická poloh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abé stránky – daňový systém, soudy, staré technolo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ležitosti – příliv technologií, E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zika – nedostatek pracovní síly, konkurence EU, As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09:01Z</dcterms:created>
  <dc:creator>čtenář</dc:creator>
  <dc:description/>
  <dc:language>en-US</dc:language>
  <cp:lastModifiedBy>Zora Navrátilová</cp:lastModifiedBy>
  <dcterms:modified xsi:type="dcterms:W3CDTF">2008-12-03T09:46:17Z</dcterms:modified>
  <cp:revision>7</cp:revision>
  <dc:subject/>
  <dc:title>Vývojové trendy podniků a jejich řízení na prahu postindustriálního věku</dc:title>
</cp:coreProperties>
</file>