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602-D4EE-4FBE-85BF-8ED1A4D9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4C0-76ED-44BD-9AD4-A855DD01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C0D-F7DD-4560-8C16-71661889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B72-0AB2-4B62-AFC6-D3A4D1DE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541A-DB8F-4182-87CE-5E8228A9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0753-FD38-4A73-A0D3-13305B11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A863-94CA-46F4-8289-9696C7A6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AB93-3548-4B05-8930-EA704CFC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A53C-7BD9-452E-A4F5-3013600C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27BB-5143-4806-B7AD-9FA41D50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17AF-3774-4F93-92B3-0AC0723B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376-A0A1-4872-B91E-D652214B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E180-C921-4EAC-83A7-396796E6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673A-4356-42F6-85FF-68453B41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91E7-A47A-4838-B4C6-319AE2AC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6333-EBDA-4035-9512-1372DA54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78A7-C398-4A94-99E3-F7DCA575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85A-D3A0-4B6F-BF96-CBDCD9A2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690C-E054-44B4-8F55-C1372E5C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7DE-19BA-407C-8FEE-53ADA1E2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AD4-85F7-4948-B4C0-61A95E70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470-34DB-4D9D-955A-641AA382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953-0861-4B11-BED0-1B2E4397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043-83B1-4B6F-94AC-A61E9352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10B4-8A4C-41E5-B655-0B5C932F1E28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62A5-5F8F-4056-9E3D-9028D4E49EBB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spacek@econ.muni.cz" TargetMode="External"/><Relationship Id="rId2" Type="http://schemas.openxmlformats.org/officeDocument/2006/relationships/hyperlink" Target="mailto:david.spacek@econ.muni.cz" TargetMode="External"/><Relationship Id="rId3" Type="http://schemas.openxmlformats.org/officeDocument/2006/relationships/hyperlink" Target="mailto:david.spacek@econ.muni.cz" TargetMode="External"/><Relationship Id="rId4" Type="http://schemas.openxmlformats.org/officeDocument/2006/relationships/hyperlink" Target="mailto:david.spacek@econ.muni.cz" TargetMode="External"/><Relationship Id="rId5" Type="http://schemas.openxmlformats.org/officeDocument/2006/relationships/hyperlink" Target="mailto:david.spacek@econ.muni.cz" TargetMode="External"/><Relationship Id="rId6" Type="http://schemas.openxmlformats.org/officeDocument/2006/relationships/hyperlink" Target="mailto:david.spacek@econ.muni.cz" TargetMode="External"/><Relationship Id="rId7" Type="http://schemas.openxmlformats.org/officeDocument/2006/relationships/hyperlink" Target="mailto:david.spacek@econ.muni.cz" TargetMode="External"/><Relationship Id="rId8" Type="http://schemas.openxmlformats.org/officeDocument/2006/relationships/hyperlink" Target="mailto:david.spacek@econ.muni.cz" TargetMode="External"/><Relationship Id="rId9" Type="http://schemas.openxmlformats.org/officeDocument/2006/relationships/hyperlink" Target="mailto:david.spacek@econ.muni.cz" TargetMode="External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sp.cz/docs/texts/constitution_1948.html" TargetMode="External"/><Relationship Id="rId2" Type="http://schemas.openxmlformats.org/officeDocument/2006/relationships/hyperlink" Target="http://www.lexdata.cz/lexdata/sb_free.nsf/c12571cc00341df1c12566af007f1a09/c12571cc00341df1c12566d400718c7f?OpenDocument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sp.cz/docs/texts/constitution_1960.html" TargetMode="External"/><Relationship Id="rId2" Type="http://schemas.openxmlformats.org/officeDocument/2006/relationships/hyperlink" Target="http://www.lexdata.cz/web/sb_free.nsf/c12571d20046a0b20000000000000000/c12571d20046a0b2c12566d40071dc4d?OpenDocument" TargetMode="External"/><Relationship Id="rId3" Type="http://schemas.openxmlformats.org/officeDocument/2006/relationships/hyperlink" Target="http://www.lexdata.cz/lexdata/sb_free.nsf/c12571cc00341df10000000000000000/c12571cc00341df1c12566d40072259e?OpenDocument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Aktualni%20stav%20projektu.htm" TargetMode="External"/><Relationship Id="rId2" Type="http://schemas.openxmlformats.org/officeDocument/2006/relationships/hyperlink" Target="http://www.vlada.cz/scripts/detail.php?id=7505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vlada.cz/scripts/detail.php?id=20780" TargetMode="External"/><Relationship Id="rId2" Type="http://schemas.openxmlformats.org/officeDocument/2006/relationships/hyperlink" Target="http://aplikace.mvcr.cz/archiv2008/sprava/vlzpravy/index.html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mvcr.cz/clanek/modernizace-verejne-spravy.aspx?q=Y2hudW09Mw%3D%3D" TargetMode="External"/><Relationship Id="rId3" Type="http://schemas.openxmlformats.org/officeDocument/2006/relationships/hyperlink" Target="http://vladaprovas.vlada.cz/sprava.html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Reforma a modernizace veřejné správy v České repub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EVS - přednášk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david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.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spacek</a:t>
            </a:r>
            <a:r>
              <a:rPr b="0" lang="en-US" sz="18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@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econ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.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muni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18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c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říjen 2008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Hesse: 4 fáze reformního procesu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 CE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1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Transformace</a:t>
            </a:r>
            <a:r>
              <a:rPr b="0" lang="cs-CZ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2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Konsolidace</a:t>
            </a:r>
            <a:r>
              <a:rPr b="0" lang="cs-CZ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3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Modernizac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       </a:t>
            </a:r>
            <a:r>
              <a:rPr b="1" lang="cs-CZ" sz="3600" spc="-1" strike="noStrike">
                <a:solidFill>
                  <a:srgbClr val="cc9900"/>
                </a:solidFill>
                <a:latin typeface="Arial"/>
              </a:rPr>
              <a:t>4) </a:t>
            </a:r>
            <a:r>
              <a:rPr b="1" lang="cs-CZ" sz="3600" spc="-1" strike="noStrike">
                <a:solidFill>
                  <a:srgbClr val="292929"/>
                </a:solidFill>
                <a:latin typeface="Arial"/>
              </a:rPr>
              <a:t>Adaptace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3) Reforma veřejné správy Č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76976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trukturální přestavba dřívějšího systému „jednotné státní moci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i zajištění kontinuity zabezpečení funkcí VS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uplatnění principu subsidiarit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měna totalitního státu ve stát demokra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legalita + legitimit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sílen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estiže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 očích veřejnosti  ...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otevřenost, průhlednost, participace ... etik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elká rychlost změn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a) VÝCHODISKA REFORMY VS</a:t>
            </a:r>
            <a:br>
              <a:rPr sz="3200"/>
            </a:b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292929"/>
                </a:solidFill>
                <a:latin typeface="Arial"/>
              </a:rPr>
              <a:t>PO LISTOPADU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ČESKOSLOVENSKÁ VEŘEJNÁ SPRÁVA V OBDOBÍ 1948 - 199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9930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ČESKOSLOVENSKÁ VEŘEJNÁ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  SPRÁVA V OBDOBÍ 1948 -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0033"/>
                </a:solidFill>
                <a:latin typeface="Arial"/>
              </a:rPr>
              <a:t>VÝCHODISKA A STAVEBNÍ KAMEN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avní dekrety prezidenta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18/1944 – o národních výborech a prozatímním NS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místní, okresní a zemské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jak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ozatím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orgány veřejné správy ve všech jejich oborech)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ládní nařízení 4/1945 Sb. 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V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uben 1945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Košický vládní program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Na rozdíl od dřívějšího byrokratického, lidu vzdáleného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správního aparátu, tvoří se v obcích, okresech a zemích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jakožto nové orgány státní a veřejné správy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lidem volené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. Všechny správní a násilnické orgány a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instituce, vytvořené bývalými režimy okupantů a zrádců se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rušují..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ČESKOSLOVENSKÁ VEŘEJNÁ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  SPRÁVA V OBDOBÍ 1948 -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věten 1946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– první poválečné volby do Ústavodárného N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nor 194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kční 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legalizovány až dodatečně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uben 194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volby s jedinou kandidátkou NF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povinnost voli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Ústava 9. května 194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... Kapitola 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KNV zavedeny až v prosinci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ákonem č. 280/1948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V rámci podpory „těžkého průmyslu“ řada zkušených administrativních pracovníků z řad úředníků NV se zdůvodněním, že jde o „byrokraty“, kteří sloužili i předcházejícím režimům, byla nucena přejít do výroby. Na jejich místa bylo velmi složité sehnat nové, aspoň částečně kvalifikované pracovní síly. Kvalitu práce NV v tomto období poznamenaly rovněž aktivity akčních výborů NF (čistky), které ve své personální politice zohledňovaly spíše „politickou příslušnost“ než byť jen elementární kvalifikaci.“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Čechák, s. 60 – 61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ČESKOSLOVENSKÁ VEŘEJNÁ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    SPRÁVA V OBDOBÍ 1948 -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844640"/>
            <a:ext cx="78706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5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sílení kompetencí vlád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0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Ústava ČSS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+ z. č.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36/1960</a:t>
            </a:r>
            <a:br>
              <a:rPr sz="2000"/>
            </a:br>
            <a:r>
              <a:rPr b="1" lang="cs-CZ" sz="2000" spc="-1" strike="noStrike" u="sng">
                <a:solidFill>
                  <a:srgbClr val="999933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7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zákon č. 69/1967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koordinační a organizační funkce KNV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8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–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avní zákon o federaci ČSS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1969 – 2/1969 (kompetenční zákon)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valifikovanost malých obcí a „střediska perspektivního osídlení“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zději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zákon č. 49/1982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b) ČSFR (1989 - 199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84104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zakotveny základy současného systému VS, včetně </a:t>
            </a:r>
            <a:r>
              <a:rPr b="1" lang="cs-CZ" sz="2200" spc="-1" strike="noStrike" u="sng">
                <a:solidFill>
                  <a:srgbClr val="006600"/>
                </a:solidFill>
                <a:uFillTx/>
                <a:latin typeface="Arial"/>
              </a:rPr>
              <a:t>přesahů</a:t>
            </a: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 s komunistickým obdobím</a:t>
            </a:r>
            <a:br>
              <a:rPr sz="2200"/>
            </a:b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ními zákony z r. 1990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zrušen čl. 4 socialistické ústavy (1960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zkráceno volební období 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národních výbor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a ukončen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jejich činnost (z. č. 294/1990 Sb., o čs. federaci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zakotvena základní práva - LZPS (23/1991 Sb.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zakotvena instituce Ústavního soudu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   ...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990033"/>
                </a:solidFill>
                <a:latin typeface="Arial"/>
              </a:rPr>
              <a:t>... ÚZEMNÍ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VEŘEJNÁ SPRÁVA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   (1989 - 199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lad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územní správní jednotkou se stala 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</a:t>
            </a: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367/1990 Sb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akotvil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státní správu a samosprávu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působnost orgánů ob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možnost sloučení / rozdělení ob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přechod práv a závazk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e) zrušil zákon o NV (z. č. 69/1967 Sb.)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cc0000"/>
                </a:solidFill>
                <a:latin typeface="Arial"/>
              </a:rPr>
              <a:t>ustave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) JEDNOSTUPŇOVÝ MODEL SAMOSPRÁV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b) SMÍŠENÝ / SPOJENÝ MODEL V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pecifickou kategorií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„pověřený obecní úřad“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OKRESNÍ ÚŘADY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ákon ČNR č. 425/1990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DEKONCENTRÁT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Σ Σ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VS v období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polistopadové fede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49320" y="2174760"/>
            <a:ext cx="7661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c) ČR (1993 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9320" y="1844280"/>
            <a:ext cx="7943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CEPČNÍ ZÁKO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NR č. 4/1993 Sb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92929"/>
                </a:solidFill>
                <a:latin typeface="Arial"/>
              </a:rPr>
              <a:t>(1) ÚZEMNÍ VEŘEJNÁ SPRÁVA</a:t>
            </a:r>
            <a:br>
              <a:rPr sz="2800"/>
            </a:br>
            <a:r>
              <a:rPr b="1" i="1" lang="cs-CZ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ce a okresy fungovaly do r. 2000 na základě novelizací legislativy z r. 1990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- ÚSTAVA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- FAKTICKÁ ZMĚNA AŽ V R. 1997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ú. z. č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347/1997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Sb.)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ÁVNÍ POSTAVENÍ ALE SPECIFIKOVÁNO POZDĚJ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6600"/>
                </a:solidFill>
                <a:latin typeface="Arial"/>
              </a:rPr>
              <a:t>- PROBLÉM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1) Veřejná správ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2) Reforma veřejné správy </a:t>
            </a:r>
            <a:br>
              <a:rPr sz="2800"/>
            </a:b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a její východiska v Č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2) Reforma a modernizace veřejné správy </a:t>
            </a:r>
            <a:br>
              <a:rPr sz="2800"/>
            </a:b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v ČR – výsledky a trendy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- 1989 - 1992, 1993 + </a:t>
            </a:r>
            <a:br>
              <a:rPr sz="2800"/>
            </a:b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- územní a ústřední správy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KONCEPCE REFORMY VS (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VÝCHODISK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ysoký stupeň centraliz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dekoncentráty a detašovaná pracoviště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ecentralizace vs. kvalifikovanost zaměstnanc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alá vzdělanost v záležitostech veřejné správy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u pracovníků i občan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ízká úroveň řízení způsobuje tendenci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 aroganci moc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lký počet malých obcí a dezintegrační tenden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CEPCE REFORMY VS (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9900"/>
                </a:solidFill>
                <a:latin typeface="Arial"/>
              </a:rPr>
              <a:t>2 FÁZE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1" lang="cs-CZ" sz="2000" spc="-1" strike="noStrike">
                <a:solidFill>
                  <a:srgbClr val="cc9900"/>
                </a:solidFill>
                <a:latin typeface="Arial"/>
              </a:rPr>
              <a:t>3 VARIANTY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REFORMY ORGANIZACE ÚZEMNÍ V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šech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DECENTRALIZACE a DEKONCENTRA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990033"/>
                </a:solidFill>
                <a:latin typeface="Arial"/>
              </a:rPr>
              <a:t>zrušení OkÚ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ARIANTA 1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institucionální oddělen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cca 210 malých okresů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ARIANTA 2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institucionální s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383 nebo méně pověřených obcí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ARIANTA 3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institucionální oddělení na krajích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institucionální spojení na (pověř.) obcích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PŘEDNOSTI A NEGATIVA (</a:t>
            </a:r>
            <a:r>
              <a:rPr b="1" lang="cs-CZ" sz="1800" spc="-1" strike="noStrike">
                <a:solidFill>
                  <a:srgbClr val="cc9900"/>
                </a:solidFill>
                <a:latin typeface="Arial"/>
              </a:rPr>
              <a:t>DÚ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9900"/>
                </a:solidFill>
                <a:latin typeface="Arial"/>
                <a:ea typeface="Arial"/>
              </a:rPr>
              <a:t>                               </a:t>
            </a:r>
            <a:r>
              <a:rPr b="0" i="1" lang="cs-CZ" sz="2800" spc="-1" strike="noStrike">
                <a:solidFill>
                  <a:srgbClr val="cc9900"/>
                </a:solidFill>
                <a:latin typeface="Arial"/>
                <a:ea typeface="Arial"/>
              </a:rPr>
              <a:t>(1948, 1960, 1990)</a:t>
            </a:r>
            <a:br>
              <a:rPr sz="2800"/>
            </a:br>
            <a:r>
              <a:rPr b="0" i="1" lang="cs-CZ" sz="2800" spc="-1" strike="noStrike">
                <a:solidFill>
                  <a:srgbClr val="292929"/>
                </a:solidFill>
                <a:latin typeface="Arial"/>
                <a:ea typeface="Arial"/>
              </a:rPr>
              <a:t>∑∑</a:t>
            </a:r>
            <a:r>
              <a:rPr b="1" i="1" lang="cs-CZ" sz="2800" spc="-1" strike="noStrike">
                <a:solidFill>
                  <a:srgbClr val="990033"/>
                </a:solidFill>
                <a:latin typeface="Arial"/>
                <a:ea typeface="Arial"/>
              </a:rPr>
              <a:t>VÝSLEDKY VS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993 - 1997 – 1999 -2000 - 2001 -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661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... VYBRANÉ PRVKY REFOREM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ÚZEMNÍ VS po roce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6000" y="1980720"/>
            <a:ext cx="71341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ÁVNÍ POSTAVENÍ ÚŘEDNÍKŮ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ÁVRH ZÁKONA O ÚZEMNĚ SPRÁVNÍM ČLENĚNÍ STÁTU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INANC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... 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dosavadní reformní kroky přinesly daleko výraznější změny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 organizaci územní správy než v jejím obsahu“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Matula, 2006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9900"/>
                </a:solidFill>
                <a:latin typeface="Arial"/>
                <a:ea typeface="Arial"/>
              </a:rPr>
              <a:t>∑∑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VS 2003 +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49320" y="1844640"/>
            <a:ext cx="78706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9900"/>
                </a:solidFill>
                <a:latin typeface="Arial"/>
                <a:ea typeface="Arial"/>
              </a:rPr>
              <a:t>∑∑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ýsledná organizace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územní státní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0560" y="1604880"/>
            <a:ext cx="676908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(2) ÚSTŘEDNÍ STÁTNÍ SPRÁVA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48960" y="1916280"/>
            <a:ext cx="7661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92929"/>
                </a:solidFill>
                <a:latin typeface="Arial"/>
              </a:rPr>
              <a:t>OBDOBÍ 1993 - 1999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c9900"/>
                </a:solidFill>
                <a:latin typeface="Arial"/>
              </a:rPr>
              <a:t>Koncepce reformy veřejné správy z roku 1999 a problémy ústřední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a) vysoký stupeň centralizace na úrovni ministerstev 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b) nízká úroveň horizontální koordinace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podceňování významu regulačních mechanismů veřejné 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správy z ústředí </a:t>
            </a:r>
            <a:br>
              <a:rPr sz="1800"/>
            </a:b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d) diferencovanost organizačních struktur ministerstev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pl-PL" sz="1800" spc="-1" strike="noStrike">
                <a:solidFill>
                  <a:srgbClr val="0000cc"/>
                </a:solidFill>
                <a:latin typeface="Arial"/>
                <a:ea typeface="Arial"/>
              </a:rPr>
              <a:t>DOPORUČENÍ ZPRACOVAT SAMOSTATNÝ PROGRA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 ÚSTŘEDNÍ STÁTNÍ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16280"/>
            <a:ext cx="7661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292929"/>
                </a:solidFill>
                <a:latin typeface="Arial"/>
              </a:rPr>
              <a:t>KONCEPCE Z ROKU 200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usnesení vlády č. 61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c9900"/>
                </a:solidFill>
                <a:latin typeface="Arial"/>
              </a:rPr>
              <a:t>  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Koncepce modernizace ústřední státní správy se 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zvláštním přihlédnutím k systemizaci a organizačnímu 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cc9900"/>
                </a:solidFill>
                <a:latin typeface="Arial"/>
              </a:rPr>
              <a:t>uspořádání správních úřad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734544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456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ÚSTŘEDNÍ SS A CÍLE VLÁDY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dnou programovou prioritou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1" i="1" lang="cs-CZ" sz="1800" spc="-1" strike="noStrike">
                <a:solidFill>
                  <a:srgbClr val="cc0000"/>
                </a:solidFill>
                <a:latin typeface="Arial"/>
              </a:rPr>
              <a:t>zahájení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modernizace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, jejímž cílem je zefektivnit, racionalizovat a zvýšit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horizontální koordinaci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činností veřejné správy za širšího využití moderních technologií (elektronické veřejné správy) a manažerských metod říz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d 1. 4. </a:t>
            </a:r>
            <a:r>
              <a:rPr b="1" lang="cs-CZ" sz="2200" spc="-1" strike="noStrike">
                <a:solidFill>
                  <a:srgbClr val="33cc33"/>
                </a:solidFill>
                <a:latin typeface="Arial"/>
              </a:rPr>
              <a:t>2004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do podzimu 2006 zastřešova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cc9900"/>
                </a:solidFill>
                <a:latin typeface="Arial"/>
              </a:rPr>
              <a:t>KONCEPCE 2004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c0000"/>
                </a:solidFill>
                <a:latin typeface="Arial"/>
              </a:rPr>
              <a:t>usnesení vlády z března 2004 (č. 237)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  „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Postup a hlavní směry reformy a modernizace 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ústřední státní správy obsahující vyřešení gesce </a:t>
            </a:r>
            <a:br>
              <a:rPr sz="2200"/>
            </a:b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a organizačního zabezpečení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1) VEŘEJNÁ SPRÁVA </a:t>
            </a:r>
            <a:br>
              <a:rPr sz="3200"/>
            </a:b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   A JEJÍ VYME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unkce státu vykonávány subjekty veřejné moci, mezi které patří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veřejná správa.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OVINA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0000cc"/>
                </a:solidFill>
                <a:latin typeface="Arial"/>
              </a:rPr>
              <a:t>práv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správní právo)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0000cc"/>
                </a:solidFill>
                <a:latin typeface="Arial"/>
              </a:rPr>
              <a:t>ekonomická</a:t>
            </a:r>
            <a:r>
              <a:rPr b="0" lang="cs-CZ" sz="2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eřejná ekonomie a související disciplíny)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c) správně-věd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Ž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naha specifikovat roli veřejné správy ve veřejné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ektoru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iskuze legitimity jejích činnost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KONCEPCE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104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lepšování současného systému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br>
              <a:rPr sz="2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 tomu </a:t>
            </a: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5 hlavních směrů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A: Racionalizace procesů v ústřední státní správě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B: Zlepšení řízení v ústřední státní správě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C: Zvýšení kvality ústřední státní správy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D. Implementace a zlepšování státní služby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v ústředních správních úřadech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měr E. Racionalizace financování ústřední státní správ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s 15 konkrétními projekt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v minulosti „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ROJEKTY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 A JEJICH STAV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současnosti inform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D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ÍLE SOUČASNÉ VLÁD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841040"/>
            <a:ext cx="820872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programové prohlášení nové vlády</a:t>
            </a: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(DÚ)</a:t>
            </a:r>
            <a:br>
              <a:rPr sz="2400"/>
            </a:br>
            <a:r>
              <a:rPr b="1" lang="cs-CZ" sz="24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od podzimu 2006 přešly pravomoce</a:t>
            </a: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cc9900"/>
                </a:solidFill>
                <a:latin typeface="Arial"/>
              </a:rPr>
              <a:t>zpět na MV ČR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(usnesení vlády č. 1232)</a:t>
            </a:r>
            <a:br>
              <a:rPr sz="1800"/>
            </a:b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práv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za II. pololetí roku 2006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otto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Vzhledem k tomu, že v minulých letech došlo ke stabilizaci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územní samosprávy, zrušení okresních úřadů a v rámci nového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územně správního členění státu se vytvořily podmínky pro výkon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státní správy v území,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lze považovat reformu veřejné správy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 ve smyslu zásadní systémové změny veřejné správy za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 skončenou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V současnosti je žádoucí zaměřit se na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   zkvalitnění a zefektivnění činnosti veřejné správy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. Soustředit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 se na zavádění inovativních přístupů a nových trendů organizace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  a fungování veřejné správy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ÍLE SOUČASNÉ VLÁD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17720"/>
            <a:ext cx="7661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c9900"/>
                </a:solidFill>
                <a:latin typeface="Arial"/>
              </a:rPr>
              <a:t>... Ze zprávy za 2. pololetí 2006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FEKTIVNĚNÍ SE MÁ SOUSTŘEDIT N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výšení kvality regul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lepšení kvality řízení a managementu v úřadech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řejné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efektivnění řízení lidských zdrojů a vzdělává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e veřejné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výšení transparentnosti a otevřenosti veřejné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ntenzivní využívání informačních technologií a rozvoj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Governmentu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V roce 2007 bude k MV přičleněna činnost zanikajícíh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inisterstva informatiky.“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..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 1. 6. 2007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443640" y="2205000"/>
            <a:ext cx="2590920" cy="24940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ÍLE SOUČASNÉ VLÁDY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c9900"/>
                </a:solidFill>
                <a:latin typeface="Arial"/>
              </a:rPr>
              <a:t>STRATEGIE „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SMART ADMINISTRATION</a:t>
            </a:r>
            <a:r>
              <a:rPr b="1" i="1" lang="cs-CZ" sz="2400" spc="-1" strike="noStrike">
                <a:solidFill>
                  <a:srgbClr val="cc99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vláda schválila v červenci 2007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strategie pro čerpání prostředků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e strukturálních fondů (2007 - 2013)</a:t>
            </a:r>
            <a:br>
              <a:rPr sz="18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ff"/>
                </a:solidFill>
                <a:latin typeface="Arial"/>
              </a:rPr>
              <a:t>VIZE 2015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37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Veřejná správa v ČR je primárně pojata jako služba občanovi, </a:t>
            </a:r>
            <a:br>
              <a:rPr sz="1500"/>
            </a:b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naplňuje principy dobrého vládnutí, funguje efektivně a výkonně. 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37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Veřejné služby jsou klientsky orientovány, naplňují očekávání </a:t>
            </a:r>
            <a:br>
              <a:rPr sz="1500"/>
            </a:b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občanů, flexibilně reagují na jejich potřeby a fungují hospodárně. 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Veřejná správa a veřejné služby přispívají ke zvyšování konkuren-</a:t>
            </a:r>
            <a:br>
              <a:rPr sz="1500"/>
            </a:br>
            <a:r>
              <a:rPr b="0" i="1" lang="cs-CZ" sz="1500" spc="-1" strike="noStrike">
                <a:solidFill>
                  <a:srgbClr val="292929"/>
                </a:solidFill>
                <a:latin typeface="Arial"/>
              </a:rPr>
              <a:t>ceschopnosti české ekonomiky a zvyšování kvality života obyvatel ČR.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ff"/>
                </a:solidFill>
                <a:latin typeface="Arial"/>
              </a:rPr>
              <a:t>GLOBÁLNÍM CÍL: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rostřednictvím zefektivnění fungování veřejné správy a veřejných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služeb podpořit socioekonomický růst ČR a zvýšit kvalitu života </a:t>
            </a:r>
            <a:br>
              <a:rPr sz="1600"/>
            </a:b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občanů.“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3399"/>
                </a:solidFill>
                <a:latin typeface="Arial"/>
              </a:rPr>
              <a:t>SOUČASNÝ 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STAV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812000" y="4751280"/>
            <a:ext cx="1001880" cy="20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170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cc9900"/>
                </a:solidFill>
                <a:latin typeface="Arial"/>
              </a:rPr>
              <a:t>DÚ PRO SEMINÁŘ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6615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OPAKOVAT PŘEDNÁŠKU + V NÍ UVEDENÉ DÚ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(+ TŘI PŘÍKLADY STÁTNÍ SPRÁVY A SAMOSPRÁVY OBCE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PRACOVAT VE FORMĚ ESEJE + PŘIPRAVIT SI NĚKOLIK BODŮ K PROMLUVĚ NA TÉMA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PODLE NÍŽE UVEDENÉHO KLÍČ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Téma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1) ORGÁNY OBCE A VYBRANÉ VÝSLEDKY JEJICH 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        ČINNOSTI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1800" spc="-1" strike="noStrike" u="sng">
                <a:solidFill>
                  <a:srgbClr val="292929"/>
                </a:solidFill>
                <a:uFillTx/>
                <a:latin typeface="Arial"/>
              </a:rPr>
              <a:t>konkrétní příklad vaší domovské obce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včetně doprovodných informací o obci – počet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obyvatel, příjmy a výdaje rozpočtu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2) ORGÁNY KRAJE A VYBRANÉ VÝSLEDKY ČINNOST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1800" spc="-1" strike="noStrike" u="sng">
                <a:solidFill>
                  <a:srgbClr val="292929"/>
                </a:solidFill>
                <a:uFillTx/>
                <a:latin typeface="Arial"/>
              </a:rPr>
              <a:t>konkrétní příklad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– analogie 1) pro kraje) 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SEM. SKUPINA 1)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SEM. SKUPINA 2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cc"/>
                </a:solidFill>
                <a:latin typeface="Arial"/>
              </a:rPr>
              <a:t>Téma 1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B až P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A až 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6600"/>
                </a:solidFill>
                <a:latin typeface="Arial"/>
              </a:rPr>
              <a:t>Téma 2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O až Z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říjmení P až Z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) Právní vymezení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8120" y="2060640"/>
            <a:ext cx="7661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ECIFIČNOST </a:t>
            </a:r>
            <a:r>
              <a:rPr b="1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VEŘEJNÉ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řejnoprávní charakte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subjektu veřejnéh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pravování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jekt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„veřejné záležitosti“ legitimovan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veřejným zájmem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nost a zákonnos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a) i b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veřejnost“ / „veřejnoprávnost“ spravování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0000" y="2997360"/>
            <a:ext cx="935280" cy="3240000"/>
            <a:chOff x="900000" y="2997360"/>
            <a:chExt cx="935280" cy="3240000"/>
          </a:xfrm>
        </p:grpSpPr>
        <p:sp>
          <p:nvSpPr>
            <p:cNvPr id="101" name=""/>
            <p:cNvSpPr/>
            <p:nvPr/>
          </p:nvSpPr>
          <p:spPr>
            <a:xfrm>
              <a:off x="900000" y="2997360"/>
              <a:ext cx="35892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000" y="4076640"/>
              <a:ext cx="35892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000" y="5445000"/>
              <a:ext cx="35892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000" y="2997360"/>
              <a:ext cx="0" cy="324000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00000" y="6237360"/>
              <a:ext cx="935280" cy="0"/>
            </a:xfrm>
            <a:prstGeom prst="line">
              <a:avLst/>
            </a:prstGeom>
            <a:ln w="28440">
              <a:solidFill>
                <a:srgbClr val="29292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... Co správní právo doporuč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8015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ymezovat veřejnou správ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gativně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vs. soukromá správa, tripartita moci, vláda?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ormálně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organizačně / institucionálně /personálně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nstituce + pravomoc + působnost</a:t>
            </a: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átní správa a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N literatura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„vláda“</a:t>
            </a:r>
            <a:br>
              <a:rPr sz="2400"/>
            </a:br>
            <a:r>
              <a:rPr b="0" lang="cs-CZ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úhly pohledu na veřejnou správ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ubjekt řídící / spravující veřejný sektor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roducent veřejných statků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ecifický prostor pro uplatňování osobních zájmů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yrokrat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ubjekt ovlivňující selhávání veřejného sektoru 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...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ohou se překrývat, vždy důraz n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EFEKTIVNO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) Veřejná ekonomie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 veřejná s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FEKTIVNOST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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účinnost, účelnost a hospodárnost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EGULA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e vztahu k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TRŽNÍM SELHÁNÍ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LÁDNÍM SELHÁNÍ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ntervence a předpokládatelnost změ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jasnost a realizovatelnost cílů veřejných politik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ealizace a obtíže vyjednává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ákladnost byrokratického aparát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ent-seeking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oncept principála – agenta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Tendence veřejného sektoru k neefektivnost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2) REFORMA VEŘEJNÉ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ff00ff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ff00ff"/>
                </a:solidFill>
                <a:latin typeface="Arial"/>
              </a:rPr>
              <a:t>problém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finanční, sociální, psychologický ..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entraliz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vs.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koncentrace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ecentraliz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princip subsidiarity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Arial"/>
              </a:rPr>
              <a:t>Předmět reformy 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5600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6:40:31Z</dcterms:created>
  <dc:creator>77120</dc:creator>
  <dc:description/>
  <dc:language>en-US</dc:language>
  <cp:lastModifiedBy>77120</cp:lastModifiedBy>
  <dcterms:modified xsi:type="dcterms:W3CDTF">2008-10-03T06:05:11Z</dcterms:modified>
  <cp:revision>440</cp:revision>
  <dc:subject/>
  <dc:title>Snímek 1</dc:title>
</cp:coreProperties>
</file>