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8CE-2FC0-4809-B363-8EB183F2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CC9-1333-4DD6-87F7-1B14B943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6B3-8E0F-4FDE-AB1D-6AF46D33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50E-B374-496B-9B9D-416E88B5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D967-3C52-4CE4-809C-9EFDA45B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3AE3-338F-44AF-8143-E30D59DB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5A8-4C28-4D12-B2F4-E66522E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1555-04A4-4E30-BBFE-6CCC8BE5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3DAF-0CBA-4CEC-92DD-CC1D5616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D82F-C2D2-4015-8983-FC5AF1C7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64CE-C989-4EE9-9ECC-52C391A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6FC-B6D5-4E7B-9B04-891F494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7A0D-3975-4393-B08A-DE823E23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881A-27B6-4DF5-8789-1273502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8EFC-26E6-4629-918D-582AABA3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A0D8-5D38-4F8A-95C9-10BCD830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C61D-8D95-41C7-BCD4-ABB326C2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035-EA0F-48C5-BF56-26386BE1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3CA-1BE9-4F99-A208-45A29001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4F8-8D6E-4905-826A-459CCE56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F42-EC2C-4B1B-B507-98F59970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27F-480A-4BE8-8F24-638358D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00E-AA79-4D23-993F-F9EEF8C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DB7-854C-42A8-B7F6-124E5B26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3D81-F808-45DF-AFE1-7D2B3D3E3783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1B9-9557-4876-98B8-90675D180B1D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spacek@econ.muni.cz" TargetMode="External"/><Relationship Id="rId2" Type="http://schemas.openxmlformats.org/officeDocument/2006/relationships/hyperlink" Target="mailto:david.spacek@econ.muni.cz" TargetMode="External"/><Relationship Id="rId3" Type="http://schemas.openxmlformats.org/officeDocument/2006/relationships/hyperlink" Target="mailto:david.spacek@econ.muni.cz" TargetMode="External"/><Relationship Id="rId4" Type="http://schemas.openxmlformats.org/officeDocument/2006/relationships/hyperlink" Target="mailto:david.spacek@econ.muni.cz" TargetMode="External"/><Relationship Id="rId5" Type="http://schemas.openxmlformats.org/officeDocument/2006/relationships/hyperlink" Target="mailto:david.spacek@econ.muni.cz" TargetMode="External"/><Relationship Id="rId6" Type="http://schemas.openxmlformats.org/officeDocument/2006/relationships/hyperlink" Target="mailto:david.spacek@econ.muni.cz" TargetMode="External"/><Relationship Id="rId7" Type="http://schemas.openxmlformats.org/officeDocument/2006/relationships/hyperlink" Target="mailto:david.spacek@econ.muni.cz" TargetMode="External"/><Relationship Id="rId8" Type="http://schemas.openxmlformats.org/officeDocument/2006/relationships/hyperlink" Target="mailto:david.spacek@econ.muni.cz" TargetMode="External"/><Relationship Id="rId9" Type="http://schemas.openxmlformats.org/officeDocument/2006/relationships/hyperlink" Target="mailto:david.spacek@econ.muni.cz" TargetMode="External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sp.cz/docs/texts/constitution_1948.html" TargetMode="External"/><Relationship Id="rId2" Type="http://schemas.openxmlformats.org/officeDocument/2006/relationships/hyperlink" Target="http://www.lexdata.cz/lexdata/sb_free.nsf/c12571cc00341df1c12566af007f1a09/c12571cc00341df1c12566d400718c7f?OpenDocumen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sp.cz/docs/texts/constitution_1960.html" TargetMode="External"/><Relationship Id="rId2" Type="http://schemas.openxmlformats.org/officeDocument/2006/relationships/hyperlink" Target="http://www.lexdata.cz/web/sb_free.nsf/c12571d20046a0b20000000000000000/c12571d20046a0b2c12566d40071dc4d?OpenDocument" TargetMode="External"/><Relationship Id="rId3" Type="http://schemas.openxmlformats.org/officeDocument/2006/relationships/hyperlink" Target="http://www.lexdata.cz/lexdata/sb_free.nsf/c12571cc00341df10000000000000000/c12571cc00341df1c12566d40072259e?OpenDocument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Aktualni%20stav%20projektu.htm" TargetMode="External"/><Relationship Id="rId2" Type="http://schemas.openxmlformats.org/officeDocument/2006/relationships/hyperlink" Target="http://www.vlada.cz/scripts/detail.php?id=7505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vlada.cz/scripts/detail.php?id=20780" TargetMode="External"/><Relationship Id="rId2" Type="http://schemas.openxmlformats.org/officeDocument/2006/relationships/hyperlink" Target="http://aplikace.mvcr.cz/archiv2008/sprava/vlzpravy/index.html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mvcr.cz/clanek/modernizace-verejne-spravy.aspx?q=Y2hudW09Mw%3D%3D" TargetMode="External"/><Relationship Id="rId3" Type="http://schemas.openxmlformats.org/officeDocument/2006/relationships/hyperlink" Target="http://vladaprovas.vlada.cz/sprava.html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eforma a modernizace veřejné správy v České repub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EVS - přednášk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david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spacek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@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econ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uni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c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říjen 200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Hesse: 4 fáze reformního procesu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 CE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1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Transformace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2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Konsolidace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3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Modernizac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4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Adaptac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3) Reforma veřejné správy Č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76976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trukturální přestavba dřívějšího systému „jednotné státní moci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i zajištění kontinuity zabezpečení funkcí VS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uplatnění principu subsidiari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měna totalitního státu ve stát demokra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legalita + legitimi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sílen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estiž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očích veřejnosti  ...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otevřenost, průhlednost, participace ... etik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lká rychlost změ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a) VÝCHODISKA REFORMY VS</a:t>
            </a:r>
            <a:br>
              <a:rPr sz="3200"/>
            </a:b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PO LISTOPADU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ČESKOSLOVENSKÁ VEŘEJNÁ SPRÁVA V OBDOBÍ 1948 - 199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9930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0033"/>
                </a:solidFill>
                <a:latin typeface="Arial"/>
              </a:rPr>
              <a:t>VÝCHODISKA A STAVEBNÍ KAME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avní dekrety prezident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18/1944 – o národních výborech a prozatímním N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místní, okresní a zemské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jak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zatím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orgány veřejné správy ve všech jejich oborech)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ládní nařízení 4/1945 Sb. 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uben 1945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Košický vládní program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Na rozdíl od dřívějšího byrokratického, lidu vzdálenéh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právního aparátu, tvoří se v obcích, okresech a zemích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jakožto nové orgány státní a veřejné správy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lidem volené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Všechny správní a násilnické orgány a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instituce, vytvořené bývalými režimy okupantů a zrádců se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rušují..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věten 1946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– první poválečné volby do Ústavodárného 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nor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kční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legalizovány až dodatečně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uben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volby s jedinou kandidátkou NF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povinnost voli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Ústava 9. května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... Kapitola 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KNV zavedeny až v prosinci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ákonem č. 280/1948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 rámci podpory „těžkého průmyslu“ řada zkušených administrativních pracovníků z řad úředníků NV se zdůvodněním, že jde o „byrokraty“, kteří sloužili i předcházejícím režimům, byla nucena přejít do výroby. Na jejich místa bylo velmi složité sehnat nové, aspoň částečně kvalifikované pracovní síly. Kvalitu práce NV v tomto období poznamenaly rovněž aktivity akčních výborů NF (čistky), které ve své personální politice zohledňovaly spíše „politickou příslušnost“ než byť jen elementární kvalifikaci.“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Čechák, s. 60 – 61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8706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5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sílení kompetencí vlád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Ústava ČSS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. č.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36/1960</a:t>
            </a:r>
            <a:br>
              <a:rPr sz="2000"/>
            </a:br>
            <a:r>
              <a:rPr b="1" lang="cs-CZ" sz="2000" spc="-1" strike="noStrike" u="sng">
                <a:solidFill>
                  <a:srgbClr val="999933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zákon č. 69/1967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koordinační a organizační funkce KNV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avní zákon o federaci ČSS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9 – 2/1969 (kompetenční zákon)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valifikovanost malých obcí a „střediska perspektivního osídlení“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zději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zákon č. 49/1982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b) ČSFR (1989 - 199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84104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zakotveny základy současného systému VS, včetně </a:t>
            </a:r>
            <a:r>
              <a:rPr b="1" lang="cs-CZ" sz="2200" spc="-1" strike="noStrike" u="sng">
                <a:solidFill>
                  <a:srgbClr val="006600"/>
                </a:solidFill>
                <a:uFillTx/>
                <a:latin typeface="Arial"/>
              </a:rPr>
              <a:t>přesahů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 s komunistickým obdobím</a:t>
            </a:r>
            <a:br>
              <a:rPr sz="2200"/>
            </a:b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ími zákony z r. 1990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zrušen čl. 4 socialistické ústavy (1960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zkráceno volební období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národních výbor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a ukončen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jejich činnost (z. č. 294/1990 Sb., o čs. federaci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zakotvena základní práva - LZPS (23/1991 Sb.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zakotvena instituce Ústavního soudu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   ...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990033"/>
                </a:solidFill>
                <a:latin typeface="Arial"/>
              </a:rPr>
              <a:t>... ÚZEMNÍ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VEŘEJNÁ SPRÁVA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   (1989 - 19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lad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územní správní jednotkou se stala 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</a:t>
            </a: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367/1990 Sb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akotvil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státní správu a samosprávu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působnost orgánů ob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možnost sloučení / rozdělení ob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přechod práv a závazk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zrušil zákon o NV (z. č. 69/1967 Sb.)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ustave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) JEDNOSTUPŇOVÝ MODEL SAMO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b) SMÍŠENÝ / SPOJENÝ MODEL V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pecifickou kategori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„pověřený obecní úřad“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OKRESNÍ ÚŘADY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kon ČNR č. 425/1990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DEKONCENTRÁ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Σ Σ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VS v období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polistopadové fed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49320" y="2174760"/>
            <a:ext cx="7661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c) ČR (1993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9320" y="1844280"/>
            <a:ext cx="7943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CEPČNÍ ZÁKO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NR č. 4/1993 Sb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(1) ÚZEMNÍ VEŘEJNÁ SPRÁVA</a:t>
            </a:r>
            <a:br>
              <a:rPr sz="2800"/>
            </a:br>
            <a:r>
              <a:rPr b="1" i="1" lang="cs-CZ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ce a okresy fungovaly do r. 2000 na základě novelizací legislativy z r. 1990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ÚSTAVA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FAKTICKÁ ZMĚNA AŽ V R. 199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ú. z. č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347/199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Sb.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ÁVNÍ POSTAVENÍ ALE SPECIFIKOVÁNO POZDĚJ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6600"/>
                </a:solidFill>
                <a:latin typeface="Arial"/>
              </a:rPr>
              <a:t>- PROBLÉM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1) Veřejná správ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Reforma veřejné správy </a:t>
            </a:r>
            <a:br>
              <a:rPr sz="2800"/>
            </a:b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a její východiska v Č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Reforma a modernizace veřejné správy </a:t>
            </a:r>
            <a:br>
              <a:rPr sz="2800"/>
            </a:b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 ČR – výsledky a trendy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- 1989 - 1992, 1993 +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- územní a ústřední správy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KONCEPCE REFORMY VS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VÝCHODISK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ysoký stupeň centraliz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dekoncentráty a detašovaná pracoviště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ecentralizace vs. kvalifikovanost zaměstnanc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alá vzdělanost v záležitostech veřejné správy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u pracovníků i občan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ízká úroveň řízení způsobuje tendenci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aroganci moc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lký počet malých obcí a dezintegrační tende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CEPCE REFORMY VS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2 FÁZE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3 VARIANTY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REFORMY ORGANIZACE ÚZEMNÍ V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šech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DECENTRALIZACE a DEKONCENTR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990033"/>
                </a:solidFill>
                <a:latin typeface="Arial"/>
              </a:rPr>
              <a:t>zrušení OkÚ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1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institucionální oddělen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cca 210 malých okres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2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s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383 nebo méně pověřených obc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3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oddělení na krajích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spojení na (pověř.) obcích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ŘEDNOSTI A NEGATIVA (</a:t>
            </a:r>
            <a:r>
              <a:rPr b="1" lang="cs-CZ" sz="1800" spc="-1" strike="noStrike">
                <a:solidFill>
                  <a:srgbClr val="cc9900"/>
                </a:solidFill>
                <a:latin typeface="Arial"/>
              </a:rPr>
              <a:t>DÚ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9900"/>
                </a:solidFill>
                <a:latin typeface="Arial"/>
                <a:ea typeface="Arial"/>
              </a:rPr>
              <a:t>                               </a:t>
            </a:r>
            <a:r>
              <a:rPr b="0" i="1" lang="cs-CZ" sz="2800" spc="-1" strike="noStrike">
                <a:solidFill>
                  <a:srgbClr val="cc9900"/>
                </a:solidFill>
                <a:latin typeface="Arial"/>
                <a:ea typeface="Arial"/>
              </a:rPr>
              <a:t>(1948, 1960, 1990)</a:t>
            </a:r>
            <a:br>
              <a:rPr sz="2800"/>
            </a:br>
            <a:r>
              <a:rPr b="0" i="1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∑∑</a:t>
            </a:r>
            <a:r>
              <a:rPr b="1" i="1" lang="cs-CZ" sz="2800" spc="-1" strike="noStrike">
                <a:solidFill>
                  <a:srgbClr val="990033"/>
                </a:solidFill>
                <a:latin typeface="Arial"/>
                <a:ea typeface="Arial"/>
              </a:rPr>
              <a:t>VÝSLEDKY VS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993 - 1997 – 1999 -2000 - 2001 -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661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VYBRANÉ PRVKY REFOREM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ÚZEMNÍ VS po roce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6000" y="1980720"/>
            <a:ext cx="71341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ÁVNÍ POSTAVENÍ ÚŘEDNÍKŮ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ÁVRH ZÁKONA O ÚZEMNĚ SPRÁVNÍM ČLENĚNÍ STÁTU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INANC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... 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dosavadní reformní kroky přinesly daleko výraznější změny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 organizaci územní správy než v jejím obsahu“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Matula, 2006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9900"/>
                </a:solidFill>
                <a:latin typeface="Arial"/>
                <a:ea typeface="Arial"/>
              </a:rPr>
              <a:t>∑∑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VS 2003 +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49320" y="1844640"/>
            <a:ext cx="7870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9900"/>
                </a:solidFill>
                <a:latin typeface="Arial"/>
                <a:ea typeface="Arial"/>
              </a:rPr>
              <a:t>∑∑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ýsledná organizace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územní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0560" y="1604880"/>
            <a:ext cx="676908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(2) ÚSTŘEDNÍ STÁTNÍ SPRÁV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OBDOBÍ 1993 - 199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Koncepce reformy veřejné správy z roku 1999 a problémy ústřední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a) vysoký stupeň centralizace na úrovni ministerstev 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b) nízká úroveň horizontální koordinace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podceňování významu regulačních mechanismů veřejné 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správy z ústředí </a:t>
            </a:r>
            <a:br>
              <a:rPr sz="1800"/>
            </a:b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d) diferencovanost organizačních struktur ministerstev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pl-PL" sz="1800" spc="-1" strike="noStrike">
                <a:solidFill>
                  <a:srgbClr val="0000cc"/>
                </a:solidFill>
                <a:latin typeface="Arial"/>
                <a:ea typeface="Arial"/>
              </a:rPr>
              <a:t>DOPORUČENÍ ZPRACOVAT SAMOSTATNÝ PROGR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 ÚSTŘEDNÍ STÁTNÍ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KONCEPCE Z ROKU 200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usnesení vlády č. 61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Koncepce modernizace ústřední státní správy se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zvláštním přihlédnutím k systemizaci a organizačnímu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uspořádání správních úřad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34544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ÚSTŘEDNÍ SS A CÍLE VLÁD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dnou programovou prioritou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i="1" lang="cs-CZ" sz="1800" spc="-1" strike="noStrike">
                <a:solidFill>
                  <a:srgbClr val="cc0000"/>
                </a:solidFill>
                <a:latin typeface="Arial"/>
              </a:rPr>
              <a:t>zahájení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modernizace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, jejímž cílem je zefektivnit, racionalizovat a zvýšit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horizontální koordinaci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činností veřejné správy za širšího využití moderních technologií (elektronické veřejné správy) a manažerských metod říz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d 1. 4. </a:t>
            </a:r>
            <a:r>
              <a:rPr b="1" lang="cs-CZ" sz="2200" spc="-1" strike="noStrike">
                <a:solidFill>
                  <a:srgbClr val="33cc33"/>
                </a:solidFill>
                <a:latin typeface="Arial"/>
              </a:rPr>
              <a:t>2004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do podzimu 2006 zastřešova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KONCEPCE 2004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usnesení vlády z března 2004 (č. 237)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 „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Postup a hlavní směry reformy a modernizace 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ústřední státní správy obsahující vyřešení gesce </a:t>
            </a:r>
            <a:br>
              <a:rPr sz="2200"/>
            </a:b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a organizačního zabezpečení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1) VEŘEJNÁ SPRÁVA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  A JEJÍ VYME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unkce státu vykonávány subjekty veřejné moci, mezi které patří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veřejná správa.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0000cc"/>
                </a:solidFill>
                <a:latin typeface="Arial"/>
              </a:rPr>
              <a:t>práv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í právo)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0000cc"/>
                </a:solidFill>
                <a:latin typeface="Arial"/>
              </a:rPr>
              <a:t>ekonomická</a:t>
            </a:r>
            <a:r>
              <a:rPr b="0" lang="cs-CZ" sz="2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eřejná ekonomie a související disciplíny)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c) správně-věd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naha specifikovat roli veřejné správy ve veřejné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ektor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iskuze legitimity jejích činnost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KONCEPCE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10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lepšování současného systému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br>
              <a:rPr sz="2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 tomu 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5 hlavních směrů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A: Racionalizace procesů v ústřední státní správě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B: Zlepšení řízení v ústřední státní správě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C: Zvýšení kvality ústřední státní správy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D. Implementace a zlepšování státní služby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v ústředních správních úřadech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E. Racionalizace financování ústřední státní správ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s 15 konkrétními projek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v minulosti „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ROJEKTY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 A JEJICH STAV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současnosti inform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D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841040"/>
            <a:ext cx="82087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rogramové prohlášení nové vlády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(DÚ)</a:t>
            </a:r>
            <a:br>
              <a:rPr sz="2400"/>
            </a:b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od podzimu 2006 přešly pravomoce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zpět na MV ČR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(usnesení vlády č. 1232)</a:t>
            </a:r>
            <a:br>
              <a:rPr sz="1800"/>
            </a:b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práv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za II. pololetí roku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otto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zhledem k tomu, že v minulých letech došlo ke stabilizaci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územní samosprávy, zrušení okresních úřadů a v rámci novéh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územně správního členění státu se vytvořily podmínky pro výkon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státní správy v území,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lze považovat reformu veřejné správy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ve smyslu zásadní systémové změny veřejné správy za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skončenou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V současnosti je žádoucí zaměřit se na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zkvalitnění a zefektivnění činnosti veřejné správ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Soustředit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se na zavádění inovativních přístupů a nových trendů organizace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a fungování veřejné správy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17720"/>
            <a:ext cx="7661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9900"/>
                </a:solidFill>
                <a:latin typeface="Arial"/>
              </a:rPr>
              <a:t>... Ze zprávy za 2. pololetí 200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FEKTIVNĚNÍ SE MÁ SOUSTŘEDIT 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výšení kvality regul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lepšení kvality řízení a managementu v úřadech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efektivnění řízení lidských zdrojů a vzdělává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 veřejné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výšení transparentnosti a otevřenosti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ntenzivní využívání informačních technologií a rozvoj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Governmentu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V roce 2007 bude k MV přičleněna činnost zanikajícíh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inisterstva informatiky.“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..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 1. 6. 2007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443640" y="2205000"/>
            <a:ext cx="2590920" cy="2494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9900"/>
                </a:solidFill>
                <a:latin typeface="Arial"/>
              </a:rPr>
              <a:t>STRATEGIE „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SMART ADMINISTRATION</a:t>
            </a:r>
            <a:r>
              <a:rPr b="1" i="1" lang="cs-CZ" sz="2400" spc="-1" strike="noStrike">
                <a:solidFill>
                  <a:srgbClr val="cc99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vláda schválila v červenci 200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trategie pro čerpání prostředků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e strukturálních fondů (2007 - 2013)</a:t>
            </a:r>
            <a:br>
              <a:rPr sz="18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ff"/>
                </a:solidFill>
                <a:latin typeface="Arial"/>
              </a:rPr>
              <a:t>VIZE 2015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7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á správa v ČR je primárně pojata jako služba občanovi, 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naplňuje principy dobrého vládnutí, funguje efektivně a výkonně.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7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é služby jsou klientsky orientovány, naplňují očekávání 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občanů, flexibilně reagují na jejich potřeby a fungují hospodárně.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á správa a veřejné služby přispívají ke zvyšování konkuren-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ceschopnosti české ekonomiky a zvyšování kvality života obyvatel ČR.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ff"/>
                </a:solidFill>
                <a:latin typeface="Arial"/>
              </a:rPr>
              <a:t>GLOBÁLNÍM CÍL: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ostřednictvím zefektivnění fungování veřejné správy a veřejných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služeb podpořit socioekonomický růst ČR a zvýšit kvalitu života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bčanů.“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3399"/>
                </a:solidFill>
                <a:latin typeface="Arial"/>
              </a:rPr>
              <a:t>SOUČASNÝ 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STAV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812000" y="4751280"/>
            <a:ext cx="1001880" cy="20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70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cc9900"/>
                </a:solidFill>
                <a:latin typeface="Arial"/>
              </a:rPr>
              <a:t>DÚ PRO SEMINÁŘ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6615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OPAKOVAT PŘEDNÁŠKU + V NÍ UVEDENÉ DÚ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+ TŘI PŘÍKLADY STÁTNÍ SPRÁVY A SAMOSPRÁVY OBCE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PRACOVAT VE FORMĚ ESEJE + PŘIPRAVIT SI NĚKOLIK BODŮ K PROMLUVĚ NA TÉMA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ODLE NÍŽE UVEDENÉHO KLÍČ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éma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1) ORGÁNY OBCE A VYBRANÉ VÝSLEDKY JEJICH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        ČINNOSTI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konkrétní příklad vaší domovské obce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včetně doprovodných informací o obci – počet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obyvatel, příjmy a výdaje rozpočt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2) ORGÁNY KRAJE A VYBRANÉ VÝSLEDKY ČINNOST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konkrétní příklad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– analogie 1) pro kraje) 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SEM. SKUPINA 1)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SEM. SKUPINA 2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Téma 1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B až P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A až 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Téma 2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O až Z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P až 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) Právní vymezen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2060640"/>
            <a:ext cx="766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ECIFIČNOST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VEŘEJNÉ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řejnoprávní charakte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jekt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ost a zákonnos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a) i b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veřejnost“ / „veřejnoprávnost“ sprav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2997360"/>
            <a:ext cx="935280" cy="3240000"/>
            <a:chOff x="900000" y="2997360"/>
            <a:chExt cx="935280" cy="3240000"/>
          </a:xfrm>
        </p:grpSpPr>
        <p:sp>
          <p:nvSpPr>
            <p:cNvPr id="101" name=""/>
            <p:cNvSpPr/>
            <p:nvPr/>
          </p:nvSpPr>
          <p:spPr>
            <a:xfrm>
              <a:off x="900000" y="299736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000" y="407664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000" y="544500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000" y="2997360"/>
              <a:ext cx="0" cy="324000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0000" y="6237360"/>
              <a:ext cx="93528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o správní právo doporuč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8015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ymezovat veřejnou správ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gativ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vs. soukromá správa, tripartita moci, vláda?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ormálně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organizačně / institucionálně /personálně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stituce + pravomoc + působnost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átní správa a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N literatur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„vláda“</a:t>
            </a:r>
            <a:br>
              <a:rPr sz="2400"/>
            </a:b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úhly pohledu na veřejnou správ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ubjekt řídící / spravující veřejný sektor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ducent veřejných statk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ecifický prostor pro uplatňování osobních zájmů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ubjekt ovlivňující selhávání veřejného sektoru 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.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ohou se překrývat, vždy důraz n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FEKTIVN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FEKTIV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účinnost, účelnost a hospodárnost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GUL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 vztahu k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TRŽNÍM SELHÁNÍ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LÁDNÍM SELHÁNÍ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ntervence a předpokládatelnost změ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asnost a realizovatelnost cílů veřejných politi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ealizace a obtíže vyjedná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ákladnost byrokratického aparát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ent-seeking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oncept principála – agenta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Tendence veřejného sektoru k ne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2) REFORMA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problém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inanční, sociální, psychologický ..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entraliz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s.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koncentr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centraliz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rincip subsidiarity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Předmět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60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0:31Z</dcterms:created>
  <dc:creator>77120</dc:creator>
  <dc:description/>
  <dc:language>en-US</dc:language>
  <cp:lastModifiedBy>77120</cp:lastModifiedBy>
  <dcterms:modified xsi:type="dcterms:W3CDTF">2008-10-03T06:05:11Z</dcterms:modified>
  <cp:revision>440</cp:revision>
  <dc:subject/>
  <dc:title>Snímek 1</dc:title>
</cp:coreProperties>
</file>