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479A-4BEB-49BE-80C1-D5F3E871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106A-C955-483C-B024-C0A85C95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C07A-61A3-43EC-AF90-010D4EEB1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4AB1-8783-4B40-8FD1-6B2CAD397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562A-12C5-4953-B127-011E56C1F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A327-DB8E-4918-BEA0-2DB5FDDE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59ED-7625-467C-9B9D-16B19C5A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DAD7-D944-42B7-A2F8-FB2505D5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FBA2-D7C0-48D6-8884-3F141A18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0972-DB97-44B9-B43C-DB5ADF69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2081-4586-4C03-A38C-DFE71089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5BE6-AECE-4E98-9279-CF7DDBEC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D328-7FF0-4FE3-847E-7C1D1E89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7542-3B31-437A-9B44-35B4D0B4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E964-32E3-4F73-A3D9-FFA200FA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D009-FF4E-43A5-AE6D-FB2C5147B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1400-5D7A-455D-AC1D-8C7F2771D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E2BB-9C18-4423-9272-C3D9164A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45CE-A9CE-4BDF-9565-C6C372C9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1CA1-7D35-4C6D-8954-14C4C320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6498-ABB8-4487-A71F-48ADAC41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09EC-AB43-4F64-AF0E-A0B07AF1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E52D-E957-4ADE-8B51-47E3A65F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6F20-2E3B-4B02-9FB0-02DC9770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A2F8-9076-4D7D-BEE1-5F40F5A7BB52}" type="slidenum"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A59B-7F62-485E-A801-90AB2BF24D45}" type="slidenum"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avid.spacek@econ.muni.cz" TargetMode="External"/><Relationship Id="rId2" Type="http://schemas.openxmlformats.org/officeDocument/2006/relationships/hyperlink" Target="mailto:david.spacek@econ.muni.cz" TargetMode="External"/><Relationship Id="rId3" Type="http://schemas.openxmlformats.org/officeDocument/2006/relationships/hyperlink" Target="mailto:david.spacek@econ.muni.cz" TargetMode="External"/><Relationship Id="rId4" Type="http://schemas.openxmlformats.org/officeDocument/2006/relationships/hyperlink" Target="mailto:david.spacek@econ.muni.cz" TargetMode="External"/><Relationship Id="rId5" Type="http://schemas.openxmlformats.org/officeDocument/2006/relationships/hyperlink" Target="mailto:david.spacek@econ.muni.cz" TargetMode="External"/><Relationship Id="rId6" Type="http://schemas.openxmlformats.org/officeDocument/2006/relationships/hyperlink" Target="mailto:david.spacek@econ.muni.cz" TargetMode="External"/><Relationship Id="rId7" Type="http://schemas.openxmlformats.org/officeDocument/2006/relationships/hyperlink" Target="mailto:david.spacek@econ.muni.cz" TargetMode="External"/><Relationship Id="rId8" Type="http://schemas.openxmlformats.org/officeDocument/2006/relationships/hyperlink" Target="mailto:david.spacek@econ.muni.cz" TargetMode="External"/><Relationship Id="rId9" Type="http://schemas.openxmlformats.org/officeDocument/2006/relationships/hyperlink" Target="mailto:david.spacek@econ.muni.cz" TargetMode="External"/><Relationship Id="rId10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sp.cz/docs/texts/constitution_1948.html" TargetMode="External"/><Relationship Id="rId2" Type="http://schemas.openxmlformats.org/officeDocument/2006/relationships/hyperlink" Target="http://www.lexdata.cz/lexdata/sb_free.nsf/c12571cc00341df1c12566af007f1a09/c12571cc00341df1c12566d400718c7f?OpenDocument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sp.cz/docs/texts/constitution_1960.html" TargetMode="External"/><Relationship Id="rId2" Type="http://schemas.openxmlformats.org/officeDocument/2006/relationships/hyperlink" Target="http://www.lexdata.cz/web/sb_free.nsf/c12571d20046a0b20000000000000000/c12571d20046a0b2c12566d40071dc4d?OpenDocument" TargetMode="External"/><Relationship Id="rId3" Type="http://schemas.openxmlformats.org/officeDocument/2006/relationships/hyperlink" Target="http://www.lexdata.cz/lexdata/sb_free.nsf/c12571cc00341df10000000000000000/c12571cc00341df1c12566d40072259e?OpenDocument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Aktualni%20stav%20projektu.htm" TargetMode="External"/><Relationship Id="rId2" Type="http://schemas.openxmlformats.org/officeDocument/2006/relationships/hyperlink" Target="http://www.vlada.cz/scripts/detail.php?id=7505" TargetMode="Externa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vlada.cz/scripts/detail.php?id=20780" TargetMode="External"/><Relationship Id="rId2" Type="http://schemas.openxmlformats.org/officeDocument/2006/relationships/hyperlink" Target="http://aplikace.mvcr.cz/archiv2008/sprava/vlzpravy/index.html" TargetMode="Externa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mvcr.cz/clanek/modernizace-verejne-spravy.aspx?q=Y2hudW09Mw%3D%3D" TargetMode="External"/><Relationship Id="rId3" Type="http://schemas.openxmlformats.org/officeDocument/2006/relationships/hyperlink" Target="http://vladaprovas.vlada.cz/sprava.html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Reforma a modernizace veřejné správy v České repub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EVS - přednášk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David Špaček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david</a:t>
            </a:r>
            <a:r>
              <a:rPr b="0" lang="cs-CZ" sz="18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.</a:t>
            </a:r>
            <a:r>
              <a:rPr b="0" lang="cs-CZ" sz="18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spacek</a:t>
            </a:r>
            <a:r>
              <a:rPr b="0" lang="en-US" sz="18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@</a:t>
            </a:r>
            <a:r>
              <a:rPr b="0" lang="cs-CZ" sz="18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econ</a:t>
            </a:r>
            <a:r>
              <a:rPr b="0" lang="cs-CZ" sz="18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.</a:t>
            </a:r>
            <a:r>
              <a:rPr b="0" lang="cs-CZ" sz="18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muni</a:t>
            </a:r>
            <a:r>
              <a:rPr b="0" lang="cs-CZ" sz="18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.</a:t>
            </a:r>
            <a:r>
              <a:rPr b="0" lang="cs-CZ" sz="18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cz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říjen 2008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... Hesse: 4 fáze reformního procesu </a:t>
            </a:r>
            <a:br>
              <a:rPr sz="3200"/>
            </a:b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v CEE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02920" y="2060280"/>
            <a:ext cx="6985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cc9900"/>
                </a:solidFill>
                <a:latin typeface="Arial"/>
              </a:rPr>
              <a:t>1) </a:t>
            </a:r>
            <a:r>
              <a:rPr b="1" lang="cs-CZ" sz="3600" spc="-1" strike="noStrike">
                <a:solidFill>
                  <a:srgbClr val="292929"/>
                </a:solidFill>
                <a:latin typeface="Arial"/>
              </a:rPr>
              <a:t>Transformace</a:t>
            </a:r>
            <a:r>
              <a:rPr b="0" lang="cs-CZ" sz="3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cc9900"/>
                </a:solidFill>
                <a:latin typeface="Arial"/>
              </a:rPr>
              <a:t>  </a:t>
            </a:r>
            <a:r>
              <a:rPr b="1" lang="cs-CZ" sz="3600" spc="-1" strike="noStrike">
                <a:solidFill>
                  <a:srgbClr val="cc9900"/>
                </a:solidFill>
                <a:latin typeface="Arial"/>
              </a:rPr>
              <a:t>2) </a:t>
            </a:r>
            <a:r>
              <a:rPr b="1" lang="cs-CZ" sz="3600" spc="-1" strike="noStrike">
                <a:solidFill>
                  <a:srgbClr val="292929"/>
                </a:solidFill>
                <a:latin typeface="Arial"/>
              </a:rPr>
              <a:t>Konsolidace</a:t>
            </a:r>
            <a:r>
              <a:rPr b="0" lang="cs-CZ" sz="3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cc9900"/>
                </a:solidFill>
                <a:latin typeface="Arial"/>
              </a:rPr>
              <a:t>3) </a:t>
            </a:r>
            <a:r>
              <a:rPr b="1" lang="cs-CZ" sz="3600" spc="-1" strike="noStrike">
                <a:solidFill>
                  <a:srgbClr val="292929"/>
                </a:solidFill>
                <a:latin typeface="Arial"/>
              </a:rPr>
              <a:t>Modernizace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cc9900"/>
                </a:solidFill>
                <a:latin typeface="Arial"/>
              </a:rPr>
              <a:t>       </a:t>
            </a:r>
            <a:r>
              <a:rPr b="1" lang="cs-CZ" sz="3600" spc="-1" strike="noStrike">
                <a:solidFill>
                  <a:srgbClr val="cc9900"/>
                </a:solidFill>
                <a:latin typeface="Arial"/>
              </a:rPr>
              <a:t>4) </a:t>
            </a:r>
            <a:r>
              <a:rPr b="1" lang="cs-CZ" sz="3600" spc="-1" strike="noStrike">
                <a:solidFill>
                  <a:srgbClr val="292929"/>
                </a:solidFill>
                <a:latin typeface="Arial"/>
              </a:rPr>
              <a:t>Adaptace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3850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</a:rPr>
              <a:t>3) Reforma veřejné správy Č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76976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součást transformace společnosti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strukturální přestavba dřívějšího systému „jednotné státní moci“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při zajištění kontinuity zabezpečení funkcí VS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uplatnění principu subsidiarit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změna totalitního státu ve stát demokratický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legalita + legitimit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osílení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restiž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v očích veřejnosti  ...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→ otevřenost, průhlednost, participace ... etik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velká rychlost změn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292929"/>
                </a:solidFill>
                <a:latin typeface="Arial"/>
              </a:rPr>
              <a:t>a) VÝCHODISKA REFORMY VS</a:t>
            </a:r>
            <a:br>
              <a:rPr sz="3200"/>
            </a:br>
            <a:r>
              <a:rPr b="1" i="1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292929"/>
                </a:solidFill>
                <a:latin typeface="Arial"/>
              </a:rPr>
              <a:t>PO LISTOPADU 19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ČESKOSLOVENSKÁ VEŘEJNÁ SPRÁVA V OBDOBÍ 1948 - 1990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799308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... ČESKOSLOVENSKÁ VEŘEJNÁ 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    SPRÁVA V OBDOBÍ 1948 - 1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773360"/>
            <a:ext cx="76611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0033"/>
                </a:solidFill>
                <a:latin typeface="Arial"/>
              </a:rPr>
              <a:t>VÝCHODISKA A STAVEBNÍ KAMEN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ústavní dekrety prezidenta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18/1944 – o národních výborech a prozatímním NS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místní, okresní a zemské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NV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jako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rozatímn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orgány veřejné správy ve všech jejich oborech)</a:t>
            </a: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ládní nařízení 4/1945 Sb. o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NV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duben 1945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– Košický vládní program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Na rozdíl od dřívějšího byrokratického, lidu vzdáleného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správního aparátu, tvoří se v obcích, okresech a zemích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jakožto nové orgány státní a veřejné správy 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lidem volené 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národní výbory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. Všechny správní a násilnické orgány a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instituce, vytvořené bývalými režimy okupantů a zrádců se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zrušují...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“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... ČESKOSLOVENSKÁ VEŘEJNÁ 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    SPRÁVA V OBDOBÍ 1948 - 1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květen 1946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– první poválečné volby do Ústavodárného N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únor 1948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a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Akční NV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legalizovány až dodatečně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duben 1948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– volby s jedinou kandidátkou NF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povinnost volit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Ústava 9. května 1948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... Kapitola 6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KNV zavedeny až v prosinci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zákonem č. 280/1948 Sb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V rámci podpory „těžkého průmyslu“ řada zkušených administrativních pracovníků z řad úředníků NV se zdůvodněním, že jde o „byrokraty“, kteří sloužili i předcházejícím režimům, byla nucena přejít do výroby. Na jejich místa bylo velmi složité sehnat nové, aspoň částečně kvalifikované pracovní síly. Kvalitu práce NV v tomto období poznamenaly rovněž aktivity akčních výborů NF (čistky), které ve své personální politice zohledňovaly spíše „politickou příslušnost“ než byť jen elementární kvalifikaci.“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(Čechák, s. 60 – 61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... ČESKOSLOVENSKÁ VEŘEJNÁ 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    SPRÁVA V OBDOBÍ 1948 - 1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48960" y="1844640"/>
            <a:ext cx="787068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1950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–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osílení kompetencí vlád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1960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–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Ústava ČSSR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+ z. č.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36/1960</a:t>
            </a:r>
            <a:br>
              <a:rPr sz="2000"/>
            </a:br>
            <a:r>
              <a:rPr b="1" lang="cs-CZ" sz="2000" spc="-1" strike="noStrike" u="sng">
                <a:solidFill>
                  <a:srgbClr val="999933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1967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zákon č. 69/1967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koordinační a organizační funkce KNV)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1968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–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ústavní zákon o federaci ČSS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1969 – 2/1969 (kompetenční zákon)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kvalifikovanost malých obcí a „střediska perspektivního osídlení“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ozději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zákon č. 49/1982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</a:rPr>
              <a:t>b) ČSFR (1989 - 199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84104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zakotveny základy současného systému VS, včetně </a:t>
            </a:r>
            <a:r>
              <a:rPr b="1" lang="cs-CZ" sz="2200" spc="-1" strike="noStrike" u="sng">
                <a:solidFill>
                  <a:srgbClr val="006600"/>
                </a:solidFill>
                <a:uFillTx/>
                <a:latin typeface="Arial"/>
              </a:rPr>
              <a:t>přesahů</a:t>
            </a: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 s komunistickým obdobím</a:t>
            </a:r>
            <a:br>
              <a:rPr sz="2200"/>
            </a:b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ebyla přijata ústava ve formě jednoho ústavního dokumentu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ústavními zákony z r. 1990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a) zrušen čl. 4 socialistické ústavy (1960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b) zkráceno volební období 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národních výborů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a ukončena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jejich činnost (z. č. 294/1990 Sb., o čs. federaci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c) zakotvena základní práva - LZPS (23/1991 Sb.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d) zakotvena instituce Ústavního soudu</a:t>
            </a:r>
            <a:br>
              <a:rPr sz="18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    ...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990033"/>
                </a:solidFill>
                <a:latin typeface="Arial"/>
              </a:rPr>
              <a:t>... ÚZEMNÍ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 VEŘEJNÁ SPRÁVA</a:t>
            </a:r>
            <a:br>
              <a:rPr sz="3200"/>
            </a:b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    (1989 - 199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8066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-420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základ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územní správní jednotkou se stala </a:t>
            </a: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OBE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</a:t>
            </a:r>
            <a:r>
              <a:rPr b="1" lang="cs-CZ" sz="2200" spc="-1" strike="noStrike">
                <a:solidFill>
                  <a:srgbClr val="cc9900"/>
                </a:solidFill>
                <a:latin typeface="Arial"/>
              </a:rPr>
              <a:t>367/1990 Sb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zakotvil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a) státní správu a samosprávu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b) působnost orgánů obc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c) možnost sloučení / rozdělení obce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d) přechod práv a závazků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e) zrušil zákon o NV (z. č. 69/1967 Sb.)</a:t>
            </a: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cc0000"/>
                </a:solidFill>
                <a:latin typeface="Arial"/>
              </a:rPr>
              <a:t>ustaven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a) JEDNOSTUPŇOVÝ MODEL SAMOSPRÁVY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b) SMÍŠENÝ / SPOJENÝ MODEL V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pecifickou kategorií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„pověřený obecní úřad“</a:t>
            </a: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cc9900"/>
                </a:solidFill>
                <a:latin typeface="Arial"/>
              </a:rPr>
              <a:t>OKRESNÍ ÚŘADY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zákon ČNR č. 425/1990 Sb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cc9900"/>
                </a:solidFill>
                <a:latin typeface="Arial"/>
              </a:rPr>
              <a:t>DEKONCENTRÁT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Σ Σ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VS v období </a:t>
            </a:r>
            <a:br>
              <a:rPr sz="3200"/>
            </a:br>
            <a:r>
              <a:rPr b="1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polistopadové fede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49320" y="2174760"/>
            <a:ext cx="766116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3850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</a:rPr>
              <a:t>c) ČR (1993 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49320" y="1844280"/>
            <a:ext cx="79437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RECEPČNÍ ZÁKON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NR č. 4/1993 Sb.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292929"/>
                </a:solidFill>
                <a:latin typeface="Arial"/>
              </a:rPr>
              <a:t>(1) ÚZEMNÍ VEŘEJNÁ SPRÁVA</a:t>
            </a:r>
            <a:br>
              <a:rPr sz="2800"/>
            </a:br>
            <a:r>
              <a:rPr b="1" i="1" lang="cs-CZ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bce a okresy fungovaly do r. 2000 na základě novelizací legislativy z r. 1990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ÚSC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- ÚSTAVA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- FAKTICKÁ ZMĚNA AŽ V R. 1997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(ú. z. č.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347/1997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Sb.)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PRÁVNÍ POSTAVENÍ ALE SPECIFIKOVÁNO POZDĚJI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6600"/>
                </a:solidFill>
                <a:latin typeface="Arial"/>
              </a:rPr>
              <a:t>- PROBLÉM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bsa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1) Veřejná správ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2) Reforma veřejné správy </a:t>
            </a:r>
            <a:br>
              <a:rPr sz="2800"/>
            </a:b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a její východiska v Č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2) Reforma a modernizace veřejné správy </a:t>
            </a:r>
            <a:br>
              <a:rPr sz="2800"/>
            </a:b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v ČR – výsledky a trendy</a:t>
            </a:r>
            <a:br>
              <a:rPr sz="2800"/>
            </a:b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- 1989 - 1992, 1993 + </a:t>
            </a:r>
            <a:br>
              <a:rPr sz="2800"/>
            </a:b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- územní a ústřední správy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... KONCEPCE REFORMY VS (199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03280" y="1989000"/>
            <a:ext cx="7632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9900"/>
                </a:solidFill>
                <a:latin typeface="Arial"/>
              </a:rPr>
              <a:t>VÝCHODISK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ysoký stupeň centralizac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dekoncentráty a detašovaná pracoviště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ecentralizace vs. kvalifikovanost zaměstnanců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malá vzdělanost v záležitostech veřejné správy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u pracovníků i občanů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nízká úroveň řízení způsobuje tendenci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k aroganci moc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elký počet malých obcí a dezintegrační tenden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KONCEPCE REFORMY VS (199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c9900"/>
                </a:solidFill>
                <a:latin typeface="Arial"/>
              </a:rPr>
              <a:t>2 FÁZE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A </a:t>
            </a:r>
            <a:r>
              <a:rPr b="1" lang="cs-CZ" sz="2000" spc="-1" strike="noStrike">
                <a:solidFill>
                  <a:srgbClr val="cc9900"/>
                </a:solidFill>
                <a:latin typeface="Arial"/>
              </a:rPr>
              <a:t>3 VARIANTY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REFORMY ORGANIZACE ÚZEMNÍ V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všechn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: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DECENTRALIZACE a DEKONCENTRA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000" spc="-1" strike="noStrike">
                <a:solidFill>
                  <a:srgbClr val="990033"/>
                </a:solidFill>
                <a:latin typeface="Arial"/>
              </a:rPr>
              <a:t>zrušení OkÚ</a:t>
            </a: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ARIANTA 1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institucionální oddělení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cca 210 malých okresů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ARIANTA 2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institucionální spojení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383 nebo méně pověřených obcí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ARIANTA 3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institucionální oddělení na krajích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institucionální spojení na (pověř.) obcích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PŘEDNOSTI A NEGATIVA (</a:t>
            </a:r>
            <a:r>
              <a:rPr b="1" lang="cs-CZ" sz="1800" spc="-1" strike="noStrike">
                <a:solidFill>
                  <a:srgbClr val="cc9900"/>
                </a:solidFill>
                <a:latin typeface="Arial"/>
              </a:rPr>
              <a:t>DÚ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c9900"/>
                </a:solidFill>
                <a:latin typeface="Arial"/>
                <a:ea typeface="Arial"/>
              </a:rPr>
              <a:t>                               </a:t>
            </a:r>
            <a:r>
              <a:rPr b="0" i="1" lang="cs-CZ" sz="2800" spc="-1" strike="noStrike">
                <a:solidFill>
                  <a:srgbClr val="cc9900"/>
                </a:solidFill>
                <a:latin typeface="Arial"/>
                <a:ea typeface="Arial"/>
              </a:rPr>
              <a:t>(1948, 1960, 1990)</a:t>
            </a:r>
            <a:br>
              <a:rPr sz="2800"/>
            </a:br>
            <a:r>
              <a:rPr b="0" i="1" lang="cs-CZ" sz="2800" spc="-1" strike="noStrike">
                <a:solidFill>
                  <a:srgbClr val="292929"/>
                </a:solidFill>
                <a:latin typeface="Arial"/>
                <a:ea typeface="Arial"/>
              </a:rPr>
              <a:t>∑∑</a:t>
            </a:r>
            <a:r>
              <a:rPr b="1" i="1" lang="cs-CZ" sz="2800" spc="-1" strike="noStrike">
                <a:solidFill>
                  <a:srgbClr val="990033"/>
                </a:solidFill>
                <a:latin typeface="Arial"/>
                <a:ea typeface="Arial"/>
              </a:rPr>
              <a:t>VÝSLEDKY VS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993 - 1997 – 1999 -2000 - 2001 -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6611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... VYBRANÉ PRVKY REFOREM 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ÚZEMNÍ VS po roce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76000" y="1980720"/>
            <a:ext cx="713412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PRÁVNÍ POSTAVENÍ ÚŘEDNÍKŮ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NÁVRH ZÁKONA O ÚZEMNĚ SPRÁVNÍM ČLENĚNÍ STÁTU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FINANCOVÁ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... </a:t>
            </a:r>
            <a:br>
              <a:rPr sz="24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dosavadní reformní kroky přinesly daleko výraznější změny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v organizaci územní správy než v jejím obsahu“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(Matula, 2006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cc9900"/>
                </a:solidFill>
                <a:latin typeface="Arial"/>
                <a:ea typeface="Arial"/>
              </a:rPr>
              <a:t>∑∑</a:t>
            </a:r>
            <a:r>
              <a:rPr b="0" i="1" lang="cs-CZ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4000" spc="-1" strike="noStrike">
                <a:solidFill>
                  <a:srgbClr val="000000"/>
                </a:solidFill>
                <a:latin typeface="Arial"/>
                <a:ea typeface="Arial"/>
              </a:rPr>
              <a:t>VS 2003 +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49320" y="1844640"/>
            <a:ext cx="78706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9900"/>
                </a:solidFill>
                <a:latin typeface="Arial"/>
                <a:ea typeface="Arial"/>
              </a:rPr>
              <a:t>∑∑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Výsledná organizace </a:t>
            </a:r>
            <a:br>
              <a:rPr sz="3200"/>
            </a:b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územní státní s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90560" y="1604880"/>
            <a:ext cx="6769080" cy="52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(2) ÚSTŘEDNÍ STÁTNÍ SPRÁVA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48960" y="1916280"/>
            <a:ext cx="766116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292929"/>
                </a:solidFill>
                <a:latin typeface="Arial"/>
              </a:rPr>
              <a:t>OBDOBÍ 1993 - 1999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reforma separována od územní samosprávy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cc9900"/>
                </a:solidFill>
                <a:latin typeface="Arial"/>
              </a:rPr>
              <a:t>Koncepce reformy veřejné správy z roku 1999 a problémy ústřední sprá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a) vysoký stupeň centralizace na úrovni ministerstev  </a:t>
            </a:r>
            <a:br>
              <a:rPr sz="18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b) nízká úroveň horizontální koordinace </a:t>
            </a:r>
            <a:br>
              <a:rPr sz="18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1" lang="pl-PL" sz="1800" spc="-1" strike="noStrike">
                <a:solidFill>
                  <a:srgbClr val="292929"/>
                </a:solidFill>
                <a:latin typeface="Arial"/>
              </a:rPr>
              <a:t>podceňování významu regulačních mechanismů veřejné </a:t>
            </a:r>
            <a:r>
              <a:rPr b="1" lang="pl-P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292929"/>
                </a:solidFill>
                <a:latin typeface="Arial"/>
              </a:rPr>
              <a:t>správy z ústředí </a:t>
            </a:r>
            <a:br>
              <a:rPr sz="1800"/>
            </a:br>
            <a:r>
              <a:rPr b="1" lang="pl-P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292929"/>
                </a:solidFill>
                <a:latin typeface="Arial"/>
              </a:rPr>
              <a:t>d) diferencovanost organizačních struktur ministerstev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292929"/>
                </a:solidFill>
                <a:latin typeface="Arial"/>
                <a:ea typeface="Arial"/>
              </a:rPr>
              <a:t>→ </a:t>
            </a:r>
            <a:r>
              <a:rPr b="1" lang="pl-PL" sz="1800" spc="-1" strike="noStrike">
                <a:solidFill>
                  <a:srgbClr val="0000cc"/>
                </a:solidFill>
                <a:latin typeface="Arial"/>
                <a:ea typeface="Arial"/>
              </a:rPr>
              <a:t>DOPORUČENÍ ZPRACOVAT SAMOSTATNÝ PROGRA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...  ÚSTŘEDNÍ STÁTNÍ S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16280"/>
            <a:ext cx="766116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292929"/>
                </a:solidFill>
                <a:latin typeface="Arial"/>
              </a:rPr>
              <a:t>KONCEPCE Z ROKU 200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usnesení vlády č. 619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cc9900"/>
                </a:solidFill>
                <a:latin typeface="Arial"/>
              </a:rPr>
              <a:t>  </a:t>
            </a:r>
            <a:r>
              <a:rPr b="1" i="1" lang="cs-CZ" sz="2000" spc="-1" strike="noStrike">
                <a:solidFill>
                  <a:srgbClr val="cc9900"/>
                </a:solidFill>
                <a:latin typeface="Arial"/>
              </a:rPr>
              <a:t>Koncepce modernizace ústřední státní správy se </a:t>
            </a:r>
            <a:r>
              <a:rPr b="1" i="1" lang="cs-CZ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i="1" lang="cs-CZ" sz="2000" spc="-1" strike="noStrike">
                <a:solidFill>
                  <a:srgbClr val="cc9900"/>
                </a:solidFill>
                <a:latin typeface="Arial"/>
              </a:rPr>
              <a:t>zvláštním přihlédnutím k systemizaci a organizačnímu </a:t>
            </a:r>
            <a:r>
              <a:rPr b="1" i="1" lang="cs-CZ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i="1" lang="cs-CZ" sz="2000" spc="-1" strike="noStrike">
                <a:solidFill>
                  <a:srgbClr val="cc9900"/>
                </a:solidFill>
                <a:latin typeface="Arial"/>
              </a:rPr>
              <a:t>uspořádání správních úřadů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42920" y="3860640"/>
            <a:ext cx="7345440" cy="25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4563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... ÚSTŘEDNÍ SS A CÍLE VLÁDY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000" y="1841040"/>
            <a:ext cx="792612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jednou programovou prioritou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1" i="1" lang="cs-CZ" sz="1800" spc="-1" strike="noStrike">
                <a:solidFill>
                  <a:srgbClr val="cc0000"/>
                </a:solidFill>
                <a:latin typeface="Arial"/>
              </a:rPr>
              <a:t>zahájení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 modernizace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ústřední státní správy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, jejímž cílem je zefektivnit, racionalizovat a zvýšit 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horizontální koordinaci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 činností veřejné správy za širšího využití moderních technologií (elektronické veřejné správy) a manažerských metod řízení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“</a:t>
            </a: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od 1. 4. </a:t>
            </a:r>
            <a:r>
              <a:rPr b="1" lang="cs-CZ" sz="2200" spc="-1" strike="noStrike">
                <a:solidFill>
                  <a:srgbClr val="33cc33"/>
                </a:solidFill>
                <a:latin typeface="Arial"/>
              </a:rPr>
              <a:t>2004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do podzimu 2006 zastřešoval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řad vlády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cc9900"/>
                </a:solidFill>
                <a:latin typeface="Arial"/>
              </a:rPr>
              <a:t>KONCEPCE 2004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usnesení vlády z března 2004 (č. 237)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1800"/>
            </a:b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  „</a:t>
            </a:r>
            <a:r>
              <a:rPr b="1" i="1" lang="cs-CZ" sz="2200" spc="-1" strike="noStrike">
                <a:solidFill>
                  <a:srgbClr val="292929"/>
                </a:solidFill>
                <a:latin typeface="Arial"/>
              </a:rPr>
              <a:t>Postup a hlavní směry reformy a modernizace </a:t>
            </a:r>
            <a:r>
              <a:rPr b="1" i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200" spc="-1" strike="noStrike">
                <a:solidFill>
                  <a:srgbClr val="292929"/>
                </a:solidFill>
                <a:latin typeface="Arial"/>
              </a:rPr>
              <a:t>ústřední státní správy obsahující vyřešení gesce </a:t>
            </a:r>
            <a:br>
              <a:rPr sz="2200"/>
            </a:br>
            <a:r>
              <a:rPr b="1" i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200" spc="-1" strike="noStrike">
                <a:solidFill>
                  <a:srgbClr val="292929"/>
                </a:solidFill>
                <a:latin typeface="Arial"/>
              </a:rPr>
              <a:t>a organizačního zabezpečení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“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1) VEŘEJNÁ SPRÁVA </a:t>
            </a:r>
            <a:br>
              <a:rPr sz="3200"/>
            </a:b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   A JEJÍ VYME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773360"/>
            <a:ext cx="7661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Funkce státu vykonávány subjekty veřejné moci, mezi které patří </a:t>
            </a:r>
            <a:r>
              <a:rPr b="1" lang="cs-CZ" sz="2400" spc="-1" strike="noStrike">
                <a:solidFill>
                  <a:srgbClr val="990033"/>
                </a:solidFill>
                <a:latin typeface="Arial"/>
              </a:rPr>
              <a:t>i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veřejná správa.</a:t>
            </a:r>
            <a:br>
              <a:rPr sz="24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ROVINA: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200" spc="-1" strike="noStrike">
                <a:solidFill>
                  <a:srgbClr val="0000cc"/>
                </a:solidFill>
                <a:latin typeface="Arial"/>
              </a:rPr>
              <a:t>právní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správní právo)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200" spc="-1" strike="noStrike">
                <a:solidFill>
                  <a:srgbClr val="0000cc"/>
                </a:solidFill>
                <a:latin typeface="Arial"/>
              </a:rPr>
              <a:t>ekonomická</a:t>
            </a:r>
            <a:r>
              <a:rPr b="0" lang="cs-CZ" sz="2200" spc="-1" strike="noStrike">
                <a:solidFill>
                  <a:srgbClr val="0000cc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veřejná ekonomie a související disciplíny)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c) správně-vědní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ŽD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snaha specifikovat roli veřejné správy ve veřejném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sektoru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diskuze legitimity jejích činnost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... KONCEPCE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77104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modernizace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zlepšování současného systému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reforma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hlubší jednorázový proces měnící nebo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zásadním způsobem upravující vlastní systém</a:t>
            </a:r>
            <a:br>
              <a:rPr sz="2200"/>
            </a:b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 tomu </a:t>
            </a: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5 hlavních směrů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Směr A: Racionalizace procesů v ústřední státní správě </a:t>
            </a:r>
            <a:br>
              <a:rPr sz="18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Směr B: Zlepšení řízení v ústřední státní správě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Směr C: Zvýšení kvality ústřední státní správy</a:t>
            </a:r>
            <a:br>
              <a:rPr sz="18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Směr D. Implementace a zlepšování státní služby </a:t>
            </a:r>
            <a:br>
              <a:rPr sz="18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v ústředních správních úřadech</a:t>
            </a:r>
            <a:br>
              <a:rPr sz="18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Směr E. Racionalizace financování ústřední státní správ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s 15 konkrétními projekt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000" spc="-1" strike="noStrike">
                <a:solidFill>
                  <a:srgbClr val="292929"/>
                </a:solidFill>
                <a:latin typeface="Arial"/>
              </a:rPr>
              <a:t>v minulosti „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PROJEKTY</a:t>
            </a:r>
            <a:r>
              <a:rPr b="1" i="1" lang="cs-CZ" sz="2000" spc="-1" strike="noStrike">
                <a:solidFill>
                  <a:srgbClr val="292929"/>
                </a:solidFill>
                <a:latin typeface="Arial"/>
              </a:rPr>
              <a:t> A JEJICH STAV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 současnosti informace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ZD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... CÍLE SOUČASNÉ VLÁDY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841040"/>
            <a:ext cx="820872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programové prohlášení nové vlády</a:t>
            </a: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 (DÚ)</a:t>
            </a:r>
            <a:br>
              <a:rPr sz="2400"/>
            </a:b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92929"/>
                </a:solidFill>
                <a:latin typeface="Arial"/>
              </a:rPr>
              <a:t>od podzimu 2006 přešly pravomoce</a:t>
            </a:r>
            <a:r>
              <a:rPr b="1" lang="pl-PL" sz="2400" spc="-1" strike="noStrike">
                <a:solidFill>
                  <a:srgbClr val="cc9900"/>
                </a:solidFill>
                <a:latin typeface="Arial"/>
              </a:rPr>
              <a:t> </a:t>
            </a:r>
            <a:br>
              <a:rPr sz="2400"/>
            </a:br>
            <a:r>
              <a:rPr b="1" lang="pl-PL" sz="24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cc9900"/>
                </a:solidFill>
                <a:latin typeface="Arial"/>
              </a:rPr>
              <a:t>zpět na MV ČR 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(usnesení vlády č. 1232)</a:t>
            </a:r>
            <a:br>
              <a:rPr sz="1800"/>
            </a:b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Zpráva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za II. pololetí roku 2006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Motto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„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Vzhledem k tomu, že v minulých letech došlo ke stabilizaci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   územní samosprávy, zrušení okresních úřadů a v rámci nového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   územně správního členění státu se vytvořily podmínky pro výkon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   státní správy v území, 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lze považovat reformu veřejné správy 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   ve smyslu zásadní systémové změny veřejné správy za 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   skončenou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. 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V současnosti je žádoucí zaměřit se na 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   zkvalitnění a zefektivnění činnosti veřejné správy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. Soustředit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   se na zavádění inovativních přístupů a nových trendů organizace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  a fungování veřejné správy.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“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0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... CÍLE SOUČASNÉ VLÁDY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48960" y="1917720"/>
            <a:ext cx="7661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cc9900"/>
                </a:solidFill>
                <a:latin typeface="Arial"/>
              </a:rPr>
              <a:t>... Ze zprávy za 2. pololetí 2006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EFEKTIVNĚNÍ SE MÁ SOUSTŘEDIT N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zvýšení kvality regulac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zlepšení kvality řízení a managementu v úřadech  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veřejné správ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zefektivnění řízení lidských zdrojů a vzděláván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ve veřejné správě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zvýšení transparentnosti a otevřenosti veřejné správ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intenzivní využívání informačních technologií a rozvoj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eGovernmentu</a:t>
            </a: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"V roce 2007 bude k MV přičleněna činnost zanikajícího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Ministerstva informatiky.“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...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 1. 6. 2007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443640" y="2205000"/>
            <a:ext cx="2590920" cy="24940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... CÍLE SOUČASNÉ VLÁDY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48960" y="1699920"/>
            <a:ext cx="7661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c9900"/>
                </a:solidFill>
                <a:latin typeface="Arial"/>
              </a:rPr>
              <a:t>STRATEGIE „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SMART ADMINISTRATION</a:t>
            </a:r>
            <a:r>
              <a:rPr b="1" i="1" lang="cs-CZ" sz="2400" spc="-1" strike="noStrike">
                <a:solidFill>
                  <a:srgbClr val="cc9900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vláda schválila v červenci 2007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strategie pro čerpání prostředků </a:t>
            </a:r>
            <a:br>
              <a:rPr sz="18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ze strukturálních fondů (2007 - 2013)</a:t>
            </a:r>
            <a:br>
              <a:rPr sz="1800"/>
            </a:b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ff"/>
                </a:solidFill>
                <a:latin typeface="Arial"/>
              </a:rPr>
              <a:t>VIZE 2015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37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292929"/>
                </a:solidFill>
                <a:latin typeface="Arial"/>
              </a:rPr>
              <a:t>Veřejná správa v ČR je primárně pojata jako služba občanovi, </a:t>
            </a:r>
            <a:br>
              <a:rPr sz="1500"/>
            </a:br>
            <a:r>
              <a:rPr b="0" i="1" lang="cs-CZ" sz="1500" spc="-1" strike="noStrike">
                <a:solidFill>
                  <a:srgbClr val="292929"/>
                </a:solidFill>
                <a:latin typeface="Arial"/>
              </a:rPr>
              <a:t>naplňuje principy dobrého vládnutí, funguje efektivně a výkonně. 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37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292929"/>
                </a:solidFill>
                <a:latin typeface="Arial"/>
              </a:rPr>
              <a:t>Veřejné služby jsou klientsky orientovány, naplňují očekávání </a:t>
            </a:r>
            <a:br>
              <a:rPr sz="1500"/>
            </a:br>
            <a:r>
              <a:rPr b="0" i="1" lang="cs-CZ" sz="1500" spc="-1" strike="noStrike">
                <a:solidFill>
                  <a:srgbClr val="292929"/>
                </a:solidFill>
                <a:latin typeface="Arial"/>
              </a:rPr>
              <a:t>občanů, flexibilně reagují na jejich potřeby a fungují hospodárně. 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292929"/>
                </a:solidFill>
                <a:latin typeface="Arial"/>
              </a:rPr>
              <a:t>Veřejná správa a veřejné služby přispívají ke zvyšování konkuren-</a:t>
            </a:r>
            <a:br>
              <a:rPr sz="1500"/>
            </a:br>
            <a:r>
              <a:rPr b="0" i="1" lang="cs-CZ" sz="1500" spc="-1" strike="noStrike">
                <a:solidFill>
                  <a:srgbClr val="292929"/>
                </a:solidFill>
                <a:latin typeface="Arial"/>
              </a:rPr>
              <a:t>ceschopnosti české ekonomiky a zvyšování kvality života obyvatel ČR.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ff"/>
                </a:solidFill>
                <a:latin typeface="Arial"/>
              </a:rPr>
              <a:t>GLOBÁLNÍM CÍL: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Prostřednictvím zefektivnění fungování veřejné správy a veřejných </a:t>
            </a:r>
            <a:br>
              <a:rPr sz="1600"/>
            </a:b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služeb podpořit socioekonomický růst ČR a zvýšit kvalitu života </a:t>
            </a:r>
            <a:br>
              <a:rPr sz="1600"/>
            </a:b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občanů.“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3399"/>
                </a:solidFill>
                <a:latin typeface="Arial"/>
              </a:rPr>
              <a:t>SOUČASNÝ </a:t>
            </a:r>
            <a:r>
              <a:rPr b="0" lang="cs-CZ" sz="16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STAV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7812000" y="4751280"/>
            <a:ext cx="1001880" cy="206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72720"/>
            <a:ext cx="9144000" cy="170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cc9900"/>
                </a:solidFill>
                <a:latin typeface="Arial"/>
              </a:rPr>
              <a:t>DÚ PRO SEMINÁŘ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00000" y="1844640"/>
            <a:ext cx="766152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ZOPAKOVAT PŘEDNÁŠKU + V NÍ UVEDENÉ DÚ</a:t>
            </a:r>
            <a:br>
              <a:rPr sz="18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(+ TŘI PŘÍKLADY STÁTNÍ SPRÁVY A SAMOSPRÁVY OBCE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ZPRACOVAT VE FORMĚ ESEJE + PŘIPRAVIT SI NĚKOLIK BODŮ K PROMLUVĚ NA TÉMA </a:t>
            </a:r>
            <a:br>
              <a:rPr sz="18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PODLE NÍŽE UVEDENÉHO KLÍČ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Téma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: </a:t>
            </a:r>
            <a:r>
              <a:rPr b="1" lang="cs-CZ" sz="1800" spc="-1" strike="noStrike">
                <a:solidFill>
                  <a:srgbClr val="0000cc"/>
                </a:solidFill>
                <a:latin typeface="Arial"/>
              </a:rPr>
              <a:t>1) ORGÁNY OBCE A VYBRANÉ VÝSLEDKY JEJICH </a:t>
            </a:r>
            <a:r>
              <a:rPr b="1" lang="cs-CZ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cc"/>
                </a:solidFill>
                <a:latin typeface="Arial"/>
              </a:rPr>
              <a:t>        ČINNOSTI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  </a:t>
            </a:r>
            <a:br>
              <a:rPr sz="18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1800" spc="-1" strike="noStrike" u="sng">
                <a:solidFill>
                  <a:srgbClr val="292929"/>
                </a:solidFill>
                <a:uFillTx/>
                <a:latin typeface="Arial"/>
              </a:rPr>
              <a:t>konkrétní příklad vaší domovské obce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včetně doprovodných informací o obci – počet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obyvatel, příjmy a výdaje rozpočtu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2) ORGÁNY KRAJE A VYBRANÉ VÝSLEDKY ČINNOSTI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cs-CZ" sz="1800" spc="-1" strike="noStrike" u="sng">
                <a:solidFill>
                  <a:srgbClr val="292929"/>
                </a:solidFill>
                <a:uFillTx/>
                <a:latin typeface="Arial"/>
              </a:rPr>
              <a:t>konkrétní příklad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– analogie 1) pro kraje) </a:t>
            </a: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SEM. SKUPINA 1)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SEM. SKUPINA 2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cc"/>
                </a:solidFill>
                <a:latin typeface="Arial"/>
              </a:rPr>
              <a:t>Téma 1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Příjmení B až P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Příjmení A až 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Téma 2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Příjmení O až Z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Příjmení P až Z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a) Právní vymezení veřejné s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8120" y="2060640"/>
            <a:ext cx="7661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-438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PECIFIČNOST </a:t>
            </a:r>
            <a:r>
              <a:rPr b="1" lang="cs-CZ" sz="2400" spc="-1" strike="noStrike" u="sng">
                <a:solidFill>
                  <a:srgbClr val="292929"/>
                </a:solidFill>
                <a:uFillTx/>
                <a:latin typeface="Arial"/>
              </a:rPr>
              <a:t>VEŘEJNÉ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SPRÁV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eřejnoprávní charakter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subjektu veřejného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ravování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bjekt správ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„veřejné záležitosti“ legitimované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„veřejným zájmem“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ústavnost a zákonnost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a) i b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990033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990033"/>
                </a:solidFill>
                <a:latin typeface="Arial"/>
              </a:rPr>
              <a:t>veřejnost“ / „veřejnoprávnost“ spravová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900000" y="2997360"/>
            <a:ext cx="935280" cy="3240000"/>
            <a:chOff x="900000" y="2997360"/>
            <a:chExt cx="935280" cy="3240000"/>
          </a:xfrm>
        </p:grpSpPr>
        <p:sp>
          <p:nvSpPr>
            <p:cNvPr id="101" name=""/>
            <p:cNvSpPr/>
            <p:nvPr/>
          </p:nvSpPr>
          <p:spPr>
            <a:xfrm>
              <a:off x="900000" y="2997360"/>
              <a:ext cx="358920" cy="0"/>
            </a:xfrm>
            <a:prstGeom prst="line">
              <a:avLst/>
            </a:prstGeom>
            <a:ln w="2844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000" y="4076640"/>
              <a:ext cx="358920" cy="0"/>
            </a:xfrm>
            <a:prstGeom prst="line">
              <a:avLst/>
            </a:prstGeom>
            <a:ln w="2844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000" y="5445000"/>
              <a:ext cx="358920" cy="0"/>
            </a:xfrm>
            <a:prstGeom prst="line">
              <a:avLst/>
            </a:prstGeom>
            <a:ln w="2844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00000" y="2997360"/>
              <a:ext cx="0" cy="3240000"/>
            </a:xfrm>
            <a:prstGeom prst="line">
              <a:avLst/>
            </a:prstGeom>
            <a:ln w="2844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00000" y="6237360"/>
              <a:ext cx="935280" cy="0"/>
            </a:xfrm>
            <a:prstGeom prst="line">
              <a:avLst/>
            </a:prstGeom>
            <a:ln w="28440">
              <a:solidFill>
                <a:srgbClr val="29292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... Co správní právo doporuču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9000"/>
            <a:ext cx="8015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ymezovat veřejnou správ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negativně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vs. soukromá správa, tripartita moci, vláda?)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formálně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(organizačně / institucionálně /personálně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instituce + pravomoc + působnost</a:t>
            </a:r>
            <a:br>
              <a:rPr sz="24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tátní správa a samo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) Veřejná ekonomie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 veřejná s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773360"/>
            <a:ext cx="76611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EN literatura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„vláda“</a:t>
            </a:r>
            <a:br>
              <a:rPr sz="2400"/>
            </a:b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33"/>
                </a:solidFill>
                <a:latin typeface="Arial"/>
              </a:rPr>
              <a:t>úhly pohledu na veřejnou správu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subjekt řídící / spravující veřejný sektor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roducent veřejných statků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specifický prostor pro uplatňování osobních zájmů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byrokrat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subjekt ovlivňující selhávání veřejného sektoru </a:t>
            </a:r>
            <a:br>
              <a:rPr sz="20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...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mohou se překrývat, vždy důraz na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EFEKTIVNOS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) Veřejná ekonomie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 veřejná s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773360"/>
            <a:ext cx="76611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EFEKTIVNOST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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účinnost, účelnost a hospodárnost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REGULAC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ve vztahu k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TRŽNÍM SELHÁNÍ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VLÁDNÍM SELHÁNÍ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intervence a předpokládatelnost změn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jasnost a realizovatelnost cílů veřejných politik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realizace a obtíže vyjednáván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nákladnost byrokratického aparátu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rent-seeking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koncept principála – agenta</a:t>
            </a: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000" spc="-1" strike="noStrike">
                <a:solidFill>
                  <a:srgbClr val="292929"/>
                </a:solidFill>
                <a:latin typeface="Arial"/>
              </a:rPr>
              <a:t>Tendence veřejného sektoru k neefektivnost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2) REFORMA VEŘEJNÉ S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REFORMA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=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ff00ff"/>
                </a:solidFill>
                <a:latin typeface="Arial"/>
              </a:rPr>
              <a:t>něco zlepšit, zdokonalit nebo odstranit </a:t>
            </a:r>
            <a:r>
              <a:rPr b="0" lang="cs-CZ" sz="26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ff00ff"/>
                </a:solidFill>
                <a:latin typeface="Arial"/>
              </a:rPr>
              <a:t>problémy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mnoho aspektů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politický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, právní, institucionální, technický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finanční, sociální, psychologický ...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centralizac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vs.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ekoncentrace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ecentralizace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princip subsidiarity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fáz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teoretická vs. praktická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přípravy vs. realiza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</a:rPr>
              <a:t>Předmět reformy V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56000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6:40:31Z</dcterms:created>
  <dc:creator>77120</dc:creator>
  <dc:description/>
  <dc:language>en-US</dc:language>
  <cp:lastModifiedBy>77120</cp:lastModifiedBy>
  <dcterms:modified xsi:type="dcterms:W3CDTF">2008-10-03T06:05:11Z</dcterms:modified>
  <cp:revision>440</cp:revision>
  <dc:subject/>
  <dc:title>Snímek 1</dc:title>
</cp:coreProperties>
</file>