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435-9A2E-4B55-ABEC-9D356D6E9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spěvky na bydlení – nejchudší domácnosti (až 100% nájemného + 80% krytí daní a poplatků). Přiměřenost výše nájemného stanovuje obe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ivatizace bytů v 80. letech – cílem bylo přejít od nájmu k soukromému vlastnictví bytů. Zhoršení dostupnosti bydlen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09EA-A319-4AEB-97F7-AE6E8388E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B1D-18BA-44FD-941D-35FC5FF67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jednodušeně řešeno platí, že nárok na příspěvek na bydlení máte ve chvíli, pokud na úhradu bydlení připadá minimálně 30% vašich příjmů (v Praze se pak jedná minimálně o 30% příjmy). Současně ale platí, že těchto 30% nesmí být vyšší, než jsou zákonem stanovené náklady na bydlení. Jinými slovy, pokud si člověk s příjmem 30 tisíc korun pořídí bydlení ve vile, kde bude platit nájem za 20.000 korun, stát mu moc nepomůž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oučástí příjmu je i příspěvek na dítě at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5F2-C3EC-4CFD-85AF-F6B6887F0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abulce chybí rozlišení zda-li se jedná o byt v osobním vlastnictví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117A-5716-4032-A040-512E22575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gramy a podpory jsou otevírány na definované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E13-D205-47DD-A78F-42FBE470B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D78-CCEB-4AF5-AABE-3AB5EE0BB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 Postkomunistických zemích je ve srovnání se západními zeměmi více krátkodobých programů než dlouhodobé podpory – programy často bývají nedomyšlené, vytváří se prostor pro korup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spěvek na bydlení je v Německu poskytován 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vou podobách a to jako příspěvek na nájemné a příspěvek na pokrytí náklad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ynoucích z vlastnictví a pořízení si vlastního bydl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2E4-59B5-47C8-B8A1-E6FA6D32B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C12-2712-4A29-9617-0D148257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AEC-1DE3-43D4-952A-0E48383D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1C1-3E68-4272-B1D3-E249910A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CDE-D449-45C7-ACCD-610B13DB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F29-B6D4-48AE-B3CF-2F964AC7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750-9B15-420D-A729-C4431149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25B-3AA7-4B87-9975-8B28A399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09D-3FC6-40BC-BFB7-CA99DB9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832-9556-4E7A-8BFD-1F13F71B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825-0EDF-4C4A-B3E5-F1D587D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04-3628-46A2-A0AF-EFC9E0F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8FC-9284-4FB4-A0D2-8B0616C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25C8-2623-4B32-9169-A2006E37E8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eřejná podpora byd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Základy veřejných financí a veřejné sprá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UNI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ora bydlení v zahranič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ká Britá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ndence zavádění podpory pro příjmově přesně určené domác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hypotečních úvě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še nájemné stanovuje ob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ýdaje na podporu bydlení na  obyvatele v EU za rok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78040" y="1700280"/>
            <a:ext cx="7439040" cy="470520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5520600" y="6103800"/>
            <a:ext cx="34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: Eurost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notky: PPS (Standard kupní sí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táz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se zohledňuje při žádosti o příspěvek na byd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ísto bydliště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rmativní nákla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še příjmu za poslední 4 ro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iné příspěv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 které zemi je možné získat příspěvek na bydlení za účelem pokrytí nákladů plynoucích z vlastnictví a pořízení si vlastního byd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ěmec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izozems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eská republ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tázky a odpově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se zohledňuje při žádosti o příspěvek na byd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ísto bydliště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ormativní nákla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še příjmu za poslední 4 ro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Jiné příspěv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 které zemi je možné získat příspěvek na bydlení za účelem pokrytí nákladů plynoucích z vlastnictví a pořízení si vlastního byd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ěmec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izozems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eská republ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pěvek na byd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rčeno pro vlastníky/nájemníky s nízkými pří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inisterstvo prací a sociálních vě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ýše příspě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životní minimum rodiny(jednotlivc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byd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mínky pro ná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3148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áklady na bydlení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esahují částku součin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rozhodného příjm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rodině a koeficientu 0,30 (na území hlavního města Prahy koeficientu 0,3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čin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rozhodného příjm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rodině a koeficientu 0,30 (na území hlavního města Prahy koeficientu 0,35) není vyšší než částk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ormativních nákl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 bydle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 bytě/domě musí mít žadatel zřízený trvalý poby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rmativní ná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čet osob v domác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ísta bydliště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ruhu bydlení (nájemní/osobní vlastnictví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bdélník 5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566640" y="0"/>
            <a:ext cx="1020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še příspěvku na bydlení a jeho podíl na celkový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ích za bydlení za roky 2004 až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czso.cz/csu/2013edicniplan.nsf/89dfc431a7263ae6c1257a63004b12d9/7698ad3030e8f166c1257b0b00513f9e/Obsah/0.850?OpenElement&amp;FieldElemFormat=gif"/>
          <p:cNvPicPr/>
          <p:nvPr/>
        </p:nvPicPr>
        <p:blipFill>
          <a:blip r:embed="rId1"/>
          <a:stretch/>
        </p:blipFill>
        <p:spPr>
          <a:xfrm>
            <a:off x="1116000" y="1717560"/>
            <a:ext cx="6840720" cy="473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116480" y="6090840"/>
            <a:ext cx="202716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droj: Č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bdélník 5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566640" y="0"/>
            <a:ext cx="1020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še nákladů na bydlení a podíl domácností pobírajíc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spěvky na bydlení za roky 2004 až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16480" y="6090840"/>
            <a:ext cx="202716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droj: Č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czso.cz/csu/2013edicniplan.nsf/89dfc431a7263ae6c1257a63004b12d9/7698ad3030e8f166c1257b0b00513f9e/Obsah/2.6CA?OpenElement&amp;FieldElemFormat=gif"/>
          <p:cNvPicPr/>
          <p:nvPr/>
        </p:nvPicPr>
        <p:blipFill>
          <a:blip r:embed="rId1"/>
          <a:stretch/>
        </p:blipFill>
        <p:spPr>
          <a:xfrm>
            <a:off x="1258920" y="1700280"/>
            <a:ext cx="64911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9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ovéPole 4"/>
          <p:cNvSpPr/>
          <p:nvPr/>
        </p:nvSpPr>
        <p:spPr>
          <a:xfrm>
            <a:off x="544320" y="5951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: MP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933560"/>
          <a:ext cx="8064720" cy="3943440"/>
        </p:xfrm>
        <a:graphic>
          <a:graphicData uri="http://schemas.openxmlformats.org/drawingml/2006/table">
            <a:tbl>
              <a:tblPr/>
              <a:tblGrid>
                <a:gridCol w="2886120"/>
                <a:gridCol w="1806480"/>
                <a:gridCol w="1762200"/>
                <a:gridCol w="1609920"/>
              </a:tblGrid>
              <a:tr h="738000">
                <a:tc rowSpan="2"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ikost ob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  <a:tc gridSpan="2"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 na bydlení použité pro výpočet dáv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vyplacených dávek celk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tiv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teč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9 999 obyv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 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 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00 – 49 999 obyv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 6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 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 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 000 – 99 999 obyv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 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 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 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 000 a více obyva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 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 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 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 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46800" rIns="468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áklady na bydlení a počet vyplácených dáv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y a podp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K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átní fond rozvoje bydl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inisterstvo pro místní rozvoj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inisterstvo životního prostře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FOR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výhodněné úvě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áruky za splác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krácení vázací dob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 programů a podp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átní fond rozvoje bydl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Úvěry na výstavbu nájemních bytů,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Úvěry na opravy a modernizace domů (Panel 2013+) , Záruky za splácení úvěrů na výstavbu nájemních bytů, Povodňové programy, Úvěr 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inisterstvo pro místní rozvoj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dpora regenerace panelových sídlišť, Podpora oprav domovních olověných rozvod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inisterstvo životního prostře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elená úsporá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bdélník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ora bydlení v zahranič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Němec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dresný příspěvek na bydlení (Wohngel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j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ní vlastnictv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Nizozemsk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spěvek na nájemn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rážky za kvalitu bydl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še stanovena podle příjmové kategorie a velikosti nájemnéh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1:27:35Z</dcterms:created>
  <dc:creator>Rosta</dc:creator>
  <dc:description/>
  <dc:language>en-US</dc:language>
  <cp:lastModifiedBy>Rosta</cp:lastModifiedBy>
  <dcterms:modified xsi:type="dcterms:W3CDTF">2013-10-01T08:00:48Z</dcterms:modified>
  <cp:revision>26</cp:revision>
  <dc:subject/>
  <dc:title>Veřejná podpora bydlení</dc:title>
</cp:coreProperties>
</file>