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8321-63F6-42FB-81DF-ABB3A15BE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7769-934B-452E-9A07-FCAE7A81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7805-438B-4046-BCF7-535E760A8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C974-176E-4CA8-B418-01C9F7F5E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E36F-FD67-49C1-A676-E0020E3C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2981-EF41-42F4-B6F5-00F7E013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FD9E-72DE-4E00-B1D2-1E73616C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3822-E1F0-4FF5-8710-76466DF5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B137-A28E-439F-A7DB-03F00CCE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628C-F92C-4279-8D90-57272BB5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0369-5A6A-4823-9F14-17CAE52E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495E-1EC6-449F-AB8E-4CF11DB9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3C4C-81D3-4C88-BD76-BEC39B390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6-03-30T11:54:41Z</dcterms:modified>
  <cp:revision>167</cp:revision>
  <dc:subject/>
  <dc:title>Lecture 1:</dc:title>
</cp:coreProperties>
</file>