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EBBD-D14F-45F9-B6A2-F19ED7AE4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499D-92D1-4BBE-BFFD-6E4606E68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2517-898B-4FC0-BC57-C484386FC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8ADD-AA96-4CF9-AA8B-4DAE147BB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29DF-0B47-4CE5-AE27-990D6836A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A388-1F5B-4B60-AB47-445C87B94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C0A7-9920-497E-97DE-536F817D6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CC67-9905-42B3-AE60-05CE82A6C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EF22-3F1C-4E6B-97A3-E72E49304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8A02-B764-4B21-829B-FCF972D9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12CA-8A38-4069-9C83-84867A63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5A26-A254-434C-818B-329C5C3C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0EC3F-6955-4FAF-BE2F-3915912EDF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tha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3 exercise 3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bsit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L takes on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14300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used two different ways - either meaning Cze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ed if the subjects of the clauses are not identical)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hen used in the sense of Czech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b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usually (but not always) follow it provid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clause (the first part) contains present tense, present perfect or future tens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, however, the main clause (the first part) contains past tens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ually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for my system to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so that my system can (may)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for him to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so that he can (may)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 for us to be able to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 we can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523880"/>
            <a:ext cx="739116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for his students to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so that his students could (might)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for the others to be able to read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so that the others could read the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ould no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ually follow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d the clause preceding it contains past tense and the speaker wants to express a negative in the clause follow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for the children not to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so that the children should not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for it not to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so that it should not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9717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for his processor not to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so that his processor should not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for the assignment not to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so that the assignment should not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ta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learnt he had not received my message, I was taken aback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aražen, překvap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the bloody lemon away! I can’t bear the sight of it any mo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nést pryč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ried to take me in, but did not succeed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napálit, oklam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ing into account my previous experience, he decided to hire 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ít v úvah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are required to take their shoes off before entering the computer hall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yzout, od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arded the plane shortly before it took off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létn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had better take on some more people because otherwise we will not meet the deadlin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ibrat - zaměst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34928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oing the job for 10 years he wanted someone to take (it) over (from him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evzí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much disk space does the program take up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bírat - o rozlo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s aside a good deal of money every month to be able to buy a more powerful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klád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the book back on the shelf after you are done with i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át zpět, vrát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down everything I say, plea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sat, z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act I have to know all those commands puts me off from working with that syste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dra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752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rather you did not put on that jacket. Look how dirty it i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bléci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his computer caught fire, he did his best to put it (the fire) 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has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put me through to Mr. Smith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pojit s - při telefonová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ismantling the device, do you think they will ever be able to put it togethe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England, we were searching for someone to put us u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bytovat, většinou dočasně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put up with the situation and make the best of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míři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4-20T13:18:32Z</dcterms:modified>
  <cp:revision>195</cp:revision>
  <dc:subject/>
  <dc:title>Lecture 1:</dc:title>
</cp:coreProperties>
</file>