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EE7B2-282D-421B-8ED8-5D682C3EA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FA09D-D9AF-4685-8A44-52386DC60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6AB04-81EF-4517-8871-90869D732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7A40C-BE30-42DC-A20C-A6E1FDE88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A6345-6E25-419F-8D83-9C0D05AA3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307AE-2A5B-4AFD-8B5E-A6B96F0AC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3D116-C9C9-4DB8-A44C-B0C2C8A94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A9413-3AAD-4E57-811C-4B2E7EFA2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A13DF-8D2E-4538-9FDC-EF6D500D1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B9A14-93B0-455C-B616-427DAF68C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AD7A5-3FA3-442D-98F6-C697C40B5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4FBD9-5616-4594-8F60-D0C325AA3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7E2E0-13B9-4E8B-AB41-1782918469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0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ditional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ditional conjun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zero condi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rst condi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cond condi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ird condi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ixed condi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ixed Conditio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127332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 the combination of unreal conditions in the past and unreal present or future resul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ditional conjunction + past perfect, … would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ould … + conditional conjunction + past per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computer had not caugh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virus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y disk would not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mpty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be able to sha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y data with the others now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connec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y computer to the network and configured it right yester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not m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a while ago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not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o frustrated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dditional Notes - Special Case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09480" y="2057400"/>
            <a:ext cx="79250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ense shift in conditional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woul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ake an umbrella in cas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rain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repli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would not p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im unles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di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is work proper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 + would (expressing politeness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you would let me use your CD writer, I would really appreciate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t would really be helpful if you would rent some disk space for us with an AS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dditional Notes - Special Case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9480" y="1905120"/>
            <a:ext cx="79250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s if, as though, like (informal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looks as if (as though, like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does 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know chalk from chee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keyboar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ooke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s if (as though, like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wa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out to go into pieces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ense shif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talk to him as if (as though, like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e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 old man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econd conditional - he is not ol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r keyboard looks as if (as though, like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y brother had play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it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my brother did not play with 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95 exercise 12.4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99 exercise 13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ultimedia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lay MP3 Fi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Tricks to MPEG’s Suc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ditional Conjuction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787400"/>
            <a:ext cx="8381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jestli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že, kdyby (depending on the type of conditional)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unless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- jestliže ne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provided/providing (that)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- za předpokladu, že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ppose/supposing (that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za předpokladu, předpokládejme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s long a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pokud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n condition th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pod podmínkou, že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 ca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pro případ, že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Zero Conditio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838080"/>
            <a:ext cx="8382240" cy="56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 conditions which are always true. Conditional conjunction is usually translated into Czech as 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estliž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kdy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ditional conjuction + present tense, present t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resent tense + conditional conjuction + present t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overcloc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processor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produc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ore heat than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do not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y antivirus software, you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ata is 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af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ata is 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afe unles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ome antivirus softwa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pu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alt on ice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melt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o not prepa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asta right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boil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 for more than 12 minu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rst Conditional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re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álná podmínka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1371600"/>
            <a:ext cx="8382240" cy="50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 conditions usually probable and related to the future. Conditional conjunction is usually translated into Czech as 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estliž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kdy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uture structu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ditional conjunction + present tense, future t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uture tense + conditional conjunction + present t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utu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co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a lesson without your homework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will be consider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s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rst Conditional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re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álná podmínka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1501920"/>
            <a:ext cx="8382240" cy="52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ovid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high bandwidth connection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will be able t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ownload large amounts of data without any proble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s long 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want t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onnect to the Internet via the modem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will have t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odify its initialization str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ill tak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 umbrella with me in cas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rain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tol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you to perform the query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certainly wan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you to do s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manag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connect to the network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certainly filled ou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for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uld 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ve debugged the program unles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ha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s source co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cond Conditional (nereálná podmínka v přítomnost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63836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 conditions which are improbable (or impossible) in the present or future. Conditional conjunction is usually translated into Czech as “kdyby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ditional conjuction + past tense, … would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ould … + conditional conjuction + past t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u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different refresh rate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is monitor would 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be flicker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understan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very word he says provid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spok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little more slow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cond Conditional (nereálná podmínka v přítomnost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1866960"/>
            <a:ext cx="8381880" cy="31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bough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full version of the program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coul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se all its featu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t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rd item of the array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e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string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would not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ossible to assign it to this type of variabl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Suppose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knew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how to use logical operators,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would he mak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such a mista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Suppose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won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a million. What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would you do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</a:t>
            </a:r>
            <a:r>
              <a:rPr b="1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were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 you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chec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the syntax of that source co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ird Conditional (nereálná podmínka v minulost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167004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 unreal condition in the past. Conditional conjunction is usually translated into Czech as “kdyby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ditional conjunction + past perfect, … would + past infinitive (without to)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ould + past infinitive (without to) ... + conditional conjunction + past per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studi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rd enough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have pas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ex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wouldn’t have bur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port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had turn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computer off before plugging in the prin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ird Conditional (nereálná podmínka v minulost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2136600"/>
            <a:ext cx="8381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ast night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compiler wouldn’t have repor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syntax error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programmer had termina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very line with a semicol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have u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ls -l command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wan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know the contents of the directory with all file attribu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had know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hat punishment you would get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ould you have owned up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the de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2-08T15:03:15Z</dcterms:modified>
  <cp:revision>124</cp:revision>
  <dc:subject/>
  <dc:title>Lecture 1:</dc:title>
</cp:coreProperties>
</file>