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FF57F-3032-4F41-A8B8-5A0A0BEBC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AAD942-8028-4667-8621-BD64A9054D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A47CCE-89EE-47E2-A157-E19E61A771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E3B61C-E19A-4531-9BD1-D001219B98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840EB-CFA2-4878-BC2C-17F811334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E3132-7CA3-43A0-BC03-F7F51F9AF1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57D6C-FBEF-464D-96A0-527DB3B04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5B549C-0AC2-4F3E-9C4B-683FF5AF0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972F1-DF12-4BE6-AFAA-65D0CBBAB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B3A41-2DCF-4471-A57F-DD0B62CAB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3F840-6089-4C80-8395-AB24886B2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FE2B3-CE00-4E89-AEC4-CB19623F86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D57B7-2CAE-44D0-8050-AC93563B8A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5"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8"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71"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50" name=""/>
          <p:cNvSpPr/>
          <p:nvPr/>
        </p:nvSpPr>
        <p:spPr>
          <a:xfrm>
            <a:off x="380880" y="199080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609480" y="1143000"/>
            <a:ext cx="7925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Hmm, in that case, I’ve got to go on cleaning toil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3"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5"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3"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6-04-27T12:57:28Z</dcterms:modified>
  <cp:revision>205</cp:revision>
  <dc:subject/>
  <dc:title>Lecture 1:</dc:title>
</cp:coreProperties>
</file>