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6BB0-C5A4-4671-B881-CAA027D48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AF6D-134F-46DB-BB5B-84DA902C8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4534-5207-497A-B59E-BB374671B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8D25-3A53-4D40-8A0D-EDB11B3F0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A9D43-A9EA-4E83-B732-F3EE47897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F38C-FBA4-4AA9-B59E-4C6F65B53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5F47-0BC4-4B2A-96CC-4384A7D35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C694-94D5-4063-BE0B-6B347A21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BCC6-B74F-4032-8E2B-9732ECAA7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AC15-2BF3-4171-ADC1-A27AF21F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C551-2083-4838-871E-5DBE954A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32FE-00ED-45EA-BD0F-80A9EDDC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8BE0B-23E6-4420-AFF3-A5DBB5C27E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s / were, h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mparatives, superlatives (adjectives + adverb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 … as …, so … 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295280"/>
            <a:ext cx="8229600" cy="54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r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processo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st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girl’s legs a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airier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ce my computer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re powerful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s, he envies 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my comput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r more amusing 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y girlfriend because it nev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alks back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I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uch more useful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n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t has ever been befo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ong !!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gave me a bigger sum of mone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perl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905120"/>
            <a:ext cx="822960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ed by means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est suffi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 short adjectives – one or, sometimes (but not always!), two syllables) and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long on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easiest wa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going about it is by upgrading you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the girl with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 smoot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egs I have ever m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modem established the connection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bsolutely the highes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possible transfer r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find her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most fascinat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of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mparatives and Superlatives – additional no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uch, fa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 comparative = mno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solutely, entirely, completely, utterly, downright +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erlative = </a:t>
            </a: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úplně nej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ules concerning comparatives and superlatives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hort adverb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the same as those of long adjectives (e.g.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ore nicely, most precise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ong adverb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(in) a more beautiful way, (in) the most wonderful 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rregular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ood – better – the b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d – worse – the wo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s … as …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; so … as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y boyfriend’s on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efficien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er friend’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processor is twic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 fast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he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 hundred times as good at English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him (he i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lgebra is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not nearly as enjoyable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biolo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is operating system is not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 powerful 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 thought it to b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 … as 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only used in negative sentence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direct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d ord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indirect questions is the same as in declarative senten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o is the producer of the USB controller? He wants to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o the producer of the USB controller 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re did the virus come from? I don’t know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re the virus came fro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 time is it? He asked m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the time wa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at’s he doing now? I don’t have a clue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at he is doing now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4920" y="1285920"/>
            <a:ext cx="86104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I've heard those city singers singin' 'bout how they can lov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oceans, …. than the stars abov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, I come from the country, and I know I …. seen it 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I heard that ocean's salty, and the stars, they sometimes fa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at would no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justi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the way I feel for you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I had to sing this song about all the things I knew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time window ..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longer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71600" y="38088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eper Than the Holler - Randy Tra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380880"/>
            <a:ext cx="8305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he back roads to the Broadway shows with a million miles between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's …. a million love songs that people love to sing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every one is different, and every one's the sam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is is just another way of sayin' the same thing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deeper than the holl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riv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. than the pine trees growin' tall upon the hill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 love is …. than the snowflakes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fall in late December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onest as a …. on a spring-time window ….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…. than the song of a whippoorwi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762120" y="533520"/>
            <a:ext cx="739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1600200"/>
            <a:ext cx="79246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31 exercise 24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44 exercise 2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7 exercise 28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70 exercise 3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ized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mputer Applications Introduction, Data M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, she, i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s x wasn’t, were x were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hard disk drive needed replacing because it was fault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applications were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orth downloading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inc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we found them use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t was you that called me last night, wasn’t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s / w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as able to install the application without his assi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program able to communicate with all the hardware flawless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were allowed to enter the building without their ID c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tudents were allowed to jumper the pi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had an SCSI card, but I never succeeded in getting it to r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y computer did not have enough memory resources to run smooth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ever had any operating system that was bug-fr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is type of modem can no longer be h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students had to make a website to pass the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administrator had to chang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ccess right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f the file to prevent it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isus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id not have to have his licence renewed. (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o renew a licen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id all the employees hav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bmi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hei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Vs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? (curriculum vita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990720"/>
            <a:ext cx="7772400" cy="58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to refer to completed actions or events which took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a particular time or over a period of ti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bought my first computer when I was seventeen and then I worked with it every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When did you last use this word processo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configur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he system yester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to refer to repeated actions in the pas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e played tennis on a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regular basi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ve years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udents did not use any WIFI when I attended colle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33520" y="1447920"/>
            <a:ext cx="8153280" cy="50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when two actions happen one after another (the sequence of the actions in the sentence corresponds to the real one – typical of storytelling, etc.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, logged in and started the progra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gging i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starting the pro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t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examp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came to school, turned on my computer and found out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eft my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leaving the CD behin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oming to school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urning on the computer coming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inding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inserted the diskette into the drive and formatted it becau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y anti-virus software had detected a virus on i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equenc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etecting a vir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inserting the diskette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formatting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ss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dem was init</a:t>
            </a: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ized before it dialed the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formatting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cedur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as not completed due to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urfac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m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s the computer still being repa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D is still being bur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as the CD burnt yesterd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Jana Smržová</cp:lastModifiedBy>
  <dcterms:modified xsi:type="dcterms:W3CDTF">2005-11-09T20:11:07Z</dcterms:modified>
  <cp:revision>33</cp:revision>
  <dc:subject/>
  <dc:title>Lecture 1:</dc:title>
</cp:coreProperties>
</file>