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D355-2DE3-4BF8-AE04-7F3912BE5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541B-F708-4742-A64F-20F69989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B2EE-22E4-4FF8-8C4D-08BD0202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D492-D073-47D7-8F17-1F6E4563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19D8-EEFB-4818-AFED-119B86554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D37F-26A2-4604-9954-2F10FC24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9E81-78A6-4179-8319-D24068631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DB7A-41FF-47F5-8524-2F2C6D25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AC0A-28AF-496C-9A88-EDE40A31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14E2-60EB-4D90-AAA8-83007758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B377-8515-4532-8FA2-6A59FC2A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8DA5-A95D-4CBC-82ED-D8E38D215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0A58-A87E-4DD3-95DA-DC1BDC54D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0-13T12:38:33Z</dcterms:modified>
  <cp:revision>144</cp:revision>
  <dc:subject/>
  <dc:title>Lecture 1:</dc:title>
</cp:coreProperties>
</file>