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C240-D459-47DD-A357-908FEDA9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01C1-547F-4A60-A422-FA0A2A70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CBAB-2783-42AA-9546-EBB2DE5B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DF77-CBE8-425E-92D7-29BCBB68E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249C-B336-4BA3-A619-1B73921F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5F70-209A-4E0B-A4C7-28951354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FE18-B3C1-4B32-B9BB-F9AE499F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4C83-937D-4C54-97CC-FB1F8035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A14-1306-44C4-8AF0-0D348DB0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80D-8CBC-4F46-A3CF-79DE3369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64D2-C96D-4C41-B1AF-CCD326D4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7E76-9E7F-4C72-A13B-78049163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A651-F5B8-4DA1-9776-154F33481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9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60 exercise 8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5 exercise 10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76 exercise 11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s Progra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pplication Service Provid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990720"/>
            <a:ext cx="838224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an action which took place before another action in the past provided the former is mentioned after the lat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installed the program I had bought from Microso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the scanner he had disconnected from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iler reported an error because he had not declared one of the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got fed up with the system since I had been configuring it for a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he time he moved in there, I had been living there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form tense shift (sousledno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ová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had never used hashes in his progr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experiment had never been conducted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replied they had been working on the solution to the security hole problem for the last fourteen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had seriously violated the company’s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Perf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form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ditional (ner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lná podmínka v minulost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known it, I would not have come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he had not declared the variable, the compiler would have reported the err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d she realized how serious the problem was, she would not have dared solve it by her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she had found out how much he snores, she would never have married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se shift is used to convert direct speech into reported speech provided the main clause contains past tense (the main clause introducing something that was said in the pas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nse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continuou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ast perfec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 perfect (simple, continuous)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“woul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143000"/>
            <a:ext cx="838188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erbs introducing tense shif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tell, ask, answer, reply, announce, report, want to know, know, learn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vědět 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feel, think, add, admit, agree, claim, confirm, deny, doubt, find, hope, mention, promise, propose, remark, repeat, state, suppose, swear (swore, sworn), threaten, underst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 he knew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me he was giving a lecture at that mo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wore he had never used the disket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added they had been debugging the source code for three d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claimed she had never worked with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ears found out someone had been sleeping in their be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know how she would handle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ose which specify the exact time an action happened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us he lived there in 198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hose that express, or are considered to be, general tru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the Czech Republic has about ten million citiz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told us the square root of 4 is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those that contain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n’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expressing permanent necessity or ba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octor told me I mustn’t smo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aid the processor must be cooled because otherwise it overhe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733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tences that are not subject to tense shif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those containing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,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: “You should not execute the fil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 said I should not execute the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: You should not get off with that woman. She is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told me I should not (not to) get off with that woman because she was (is) a vam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ense Shif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5800" y="1371600"/>
            <a:ext cx="784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onversion of direct speech into indirect involves the following adverbial chang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sterd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t yea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year be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orrow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day after, the following 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 week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week after, the following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: “I will replace this cable here with a new one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he would replace that cable there the following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1T13:50:21Z</dcterms:modified>
  <cp:revision>103</cp:revision>
  <dc:subject/>
  <dc:title>Lecture 1:</dc:title>
</cp:coreProperties>
</file>