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BFD-42DD-477F-911E-05C73060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4DC4-B5D8-4C50-A59C-BDAD1781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9B7-8417-40DD-A3DE-798D65A61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4E471-1AC3-4743-8351-9EC11352F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0805-4458-45D5-B3BD-CE43EC0AA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6558-721A-4662-B578-162E84242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FC53-C051-42DE-A123-CD9363800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CF3C-4BF1-410A-85CA-DDB763F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5BCC-89B7-45E3-A22A-9CC87F648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9345-9BEA-41F0-AD3F-FECF7CC0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2C52-E772-43C5-84E0-EA1F285A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3FE5-5A67-4D82-91CA-41EC4FE4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77F1-2495-4F7F-A8C8-A61499B2B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24Z</dcterms:modified>
  <cp:revision>177</cp:revision>
  <dc:subject/>
  <dc:title>Lecture 1:</dc:title>
</cp:coreProperties>
</file>