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08B2-309E-47F2-B699-C07E82E3F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1E9A-A618-4DA5-B377-BF42E56B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8232-9047-46EF-9009-1ABAADF36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071B-DBBA-4572-B547-CCAC28F1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1675-EF57-4E5A-96D9-3181EB76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F55-45D4-4A00-8DF5-177F5503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29AB-A502-45A4-8A8F-27BAB48E6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096-AA87-4C49-ADDF-FA1E66303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5D85-F6FA-4120-A9B3-82F56B78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7B99-B828-4CD0-A468-12A1605D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9FD2-CB3B-4179-BCC3-7D353A83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152-119A-4864-807A-59E16137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14467-CC97-4FC6-A93D-3DE77112C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2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that two or more actions were under way at the same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I was debugging the source code, she was chatting with her fri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talking to someone on the phone and I was wondering who it w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giving a lecture, I was thinking about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re enjoying sunshine in Europe while they were getting drenched in the U.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was taking place at a certain moment in the past and we place emphasis on its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ouldn’t come at three because I was begging my computer to star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snowing for quite a time yesterday, wasn’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get the computer to run but did not succ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installing the system the whole day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ister was doing her best to be allowed to borrow my electric cord, but I was as hard as nai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835280"/>
            <a:ext cx="8382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 action that was under way at the moment another action (expressed by means of past simple) took place; Czech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áv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lephone rang while we were discussing the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froze when I was working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downloading the file, the connection dropp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entered the room while her boss was raising he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(he was) listening to her, he noticed something remarkable about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ndignation; in this respect past continuous represents a past alternative to present contin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was talking about her problems all the time, but never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mn brother was changing the settings over and ov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ason why I quit teaching is that my students were making the same mistakes time and tim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lasted scanner was failing to operate properly so I dumped it in the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modesty, poli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trying to suggest we should not act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3 exercise 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4 exercise 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47 exercise 7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verbs of sensual perception - infinitive is without “to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w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ike an old sailor when he was installing the operating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never seen my Dad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other medium than a flash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ver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37160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ěl jsem ho zastrčit tu infikovanou disketu t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w him insert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infected diskette into the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Viděl jsem ho, jak str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 tu infikovanou disketu do mechanik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(Slyšel jsem ho to říci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ard him sa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Slyšel jsem, jak to říká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14300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verbs expressing a wish, request, order, or permiss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nt, wish, would like, ask, tell, order, allow, persuade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, mak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o “t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nts me to sol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athematical problem by the end of this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ished her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 a little longer for me to find some more mysteries in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n’t like my small sister to to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D again. It’s already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ked me to st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er. She said she was afraid of ghosts. A nice tr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owed us to en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hall despite the fact we had no cards on our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riend’s persuaded me to bu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re powerful VGA. He said it would be compatible with my motherbo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it my head off with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ting me s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promised me a bonus, my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ver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aby blue ey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de me for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my brand new ORC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t you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ever you w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ach time I meet her, 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kes me regr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ment I broke up with 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verbs expressing an expectation or assump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pect, think, believe, 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cted me to pat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nk me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idi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elie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mport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st computer user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sider Window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user-friendly than Linu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143000"/>
            <a:ext cx="83818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bject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ait, arrange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ollowed by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ed for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finish my lun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me she’s passed away? He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her not to g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ecret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it for me to shut d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r shall I do it later 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installing Linux,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ranged for no one to wor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n his computer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Other verbs followed by object and infinitiv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vise, encourage, beg, forbid (forbade, forbidden), force, get, help, invite, prefer, recommend, remind, urge, warn (somebody to do someth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85800" y="17524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m,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s (to be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tty sca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em to have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unc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not seem to be cont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hard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lway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om the fault lies with. But it’s neve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pears to have caught a c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bject + Infi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2260440"/>
            <a:ext cx="8382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verbs occurring in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nstru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y, expect, believe, think, suppose, assum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a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said to kn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w to configure the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re expected to stu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at least 20 minutes a day to pass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oo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believed to conta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necessary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thought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s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upposed to d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thing about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bl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s assumed to be m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volved than it really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24T13:47:53Z</dcterms:modified>
  <cp:revision>92</cp:revision>
  <dc:subject/>
  <dc:title>Lecture 1:</dc:title>
</cp:coreProperties>
</file>