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6281-EAAD-4AED-8DDC-940E48F3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F53-586B-4777-801B-1C3880C37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1312-8BAC-46DF-9C44-00633B943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5644-CF5A-45FD-878E-A90C5158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EDF5-6845-4467-BD18-D7C020F52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B4DE-C60F-45C8-822A-ED7D6DFF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0F6-DA0A-4FC2-BCB9-13085C30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1016-0D7E-493E-B9AC-EDAE3A42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4099-6564-43D4-BFBB-6DF82CF0F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32AF-6922-4906-998B-F7F57E0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714-8F86-4867-84E1-C7285651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7A5C-60C5-44C3-B72E-4BA6D190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E2E1E-09C6-490E-B926-92432AA9F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99072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annoyance, reproach or impatience associated with the action in ques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goldi2" descr="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3124080" y="1905120"/>
            <a:ext cx="2679840" cy="35496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5548320"/>
            <a:ext cx="853416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eating my porridge! And they've eaten it ALL UP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itting in my chai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one has been sleeping in my b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867280" y="3200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oldilocks and the three b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35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Czech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ak dlouho + p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ít. ča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waiting 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ve you been trying to get the scanner to ru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long has the disk been malfunction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have the foggiest idea of how long he has been visiting the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160020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: (exceptions)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present perfect simple must be used if the sentence contains a verb not usually occurring in the continuous form (see lecture 1, page 7) as well as the verb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b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sense of “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oss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; there is also tendency towards replacing present perfect continuous with its simple counterpart in negative sent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known him for a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loved her all his li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een here for the last ten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had the watch for 10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ot opened the computer case for quite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yself, Yourself … Themsel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38224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imself does not k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ext itself is rather nonsensic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results themselves turned out to be misle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h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ent there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pent her vacation al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no one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ill configure the network by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make the program by myse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out anyone’s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21337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 exercise 1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 exercise 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32 exercise 3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raphical User Interfac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r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9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that happened in the past (not specified) and whose consequences can be observed at present or affect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What’s wrong with that machine? B: My sister has worked with it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only slept for 4 h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friend going with us tonight? No, he has bought a new joysti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: Kate, why are you so depressed tonight? B: The bloody bastard has cheated o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* notice: The sentences contain no specification of time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758960"/>
            <a:ext cx="8382240" cy="44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f the sentence contains time specification, past tense is used. It is not the consequences of the past action that are stressed but the time itself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bought a ca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ster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bought a c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specification          X            present-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moved the virus two days ag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have removed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two days ago that I removed the virus. X The virus is g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1758960"/>
            <a:ext cx="8382240" cy="41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was reconfigured a while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was a while ago that the modem was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has been reconfigur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dem has a new configu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never happy the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never been happy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, not covering present           past + pres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175248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that is somehow related to present; indicator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st, so far, not yet, since, ever, never, recently, l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u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gged 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pelling checker has detected 5 mistak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 f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jected the C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has not got better at programm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last yea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et the IRQs manual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ystem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ently / late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rozen just o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61960"/>
            <a:ext cx="83818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905120"/>
            <a:ext cx="82296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a sequence of actions that took place in the past is given (story, fairytale, etc.), simple past is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when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school tha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for the first time. At that moment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aliz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she was the most beautiful person at the faculty. Her long hair and slender bod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ld 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he was the one. Unable to tame my desire,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cid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hat her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752480"/>
            <a:ext cx="838188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 perfect simple can be combined with the expression of time covering prese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giv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nitor a wip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wee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ith her student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ope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sto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ye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r bo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rai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sala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mon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26044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an action which started in the past, is still under way and is likely to continue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stud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nglish for five ye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candisk utilit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runn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three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been debugg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ource code since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teac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been u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ndows 98 since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Perfec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2260440"/>
            <a:ext cx="838224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an action which ceased a while ago, but the consequences are still obvi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wolfpant" descr=""/>
          <p:cNvPicPr/>
          <p:nvPr/>
        </p:nvPicPr>
        <p:blipFill>
          <a:blip r:embed="rId2"/>
          <a:stretch/>
        </p:blipFill>
        <p:spPr>
          <a:xfrm>
            <a:off x="3505320" y="3706920"/>
            <a:ext cx="2057400" cy="20080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609480" y="6019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lf has been run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4-12-02T12:38:36Z</dcterms:modified>
  <cp:revision>83</cp:revision>
  <dc:subject/>
  <dc:title>Lecture 1:</dc:title>
</cp:coreProperties>
</file>