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F5EC-6F81-4282-ADCD-392FF1598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D9F-1770-4174-A027-12F392BC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BD4F-E040-4A99-8DE2-34BC0106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76C-5BD4-4FFB-B0C1-0F8854557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915C-64E0-4257-9852-84D51A7B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8F4-7E05-465B-8B49-5FF1835CB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7BF1-B3E3-4ADF-AD07-28A61E13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F166-B599-441F-BA48-50A4E5511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CD91-2252-4C30-9FD2-80DBDBD14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2E8E-2929-404B-8B33-48FDD6EE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A2EB-08C2-4C68-A134-A07ED595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98D9-2FB4-4D25-BE1A-7E0725B74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D786E-1059-4CCB-BFFE-C0AF1E6DDE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215424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 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data to load fa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to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the disk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o data to be left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open the attachm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 not to infect his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not to fa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irect and Indirect Objects –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ell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vs.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676520"/>
            <a:ext cx="8382240" cy="55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how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pict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his wife. (He showed a picture of his wife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en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his music. (He lent a CD with his music to m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rother b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mself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CD wri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(My brother bought a CD writer for himself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to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staggering sto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told me about it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Řekla mi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e said it to me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 did she say to you?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</a:rPr>
              <a:t>no other versions admissible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143000"/>
            <a:ext cx="7925040" cy="55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18 exercise 4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0 exercis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38 exercise 4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39 exercise 47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49 exercise 49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erating System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lacement of Ad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523880"/>
            <a:ext cx="8382240" cy="50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llowing adverbs go in the position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fter auxiliary and before notional verb).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present, then they follow it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, never, ever, often, usually, hardly, seldom, almost, nearly, certainly, quite, really, st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ual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e compiler he has installed for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l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speaking, I coul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ar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sidered being environmentally friendly and not buying any other hard dis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eldo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. Do you think I wi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s the exa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monit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ar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ame as 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bl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ble to get the computer to 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able to understand English-written manuals does not mean you know Englis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installed peer-to-peer software to be able to share his files with other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had been able to come in time, I w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ing the connection of such a bandwidth, you will be able to transfer vide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226044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be allow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ever be allowed to use his noteboo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in a lesson, students were not allowed to speak unless as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I am allowed to look inside the computer, I 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rying to ingratiate himself with her to be allowed to walk her ho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be able to …, to be allowed to …, to have to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hav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he has to submit his essay by the end of this week, he should start his research as soon as poss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be able to use Unix, he had to learn some basic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ant to interconnect so many computers, you will have to use a hu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d the rule due to having to keep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447920"/>
            <a:ext cx="8305920" cy="50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y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i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friend of mine (one of my friends) taught me how to use has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mputer is far faster than 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RAM is somewhat larger than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’s computer does not have any USB port as opposed to my Mum’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ne, yours, his, her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752480"/>
            <a:ext cx="822960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gative implic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something about that dog of yours. It keeps messing up my flowerb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ever talk to that neighbor of hers because she despises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u you think I will ever install that bloody software of hers agai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doing something about that hair of yours. It looks appal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conj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1440000"/>
            <a:ext cx="807696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a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can be left out unless it represents subjec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(that) the file transfer resu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the card (that) I bought a few years ag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resumed (that) the computer would not report buffer underr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old me (that) he would not like her to tamper with the de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the person that informed me about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y should I use the software that is so bulk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 that cannot be configured properly belongs to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ing Infinitive Instead of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220032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ubjects in Czech sentence ar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dentic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efragmented the disk to speed up data loa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boss gave me a bonus to make me work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ught himself a new VGA to be able to play 3D g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rmatted her disk not to leave any data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d not dare open the attachment not to catch a vir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overed his face not to scare the pants off 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4-11-04T13:54:20Z</dcterms:modified>
  <cp:revision>59</cp:revision>
  <dc:subject/>
  <dc:title>Lecture 1:</dc:title>
</cp:coreProperties>
</file>