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DC6E-6FD0-4035-B5D2-66252835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15A7-42E3-4538-97B9-4D04B166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8965-0DB0-4D73-872A-40272591C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E56-DAF0-44F5-9D6C-3A0598C39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D4C8-F773-47CF-A00D-14D17C82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B3AB-0DF6-4614-957F-3A9A0B2E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BE19-DDA6-48BB-8BD9-B897894A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D2A3-6547-4D4A-990F-75A6B7CC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A956-9DD6-4FF4-B84C-D4259C207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919D-190A-408A-ABEA-CD4C0DE8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1D15-24D0-4742-A5A5-FEFE9AA1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093-374B-42CE-B8F1-00BFAFA1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09DD-21E7-473E-9298-7BF675BBD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specifi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6-04-13T16:30:45Z</dcterms:modified>
  <cp:revision>189</cp:revision>
  <dc:subject/>
  <dc:title>Lecture 1:</dc:title>
</cp:coreProperties>
</file>