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9ADB-784F-4186-8DA1-8782F9FE3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4AC1-512C-4076-97A3-9AE21131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E70B-E704-4B5B-85B4-4CEC4D02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E43C-73A6-44E5-A93D-1E78036C0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1322-548D-4AB0-AB29-DC7EC6F6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D090-AF2E-43E9-8091-D789DA2FD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5138-BEBC-4A0B-A508-9106A91F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B46-BF9D-47CB-A748-3A82A5724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E83F-DA4A-4C0B-8691-D4B182955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BA26-3D07-448A-B6B4-1B251968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0822-61D5-4137-9C76-D4CE84F3F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60CF-77B8-4815-9774-5D1AE668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6463E-288F-47B3-87DF-26B67B97B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676520"/>
            <a:ext cx="79250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5-04T12:50:07Z</dcterms:modified>
  <cp:revision>214</cp:revision>
  <dc:subject/>
  <dc:title>Lecture 1:</dc:title>
</cp:coreProperties>
</file>