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7582-C2DB-4CA9-A75B-94AF4DBA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6433-6C5C-472D-98CC-F11540718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C610-3D6E-4C23-BAE5-BBE80FBB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82E0-EF91-4419-A314-B623DDBC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EC86-BBF9-4AD2-B436-C5454E649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B811-3F3D-442C-9EB7-141A216A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717B-5B4E-443E-9DDF-468C2B3D8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B1B6-9383-4EB3-809E-6C2E9F4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BCD2-1745-472C-BBBD-FFA9CE1A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C070-62D6-472E-960E-469B0A81A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BC4B-BA78-4FF3-9260-F0223E21F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A351-921F-4B70-9298-0EBBFF2F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A712-AD7A-4A34-9A56-2E7784D4B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-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st-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443320"/>
            <a:ext cx="82296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, wh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efining and non-defining relativ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(that) is 10 play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 is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ays computer games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523880"/>
            <a:ext cx="807696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 which (that) is at the beginning of the source code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, 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assignment statement, which is at the beginning of the source code, is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, non-defining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st the CD (which, that) I had lent him, which got me down.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 (Czech “kter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 and additional information (Czech “c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-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G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990720"/>
            <a:ext cx="8076960" cy="57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n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. (see eye to eye with h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along with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CD writer. (do with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tragedy of my Marry contracting the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sual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r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ting 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n/of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/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ar! I’m lea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marry her, but 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t out o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 (backed out of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how I ca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b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money I m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et’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is lectu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and done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21337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61 exercise 5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71 exercis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reading assigned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758960"/>
            <a:ext cx="8382240" cy="41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future” - Czech has its equivalent in “hodla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or “chystat se něco udělat”; used when something is planned before being defi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assign this value to the scalar vari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not going to have her license renewed unless they tell her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change the IRQ of the modem to reconcile it with your sound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75248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hrase used to expres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action that is likely to happen (taking into account the conditions we are witnessing and that normally lead to the a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ky has got overcast. It is going to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s turned red. He is going to 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ampering with the computer. It is going to free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crosoft have raised prices. Linux is going to be praised for being free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461960"/>
            <a:ext cx="8381880" cy="52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fix the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fix the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ing to divorce him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ivorce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decision, fact (hig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’t plan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d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ision, f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1752480"/>
            <a:ext cx="838188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going to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do it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you be doing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 your programmer going to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use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r programmer be using this GU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260440"/>
            <a:ext cx="8382240" cy="39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: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thin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ot succeed in getting the OS to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supp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modem will not work with this initializ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reck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 will never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ong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think he is not going to succeed in getting the OS 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suppose the modem is not going to work with thi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reckon he is never going to get round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Going 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2260440"/>
            <a:ext cx="8382240" cy="39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ac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onna + infinitive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y informal sty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gonna grass on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’s not gonna discuss that with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ways of expressing inten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about to say it, but you beat me to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girlfriend was on the point of starting the virus-infected program when I entered the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, whom, 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used in connection with people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lso allows other uses; h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, him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m, 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is the kind of pers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ll never lear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tell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ave me the in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id you give it to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d you give it 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 by. I don’t know b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was d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s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kn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o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it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o, Whom, Whose, Which, Th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ses of “whose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computer whose hard disk is faulty. This is the computer the hard disk of which is faul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not going to buy a disk whose size is lower than 10 GB. I am not going to buy a disk the size of which is lower than 10 G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me a keyboard whose cable was frayed. He brought me a keyboard the cable of which was fray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1-03T13:55:32Z</dcterms:modified>
  <cp:revision>69</cp:revision>
  <dc:subject/>
  <dc:title>Lecture 1:</dc:title>
</cp:coreProperties>
</file>