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D466-7ED3-43F6-9C03-DBE02D5C5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861B-716D-41FD-99D6-FA90A449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22CE-D579-493C-9FB3-429193574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49DB-B0C5-4F88-A722-B9CCDE0AB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1214-212A-42A0-98A8-6837F5A2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99F5-1378-411A-92F2-5DC9B9A0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CA0E-87FB-4BC8-9447-CA81AB2E1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1C89-8F6E-42E6-A5E3-D615C66E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6982-9E33-4304-B711-6F08DAA5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3576-C8A2-4A85-A831-CDB76987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59EE-3C9D-4608-A2F7-CDEBD378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8754-1F70-4712-A3EE-6B72E5FA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9F43-A1A7-4FFB-A02C-F5704533F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a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9:03Z</dcterms:modified>
  <cp:revision>153</cp:revision>
  <dc:subject/>
  <dc:title>Lecture 1:</dc:title>
</cp:coreProperties>
</file>