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26D3-928F-4621-B807-19EEA9120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DAC8-D28D-4AD3-BD7B-7D0BDEEA4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5A82-D7D1-4785-9FAA-91A6897D3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650B-DFAA-44E8-BC78-55219CEA5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8344-590C-41DB-BED3-4BF7581C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6EF0-E115-4792-BB27-CF55502B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F064-118A-44AE-A836-E253FDDA0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451D-2A86-4618-A4EF-C240610FE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111A-D3A0-4FED-98E2-51745442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4008-3087-4CA1-B432-87B7BC6A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84A4-A07E-46CC-B02F-F5CE5FF75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F14C-C4AD-4D4D-B159-DD65FEE9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EF07-6D4D-43AB-B9F2-C574BF334C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294920"/>
            <a:ext cx="6400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onunciation – phonetic transcrip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other, the other, other, others,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is … There ar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 other, the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 ... (”ostat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..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in plural,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n druh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in singular), the others (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statn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prefer the other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other processor is much fas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hn and the other students always leave the keyboards greas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I named Marry never freezes, unlike the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st, 2nd, 3rd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irst, second, thi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th, 5th, 6th …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urth, fifth, sixth 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ne 25,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ere is … There are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is in a certain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xpress something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is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existential u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a card in the sl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re there any jumpers on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lots of stupid people in the wor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are sites I always love returning 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plural in declarative sentence = 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was moving some jumpers around the bo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brought us some WR C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+ singular (uncountable) in declarative sentence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-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 some information about it in th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n’t bring me just some diskettes! Bring me the Verbatime on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” in question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polite offer expecting “y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t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ow about some cook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ould you like some further information abou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positive declarative sentence = ja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ýkoliv, jakákoliv, jakékol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Could you bring me any CD you can lay your hands 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mistake she makes is serio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questions = nějak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ý, nějaká, nějak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received any information from hi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ave you got any questions concerning this phenomen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Any computer at home? (colloqui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me, any, countable vs. uncoun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” in negative declarative sentences meaning “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žádný“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re isn’t any free space on my hard dr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haven’t given me any project to work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don’t have any spare mod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čtina pro jazykové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94 exercise 1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. 118 exercise 21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Architecture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che Memory - How a Disk Cache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onunciation – phonetic symbo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bat, hat, fat, mat, bad, hag, f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ostman, confirm, modem, bird, proliferate,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- three, thick, thin, thumb, thistle, thr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, these, those, fathom, sunb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ng, ring, bring, string, 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,t – aspiration: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tree, take, true, during, dou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 is basically no Czech phone (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hláska)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at has its absolute counterpart (pro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tějšek)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in  Englis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chwa" descr=""/>
          <p:cNvPicPr/>
          <p:nvPr/>
        </p:nvPicPr>
        <p:blipFill>
          <a:blip r:embed="rId2"/>
          <a:stretch/>
        </p:blipFill>
        <p:spPr>
          <a:xfrm>
            <a:off x="942840" y="2590920"/>
            <a:ext cx="200160" cy="228600"/>
          </a:xfrm>
          <a:prstGeom prst="rect">
            <a:avLst/>
          </a:prstGeom>
          <a:ln w="0">
            <a:noFill/>
          </a:ln>
        </p:spPr>
      </p:pic>
      <p:pic>
        <p:nvPicPr>
          <p:cNvPr id="46" name="pth" descr=""/>
          <p:cNvPicPr/>
          <p:nvPr/>
        </p:nvPicPr>
        <p:blipFill>
          <a:blip r:embed="rId3"/>
          <a:stretch/>
        </p:blipFill>
        <p:spPr>
          <a:xfrm>
            <a:off x="958680" y="3429000"/>
            <a:ext cx="184320" cy="276120"/>
          </a:xfrm>
          <a:prstGeom prst="rect">
            <a:avLst/>
          </a:prstGeom>
          <a:ln w="0">
            <a:noFill/>
          </a:ln>
        </p:spPr>
      </p:pic>
      <p:pic>
        <p:nvPicPr>
          <p:cNvPr id="47" name="pthe" descr=""/>
          <p:cNvPicPr/>
          <p:nvPr/>
        </p:nvPicPr>
        <p:blipFill>
          <a:blip r:embed="rId4"/>
          <a:stretch/>
        </p:blipFill>
        <p:spPr>
          <a:xfrm>
            <a:off x="990720" y="3886200"/>
            <a:ext cx="183960" cy="276120"/>
          </a:xfrm>
          <a:prstGeom prst="rect">
            <a:avLst/>
          </a:prstGeom>
          <a:ln w="0">
            <a:noFill/>
          </a:ln>
        </p:spPr>
      </p:pic>
      <p:pic>
        <p:nvPicPr>
          <p:cNvPr id="48" name="ng" descr=""/>
          <p:cNvPicPr/>
          <p:nvPr/>
        </p:nvPicPr>
        <p:blipFill>
          <a:blip r:embed="rId5"/>
          <a:stretch/>
        </p:blipFill>
        <p:spPr>
          <a:xfrm>
            <a:off x="990720" y="4371840"/>
            <a:ext cx="196560" cy="276480"/>
          </a:xfrm>
          <a:prstGeom prst="rect">
            <a:avLst/>
          </a:prstGeom>
          <a:ln w="0">
            <a:noFill/>
          </a:ln>
        </p:spPr>
      </p:pic>
      <p:pic>
        <p:nvPicPr>
          <p:cNvPr id="49" name="opene" descr=""/>
          <p:cNvPicPr/>
          <p:nvPr/>
        </p:nvPicPr>
        <p:blipFill>
          <a:blip r:embed="rId6"/>
          <a:stretch/>
        </p:blipFill>
        <p:spPr>
          <a:xfrm>
            <a:off x="914400" y="2179800"/>
            <a:ext cx="228600" cy="1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and     pronunc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tongue" descr=""/>
          <p:cNvPicPr/>
          <p:nvPr/>
        </p:nvPicPr>
        <p:blipFill>
          <a:blip r:embed="rId2"/>
          <a:stretch/>
        </p:blipFill>
        <p:spPr>
          <a:xfrm>
            <a:off x="2832120" y="2692440"/>
            <a:ext cx="3263760" cy="1803240"/>
          </a:xfrm>
          <a:prstGeom prst="rect">
            <a:avLst/>
          </a:prstGeom>
          <a:ln w="0">
            <a:noFill/>
          </a:ln>
        </p:spPr>
      </p:pic>
      <p:pic>
        <p:nvPicPr>
          <p:cNvPr id="52" name="pth" descr=""/>
          <p:cNvPicPr/>
          <p:nvPr/>
        </p:nvPicPr>
        <p:blipFill>
          <a:blip r:embed="rId3"/>
          <a:stretch/>
        </p:blipFill>
        <p:spPr>
          <a:xfrm>
            <a:off x="1746360" y="1066680"/>
            <a:ext cx="234720" cy="352440"/>
          </a:xfrm>
          <a:prstGeom prst="rect">
            <a:avLst/>
          </a:prstGeom>
          <a:ln w="0">
            <a:noFill/>
          </a:ln>
        </p:spPr>
      </p:pic>
      <p:pic>
        <p:nvPicPr>
          <p:cNvPr id="53" name="pthe" descr=""/>
          <p:cNvPicPr/>
          <p:nvPr/>
        </p:nvPicPr>
        <p:blipFill>
          <a:blip r:embed="rId4"/>
          <a:stretch/>
        </p:blipFill>
        <p:spPr>
          <a:xfrm>
            <a:off x="3352680" y="1066680"/>
            <a:ext cx="235080" cy="3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   to express a future fact or predi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omputer will always mal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ill be windy tomorr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o express a sudden dec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do it right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to express an offer or re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all I install the application for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ll you tell me how to work with those variab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   to express an opinion about the future (following verbs such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ink, suppose, doub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in combination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bab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think I will have my sound card replac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suppose you will hate me after all these lect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doubt he will ever pass the exam without studying ha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y will probably upgrade their hardwa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uture Tense (Simpl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to express strong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monitor’s flickering. Oh, that will be the c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dditional no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= I’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ill not = I wo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stions: i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n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other (je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ště jede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, 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–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used with 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singular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untable nou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ill have another cup of coffee, pl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ou had better install another application processing ima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I need another computer. This one is too slow for 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some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 other (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ějaký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jin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ý)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– used with uncountable nouns</a:t>
            </a:r>
            <a:r>
              <a:rPr b="0" lang="cs-CZ" sz="3200" spc="-1" strike="noStrike" u="sng">
                <a:solidFill>
                  <a:srgbClr val="000000"/>
                </a:solidFill>
                <a:uFillTx/>
                <a:latin typeface="Times New Roman"/>
              </a:rPr>
              <a:t> or plural countable nouns (nějaké jiné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uld like to use some other hard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Times New Roman"/>
              </a:rPr>
              <a:t>How about asking some other stud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other, ot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…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 …), oth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jin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í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plural use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 application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 applications are user-friendly, others are n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would love to work with (some) other computers, not the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at is, (some) others would not be down all the ti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9T12:50:47Z</dcterms:modified>
  <cp:revision>18</cp:revision>
  <dc:subject/>
  <dc:title>Lecture 1:</dc:title>
</cp:coreProperties>
</file>