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2B90-8566-461D-BE7C-28043DF1F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6C5B-0F6D-4449-9314-815B93AEE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9FF-CCBE-4749-AB52-27F676D0F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C355-6633-4208-85F6-A1B7E3D3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98C2-4A82-46E1-BDE3-B0996777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8DB8-F7C0-4CD3-9F53-A28DEFFA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3159-4586-406E-82D5-542181A0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3903-289D-4AD0-8B99-C1678CEA5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20D-9FB2-4F59-9738-581A16BD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1A59-822B-4702-9115-71E75429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38BA2-8492-4B6D-98FE-BD04B7C6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C22-9564-4670-ABFD-8A0823F92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D7AC-6D07-4891-A0B4-83D17F3021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20T13:18:32Z</dcterms:modified>
  <cp:revision>195</cp:revision>
  <dc:subject/>
  <dc:title>Lecture 1:</dc:title>
</cp:coreProperties>
</file>