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F563-C816-49D0-B684-3A78EB080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AD16-54AB-411F-9B93-2384C04F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A4F-93EF-4226-9CF6-7AB55547B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69D5-6B8E-4125-A289-F5F1D9C6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C1A0-6410-4AAC-8644-05E309CE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A022-B7F3-4385-BA16-9FBC019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E85-AF4D-487A-979F-3789D5AF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EC5-35A6-40CC-B30D-5827C51C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D4E7-A50C-4BAF-AE02-34DB68E2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27FE-AB26-4742-9801-710017378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4BB9-36CD-44FB-B185-25F390D3A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C833-196A-490A-B192-0C828E91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73259-11A2-4F3D-869A-263EC7E2C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while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40:36Z</dcterms:modified>
  <cp:revision>166</cp:revision>
  <dc:subject/>
  <dc:title>Lecture 1:</dc:title>
</cp:coreProperties>
</file>