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16A9-BE8E-4D4A-9E10-0679FD9F5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E963-BD94-4E71-824A-BD2E46D20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03F0-2A7C-4766-82E1-CD21CD459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E4C3-CDA1-4374-A873-F480E9EDD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498E-148B-48E6-BBBA-D3650366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FFB6-9E5C-4646-81FF-19C7987A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843D-D26A-490A-A15B-99158450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A17-9AA3-467F-B407-305F28E33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E7EF-20C0-4FF1-B577-A57B0A25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D714-9C50-4661-B0FE-CF8A37C4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0A36-4A8C-46A0-81FE-9AEF6795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BC0-AE91-4720-8283-09315BCF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B47D1-D1D6-4ECC-B820-B9B093DBD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uch – many, little – f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1752480"/>
            <a:ext cx="80769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trochu”, “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jaký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wat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the g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ittle suga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meaning “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r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ying on the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ource code ha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few bug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body, everything, everywhere, every tim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bo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s such a 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s looking for my glas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er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(often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cabl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no shield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se si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some pornographic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ach of them si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front of their computer by day and n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very, Each, Both, 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828800"/>
            <a:ext cx="83822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, both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my girlfrien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n’t want me to find myself another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the CD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scratch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oth of these imag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the same resolu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, all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ll of the program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ritten in C don’t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uld, Should, Wou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001960"/>
            <a:ext cx="81532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attach the cable to the car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stay away from that device? It might kill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houldn’t delete the files without knowing what they cont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grammers should keep to these syntactic r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buy the program if it were not so expens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be so kind as to debug the source code for 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905120"/>
            <a:ext cx="80769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ring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ti-virus software you can lay your hands on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you li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ssistance?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lite off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kept the initialization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mewher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can take i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wh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wa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n’t te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one el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not lend 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for I have n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9480" y="144792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ask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hat yet. He has not asked anyone about that y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rdly 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s that type of variable, does 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n hard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nderstand what I am talking abou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the disks is large enough to store so much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 of them do you prefer?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I am afra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gir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ever fully satisfy my needs. That’s why I have the virtual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egative sentence in English always contains only one negative expression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egative Sent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drunk" descr=""/>
          <p:cNvPicPr/>
          <p:nvPr/>
        </p:nvPicPr>
        <p:blipFill>
          <a:blip r:embed="rId2"/>
          <a:stretch/>
        </p:blipFill>
        <p:spPr>
          <a:xfrm>
            <a:off x="2062080" y="1795320"/>
            <a:ext cx="4948200" cy="33102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00200" y="571500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Mormon girl: “As drunk as a lord! This can hardly be my boyfrien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1600200"/>
            <a:ext cx="815328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35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3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204 exercise 38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5 exercise 3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822320"/>
            <a:ext cx="8382240" cy="38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definite artic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in the sense of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ějak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(the first occurrence of nou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bought himsel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digital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oose screw 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has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 came up to me and asked me for a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ntroller house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B so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assed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iskette and told me to instal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it b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’ll be able to op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ile. 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1905120"/>
            <a:ext cx="8381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if a noun refers to something that is contextually defined, implied or simply giv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give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new monitor. A fortnight later he found 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onitor malfunctio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gram you were talking about a while ago does not run under Window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loody keyboard and leave me al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if a noun represents somebody or something of unique charact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n was shining all day l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esident of the Czech Republi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ime Minister hopes the situation gets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ruth is he hates command-based operating syst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05120"/>
            <a:ext cx="838224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if the speaker, using an adjective, intends to refer to a group of people sharing a certain quality denoted by the adjectiv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you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ways know b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s can hel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disabl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hronologically disadvant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re often sen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bl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an make use of screen read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897200"/>
            <a:ext cx="830592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finite article 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if an expression represents a proper name containing a noun that can stand on its ow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visit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Tate Galle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ast wee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ague Cast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s a popular site sought after by foreign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zech Republic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s the population of 10 mill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nited St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tacked Iraq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i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Ukraine, the Hague, the Nether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447920"/>
            <a:ext cx="8229600" cy="47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 articles used in front o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days and month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une, Thurs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people, cities and countries (except those containing nouns that can stand on their own)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er, Rus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language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glish, American, Cze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uns denoting meal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unch, breakfast, sup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mes of sports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nnis, squash, swi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e: No indefinite articles used in front of uncountable nouns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752480"/>
            <a:ext cx="82296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+ un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you got on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n’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 dat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downlo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+ countable nou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sually in questions and negative sentenc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y studen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tudy conscientiously? There aren’t many of them, are the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positive sentences, there is a tendency towards using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 lot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ts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front of both countable nouns and uncountable 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uch – Many, Little - F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295280"/>
            <a:ext cx="80769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+ un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gave m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little inform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for me to do anything about the situ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a university teacher, he earns ver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ttle mon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earn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es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ney than 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+ countable nou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l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 programm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ork like th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rough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few girl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party for the boys to have fu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we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wer cluster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amaged than I had expec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20:18Z</dcterms:modified>
  <cp:revision>52</cp:revision>
  <dc:subject/>
  <dc:title>Lecture 1:</dc:title>
</cp:coreProperties>
</file>