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718-8371-4FE0-846D-755A2C58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2980-FF98-447A-96B0-8F846512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67DF-50D4-4F10-A882-5EFE683A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79F5-27D8-4839-9B87-7666FC75F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7A5A-9EA5-4E50-A601-13F879E8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4669-AD0F-4BF5-A9AF-C88A5DB7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3D60-F2CD-4972-895A-BAC9BC2E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507A-B606-43C0-AA61-334BF6287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595-963E-41CC-84EC-D2D0D27DC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3C80-DAAE-4B75-9F00-F7ACF652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AAB9-847D-45D3-88EE-4F7E01C1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7818-5D80-4A90-AB1A-0A4CDB68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62E5-CDE9-4592-9E6E-AD1E54AC2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qdvorak1</cp:lastModifiedBy>
  <dcterms:modified xsi:type="dcterms:W3CDTF">2006-03-30T11:54:41Z</dcterms:modified>
  <cp:revision>167</cp:revision>
  <dc:subject/>
  <dc:title>Lecture 1:</dc:title>
</cp:coreProperties>
</file>