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208E-190E-4AF4-9671-4576E571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5F0F-6F26-4A17-85CF-00D7BC00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AD3A-79C7-46C4-9B56-DB7C4E68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7D73-AEF4-4D7B-8C68-CA7B5F42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1EE4-809E-41C3-820F-5EE4AF2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A1C8-60CA-4A0F-B91D-501381C9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E40-0698-42D8-9AD5-4AA8014D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67B4-726B-4E1B-9535-C71D847E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8CB5-BC71-4F75-A7BF-325BD2A7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138D-8421-486E-9DA7-FC880255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902F-CC51-4F57-A1EF-6FB9F95D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C070-C7ED-4644-BF7A-170E73A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DA38-35DD-456C-8FC6-E2E08326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447560"/>
            <a:ext cx="6400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ha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d Or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d order in an English declarative sentence is governed b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VOMP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ject, verb, object, adverbial of manner, place and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The speaker refers to an activity which takes place regularl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get up at six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very morning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work with the computer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ll the ti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updates his softwar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w and the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upload the file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ree times a week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Si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speaker refers to scheduled activities in the future (usually those occurring at fixed times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performance starts at 6 p.m. (is scheduled to sta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at time does the bus leave tonight? (is scheduled to leav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-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attention should be paid to word order - questions asking about subject vs. oth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broke the computer dow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has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went there with you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y has he changed the modem setting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have you met the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Who (whom) did you go there wit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pecialist Read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 Users - 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uters Make the World Smaller and Smar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čtina pro jaz. školy 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42 exercise 8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53 exercise 10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. 72 exercise 14.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o h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ave you got any money on you? No, I have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o you have any money on you? No I don’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Feel free to use any of the two alternatives,but never any oth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finite and Indefinite Arti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attractive chick.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girl was so beautiful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new computer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old lemon of hi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: He has mad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om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software by himself. B: You mean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trash no one can u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lion is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dangerous animal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eferring to the whole species, group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speaking about an activity taking pla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t the mo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ou can’t speak to him now because he is giving his lec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computer is being repaired. Could you use another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he sound is breaking up. Is there anything wrong with your sound car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 speaking about someone’s plan, arrangement or intention (usually when referring to the futu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not debugging the source code to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 am leaving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or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London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s she having her computer fixed or is she dumping 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 Continuo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wh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 Referring to the activities taking place repeatedly which the speaker considers annoy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is talking nonsense all th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monitor is flickering (all the tim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not usually occurring in continuous form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dmire, adore, astonish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believe, belong, concern, consist, contain, deserv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tes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lik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doubt, envy, exist, fit, forget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hat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hear, imagine, impress, include, involve, keep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know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lack, last, like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love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matter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owe, own, please, possess, prefer, reach, realize, remember, satisfy, seem, sound, stop, suppose, surprise, survive, suspect, understand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an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wi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Question T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does not like this programming language, does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speaking too quickly, aren’t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am not speaking too quickly, am I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 be a good programmer, mustn’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mustn’t plug the mouse in now, must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He needn’t have his card replaced, need h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got two disks, ha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 computer has two disks, doesn’t 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odal Verb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, cannot, can’t (to be abl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, may not, mustn’t (to be allowed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, needn’t (to have t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can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work in that programming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st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format the di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eedn’t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have the monitor replaced. It’s still all right. (she would do it in v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09-23T15:39:01Z</dcterms:modified>
  <cp:revision>11</cp:revision>
  <dc:subject/>
  <dc:title>Lecture 1:</dc:title>
</cp:coreProperties>
</file>