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7F1D-61AD-4E63-B470-A08A879FD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60E1-8CEC-4B4A-8F82-E022489C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3BDE-16AE-45B6-9D34-E2EE840A2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4CC5-2CE5-43F6-BF09-EDEF7A0DE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EC12-F0E6-4CB8-828C-554BBC75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BFCA-0462-42B4-A3F9-F460C1F9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7915-5AC0-48A2-AC5B-5C88EDF1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8696-84C3-427F-B71D-48ADE9D4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8B78-AFD1-40AB-8CFA-E3B4E99D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16AD-8C86-45C6-8396-8F840305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4AF6-6EE7-4519-B050-80A9CFEF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1A02-6D3C-46E8-A18B-C4E3004F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306D-3B9C-4881-A2B1-B4A17B1A9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Jana Smržová</cp:lastModifiedBy>
  <dcterms:modified xsi:type="dcterms:W3CDTF">2005-11-09T20:11:07Z</dcterms:modified>
  <cp:revision>33</cp:revision>
  <dc:subject/>
  <dc:title>Lecture 1:</dc:title>
</cp:coreProperties>
</file>