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E323-C577-435D-B0E1-D586924BE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CC4E-07C4-4756-AA55-B5E23484E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DE1E-F9D1-41D6-B684-554D2A332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1234-D642-42C9-A9A9-B41C688C2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8823-CD6B-41F2-9D47-243D1A3D1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BACB-DE97-48D7-BB45-18B3A1433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31B0-7DBB-40B4-B450-C6F87CA01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0F1B-8DA4-4D04-B700-C6E90B4A9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EE9A-EB47-4BCC-9002-12496560E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AC9D-4962-4A9C-9FAB-377A7E72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3ECF-32BF-40A9-A266-1C30B06A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19AF-1D90-425C-BD0F-1DEFD01A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236F5-F4F6-4699-8FE9-9B7DA32283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ish …, If only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1240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d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 and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play computer games when he was young. He no longer does s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rával, ale už nehra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chase chick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nil, ale už neho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s used to be unstable, but now it is the best O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ýval, ale už n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8 exercise 2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1 exercise 3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e specified l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4097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n sentences that are in Czech known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ací vě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 The rules governing their formation are the same as those which hold for the clause following conditional conjunction in 2nd or 3rd conditio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, I would wipe the monitor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 (to wipe the monitor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, I would loosen the scr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have assembled the compute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, the computer would not have reported buffer underru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sed to express a wish for something that the speaker finds annoying to change in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…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express a “neutral” wish concerning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he would not play with the live wire next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weather would impr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computer would stop freez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monitor would not flicker that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they (will) fix the drive by 6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she (will) marries (marry) me on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ective aspect - doko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erfective aspect - nedokona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e imperfective aspect is usually expressed by means of continuous tenses - stress is laid on duration (trvá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as reconfiguring the system the whole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 programmer has been writing the manual since he finished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y say it will be raining the whol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ome verbs cannot occur in continuous tenses or they change their meaning in these (see Lecture 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, however, a sentence refers to a repeated action, simple ten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onfigured the system every other day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reconfigur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usually wrote the manual when he was fre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was usually writ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Greece, it often rained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monitor flickers every now and then. X My monitor is flickering all the ti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pression of annoyance - see Lectur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off actions are usually expressed by mean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a + infinitive (without “to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how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it’s O.K. with you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sprcho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ing a drink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da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, but I turned him dow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t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č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fired because he would often leave his offic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m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ko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y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loo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it? It may only need some cleanin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dí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past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ually used a temporary file for storage of calculation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gularly failed to notice his neglig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s never did the handshaking right with these initialization str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717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+ infinitive without “to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ould ask for assistance whenever he was in trouble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žádával mě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 would get a blue screen after installation of some new hardware under Windows 3.11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etkávával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at operating system would give me sleepless nights on week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4-13T16:30:45Z</dcterms:modified>
  <cp:revision>189</cp:revision>
  <dc:subject/>
  <dc:title>Lecture 1:</dc:title>
</cp:coreProperties>
</file>