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0E4B-01EC-4A30-913E-933801506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FD8C-5D8E-4B42-ADFE-DCDA1887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49E3-7321-410F-B5B3-5E7A3B20A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F226-1361-4507-BA12-C87DC8E01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9BC6-D4BE-4D49-8FBF-E5EFEB4F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DCF3-C3D6-41F3-86DE-C7661F8E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55D4-ACEF-4694-9DEA-09C2EA8B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1C1C-1185-4ED2-9547-9156AA92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F40B-511C-4EE4-825C-1EC08538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6A83-432E-42C2-992B-7136E741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322F-EB53-42CF-A906-8478D006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1EDD-2EE6-4871-922A-8FEEC30D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A8AB-E447-449C-9FE9-3416F506A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specified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13T16:30:45Z</dcterms:modified>
  <cp:revision>189</cp:revision>
  <dc:subject/>
  <dc:title>Lecture 1:</dc:title>
</cp:coreProperties>
</file>