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4D03-CC3D-4A81-8B5D-F719FC827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AF4E-44D0-4779-BCFD-5739B1414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1DBA-6BE8-4ABB-BF21-2058CEF3F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B47D-1FFD-400F-BDA5-E9BA5ADE2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37B1-A51C-49E7-B83E-BCC7017AD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909A-25C9-417B-A84A-CACDBD261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B549-36D6-451A-BF9C-4CB78F08D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C278-FFB0-4A77-9CDF-CE2967FC7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7C4A-2DBB-4804-9A39-CE91DD2D4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4C86-C2E8-4E5A-84A5-A3C33FA9C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6D35-2F88-481E-86B5-AA90467C0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8453-8FCE-483E-8ACB-6FD9D9811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D71F5-3BD3-4108-9325-219FEEECDD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20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06668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un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fan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(x)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function of the variable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erivati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di’riv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tiv] – derivace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 expression representing the rate of change of a function with respect to an independent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f(x,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- 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the partial [‘pa: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ə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l] derivative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f(x,y)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with 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respect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to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447920"/>
            <a:ext cx="8382240" cy="46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eri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di’raiv] – odvodit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btain a function or equation from another by a sequence of logical steps (e.g. by differenti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ntegra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i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grəl] – int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grál </a:t>
            </a:r>
            <a:r>
              <a:rPr b="0" i="1" lang="cs-C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function of which a given function is a derivative (which may express the area under the curve of a graph of the fun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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 (x)d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-- the indefinite integral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f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with 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respect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to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14300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ogarith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lo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riδəm] – logaritm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 common logarithm of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 logarithm (base a) of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sain]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i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kəusain]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ng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tæn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tang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kəu’tæn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i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– calculated as a ratio of the side opposite a given angle to the hypoten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- sine x, cosine x, tangent x, cotangent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447920"/>
            <a:ext cx="8001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 x, cos x, tg x, cotg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|a| - th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bsolute valu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f 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emainde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[ri’mein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]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- zbyt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uantit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kwontiti] – vel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atri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meitrix], pl.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atric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meitrisi:z] – matice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rectangular array of quantities or expressions in rows and columns that is treated as a single entity and manipulated according to particular r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– sum [sam]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u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676520"/>
            <a:ext cx="79250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mputing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iding Hard Dr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6-05-04T12:50:07Z</dcterms:modified>
  <cp:revision>214</cp:revision>
  <dc:subject/>
  <dc:title>Lecture 1:</dc:title>
</cp:coreProperties>
</file>