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46B6-C578-414F-B30C-452260DCC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7A4C-51E9-4775-9665-342138DE7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5085-B798-4042-9248-EFA5647E9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89F6-3096-4025-82AD-C9CBCB2BC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D045-D75D-4874-A0B5-9DE1ADD28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F938-0A84-42AC-9E80-C50AEB4F3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9E60-CA63-4879-A37C-808D705DE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9772-B5D4-41C7-8431-F9B3A104E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E6C4-2163-4DF4-87E6-437FB7A48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603E-968B-4DE8-A670-EAEA203C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DE14-5B2A-4290-8217-B4E61957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2FB5-3DED-4083-931F-86A38333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9CE44-5FCC-40B9-B0F4-82A8DBF35D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at two or more actions were under way at the same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I was debugging the source code, she was chatting with her fri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talking to someone on the phone and I was wondering who it w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giving a lecture, I was thinking about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re enjoying sunshine in Europe while they were getting drenched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was taking place at a certain moment in the past and we place emphasis on its 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ouldn’t come at three because I was begging my computer to st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snowing for quite a time yesterday, wasn’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get the computer to run but did not succ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installing the system the whole day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ister was doing her best to be allowed to borrow my electric cord, but I was as hard as n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 action that was under way at the moment another action (expressed by means of past simple) took place; Czech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áv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lephone rang while we were discussing the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froze when I was working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downloading the file, the connection drop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entered the room while her boss was raising h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(he was) listening to her, he noticed something remarkable about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ndignation; in this respect past continuous represents a past alternative to presen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was talking about her problems all the time, but never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mn brother was changing the settings over and ov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ason why I quit teaching is that my students were making the same mistakes time and tim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lasted scanner was failing to operate properly so I dumped it in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modesty, polit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trying to suggest we should not act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3 exercise 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4 exercise 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7 exercise 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verbs of sensual perception - infinitive is without “to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w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ike an old sailor when he was installing the operating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never seen my Dad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other medium than a flash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ver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ěl jsem ho zastrčit tu infikovanou disketu t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ěl jsem ho, jak str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 tu infikovanou disketu d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(Slyšel jsem ho to říci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lyšel jsem, jak to říká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verbs expressing a wish, request, order, or permiss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nt, wish, would like, ask, tell, order, allow, persuade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as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, mak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 “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nts me to sol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athematical problem by the end of this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shed her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 a little longer for me to find some more mysteries in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n’t like my small sister to to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D again. It’s already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ked me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er. She said she was afraid of ghosts. A nice tr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owed us to en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hall despite the fact we had no cards on our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riend’s persuaded me to bu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re powerful VGA. He said it would be compatible with my motherbo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it my head off with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ting me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promised me a bonus, my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ver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aby blue ey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for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my brand new ORC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 you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ever you w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ch time I meet her, 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kes me regr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ment I broke up with 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verbs expressing an expectation or assump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, think, believe,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cted me to pat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nk me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idi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elie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mpor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st computer user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ider Window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user-friendly than Lin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143000"/>
            <a:ext cx="8381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it, arrange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llowed by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ed for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finish my lun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me she’s passed away? He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her not to g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ecret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 for me to shut d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r shall I do it later 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installing Linux,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no one to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n his comput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Other verbs followed by object and infinitiv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vise, encourage, beg, forbid (forbade, forbidden), force, get, help, invite, prefer, recommend, remind, urge, warn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75248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em, 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tty sca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 to have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unc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 seem to be cont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hard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lway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om the fault lies with. But it’s neve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have caught a c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2260440"/>
            <a:ext cx="838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expect, believe, think, suppose, assu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a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said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w to configure th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e expected to stu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at least 20 minutes a day to pass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oo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believed to conta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necessary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thought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pposed to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thing abou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bl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assumed to be m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volved than it really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24T13:47:53Z</dcterms:modified>
  <cp:revision>92</cp:revision>
  <dc:subject/>
  <dc:title>Lecture 1:</dc:title>
</cp:coreProperties>
</file>