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FD4F-3AA7-4F9F-B00F-E4193DF5E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B2C1-5B23-4077-B3B2-F95C628C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0DF7-9A78-4B0C-9BD1-6775B13AF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7DAA-BC3F-4F2A-8C37-B730D5FE6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B873-946E-4540-BAF0-82E37482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83CC-11CA-4B4D-B1E4-3A1BCE0C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08BD-3877-42DA-8AA3-5209084D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FA8A-DEF0-4462-8D34-3813B699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D813-1EE0-4262-9067-36A065DA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3EAE-2010-43D5-95EB-DCC36CFF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746B-BB18-4173-8635-66C443BA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08B7-046D-4240-8AF1-D9352DB1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179F-793F-4472-BA9A-E46655B1C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3200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2-02T12:38:36Z</dcterms:modified>
  <cp:revision>83</cp:revision>
  <dc:subject/>
  <dc:title>Lecture 1:</dc:title>
</cp:coreProperties>
</file>