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E81F-77FE-4FEC-A54C-4DAB904A2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3EBF-E781-4778-B500-C66F7653B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53A3-4E24-4748-AE57-77A92873A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5198-CE43-48E7-9815-D09E98F89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59D7-2232-4C90-B356-D3C84689D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E8DF-6C6D-49F3-8449-CA4BA987B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29E8-F2C9-480D-B12D-77FD399EB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71CC-1F0C-4FCF-A159-1FABF921C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5492-7226-438C-BCEC-B774001C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29CD-C3FB-4673-BD81-50C7F166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4BD4-3F0B-4D9E-B864-7808A7C0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9182-46A8-44BE-8042-75F9A678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CD328-C9C3-432F-89E3-AA3DB521A4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9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60 exercise 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5 exercise 1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6 exercise 1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s Progra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 Servic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990720"/>
            <a:ext cx="838224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an action which took place before another action in the past provided the former is mentioned after the la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installed the program I had bought from Microso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the scanner he had disconnected from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iler reported an error because he had not declared one of the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got fed up with the system since I had been configuring it for a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he time he moved in there, I had been living there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form tense shift (souslednos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asová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had never used hashes in his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experiment had never been conducted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replied they had been working on the solution to the security hole problem for the last fourteen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had seriously violated the company’s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form 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al (ner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lná podmínka v minulos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known it, I would not have come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he had not declared the variable, the compiler would have reported the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d she realized how serious the problem was, she would not have dared solve it by her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she had found out how much he snores, she would never have married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se shift is used to convert direct speech into reported speech provided the main clause contains past tense (the main clause introducing something that was said in the pa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nse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perfect (simple, continuous)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woul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143000"/>
            <a:ext cx="838188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rbs introducing tense shif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tell, ask, answer, reply, announce, report, want to know, know, learn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vědět 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feel, think, add, admit, agree, claim, confirm, deny, doubt, find, hope, mention, promise, propose, remark, repeat, state, suppose, swear (swore, sworn), threaten,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 he knew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me he was giving a lecture at that mo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wore he had never used the disket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added they had been debugging the source code for three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claimed she had never worked with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ears found out someone had been sleeping in their b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know how she would handle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ose which specify the exact time an action happened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us he lived there in 198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hose that express, or are considered to be, general tru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the Czech Republic has about ten million citiz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square root of 4 is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those that contain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n’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expressing permanent necessity or b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octor told me I mustn’t smo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aid the processor must be cooled because otherwise it overhe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7332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those containing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: “You should not execute the fil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 I should not execute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: You should not get off with that woman. She is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should not (not to) get off with that woman because she was (is)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37160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version of direct speech into indirect involves the following adverbial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terd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yea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year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orr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after, the following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wee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week after, the following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: “I will replace this cable here with a new one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would replace that cable there the following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1T13:50:21Z</dcterms:modified>
  <cp:revision>103</cp:revision>
  <dc:subject/>
  <dc:title>Lecture 1:</dc:title>
</cp:coreProperties>
</file>