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CDF9AA-62FE-4D03-8B76-78E7E97057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A7DE9-90B4-4D5A-94A9-3733FA790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05F8F8-E8E9-41A6-994D-17DFACB501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1FB2A9-EEE6-4804-B450-63DD07ECF2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3DB13-E846-4F1B-847B-331786CA0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DE531-E02C-4295-BBD4-5F2758A59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7F296-7261-4FC7-B14C-FA0623AF4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4FBAB-24C2-4746-90A3-49B9A438D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CB4E4-7F8C-4994-AFB6-4EFD00B7E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DD660-E214-43A7-8D7F-2968EAA61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C9DC6-3D0D-43FE-B8A3-72293DFF4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6092F-3F3B-4C1A-9FCB-655D57713A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B569D-ADC7-4301-B19F-A543CB7431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5"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8"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71"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50" name=""/>
          <p:cNvSpPr/>
          <p:nvPr/>
        </p:nvSpPr>
        <p:spPr>
          <a:xfrm>
            <a:off x="380880" y="199080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09480" y="114300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Hmm, in that case, I’ve got to go on cleaning toil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3"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5"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3"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6-04-27T12:57:28Z</dcterms:modified>
  <cp:revision>205</cp:revision>
  <dc:subject/>
  <dc:title>Lecture 1:</dc:title>
</cp:coreProperties>
</file>