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1F4B-3996-4652-967E-10EAFE20C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6988-7889-4A26-8944-863C8DA7B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DB2C-2E71-4AA9-927C-CFF3B865D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D850-9499-4849-8C68-EA339F694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1B09-2314-4505-B94F-55A00C9B8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B72C-320F-4865-97E6-89F7C3B10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1F3C-8BB1-456A-9765-EF7674149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1E0B-E240-4DE3-8814-6FC4B4598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F752-21C5-4D6F-9612-AFF4A4C5B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4C0E-ABBD-465E-8135-7287284C0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2C5B-C703-4D99-84D0-D5990F1A9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1E71-E9B7-4910-9016-466D3A6EE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AF588-0F12-4B03-AFC7-5B0033F7FA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2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axon Ge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 do I., Neither do I., and their Vari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2133720"/>
            <a:ext cx="8381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junctions introducing time clau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, while, before, after, as soon as (jakmile), till, until, once (jak jednou), by the time (kdy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whenever (kdykoliv), the moment (v tu chv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li, kd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ule to remember: Time clauses (introduced with one of the conjunctions above) must never conta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uture ten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When referring to future, they have to us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esent ten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600200"/>
            <a:ext cx="8382240" cy="49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icture will be breaking up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en you sta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laying the file without the new code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fter you plu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new piece of hardware in, Windows will automatically detect it and assign the right driver t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ot start selling the progra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ntil I debu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say they will check my hardware setting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ile I wai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na po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kání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will be able to install that operating syst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s soon as you re-parti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r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will receive the fil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y the time you are d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the conver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enever he ask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for it, I will not help him ou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981080"/>
            <a:ext cx="792504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 cas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 of present perfect in time clauses introduc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, as soon as, after, once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 to describe an action which will be completed before the action in the main cla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will get a pretty well-paid job when you have graduated from this scho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ce I have finished reading the manual, I will try to get it to 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let you go out as soon as you have done your home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tudent will be admitted to a higher grade after he/she has passed all the necessary exa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xon Ge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066680"/>
            <a:ext cx="8001000" cy="57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xon Genitive 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express belonging to a person or, sometimes, anim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my father’s mod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one is allowed to touch my children’s to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achers often underestimate their students’ learning potent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to express place, distance, periods of time, measure, value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set out for an hour’s walk. (a one-hour wal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bought a sixteen inches’ monitor. (a sixteen-inch monit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twenty kilometers’ trip will never end. (twenty-kilometer tri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xon Ge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37160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at’s what I told you at the last week’s lec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pe they don’t thwart the tomorrow’s plan of m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only brought me a fifty centimeters’ cable. (a fifty-centimeter cab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nday’s newspapers (this Sunday’s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unday papers (Sunday edition - generall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hirty Year’s War (the name of the war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thirty-year war (the one lasting thirty yea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do I., Neither do I., and their Vari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2124000"/>
            <a:ext cx="8381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do I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á také.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o + auxiliary (modal verb) + subjec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ither do I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J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á také n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either + auxiliary (modal verb) + subjec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slikes the FLASH technology. So does sh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can’t work with that program. Neither can my 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have overslept today. So has my bro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bandwidth does not enable us to transfer a large volume of data. Neither does thei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is as thick as two short planks. So is his sis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do I., Neither do I., and their Vari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226044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memb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a new car. S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es 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got a new car. S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mustn’t increment that value. Nei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st the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needn’t have used fractions in the equation. Nei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ed 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mustn’t speak during the lessons. Nei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st s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oduce bug-free software. Neither do 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25 exercise 16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26 exercise 1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28 exercise 1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twork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twork Commun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38:33Z</dcterms:modified>
  <cp:revision>144</cp:revision>
  <dc:subject/>
  <dc:title>Lecture 1:</dc:title>
</cp:coreProperties>
</file>