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D646-5F00-423B-9C1C-852F2F83B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46BD-3319-43C8-B2EB-3667F59C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76BD-C6A4-4EC3-9B37-BBF6DAF40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C386-6FC8-4A59-9138-658B7B277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D85E-2D00-4893-BD6C-A8696893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3D10-B17E-45D0-A980-9A331633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B850-EF22-4807-A985-70654C0D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2DAC-3DAF-4845-A60F-3A55FC75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C933-5D92-4F65-B862-824C5C41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CFE0-EB36-45B2-AEC7-C849C0FD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B691-3862-4C91-93B3-74E883FE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86B9-04CD-41E8-A0C7-1BA6D78D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C2FF-7D0B-4CEB-88A5-7A0DABC44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pecifi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13T16:30:45Z</dcterms:modified>
  <cp:revision>189</cp:revision>
  <dc:subject/>
  <dc:title>Lecture 1:</dc:title>
</cp:coreProperties>
</file>