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4F9A-198B-41A7-8571-26E4976C9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73B6-8E55-473D-9625-D54E1D4D8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348D-0CE0-4676-8378-8768EDE8D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F86A-320F-4935-BF85-AD677D394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1DCC-0EE6-4CDA-BE4C-ED9EFD3D5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8A01-AF3B-4730-9CC9-46FD91193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2AE9-A7E8-4E3A-9C79-2474924F5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A1EF-F698-4AEA-9E54-28D3F803B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2054-4E9C-484A-A20C-742AEEBDA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18CC-47D7-4AF4-9590-BF1BB517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BE43-2697-42FB-8A59-CCF65AFD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3476-C994-4B52-9519-B3C4849A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AC262-1E81-435F-8531-296295A98D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st common verbs combined with pre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ree with, apologize for, approve of (souhlasit s, schvalovat), benefit from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prospěch 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epend on, feel lik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ít chu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insist on (trvat na), look forward to, object to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námitky vůč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rely on, resort to (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hýlit se 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cceed in, think of, vote for (hlasovat p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ologized for sending him a virus-infected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rongly objected to using FLASH technology on that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feel like learning to work with another 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sorted to launching the applications from the command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teacher succeeded in mastering some basic Unix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6 exercise 2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alog and Digital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iples are often used to shorte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imple -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for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to refer to simultaneous actions or parallel sta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browsing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en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row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subjects are iden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tampering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il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er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gateways amplify the signal they receive, they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plif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received signal, gateways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it is a terminal which comprises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termina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ri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 file was transferred in the binary mode, it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transferred in the binary mode, the file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y are not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being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ast participle for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which was discussed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which was addressed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dre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which is connected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st Gerund form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aving + past participle) - used to denote chronological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data-link layer  receives confirmation that the packet has arrived undamaged, it deletes the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received confirmation that the packet has arrived undamaged, the data-link layer delet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modem detected noise on the line, it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detected noise on the line, the modem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she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the message was not re-routed properly, it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having been re-routed properly, the message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 Use of participles makes speech (writing) sound (look) formal and academic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king scripts for my boss is my worst nightm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aking of scripts for my boss is my worst nightma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rcha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most common preposition-free verbs followed by gerun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mit, appreciate, avoid, celebrate, commenc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ačí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consider, deny, detest (nes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š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islike, enjoy, fear, finish, go, imagine, keep, mention, mind, miss, postpone, practice, resist (o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áv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tand (vys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g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golden rule to rememb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you can put “something” behind the verb, if you want to put another verb behind it, it should be in the gerund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dmitted making a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debugging the source code. (I appreciate that she is debugging/she debugs the source cod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having debugged the source code. (I appreciated that she has debugged the sourc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choolmate considered buying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oes not enjoy working with that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te him/his smoking in this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03Z</dcterms:modified>
  <cp:revision>153</cp:revision>
  <dc:subject/>
  <dc:title>Lecture 1:</dc:title>
</cp:coreProperties>
</file>