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B3AD-6F16-4730-B554-D23BD8EDC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CF15-21CA-4948-8D0A-F5DBCE66B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08E8-0FAE-4EF4-AA64-65D4DB8DA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66D2-F07A-4003-A485-62CEC6522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08D1-6A38-4F7C-9D05-F1D621627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A40A-2624-4050-BD90-21697761B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4F8D-4F18-41B8-82EF-565A08919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19CE-34BE-4F09-857A-47C7D549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456C-2ECE-4D21-968A-DC18167EE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916C-AF18-4E4C-BCB2-94BB537D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15A8-0381-450D-8DCA-3C355D65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3B0F-C22E-4BEA-8094-3A21E25C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5D7FB-2DBC-4935-8302-BC8EAB6ED9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, Subtraction, Multiplication, Di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7664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add st to st [œd]; add up two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subtract st from st [s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trœkt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ultiply st by st [maltipla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ivide st by st [di’vai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+ 3 = 9 (six plus (and) three equal(s) (is) (are) n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- 3 = 3 (six minus three equal(s) (is) (are) three) (three from six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x 123 = 738 (6 times (multiplied by) 123 equal(s) (is) (are) 7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738 / 123 =  6  (738 divided by 123 equal(s) (is) (are)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, Ro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19320"/>
            <a:ext cx="8382240" cy="53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4 (2 squared equals (is) (are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(2 cubed equals (is) (are) 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16 (2 to the fourth (to the power of four) equals (is) (are) 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32 (2 to the fifth (to the power of five) equals (is) (are) 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wer is a result of raising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pon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ks’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t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8 is a power of 2 sinc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2 is a base, 3 is an ex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9 = 3 (the square root of 9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7 = 3 (the cube root of 27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56 = 4 (the fourth root of 256 equals (is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2 = 2 (the fifth root of 32 equals (is)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219320"/>
            <a:ext cx="8001000" cy="54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rœ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 is a ratio of numbers or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ollowing should be read as three fifths, two thirds, nine tenths respective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3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in the first fraction represents a numerator and 5 denom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qu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’kwe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 +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3          15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 represents the common denominator of the two fractions (the least common multiple [maltipl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 -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94040"/>
            <a:ext cx="80010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 +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(two x plus three ov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q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x + 10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   3             15  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ne, Cos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5238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600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2952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, sine [sain]; 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sain of œl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, cosine [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sai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ypotenuse [hai‘po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ju:z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ine" descr=""/>
          <p:cNvPicPr/>
          <p:nvPr/>
        </p:nvPicPr>
        <p:blipFill>
          <a:blip r:embed="rId2"/>
          <a:stretch/>
        </p:blipFill>
        <p:spPr>
          <a:xfrm>
            <a:off x="1981080" y="3429000"/>
            <a:ext cx="5081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u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05740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ound a number up    x    to round a number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16666 rounded to two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laces is 0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.8875 rounded to three decimal places is 2.8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37160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    -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oint       &lt;  - inequality sign (is less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  - plus sign                                 &gt; - inequality sign (is gre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    - minus sign                                    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  - multiplication sign                  $  -  dollar 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     - division sign                           &amp; - ampersand [œm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œn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  - equal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%  - percent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   - 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;    - semi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    - vertical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 )  - paren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{}  - braces, curly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]  - square br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6-03-30T11:54:41Z</dcterms:modified>
  <cp:revision>167</cp:revision>
  <dc:subject/>
  <dc:title>Lecture 1:</dc:title>
</cp:coreProperties>
</file>