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BF00-70D3-4023-8927-F051BA94B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831F-35A9-4205-A57C-55E41FF04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0FE2-F489-450C-B296-7F5F00C6B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3AB1-CFE0-422E-8C4E-0CE9A2793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DA17-9602-49FB-B832-7BA92A6B2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4605-207E-4105-9AFB-B703E19C2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4FAF-B941-42F2-9AA2-857475E44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1588-544B-4A27-B174-1C9E85DE7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4FA4-32CC-4C83-91EA-CDFC562B5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788B-9E9A-42F0-A811-FB42C7222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D32C-8BBD-4D57-B82D-AF589D25F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C48B-8E08-453A-8DDA-CC0BFA4B0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DC9F4-27A0-4377-81E7-809EE88667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ish …, If only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1240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d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 and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play computer games when he was young. He no longer does s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rával, ale už nehraj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chase chick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onil, ale už neho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ows used to be unstable, but now it is the best O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ýval, ale už ne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8 exercise 2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1 exercise 3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be specified l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4097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n sentences that are in Czech known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ací vě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 The rules governing their formation are the same as those which hold for the clause following conditional conjunction in 2nd or 3rd condition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, I would wipe the monitor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 (to wipe the monitor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, I would loosen the scr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have assembled the compute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, the computer would not have reported buffer underru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used to express a wish for something that the speaker finds annoying to change in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…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ed to express a “neutral” wish concerning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he would not play with the live wire next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weather would impr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computer would stop freez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monitor would not flicker that m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they (will) fix the drive by 6 o’c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she (will) marries (marry) me on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ective aspect - dokon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mperfective aspect - nedokona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he imperfective aspect is usually expressed by means of continuous tenses - stress is laid on duration (trván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as reconfiguring the system the whole aftern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 programmer has been writing the manual since he finished the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y say it will be raining the whol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Some verbs cannot occur in continuous tenses or they change their meaning in these (see Lecture 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, however, a sentence refers to a repeated action, simple tense is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onfigured the system every other day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reconfigur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usually wrote the manual when he was fre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was usually writ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Greece, it often rained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monitor flickers every now and then. X My monitor is flickering all the ti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xpression of annoyance - see Lecture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off actions are usually expressed by mean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a + infinitive (without “to”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how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it’s O.K. with you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sprcho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ing a drink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da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, but I turned him dow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t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č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fired because he would often leave his offic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m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ko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y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loo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it? It may only need some cleaning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dí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past si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ually used a temporary file for storage of calculation res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gularly failed to notice his neglig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s never did the handshaking right with these initialization str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717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+ infinitive without “to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ould ask for assistance whenever he was in trouble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žádával mě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 would get a blue screen after installation of some new hardware under Windows 3.11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setkávával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at operating system would give me sleepless nights on week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4-13T16:30:45Z</dcterms:modified>
  <cp:revision>189</cp:revision>
  <dc:subject/>
  <dc:title>Lecture 1:</dc:title>
</cp:coreProperties>
</file>