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7878-A86F-4CC8-A433-4CB1251FE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67F0-EF67-4A1D-AC55-63B63034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8416-4F9E-4E03-A040-C334C5214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5687-0BD7-4658-911E-D9F4087AA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9960-21B8-49CB-BDC3-36A1DEB0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EBEA-8C1B-493F-A0B9-0D283089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174D-970E-4790-9F42-6682193C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5F35-3956-4DEC-9563-B1282181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9E07-8543-4C19-BDF3-CA6B6075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01D3-EBC3-4C1B-BB9A-C8DA931D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3F23-8367-46C2-BE33-B58128AD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55C2-A16C-499B-B5F5-9EE01C16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C81F-8C43-4995-B0E8-8E0611F82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6-03-30T11:54:41Z</dcterms:modified>
  <cp:revision>167</cp:revision>
  <dc:subject/>
  <dc:title>Lecture 1:</dc:title>
</cp:coreProperties>
</file>