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10B0F-CBAB-4BB7-BDC3-A66647779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E6A16-487B-457C-8A07-90F084A0B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E09E9-5BD2-423B-8165-C75025108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56096-5471-463D-AD08-6B0F7DDF4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A7C95-F2D8-4F3D-AE2C-33386436C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B4E0F-7CA2-42AB-8361-AF9FE6244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65F77-21D0-400F-B0CB-6D3247FEC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903B4-0998-4828-B985-32F06AA38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9526B-EF4B-453C-B7C6-548CA89D9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AA035-571E-4C96-BAE2-87A5A84F2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ACF19-9661-4388-B6E6-7F996B699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967D5-0810-4B75-8FE0-E70CA652C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7222E-3DA3-4C81-BE66-508B281BEC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6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rithmetic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ddition, Subtraction, Multiplication, Divi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2276640"/>
            <a:ext cx="83818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add st to st [œd]; add up two numb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subtract st from st [s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’trœkt]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multiply st by st [maltiplai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divide st by st [di’vaid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6 + 3 = 9 (six plus (and) three equal(s) (is) (are) nin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6 - 3 = 3 (six minus three equal(s) (is) (are) three) (three from six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6 x 123 = 738 (6 times (multiplied by) 123 equal(s) (is) (are) 738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738 / 123 =  6  (738 divided by 123 equal(s) (is) (are) 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wer, Ro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219320"/>
            <a:ext cx="8382240" cy="534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= 4 (2 squared equals (is) (are) 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 8 (2 cubed equals (is) (are) 8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= 16 (2 to the fourth (to the power of four) equals (is) (are) 1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5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= 32 (2 to the fifth (to the power of five) equals (is) (are) 3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ower is a result of raising a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a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an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xpone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iks’p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n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t]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8 is a power of 2 since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 8 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2 is a base, 3 is an expon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9 = 3 (the square root of 9 equals (is) 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7 = 3 (the cube root of 27 equals (is) 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56 = 4 (the fourth root of 256 equals (is) 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5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32 = 2 (the fifth root of 32 equals (is)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ra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1219320"/>
            <a:ext cx="8001000" cy="546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rac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frœk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š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] is a ratio of numbers or variab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following should be read as three fifths, two thirds, nine tenths respectivel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5   3  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3 in the first fraction represents a numerator and 5 denomin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qua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i’kwei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š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]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+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=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9 + 10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= 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1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5      3          15            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15 represents the common denominator of the two fractions (the least common multiple [maltipl]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ractions - Variab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1994040"/>
            <a:ext cx="8001000" cy="23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2x +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 (two x plus three over 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3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qu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3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+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2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=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9x + 10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= 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19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5         3             15              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ine, Cos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09480" y="1523880"/>
            <a:ext cx="7925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838080" y="1600200"/>
            <a:ext cx="7543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62120" y="1295280"/>
            <a:ext cx="71625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n, sine [sain]; si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[sain of œlf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, cosine [k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usain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hypotenuse [hai‘pot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ju:z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sine" descr=""/>
          <p:cNvPicPr/>
          <p:nvPr/>
        </p:nvPicPr>
        <p:blipFill>
          <a:blip r:embed="rId2"/>
          <a:stretch/>
        </p:blipFill>
        <p:spPr>
          <a:xfrm>
            <a:off x="1981080" y="3429000"/>
            <a:ext cx="5081760" cy="25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ound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09480" y="2057400"/>
            <a:ext cx="800100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round a number up    x    to round a number dow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0.16666 rounded to two decimal [desim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l] places is 0.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.8875 rounded to three decimal places is 2.88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ig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137160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     - decimal [desim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l] point       &lt;  - inequality sign (is less tha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+   - plus sign                                 &gt; - inequality sign (is grea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-    - minus sign                                     tha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   - multiplication sign                  $  -  dollar  sig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/     - division sign                           &amp; - ampersand [œmp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œnd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   - equal sig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%  - percent symb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:    - col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;    - semicol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|    - vertical 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 )  - parenthe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{}  - braces, curly brack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[]  - square brack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qdvorak1</cp:lastModifiedBy>
  <dcterms:modified xsi:type="dcterms:W3CDTF">2006-03-30T11:54:41Z</dcterms:modified>
  <cp:revision>167</cp:revision>
  <dc:subject/>
  <dc:title>Lecture 1:</dc:title>
</cp:coreProperties>
</file>