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844C-38C2-4D75-8925-1D55DFD22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BD60-BEF4-425B-9FD9-F894DCF0A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2341-45D8-4BC3-AF33-26F2D8DCD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27E9-FD7A-4739-A37D-F6A949BC4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2246-9574-4AA9-A633-F5C559E69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53B1-C810-453E-9E57-89AC86FD3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FD4F-743C-4F6D-A470-AC5076109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3665-7FD7-488F-93B2-6FF879924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96A5-E42A-4683-B7F8-EEDA2CB9F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5E41-E405-4CD5-BAC1-B6F11554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81B8-01C9-4CB1-B1CD-45502E39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51AD-C75B-4CD7-B483-D2550676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DF0AB-4D6F-4685-9D01-A3462FF9B1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06668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an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x)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unction of the variable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at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iv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tiv] – deriva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expression representing the rate of change of a function with respect to an independent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f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the partial [‘pa: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l] derivative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(x,y)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4792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aiv] – odvodit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btain a function or equation from another by a sequence of logical steps (e.g. by differenti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tegra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grəl] – int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grál </a:t>
            </a:r>
            <a:r>
              <a:rPr b="0" i="1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nction of which a given function is a derivative (which may express the area under the curve of a graph of th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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(x)d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-- the indefinite integral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ogarith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lo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riδəm] – logarit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common logarithm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logarithm (base a)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’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– calculated as a ratio of the side opposite a given angle to the hypoten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sine x, cosine x, tangent x, cotangen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447920"/>
            <a:ext cx="8001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x, cos x, tg x, cot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a| -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solute valu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maind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ri’me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zbyt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kwontiti] – ve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x], pl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si:z] – mati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rectangular array of quantities or expressions in rows and columns that is treated as a single entity and manipulated according to particular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 sum [sam]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676520"/>
            <a:ext cx="79250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pu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iding Hard Dr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5-04T12:50:07Z</dcterms:modified>
  <cp:revision>214</cp:revision>
  <dc:subject/>
  <dc:title>Lecture 1:</dc:title>
</cp:coreProperties>
</file>