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237D-58CB-4526-B2BE-32692462C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7898-6727-4114-B997-515949D6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A598-5A8E-4170-A659-941D8F0B1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CC74-8514-4E98-81EE-7BC0D91A1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2304-AE3B-4C34-A8E3-28CA37EA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C742-D8C6-4179-A6CE-C686DAD1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3E4D-62CC-4443-92EF-31D9D170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CC91-C2F0-4C6B-B746-1DB1F8B7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05DA-1987-4249-AC99-4C94F94A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8EE6-1D70-4BF9-8685-D4F95953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27C8-47C5-4596-8C6C-67ACEA6D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78CB-99CF-46D9-95C7-08CB5464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EA02-748A-42D7-94C7-F16E9B6CB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8:33Z</dcterms:modified>
  <cp:revision>144</cp:revision>
  <dc:subject/>
  <dc:title>Lecture 1:</dc:title>
</cp:coreProperties>
</file>