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13B7B-1BC6-4CAE-BE65-FC01A28D6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F3B76-890B-4E57-B44A-D8F3B54B7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4BF5C-24CE-4524-B00F-F2D5F0185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88BAC-784A-4CB1-AAC6-AE461798E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3C9B2-BA6C-43E7-AF42-824570287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63EE7-32E3-4A31-A75B-4B77DE432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EEFCD-0D70-40F3-ABC0-30440212E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02F98-F3EA-4158-8D24-D72A32A4E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4BAED-FD93-4A7B-B4B0-47D809001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66E98-A446-4D5B-A316-A843D82E4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31BA3-D1F8-4C93-A2C8-28F82E741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F4838-C949-49EB-87A0-A699162ED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54203-D77F-44C2-93A3-639D42CE40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4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e of Gerunds 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ces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ave (get) something d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dditional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If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Whe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- Related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67 exercise 22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0 exercise 24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1 exercise 25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Internet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TCP/IP Links Dissimilar Mach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Gerund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21932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rund is also used after the preposition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,after, before, instead of, besides, without, despite, in spite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mportant not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Gerund after these prepositions ca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n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 used provided the subject of the Czech subordinate clause (vedl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ší věta) is the same as the subject of the main clause (hlavní věta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 typing a wrong password, he could not log in.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ím, že .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installing cables in every office, they mounted sockets on the walls. (pot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é, co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had better consult the documentation before changing its default settings. (před tím, než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stead of trying to fix the computer by yourself, you should call in a programmer. (místo toho, aby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Gerund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295280"/>
            <a:ext cx="8382240" cy="52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sides pushing the variable into the array, she also changed its value. (kromě toho, že …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sid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s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 you think you could write the source code without using any while loops? (aniž bys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espite having terminated the chain, he could not get the SCSI hardware to operate. (přesto, že …) 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 terminated the chai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efo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 could not get the hardware to op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colleague could not hear any sound  in spite of turning his speakers up as much as he coul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sound could be hear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 spite of the fac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y colleague turned the speakers up. (different subjects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 spite of the fact, despite the fa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Gerund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1676520"/>
            <a:ext cx="8001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 went out despite the fact it was raining. (different subjec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 We went out despite the r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decided to tell him in spite of the fact he was angry. (different subjec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 They decided to tell him in spite of his ang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cessions - P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řípustkové vě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523880"/>
            <a:ext cx="7925040" cy="50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cessions are usually introduc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 spite of, despite, although (though), even if, even though, no ma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though he updated his virus definitions, his anti-virus program could not detect the worm. (ačkoliv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tayed at home though he did not want 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ven if you searched the Internet for it, you would not find it. (i kdyby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ven if he searches the Internet for it, he will not find it. (i když .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the same rules like those governing condition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cessions - No matter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1371600"/>
            <a:ext cx="8001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o = whoever = kdo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at = whatever = co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ich = whichever = který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en = whenever = kdy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ere = wherever = kde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how +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dverb or adjective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!!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= however + adverb = jak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oever (no matter who) told you to uninstall the driver, he/she (they) was (were) wro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chever (no matter which) man she marries, one day he will turn into a fat friend anyw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ich (whichever) of them says so, don’t believ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cessions - No matter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21932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ever (no matter when) he hooks up the computers tomorrow, we will not be able to us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ell him to drop me a line wherever (no matter where) he is. (naps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ever (no matter how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c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computer malfunctions, I don’t want to throw her aw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how (however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ell-writte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script is, it always takes some time to execu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ecided to marry her howev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erribl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lip fissure look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part of the sentence containing “no matter” or (-ever) does not contain future tense even if it refers to the future. The future tense is put into the other part (main claus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ever happens, I will always stand by your si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ave (get) something do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121932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nechat si n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ěco uděl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mportant not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ake sure you always keep the items making up the phrase in the same ord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uld like to have the system configured by a speciali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re you having the software delivered or do you plan to pick it up on your ow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e you ever had your hard drive repartition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must have got the homework done by someone. It does not have a single mista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could you have had a live wire insulated by him. Look at his fingers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 ca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d her purse stolen. - Ukradli j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 peněženk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juctions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if, when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- additional inform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33520" y="2048040"/>
            <a:ext cx="8001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ases in whic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followed by a future tense since they do not function as time conjunc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o not know if he will use the disk. Its capacity is too low for him. (vedl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jší věta předmětná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nder when he will drop by. (vedl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jší věta předmětná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would like to know when we will start using the device in the full-duplex mode. (vedl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jší věta předmětná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can’t really tell you now if I will let her know about it. It depends on the circumstances. (vedl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jší věta předmětná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0-13T12:40:36Z</dcterms:modified>
  <cp:revision>166</cp:revision>
  <dc:subject/>
  <dc:title>Lecture 1:</dc:title>
</cp:coreProperties>
</file>